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37B8-AA21-4082-AD76-FBF9E273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728C-0640-490B-B31A-A5A2F46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3118-31CD-4326-BD91-A6AEE2C0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4FF6-4851-44F5-BEF9-7F2AAD6B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A05B-DA22-4493-98BA-05DC5F46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9F2-A4AC-4235-A918-7F0DC6CD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49D-9863-43D4-8279-77A11FF5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8A55-9086-4806-B881-C0B8E83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8E60-CFEE-448D-B197-5698D62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4E5-DEFE-475F-B23C-FD36BE6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A73-ED7A-4A9B-9A1E-D893A39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B231-EE16-404E-80DB-87894FE6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4B7D-3A73-495D-BF13-5AC763D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8EA-A33C-4A81-8230-D0AFB5F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E4F-BD27-4B0B-B84E-889EC997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478-360A-444A-8C5E-9050F4D3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58AB-5DC5-42AB-8D6D-822EC1D0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6C09-CA54-433B-9F8F-EB46D6D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D8AB-B0C7-4512-93DB-5859C6A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CBD0-F3CF-417F-9D66-F36FAB9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7A2A-6E53-4042-8BBF-12F53E1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976B-BDE9-4021-A9D1-E4160B0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D98F-07E0-45DB-97CD-96C45DC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0030-6923-4546-8B77-77C253D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Click to edit the title text format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D6D-75BB-4B62-A5D7-6DBD668FC5EC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385920"/>
            <a:ext cx="9144000" cy="91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"/>
          <a:stretch/>
        </p:blipFill>
        <p:spPr>
          <a:xfrm>
            <a:off x="111240" y="1407960"/>
            <a:ext cx="8935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09440" y="1216080"/>
            <a:ext cx="5775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34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40D6-C36E-46A6-A008-78621E600C0E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2868480"/>
            <a:ext cx="1783080" cy="7351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31920" y="1128600"/>
            <a:ext cx="2263320" cy="2514600"/>
            <a:chOff x="331920" y="1128600"/>
            <a:chExt cx="2263320" cy="2514600"/>
          </a:xfrm>
        </p:grpSpPr>
        <p:sp>
          <p:nvSpPr>
            <p:cNvPr id="65" name=""/>
            <p:cNvSpPr/>
            <p:nvPr/>
          </p:nvSpPr>
          <p:spPr>
            <a:xfrm>
              <a:off x="1614240" y="1128600"/>
              <a:ext cx="8172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32080" y="1128600"/>
              <a:ext cx="8136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48120" y="1128600"/>
              <a:ext cx="8136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4160" y="1128600"/>
              <a:ext cx="8136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1640" y="1128600"/>
              <a:ext cx="8172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7680" y="1128600"/>
              <a:ext cx="8172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4440" y="1128600"/>
              <a:ext cx="8136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1920" y="1128600"/>
              <a:ext cx="8136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8200" y="1128600"/>
              <a:ext cx="7668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77480" y="1128600"/>
              <a:ext cx="7668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55320" y="1128600"/>
              <a:ext cx="7668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34600" y="1128600"/>
              <a:ext cx="8136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8560" y="1128600"/>
              <a:ext cx="7668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963720"/>
            <a:ext cx="9144000" cy="1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34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09440" y="1216080"/>
            <a:ext cx="5775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34"/>
                </a:solidFill>
                <a:latin typeface="Verdana"/>
              </a:rPr>
              <a:t>Menu Analysis</a:t>
            </a:r>
            <a:endParaRPr b="1" lang="en-US" sz="48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34"/>
                </a:solidFill>
                <a:latin typeface="Verdana"/>
              </a:rPr>
              <a:t>Understanding Our Customers</a:t>
            </a:r>
            <a:endParaRPr b="1" lang="en-US" sz="3200" spc="-1" strike="noStrike">
              <a:solidFill>
                <a:srgbClr val="1c1c3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What Do We Serve?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Theme is consistently “healthy”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Menu offerings designed to meet a variety of customer preference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Regular analysis eliminates less popular, labor-intensive offering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How Do We Decide?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New menu item is first offered as a chef’s special for several month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If response judged acceptable, new item placed on menus for a six-month trial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Menu Analysis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Balanced between meat and vegetarian entree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Lunch more heavily weighted toward vegetarian item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Verdana"/>
              </a:rPr>
              <a:t>Dinner menu under review as customer mix changes</a:t>
            </a:r>
            <a:endParaRPr b="0" lang="en-US" sz="2800" spc="-1" strike="noStrike">
              <a:solidFill>
                <a:srgbClr val="1c1c3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Menu Offerings by Type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06440" y="2362320"/>
          <a:ext cx="8153280" cy="2997000"/>
        </p:xfrm>
        <a:graphic>
          <a:graphicData uri="http://schemas.openxmlformats.org/drawingml/2006/table">
            <a:tbl>
              <a:tblPr/>
              <a:tblGrid>
                <a:gridCol w="1371600"/>
                <a:gridCol w="1398600"/>
                <a:gridCol w="1952640"/>
                <a:gridCol w="1800000"/>
                <a:gridCol w="163044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Entr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Other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M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Veget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Appetiz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Desse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0292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50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D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0292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50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  <a:tc>
                  <a:txBody>
                    <a:bodyPr lIns="90000" rIns="64008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34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640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505240" y="556884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igh appeal among female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22320" y="4128840"/>
            <a:ext cx="839880" cy="1455480"/>
          </a:xfrm>
          <a:prstGeom prst="line">
            <a:avLst/>
          </a:prstGeom>
          <a:ln w="57240">
            <a:solidFill>
              <a:srgbClr val="005a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Name, SolU5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06A32B-8C4F-4EA2-AEF2-650D7A2768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34"/>
                </a:solidFill>
                <a:latin typeface="Verdana"/>
              </a:rPr>
              <a:t>Menu Type Comparisons</a:t>
            </a:r>
            <a:endParaRPr b="1" lang="en-US" sz="3900" spc="-1" strike="noStrike">
              <a:solidFill>
                <a:srgbClr val="1c1c34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20840" y="198108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9810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Name, SolU5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21:30:28Z</dcterms:created>
  <dc:creator>Pat Graves</dc:creator>
  <dc:description/>
  <dc:language>en-US</dc:language>
  <cp:lastModifiedBy>Student Name</cp:lastModifiedBy>
  <dcterms:modified xsi:type="dcterms:W3CDTF">2004-04-06T06:55:26Z</dcterms:modified>
  <cp:revision>4</cp:revision>
  <dc:subject/>
  <dc:title>Good 4 U Senior Management</dc:title>
</cp:coreProperties>
</file>