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6FC5-66D6-4CDE-9374-4959D000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9010-5607-4381-BC24-660B76E7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40E-4528-4E31-B252-65F4F728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83D-B863-4390-88AB-CA4FBCC0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FBDB-7874-4459-9087-C6EB0225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70D5-D731-4A42-B8DF-BD8B125A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DDF5-E459-4D3C-81C4-27CA9BDF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A520-3EDF-40A0-80ED-9C7B9003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3346-AF42-4AE7-BB66-D0BF7265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AC5A-3582-4FBB-975A-53E6F44F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AC69-8AC9-43FA-8B31-51678D3F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E874-9DF0-4551-A5DD-57451FB9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6CC4-83FC-440F-BAF9-D02275AA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3781-88E3-4C35-8CD5-418FF322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05BB-DD98-42E5-A65F-691D29F6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BFF6-A6FB-4249-8565-8B109602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DF34-6DF1-4986-8509-94BF33D7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C997-F06D-47D1-9D34-0CD9C6B2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AAD6-6B12-4537-8938-E0E41B82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128A-C7AD-4530-88DE-EC1C1A12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094A-F1AB-44CC-A54C-64A9F18A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7B5A-00E3-4912-9D0B-D60E9C31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8A26-3F8C-457A-B071-ECC166DD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392F-8DF6-413F-B581-35CEA3B9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4797360" y="62229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6400-AF90-4153-9650-BCCCCE8578D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50FC-632F-4361-BBD5-E5A00060172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ood 4 U Senior Managemen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urrent and Future Organiz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Change What Work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rrent structure designed for a single-restaurant compa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agement must be positioned for a national, multi-restaurant organiz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109760" y="1600920"/>
            <a:ext cx="4873320" cy="4516920"/>
            <a:chOff x="4109760" y="1600920"/>
            <a:chExt cx="4873320" cy="4516920"/>
          </a:xfrm>
        </p:grpSpPr>
        <p:sp>
          <p:nvSpPr>
            <p:cNvPr id="161" name="_s9239"/>
            <p:cNvSpPr/>
            <p:nvPr/>
          </p:nvSpPr>
          <p:spPr>
            <a:xfrm flipH="1" flipV="1">
              <a:off x="5374440" y="3294720"/>
              <a:ext cx="586800" cy="281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9238"/>
            <p:cNvSpPr/>
            <p:nvPr/>
          </p:nvSpPr>
          <p:spPr>
            <a:xfrm>
              <a:off x="4109760" y="2449800"/>
              <a:ext cx="1353960" cy="1129320"/>
            </a:xfrm>
            <a:prstGeom prst="ellipse">
              <a:avLst/>
            </a:prstGeom>
            <a:solidFill>
              <a:srgbClr val="003b7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Verdana"/>
                </a:rPr>
                <a:t>Mor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Verdana"/>
                </a:rPr>
                <a:t>soo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9237"/>
            <p:cNvSpPr/>
            <p:nvPr/>
          </p:nvSpPr>
          <p:spPr>
            <a:xfrm flipH="1">
              <a:off x="5374440" y="4141800"/>
              <a:ext cx="586800" cy="282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9236"/>
            <p:cNvSpPr/>
            <p:nvPr/>
          </p:nvSpPr>
          <p:spPr>
            <a:xfrm>
              <a:off x="4112280" y="4143960"/>
              <a:ext cx="1353600" cy="1128960"/>
            </a:xfrm>
            <a:prstGeom prst="ellipse">
              <a:avLst/>
            </a:prstGeom>
            <a:solidFill>
              <a:srgbClr val="003b7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Verdana"/>
                </a:rPr>
                <a:t>Tucso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9235"/>
            <p:cNvSpPr/>
            <p:nvPr/>
          </p:nvSpPr>
          <p:spPr>
            <a:xfrm>
              <a:off x="6546600" y="4424040"/>
              <a:ext cx="0" cy="564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9234"/>
            <p:cNvSpPr/>
            <p:nvPr/>
          </p:nvSpPr>
          <p:spPr>
            <a:xfrm>
              <a:off x="5872320" y="4988880"/>
              <a:ext cx="1353600" cy="1128960"/>
            </a:xfrm>
            <a:prstGeom prst="ellipse">
              <a:avLst/>
            </a:prstGeom>
            <a:solidFill>
              <a:srgbClr val="003b7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Verdana"/>
                </a:rPr>
                <a:t>Sa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Verdana"/>
                </a:rPr>
                <a:t>Francisco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_s9233"/>
            <p:cNvSpPr/>
            <p:nvPr/>
          </p:nvSpPr>
          <p:spPr>
            <a:xfrm>
              <a:off x="7131600" y="4141800"/>
              <a:ext cx="586800" cy="282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9232"/>
            <p:cNvSpPr/>
            <p:nvPr/>
          </p:nvSpPr>
          <p:spPr>
            <a:xfrm>
              <a:off x="7629480" y="4141800"/>
              <a:ext cx="1353600" cy="1129320"/>
            </a:xfrm>
            <a:prstGeom prst="ellipse">
              <a:avLst/>
            </a:prstGeom>
            <a:solidFill>
              <a:srgbClr val="003b7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Verdana"/>
                </a:rPr>
                <a:t>Lo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Verdana"/>
                </a:rPr>
                <a:t>Angel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_s9231"/>
            <p:cNvSpPr/>
            <p:nvPr/>
          </p:nvSpPr>
          <p:spPr>
            <a:xfrm flipV="1">
              <a:off x="7131600" y="3294720"/>
              <a:ext cx="586800" cy="284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9230"/>
            <p:cNvSpPr/>
            <p:nvPr/>
          </p:nvSpPr>
          <p:spPr>
            <a:xfrm>
              <a:off x="7629480" y="2448000"/>
              <a:ext cx="1353600" cy="1128960"/>
            </a:xfrm>
            <a:prstGeom prst="ellipse">
              <a:avLst/>
            </a:prstGeom>
            <a:solidFill>
              <a:srgbClr val="003b7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Verdana"/>
                </a:rPr>
                <a:t>Miami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_s9229"/>
            <p:cNvSpPr/>
            <p:nvPr/>
          </p:nvSpPr>
          <p:spPr>
            <a:xfrm flipV="1">
              <a:off x="6546600" y="2730240"/>
              <a:ext cx="0" cy="56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9228"/>
            <p:cNvSpPr/>
            <p:nvPr/>
          </p:nvSpPr>
          <p:spPr>
            <a:xfrm>
              <a:off x="5869800" y="1600920"/>
              <a:ext cx="1353960" cy="1129320"/>
            </a:xfrm>
            <a:prstGeom prst="ellipse">
              <a:avLst/>
            </a:prstGeom>
            <a:solidFill>
              <a:srgbClr val="003b7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Verdana"/>
                </a:rPr>
                <a:t>New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Verdana"/>
                </a:rPr>
                <a:t>York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_s9227"/>
            <p:cNvSpPr/>
            <p:nvPr/>
          </p:nvSpPr>
          <p:spPr>
            <a:xfrm>
              <a:off x="5869800" y="3296880"/>
              <a:ext cx="1353960" cy="1128960"/>
            </a:xfrm>
            <a:prstGeom prst="ellipse">
              <a:avLst/>
            </a:prstGeom>
            <a:solidFill>
              <a:srgbClr val="003b7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Verdana"/>
                </a:rPr>
                <a:t>Goo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Verdana"/>
                </a:rPr>
                <a:t>4 U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U5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54FED-0CF7-4053-A5F1-27A9485952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urrent Organiz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57200" y="1560600"/>
            <a:ext cx="8397360" cy="4622040"/>
            <a:chOff x="457200" y="1560600"/>
            <a:chExt cx="8397360" cy="4622040"/>
          </a:xfrm>
        </p:grpSpPr>
        <p:cxnSp>
          <p:nvCxnSpPr>
            <p:cNvPr id="176" name="_s13346"/>
            <p:cNvCxnSpPr>
              <a:stCxn id="177" idx="1"/>
              <a:endCxn id="178" idx="2"/>
            </p:cNvCxnSpPr>
            <p:nvPr/>
          </p:nvCxnSpPr>
          <p:spPr>
            <a:xfrm rot="10800000">
              <a:off x="7099200" y="3315240"/>
              <a:ext cx="201960" cy="246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9" name="_s13344"/>
            <p:cNvCxnSpPr>
              <a:stCxn id="180" idx="1"/>
              <a:endCxn id="178" idx="2"/>
            </p:cNvCxnSpPr>
            <p:nvPr/>
          </p:nvCxnSpPr>
          <p:spPr>
            <a:xfrm rot="10800000">
              <a:off x="7099200" y="3315240"/>
              <a:ext cx="201960" cy="1511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1" name="_s13342"/>
            <p:cNvCxnSpPr>
              <a:stCxn id="182" idx="1"/>
              <a:endCxn id="178" idx="2"/>
            </p:cNvCxnSpPr>
            <p:nvPr/>
          </p:nvCxnSpPr>
          <p:spPr>
            <a:xfrm rot="10800000">
              <a:off x="7099200" y="3315240"/>
              <a:ext cx="201960" cy="556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3" name="_s13340"/>
            <p:cNvCxnSpPr>
              <a:stCxn id="184" idx="1"/>
              <a:endCxn id="185" idx="2"/>
            </p:cNvCxnSpPr>
            <p:nvPr/>
          </p:nvCxnSpPr>
          <p:spPr>
            <a:xfrm rot="10800000">
              <a:off x="5143320" y="3315240"/>
              <a:ext cx="201960" cy="1511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6" name="_s13338"/>
            <p:cNvCxnSpPr>
              <a:stCxn id="187" idx="1"/>
              <a:endCxn id="185" idx="2"/>
            </p:cNvCxnSpPr>
            <p:nvPr/>
          </p:nvCxnSpPr>
          <p:spPr>
            <a:xfrm rot="10800000">
              <a:off x="5143320" y="3315240"/>
              <a:ext cx="201960" cy="556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8" name="_s13336"/>
            <p:cNvCxnSpPr>
              <a:stCxn id="189" idx="1"/>
              <a:endCxn id="190" idx="2"/>
            </p:cNvCxnSpPr>
            <p:nvPr/>
          </p:nvCxnSpPr>
          <p:spPr>
            <a:xfrm rot="10800000">
              <a:off x="3189240" y="3315240"/>
              <a:ext cx="199800" cy="1511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1" name="_s13334"/>
            <p:cNvCxnSpPr>
              <a:stCxn id="192" idx="1"/>
              <a:endCxn id="190" idx="2"/>
            </p:cNvCxnSpPr>
            <p:nvPr/>
          </p:nvCxnSpPr>
          <p:spPr>
            <a:xfrm rot="10800000">
              <a:off x="3189240" y="3315240"/>
              <a:ext cx="199800" cy="556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3" name="_s13332"/>
            <p:cNvCxnSpPr>
              <a:stCxn id="194" idx="1"/>
              <a:endCxn id="195" idx="2"/>
            </p:cNvCxnSpPr>
            <p:nvPr/>
          </p:nvCxnSpPr>
          <p:spPr>
            <a:xfrm rot="10800000">
              <a:off x="1233000" y="3315240"/>
              <a:ext cx="201960" cy="1511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6" name="_s13330"/>
            <p:cNvCxnSpPr>
              <a:stCxn id="197" idx="1"/>
              <a:endCxn id="195" idx="2"/>
            </p:cNvCxnSpPr>
            <p:nvPr/>
          </p:nvCxnSpPr>
          <p:spPr>
            <a:xfrm rot="10800000">
              <a:off x="1233000" y="3315240"/>
              <a:ext cx="201960" cy="556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8" name="_s13328"/>
            <p:cNvCxnSpPr>
              <a:stCxn id="178" idx="0"/>
              <a:endCxn id="199" idx="2"/>
            </p:cNvCxnSpPr>
            <p:nvPr/>
          </p:nvCxnSpPr>
          <p:spPr>
            <a:xfrm flipV="1" rot="16200000">
              <a:off x="5585400" y="1001520"/>
              <a:ext cx="155880" cy="2873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0" name="_s13326"/>
            <p:cNvCxnSpPr>
              <a:stCxn id="185" idx="0"/>
              <a:endCxn id="199" idx="2"/>
            </p:cNvCxnSpPr>
            <p:nvPr/>
          </p:nvCxnSpPr>
          <p:spPr>
            <a:xfrm flipV="1" rot="16200000">
              <a:off x="4607280" y="1979640"/>
              <a:ext cx="155880" cy="917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1" name="_s13325"/>
            <p:cNvCxnSpPr>
              <a:stCxn id="190" idx="0"/>
              <a:endCxn id="199" idx="2"/>
            </p:cNvCxnSpPr>
            <p:nvPr/>
          </p:nvCxnSpPr>
          <p:spPr>
            <a:xfrm flipH="1" flipV="1" rot="5400000">
              <a:off x="3630600" y="1919520"/>
              <a:ext cx="155880" cy="1037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2" name="_s13324"/>
            <p:cNvCxnSpPr>
              <a:stCxn id="195" idx="0"/>
              <a:endCxn id="199" idx="2"/>
            </p:cNvCxnSpPr>
            <p:nvPr/>
          </p:nvCxnSpPr>
          <p:spPr>
            <a:xfrm flipH="1" flipV="1" rot="5400000">
              <a:off x="2652480" y="941760"/>
              <a:ext cx="155880" cy="2993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9" name="_s13320"/>
            <p:cNvSpPr/>
            <p:nvPr/>
          </p:nvSpPr>
          <p:spPr>
            <a:xfrm>
              <a:off x="2835360" y="1560600"/>
              <a:ext cx="2782800" cy="79992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Julie Wolfe, Gus Irvinell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Co-owner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_s13321"/>
            <p:cNvSpPr/>
            <p:nvPr/>
          </p:nvSpPr>
          <p:spPr>
            <a:xfrm>
              <a:off x="457200" y="2516040"/>
              <a:ext cx="1553040" cy="79992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Michele Jenki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Head Che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_s13322"/>
            <p:cNvSpPr/>
            <p:nvPr/>
          </p:nvSpPr>
          <p:spPr>
            <a:xfrm>
              <a:off x="2410920" y="2516040"/>
              <a:ext cx="1553040" cy="79992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Roy Olafs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Marketing Mg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_s13323"/>
            <p:cNvSpPr/>
            <p:nvPr/>
          </p:nvSpPr>
          <p:spPr>
            <a:xfrm>
              <a:off x="4367160" y="2516040"/>
              <a:ext cx="1553040" cy="79992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Chuck Ward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Information Mg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_s13327"/>
            <p:cNvSpPr/>
            <p:nvPr/>
          </p:nvSpPr>
          <p:spPr>
            <a:xfrm>
              <a:off x="6202800" y="2516040"/>
              <a:ext cx="1794240" cy="79992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Michael Peter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ministration Mg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13329"/>
            <p:cNvSpPr/>
            <p:nvPr/>
          </p:nvSpPr>
          <p:spPr>
            <a:xfrm>
              <a:off x="1434960" y="3471480"/>
              <a:ext cx="1551240" cy="79992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Claudia Pel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Maitre d’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13331"/>
            <p:cNvSpPr/>
            <p:nvPr/>
          </p:nvSpPr>
          <p:spPr>
            <a:xfrm>
              <a:off x="1434960" y="4427280"/>
              <a:ext cx="1551240" cy="79992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Eric Denni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ssistant Che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_s13333"/>
            <p:cNvSpPr/>
            <p:nvPr/>
          </p:nvSpPr>
          <p:spPr>
            <a:xfrm>
              <a:off x="3389040" y="3471480"/>
              <a:ext cx="1553040" cy="79992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Brad Ja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S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_s13335"/>
            <p:cNvSpPr/>
            <p:nvPr/>
          </p:nvSpPr>
          <p:spPr>
            <a:xfrm>
              <a:off x="3389040" y="4427280"/>
              <a:ext cx="1553040" cy="79992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Jane Kryl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mo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_s13337"/>
            <p:cNvSpPr/>
            <p:nvPr/>
          </p:nvSpPr>
          <p:spPr>
            <a:xfrm>
              <a:off x="5345280" y="3471480"/>
              <a:ext cx="1551600" cy="79992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anya Reill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Develop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_s13339"/>
            <p:cNvSpPr/>
            <p:nvPr/>
          </p:nvSpPr>
          <p:spPr>
            <a:xfrm>
              <a:off x="5345280" y="4427280"/>
              <a:ext cx="1553040" cy="79992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d Donet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User System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_s13341"/>
            <p:cNvSpPr/>
            <p:nvPr/>
          </p:nvSpPr>
          <p:spPr>
            <a:xfrm>
              <a:off x="7301520" y="3471480"/>
              <a:ext cx="1553040" cy="79992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Jessie Smit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urchas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_s13343"/>
            <p:cNvSpPr/>
            <p:nvPr/>
          </p:nvSpPr>
          <p:spPr>
            <a:xfrm>
              <a:off x="7301520" y="4427280"/>
              <a:ext cx="1553040" cy="79992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Chris Davi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ersonne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_s13345"/>
            <p:cNvSpPr/>
            <p:nvPr/>
          </p:nvSpPr>
          <p:spPr>
            <a:xfrm>
              <a:off x="7301520" y="5382720"/>
              <a:ext cx="1551240" cy="79992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John Lars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ayrol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U5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3F81E-D772-439F-B37B-D08EF6FB6A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ture Struc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organization planned for 200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igned to capitalize on the individual talents of co-own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any will be split into two functional are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ture Organiz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85920" y="1211400"/>
            <a:ext cx="8397720" cy="5297400"/>
            <a:chOff x="385920" y="1211400"/>
            <a:chExt cx="8397720" cy="5297400"/>
          </a:xfrm>
        </p:grpSpPr>
        <p:cxnSp>
          <p:nvCxnSpPr>
            <p:cNvPr id="207" name="_s16428"/>
            <p:cNvCxnSpPr>
              <a:stCxn id="208" idx="0"/>
              <a:endCxn id="209" idx="2"/>
            </p:cNvCxnSpPr>
            <p:nvPr/>
          </p:nvCxnSpPr>
          <p:spPr>
            <a:xfrm flipV="1" rot="16200000">
              <a:off x="6496200" y="2535480"/>
              <a:ext cx="200520" cy="1068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0" name="_s16427"/>
            <p:cNvCxnSpPr>
              <a:stCxn id="211" idx="0"/>
              <a:endCxn id="212" idx="2"/>
            </p:cNvCxnSpPr>
            <p:nvPr/>
          </p:nvCxnSpPr>
          <p:spPr>
            <a:xfrm flipV="1" rot="16200000">
              <a:off x="2631600" y="2610360"/>
              <a:ext cx="175320" cy="943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3" name="_s16422"/>
            <p:cNvCxnSpPr>
              <a:stCxn id="214" idx="0"/>
              <a:endCxn id="212" idx="2"/>
            </p:cNvCxnSpPr>
            <p:nvPr/>
          </p:nvCxnSpPr>
          <p:spPr>
            <a:xfrm flipH="1" flipV="1" rot="5400000">
              <a:off x="1640520" y="2562480"/>
              <a:ext cx="175320" cy="1040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5" name="_s16420"/>
            <p:cNvCxnSpPr>
              <a:stCxn id="216" idx="0"/>
              <a:endCxn id="209" idx="2"/>
            </p:cNvCxnSpPr>
            <p:nvPr/>
          </p:nvCxnSpPr>
          <p:spPr>
            <a:xfrm flipH="1" flipV="1" rot="5400000">
              <a:off x="5558400" y="2665440"/>
              <a:ext cx="200520" cy="80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7" name="_s16419"/>
            <p:cNvCxnSpPr>
              <a:stCxn id="209" idx="0"/>
              <a:endCxn id="218" idx="2"/>
            </p:cNvCxnSpPr>
            <p:nvPr/>
          </p:nvCxnSpPr>
          <p:spPr>
            <a:xfrm flipV="1" rot="16200000">
              <a:off x="5005440" y="1219320"/>
              <a:ext cx="173880" cy="1940760"/>
            </a:xfrm>
            <a:prstGeom prst="bentConnector3">
              <a:avLst>
                <a:gd name="adj1" fmla="val 4937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9" name="_s16417"/>
            <p:cNvCxnSpPr>
              <a:stCxn id="212" idx="0"/>
              <a:endCxn id="218" idx="2"/>
            </p:cNvCxnSpPr>
            <p:nvPr/>
          </p:nvCxnSpPr>
          <p:spPr>
            <a:xfrm flipH="1" flipV="1" rot="5400000">
              <a:off x="3098520" y="1252080"/>
              <a:ext cx="173880" cy="1875600"/>
            </a:xfrm>
            <a:prstGeom prst="bentConnector3">
              <a:avLst>
                <a:gd name="adj1" fmla="val 4937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0" name="_s16389"/>
            <p:cNvCxnSpPr>
              <a:stCxn id="221" idx="1"/>
              <a:endCxn id="211" idx="2"/>
            </p:cNvCxnSpPr>
            <p:nvPr/>
          </p:nvCxnSpPr>
          <p:spPr>
            <a:xfrm rot="10800000">
              <a:off x="3190320" y="3904560"/>
              <a:ext cx="119520" cy="2274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2" name="_s16390"/>
            <p:cNvCxnSpPr>
              <a:stCxn id="223" idx="1"/>
              <a:endCxn id="211" idx="2"/>
            </p:cNvCxnSpPr>
            <p:nvPr/>
          </p:nvCxnSpPr>
          <p:spPr>
            <a:xfrm rot="10800000">
              <a:off x="3190320" y="3904560"/>
              <a:ext cx="119520" cy="1415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4" name="_s16391"/>
            <p:cNvCxnSpPr>
              <a:stCxn id="225" idx="1"/>
              <a:endCxn id="211" idx="2"/>
            </p:cNvCxnSpPr>
            <p:nvPr/>
          </p:nvCxnSpPr>
          <p:spPr>
            <a:xfrm rot="10800000">
              <a:off x="3190320" y="3904560"/>
              <a:ext cx="119520" cy="529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6" name="_s16392"/>
            <p:cNvCxnSpPr>
              <a:stCxn id="227" idx="1"/>
              <a:endCxn id="216" idx="2"/>
            </p:cNvCxnSpPr>
            <p:nvPr/>
          </p:nvCxnSpPr>
          <p:spPr>
            <a:xfrm rot="10800000">
              <a:off x="5253840" y="3904560"/>
              <a:ext cx="132480" cy="1415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8" name="_s16393"/>
            <p:cNvCxnSpPr>
              <a:stCxn id="229" idx="1"/>
              <a:endCxn id="216" idx="2"/>
            </p:cNvCxnSpPr>
            <p:nvPr/>
          </p:nvCxnSpPr>
          <p:spPr>
            <a:xfrm rot="10800000">
              <a:off x="5253840" y="3904560"/>
              <a:ext cx="132480" cy="531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0" name="_s16394"/>
            <p:cNvCxnSpPr>
              <a:stCxn id="231" idx="1"/>
              <a:endCxn id="208" idx="2"/>
            </p:cNvCxnSpPr>
            <p:nvPr/>
          </p:nvCxnSpPr>
          <p:spPr>
            <a:xfrm rot="10800000">
              <a:off x="7130160" y="3904560"/>
              <a:ext cx="119880" cy="1415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2" name="_s16395"/>
            <p:cNvCxnSpPr>
              <a:stCxn id="233" idx="1"/>
              <a:endCxn id="208" idx="2"/>
            </p:cNvCxnSpPr>
            <p:nvPr/>
          </p:nvCxnSpPr>
          <p:spPr>
            <a:xfrm rot="10800000">
              <a:off x="7130160" y="3904560"/>
              <a:ext cx="119880" cy="529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4" name="_s16396"/>
            <p:cNvCxnSpPr>
              <a:stCxn id="235" idx="1"/>
              <a:endCxn id="214" idx="2"/>
            </p:cNvCxnSpPr>
            <p:nvPr/>
          </p:nvCxnSpPr>
          <p:spPr>
            <a:xfrm rot="10800000">
              <a:off x="1207440" y="3904560"/>
              <a:ext cx="143640" cy="1415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6" name="_s16397"/>
            <p:cNvCxnSpPr>
              <a:stCxn id="237" idx="1"/>
              <a:endCxn id="214" idx="2"/>
            </p:cNvCxnSpPr>
            <p:nvPr/>
          </p:nvCxnSpPr>
          <p:spPr>
            <a:xfrm rot="10800000">
              <a:off x="1207440" y="3904560"/>
              <a:ext cx="143640" cy="529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18" name="_s16402"/>
            <p:cNvSpPr/>
            <p:nvPr/>
          </p:nvSpPr>
          <p:spPr>
            <a:xfrm>
              <a:off x="2749680" y="1211400"/>
              <a:ext cx="2744640" cy="892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_s16403"/>
            <p:cNvSpPr/>
            <p:nvPr/>
          </p:nvSpPr>
          <p:spPr>
            <a:xfrm>
              <a:off x="385920" y="3170160"/>
              <a:ext cx="1644480" cy="73512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Michele Jenkin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Head Chef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_s16404"/>
            <p:cNvSpPr/>
            <p:nvPr/>
          </p:nvSpPr>
          <p:spPr>
            <a:xfrm>
              <a:off x="6329520" y="3170160"/>
              <a:ext cx="1601640" cy="73512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Roy Olafsen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Marketing Mg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_s16405"/>
            <p:cNvSpPr/>
            <p:nvPr/>
          </p:nvSpPr>
          <p:spPr>
            <a:xfrm>
              <a:off x="4305240" y="3170160"/>
              <a:ext cx="1898640" cy="73512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Chuck Warden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Information Mg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_s16406"/>
            <p:cNvSpPr/>
            <p:nvPr/>
          </p:nvSpPr>
          <p:spPr>
            <a:xfrm>
              <a:off x="2162160" y="3170160"/>
              <a:ext cx="2057400" cy="73512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Michael Peter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Administration Mg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_s16407"/>
            <p:cNvSpPr/>
            <p:nvPr/>
          </p:nvSpPr>
          <p:spPr>
            <a:xfrm>
              <a:off x="1351080" y="4079880"/>
              <a:ext cx="1530360" cy="70956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Claudia Pell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Maitre d’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_s16408"/>
            <p:cNvSpPr/>
            <p:nvPr/>
          </p:nvSpPr>
          <p:spPr>
            <a:xfrm>
              <a:off x="1351080" y="4964040"/>
              <a:ext cx="1530360" cy="71136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Eric Denni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Assistant Chef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_s16409"/>
            <p:cNvSpPr/>
            <p:nvPr/>
          </p:nvSpPr>
          <p:spPr>
            <a:xfrm>
              <a:off x="7250040" y="4079880"/>
              <a:ext cx="1533600" cy="70956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Brad Jam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Sal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_s16410"/>
            <p:cNvSpPr/>
            <p:nvPr/>
          </p:nvSpPr>
          <p:spPr>
            <a:xfrm>
              <a:off x="7250040" y="4964040"/>
              <a:ext cx="1533600" cy="71136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Jane Kryl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Promotion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_s16411"/>
            <p:cNvSpPr/>
            <p:nvPr/>
          </p:nvSpPr>
          <p:spPr>
            <a:xfrm>
              <a:off x="5386320" y="4079880"/>
              <a:ext cx="1532160" cy="70956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Tanya Reilly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Development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16412"/>
            <p:cNvSpPr/>
            <p:nvPr/>
          </p:nvSpPr>
          <p:spPr>
            <a:xfrm>
              <a:off x="5386320" y="4964040"/>
              <a:ext cx="1533600" cy="71136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Ted Donett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User System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16413"/>
            <p:cNvSpPr/>
            <p:nvPr/>
          </p:nvSpPr>
          <p:spPr>
            <a:xfrm>
              <a:off x="3309840" y="4079880"/>
              <a:ext cx="1532160" cy="70956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Jessie Smith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Purchasing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_s16414"/>
            <p:cNvSpPr/>
            <p:nvPr/>
          </p:nvSpPr>
          <p:spPr>
            <a:xfrm>
              <a:off x="3309840" y="4964040"/>
              <a:ext cx="1532160" cy="71136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Chris Davi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Personnel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_s16415"/>
            <p:cNvSpPr/>
            <p:nvPr/>
          </p:nvSpPr>
          <p:spPr>
            <a:xfrm>
              <a:off x="3309840" y="5848200"/>
              <a:ext cx="1530360" cy="66060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John Larson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Payroll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_s16416"/>
            <p:cNvSpPr/>
            <p:nvPr/>
          </p:nvSpPr>
          <p:spPr>
            <a:xfrm>
              <a:off x="1514520" y="2276640"/>
              <a:ext cx="1465200" cy="71892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Julie Wolf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Co-own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_s16418"/>
            <p:cNvSpPr/>
            <p:nvPr/>
          </p:nvSpPr>
          <p:spPr>
            <a:xfrm>
              <a:off x="5396040" y="2276640"/>
              <a:ext cx="1333440" cy="693720"/>
            </a:xfrm>
            <a:prstGeom prst="roundRect">
              <a:avLst>
                <a:gd name="adj" fmla="val 16667"/>
              </a:avLst>
            </a:prstGeom>
            <a:solidFill>
              <a:srgbClr val="003b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Gus Irvinelli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Co-own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3354480" y="1293840"/>
              <a:ext cx="1519200" cy="62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U5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78130-44B9-4797-9117-15670EEF2E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00:04:26Z</dcterms:created>
  <dc:creator>Pat Graves</dc:creator>
  <dc:description/>
  <dc:language>en-US</dc:language>
  <cp:lastModifiedBy>Student Name</cp:lastModifiedBy>
  <dcterms:modified xsi:type="dcterms:W3CDTF">2004-04-06T06:51:19Z</dcterms:modified>
  <cp:revision>5</cp:revision>
  <dc:subject/>
  <dc:title>Good 4 U Senior Management</dc:title>
</cp:coreProperties>
</file>