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9061-6169-49A2-9AE4-6C3C0426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2C0-8B4E-47EB-A593-71820165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D8B-C916-45FE-801B-9947EC01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656-F4DF-42F4-B6DD-4FC74A55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B926-E734-49B4-A2CE-1093256B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EB28-82AF-42D5-8EAA-AEFA65B8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2CF1-961D-4724-A3A2-A31260E7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586B-D94E-47C1-9B7D-77ED0033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7D0F-C022-4594-AFE0-EABFF3C2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EE02-2A99-4146-A144-5D1962D7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62BF-F7A6-40F6-B9D3-8A51FB63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E05-9887-4597-B8CF-60B3DE2E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418B-6B1F-490B-B1E2-B4BB6993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3D86-2F3F-4056-A214-45B82569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1AF3-5FB0-4082-BF5B-95E628A3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A65E-F018-4597-B172-CE51D575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1D2C-DC1C-454D-94FD-F03DBAF2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7C5E-E23D-4FBA-9600-487322BE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19D-1986-46EE-B0FA-917A4013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F12-53BC-4D63-AE81-6530BAD8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74E-9E42-4B0E-AB03-063D66B5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B44-F2F4-4609-9FC5-BF01801D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69E-13EC-4AB1-84C2-596404C8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B54-AB7C-4D30-A712-18B0A722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0867-AD68-4484-9222-C0AD21FA14CF}" type="datetime">
              <a:rPr b="0" lang="en-US" sz="1000" spc="-1" strike="noStrike">
                <a:solidFill>
                  <a:srgbClr val="336666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6F84-F58F-4843-9362-26EF07A7A04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FAAB-8B6A-48EB-A32B-AF85D74E599B}" type="datetime">
              <a:rPr b="0" lang="en-US" sz="1000" spc="-1" strike="noStrike">
                <a:solidFill>
                  <a:srgbClr val="336666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3162-81B3-45F0-8F59-9601C129E2E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adcount Analy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0" y="2971800"/>
            <a:ext cx="1371240" cy="554040"/>
            <a:chOff x="2286000" y="2971800"/>
            <a:chExt cx="1371240" cy="554040"/>
          </a:xfrm>
        </p:grpSpPr>
        <p:sp>
          <p:nvSpPr>
            <p:cNvPr id="93" name=""/>
            <p:cNvSpPr txBox="1"/>
            <p:nvPr/>
          </p:nvSpPr>
          <p:spPr>
            <a:xfrm>
              <a:off x="3275280" y="3182760"/>
              <a:ext cx="38196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2937960" y="3059640"/>
              <a:ext cx="494640" cy="465840"/>
              <a:chOff x="2937960" y="3059640"/>
              <a:chExt cx="494640" cy="465840"/>
            </a:xfrm>
          </p:grpSpPr>
          <p:sp>
            <p:nvSpPr>
              <p:cNvPr id="95" name=""/>
              <p:cNvSpPr/>
              <p:nvPr/>
            </p:nvSpPr>
            <p:spPr>
              <a:xfrm>
                <a:off x="2937960" y="3059640"/>
                <a:ext cx="494640" cy="4658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76920" y="3109680"/>
                <a:ext cx="228960" cy="2595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 txBox="1"/>
            <p:nvPr/>
          </p:nvSpPr>
          <p:spPr>
            <a:xfrm>
              <a:off x="2286000" y="2971800"/>
              <a:ext cx="921960" cy="32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ur Name, SolU5-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A2E73A2-986D-4950-A1D7-A5EAD54BEFE2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urrent Headcou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full-time and part-time employ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ficant number of part-time weekend employees, especially service po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dcount changes season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U5-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AA392-11DF-416E-81AB-D9101C5FD5ED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2005 Headcount Go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permanent part-time posi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 the number of full-time service posi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uit college students for part-time po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comprehensive benefits package for all part-ti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U5-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D7340-33ED-44D7-8723-6AA132F45769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urrent Breakdow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76520" y="2362320"/>
          <a:ext cx="5943600" cy="320040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06560"/>
                <a:gridCol w="1058760"/>
                <a:gridCol w="1059120"/>
              </a:tblGrid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6666"/>
                      </a:solidFill>
                    </a:lnL>
                    <a:lnR>
                      <a:noFill/>
                    </a:lnR>
                    <a:lnT w="18720">
                      <a:solidFill>
                        <a:srgbClr val="336666"/>
                      </a:solidFill>
                    </a:lnT>
                    <a:lnB w="18720">
                      <a:solidFill>
                        <a:srgbClr val="336666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tchen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336666"/>
                      </a:solidFill>
                    </a:lnT>
                    <a:lnB w="18720">
                      <a:solidFill>
                        <a:srgbClr val="336666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336666"/>
                      </a:solidFill>
                    </a:lnR>
                    <a:lnT w="18720">
                      <a:solidFill>
                        <a:srgbClr val="336666"/>
                      </a:solidFill>
                    </a:lnT>
                    <a:lnB w="18720">
                      <a:solidFill>
                        <a:srgbClr val="336666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6666"/>
                      </a:solidFill>
                    </a:lnL>
                    <a:lnR>
                      <a:noFill/>
                    </a:lnR>
                    <a:lnT w="18720">
                      <a:solidFill>
                        <a:srgbClr val="336666"/>
                      </a:solidFill>
                    </a:lnT>
                    <a:lnB>
                      <a:noFill/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T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336666"/>
                      </a:solidFill>
                    </a:lnT>
                    <a:lnB>
                      <a:noFill/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T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336666"/>
                      </a:solidFill>
                    </a:lnT>
                    <a:lnB>
                      <a:noFill/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T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336666"/>
                      </a:solidFill>
                    </a:lnT>
                    <a:lnB>
                      <a:noFill/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T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336666"/>
                      </a:solidFill>
                    </a:lnR>
                    <a:lnT w="18720">
                      <a:solidFill>
                        <a:srgbClr val="336666"/>
                      </a:solidFill>
                    </a:lnT>
                    <a:lnB>
                      <a:noFill/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days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32004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32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32004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32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32004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32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32004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320040">
                    <a:lnL>
                      <a:noFill/>
                    </a:lnL>
                    <a:lnR w="18720">
                      <a:solidFill>
                        <a:srgbClr val="33666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ends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336666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32004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32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336666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32004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32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336666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32004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32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336666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32004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ctr" marL="90000" marR="320040">
                    <a:lnL>
                      <a:noFill/>
                    </a:lnL>
                    <a:lnR w="18720">
                      <a:solidFill>
                        <a:srgbClr val="336666"/>
                      </a:solidFill>
                    </a:lnR>
                    <a:lnT>
                      <a:noFill/>
                    </a:lnT>
                    <a:lnB w="18720">
                      <a:solidFill>
                        <a:srgbClr val="336666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U5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D89AC-B96C-4674-B1D8-28AC71218994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st, Current, Project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1905120"/>
          <a:ext cx="7010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7010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4495680" y="1371600"/>
            <a:ext cx="2970360" cy="1497240"/>
            <a:chOff x="4495680" y="1371600"/>
            <a:chExt cx="2970360" cy="1497240"/>
          </a:xfrm>
        </p:grpSpPr>
        <p:sp>
          <p:nvSpPr>
            <p:cNvPr id="108" name=""/>
            <p:cNvSpPr/>
            <p:nvPr/>
          </p:nvSpPr>
          <p:spPr>
            <a:xfrm flipV="1" rot="1626000">
              <a:off x="6172200" y="2284920"/>
              <a:ext cx="1295280" cy="304920"/>
            </a:xfrm>
            <a:prstGeom prst="rightArrow">
              <a:avLst>
                <a:gd name="adj1" fmla="val 50000"/>
                <a:gd name="adj2" fmla="val 106198"/>
              </a:avLst>
            </a:prstGeom>
            <a:solidFill>
              <a:srgbClr val="006666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95680" y="1371600"/>
              <a:ext cx="1981440" cy="1066680"/>
            </a:xfrm>
            <a:prstGeom prst="ellipse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Arial"/>
                </a:rPr>
                <a:t>Projecting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Arial"/>
                </a:rPr>
                <a:t>61 P/T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Arial"/>
                </a:rPr>
                <a:t>38 F/T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U5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E8C50-BBFF-420C-A7E1-0304CA99A08B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lan for Increasing P/T Headcou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1828800"/>
            <a:ext cx="251460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Advertise 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/T positions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714640" y="2400120"/>
            <a:ext cx="2514960" cy="1676520"/>
            <a:chOff x="5714640" y="2400120"/>
            <a:chExt cx="2514960" cy="1676520"/>
          </a:xfrm>
        </p:grpSpPr>
        <p:sp>
          <p:nvSpPr>
            <p:cNvPr id="113" name=""/>
            <p:cNvSpPr/>
            <p:nvPr/>
          </p:nvSpPr>
          <p:spPr>
            <a:xfrm>
              <a:off x="5715000" y="2933640"/>
              <a:ext cx="2514600" cy="1143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T. Scott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to schedule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interviews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cxnSp>
          <p:nvCxnSpPr>
            <p:cNvPr id="114" name=""/>
            <p:cNvCxnSpPr>
              <a:stCxn id="111" idx="6"/>
              <a:endCxn id="113" idx="0"/>
            </p:cNvCxnSpPr>
            <p:nvPr/>
          </p:nvCxnSpPr>
          <p:spPr>
            <a:xfrm>
              <a:off x="5714640" y="2400120"/>
              <a:ext cx="1258200" cy="533880"/>
            </a:xfrm>
            <a:prstGeom prst="straightConnector1">
              <a:avLst/>
            </a:prstGeom>
            <a:ln w="9360">
              <a:solidFill>
                <a:srgbClr val="336666"/>
              </a:solidFill>
              <a:miter/>
              <a:tailEnd len="med" type="triangle" w="med"/>
            </a:ln>
          </p:spPr>
        </p:cxnSp>
      </p:grpSp>
      <p:grpSp>
        <p:nvGrpSpPr>
          <p:cNvPr id="115" name=""/>
          <p:cNvGrpSpPr/>
          <p:nvPr/>
        </p:nvGrpSpPr>
        <p:grpSpPr>
          <a:xfrm>
            <a:off x="4724280" y="4076280"/>
            <a:ext cx="2514600" cy="1791000"/>
            <a:chOff x="4724280" y="4076280"/>
            <a:chExt cx="2514600" cy="1791000"/>
          </a:xfrm>
        </p:grpSpPr>
        <p:sp>
          <p:nvSpPr>
            <p:cNvPr id="116" name=""/>
            <p:cNvSpPr/>
            <p:nvPr/>
          </p:nvSpPr>
          <p:spPr>
            <a:xfrm>
              <a:off x="4724280" y="4724280"/>
              <a:ext cx="2514600" cy="1143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M. Peters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to interview and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hire applicants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cxnSp>
          <p:nvCxnSpPr>
            <p:cNvPr id="117" name=""/>
            <p:cNvCxnSpPr>
              <a:stCxn id="113" idx="4"/>
              <a:endCxn id="116" idx="0"/>
            </p:cNvCxnSpPr>
            <p:nvPr/>
          </p:nvCxnSpPr>
          <p:spPr>
            <a:xfrm flipH="1">
              <a:off x="5981400" y="4076280"/>
              <a:ext cx="991440" cy="648360"/>
            </a:xfrm>
            <a:prstGeom prst="straightConnector1">
              <a:avLst/>
            </a:prstGeom>
            <a:ln w="9360">
              <a:solidFill>
                <a:srgbClr val="336666"/>
              </a:solidFill>
              <a:miter/>
              <a:tailEnd len="med" type="triangle" w="med"/>
            </a:ln>
          </p:spPr>
        </p:cxnSp>
      </p:grpSp>
      <p:grpSp>
        <p:nvGrpSpPr>
          <p:cNvPr id="118" name=""/>
          <p:cNvGrpSpPr/>
          <p:nvPr/>
        </p:nvGrpSpPr>
        <p:grpSpPr>
          <a:xfrm>
            <a:off x="1295280" y="4724280"/>
            <a:ext cx="3429000" cy="1143000"/>
            <a:chOff x="1295280" y="4724280"/>
            <a:chExt cx="3429000" cy="1143000"/>
          </a:xfrm>
        </p:grpSpPr>
        <p:sp>
          <p:nvSpPr>
            <p:cNvPr id="119" name=""/>
            <p:cNvSpPr/>
            <p:nvPr/>
          </p:nvSpPr>
          <p:spPr>
            <a:xfrm>
              <a:off x="1295280" y="4724280"/>
              <a:ext cx="2514600" cy="1143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J. Farla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to train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6" idx="2"/>
              <a:endCxn id="119" idx="6"/>
            </p:cNvCxnSpPr>
            <p:nvPr/>
          </p:nvCxnSpPr>
          <p:spPr>
            <a:xfrm flipH="1">
              <a:off x="3809520" y="5295600"/>
              <a:ext cx="915120" cy="1080"/>
            </a:xfrm>
            <a:prstGeom prst="straightConnector1">
              <a:avLst/>
            </a:prstGeom>
            <a:ln w="9360">
              <a:solidFill>
                <a:srgbClr val="336666"/>
              </a:solidFill>
              <a:miter/>
              <a:tailEnd len="med" type="triangle" w="med"/>
            </a:ln>
          </p:spPr>
        </p:cxnSp>
      </p:grpSp>
      <p:grpSp>
        <p:nvGrpSpPr>
          <p:cNvPr id="121" name=""/>
          <p:cNvGrpSpPr/>
          <p:nvPr/>
        </p:nvGrpSpPr>
        <p:grpSpPr>
          <a:xfrm>
            <a:off x="380880" y="2399760"/>
            <a:ext cx="2819520" cy="2324160"/>
            <a:chOff x="380880" y="2399760"/>
            <a:chExt cx="2819520" cy="2324160"/>
          </a:xfrm>
        </p:grpSpPr>
        <p:sp>
          <p:nvSpPr>
            <p:cNvPr id="122" name=""/>
            <p:cNvSpPr/>
            <p:nvPr/>
          </p:nvSpPr>
          <p:spPr>
            <a:xfrm>
              <a:off x="380880" y="2933640"/>
              <a:ext cx="2514600" cy="1143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L. Klein to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assign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schedules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cxnSp>
          <p:nvCxnSpPr>
            <p:cNvPr id="123" name=""/>
            <p:cNvCxnSpPr>
              <a:stCxn id="119" idx="0"/>
              <a:endCxn id="122" idx="4"/>
            </p:cNvCxnSpPr>
            <p:nvPr/>
          </p:nvCxnSpPr>
          <p:spPr>
            <a:xfrm flipH="1" flipV="1">
              <a:off x="1638000" y="4075920"/>
              <a:ext cx="915120" cy="648360"/>
            </a:xfrm>
            <a:prstGeom prst="straightConnector1">
              <a:avLst/>
            </a:prstGeom>
            <a:ln w="9360">
              <a:solidFill>
                <a:srgbClr val="336666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>
              <a:stCxn id="122" idx="0"/>
              <a:endCxn id="111" idx="2"/>
            </p:cNvCxnSpPr>
            <p:nvPr/>
          </p:nvCxnSpPr>
          <p:spPr>
            <a:xfrm flipV="1">
              <a:off x="1638000" y="2399760"/>
              <a:ext cx="1562760" cy="533880"/>
            </a:xfrm>
            <a:prstGeom prst="straightConnector1">
              <a:avLst/>
            </a:prstGeom>
            <a:ln w="9360">
              <a:solidFill>
                <a:srgbClr val="336666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U5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C11E5-11B8-4406-B84B-631936A345C6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5T20:04:54Z</dcterms:created>
  <dc:creator>Marple</dc:creator>
  <dc:description/>
  <dc:language>en-US</dc:language>
  <cp:lastModifiedBy>Pat Graves</cp:lastModifiedBy>
  <dcterms:modified xsi:type="dcterms:W3CDTF">2004-03-21T21:28:58Z</dcterms:modified>
  <cp:revision>12</cp:revision>
  <dc:subject/>
  <dc:title>Headcount Analysis</dc:title>
</cp:coreProperties>
</file>