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5F3-E4BD-4E25-8351-D4FD61F9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52A-7BD7-4F47-8E3A-340D2F4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B86-E8B4-4544-A8CF-EBFA8648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499-2AE3-4764-A8EC-E228180D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BAE8-62FA-4D22-A8F5-BB8E6D8C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C44C-B8D2-49FD-B8C6-3172695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8F7-6336-4DDD-942C-D1EAF17D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618E-639D-4B35-B693-55A33BDB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D2AC-7402-48FA-9A78-1EAAECCF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5F31-ABC7-449B-B192-853C88EF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1DD4-10F0-4816-AC13-05A3DDA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0D7-D440-41E6-8DA6-46D8AC09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8BC3-9FD7-43BB-846F-536408F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26D5-DBCD-4FE5-A7D5-26AE65B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6B3D-29F1-498E-8FA7-9CA4AFB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E77-792A-41B8-B7AD-DAFA6737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4424-3AF9-4349-931E-52DD33C9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615-DCC8-4C29-B889-1949B3ED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6D9-DA48-4835-857F-66A81A5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324-A96E-4CF2-8B3B-B269CF01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D27-FD0F-43C1-9B3E-CADCF777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B1A-FF57-4CA3-836A-4DD8415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1D0-0D44-4D0B-9B52-06461A3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011-A87C-46C8-A23C-1F51264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2DD-3E4B-467B-8101-E10ABE1C39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CD8-6887-4E26-BC9F-AC63BF1C69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uman Resource Information Systems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formation at your finger tips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3048120"/>
            <a:ext cx="2361960" cy="2514600"/>
            <a:chOff x="685800" y="3048120"/>
            <a:chExt cx="2361960" cy="25146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685800" y="3048120"/>
              <a:ext cx="20574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14400" y="32004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312444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merican Pride Inc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nges and Impediments in everyday HR activ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 changing scenario due to fast growing Company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lo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Manpower and Manpower Turno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Employee benefit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salary surveys and appraisal proced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Organizatio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we need HR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keep track of an ever increasing Manpow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have a centralized database at our Head Office from all different lo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get quicker and accurate information, fa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have standardized procedures across all our SBU’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have a secure environment for all our salary and benefits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nable fair and accurate Appraisal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keep centralized account of lea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be able to eventually let Employees log- in and use the system themselves thus cutting cost and time facto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s Gene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RIS will streamline repor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move towards Paperless Offi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ture cost sav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2438280"/>
            <a:ext cx="8001000" cy="4114800"/>
          </a:xfrm>
          <a:prstGeom prst="roundRect">
            <a:avLst>
              <a:gd name="adj" fmla="val 16667"/>
            </a:avLst>
          </a:prstGeom>
          <a:solidFill>
            <a:srgbClr val="99cc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itial Inventory Required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505600"/>
            <a:ext cx="85341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c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rdwa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ant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Woodland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wntown Housto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+ Hard disk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lan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ichard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ana Poin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Changes and Impediments in everyday H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activitiesChanges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 and Impediments in everyday H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o we need HR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s Gen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 Inventory Requ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3:24:49Z</dcterms:created>
  <dc:creator>Rajiv Malkan</dc:creator>
  <dc:description/>
  <dc:language>en-US</dc:language>
  <cp:lastModifiedBy>Developer</cp:lastModifiedBy>
  <dcterms:modified xsi:type="dcterms:W3CDTF">2003-12-10T00:34:33Z</dcterms:modified>
  <cp:revision>4</cp:revision>
  <dc:subject/>
  <dc:title>PPT - Solutions Project 4</dc:title>
</cp:coreProperties>
</file>