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E2CD-E37B-407D-9709-151DB66A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8F4B-E78F-4C68-8486-278D9E6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129D-F37D-417E-A89B-D73E034D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2AA3-622C-4595-A4C3-8F2C6919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E9E-FCF8-42CA-8250-B86DB76F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2D2C-9590-4B42-9D8B-48BD33F7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9145-9DAD-46F6-8EB7-CDB570D9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6EB-E57B-4B85-96A5-61971EF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C5CC-D7CA-49B5-81EE-AC9CE14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4052-78F6-4161-AE01-737E5A39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411-E509-4AE1-B71B-2821486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64A4-1250-4D5A-97BE-0EDC179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2BA-C6C4-4C12-8C07-413CF91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559E-A15C-4678-8C34-C3734C51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C867-AD58-4922-8691-7D851EED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C52-3B0B-446B-B079-F3708E7C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CE76-6D26-45E5-8FB9-6DFE20F9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1095-C6BC-4A66-875D-71A1881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3137-4E1D-42E6-8A1A-2D707552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DC55-3529-4649-B1B3-744F7129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572B-9C90-4488-9779-48488F7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0D7E-C68A-4642-B2F9-8109F01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A473-63A7-4515-AA78-BFC3A2F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4767-C7F1-464A-AAB3-07255B8D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F13-63B2-47BE-9FFA-3F83373A5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86A-CDF6-4AE0-9996-90A245E7F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20:00Z</dcterms:modified>
  <cp:revision>1</cp:revision>
  <dc:subject/>
  <dc:title>PPT - Solutions Proejct 6a</dc:title>
</cp:coreProperties>
</file>