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DCCA-6B3D-4AD3-99D6-47F056E3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83ADA-6FF2-44E6-A079-A8254FF2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6FA8A-AA30-4BEB-8441-89E6A745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3B9D2-9F10-4328-A434-807F8B25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6D92-C9CB-4B64-9852-797756F1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33B8-E7EE-4F16-B04D-A5ADAEA4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CF7D-BF3C-41BD-9FF1-9BC5764C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B34D-3E06-46FE-BBCD-5E043ECE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6147-34EE-4627-A381-FB3B5779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96A9-EA37-4011-A14A-A6A5819B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82BF-DC54-41B3-9018-2F13627B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F716-C510-445B-BC05-CA0E1DB0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159E-D0D3-4487-9589-DD32F063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11C0-78BC-4625-9189-3CED23A4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E2BA-9E86-459A-85BD-79B8323F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5DE7-4CEC-42B2-A000-709524BF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123D-099F-42FB-96C9-E5725E0E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44A0-6418-4779-AFFB-88B52F46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C7FE-7C3E-4D9D-A630-7EB48AAE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40CDA-3914-4E5F-A523-05539B5B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7741D-501D-43E6-BB22-A370191B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D01B-3A12-476E-A421-E22A341B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F40E2-9A2F-42F6-AA84-23CE5CCA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6660-9FD5-4493-884D-36154799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3055-EA79-40ED-9AB2-16EE1C34D7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D59E-2B80-4C16-8F1D-736353FD17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mployee Appreciation Program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666520" y="4266720"/>
            <a:ext cx="6324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r Biggest Asset-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Our Peopl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5750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362320" y="838080"/>
            <a:ext cx="3828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You Make It Happe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6120" y="1523880"/>
            <a:ext cx="591840" cy="971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57520" y="4167360"/>
            <a:ext cx="880920" cy="861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681200" y="5416560"/>
            <a:ext cx="965160" cy="1212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722600" y="2779560"/>
            <a:ext cx="949320" cy="954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37920" y="1539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61960" y="287496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66280" y="426096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Team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62320" y="5708520"/>
            <a:ext cx="25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Good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609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2057400"/>
            <a:ext cx="6858000" cy="335268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18960" y="2361960"/>
            <a:ext cx="4647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ais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zz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eds 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s 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meet Expec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251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527600">
            <a:off x="5416200" y="1566360"/>
            <a:ext cx="35812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take Pride in our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st Employee Award for the Year 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ed for best innovative practices in their respective field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s. Rita Taylor, Manager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. Raj Gupta, Manager Informatio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410080" y="1143000"/>
            <a:ext cx="1478160" cy="151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rot="19784400">
            <a:off x="5727600" y="5381280"/>
            <a:ext cx="3403800" cy="609480"/>
          </a:xfrm>
          <a:custGeom>
            <a:avLst/>
            <a:gdLst>
              <a:gd name="textAreaLeft" fmla="*/ 851040 w 3403800"/>
              <a:gd name="textAreaRight" fmla="*/ 2553120 w 3403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rat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22:31:55Z</dcterms:created>
  <dc:creator>Rajiv Malkan</dc:creator>
  <dc:description/>
  <dc:language>en-US</dc:language>
  <cp:lastModifiedBy>Developer</cp:lastModifiedBy>
  <dcterms:modified xsi:type="dcterms:W3CDTF">2003-12-09T23:13:30Z</dcterms:modified>
  <cp:revision>3</cp:revision>
  <dc:subject/>
  <dc:title>PPT - Solutions Project 3a</dc:title>
</cp:coreProperties>
</file>