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9C16-A529-42AD-A919-1C2A87885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B4E6-CB8F-435A-85DD-B579402B3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sugg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lassifieds or consignment 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plastic and use paper b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reusable 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e concentrates and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products with least 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AB27-CDF6-40EC-8C68-D8C43E52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1752-57C7-4381-8041-7913E361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25CF-2373-4D2C-9F8D-770D904B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9FCD-7263-4171-95E4-E51C758E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FB2D-BF10-4D3D-A838-5E3485F6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C0BE-A174-43C6-8FC2-A8DC886B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ED7F-3034-4C41-84D8-C37361BA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9A6C-EE62-4AF6-BE3C-E6EF93EC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A5B2-6D86-48A8-8C3E-F4287D9E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9B41-936C-48C6-A7EB-2A7FBD26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22FF-8EA7-4D11-ADCC-E1246418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B42B-8460-4E57-93E4-0BC1600A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B6DC-4CA8-403E-B25B-6F69C9FA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3BD7-3990-4A86-A97C-02E7998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F861-DA22-4087-AB7A-487DD0B0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731B-4F20-4193-8FFB-B03D4E24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490A-3224-413D-BF08-1A6BFB11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86DA-46E8-452D-B529-11892B9B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2EF5-B64D-49FD-BC5E-2D8A8E69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E01C-AB5D-43B7-9928-746EC3D4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04F8-0C24-4AF7-A183-9068C4CA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5872-526B-4279-9B90-84A33654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2036-3D9A-4856-8E5E-B956B58D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88E9-614A-4B53-B623-0AC36D33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5E54-746E-47EA-8A3C-2C3A8F01FC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0764-4676-4CA2-85EC-D0F776E2A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cycle!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-cycling practices in an office environmen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 R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you can do a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products and packaging made with Recycle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oth sides of the Paper when cop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 certain supplies instead of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eramic coffee m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rechargeable 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a Part of the Solutio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Expend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. Rita will be in charge of collecting shredded paper to be given to recycling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Thomas assigned to ensure all lights go off after the office c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Perry to check carpool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. Cathy in charge of employee suggestion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1:18:57Z</dcterms:created>
  <dc:creator>Rajiv Malkan</dc:creator>
  <dc:description/>
  <dc:language>en-US</dc:language>
  <cp:lastModifiedBy>Developer</cp:lastModifiedBy>
  <dcterms:modified xsi:type="dcterms:W3CDTF">2003-12-10T01:56:34Z</dcterms:modified>
  <cp:revision>4</cp:revision>
  <dc:subject/>
  <dc:title>PPT - Solutions Project 6b</dc:title>
</cp:coreProperties>
</file>