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gif" ContentType="image/gi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788-E797-4682-B4CE-716EAE2A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1CF-A10D-4368-B29B-6DA9829D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C6B-F8FE-451B-85C8-77616B98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96B-2302-4204-9ED7-3EC6FFC1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733-49F8-40E9-9092-11A3FEB4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FC89-358A-4212-BD60-B45F993C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0F0B-449D-4C0A-8A81-98B93E06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20B0-78F5-4C47-A625-2A25E5E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7337-61E1-4033-9D36-377A4D3A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AC6B-0AE7-4704-87D0-D919BEF3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A9FE-76BE-4DE7-8390-3ED536ED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8A0-4AE0-47EC-87F8-9C4D9F30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231C-AEFE-4283-A70F-FE812863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0CA5-FE80-43DF-889B-A3BD2DD5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C531-B236-4D61-8233-2F0F8A9E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58B1-6A53-4522-A799-0BC0A71B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235D-F00B-4275-95F2-7EDDD987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049-E1DA-4CFF-AFEA-71D526A0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B89-EBAD-4012-9DB5-7DB351E7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1BA-4202-4462-8191-3899EE1B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13E-163D-46BB-ABB3-480C5825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540-51C7-413F-B85B-FD7D8B14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B74-7A3A-4AD9-9060-DEA11C86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426-B17E-4701-8A61-0B151D1F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72EE-8C04-4CA7-96F5-3A3DB69FB5B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9B40-4738-4453-A485-E3E4FACA9AA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7d47d"/>
                </a:solidFill>
                <a:latin typeface="Arial"/>
              </a:rPr>
              <a:t>Employee Appreciation Program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4266720"/>
            <a:ext cx="632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ur Biggest Asset-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Our Peopl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575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362320" y="838080"/>
            <a:ext cx="382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d5b781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You Make It Happe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d5b781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6120" y="1523880"/>
            <a:ext cx="591840" cy="971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57520" y="4167360"/>
            <a:ext cx="880920" cy="861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681200" y="5416560"/>
            <a:ext cx="965160" cy="1212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722600" y="2779560"/>
            <a:ext cx="949320" cy="954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337920" y="1539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61960" y="287496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66280" y="426096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Team Spir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62320" y="570852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Good Imag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609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38080" y="2057400"/>
            <a:ext cx="6858000" cy="335268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18960" y="2361960"/>
            <a:ext cx="4647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Appraisal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azzle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ceeds Expec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eets Expec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oes not meet Expectat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Rais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5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0%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527600">
            <a:off x="5416200" y="1566360"/>
            <a:ext cx="3581280" cy="6858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We take Pride in our Employe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Best Employee Award for the Year 200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Presented for best innovative practices in their respective fields 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Ms. Rita Taylor, Manager Human Resour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Mr. Raj Gupta, Manager Information Technolog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638680" y="609480"/>
            <a:ext cx="1774800" cy="1824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19784400">
            <a:off x="5560920" y="4768560"/>
            <a:ext cx="3403800" cy="1266840"/>
          </a:xfrm>
          <a:custGeom>
            <a:avLst/>
            <a:gdLst>
              <a:gd name="textAreaLeft" fmla="*/ 851040 w 3403800"/>
              <a:gd name="textAreaRight" fmla="*/ 2553120 w 3403800"/>
              <a:gd name="textAreaTop" fmla="*/ 0 h 1266840"/>
              <a:gd name="textAreaBottom" fmla="*/ 1108800 h 1266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ngratul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22:31:55Z</dcterms:created>
  <dc:creator>Rajiv Malkan</dc:creator>
  <dc:description/>
  <dc:language>en-US</dc:language>
  <cp:lastModifiedBy>Developer</cp:lastModifiedBy>
  <dcterms:modified xsi:type="dcterms:W3CDTF">2003-12-09T23:19:34Z</dcterms:modified>
  <cp:revision>5</cp:revision>
  <dc:subject/>
  <dc:title>PPT - Solutions Project 3b</dc:title>
</cp:coreProperties>
</file>