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C06B3-E4B8-44DB-B3BF-D8504C4AF4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courage the students to ask as many questions as possible at the end of each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2CAE-37AC-4674-946D-9B41F4BAE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473B-0A42-4730-B8A7-4CF624CAA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009D-314A-4865-B928-1E7B0A4FF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907E-A696-43AA-BF98-1B0B295E6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19D9-C9C7-4BB7-A56B-6716ED209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5236-F951-4FFC-93EE-510F5D5AC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03D5-65A9-46B1-BCB3-67FE5B646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4DF3-4350-4E4B-B985-459E88E58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8E33-5C70-45E8-9DCD-030969FF5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1352-626B-44A1-BE17-1DF49B894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C990-14EB-435B-BC46-633AC674A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76F2-EC1A-4688-A8AF-DD64EBB91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5F320-F298-499D-8F18-C852228990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American Pride, Inc. Management Trainee Program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hat’s in it for you?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Salary Packag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Attractive Sala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Stipend and Conveyance allowance for first six month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Basic salary after six months of employ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Bi-Annual appraisal based salary rai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Benefits at all tim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Selection Proces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Group discussio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Personal Interview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Technical Interview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Only ten management trainees will be select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Induction Program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Department wi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Location wi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Building tou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Orientation Program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Initial Orientation at the time of employ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Separate American Pride Orientation Program by Senior Manag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Department wise orientation in the first few month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Training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You will study all the department fun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In the second half of MT program, you will be absorbed in a depart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You will get full training from the department you are absorbed i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Appraisal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Bi – annual apprais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360 degree appraisal progra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You will be made permanent employee upon successful comple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onclusion of Management Training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You will be made permanent employees based on apprais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You will be designated Assistant Manag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Salary and perks will be added commensurate to your posi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ome explore the Endless Possibilitie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We believe in Innovative Solu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Fast Growth Prospec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Tremendous Lear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Family Oriented Compan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9T21:40:59Z</dcterms:created>
  <dc:creator>Rajiv Malkan</dc:creator>
  <dc:description/>
  <dc:language>en-US</dc:language>
  <cp:lastModifiedBy>Developer</cp:lastModifiedBy>
  <dcterms:modified xsi:type="dcterms:W3CDTF">2003-12-09T22:25:35Z</dcterms:modified>
  <cp:revision>2</cp:revision>
  <dc:subject/>
  <dc:title>PPT - Solutions Project 2</dc:title>
</cp:coreProperties>
</file>