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6858000" cy="9144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5B27-83E7-45EF-ADAA-72B8C164EE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3606840" y="514440"/>
            <a:ext cx="193032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21F8-477A-4B9A-80C4-188FC8459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3606840" y="514440"/>
            <a:ext cx="1930320" cy="25718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sugg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lassifieds or consignment 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ine plastic and use paper bagsbu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reusable dis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chase concentrates and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products with least pack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6BF06-D0B9-450C-9246-42A047A84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2720" y="534780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34717-1A75-439D-BE2F-BBE152EA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5053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F9281-15DE-402A-B1D6-BC305BFD9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42964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1656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4272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42964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51656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F3E61-A668-4883-A2AE-DD4896BB3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3C5A-18F3-4E64-97A9-5F76445A9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7EB8-7174-4C92-943A-EC1C4F0C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8C08-82C9-4BA7-9BBD-8FC27849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443D-30C3-4B27-A38E-7BEB016A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0C4B-DE0E-4ED1-8338-3CD1A18B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342720" y="609480"/>
            <a:ext cx="61722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DB53-AD9E-4FF6-B559-89824BE9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AAD8-160E-4453-BD66-2AC0739E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AD7BA-8422-4F01-B145-60538345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5053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D23A-ED16-4FA7-94CF-20429BDE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3B0E-43AD-4FBC-8A6F-F66A0BA5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2720" y="534780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4F2F-5800-4D39-92EC-2B421DF1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5053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B245-7282-40DF-A411-73FC0AC59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42964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1656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272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242964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451656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A107-407B-4CE0-A9C1-7513F0B36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BEFE1-95C0-4A4C-B1E1-7AA87CE3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F4EDE-4578-4260-8285-B989DE1D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EBE9A-1593-44DF-8B85-2034FCEB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42720" y="609480"/>
            <a:ext cx="61722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5D1E6-863B-4AFA-A65E-E1A4AAB3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897FD-4144-4A88-BBD2-8EF204FB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5053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1D231-E6A9-42AF-84D7-C67D120D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3CC1C-1A5D-4BFC-B0EE-EC516B7A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2835-DB76-4B74-A1CE-1BC9F32ECB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6857640" cy="728280"/>
            <a:chOff x="0" y="0"/>
            <a:chExt cx="6857640" cy="72828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14200" cy="711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9600" y="180000"/>
              <a:ext cx="6548040" cy="366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07080" y="180000"/>
              <a:ext cx="103320" cy="18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10400" y="0"/>
              <a:ext cx="104760" cy="1843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10400" y="180000"/>
              <a:ext cx="104760" cy="18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05920" y="366120"/>
              <a:ext cx="102240" cy="1843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8640" y="181800"/>
              <a:ext cx="105840" cy="1843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7080" y="361800"/>
              <a:ext cx="103320" cy="1843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05920" y="546480"/>
              <a:ext cx="102240" cy="1818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6857640" cy="9143640"/>
            <a:chOff x="0" y="0"/>
            <a:chExt cx="6857640" cy="914364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2628720" cy="914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87000" y="2253960"/>
              <a:ext cx="5570640" cy="33778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422000"/>
              <a:ext cx="2149920" cy="4209480"/>
              <a:chOff x="0" y="1422000"/>
              <a:chExt cx="2149920" cy="4209480"/>
            </a:xfrm>
          </p:grpSpPr>
          <p:sp>
            <p:nvSpPr>
              <p:cNvPr id="55" name=""/>
              <p:cNvSpPr/>
              <p:nvPr/>
            </p:nvSpPr>
            <p:spPr>
              <a:xfrm>
                <a:off x="429840" y="4776840"/>
                <a:ext cx="432000" cy="8546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287000" y="2253600"/>
                <a:ext cx="430920" cy="8571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0720" y="1422000"/>
                <a:ext cx="439200" cy="846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56080" y="4776840"/>
                <a:ext cx="437760" cy="8546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10720" y="2253600"/>
                <a:ext cx="439200" cy="857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56080" y="3098160"/>
                <a:ext cx="437760" cy="8442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98160"/>
                <a:ext cx="436680" cy="84420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287000" y="3098160"/>
                <a:ext cx="430920" cy="8442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29840" y="3930120"/>
                <a:ext cx="432000" cy="858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6080" y="3930120"/>
                <a:ext cx="437760" cy="858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4444-3F85-4A68-8D7F-13E74D1DDB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51512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51512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Recycle!!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228760" y="5689440"/>
            <a:ext cx="4515120" cy="23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-cycling practices in an office environment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ur R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bu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you can do at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 products and packaging made with Recycled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p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both sides of the Paper when copy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t certain supplies instead of bu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eramic coffee m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rechargeable batt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 a Part of the Solution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rve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rv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 Pol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 Expendi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on I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. Rita will be in charge of collecting shredded paper to be given to recycling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Thomas assigned to ensure all lights go off after the office cl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Perry to check carpool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. Cathy in charge of employee suggestion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0T01:18:57Z</dcterms:created>
  <dc:creator>Rajiv Malkan</dc:creator>
  <dc:description/>
  <dc:language>en-US</dc:language>
  <cp:lastModifiedBy>Developer</cp:lastModifiedBy>
  <dcterms:modified xsi:type="dcterms:W3CDTF">2003-12-10T01:51:41Z</dcterms:modified>
  <cp:revision>3</cp:revision>
  <dc:subject/>
  <dc:title>PPT - Solutions Project 6d</dc:title>
</cp:coreProperties>
</file>