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1E8-2F7B-4CD3-85FC-50AAC494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716-EDAE-4796-848C-EE1DE43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4C3-13BD-451F-9814-28802FC1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086-0E1D-4B3D-A04B-6103869F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2E5-3BEC-4769-8E8F-6BDBAA70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D478-CC8A-4AA8-92A7-2397902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5F4-32C3-4170-BE20-01BD4C2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742-FCC4-41FE-89D4-0511DB4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8CA-C34E-4ACF-BC0D-B83BE68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1FD-519E-4455-9585-1DE544D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8BFA-BEEC-46D4-B068-1FD965E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7AE-34D2-4C53-ABBC-0FE4896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E700-0AC4-4BB7-8162-88AE7D3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E333-89A9-40A7-A942-43CEF0D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FDB-268C-47B4-843A-EA7A2A7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6604-2ADD-465C-B5E2-DB9E1AD9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06F8-4BBE-40BE-BB2A-1A4CB442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2A2-87D7-441B-A5B5-52F78C80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F19-D180-4A07-A710-4FF4F54C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2B3-F004-4F05-8894-3A82FF0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C6F-3490-468D-A655-5F037A2C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BDD-C905-42F6-AFE7-02B081B0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651-D695-4827-B3DA-24EED6C5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A97-F298-4483-A398-FD0281A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FEAF-0987-4392-A4DB-CEBD35E67C6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B5C0-AF22-4EDF-AF4F-A5D29F0C7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DC2-4379-4294-9459-2F6A3FC46A8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276-D10E-4E00-84F7-361007885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merican Pride, Inc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less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Innovativ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new busi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Divers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new prac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33F-7427-4E8D-B736-94BC639576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48AA7-8B7C-4CD4-B45C-2DC5E86184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val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 – We treat others as we would like to be treated.  People friendly environment with no room for arrogance and abus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ity – We work with Clients and Customers openly and in a crystal clear manner with no hidden agenda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hievement – Ours is an environment that promotes and encourages achievers.  We will continue to raise the bar of perfec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 – We are good listeners and thus able to provide our customers exactly what they ne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19B-807E-48CB-A709-7BC528E443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3BD7-4C7D-4744-BC42-BF735357E8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ignificantly expand our existing busi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the best in what we do and create a ni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xtend our services to new mark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ach the targeted profits in a timely and effective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9B3-7620-411F-913A-DF6FC520BB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DD75B-F3DA-4DEE-942B-32F8337AE4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rporate Profi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t growing Software Development fi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locations in three major cities (Houston, Dallas and Californi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 Million in Physical Assets alone and growing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best asset -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64D-CABE-4CBA-93E6-ED0EF0D49C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67C2D-B529-4611-A733-4B2026906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mployee Benefits at a glanc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provide the following and mor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idental Death and Dismemberment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Travel accident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t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or’s Off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ucational  Assistance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e Life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Dis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1 K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secur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2CE-5A12-47BC-87CD-0A70A72DA5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8885F-F940-491F-8143-000CDB72E7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s it in you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oking for High Energy and Creative individu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’s a fast paced Multitasking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mendous growth potent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make it hap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C1D-D42F-4A80-9998-1DE894041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E9F04-E1C9-4231-8848-DBD0666B16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jiv Malkan</dc:creator>
  <dc:description/>
  <dc:language>en-US</dc:language>
  <cp:lastModifiedBy>Developer</cp:lastModifiedBy>
  <dcterms:modified xsi:type="dcterms:W3CDTF">2003-12-09T21:38:32Z</dcterms:modified>
  <cp:revision>1</cp:revision>
  <dc:subject/>
  <dc:title>PPT - Solutions Projec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