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9B09-BC98-41A0-B9D9-64BEEF836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D28D-7BE4-46CF-A5FB-F2CB60909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7BB2-7A87-474F-BF0C-55756E97B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7AEC-772F-4033-9FE4-1F6B4BE30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BBF0-6D12-4232-8EFE-2087F2AEA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B5D5-1345-441B-A674-15137A6D1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62FF-7A08-45D6-B045-F1E5CF1DF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568D-3341-4D85-B05C-F889E0C9A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6D14-D06A-4711-A69B-E60423035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36F4-4880-4EDD-98C4-DC5EC017F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7E78-CAAA-438C-8146-3C490192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4CD6-E830-4777-A2AE-91183298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693B5-6C09-4A5B-B48D-1B53C680B4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371600" y="2209680"/>
            <a:ext cx="2361960" cy="2514600"/>
            <a:chOff x="1371600" y="2209680"/>
            <a:chExt cx="2361960" cy="251460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1371600" y="2209680"/>
              <a:ext cx="2057400" cy="25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1600200" y="236196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371600" y="2286000"/>
              <a:ext cx="23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merican Pride Inc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4T23:06:36Z</dcterms:created>
  <dc:creator>Rajiv Malkan</dc:creator>
  <dc:description/>
  <dc:language>en-US</dc:language>
  <cp:lastModifiedBy>Administrator</cp:lastModifiedBy>
  <dcterms:modified xsi:type="dcterms:W3CDTF">2004-06-18T07:40:22Z</dcterms:modified>
  <cp:revision>2</cp:revision>
  <dc:subject/>
  <dc:title>PPT - Student Data File</dc:title>
</cp:coreProperties>
</file>