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64E-65F0-4779-A73A-AAAED738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3A4-79DC-4A88-84BD-2CA988F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32B-231A-4145-B396-61256DEB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CED-B455-4F76-B7A3-7A09D1F8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FF0-1BA2-49AF-92EC-5F422C6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85D-082B-402B-9476-56016026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91A-BB66-4B45-A375-832AFE2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C2B-5553-40C3-8C5A-7A5162B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E35-5CC6-4BF9-8474-4D36986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872-AA52-433B-921D-409D052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35B-512B-49FF-9DCB-942B530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8CD-F766-4210-AA00-D6BF7EB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9CF-7B02-475F-8E19-B3E33CDD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42:20Z</dcterms:created>
  <dc:creator>Rajiv Malkan</dc:creator>
  <dc:description/>
  <dc:language>en-US</dc:language>
  <cp:lastModifiedBy>Administrator</cp:lastModifiedBy>
  <dcterms:modified xsi:type="dcterms:W3CDTF">2004-06-18T07:40:03Z</dcterms:modified>
  <cp:revision>1</cp:revision>
  <dc:subject/>
  <dc:title>PPT - Student Data File</dc:title>
</cp:coreProperties>
</file>