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F695-663D-463B-B718-FCAD3553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1CC-6ADA-4FD4-8C61-C639162E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A91-A302-4CF5-B81B-3E3040B9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00E-121E-42E7-9D5E-3F365197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071-5446-4E90-A02F-484EC5F4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B71-AAD1-4A62-8723-E6CE3661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F24-6299-4AA2-A97F-98C61E34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CD6-1507-4E98-8BEF-7B13D9AC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4D3-54C0-413D-B0F1-25A22794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DF9D-5DEF-4975-A6A6-D517E97D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3BD-2795-4D06-8C96-85BC1AD2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FAD-72C6-40EE-B382-39581ED8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8D69-431A-4B63-A7CA-265AA4522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1323720" cy="129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1640" y="11034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0920" y="30844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Spi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9400" y="47610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14400" y="419112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419720" y="609480"/>
            <a:ext cx="1779480" cy="1787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691680" y="1103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7:35:56Z</dcterms:created>
  <dc:creator>Rajiv Malkan</dc:creator>
  <dc:description/>
  <dc:language>en-US</dc:language>
  <cp:lastModifiedBy>Administrator</cp:lastModifiedBy>
  <dcterms:modified xsi:type="dcterms:W3CDTF">2004-06-18T07:40:11Z</dcterms:modified>
  <cp:revision>2</cp:revision>
  <dc:subject/>
  <dc:title>PPT - Student Data File</dc:title>
</cp:coreProperties>
</file>