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753-DDEE-4895-BE98-888494F5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860-2399-4211-A35F-D9C287F4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BC0-7A66-4E97-9B98-D6801C42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B71-E2F7-4965-90DD-E8218649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E1A2-B596-4BA8-8E29-865F54E4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8CF2-36EC-4A55-8DCA-31C3D9E8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9CB5-360D-4A25-98B5-925E75BE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B4BF-3439-40FA-ACAC-DFB2277D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DBFF-100E-4813-AA7A-FEE00CCE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5B5B-0EE3-4B26-8D11-BED52256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F2ED-9F1E-4004-94F6-8911C0C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427-ABFB-4A71-8FD8-6528DC78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CFE1-6916-46B9-BF56-54A4F3FF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69A1-17B8-48A1-85E0-46EBD02F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2B33-630C-4264-B636-3C86C7A0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AD67-DE26-484B-90A5-E0B8F839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E79F-1067-42D2-953A-2FCE5CE6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684-55F6-4A31-BD06-CE7E72AB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F54-73B1-4E8F-A094-CCDC5AB5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880-3118-41D2-8AC4-74E746BB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144-0500-4C86-8AA8-2C6D35F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507-7045-46E2-9E25-A9305B07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945-0F38-4E04-86B7-F9E58A85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C0E-26F1-4289-BEF5-AB60A32E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60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66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b0707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3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a0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e0e0e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11616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a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e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7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8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6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11616"/>
                  </a:gs>
                  <a:gs pos="100000">
                    <a:srgbClr val="9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A0BC-0D5D-4F19-8711-AA71B8F675CE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60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66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b0707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3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a0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e0e0e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11616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a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e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7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8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6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11616"/>
                  </a:gs>
                  <a:gs pos="100000">
                    <a:srgbClr val="9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EC97-2241-4C10-AF30-8DA33AC92C57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86d52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af9e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6b37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af9e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af9e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Resumes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Choosing a Format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hronological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List employment history by date, starting with the most recent position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s is the most common format used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Use this format only when you do not have gaps in your employment that cannot be easily explained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Functional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Group your achievements and skills under functional headings such as administration, marketing, sal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Useful when you want to change from one field to another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Useful when you want to play down gaps or frequent job chang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19:15:48Z</dcterms:created>
  <dc:creator>Student Name</dc:creator>
  <dc:description/>
  <dc:language>en-US</dc:language>
  <cp:lastModifiedBy>Student Name</cp:lastModifiedBy>
  <dcterms:modified xsi:type="dcterms:W3CDTF">2002-01-21T19:18:17Z</dcterms:modified>
  <cp:revision>3</cp:revision>
  <dc:subject/>
  <dc:title>Resumes</dc:title>
</cp:coreProperties>
</file>