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0F3-2C38-4541-9701-0AB58EDA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D8F-D5AB-43BB-AF68-BDCE0E6F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355-7F4B-4E4D-B06F-1102E303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502-FE10-46CC-908B-B8C95E14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ACB7-C9B8-4F0D-A72C-C5BBE7D7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5AF6-6D83-4C2E-8A0A-3E49CE4A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4E1-025E-4B68-8A45-A6A5E481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E765-791C-4D9D-9814-5303EFB0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6F93-656E-4DC9-A83E-33C5516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4347-B187-4B15-BA97-4ADF0B3B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CBD5-BEA8-45FF-964A-9F8BD3C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F3F-8212-4AB1-8357-3822E7CD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5B0B-EEBC-4DF4-9392-FF02030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C278-6708-4EBB-A2CC-D01A3E6E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207D-24A8-4C6A-8273-87D930A3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2034-343A-47A0-8E0D-300EBB40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8E53-F10D-4CB2-9725-2568373B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E7C-B610-463D-A622-A6E5AC74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3FE-C9FF-450F-904C-D27B129A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AF7-A59E-444D-9796-87B0E5D2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B3B-F03B-4AC4-922E-058DA963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90D-6BD7-4BCC-B160-E375DC4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B7A-ED6C-42FE-BBF9-3BBB1E18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C52-F1DD-4E4B-B430-9797E862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b65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A6B8-512E-45A4-B9AF-F2E2CABD01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ED2-3D8F-4FD4-BA55-3C5504B7DD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b6523e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b6523e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b6523e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sForms.pp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en Common Mistakes in Writing a Resum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4286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Nam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781360" y="4343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e 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en Top Resume Mistak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Sloppy pres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3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Poor organ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 Unrealistic 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 Not tailored to employer or jo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en Top Resume Mistak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. Best features not emphasiz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. Vague about detai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b652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b652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b652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en Top Resume Mistak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. Exaggerated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. Wor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. Irrelevant information includ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. Gimmic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19:21:20Z</dcterms:created>
  <dc:creator>Student Name</dc:creator>
  <dc:description/>
  <dc:language>en-US</dc:language>
  <cp:lastModifiedBy>Administrator</cp:lastModifiedBy>
  <dcterms:modified xsi:type="dcterms:W3CDTF">2004-06-23T08:35:57Z</dcterms:modified>
  <cp:revision>6</cp:revision>
  <dc:subject/>
  <dc:title>Ten Common Mistakes in Writing a Resume</dc:title>
</cp:coreProperties>
</file>