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4E9-A229-4082-9331-079F1B1C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31F-2B1E-454D-87AE-CA40B3D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7AE-524E-4CF1-B017-4B7937D7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885-B855-4559-AE61-1728B3DF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26B-9FAE-409C-9FFA-B4C443E5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91E-C63E-4E40-81E8-D8F42C9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7D4-65EF-4F52-93B9-7DD9A578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E4A-020C-498D-9F4B-95A98712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491-2D36-4916-9D9F-C6FA3C39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546-E20E-4C0C-971F-18A1BE1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9C0-3F35-4150-9194-1CC195A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45B-9675-4B8F-B592-9F01063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CA5-697A-4A5A-939A-6EB573F982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4997520"/>
            <a:ext cx="4114440" cy="1478880"/>
            <a:chOff x="152280" y="4997520"/>
            <a:chExt cx="4114440" cy="1478880"/>
          </a:xfrm>
        </p:grpSpPr>
        <p:sp>
          <p:nvSpPr>
            <p:cNvPr id="6" name=""/>
            <p:cNvSpPr/>
            <p:nvPr/>
          </p:nvSpPr>
          <p:spPr>
            <a:xfrm>
              <a:off x="3263760" y="5536440"/>
              <a:ext cx="1002960" cy="93996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2880" y="5224680"/>
              <a:ext cx="1322640" cy="124380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2280" y="4997520"/>
              <a:ext cx="2850120" cy="81648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Jobs 4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New York’s Favorite Healthy Restau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4 U is Looking F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d waiters and wait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ed, creative ch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ant chefs: If you’re willing to learn, we’re willing to train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alk to us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13:50Z</dcterms:created>
  <dc:creator>Student Name</dc:creator>
  <dc:description/>
  <dc:language>en-US</dc:language>
  <cp:lastModifiedBy>Student Name</cp:lastModifiedBy>
  <dcterms:modified xsi:type="dcterms:W3CDTF">2002-01-22T14:44:04Z</dcterms:modified>
  <cp:revision>4</cp:revision>
  <dc:subject/>
  <dc:title>Great Jobs 4 U</dc:title>
</cp:coreProperties>
</file>