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F31E7-DFE4-42A3-9965-E38352739D5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E3BB3-377B-4A14-84F7-B15101F0DC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67610-A75B-4048-B66D-4EFD3ECC59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359CD-35F6-4FF3-AA6C-5093ABEE41A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E4D1C-F2FD-41EA-83F4-D8944197C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1984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71600" y="2900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845B5-EA33-46CB-B06A-0070A1F4E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71600" y="1984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51560" y="1984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71600" y="2900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51560" y="2900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513D9-BDD2-451A-9900-1674F75EA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71600" y="1984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35560" y="1984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699880" y="1984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71600" y="2900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35560" y="2900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699880" y="2900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7B5C2-1827-4CFD-8091-4FC1FF8F0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42DA9-E767-44D1-890A-196A9D6CF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71600" y="1984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A2308-CA8F-45F2-89A5-E5A4A8ABC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600" y="1984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45291-7AD3-448D-A5A0-9913F6F4B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1600" y="1984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51560" y="1984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6A3E9-8ADD-43C9-8881-88875E81C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9BD14-5B6E-411C-B407-6EA96E044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A0983-1E95-45F7-8648-2C7C3FD61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1984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1984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2900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035DA-D016-4023-AAE5-44473EF89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71600" y="1984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803D5-C8C6-4AB1-8326-104048B5B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1984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51560" y="1984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51560" y="2900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0E3F2-E2C5-45E4-8C92-6C69927AD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1984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51560" y="1984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1600" y="2900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76E6D-CD5A-4F80-B661-42A3BBBAC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1984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71600" y="2900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D2ECB-859A-4F22-A9B6-19650AF33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71600" y="1984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51560" y="1984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71600" y="2900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51560" y="2900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E2C89-FDE1-4B39-9F53-69C932E83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1984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535560" y="1984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699880" y="1984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71600" y="2900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535560" y="2900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699880" y="2900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D7C54-CC7A-47F7-9437-388D3701B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71600" y="1984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1EED2-770B-4FA5-9803-C76730C69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71600" y="1984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1560" y="1984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C5CE5-BD6F-48FB-AF8F-1C2301CC0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2E339-6BD1-483A-A945-921582705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3F213-ECF7-47EB-933C-00618D6B1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1984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1984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71600" y="2900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2ADFE-307A-4651-BA55-4B067EFBA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1984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1984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51560" y="2900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DE970-6EFF-4645-B68E-B172D305C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1984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51560" y="1984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71600" y="2900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D54CF-E531-487D-A3F6-4BA8BDEBB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200"/>
            </a:gs>
            <a:gs pos="100000">
              <a:srgbClr val="00008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lvl="3" marL="1568160" indent="-223920"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lvl="4" marL="2016000" indent="-223920">
              <a:spcBef>
                <a:spcPts val="9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lvl="5" marL="2016000" indent="-223920">
              <a:spcBef>
                <a:spcPts val="9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lvl="6" marL="2016000" indent="-223920">
              <a:spcBef>
                <a:spcPts val="9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4ED5C-ED27-4257-A5D1-9D4F22F4ECE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629080" y="4997520"/>
            <a:ext cx="3884040" cy="1396080"/>
            <a:chOff x="2629080" y="4997520"/>
            <a:chExt cx="3884040" cy="1396080"/>
          </a:xfrm>
        </p:grpSpPr>
        <p:sp>
          <p:nvSpPr>
            <p:cNvPr id="6" name=""/>
            <p:cNvSpPr/>
            <p:nvPr/>
          </p:nvSpPr>
          <p:spPr>
            <a:xfrm>
              <a:off x="5566320" y="5506200"/>
              <a:ext cx="946800" cy="887400"/>
            </a:xfrm>
            <a:custGeom>
              <a:avLst/>
              <a:gdLst/>
              <a:ahLst/>
              <a:rect l="l" t="t" r="r" b="b"/>
              <a:pathLst>
                <a:path w="3215" h="3020">
                  <a:moveTo>
                    <a:pt x="0" y="182"/>
                  </a:moveTo>
                  <a:lnTo>
                    <a:pt x="15" y="4"/>
                  </a:lnTo>
                  <a:lnTo>
                    <a:pt x="1491" y="2"/>
                  </a:lnTo>
                  <a:lnTo>
                    <a:pt x="1471" y="179"/>
                  </a:lnTo>
                  <a:lnTo>
                    <a:pt x="1214" y="197"/>
                  </a:lnTo>
                  <a:lnTo>
                    <a:pt x="1214" y="197"/>
                  </a:lnTo>
                  <a:lnTo>
                    <a:pt x="1141" y="205"/>
                  </a:lnTo>
                  <a:lnTo>
                    <a:pt x="1084" y="220"/>
                  </a:lnTo>
                  <a:lnTo>
                    <a:pt x="1045" y="246"/>
                  </a:lnTo>
                  <a:lnTo>
                    <a:pt x="1045" y="246"/>
                  </a:lnTo>
                  <a:lnTo>
                    <a:pt x="1025" y="290"/>
                  </a:lnTo>
                  <a:lnTo>
                    <a:pt x="1006" y="378"/>
                  </a:lnTo>
                  <a:lnTo>
                    <a:pt x="986" y="512"/>
                  </a:lnTo>
                  <a:lnTo>
                    <a:pt x="986" y="512"/>
                  </a:lnTo>
                  <a:lnTo>
                    <a:pt x="981" y="556"/>
                  </a:lnTo>
                  <a:lnTo>
                    <a:pt x="977" y="595"/>
                  </a:lnTo>
                  <a:lnTo>
                    <a:pt x="974" y="627"/>
                  </a:lnTo>
                  <a:lnTo>
                    <a:pt x="974" y="627"/>
                  </a:lnTo>
                  <a:lnTo>
                    <a:pt x="966" y="710"/>
                  </a:lnTo>
                  <a:lnTo>
                    <a:pt x="936" y="919"/>
                  </a:lnTo>
                  <a:lnTo>
                    <a:pt x="928" y="1098"/>
                  </a:lnTo>
                  <a:lnTo>
                    <a:pt x="871" y="1486"/>
                  </a:lnTo>
                  <a:lnTo>
                    <a:pt x="831" y="2046"/>
                  </a:lnTo>
                  <a:lnTo>
                    <a:pt x="831" y="2046"/>
                  </a:lnTo>
                  <a:lnTo>
                    <a:pt x="828" y="2200"/>
                  </a:lnTo>
                  <a:lnTo>
                    <a:pt x="845" y="2336"/>
                  </a:lnTo>
                  <a:lnTo>
                    <a:pt x="886" y="2451"/>
                  </a:lnTo>
                  <a:lnTo>
                    <a:pt x="886" y="2451"/>
                  </a:lnTo>
                  <a:lnTo>
                    <a:pt x="937" y="2523"/>
                  </a:lnTo>
                  <a:lnTo>
                    <a:pt x="999" y="2566"/>
                  </a:lnTo>
                  <a:lnTo>
                    <a:pt x="1084" y="2606"/>
                  </a:lnTo>
                  <a:lnTo>
                    <a:pt x="1084" y="2606"/>
                  </a:lnTo>
                  <a:lnTo>
                    <a:pt x="1205" y="2644"/>
                  </a:lnTo>
                  <a:lnTo>
                    <a:pt x="1342" y="2667"/>
                  </a:lnTo>
                  <a:lnTo>
                    <a:pt x="1472" y="2672"/>
                  </a:lnTo>
                  <a:lnTo>
                    <a:pt x="1472" y="2672"/>
                  </a:lnTo>
                  <a:lnTo>
                    <a:pt x="1592" y="2665"/>
                  </a:lnTo>
                  <a:lnTo>
                    <a:pt x="1678" y="2654"/>
                  </a:lnTo>
                  <a:lnTo>
                    <a:pt x="1791" y="2633"/>
                  </a:lnTo>
                  <a:lnTo>
                    <a:pt x="1791" y="2633"/>
                  </a:lnTo>
                  <a:lnTo>
                    <a:pt x="1862" y="2617"/>
                  </a:lnTo>
                  <a:lnTo>
                    <a:pt x="1926" y="2597"/>
                  </a:lnTo>
                  <a:lnTo>
                    <a:pt x="1979" y="2573"/>
                  </a:lnTo>
                  <a:lnTo>
                    <a:pt x="1979" y="2573"/>
                  </a:lnTo>
                  <a:lnTo>
                    <a:pt x="2041" y="2531"/>
                  </a:lnTo>
                  <a:lnTo>
                    <a:pt x="2079" y="2486"/>
                  </a:lnTo>
                  <a:lnTo>
                    <a:pt x="2110" y="2444"/>
                  </a:lnTo>
                  <a:lnTo>
                    <a:pt x="2110" y="2444"/>
                  </a:lnTo>
                  <a:lnTo>
                    <a:pt x="2162" y="2364"/>
                  </a:lnTo>
                  <a:lnTo>
                    <a:pt x="2197" y="2287"/>
                  </a:lnTo>
                  <a:lnTo>
                    <a:pt x="2226" y="2215"/>
                  </a:lnTo>
                  <a:lnTo>
                    <a:pt x="2226" y="2215"/>
                  </a:lnTo>
                  <a:lnTo>
                    <a:pt x="2264" y="2098"/>
                  </a:lnTo>
                  <a:lnTo>
                    <a:pt x="2297" y="1945"/>
                  </a:lnTo>
                  <a:lnTo>
                    <a:pt x="2324" y="1755"/>
                  </a:lnTo>
                  <a:lnTo>
                    <a:pt x="2324" y="1755"/>
                  </a:lnTo>
                  <a:lnTo>
                    <a:pt x="2349" y="1534"/>
                  </a:lnTo>
                  <a:lnTo>
                    <a:pt x="2370" y="1300"/>
                  </a:lnTo>
                  <a:lnTo>
                    <a:pt x="2389" y="1056"/>
                  </a:lnTo>
                  <a:lnTo>
                    <a:pt x="2403" y="802"/>
                  </a:lnTo>
                  <a:lnTo>
                    <a:pt x="2417" y="537"/>
                  </a:lnTo>
                  <a:lnTo>
                    <a:pt x="2417" y="537"/>
                  </a:lnTo>
                  <a:lnTo>
                    <a:pt x="2423" y="419"/>
                  </a:lnTo>
                  <a:lnTo>
                    <a:pt x="2423" y="419"/>
                  </a:lnTo>
                  <a:lnTo>
                    <a:pt x="2423" y="341"/>
                  </a:lnTo>
                  <a:lnTo>
                    <a:pt x="2416" y="281"/>
                  </a:lnTo>
                  <a:lnTo>
                    <a:pt x="2396" y="242"/>
                  </a:lnTo>
                  <a:lnTo>
                    <a:pt x="2396" y="242"/>
                  </a:lnTo>
                  <a:lnTo>
                    <a:pt x="2352" y="203"/>
                  </a:lnTo>
                  <a:lnTo>
                    <a:pt x="2302" y="179"/>
                  </a:lnTo>
                  <a:lnTo>
                    <a:pt x="2246" y="173"/>
                  </a:lnTo>
                  <a:lnTo>
                    <a:pt x="2246" y="173"/>
                  </a:lnTo>
                  <a:lnTo>
                    <a:pt x="2038" y="177"/>
                  </a:lnTo>
                  <a:lnTo>
                    <a:pt x="2011" y="170"/>
                  </a:lnTo>
                  <a:lnTo>
                    <a:pt x="2036" y="0"/>
                  </a:lnTo>
                  <a:lnTo>
                    <a:pt x="3215" y="2"/>
                  </a:lnTo>
                  <a:lnTo>
                    <a:pt x="3204" y="166"/>
                  </a:lnTo>
                  <a:lnTo>
                    <a:pt x="3204" y="166"/>
                  </a:lnTo>
                  <a:lnTo>
                    <a:pt x="3146" y="178"/>
                  </a:lnTo>
                  <a:lnTo>
                    <a:pt x="3084" y="188"/>
                  </a:lnTo>
                  <a:lnTo>
                    <a:pt x="3023" y="195"/>
                  </a:lnTo>
                  <a:lnTo>
                    <a:pt x="3023" y="195"/>
                  </a:lnTo>
                  <a:lnTo>
                    <a:pt x="2937" y="206"/>
                  </a:lnTo>
                  <a:lnTo>
                    <a:pt x="2883" y="218"/>
                  </a:lnTo>
                  <a:lnTo>
                    <a:pt x="2857" y="228"/>
                  </a:lnTo>
                  <a:lnTo>
                    <a:pt x="2857" y="228"/>
                  </a:lnTo>
                  <a:lnTo>
                    <a:pt x="2837" y="249"/>
                  </a:lnTo>
                  <a:lnTo>
                    <a:pt x="2824" y="277"/>
                  </a:lnTo>
                  <a:lnTo>
                    <a:pt x="2816" y="311"/>
                  </a:lnTo>
                  <a:lnTo>
                    <a:pt x="2816" y="311"/>
                  </a:lnTo>
                  <a:lnTo>
                    <a:pt x="2812" y="342"/>
                  </a:lnTo>
                  <a:lnTo>
                    <a:pt x="2809" y="380"/>
                  </a:lnTo>
                  <a:lnTo>
                    <a:pt x="2808" y="427"/>
                  </a:lnTo>
                  <a:lnTo>
                    <a:pt x="2808" y="427"/>
                  </a:lnTo>
                  <a:lnTo>
                    <a:pt x="2805" y="473"/>
                  </a:lnTo>
                  <a:lnTo>
                    <a:pt x="2800" y="539"/>
                  </a:lnTo>
                  <a:lnTo>
                    <a:pt x="2790" y="622"/>
                  </a:lnTo>
                  <a:lnTo>
                    <a:pt x="2790" y="622"/>
                  </a:lnTo>
                  <a:lnTo>
                    <a:pt x="2784" y="670"/>
                  </a:lnTo>
                  <a:lnTo>
                    <a:pt x="2780" y="711"/>
                  </a:lnTo>
                  <a:lnTo>
                    <a:pt x="2777" y="745"/>
                  </a:lnTo>
                  <a:lnTo>
                    <a:pt x="2777" y="745"/>
                  </a:lnTo>
                  <a:lnTo>
                    <a:pt x="2774" y="775"/>
                  </a:lnTo>
                  <a:lnTo>
                    <a:pt x="2770" y="805"/>
                  </a:lnTo>
                  <a:lnTo>
                    <a:pt x="2768" y="837"/>
                  </a:lnTo>
                  <a:lnTo>
                    <a:pt x="2768" y="837"/>
                  </a:lnTo>
                  <a:lnTo>
                    <a:pt x="2759" y="944"/>
                  </a:lnTo>
                  <a:lnTo>
                    <a:pt x="2750" y="1052"/>
                  </a:lnTo>
                  <a:lnTo>
                    <a:pt x="2739" y="1164"/>
                  </a:lnTo>
                  <a:lnTo>
                    <a:pt x="2739" y="1164"/>
                  </a:lnTo>
                  <a:lnTo>
                    <a:pt x="2706" y="1617"/>
                  </a:lnTo>
                  <a:lnTo>
                    <a:pt x="2706" y="1617"/>
                  </a:lnTo>
                  <a:lnTo>
                    <a:pt x="2689" y="1891"/>
                  </a:lnTo>
                  <a:lnTo>
                    <a:pt x="2675" y="2100"/>
                  </a:lnTo>
                  <a:lnTo>
                    <a:pt x="2652" y="2240"/>
                  </a:lnTo>
                  <a:lnTo>
                    <a:pt x="2652" y="2240"/>
                  </a:lnTo>
                  <a:lnTo>
                    <a:pt x="2617" y="2336"/>
                  </a:lnTo>
                  <a:lnTo>
                    <a:pt x="2580" y="2417"/>
                  </a:lnTo>
                  <a:lnTo>
                    <a:pt x="2538" y="2484"/>
                  </a:lnTo>
                  <a:lnTo>
                    <a:pt x="2538" y="2484"/>
                  </a:lnTo>
                  <a:lnTo>
                    <a:pt x="2470" y="2579"/>
                  </a:lnTo>
                  <a:lnTo>
                    <a:pt x="2389" y="2677"/>
                  </a:lnTo>
                  <a:lnTo>
                    <a:pt x="2291" y="2762"/>
                  </a:lnTo>
                  <a:lnTo>
                    <a:pt x="2291" y="2762"/>
                  </a:lnTo>
                  <a:lnTo>
                    <a:pt x="2182" y="2836"/>
                  </a:lnTo>
                  <a:lnTo>
                    <a:pt x="2059" y="2902"/>
                  </a:lnTo>
                  <a:lnTo>
                    <a:pt x="1902" y="2957"/>
                  </a:lnTo>
                  <a:lnTo>
                    <a:pt x="1902" y="2957"/>
                  </a:lnTo>
                  <a:lnTo>
                    <a:pt x="1663" y="3002"/>
                  </a:lnTo>
                  <a:lnTo>
                    <a:pt x="1455" y="3020"/>
                  </a:lnTo>
                  <a:lnTo>
                    <a:pt x="1277" y="3020"/>
                  </a:lnTo>
                  <a:lnTo>
                    <a:pt x="1277" y="3020"/>
                  </a:lnTo>
                  <a:lnTo>
                    <a:pt x="1053" y="2992"/>
                  </a:lnTo>
                  <a:lnTo>
                    <a:pt x="846" y="2936"/>
                  </a:lnTo>
                  <a:lnTo>
                    <a:pt x="669" y="2871"/>
                  </a:lnTo>
                  <a:lnTo>
                    <a:pt x="669" y="2871"/>
                  </a:lnTo>
                  <a:lnTo>
                    <a:pt x="529" y="2802"/>
                  </a:lnTo>
                  <a:lnTo>
                    <a:pt x="416" y="2721"/>
                  </a:lnTo>
                  <a:lnTo>
                    <a:pt x="332" y="2626"/>
                  </a:lnTo>
                  <a:lnTo>
                    <a:pt x="332" y="2626"/>
                  </a:lnTo>
                  <a:lnTo>
                    <a:pt x="270" y="2516"/>
                  </a:lnTo>
                  <a:lnTo>
                    <a:pt x="230" y="2386"/>
                  </a:lnTo>
                  <a:lnTo>
                    <a:pt x="210" y="2235"/>
                  </a:lnTo>
                  <a:lnTo>
                    <a:pt x="210" y="2235"/>
                  </a:lnTo>
                  <a:lnTo>
                    <a:pt x="206" y="2108"/>
                  </a:lnTo>
                  <a:lnTo>
                    <a:pt x="215" y="1949"/>
                  </a:lnTo>
                  <a:lnTo>
                    <a:pt x="235" y="1761"/>
                  </a:lnTo>
                  <a:lnTo>
                    <a:pt x="235" y="1761"/>
                  </a:lnTo>
                  <a:lnTo>
                    <a:pt x="368" y="693"/>
                  </a:lnTo>
                  <a:lnTo>
                    <a:pt x="368" y="693"/>
                  </a:lnTo>
                  <a:lnTo>
                    <a:pt x="390" y="477"/>
                  </a:lnTo>
                  <a:lnTo>
                    <a:pt x="395" y="336"/>
                  </a:lnTo>
                  <a:lnTo>
                    <a:pt x="385" y="266"/>
                  </a:lnTo>
                  <a:lnTo>
                    <a:pt x="385" y="266"/>
                  </a:lnTo>
                  <a:lnTo>
                    <a:pt x="335" y="227"/>
                  </a:lnTo>
                  <a:lnTo>
                    <a:pt x="237" y="200"/>
                  </a:lnTo>
                  <a:lnTo>
                    <a:pt x="92" y="188"/>
                  </a:lnTo>
                  <a:lnTo>
                    <a:pt x="92" y="188"/>
                  </a:lnTo>
                  <a:lnTo>
                    <a:pt x="57" y="187"/>
                  </a:lnTo>
                  <a:lnTo>
                    <a:pt x="27" y="186"/>
                  </a:lnTo>
                  <a:lnTo>
                    <a:pt x="0" y="182"/>
                  </a:lnTo>
                  <a:lnTo>
                    <a:pt x="0" y="182"/>
                  </a:lnTo>
                  <a:close/>
                </a:path>
              </a:pathLst>
            </a:custGeom>
            <a:gradFill rotWithShape="0">
              <a:gsLst>
                <a:gs pos="0">
                  <a:srgbClr val="fff200"/>
                </a:gs>
                <a:gs pos="100000">
                  <a:srgbClr val="4d0808"/>
                </a:gs>
              </a:gsLst>
              <a:lin ang="8100000"/>
            </a:gra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696920" y="5211720"/>
              <a:ext cx="1248480" cy="1173960"/>
            </a:xfrm>
            <a:custGeom>
              <a:avLst/>
              <a:gdLst/>
              <a:ahLst/>
              <a:rect l="l" t="t" r="r" b="b"/>
              <a:pathLst>
                <a:path w="4240" h="3993">
                  <a:moveTo>
                    <a:pt x="4240" y="2390"/>
                  </a:moveTo>
                  <a:lnTo>
                    <a:pt x="3689" y="3163"/>
                  </a:lnTo>
                  <a:lnTo>
                    <a:pt x="3016" y="3173"/>
                  </a:lnTo>
                  <a:lnTo>
                    <a:pt x="2940" y="3428"/>
                  </a:lnTo>
                  <a:lnTo>
                    <a:pt x="2940" y="3428"/>
                  </a:lnTo>
                  <a:lnTo>
                    <a:pt x="2894" y="3678"/>
                  </a:lnTo>
                  <a:lnTo>
                    <a:pt x="2932" y="3859"/>
                  </a:lnTo>
                  <a:lnTo>
                    <a:pt x="3049" y="3969"/>
                  </a:lnTo>
                  <a:lnTo>
                    <a:pt x="3049" y="3969"/>
                  </a:lnTo>
                  <a:lnTo>
                    <a:pt x="2938" y="3993"/>
                  </a:lnTo>
                  <a:lnTo>
                    <a:pt x="1740" y="3993"/>
                  </a:lnTo>
                  <a:lnTo>
                    <a:pt x="1762" y="3969"/>
                  </a:lnTo>
                  <a:lnTo>
                    <a:pt x="1762" y="3969"/>
                  </a:lnTo>
                  <a:lnTo>
                    <a:pt x="1874" y="3926"/>
                  </a:lnTo>
                  <a:lnTo>
                    <a:pt x="1965" y="3876"/>
                  </a:lnTo>
                  <a:lnTo>
                    <a:pt x="2037" y="3820"/>
                  </a:lnTo>
                  <a:lnTo>
                    <a:pt x="2037" y="3820"/>
                  </a:lnTo>
                  <a:lnTo>
                    <a:pt x="2096" y="3749"/>
                  </a:lnTo>
                  <a:lnTo>
                    <a:pt x="2145" y="3659"/>
                  </a:lnTo>
                  <a:lnTo>
                    <a:pt x="2185" y="3549"/>
                  </a:lnTo>
                  <a:lnTo>
                    <a:pt x="2185" y="3549"/>
                  </a:lnTo>
                  <a:lnTo>
                    <a:pt x="2298" y="3173"/>
                  </a:lnTo>
                  <a:lnTo>
                    <a:pt x="0" y="3173"/>
                  </a:lnTo>
                  <a:lnTo>
                    <a:pt x="2897" y="0"/>
                  </a:lnTo>
                  <a:lnTo>
                    <a:pt x="4025" y="0"/>
                  </a:lnTo>
                  <a:lnTo>
                    <a:pt x="3208" y="2645"/>
                  </a:lnTo>
                  <a:lnTo>
                    <a:pt x="3208" y="2645"/>
                  </a:lnTo>
                  <a:lnTo>
                    <a:pt x="3368" y="2638"/>
                  </a:lnTo>
                  <a:lnTo>
                    <a:pt x="3566" y="2621"/>
                  </a:lnTo>
                  <a:lnTo>
                    <a:pt x="3720" y="2600"/>
                  </a:lnTo>
                  <a:lnTo>
                    <a:pt x="3720" y="2600"/>
                  </a:lnTo>
                  <a:lnTo>
                    <a:pt x="3899" y="2551"/>
                  </a:lnTo>
                  <a:lnTo>
                    <a:pt x="4071" y="2481"/>
                  </a:lnTo>
                  <a:lnTo>
                    <a:pt x="4240" y="2390"/>
                  </a:lnTo>
                  <a:lnTo>
                    <a:pt x="4240" y="2390"/>
                  </a:lnTo>
                  <a:close/>
                  <a:moveTo>
                    <a:pt x="2487" y="2654"/>
                  </a:moveTo>
                  <a:lnTo>
                    <a:pt x="3157" y="431"/>
                  </a:lnTo>
                  <a:lnTo>
                    <a:pt x="1188" y="2647"/>
                  </a:lnTo>
                  <a:lnTo>
                    <a:pt x="1188" y="2647"/>
                  </a:lnTo>
                  <a:lnTo>
                    <a:pt x="1365" y="2648"/>
                  </a:lnTo>
                  <a:lnTo>
                    <a:pt x="1542" y="2649"/>
                  </a:lnTo>
                  <a:lnTo>
                    <a:pt x="1718" y="2650"/>
                  </a:lnTo>
                  <a:lnTo>
                    <a:pt x="1718" y="2650"/>
                  </a:lnTo>
                  <a:lnTo>
                    <a:pt x="1888" y="2650"/>
                  </a:lnTo>
                  <a:lnTo>
                    <a:pt x="2039" y="2651"/>
                  </a:lnTo>
                  <a:lnTo>
                    <a:pt x="2176" y="2652"/>
                  </a:lnTo>
                  <a:lnTo>
                    <a:pt x="2176" y="2652"/>
                  </a:lnTo>
                  <a:lnTo>
                    <a:pt x="2295" y="2654"/>
                  </a:lnTo>
                  <a:lnTo>
                    <a:pt x="2398" y="2654"/>
                  </a:lnTo>
                  <a:lnTo>
                    <a:pt x="2487" y="2654"/>
                  </a:lnTo>
                  <a:lnTo>
                    <a:pt x="2487" y="2654"/>
                  </a:lnTo>
                  <a:close/>
                </a:path>
              </a:pathLst>
            </a:custGeom>
            <a:gradFill rotWithShape="0">
              <a:gsLst>
                <a:gs pos="0">
                  <a:srgbClr val="fff200"/>
                </a:gs>
                <a:gs pos="100000">
                  <a:srgbClr val="4d0808"/>
                </a:gs>
              </a:gsLst>
              <a:lin ang="8100000"/>
            </a:gra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629080" y="4997520"/>
              <a:ext cx="2690640" cy="770760"/>
            </a:xfrm>
            <a:custGeom>
              <a:avLst/>
              <a:gdLst/>
              <a:ahLst/>
              <a:rect l="l" t="t" r="r" b="b"/>
              <a:pathLst>
                <a:path w="9131" h="2620">
                  <a:moveTo>
                    <a:pt x="2418" y="230"/>
                  </a:moveTo>
                  <a:lnTo>
                    <a:pt x="2429" y="279"/>
                  </a:lnTo>
                  <a:lnTo>
                    <a:pt x="2439" y="353"/>
                  </a:lnTo>
                  <a:lnTo>
                    <a:pt x="2451" y="450"/>
                  </a:lnTo>
                  <a:lnTo>
                    <a:pt x="2451" y="450"/>
                  </a:lnTo>
                  <a:lnTo>
                    <a:pt x="2460" y="550"/>
                  </a:lnTo>
                  <a:lnTo>
                    <a:pt x="2467" y="630"/>
                  </a:lnTo>
                  <a:lnTo>
                    <a:pt x="2469" y="692"/>
                  </a:lnTo>
                  <a:lnTo>
                    <a:pt x="2469" y="692"/>
                  </a:lnTo>
                  <a:lnTo>
                    <a:pt x="2467" y="711"/>
                  </a:lnTo>
                  <a:lnTo>
                    <a:pt x="2463" y="735"/>
                  </a:lnTo>
                  <a:lnTo>
                    <a:pt x="2455" y="762"/>
                  </a:lnTo>
                  <a:lnTo>
                    <a:pt x="2455" y="762"/>
                  </a:lnTo>
                  <a:lnTo>
                    <a:pt x="2401" y="759"/>
                  </a:lnTo>
                  <a:lnTo>
                    <a:pt x="2351" y="754"/>
                  </a:lnTo>
                  <a:lnTo>
                    <a:pt x="2308" y="747"/>
                  </a:lnTo>
                  <a:lnTo>
                    <a:pt x="2308" y="747"/>
                  </a:lnTo>
                  <a:lnTo>
                    <a:pt x="2216" y="615"/>
                  </a:lnTo>
                  <a:lnTo>
                    <a:pt x="2143" y="521"/>
                  </a:lnTo>
                  <a:lnTo>
                    <a:pt x="2092" y="462"/>
                  </a:lnTo>
                  <a:lnTo>
                    <a:pt x="2092" y="462"/>
                  </a:lnTo>
                  <a:lnTo>
                    <a:pt x="2007" y="396"/>
                  </a:lnTo>
                  <a:lnTo>
                    <a:pt x="1908" y="333"/>
                  </a:lnTo>
                  <a:lnTo>
                    <a:pt x="1792" y="280"/>
                  </a:lnTo>
                  <a:lnTo>
                    <a:pt x="1792" y="280"/>
                  </a:lnTo>
                  <a:lnTo>
                    <a:pt x="1698" y="249"/>
                  </a:lnTo>
                  <a:lnTo>
                    <a:pt x="1595" y="230"/>
                  </a:lnTo>
                  <a:lnTo>
                    <a:pt x="1482" y="225"/>
                  </a:lnTo>
                  <a:lnTo>
                    <a:pt x="1482" y="225"/>
                  </a:lnTo>
                  <a:lnTo>
                    <a:pt x="1267" y="256"/>
                  </a:lnTo>
                  <a:lnTo>
                    <a:pt x="1069" y="353"/>
                  </a:lnTo>
                  <a:lnTo>
                    <a:pt x="889" y="512"/>
                  </a:lnTo>
                  <a:lnTo>
                    <a:pt x="889" y="512"/>
                  </a:lnTo>
                  <a:lnTo>
                    <a:pt x="777" y="675"/>
                  </a:lnTo>
                  <a:lnTo>
                    <a:pt x="697" y="873"/>
                  </a:lnTo>
                  <a:lnTo>
                    <a:pt x="650" y="1105"/>
                  </a:lnTo>
                  <a:lnTo>
                    <a:pt x="633" y="1373"/>
                  </a:lnTo>
                  <a:lnTo>
                    <a:pt x="633" y="1373"/>
                  </a:lnTo>
                  <a:lnTo>
                    <a:pt x="645" y="1550"/>
                  </a:lnTo>
                  <a:lnTo>
                    <a:pt x="678" y="1724"/>
                  </a:lnTo>
                  <a:lnTo>
                    <a:pt x="733" y="1894"/>
                  </a:lnTo>
                  <a:lnTo>
                    <a:pt x="733" y="1894"/>
                  </a:lnTo>
                  <a:lnTo>
                    <a:pt x="811" y="2050"/>
                  </a:lnTo>
                  <a:lnTo>
                    <a:pt x="911" y="2182"/>
                  </a:lnTo>
                  <a:lnTo>
                    <a:pt x="1033" y="2290"/>
                  </a:lnTo>
                  <a:lnTo>
                    <a:pt x="1033" y="2290"/>
                  </a:lnTo>
                  <a:lnTo>
                    <a:pt x="1173" y="2370"/>
                  </a:lnTo>
                  <a:lnTo>
                    <a:pt x="1330" y="2417"/>
                  </a:lnTo>
                  <a:lnTo>
                    <a:pt x="1502" y="2432"/>
                  </a:lnTo>
                  <a:lnTo>
                    <a:pt x="1502" y="2432"/>
                  </a:lnTo>
                  <a:lnTo>
                    <a:pt x="1592" y="2429"/>
                  </a:lnTo>
                  <a:lnTo>
                    <a:pt x="1684" y="2419"/>
                  </a:lnTo>
                  <a:lnTo>
                    <a:pt x="1779" y="2400"/>
                  </a:lnTo>
                  <a:lnTo>
                    <a:pt x="1779" y="2400"/>
                  </a:lnTo>
                  <a:lnTo>
                    <a:pt x="1826" y="2387"/>
                  </a:lnTo>
                  <a:lnTo>
                    <a:pt x="1867" y="2366"/>
                  </a:lnTo>
                  <a:lnTo>
                    <a:pt x="1900" y="2339"/>
                  </a:lnTo>
                  <a:lnTo>
                    <a:pt x="1900" y="2339"/>
                  </a:lnTo>
                  <a:lnTo>
                    <a:pt x="1920" y="2315"/>
                  </a:lnTo>
                  <a:lnTo>
                    <a:pt x="1934" y="2283"/>
                  </a:lnTo>
                  <a:lnTo>
                    <a:pt x="1943" y="2246"/>
                  </a:lnTo>
                  <a:lnTo>
                    <a:pt x="1943" y="2246"/>
                  </a:lnTo>
                  <a:lnTo>
                    <a:pt x="1952" y="2162"/>
                  </a:lnTo>
                  <a:lnTo>
                    <a:pt x="1958" y="2055"/>
                  </a:lnTo>
                  <a:lnTo>
                    <a:pt x="1959" y="1929"/>
                  </a:lnTo>
                  <a:lnTo>
                    <a:pt x="1959" y="1929"/>
                  </a:lnTo>
                  <a:lnTo>
                    <a:pt x="1959" y="1808"/>
                  </a:lnTo>
                  <a:lnTo>
                    <a:pt x="1957" y="1717"/>
                  </a:lnTo>
                  <a:lnTo>
                    <a:pt x="1953" y="1653"/>
                  </a:lnTo>
                  <a:lnTo>
                    <a:pt x="1953" y="1653"/>
                  </a:lnTo>
                  <a:lnTo>
                    <a:pt x="1944" y="1635"/>
                  </a:lnTo>
                  <a:lnTo>
                    <a:pt x="1935" y="1623"/>
                  </a:lnTo>
                  <a:lnTo>
                    <a:pt x="1926" y="1616"/>
                  </a:lnTo>
                  <a:lnTo>
                    <a:pt x="1926" y="1616"/>
                  </a:lnTo>
                  <a:lnTo>
                    <a:pt x="1912" y="1608"/>
                  </a:lnTo>
                  <a:lnTo>
                    <a:pt x="1884" y="1599"/>
                  </a:lnTo>
                  <a:lnTo>
                    <a:pt x="1845" y="1588"/>
                  </a:lnTo>
                  <a:lnTo>
                    <a:pt x="1845" y="1588"/>
                  </a:lnTo>
                  <a:lnTo>
                    <a:pt x="1665" y="1542"/>
                  </a:lnTo>
                  <a:lnTo>
                    <a:pt x="1665" y="1542"/>
                  </a:lnTo>
                  <a:lnTo>
                    <a:pt x="1631" y="1531"/>
                  </a:lnTo>
                  <a:lnTo>
                    <a:pt x="1607" y="1521"/>
                  </a:lnTo>
                  <a:lnTo>
                    <a:pt x="1593" y="1508"/>
                  </a:lnTo>
                  <a:lnTo>
                    <a:pt x="1593" y="1508"/>
                  </a:lnTo>
                  <a:lnTo>
                    <a:pt x="1591" y="1493"/>
                  </a:lnTo>
                  <a:lnTo>
                    <a:pt x="1588" y="1480"/>
                  </a:lnTo>
                  <a:lnTo>
                    <a:pt x="1588" y="1471"/>
                  </a:lnTo>
                  <a:lnTo>
                    <a:pt x="1588" y="1471"/>
                  </a:lnTo>
                  <a:lnTo>
                    <a:pt x="1591" y="1451"/>
                  </a:lnTo>
                  <a:lnTo>
                    <a:pt x="1596" y="1426"/>
                  </a:lnTo>
                  <a:lnTo>
                    <a:pt x="1603" y="1396"/>
                  </a:lnTo>
                  <a:lnTo>
                    <a:pt x="1603" y="1396"/>
                  </a:lnTo>
                  <a:lnTo>
                    <a:pt x="1625" y="1390"/>
                  </a:lnTo>
                  <a:lnTo>
                    <a:pt x="1642" y="1385"/>
                  </a:lnTo>
                  <a:lnTo>
                    <a:pt x="1653" y="1384"/>
                  </a:lnTo>
                  <a:lnTo>
                    <a:pt x="1653" y="1384"/>
                  </a:lnTo>
                  <a:lnTo>
                    <a:pt x="1793" y="1386"/>
                  </a:lnTo>
                  <a:lnTo>
                    <a:pt x="1920" y="1392"/>
                  </a:lnTo>
                  <a:lnTo>
                    <a:pt x="2034" y="1400"/>
                  </a:lnTo>
                  <a:lnTo>
                    <a:pt x="2034" y="1400"/>
                  </a:lnTo>
                  <a:lnTo>
                    <a:pt x="2072" y="1402"/>
                  </a:lnTo>
                  <a:lnTo>
                    <a:pt x="2113" y="1404"/>
                  </a:lnTo>
                  <a:lnTo>
                    <a:pt x="2157" y="1404"/>
                  </a:lnTo>
                  <a:lnTo>
                    <a:pt x="2157" y="1404"/>
                  </a:lnTo>
                  <a:lnTo>
                    <a:pt x="2475" y="1400"/>
                  </a:lnTo>
                  <a:lnTo>
                    <a:pt x="2609" y="1396"/>
                  </a:lnTo>
                  <a:lnTo>
                    <a:pt x="2609" y="1396"/>
                  </a:lnTo>
                  <a:lnTo>
                    <a:pt x="2635" y="1396"/>
                  </a:lnTo>
                  <a:lnTo>
                    <a:pt x="2680" y="1397"/>
                  </a:lnTo>
                  <a:lnTo>
                    <a:pt x="2745" y="1400"/>
                  </a:lnTo>
                  <a:lnTo>
                    <a:pt x="2745" y="1400"/>
                  </a:lnTo>
                  <a:lnTo>
                    <a:pt x="2747" y="1432"/>
                  </a:lnTo>
                  <a:lnTo>
                    <a:pt x="2747" y="1460"/>
                  </a:lnTo>
                  <a:lnTo>
                    <a:pt x="2747" y="1485"/>
                  </a:lnTo>
                  <a:lnTo>
                    <a:pt x="2747" y="1485"/>
                  </a:lnTo>
                  <a:lnTo>
                    <a:pt x="2746" y="1500"/>
                  </a:lnTo>
                  <a:lnTo>
                    <a:pt x="2741" y="1517"/>
                  </a:lnTo>
                  <a:lnTo>
                    <a:pt x="2733" y="1533"/>
                  </a:lnTo>
                  <a:lnTo>
                    <a:pt x="2733" y="1533"/>
                  </a:lnTo>
                  <a:lnTo>
                    <a:pt x="2705" y="1547"/>
                  </a:lnTo>
                  <a:lnTo>
                    <a:pt x="2666" y="1563"/>
                  </a:lnTo>
                  <a:lnTo>
                    <a:pt x="2616" y="1581"/>
                  </a:lnTo>
                  <a:lnTo>
                    <a:pt x="2616" y="1581"/>
                  </a:lnTo>
                  <a:lnTo>
                    <a:pt x="2569" y="1599"/>
                  </a:lnTo>
                  <a:lnTo>
                    <a:pt x="2538" y="1611"/>
                  </a:lnTo>
                  <a:lnTo>
                    <a:pt x="2523" y="1620"/>
                  </a:lnTo>
                  <a:lnTo>
                    <a:pt x="2523" y="1620"/>
                  </a:lnTo>
                  <a:lnTo>
                    <a:pt x="2513" y="1632"/>
                  </a:lnTo>
                  <a:lnTo>
                    <a:pt x="2506" y="1648"/>
                  </a:lnTo>
                  <a:lnTo>
                    <a:pt x="2501" y="1668"/>
                  </a:lnTo>
                  <a:lnTo>
                    <a:pt x="2501" y="1668"/>
                  </a:lnTo>
                  <a:lnTo>
                    <a:pt x="2498" y="1708"/>
                  </a:lnTo>
                  <a:lnTo>
                    <a:pt x="2496" y="1784"/>
                  </a:lnTo>
                  <a:lnTo>
                    <a:pt x="2495" y="1898"/>
                  </a:lnTo>
                  <a:lnTo>
                    <a:pt x="2495" y="1898"/>
                  </a:lnTo>
                  <a:lnTo>
                    <a:pt x="2495" y="2029"/>
                  </a:lnTo>
                  <a:lnTo>
                    <a:pt x="2494" y="2120"/>
                  </a:lnTo>
                  <a:lnTo>
                    <a:pt x="2492" y="2170"/>
                  </a:lnTo>
                  <a:lnTo>
                    <a:pt x="2492" y="2170"/>
                  </a:lnTo>
                  <a:lnTo>
                    <a:pt x="2488" y="2250"/>
                  </a:lnTo>
                  <a:lnTo>
                    <a:pt x="2486" y="2304"/>
                  </a:lnTo>
                  <a:lnTo>
                    <a:pt x="2485" y="2331"/>
                  </a:lnTo>
                  <a:lnTo>
                    <a:pt x="2485" y="2331"/>
                  </a:lnTo>
                  <a:lnTo>
                    <a:pt x="2483" y="2373"/>
                  </a:lnTo>
                  <a:lnTo>
                    <a:pt x="2476" y="2402"/>
                  </a:lnTo>
                  <a:lnTo>
                    <a:pt x="2464" y="2420"/>
                  </a:lnTo>
                  <a:lnTo>
                    <a:pt x="2464" y="2420"/>
                  </a:lnTo>
                  <a:lnTo>
                    <a:pt x="2401" y="2457"/>
                  </a:lnTo>
                  <a:lnTo>
                    <a:pt x="2284" y="2498"/>
                  </a:lnTo>
                  <a:lnTo>
                    <a:pt x="2115" y="2542"/>
                  </a:lnTo>
                  <a:lnTo>
                    <a:pt x="2115" y="2542"/>
                  </a:lnTo>
                  <a:lnTo>
                    <a:pt x="1909" y="2580"/>
                  </a:lnTo>
                  <a:lnTo>
                    <a:pt x="1682" y="2603"/>
                  </a:lnTo>
                  <a:lnTo>
                    <a:pt x="1434" y="2612"/>
                  </a:lnTo>
                  <a:lnTo>
                    <a:pt x="1434" y="2612"/>
                  </a:lnTo>
                  <a:lnTo>
                    <a:pt x="1260" y="2606"/>
                  </a:lnTo>
                  <a:lnTo>
                    <a:pt x="1103" y="2592"/>
                  </a:lnTo>
                  <a:lnTo>
                    <a:pt x="961" y="2570"/>
                  </a:lnTo>
                  <a:lnTo>
                    <a:pt x="961" y="2570"/>
                  </a:lnTo>
                  <a:lnTo>
                    <a:pt x="834" y="2537"/>
                  </a:lnTo>
                  <a:lnTo>
                    <a:pt x="721" y="2496"/>
                  </a:lnTo>
                  <a:lnTo>
                    <a:pt x="620" y="2447"/>
                  </a:lnTo>
                  <a:lnTo>
                    <a:pt x="620" y="2447"/>
                  </a:lnTo>
                  <a:lnTo>
                    <a:pt x="500" y="2370"/>
                  </a:lnTo>
                  <a:lnTo>
                    <a:pt x="391" y="2282"/>
                  </a:lnTo>
                  <a:lnTo>
                    <a:pt x="295" y="2184"/>
                  </a:lnTo>
                  <a:lnTo>
                    <a:pt x="295" y="2184"/>
                  </a:lnTo>
                  <a:lnTo>
                    <a:pt x="213" y="2079"/>
                  </a:lnTo>
                  <a:lnTo>
                    <a:pt x="145" y="1968"/>
                  </a:lnTo>
                  <a:lnTo>
                    <a:pt x="94" y="1851"/>
                  </a:lnTo>
                  <a:lnTo>
                    <a:pt x="94" y="1851"/>
                  </a:lnTo>
                  <a:lnTo>
                    <a:pt x="42" y="1682"/>
                  </a:lnTo>
                  <a:lnTo>
                    <a:pt x="12" y="1513"/>
                  </a:lnTo>
                  <a:lnTo>
                    <a:pt x="0" y="1345"/>
                  </a:lnTo>
                  <a:lnTo>
                    <a:pt x="0" y="1345"/>
                  </a:lnTo>
                  <a:lnTo>
                    <a:pt x="16" y="1154"/>
                  </a:lnTo>
                  <a:lnTo>
                    <a:pt x="62" y="962"/>
                  </a:lnTo>
                  <a:lnTo>
                    <a:pt x="138" y="770"/>
                  </a:lnTo>
                  <a:lnTo>
                    <a:pt x="138" y="770"/>
                  </a:lnTo>
                  <a:lnTo>
                    <a:pt x="214" y="634"/>
                  </a:lnTo>
                  <a:lnTo>
                    <a:pt x="308" y="508"/>
                  </a:lnTo>
                  <a:lnTo>
                    <a:pt x="421" y="392"/>
                  </a:lnTo>
                  <a:lnTo>
                    <a:pt x="421" y="392"/>
                  </a:lnTo>
                  <a:lnTo>
                    <a:pt x="553" y="286"/>
                  </a:lnTo>
                  <a:lnTo>
                    <a:pt x="705" y="196"/>
                  </a:lnTo>
                  <a:lnTo>
                    <a:pt x="877" y="122"/>
                  </a:lnTo>
                  <a:lnTo>
                    <a:pt x="877" y="122"/>
                  </a:lnTo>
                  <a:lnTo>
                    <a:pt x="1066" y="67"/>
                  </a:lnTo>
                  <a:lnTo>
                    <a:pt x="1264" y="33"/>
                  </a:lnTo>
                  <a:lnTo>
                    <a:pt x="1474" y="22"/>
                  </a:lnTo>
                  <a:lnTo>
                    <a:pt x="1474" y="22"/>
                  </a:lnTo>
                  <a:lnTo>
                    <a:pt x="1506" y="23"/>
                  </a:lnTo>
                  <a:lnTo>
                    <a:pt x="1550" y="26"/>
                  </a:lnTo>
                  <a:lnTo>
                    <a:pt x="1605" y="31"/>
                  </a:lnTo>
                  <a:lnTo>
                    <a:pt x="1605" y="31"/>
                  </a:lnTo>
                  <a:lnTo>
                    <a:pt x="1765" y="37"/>
                  </a:lnTo>
                  <a:lnTo>
                    <a:pt x="1918" y="58"/>
                  </a:lnTo>
                  <a:lnTo>
                    <a:pt x="2063" y="91"/>
                  </a:lnTo>
                  <a:lnTo>
                    <a:pt x="2063" y="91"/>
                  </a:lnTo>
                  <a:lnTo>
                    <a:pt x="2198" y="132"/>
                  </a:lnTo>
                  <a:lnTo>
                    <a:pt x="2316" y="179"/>
                  </a:lnTo>
                  <a:lnTo>
                    <a:pt x="2418" y="230"/>
                  </a:lnTo>
                  <a:lnTo>
                    <a:pt x="2418" y="230"/>
                  </a:lnTo>
                  <a:close/>
                  <a:moveTo>
                    <a:pt x="4486" y="1159"/>
                  </a:moveTo>
                  <a:lnTo>
                    <a:pt x="4565" y="1243"/>
                  </a:lnTo>
                  <a:lnTo>
                    <a:pt x="4629" y="1334"/>
                  </a:lnTo>
                  <a:lnTo>
                    <a:pt x="4679" y="1433"/>
                  </a:lnTo>
                  <a:lnTo>
                    <a:pt x="4679" y="1433"/>
                  </a:lnTo>
                  <a:lnTo>
                    <a:pt x="4715" y="1535"/>
                  </a:lnTo>
                  <a:lnTo>
                    <a:pt x="4735" y="1632"/>
                  </a:lnTo>
                  <a:lnTo>
                    <a:pt x="4742" y="1726"/>
                  </a:lnTo>
                  <a:lnTo>
                    <a:pt x="4742" y="1726"/>
                  </a:lnTo>
                  <a:lnTo>
                    <a:pt x="4732" y="1888"/>
                  </a:lnTo>
                  <a:lnTo>
                    <a:pt x="4705" y="2026"/>
                  </a:lnTo>
                  <a:lnTo>
                    <a:pt x="4659" y="2142"/>
                  </a:lnTo>
                  <a:lnTo>
                    <a:pt x="4659" y="2142"/>
                  </a:lnTo>
                  <a:lnTo>
                    <a:pt x="4566" y="2288"/>
                  </a:lnTo>
                  <a:lnTo>
                    <a:pt x="4455" y="2405"/>
                  </a:lnTo>
                  <a:lnTo>
                    <a:pt x="4324" y="2495"/>
                  </a:lnTo>
                  <a:lnTo>
                    <a:pt x="4324" y="2495"/>
                  </a:lnTo>
                  <a:lnTo>
                    <a:pt x="4174" y="2557"/>
                  </a:lnTo>
                  <a:lnTo>
                    <a:pt x="4011" y="2596"/>
                  </a:lnTo>
                  <a:lnTo>
                    <a:pt x="3831" y="2608"/>
                  </a:lnTo>
                  <a:lnTo>
                    <a:pt x="3831" y="2608"/>
                  </a:lnTo>
                  <a:lnTo>
                    <a:pt x="3632" y="2594"/>
                  </a:lnTo>
                  <a:lnTo>
                    <a:pt x="3455" y="2549"/>
                  </a:lnTo>
                  <a:lnTo>
                    <a:pt x="3299" y="2474"/>
                  </a:lnTo>
                  <a:lnTo>
                    <a:pt x="3299" y="2474"/>
                  </a:lnTo>
                  <a:lnTo>
                    <a:pt x="3167" y="2379"/>
                  </a:lnTo>
                  <a:lnTo>
                    <a:pt x="3063" y="2278"/>
                  </a:lnTo>
                  <a:lnTo>
                    <a:pt x="2987" y="2167"/>
                  </a:lnTo>
                  <a:lnTo>
                    <a:pt x="2987" y="2167"/>
                  </a:lnTo>
                  <a:lnTo>
                    <a:pt x="2935" y="2044"/>
                  </a:lnTo>
                  <a:lnTo>
                    <a:pt x="2903" y="1901"/>
                  </a:lnTo>
                  <a:lnTo>
                    <a:pt x="2893" y="1742"/>
                  </a:lnTo>
                  <a:lnTo>
                    <a:pt x="2893" y="1742"/>
                  </a:lnTo>
                  <a:lnTo>
                    <a:pt x="2897" y="1655"/>
                  </a:lnTo>
                  <a:lnTo>
                    <a:pt x="2913" y="1569"/>
                  </a:lnTo>
                  <a:lnTo>
                    <a:pt x="2937" y="1482"/>
                  </a:lnTo>
                  <a:lnTo>
                    <a:pt x="2937" y="1482"/>
                  </a:lnTo>
                  <a:lnTo>
                    <a:pt x="2970" y="1399"/>
                  </a:lnTo>
                  <a:lnTo>
                    <a:pt x="3011" y="1324"/>
                  </a:lnTo>
                  <a:lnTo>
                    <a:pt x="3059" y="1255"/>
                  </a:lnTo>
                  <a:lnTo>
                    <a:pt x="3059" y="1255"/>
                  </a:lnTo>
                  <a:lnTo>
                    <a:pt x="3113" y="1195"/>
                  </a:lnTo>
                  <a:lnTo>
                    <a:pt x="3169" y="1141"/>
                  </a:lnTo>
                  <a:lnTo>
                    <a:pt x="3230" y="1094"/>
                  </a:lnTo>
                  <a:lnTo>
                    <a:pt x="3230" y="1094"/>
                  </a:lnTo>
                  <a:lnTo>
                    <a:pt x="3319" y="1037"/>
                  </a:lnTo>
                  <a:lnTo>
                    <a:pt x="3410" y="994"/>
                  </a:lnTo>
                  <a:lnTo>
                    <a:pt x="3501" y="961"/>
                  </a:lnTo>
                  <a:lnTo>
                    <a:pt x="3501" y="961"/>
                  </a:lnTo>
                  <a:lnTo>
                    <a:pt x="3598" y="940"/>
                  </a:lnTo>
                  <a:lnTo>
                    <a:pt x="3707" y="926"/>
                  </a:lnTo>
                  <a:lnTo>
                    <a:pt x="3829" y="922"/>
                  </a:lnTo>
                  <a:lnTo>
                    <a:pt x="3829" y="922"/>
                  </a:lnTo>
                  <a:lnTo>
                    <a:pt x="4090" y="948"/>
                  </a:lnTo>
                  <a:lnTo>
                    <a:pt x="4309" y="1027"/>
                  </a:lnTo>
                  <a:lnTo>
                    <a:pt x="4486" y="1159"/>
                  </a:lnTo>
                  <a:lnTo>
                    <a:pt x="4486" y="1159"/>
                  </a:lnTo>
                  <a:close/>
                  <a:moveTo>
                    <a:pt x="3385" y="1826"/>
                  </a:moveTo>
                  <a:lnTo>
                    <a:pt x="3395" y="1963"/>
                  </a:lnTo>
                  <a:lnTo>
                    <a:pt x="3404" y="2054"/>
                  </a:lnTo>
                  <a:lnTo>
                    <a:pt x="3410" y="2101"/>
                  </a:lnTo>
                  <a:lnTo>
                    <a:pt x="3410" y="2101"/>
                  </a:lnTo>
                  <a:lnTo>
                    <a:pt x="3431" y="2183"/>
                  </a:lnTo>
                  <a:lnTo>
                    <a:pt x="3459" y="2257"/>
                  </a:lnTo>
                  <a:lnTo>
                    <a:pt x="3494" y="2324"/>
                  </a:lnTo>
                  <a:lnTo>
                    <a:pt x="3494" y="2324"/>
                  </a:lnTo>
                  <a:lnTo>
                    <a:pt x="3524" y="2362"/>
                  </a:lnTo>
                  <a:lnTo>
                    <a:pt x="3567" y="2397"/>
                  </a:lnTo>
                  <a:lnTo>
                    <a:pt x="3620" y="2429"/>
                  </a:lnTo>
                  <a:lnTo>
                    <a:pt x="3620" y="2429"/>
                  </a:lnTo>
                  <a:lnTo>
                    <a:pt x="3683" y="2455"/>
                  </a:lnTo>
                  <a:lnTo>
                    <a:pt x="3753" y="2470"/>
                  </a:lnTo>
                  <a:lnTo>
                    <a:pt x="3831" y="2476"/>
                  </a:lnTo>
                  <a:lnTo>
                    <a:pt x="3831" y="2476"/>
                  </a:lnTo>
                  <a:lnTo>
                    <a:pt x="3924" y="2466"/>
                  </a:lnTo>
                  <a:lnTo>
                    <a:pt x="4007" y="2437"/>
                  </a:lnTo>
                  <a:lnTo>
                    <a:pt x="4080" y="2387"/>
                  </a:lnTo>
                  <a:lnTo>
                    <a:pt x="4080" y="2387"/>
                  </a:lnTo>
                  <a:lnTo>
                    <a:pt x="4140" y="2316"/>
                  </a:lnTo>
                  <a:lnTo>
                    <a:pt x="4189" y="2222"/>
                  </a:lnTo>
                  <a:lnTo>
                    <a:pt x="4224" y="2105"/>
                  </a:lnTo>
                  <a:lnTo>
                    <a:pt x="4224" y="2105"/>
                  </a:lnTo>
                  <a:lnTo>
                    <a:pt x="4240" y="2004"/>
                  </a:lnTo>
                  <a:lnTo>
                    <a:pt x="4249" y="1867"/>
                  </a:lnTo>
                  <a:lnTo>
                    <a:pt x="4253" y="1695"/>
                  </a:lnTo>
                  <a:lnTo>
                    <a:pt x="4253" y="1695"/>
                  </a:lnTo>
                  <a:lnTo>
                    <a:pt x="4239" y="1483"/>
                  </a:lnTo>
                  <a:lnTo>
                    <a:pt x="4198" y="1319"/>
                  </a:lnTo>
                  <a:lnTo>
                    <a:pt x="4132" y="1199"/>
                  </a:lnTo>
                  <a:lnTo>
                    <a:pt x="4132" y="1199"/>
                  </a:lnTo>
                  <a:lnTo>
                    <a:pt x="4043" y="1118"/>
                  </a:lnTo>
                  <a:lnTo>
                    <a:pt x="3937" y="1070"/>
                  </a:lnTo>
                  <a:lnTo>
                    <a:pt x="3814" y="1054"/>
                  </a:lnTo>
                  <a:lnTo>
                    <a:pt x="3814" y="1054"/>
                  </a:lnTo>
                  <a:lnTo>
                    <a:pt x="3716" y="1062"/>
                  </a:lnTo>
                  <a:lnTo>
                    <a:pt x="3631" y="1091"/>
                  </a:lnTo>
                  <a:lnTo>
                    <a:pt x="3556" y="1136"/>
                  </a:lnTo>
                  <a:lnTo>
                    <a:pt x="3556" y="1136"/>
                  </a:lnTo>
                  <a:lnTo>
                    <a:pt x="3496" y="1200"/>
                  </a:lnTo>
                  <a:lnTo>
                    <a:pt x="3448" y="1282"/>
                  </a:lnTo>
                  <a:lnTo>
                    <a:pt x="3414" y="1381"/>
                  </a:lnTo>
                  <a:lnTo>
                    <a:pt x="3414" y="1381"/>
                  </a:lnTo>
                  <a:lnTo>
                    <a:pt x="3400" y="1477"/>
                  </a:lnTo>
                  <a:lnTo>
                    <a:pt x="3389" y="1625"/>
                  </a:lnTo>
                  <a:lnTo>
                    <a:pt x="3385" y="1826"/>
                  </a:lnTo>
                  <a:lnTo>
                    <a:pt x="3385" y="1826"/>
                  </a:lnTo>
                  <a:close/>
                  <a:moveTo>
                    <a:pt x="6558" y="1159"/>
                  </a:moveTo>
                  <a:lnTo>
                    <a:pt x="6637" y="1243"/>
                  </a:lnTo>
                  <a:lnTo>
                    <a:pt x="6701" y="1334"/>
                  </a:lnTo>
                  <a:lnTo>
                    <a:pt x="6750" y="1433"/>
                  </a:lnTo>
                  <a:lnTo>
                    <a:pt x="6750" y="1433"/>
                  </a:lnTo>
                  <a:lnTo>
                    <a:pt x="6785" y="1535"/>
                  </a:lnTo>
                  <a:lnTo>
                    <a:pt x="6807" y="1632"/>
                  </a:lnTo>
                  <a:lnTo>
                    <a:pt x="6814" y="1726"/>
                  </a:lnTo>
                  <a:lnTo>
                    <a:pt x="6814" y="1726"/>
                  </a:lnTo>
                  <a:lnTo>
                    <a:pt x="6804" y="1888"/>
                  </a:lnTo>
                  <a:lnTo>
                    <a:pt x="6777" y="2026"/>
                  </a:lnTo>
                  <a:lnTo>
                    <a:pt x="6731" y="2142"/>
                  </a:lnTo>
                  <a:lnTo>
                    <a:pt x="6731" y="2142"/>
                  </a:lnTo>
                  <a:lnTo>
                    <a:pt x="6638" y="2288"/>
                  </a:lnTo>
                  <a:lnTo>
                    <a:pt x="6527" y="2405"/>
                  </a:lnTo>
                  <a:lnTo>
                    <a:pt x="6395" y="2495"/>
                  </a:lnTo>
                  <a:lnTo>
                    <a:pt x="6395" y="2495"/>
                  </a:lnTo>
                  <a:lnTo>
                    <a:pt x="6246" y="2557"/>
                  </a:lnTo>
                  <a:lnTo>
                    <a:pt x="6083" y="2596"/>
                  </a:lnTo>
                  <a:lnTo>
                    <a:pt x="5903" y="2608"/>
                  </a:lnTo>
                  <a:lnTo>
                    <a:pt x="5903" y="2608"/>
                  </a:lnTo>
                  <a:lnTo>
                    <a:pt x="5704" y="2594"/>
                  </a:lnTo>
                  <a:lnTo>
                    <a:pt x="5527" y="2549"/>
                  </a:lnTo>
                  <a:lnTo>
                    <a:pt x="5370" y="2474"/>
                  </a:lnTo>
                  <a:lnTo>
                    <a:pt x="5370" y="2474"/>
                  </a:lnTo>
                  <a:lnTo>
                    <a:pt x="5239" y="2379"/>
                  </a:lnTo>
                  <a:lnTo>
                    <a:pt x="5135" y="2278"/>
                  </a:lnTo>
                  <a:lnTo>
                    <a:pt x="5058" y="2167"/>
                  </a:lnTo>
                  <a:lnTo>
                    <a:pt x="5058" y="2167"/>
                  </a:lnTo>
                  <a:lnTo>
                    <a:pt x="5007" y="2044"/>
                  </a:lnTo>
                  <a:lnTo>
                    <a:pt x="4975" y="1901"/>
                  </a:lnTo>
                  <a:lnTo>
                    <a:pt x="4965" y="1742"/>
                  </a:lnTo>
                  <a:lnTo>
                    <a:pt x="4965" y="1742"/>
                  </a:lnTo>
                  <a:lnTo>
                    <a:pt x="4970" y="1655"/>
                  </a:lnTo>
                  <a:lnTo>
                    <a:pt x="4985" y="1569"/>
                  </a:lnTo>
                  <a:lnTo>
                    <a:pt x="5009" y="1482"/>
                  </a:lnTo>
                  <a:lnTo>
                    <a:pt x="5009" y="1482"/>
                  </a:lnTo>
                  <a:lnTo>
                    <a:pt x="5042" y="1399"/>
                  </a:lnTo>
                  <a:lnTo>
                    <a:pt x="5083" y="1324"/>
                  </a:lnTo>
                  <a:lnTo>
                    <a:pt x="5131" y="1255"/>
                  </a:lnTo>
                  <a:lnTo>
                    <a:pt x="5131" y="1255"/>
                  </a:lnTo>
                  <a:lnTo>
                    <a:pt x="5184" y="1195"/>
                  </a:lnTo>
                  <a:lnTo>
                    <a:pt x="5240" y="1141"/>
                  </a:lnTo>
                  <a:lnTo>
                    <a:pt x="5302" y="1094"/>
                  </a:lnTo>
                  <a:lnTo>
                    <a:pt x="5302" y="1094"/>
                  </a:lnTo>
                  <a:lnTo>
                    <a:pt x="5391" y="1037"/>
                  </a:lnTo>
                  <a:lnTo>
                    <a:pt x="5482" y="994"/>
                  </a:lnTo>
                  <a:lnTo>
                    <a:pt x="5572" y="961"/>
                  </a:lnTo>
                  <a:lnTo>
                    <a:pt x="5572" y="961"/>
                  </a:lnTo>
                  <a:lnTo>
                    <a:pt x="5670" y="940"/>
                  </a:lnTo>
                  <a:lnTo>
                    <a:pt x="5778" y="926"/>
                  </a:lnTo>
                  <a:lnTo>
                    <a:pt x="5901" y="922"/>
                  </a:lnTo>
                  <a:lnTo>
                    <a:pt x="5901" y="922"/>
                  </a:lnTo>
                  <a:lnTo>
                    <a:pt x="6162" y="948"/>
                  </a:lnTo>
                  <a:lnTo>
                    <a:pt x="6381" y="1027"/>
                  </a:lnTo>
                  <a:lnTo>
                    <a:pt x="6558" y="1159"/>
                  </a:lnTo>
                  <a:lnTo>
                    <a:pt x="6558" y="1159"/>
                  </a:lnTo>
                  <a:close/>
                  <a:moveTo>
                    <a:pt x="5457" y="1826"/>
                  </a:moveTo>
                  <a:lnTo>
                    <a:pt x="5467" y="1963"/>
                  </a:lnTo>
                  <a:lnTo>
                    <a:pt x="5476" y="2054"/>
                  </a:lnTo>
                  <a:lnTo>
                    <a:pt x="5482" y="2101"/>
                  </a:lnTo>
                  <a:lnTo>
                    <a:pt x="5482" y="2101"/>
                  </a:lnTo>
                  <a:lnTo>
                    <a:pt x="5503" y="2183"/>
                  </a:lnTo>
                  <a:lnTo>
                    <a:pt x="5531" y="2257"/>
                  </a:lnTo>
                  <a:lnTo>
                    <a:pt x="5565" y="2324"/>
                  </a:lnTo>
                  <a:lnTo>
                    <a:pt x="5565" y="2324"/>
                  </a:lnTo>
                  <a:lnTo>
                    <a:pt x="5596" y="2362"/>
                  </a:lnTo>
                  <a:lnTo>
                    <a:pt x="5638" y="2397"/>
                  </a:lnTo>
                  <a:lnTo>
                    <a:pt x="5692" y="2429"/>
                  </a:lnTo>
                  <a:lnTo>
                    <a:pt x="5692" y="2429"/>
                  </a:lnTo>
                  <a:lnTo>
                    <a:pt x="5754" y="2455"/>
                  </a:lnTo>
                  <a:lnTo>
                    <a:pt x="5825" y="2470"/>
                  </a:lnTo>
                  <a:lnTo>
                    <a:pt x="5903" y="2476"/>
                  </a:lnTo>
                  <a:lnTo>
                    <a:pt x="5903" y="2476"/>
                  </a:lnTo>
                  <a:lnTo>
                    <a:pt x="5996" y="2466"/>
                  </a:lnTo>
                  <a:lnTo>
                    <a:pt x="6078" y="2437"/>
                  </a:lnTo>
                  <a:lnTo>
                    <a:pt x="6150" y="2387"/>
                  </a:lnTo>
                  <a:lnTo>
                    <a:pt x="6150" y="2387"/>
                  </a:lnTo>
                  <a:lnTo>
                    <a:pt x="6212" y="2316"/>
                  </a:lnTo>
                  <a:lnTo>
                    <a:pt x="6260" y="2222"/>
                  </a:lnTo>
                  <a:lnTo>
                    <a:pt x="6295" y="2105"/>
                  </a:lnTo>
                  <a:lnTo>
                    <a:pt x="6295" y="2105"/>
                  </a:lnTo>
                  <a:lnTo>
                    <a:pt x="6312" y="2004"/>
                  </a:lnTo>
                  <a:lnTo>
                    <a:pt x="6321" y="1867"/>
                  </a:lnTo>
                  <a:lnTo>
                    <a:pt x="6325" y="1695"/>
                  </a:lnTo>
                  <a:lnTo>
                    <a:pt x="6325" y="1695"/>
                  </a:lnTo>
                  <a:lnTo>
                    <a:pt x="6311" y="1483"/>
                  </a:lnTo>
                  <a:lnTo>
                    <a:pt x="6270" y="1319"/>
                  </a:lnTo>
                  <a:lnTo>
                    <a:pt x="6204" y="1199"/>
                  </a:lnTo>
                  <a:lnTo>
                    <a:pt x="6204" y="1199"/>
                  </a:lnTo>
                  <a:lnTo>
                    <a:pt x="6114" y="1118"/>
                  </a:lnTo>
                  <a:lnTo>
                    <a:pt x="6009" y="1070"/>
                  </a:lnTo>
                  <a:lnTo>
                    <a:pt x="5886" y="1054"/>
                  </a:lnTo>
                  <a:lnTo>
                    <a:pt x="5886" y="1054"/>
                  </a:lnTo>
                  <a:lnTo>
                    <a:pt x="5788" y="1062"/>
                  </a:lnTo>
                  <a:lnTo>
                    <a:pt x="5702" y="1091"/>
                  </a:lnTo>
                  <a:lnTo>
                    <a:pt x="5628" y="1136"/>
                  </a:lnTo>
                  <a:lnTo>
                    <a:pt x="5628" y="1136"/>
                  </a:lnTo>
                  <a:lnTo>
                    <a:pt x="5568" y="1200"/>
                  </a:lnTo>
                  <a:lnTo>
                    <a:pt x="5520" y="1282"/>
                  </a:lnTo>
                  <a:lnTo>
                    <a:pt x="5486" y="1381"/>
                  </a:lnTo>
                  <a:lnTo>
                    <a:pt x="5486" y="1381"/>
                  </a:lnTo>
                  <a:lnTo>
                    <a:pt x="5472" y="1477"/>
                  </a:lnTo>
                  <a:lnTo>
                    <a:pt x="5461" y="1625"/>
                  </a:lnTo>
                  <a:lnTo>
                    <a:pt x="5457" y="1826"/>
                  </a:lnTo>
                  <a:lnTo>
                    <a:pt x="5457" y="1826"/>
                  </a:lnTo>
                  <a:close/>
                  <a:moveTo>
                    <a:pt x="7417" y="1085"/>
                  </a:moveTo>
                  <a:lnTo>
                    <a:pt x="7482" y="1046"/>
                  </a:lnTo>
                  <a:lnTo>
                    <a:pt x="7546" y="1015"/>
                  </a:lnTo>
                  <a:lnTo>
                    <a:pt x="7607" y="992"/>
                  </a:lnTo>
                  <a:lnTo>
                    <a:pt x="7607" y="992"/>
                  </a:lnTo>
                  <a:lnTo>
                    <a:pt x="7677" y="974"/>
                  </a:lnTo>
                  <a:lnTo>
                    <a:pt x="7763" y="958"/>
                  </a:lnTo>
                  <a:lnTo>
                    <a:pt x="7867" y="947"/>
                  </a:lnTo>
                  <a:lnTo>
                    <a:pt x="7867" y="947"/>
                  </a:lnTo>
                  <a:lnTo>
                    <a:pt x="7979" y="947"/>
                  </a:lnTo>
                  <a:lnTo>
                    <a:pt x="7979" y="947"/>
                  </a:lnTo>
                  <a:lnTo>
                    <a:pt x="8123" y="962"/>
                  </a:lnTo>
                  <a:lnTo>
                    <a:pt x="8264" y="1011"/>
                  </a:lnTo>
                  <a:lnTo>
                    <a:pt x="8401" y="1092"/>
                  </a:lnTo>
                  <a:lnTo>
                    <a:pt x="8401" y="1092"/>
                  </a:lnTo>
                  <a:lnTo>
                    <a:pt x="8405" y="1046"/>
                  </a:lnTo>
                  <a:lnTo>
                    <a:pt x="8402" y="917"/>
                  </a:lnTo>
                  <a:lnTo>
                    <a:pt x="8410" y="709"/>
                  </a:lnTo>
                  <a:lnTo>
                    <a:pt x="8410" y="709"/>
                  </a:lnTo>
                  <a:lnTo>
                    <a:pt x="8405" y="520"/>
                  </a:lnTo>
                  <a:lnTo>
                    <a:pt x="8387" y="382"/>
                  </a:lnTo>
                  <a:lnTo>
                    <a:pt x="8359" y="297"/>
                  </a:lnTo>
                  <a:lnTo>
                    <a:pt x="8359" y="297"/>
                  </a:lnTo>
                  <a:lnTo>
                    <a:pt x="8333" y="268"/>
                  </a:lnTo>
                  <a:lnTo>
                    <a:pt x="8297" y="250"/>
                  </a:lnTo>
                  <a:lnTo>
                    <a:pt x="8253" y="242"/>
                  </a:lnTo>
                  <a:lnTo>
                    <a:pt x="8253" y="242"/>
                  </a:lnTo>
                  <a:lnTo>
                    <a:pt x="8206" y="237"/>
                  </a:lnTo>
                  <a:lnTo>
                    <a:pt x="8164" y="229"/>
                  </a:lnTo>
                  <a:lnTo>
                    <a:pt x="8131" y="217"/>
                  </a:lnTo>
                  <a:lnTo>
                    <a:pt x="8131" y="217"/>
                  </a:lnTo>
                  <a:lnTo>
                    <a:pt x="8131" y="124"/>
                  </a:lnTo>
                  <a:lnTo>
                    <a:pt x="8131" y="124"/>
                  </a:lnTo>
                  <a:lnTo>
                    <a:pt x="8159" y="117"/>
                  </a:lnTo>
                  <a:lnTo>
                    <a:pt x="8192" y="112"/>
                  </a:lnTo>
                  <a:lnTo>
                    <a:pt x="8230" y="111"/>
                  </a:lnTo>
                  <a:lnTo>
                    <a:pt x="8230" y="111"/>
                  </a:lnTo>
                  <a:lnTo>
                    <a:pt x="8282" y="106"/>
                  </a:lnTo>
                  <a:lnTo>
                    <a:pt x="8361" y="93"/>
                  </a:lnTo>
                  <a:lnTo>
                    <a:pt x="8464" y="72"/>
                  </a:lnTo>
                  <a:lnTo>
                    <a:pt x="8464" y="72"/>
                  </a:lnTo>
                  <a:lnTo>
                    <a:pt x="8533" y="58"/>
                  </a:lnTo>
                  <a:lnTo>
                    <a:pt x="8733" y="13"/>
                  </a:lnTo>
                  <a:lnTo>
                    <a:pt x="8733" y="13"/>
                  </a:lnTo>
                  <a:lnTo>
                    <a:pt x="8768" y="6"/>
                  </a:lnTo>
                  <a:lnTo>
                    <a:pt x="8793" y="2"/>
                  </a:lnTo>
                  <a:lnTo>
                    <a:pt x="8807" y="0"/>
                  </a:lnTo>
                  <a:lnTo>
                    <a:pt x="8807" y="0"/>
                  </a:lnTo>
                  <a:lnTo>
                    <a:pt x="8816" y="1"/>
                  </a:lnTo>
                  <a:lnTo>
                    <a:pt x="8826" y="2"/>
                  </a:lnTo>
                  <a:lnTo>
                    <a:pt x="8840" y="4"/>
                  </a:lnTo>
                  <a:lnTo>
                    <a:pt x="8840" y="4"/>
                  </a:lnTo>
                  <a:lnTo>
                    <a:pt x="8847" y="29"/>
                  </a:lnTo>
                  <a:lnTo>
                    <a:pt x="8850" y="49"/>
                  </a:lnTo>
                  <a:lnTo>
                    <a:pt x="8851" y="64"/>
                  </a:lnTo>
                  <a:lnTo>
                    <a:pt x="8851" y="64"/>
                  </a:lnTo>
                  <a:lnTo>
                    <a:pt x="8849" y="94"/>
                  </a:lnTo>
                  <a:lnTo>
                    <a:pt x="8849" y="128"/>
                  </a:lnTo>
                  <a:lnTo>
                    <a:pt x="8849" y="128"/>
                  </a:lnTo>
                  <a:lnTo>
                    <a:pt x="8850" y="183"/>
                  </a:lnTo>
                  <a:lnTo>
                    <a:pt x="8851" y="279"/>
                  </a:lnTo>
                  <a:lnTo>
                    <a:pt x="8855" y="416"/>
                  </a:lnTo>
                  <a:lnTo>
                    <a:pt x="8855" y="416"/>
                  </a:lnTo>
                  <a:lnTo>
                    <a:pt x="8855" y="519"/>
                  </a:lnTo>
                  <a:lnTo>
                    <a:pt x="8857" y="575"/>
                  </a:lnTo>
                  <a:lnTo>
                    <a:pt x="8855" y="671"/>
                  </a:lnTo>
                  <a:lnTo>
                    <a:pt x="8861" y="872"/>
                  </a:lnTo>
                  <a:lnTo>
                    <a:pt x="8857" y="990"/>
                  </a:lnTo>
                  <a:lnTo>
                    <a:pt x="8857" y="990"/>
                  </a:lnTo>
                  <a:lnTo>
                    <a:pt x="8855" y="1050"/>
                  </a:lnTo>
                  <a:lnTo>
                    <a:pt x="8854" y="1132"/>
                  </a:lnTo>
                  <a:lnTo>
                    <a:pt x="8853" y="1232"/>
                  </a:lnTo>
                  <a:lnTo>
                    <a:pt x="8853" y="1232"/>
                  </a:lnTo>
                  <a:lnTo>
                    <a:pt x="8853" y="1250"/>
                  </a:lnTo>
                  <a:lnTo>
                    <a:pt x="8854" y="1266"/>
                  </a:lnTo>
                  <a:lnTo>
                    <a:pt x="8855" y="1280"/>
                  </a:lnTo>
                  <a:lnTo>
                    <a:pt x="8855" y="1280"/>
                  </a:lnTo>
                  <a:lnTo>
                    <a:pt x="8855" y="1352"/>
                  </a:lnTo>
                  <a:lnTo>
                    <a:pt x="8855" y="1352"/>
                  </a:lnTo>
                  <a:lnTo>
                    <a:pt x="8854" y="1371"/>
                  </a:lnTo>
                  <a:lnTo>
                    <a:pt x="8853" y="1386"/>
                  </a:lnTo>
                  <a:lnTo>
                    <a:pt x="8853" y="1398"/>
                  </a:lnTo>
                  <a:lnTo>
                    <a:pt x="8853" y="1398"/>
                  </a:lnTo>
                  <a:lnTo>
                    <a:pt x="8854" y="1421"/>
                  </a:lnTo>
                  <a:lnTo>
                    <a:pt x="8855" y="1448"/>
                  </a:lnTo>
                  <a:lnTo>
                    <a:pt x="8859" y="1481"/>
                  </a:lnTo>
                  <a:lnTo>
                    <a:pt x="8859" y="1481"/>
                  </a:lnTo>
                  <a:lnTo>
                    <a:pt x="8859" y="1588"/>
                  </a:lnTo>
                  <a:lnTo>
                    <a:pt x="8857" y="1628"/>
                  </a:lnTo>
                  <a:lnTo>
                    <a:pt x="8857" y="1628"/>
                  </a:lnTo>
                  <a:lnTo>
                    <a:pt x="8855" y="1670"/>
                  </a:lnTo>
                  <a:lnTo>
                    <a:pt x="8854" y="1721"/>
                  </a:lnTo>
                  <a:lnTo>
                    <a:pt x="8853" y="1782"/>
                  </a:lnTo>
                  <a:lnTo>
                    <a:pt x="8853" y="1782"/>
                  </a:lnTo>
                  <a:lnTo>
                    <a:pt x="8854" y="1846"/>
                  </a:lnTo>
                  <a:lnTo>
                    <a:pt x="8855" y="1907"/>
                  </a:lnTo>
                  <a:lnTo>
                    <a:pt x="8857" y="1963"/>
                  </a:lnTo>
                  <a:lnTo>
                    <a:pt x="8857" y="1963"/>
                  </a:lnTo>
                  <a:lnTo>
                    <a:pt x="8858" y="1984"/>
                  </a:lnTo>
                  <a:lnTo>
                    <a:pt x="8859" y="2004"/>
                  </a:lnTo>
                  <a:lnTo>
                    <a:pt x="8859" y="2023"/>
                  </a:lnTo>
                  <a:lnTo>
                    <a:pt x="8859" y="2023"/>
                  </a:lnTo>
                  <a:lnTo>
                    <a:pt x="8859" y="2167"/>
                  </a:lnTo>
                  <a:lnTo>
                    <a:pt x="8859" y="2167"/>
                  </a:lnTo>
                  <a:lnTo>
                    <a:pt x="8859" y="2216"/>
                  </a:lnTo>
                  <a:lnTo>
                    <a:pt x="8861" y="2272"/>
                  </a:lnTo>
                  <a:lnTo>
                    <a:pt x="8864" y="2332"/>
                  </a:lnTo>
                  <a:lnTo>
                    <a:pt x="8864" y="2332"/>
                  </a:lnTo>
                  <a:lnTo>
                    <a:pt x="8899" y="2346"/>
                  </a:lnTo>
                  <a:lnTo>
                    <a:pt x="8958" y="2356"/>
                  </a:lnTo>
                  <a:lnTo>
                    <a:pt x="9041" y="2364"/>
                  </a:lnTo>
                  <a:lnTo>
                    <a:pt x="9041" y="2364"/>
                  </a:lnTo>
                  <a:lnTo>
                    <a:pt x="9069" y="2366"/>
                  </a:lnTo>
                  <a:lnTo>
                    <a:pt x="9096" y="2370"/>
                  </a:lnTo>
                  <a:lnTo>
                    <a:pt x="9119" y="2374"/>
                  </a:lnTo>
                  <a:lnTo>
                    <a:pt x="9119" y="2374"/>
                  </a:lnTo>
                  <a:lnTo>
                    <a:pt x="9125" y="2391"/>
                  </a:lnTo>
                  <a:lnTo>
                    <a:pt x="9128" y="2405"/>
                  </a:lnTo>
                  <a:lnTo>
                    <a:pt x="9131" y="2416"/>
                  </a:lnTo>
                  <a:lnTo>
                    <a:pt x="9131" y="2416"/>
                  </a:lnTo>
                  <a:lnTo>
                    <a:pt x="9128" y="2429"/>
                  </a:lnTo>
                  <a:lnTo>
                    <a:pt x="9123" y="2447"/>
                  </a:lnTo>
                  <a:lnTo>
                    <a:pt x="9115" y="2468"/>
                  </a:lnTo>
                  <a:lnTo>
                    <a:pt x="9115" y="2468"/>
                  </a:lnTo>
                  <a:lnTo>
                    <a:pt x="9060" y="2479"/>
                  </a:lnTo>
                  <a:lnTo>
                    <a:pt x="9001" y="2490"/>
                  </a:lnTo>
                  <a:lnTo>
                    <a:pt x="8942" y="2497"/>
                  </a:lnTo>
                  <a:lnTo>
                    <a:pt x="8942" y="2497"/>
                  </a:lnTo>
                  <a:lnTo>
                    <a:pt x="8776" y="2522"/>
                  </a:lnTo>
                  <a:lnTo>
                    <a:pt x="8645" y="2553"/>
                  </a:lnTo>
                  <a:lnTo>
                    <a:pt x="8550" y="2590"/>
                  </a:lnTo>
                  <a:lnTo>
                    <a:pt x="8550" y="2590"/>
                  </a:lnTo>
                  <a:lnTo>
                    <a:pt x="8515" y="2606"/>
                  </a:lnTo>
                  <a:lnTo>
                    <a:pt x="8489" y="2617"/>
                  </a:lnTo>
                  <a:lnTo>
                    <a:pt x="8472" y="2620"/>
                  </a:lnTo>
                  <a:lnTo>
                    <a:pt x="8472" y="2620"/>
                  </a:lnTo>
                  <a:lnTo>
                    <a:pt x="8456" y="2620"/>
                  </a:lnTo>
                  <a:lnTo>
                    <a:pt x="8439" y="2619"/>
                  </a:lnTo>
                  <a:lnTo>
                    <a:pt x="8420" y="2617"/>
                  </a:lnTo>
                  <a:lnTo>
                    <a:pt x="8420" y="2617"/>
                  </a:lnTo>
                  <a:lnTo>
                    <a:pt x="8421" y="2596"/>
                  </a:lnTo>
                  <a:lnTo>
                    <a:pt x="8422" y="2581"/>
                  </a:lnTo>
                  <a:lnTo>
                    <a:pt x="8422" y="2572"/>
                  </a:lnTo>
                  <a:lnTo>
                    <a:pt x="8422" y="2572"/>
                  </a:lnTo>
                  <a:lnTo>
                    <a:pt x="8421" y="2495"/>
                  </a:lnTo>
                  <a:lnTo>
                    <a:pt x="8419" y="2439"/>
                  </a:lnTo>
                  <a:lnTo>
                    <a:pt x="8417" y="2404"/>
                  </a:lnTo>
                  <a:lnTo>
                    <a:pt x="8417" y="2404"/>
                  </a:lnTo>
                  <a:lnTo>
                    <a:pt x="8394" y="2416"/>
                  </a:lnTo>
                  <a:lnTo>
                    <a:pt x="8369" y="2429"/>
                  </a:lnTo>
                  <a:lnTo>
                    <a:pt x="8342" y="2445"/>
                  </a:lnTo>
                  <a:lnTo>
                    <a:pt x="8342" y="2445"/>
                  </a:lnTo>
                  <a:lnTo>
                    <a:pt x="8255" y="2491"/>
                  </a:lnTo>
                  <a:lnTo>
                    <a:pt x="8172" y="2527"/>
                  </a:lnTo>
                  <a:lnTo>
                    <a:pt x="8096" y="2552"/>
                  </a:lnTo>
                  <a:lnTo>
                    <a:pt x="8096" y="2552"/>
                  </a:lnTo>
                  <a:lnTo>
                    <a:pt x="8018" y="2569"/>
                  </a:lnTo>
                  <a:lnTo>
                    <a:pt x="7934" y="2578"/>
                  </a:lnTo>
                  <a:lnTo>
                    <a:pt x="7843" y="2582"/>
                  </a:lnTo>
                  <a:lnTo>
                    <a:pt x="7843" y="2582"/>
                  </a:lnTo>
                  <a:lnTo>
                    <a:pt x="7684" y="2571"/>
                  </a:lnTo>
                  <a:lnTo>
                    <a:pt x="7550" y="2541"/>
                  </a:lnTo>
                  <a:lnTo>
                    <a:pt x="7438" y="2490"/>
                  </a:lnTo>
                  <a:lnTo>
                    <a:pt x="7438" y="2490"/>
                  </a:lnTo>
                  <a:lnTo>
                    <a:pt x="7304" y="2393"/>
                  </a:lnTo>
                  <a:lnTo>
                    <a:pt x="7200" y="2285"/>
                  </a:lnTo>
                  <a:lnTo>
                    <a:pt x="7128" y="2166"/>
                  </a:lnTo>
                  <a:lnTo>
                    <a:pt x="7128" y="2166"/>
                  </a:lnTo>
                  <a:lnTo>
                    <a:pt x="7081" y="2035"/>
                  </a:lnTo>
                  <a:lnTo>
                    <a:pt x="7052" y="1897"/>
                  </a:lnTo>
                  <a:lnTo>
                    <a:pt x="7043" y="1751"/>
                  </a:lnTo>
                  <a:lnTo>
                    <a:pt x="7043" y="1751"/>
                  </a:lnTo>
                  <a:lnTo>
                    <a:pt x="7084" y="1504"/>
                  </a:lnTo>
                  <a:lnTo>
                    <a:pt x="7209" y="1282"/>
                  </a:lnTo>
                  <a:lnTo>
                    <a:pt x="7417" y="1085"/>
                  </a:lnTo>
                  <a:lnTo>
                    <a:pt x="7417" y="1085"/>
                  </a:lnTo>
                  <a:close/>
                  <a:moveTo>
                    <a:pt x="8038" y="2362"/>
                  </a:moveTo>
                  <a:lnTo>
                    <a:pt x="8065" y="2365"/>
                  </a:lnTo>
                  <a:lnTo>
                    <a:pt x="8089" y="2366"/>
                  </a:lnTo>
                  <a:lnTo>
                    <a:pt x="8110" y="2366"/>
                  </a:lnTo>
                  <a:lnTo>
                    <a:pt x="8110" y="2366"/>
                  </a:lnTo>
                  <a:lnTo>
                    <a:pt x="8156" y="2363"/>
                  </a:lnTo>
                  <a:lnTo>
                    <a:pt x="8204" y="2353"/>
                  </a:lnTo>
                  <a:lnTo>
                    <a:pt x="8253" y="2339"/>
                  </a:lnTo>
                  <a:lnTo>
                    <a:pt x="8253" y="2339"/>
                  </a:lnTo>
                  <a:lnTo>
                    <a:pt x="8304" y="2318"/>
                  </a:lnTo>
                  <a:lnTo>
                    <a:pt x="8357" y="2292"/>
                  </a:lnTo>
                  <a:lnTo>
                    <a:pt x="8413" y="2260"/>
                  </a:lnTo>
                  <a:lnTo>
                    <a:pt x="8413" y="2260"/>
                  </a:lnTo>
                  <a:lnTo>
                    <a:pt x="8414" y="2223"/>
                  </a:lnTo>
                  <a:lnTo>
                    <a:pt x="8414" y="2196"/>
                  </a:lnTo>
                  <a:lnTo>
                    <a:pt x="8414" y="2180"/>
                  </a:lnTo>
                  <a:lnTo>
                    <a:pt x="8414" y="2180"/>
                  </a:lnTo>
                  <a:lnTo>
                    <a:pt x="8413" y="1827"/>
                  </a:lnTo>
                  <a:lnTo>
                    <a:pt x="8406" y="1582"/>
                  </a:lnTo>
                  <a:lnTo>
                    <a:pt x="8396" y="1445"/>
                  </a:lnTo>
                  <a:lnTo>
                    <a:pt x="8396" y="1445"/>
                  </a:lnTo>
                  <a:lnTo>
                    <a:pt x="8370" y="1342"/>
                  </a:lnTo>
                  <a:lnTo>
                    <a:pt x="8327" y="1254"/>
                  </a:lnTo>
                  <a:lnTo>
                    <a:pt x="8264" y="1186"/>
                  </a:lnTo>
                  <a:lnTo>
                    <a:pt x="8264" y="1186"/>
                  </a:lnTo>
                  <a:lnTo>
                    <a:pt x="8186" y="1136"/>
                  </a:lnTo>
                  <a:lnTo>
                    <a:pt x="8097" y="1105"/>
                  </a:lnTo>
                  <a:lnTo>
                    <a:pt x="7999" y="1096"/>
                  </a:lnTo>
                  <a:lnTo>
                    <a:pt x="7999" y="1096"/>
                  </a:lnTo>
                  <a:lnTo>
                    <a:pt x="7942" y="1099"/>
                  </a:lnTo>
                  <a:lnTo>
                    <a:pt x="7884" y="1109"/>
                  </a:lnTo>
                  <a:lnTo>
                    <a:pt x="7830" y="1126"/>
                  </a:lnTo>
                  <a:lnTo>
                    <a:pt x="7830" y="1126"/>
                  </a:lnTo>
                  <a:lnTo>
                    <a:pt x="7781" y="1150"/>
                  </a:lnTo>
                  <a:lnTo>
                    <a:pt x="7738" y="1179"/>
                  </a:lnTo>
                  <a:lnTo>
                    <a:pt x="7701" y="1216"/>
                  </a:lnTo>
                  <a:lnTo>
                    <a:pt x="7701" y="1216"/>
                  </a:lnTo>
                  <a:lnTo>
                    <a:pt x="7655" y="1275"/>
                  </a:lnTo>
                  <a:lnTo>
                    <a:pt x="7618" y="1339"/>
                  </a:lnTo>
                  <a:lnTo>
                    <a:pt x="7588" y="1408"/>
                  </a:lnTo>
                  <a:lnTo>
                    <a:pt x="7588" y="1408"/>
                  </a:lnTo>
                  <a:lnTo>
                    <a:pt x="7559" y="1506"/>
                  </a:lnTo>
                  <a:lnTo>
                    <a:pt x="7542" y="1600"/>
                  </a:lnTo>
                  <a:lnTo>
                    <a:pt x="7536" y="1689"/>
                  </a:lnTo>
                  <a:lnTo>
                    <a:pt x="7536" y="1689"/>
                  </a:lnTo>
                  <a:lnTo>
                    <a:pt x="7551" y="1882"/>
                  </a:lnTo>
                  <a:lnTo>
                    <a:pt x="7598" y="2043"/>
                  </a:lnTo>
                  <a:lnTo>
                    <a:pt x="7675" y="2170"/>
                  </a:lnTo>
                  <a:lnTo>
                    <a:pt x="7675" y="2170"/>
                  </a:lnTo>
                  <a:lnTo>
                    <a:pt x="7777" y="2266"/>
                  </a:lnTo>
                  <a:lnTo>
                    <a:pt x="7898" y="2329"/>
                  </a:lnTo>
                  <a:lnTo>
                    <a:pt x="8038" y="2362"/>
                  </a:lnTo>
                  <a:lnTo>
                    <a:pt x="8038" y="2362"/>
                  </a:lnTo>
                  <a:close/>
                </a:path>
              </a:pathLst>
            </a:custGeom>
            <a:gradFill rotWithShape="0">
              <a:gsLst>
                <a:gs pos="0">
                  <a:srgbClr val="fff200"/>
                </a:gs>
                <a:gs pos="100000">
                  <a:srgbClr val="4d0808"/>
                </a:gs>
              </a:gsLst>
              <a:lin ang="8100000"/>
            </a:gra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200"/>
            </a:gs>
            <a:gs pos="100000">
              <a:srgbClr val="00008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03EED-77C7-4B60-9618-B6914E4B1BA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915840" y="3733920"/>
            <a:ext cx="7312320" cy="2629440"/>
            <a:chOff x="915840" y="3733920"/>
            <a:chExt cx="7312320" cy="2629440"/>
          </a:xfrm>
        </p:grpSpPr>
        <p:sp>
          <p:nvSpPr>
            <p:cNvPr id="50" name=""/>
            <p:cNvSpPr/>
            <p:nvPr/>
          </p:nvSpPr>
          <p:spPr>
            <a:xfrm>
              <a:off x="6445800" y="4692240"/>
              <a:ext cx="1782360" cy="1671120"/>
            </a:xfrm>
            <a:custGeom>
              <a:avLst/>
              <a:gdLst/>
              <a:ahLst/>
              <a:rect l="l" t="t" r="r" b="b"/>
              <a:pathLst>
                <a:path w="3215" h="3020">
                  <a:moveTo>
                    <a:pt x="0" y="182"/>
                  </a:moveTo>
                  <a:lnTo>
                    <a:pt x="15" y="4"/>
                  </a:lnTo>
                  <a:lnTo>
                    <a:pt x="1491" y="2"/>
                  </a:lnTo>
                  <a:lnTo>
                    <a:pt x="1471" y="179"/>
                  </a:lnTo>
                  <a:lnTo>
                    <a:pt x="1214" y="197"/>
                  </a:lnTo>
                  <a:lnTo>
                    <a:pt x="1214" y="197"/>
                  </a:lnTo>
                  <a:lnTo>
                    <a:pt x="1141" y="205"/>
                  </a:lnTo>
                  <a:lnTo>
                    <a:pt x="1084" y="220"/>
                  </a:lnTo>
                  <a:lnTo>
                    <a:pt x="1045" y="246"/>
                  </a:lnTo>
                  <a:lnTo>
                    <a:pt x="1045" y="246"/>
                  </a:lnTo>
                  <a:lnTo>
                    <a:pt x="1025" y="290"/>
                  </a:lnTo>
                  <a:lnTo>
                    <a:pt x="1006" y="378"/>
                  </a:lnTo>
                  <a:lnTo>
                    <a:pt x="986" y="512"/>
                  </a:lnTo>
                  <a:lnTo>
                    <a:pt x="986" y="512"/>
                  </a:lnTo>
                  <a:lnTo>
                    <a:pt x="981" y="556"/>
                  </a:lnTo>
                  <a:lnTo>
                    <a:pt x="977" y="595"/>
                  </a:lnTo>
                  <a:lnTo>
                    <a:pt x="974" y="627"/>
                  </a:lnTo>
                  <a:lnTo>
                    <a:pt x="974" y="627"/>
                  </a:lnTo>
                  <a:lnTo>
                    <a:pt x="966" y="710"/>
                  </a:lnTo>
                  <a:lnTo>
                    <a:pt x="936" y="919"/>
                  </a:lnTo>
                  <a:lnTo>
                    <a:pt x="928" y="1098"/>
                  </a:lnTo>
                  <a:lnTo>
                    <a:pt x="871" y="1486"/>
                  </a:lnTo>
                  <a:lnTo>
                    <a:pt x="831" y="2046"/>
                  </a:lnTo>
                  <a:lnTo>
                    <a:pt x="831" y="2046"/>
                  </a:lnTo>
                  <a:lnTo>
                    <a:pt x="828" y="2200"/>
                  </a:lnTo>
                  <a:lnTo>
                    <a:pt x="845" y="2336"/>
                  </a:lnTo>
                  <a:lnTo>
                    <a:pt x="886" y="2451"/>
                  </a:lnTo>
                  <a:lnTo>
                    <a:pt x="886" y="2451"/>
                  </a:lnTo>
                  <a:lnTo>
                    <a:pt x="937" y="2523"/>
                  </a:lnTo>
                  <a:lnTo>
                    <a:pt x="999" y="2566"/>
                  </a:lnTo>
                  <a:lnTo>
                    <a:pt x="1084" y="2606"/>
                  </a:lnTo>
                  <a:lnTo>
                    <a:pt x="1084" y="2606"/>
                  </a:lnTo>
                  <a:lnTo>
                    <a:pt x="1205" y="2644"/>
                  </a:lnTo>
                  <a:lnTo>
                    <a:pt x="1342" y="2667"/>
                  </a:lnTo>
                  <a:lnTo>
                    <a:pt x="1472" y="2672"/>
                  </a:lnTo>
                  <a:lnTo>
                    <a:pt x="1472" y="2672"/>
                  </a:lnTo>
                  <a:lnTo>
                    <a:pt x="1592" y="2665"/>
                  </a:lnTo>
                  <a:lnTo>
                    <a:pt x="1678" y="2654"/>
                  </a:lnTo>
                  <a:lnTo>
                    <a:pt x="1791" y="2633"/>
                  </a:lnTo>
                  <a:lnTo>
                    <a:pt x="1791" y="2633"/>
                  </a:lnTo>
                  <a:lnTo>
                    <a:pt x="1862" y="2617"/>
                  </a:lnTo>
                  <a:lnTo>
                    <a:pt x="1926" y="2597"/>
                  </a:lnTo>
                  <a:lnTo>
                    <a:pt x="1979" y="2573"/>
                  </a:lnTo>
                  <a:lnTo>
                    <a:pt x="1979" y="2573"/>
                  </a:lnTo>
                  <a:lnTo>
                    <a:pt x="2041" y="2531"/>
                  </a:lnTo>
                  <a:lnTo>
                    <a:pt x="2079" y="2486"/>
                  </a:lnTo>
                  <a:lnTo>
                    <a:pt x="2110" y="2444"/>
                  </a:lnTo>
                  <a:lnTo>
                    <a:pt x="2110" y="2444"/>
                  </a:lnTo>
                  <a:lnTo>
                    <a:pt x="2162" y="2364"/>
                  </a:lnTo>
                  <a:lnTo>
                    <a:pt x="2197" y="2287"/>
                  </a:lnTo>
                  <a:lnTo>
                    <a:pt x="2226" y="2215"/>
                  </a:lnTo>
                  <a:lnTo>
                    <a:pt x="2226" y="2215"/>
                  </a:lnTo>
                  <a:lnTo>
                    <a:pt x="2264" y="2098"/>
                  </a:lnTo>
                  <a:lnTo>
                    <a:pt x="2297" y="1945"/>
                  </a:lnTo>
                  <a:lnTo>
                    <a:pt x="2324" y="1755"/>
                  </a:lnTo>
                  <a:lnTo>
                    <a:pt x="2324" y="1755"/>
                  </a:lnTo>
                  <a:lnTo>
                    <a:pt x="2349" y="1534"/>
                  </a:lnTo>
                  <a:lnTo>
                    <a:pt x="2370" y="1300"/>
                  </a:lnTo>
                  <a:lnTo>
                    <a:pt x="2389" y="1056"/>
                  </a:lnTo>
                  <a:lnTo>
                    <a:pt x="2403" y="802"/>
                  </a:lnTo>
                  <a:lnTo>
                    <a:pt x="2417" y="537"/>
                  </a:lnTo>
                  <a:lnTo>
                    <a:pt x="2417" y="537"/>
                  </a:lnTo>
                  <a:lnTo>
                    <a:pt x="2423" y="419"/>
                  </a:lnTo>
                  <a:lnTo>
                    <a:pt x="2423" y="419"/>
                  </a:lnTo>
                  <a:lnTo>
                    <a:pt x="2423" y="341"/>
                  </a:lnTo>
                  <a:lnTo>
                    <a:pt x="2416" y="281"/>
                  </a:lnTo>
                  <a:lnTo>
                    <a:pt x="2396" y="242"/>
                  </a:lnTo>
                  <a:lnTo>
                    <a:pt x="2396" y="242"/>
                  </a:lnTo>
                  <a:lnTo>
                    <a:pt x="2352" y="203"/>
                  </a:lnTo>
                  <a:lnTo>
                    <a:pt x="2302" y="179"/>
                  </a:lnTo>
                  <a:lnTo>
                    <a:pt x="2246" y="173"/>
                  </a:lnTo>
                  <a:lnTo>
                    <a:pt x="2246" y="173"/>
                  </a:lnTo>
                  <a:lnTo>
                    <a:pt x="2038" y="177"/>
                  </a:lnTo>
                  <a:lnTo>
                    <a:pt x="2011" y="170"/>
                  </a:lnTo>
                  <a:lnTo>
                    <a:pt x="2036" y="0"/>
                  </a:lnTo>
                  <a:lnTo>
                    <a:pt x="3215" y="2"/>
                  </a:lnTo>
                  <a:lnTo>
                    <a:pt x="3204" y="166"/>
                  </a:lnTo>
                  <a:lnTo>
                    <a:pt x="3204" y="166"/>
                  </a:lnTo>
                  <a:lnTo>
                    <a:pt x="3146" y="178"/>
                  </a:lnTo>
                  <a:lnTo>
                    <a:pt x="3084" y="188"/>
                  </a:lnTo>
                  <a:lnTo>
                    <a:pt x="3023" y="195"/>
                  </a:lnTo>
                  <a:lnTo>
                    <a:pt x="3023" y="195"/>
                  </a:lnTo>
                  <a:lnTo>
                    <a:pt x="2937" y="206"/>
                  </a:lnTo>
                  <a:lnTo>
                    <a:pt x="2883" y="218"/>
                  </a:lnTo>
                  <a:lnTo>
                    <a:pt x="2857" y="228"/>
                  </a:lnTo>
                  <a:lnTo>
                    <a:pt x="2857" y="228"/>
                  </a:lnTo>
                  <a:lnTo>
                    <a:pt x="2837" y="249"/>
                  </a:lnTo>
                  <a:lnTo>
                    <a:pt x="2824" y="277"/>
                  </a:lnTo>
                  <a:lnTo>
                    <a:pt x="2816" y="311"/>
                  </a:lnTo>
                  <a:lnTo>
                    <a:pt x="2816" y="311"/>
                  </a:lnTo>
                  <a:lnTo>
                    <a:pt x="2812" y="342"/>
                  </a:lnTo>
                  <a:lnTo>
                    <a:pt x="2809" y="380"/>
                  </a:lnTo>
                  <a:lnTo>
                    <a:pt x="2808" y="427"/>
                  </a:lnTo>
                  <a:lnTo>
                    <a:pt x="2808" y="427"/>
                  </a:lnTo>
                  <a:lnTo>
                    <a:pt x="2805" y="473"/>
                  </a:lnTo>
                  <a:lnTo>
                    <a:pt x="2800" y="539"/>
                  </a:lnTo>
                  <a:lnTo>
                    <a:pt x="2790" y="622"/>
                  </a:lnTo>
                  <a:lnTo>
                    <a:pt x="2790" y="622"/>
                  </a:lnTo>
                  <a:lnTo>
                    <a:pt x="2784" y="670"/>
                  </a:lnTo>
                  <a:lnTo>
                    <a:pt x="2780" y="711"/>
                  </a:lnTo>
                  <a:lnTo>
                    <a:pt x="2777" y="745"/>
                  </a:lnTo>
                  <a:lnTo>
                    <a:pt x="2777" y="745"/>
                  </a:lnTo>
                  <a:lnTo>
                    <a:pt x="2774" y="775"/>
                  </a:lnTo>
                  <a:lnTo>
                    <a:pt x="2770" y="805"/>
                  </a:lnTo>
                  <a:lnTo>
                    <a:pt x="2768" y="837"/>
                  </a:lnTo>
                  <a:lnTo>
                    <a:pt x="2768" y="837"/>
                  </a:lnTo>
                  <a:lnTo>
                    <a:pt x="2759" y="944"/>
                  </a:lnTo>
                  <a:lnTo>
                    <a:pt x="2750" y="1052"/>
                  </a:lnTo>
                  <a:lnTo>
                    <a:pt x="2739" y="1164"/>
                  </a:lnTo>
                  <a:lnTo>
                    <a:pt x="2739" y="1164"/>
                  </a:lnTo>
                  <a:lnTo>
                    <a:pt x="2706" y="1617"/>
                  </a:lnTo>
                  <a:lnTo>
                    <a:pt x="2706" y="1617"/>
                  </a:lnTo>
                  <a:lnTo>
                    <a:pt x="2689" y="1891"/>
                  </a:lnTo>
                  <a:lnTo>
                    <a:pt x="2675" y="2100"/>
                  </a:lnTo>
                  <a:lnTo>
                    <a:pt x="2652" y="2240"/>
                  </a:lnTo>
                  <a:lnTo>
                    <a:pt x="2652" y="2240"/>
                  </a:lnTo>
                  <a:lnTo>
                    <a:pt x="2617" y="2336"/>
                  </a:lnTo>
                  <a:lnTo>
                    <a:pt x="2580" y="2417"/>
                  </a:lnTo>
                  <a:lnTo>
                    <a:pt x="2538" y="2484"/>
                  </a:lnTo>
                  <a:lnTo>
                    <a:pt x="2538" y="2484"/>
                  </a:lnTo>
                  <a:lnTo>
                    <a:pt x="2470" y="2579"/>
                  </a:lnTo>
                  <a:lnTo>
                    <a:pt x="2389" y="2677"/>
                  </a:lnTo>
                  <a:lnTo>
                    <a:pt x="2291" y="2762"/>
                  </a:lnTo>
                  <a:lnTo>
                    <a:pt x="2291" y="2762"/>
                  </a:lnTo>
                  <a:lnTo>
                    <a:pt x="2182" y="2836"/>
                  </a:lnTo>
                  <a:lnTo>
                    <a:pt x="2059" y="2902"/>
                  </a:lnTo>
                  <a:lnTo>
                    <a:pt x="1902" y="2957"/>
                  </a:lnTo>
                  <a:lnTo>
                    <a:pt x="1902" y="2957"/>
                  </a:lnTo>
                  <a:lnTo>
                    <a:pt x="1663" y="3002"/>
                  </a:lnTo>
                  <a:lnTo>
                    <a:pt x="1455" y="3020"/>
                  </a:lnTo>
                  <a:lnTo>
                    <a:pt x="1277" y="3020"/>
                  </a:lnTo>
                  <a:lnTo>
                    <a:pt x="1277" y="3020"/>
                  </a:lnTo>
                  <a:lnTo>
                    <a:pt x="1053" y="2992"/>
                  </a:lnTo>
                  <a:lnTo>
                    <a:pt x="846" y="2936"/>
                  </a:lnTo>
                  <a:lnTo>
                    <a:pt x="669" y="2871"/>
                  </a:lnTo>
                  <a:lnTo>
                    <a:pt x="669" y="2871"/>
                  </a:lnTo>
                  <a:lnTo>
                    <a:pt x="529" y="2802"/>
                  </a:lnTo>
                  <a:lnTo>
                    <a:pt x="416" y="2721"/>
                  </a:lnTo>
                  <a:lnTo>
                    <a:pt x="332" y="2626"/>
                  </a:lnTo>
                  <a:lnTo>
                    <a:pt x="332" y="2626"/>
                  </a:lnTo>
                  <a:lnTo>
                    <a:pt x="270" y="2516"/>
                  </a:lnTo>
                  <a:lnTo>
                    <a:pt x="230" y="2386"/>
                  </a:lnTo>
                  <a:lnTo>
                    <a:pt x="210" y="2235"/>
                  </a:lnTo>
                  <a:lnTo>
                    <a:pt x="210" y="2235"/>
                  </a:lnTo>
                  <a:lnTo>
                    <a:pt x="206" y="2108"/>
                  </a:lnTo>
                  <a:lnTo>
                    <a:pt x="215" y="1949"/>
                  </a:lnTo>
                  <a:lnTo>
                    <a:pt x="235" y="1761"/>
                  </a:lnTo>
                  <a:lnTo>
                    <a:pt x="235" y="1761"/>
                  </a:lnTo>
                  <a:lnTo>
                    <a:pt x="368" y="693"/>
                  </a:lnTo>
                  <a:lnTo>
                    <a:pt x="368" y="693"/>
                  </a:lnTo>
                  <a:lnTo>
                    <a:pt x="390" y="477"/>
                  </a:lnTo>
                  <a:lnTo>
                    <a:pt x="395" y="336"/>
                  </a:lnTo>
                  <a:lnTo>
                    <a:pt x="385" y="266"/>
                  </a:lnTo>
                  <a:lnTo>
                    <a:pt x="385" y="266"/>
                  </a:lnTo>
                  <a:lnTo>
                    <a:pt x="335" y="227"/>
                  </a:lnTo>
                  <a:lnTo>
                    <a:pt x="237" y="200"/>
                  </a:lnTo>
                  <a:lnTo>
                    <a:pt x="92" y="188"/>
                  </a:lnTo>
                  <a:lnTo>
                    <a:pt x="92" y="188"/>
                  </a:lnTo>
                  <a:lnTo>
                    <a:pt x="57" y="187"/>
                  </a:lnTo>
                  <a:lnTo>
                    <a:pt x="27" y="186"/>
                  </a:lnTo>
                  <a:lnTo>
                    <a:pt x="0" y="182"/>
                  </a:lnTo>
                  <a:lnTo>
                    <a:pt x="0" y="182"/>
                  </a:lnTo>
                  <a:close/>
                </a:path>
              </a:pathLst>
            </a:custGeom>
            <a:gradFill rotWithShape="0">
              <a:gsLst>
                <a:gs pos="0">
                  <a:srgbClr val="fff200"/>
                </a:gs>
                <a:gs pos="100000">
                  <a:srgbClr val="4d0808"/>
                </a:gs>
              </a:gsLst>
              <a:lin ang="8100000"/>
            </a:gra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9240" y="4137840"/>
              <a:ext cx="2350800" cy="2210760"/>
            </a:xfrm>
            <a:custGeom>
              <a:avLst/>
              <a:gdLst/>
              <a:ahLst/>
              <a:rect l="l" t="t" r="r" b="b"/>
              <a:pathLst>
                <a:path w="4240" h="3993">
                  <a:moveTo>
                    <a:pt x="4240" y="2390"/>
                  </a:moveTo>
                  <a:lnTo>
                    <a:pt x="3689" y="3163"/>
                  </a:lnTo>
                  <a:lnTo>
                    <a:pt x="3016" y="3173"/>
                  </a:lnTo>
                  <a:lnTo>
                    <a:pt x="2940" y="3428"/>
                  </a:lnTo>
                  <a:lnTo>
                    <a:pt x="2940" y="3428"/>
                  </a:lnTo>
                  <a:lnTo>
                    <a:pt x="2894" y="3678"/>
                  </a:lnTo>
                  <a:lnTo>
                    <a:pt x="2932" y="3859"/>
                  </a:lnTo>
                  <a:lnTo>
                    <a:pt x="3049" y="3969"/>
                  </a:lnTo>
                  <a:lnTo>
                    <a:pt x="3049" y="3969"/>
                  </a:lnTo>
                  <a:lnTo>
                    <a:pt x="2938" y="3993"/>
                  </a:lnTo>
                  <a:lnTo>
                    <a:pt x="1740" y="3993"/>
                  </a:lnTo>
                  <a:lnTo>
                    <a:pt x="1762" y="3969"/>
                  </a:lnTo>
                  <a:lnTo>
                    <a:pt x="1762" y="3969"/>
                  </a:lnTo>
                  <a:lnTo>
                    <a:pt x="1874" y="3926"/>
                  </a:lnTo>
                  <a:lnTo>
                    <a:pt x="1965" y="3876"/>
                  </a:lnTo>
                  <a:lnTo>
                    <a:pt x="2037" y="3820"/>
                  </a:lnTo>
                  <a:lnTo>
                    <a:pt x="2037" y="3820"/>
                  </a:lnTo>
                  <a:lnTo>
                    <a:pt x="2096" y="3749"/>
                  </a:lnTo>
                  <a:lnTo>
                    <a:pt x="2145" y="3659"/>
                  </a:lnTo>
                  <a:lnTo>
                    <a:pt x="2185" y="3549"/>
                  </a:lnTo>
                  <a:lnTo>
                    <a:pt x="2185" y="3549"/>
                  </a:lnTo>
                  <a:lnTo>
                    <a:pt x="2298" y="3173"/>
                  </a:lnTo>
                  <a:lnTo>
                    <a:pt x="0" y="3173"/>
                  </a:lnTo>
                  <a:lnTo>
                    <a:pt x="2897" y="0"/>
                  </a:lnTo>
                  <a:lnTo>
                    <a:pt x="4025" y="0"/>
                  </a:lnTo>
                  <a:lnTo>
                    <a:pt x="3208" y="2645"/>
                  </a:lnTo>
                  <a:lnTo>
                    <a:pt x="3208" y="2645"/>
                  </a:lnTo>
                  <a:lnTo>
                    <a:pt x="3368" y="2638"/>
                  </a:lnTo>
                  <a:lnTo>
                    <a:pt x="3566" y="2621"/>
                  </a:lnTo>
                  <a:lnTo>
                    <a:pt x="3720" y="2600"/>
                  </a:lnTo>
                  <a:lnTo>
                    <a:pt x="3720" y="2600"/>
                  </a:lnTo>
                  <a:lnTo>
                    <a:pt x="3899" y="2551"/>
                  </a:lnTo>
                  <a:lnTo>
                    <a:pt x="4071" y="2481"/>
                  </a:lnTo>
                  <a:lnTo>
                    <a:pt x="4240" y="2390"/>
                  </a:lnTo>
                  <a:lnTo>
                    <a:pt x="4240" y="2390"/>
                  </a:lnTo>
                  <a:close/>
                  <a:moveTo>
                    <a:pt x="2487" y="2654"/>
                  </a:moveTo>
                  <a:lnTo>
                    <a:pt x="3157" y="431"/>
                  </a:lnTo>
                  <a:lnTo>
                    <a:pt x="1188" y="2647"/>
                  </a:lnTo>
                  <a:lnTo>
                    <a:pt x="1188" y="2647"/>
                  </a:lnTo>
                  <a:lnTo>
                    <a:pt x="1365" y="2648"/>
                  </a:lnTo>
                  <a:lnTo>
                    <a:pt x="1542" y="2649"/>
                  </a:lnTo>
                  <a:lnTo>
                    <a:pt x="1718" y="2650"/>
                  </a:lnTo>
                  <a:lnTo>
                    <a:pt x="1718" y="2650"/>
                  </a:lnTo>
                  <a:lnTo>
                    <a:pt x="1888" y="2650"/>
                  </a:lnTo>
                  <a:lnTo>
                    <a:pt x="2039" y="2651"/>
                  </a:lnTo>
                  <a:lnTo>
                    <a:pt x="2176" y="2652"/>
                  </a:lnTo>
                  <a:lnTo>
                    <a:pt x="2176" y="2652"/>
                  </a:lnTo>
                  <a:lnTo>
                    <a:pt x="2295" y="2654"/>
                  </a:lnTo>
                  <a:lnTo>
                    <a:pt x="2398" y="2654"/>
                  </a:lnTo>
                  <a:lnTo>
                    <a:pt x="2487" y="2654"/>
                  </a:lnTo>
                  <a:lnTo>
                    <a:pt x="2487" y="2654"/>
                  </a:lnTo>
                  <a:close/>
                </a:path>
              </a:pathLst>
            </a:custGeom>
            <a:gradFill rotWithShape="0">
              <a:gsLst>
                <a:gs pos="0">
                  <a:srgbClr val="fff200"/>
                </a:gs>
                <a:gs pos="100000">
                  <a:srgbClr val="4d0808"/>
                </a:gs>
              </a:gsLst>
              <a:lin ang="8100000"/>
            </a:gra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915840" y="3733920"/>
              <a:ext cx="5065920" cy="1451520"/>
            </a:xfrm>
            <a:custGeom>
              <a:avLst/>
              <a:gdLst/>
              <a:ahLst/>
              <a:rect l="l" t="t" r="r" b="b"/>
              <a:pathLst>
                <a:path w="9131" h="2620">
                  <a:moveTo>
                    <a:pt x="2418" y="230"/>
                  </a:moveTo>
                  <a:lnTo>
                    <a:pt x="2429" y="279"/>
                  </a:lnTo>
                  <a:lnTo>
                    <a:pt x="2439" y="353"/>
                  </a:lnTo>
                  <a:lnTo>
                    <a:pt x="2451" y="450"/>
                  </a:lnTo>
                  <a:lnTo>
                    <a:pt x="2451" y="450"/>
                  </a:lnTo>
                  <a:lnTo>
                    <a:pt x="2460" y="550"/>
                  </a:lnTo>
                  <a:lnTo>
                    <a:pt x="2467" y="630"/>
                  </a:lnTo>
                  <a:lnTo>
                    <a:pt x="2469" y="692"/>
                  </a:lnTo>
                  <a:lnTo>
                    <a:pt x="2469" y="692"/>
                  </a:lnTo>
                  <a:lnTo>
                    <a:pt x="2467" y="711"/>
                  </a:lnTo>
                  <a:lnTo>
                    <a:pt x="2463" y="735"/>
                  </a:lnTo>
                  <a:lnTo>
                    <a:pt x="2455" y="762"/>
                  </a:lnTo>
                  <a:lnTo>
                    <a:pt x="2455" y="762"/>
                  </a:lnTo>
                  <a:lnTo>
                    <a:pt x="2401" y="759"/>
                  </a:lnTo>
                  <a:lnTo>
                    <a:pt x="2351" y="754"/>
                  </a:lnTo>
                  <a:lnTo>
                    <a:pt x="2308" y="747"/>
                  </a:lnTo>
                  <a:lnTo>
                    <a:pt x="2308" y="747"/>
                  </a:lnTo>
                  <a:lnTo>
                    <a:pt x="2216" y="615"/>
                  </a:lnTo>
                  <a:lnTo>
                    <a:pt x="2143" y="521"/>
                  </a:lnTo>
                  <a:lnTo>
                    <a:pt x="2092" y="462"/>
                  </a:lnTo>
                  <a:lnTo>
                    <a:pt x="2092" y="462"/>
                  </a:lnTo>
                  <a:lnTo>
                    <a:pt x="2007" y="396"/>
                  </a:lnTo>
                  <a:lnTo>
                    <a:pt x="1908" y="333"/>
                  </a:lnTo>
                  <a:lnTo>
                    <a:pt x="1792" y="280"/>
                  </a:lnTo>
                  <a:lnTo>
                    <a:pt x="1792" y="280"/>
                  </a:lnTo>
                  <a:lnTo>
                    <a:pt x="1698" y="249"/>
                  </a:lnTo>
                  <a:lnTo>
                    <a:pt x="1595" y="230"/>
                  </a:lnTo>
                  <a:lnTo>
                    <a:pt x="1482" y="225"/>
                  </a:lnTo>
                  <a:lnTo>
                    <a:pt x="1482" y="225"/>
                  </a:lnTo>
                  <a:lnTo>
                    <a:pt x="1267" y="256"/>
                  </a:lnTo>
                  <a:lnTo>
                    <a:pt x="1069" y="353"/>
                  </a:lnTo>
                  <a:lnTo>
                    <a:pt x="889" y="512"/>
                  </a:lnTo>
                  <a:lnTo>
                    <a:pt x="889" y="512"/>
                  </a:lnTo>
                  <a:lnTo>
                    <a:pt x="777" y="675"/>
                  </a:lnTo>
                  <a:lnTo>
                    <a:pt x="697" y="873"/>
                  </a:lnTo>
                  <a:lnTo>
                    <a:pt x="650" y="1105"/>
                  </a:lnTo>
                  <a:lnTo>
                    <a:pt x="633" y="1373"/>
                  </a:lnTo>
                  <a:lnTo>
                    <a:pt x="633" y="1373"/>
                  </a:lnTo>
                  <a:lnTo>
                    <a:pt x="645" y="1550"/>
                  </a:lnTo>
                  <a:lnTo>
                    <a:pt x="678" y="1724"/>
                  </a:lnTo>
                  <a:lnTo>
                    <a:pt x="733" y="1894"/>
                  </a:lnTo>
                  <a:lnTo>
                    <a:pt x="733" y="1894"/>
                  </a:lnTo>
                  <a:lnTo>
                    <a:pt x="811" y="2050"/>
                  </a:lnTo>
                  <a:lnTo>
                    <a:pt x="911" y="2182"/>
                  </a:lnTo>
                  <a:lnTo>
                    <a:pt x="1033" y="2290"/>
                  </a:lnTo>
                  <a:lnTo>
                    <a:pt x="1033" y="2290"/>
                  </a:lnTo>
                  <a:lnTo>
                    <a:pt x="1173" y="2370"/>
                  </a:lnTo>
                  <a:lnTo>
                    <a:pt x="1330" y="2417"/>
                  </a:lnTo>
                  <a:lnTo>
                    <a:pt x="1502" y="2432"/>
                  </a:lnTo>
                  <a:lnTo>
                    <a:pt x="1502" y="2432"/>
                  </a:lnTo>
                  <a:lnTo>
                    <a:pt x="1592" y="2429"/>
                  </a:lnTo>
                  <a:lnTo>
                    <a:pt x="1684" y="2419"/>
                  </a:lnTo>
                  <a:lnTo>
                    <a:pt x="1779" y="2400"/>
                  </a:lnTo>
                  <a:lnTo>
                    <a:pt x="1779" y="2400"/>
                  </a:lnTo>
                  <a:lnTo>
                    <a:pt x="1826" y="2387"/>
                  </a:lnTo>
                  <a:lnTo>
                    <a:pt x="1867" y="2366"/>
                  </a:lnTo>
                  <a:lnTo>
                    <a:pt x="1900" y="2339"/>
                  </a:lnTo>
                  <a:lnTo>
                    <a:pt x="1900" y="2339"/>
                  </a:lnTo>
                  <a:lnTo>
                    <a:pt x="1920" y="2315"/>
                  </a:lnTo>
                  <a:lnTo>
                    <a:pt x="1934" y="2283"/>
                  </a:lnTo>
                  <a:lnTo>
                    <a:pt x="1943" y="2246"/>
                  </a:lnTo>
                  <a:lnTo>
                    <a:pt x="1943" y="2246"/>
                  </a:lnTo>
                  <a:lnTo>
                    <a:pt x="1952" y="2162"/>
                  </a:lnTo>
                  <a:lnTo>
                    <a:pt x="1958" y="2055"/>
                  </a:lnTo>
                  <a:lnTo>
                    <a:pt x="1959" y="1929"/>
                  </a:lnTo>
                  <a:lnTo>
                    <a:pt x="1959" y="1929"/>
                  </a:lnTo>
                  <a:lnTo>
                    <a:pt x="1959" y="1808"/>
                  </a:lnTo>
                  <a:lnTo>
                    <a:pt x="1957" y="1717"/>
                  </a:lnTo>
                  <a:lnTo>
                    <a:pt x="1953" y="1653"/>
                  </a:lnTo>
                  <a:lnTo>
                    <a:pt x="1953" y="1653"/>
                  </a:lnTo>
                  <a:lnTo>
                    <a:pt x="1944" y="1635"/>
                  </a:lnTo>
                  <a:lnTo>
                    <a:pt x="1935" y="1623"/>
                  </a:lnTo>
                  <a:lnTo>
                    <a:pt x="1926" y="1616"/>
                  </a:lnTo>
                  <a:lnTo>
                    <a:pt x="1926" y="1616"/>
                  </a:lnTo>
                  <a:lnTo>
                    <a:pt x="1912" y="1608"/>
                  </a:lnTo>
                  <a:lnTo>
                    <a:pt x="1884" y="1599"/>
                  </a:lnTo>
                  <a:lnTo>
                    <a:pt x="1845" y="1588"/>
                  </a:lnTo>
                  <a:lnTo>
                    <a:pt x="1845" y="1588"/>
                  </a:lnTo>
                  <a:lnTo>
                    <a:pt x="1665" y="1542"/>
                  </a:lnTo>
                  <a:lnTo>
                    <a:pt x="1665" y="1542"/>
                  </a:lnTo>
                  <a:lnTo>
                    <a:pt x="1631" y="1531"/>
                  </a:lnTo>
                  <a:lnTo>
                    <a:pt x="1607" y="1521"/>
                  </a:lnTo>
                  <a:lnTo>
                    <a:pt x="1593" y="1508"/>
                  </a:lnTo>
                  <a:lnTo>
                    <a:pt x="1593" y="1508"/>
                  </a:lnTo>
                  <a:lnTo>
                    <a:pt x="1591" y="1493"/>
                  </a:lnTo>
                  <a:lnTo>
                    <a:pt x="1588" y="1480"/>
                  </a:lnTo>
                  <a:lnTo>
                    <a:pt x="1588" y="1471"/>
                  </a:lnTo>
                  <a:lnTo>
                    <a:pt x="1588" y="1471"/>
                  </a:lnTo>
                  <a:lnTo>
                    <a:pt x="1591" y="1451"/>
                  </a:lnTo>
                  <a:lnTo>
                    <a:pt x="1596" y="1426"/>
                  </a:lnTo>
                  <a:lnTo>
                    <a:pt x="1603" y="1396"/>
                  </a:lnTo>
                  <a:lnTo>
                    <a:pt x="1603" y="1396"/>
                  </a:lnTo>
                  <a:lnTo>
                    <a:pt x="1625" y="1390"/>
                  </a:lnTo>
                  <a:lnTo>
                    <a:pt x="1642" y="1385"/>
                  </a:lnTo>
                  <a:lnTo>
                    <a:pt x="1653" y="1384"/>
                  </a:lnTo>
                  <a:lnTo>
                    <a:pt x="1653" y="1384"/>
                  </a:lnTo>
                  <a:lnTo>
                    <a:pt x="1793" y="1386"/>
                  </a:lnTo>
                  <a:lnTo>
                    <a:pt x="1920" y="1392"/>
                  </a:lnTo>
                  <a:lnTo>
                    <a:pt x="2034" y="1400"/>
                  </a:lnTo>
                  <a:lnTo>
                    <a:pt x="2034" y="1400"/>
                  </a:lnTo>
                  <a:lnTo>
                    <a:pt x="2072" y="1402"/>
                  </a:lnTo>
                  <a:lnTo>
                    <a:pt x="2113" y="1404"/>
                  </a:lnTo>
                  <a:lnTo>
                    <a:pt x="2157" y="1404"/>
                  </a:lnTo>
                  <a:lnTo>
                    <a:pt x="2157" y="1404"/>
                  </a:lnTo>
                  <a:lnTo>
                    <a:pt x="2475" y="1400"/>
                  </a:lnTo>
                  <a:lnTo>
                    <a:pt x="2609" y="1396"/>
                  </a:lnTo>
                  <a:lnTo>
                    <a:pt x="2609" y="1396"/>
                  </a:lnTo>
                  <a:lnTo>
                    <a:pt x="2635" y="1396"/>
                  </a:lnTo>
                  <a:lnTo>
                    <a:pt x="2680" y="1397"/>
                  </a:lnTo>
                  <a:lnTo>
                    <a:pt x="2745" y="1400"/>
                  </a:lnTo>
                  <a:lnTo>
                    <a:pt x="2745" y="1400"/>
                  </a:lnTo>
                  <a:lnTo>
                    <a:pt x="2747" y="1432"/>
                  </a:lnTo>
                  <a:lnTo>
                    <a:pt x="2747" y="1460"/>
                  </a:lnTo>
                  <a:lnTo>
                    <a:pt x="2747" y="1485"/>
                  </a:lnTo>
                  <a:lnTo>
                    <a:pt x="2747" y="1485"/>
                  </a:lnTo>
                  <a:lnTo>
                    <a:pt x="2746" y="1500"/>
                  </a:lnTo>
                  <a:lnTo>
                    <a:pt x="2741" y="1517"/>
                  </a:lnTo>
                  <a:lnTo>
                    <a:pt x="2733" y="1533"/>
                  </a:lnTo>
                  <a:lnTo>
                    <a:pt x="2733" y="1533"/>
                  </a:lnTo>
                  <a:lnTo>
                    <a:pt x="2705" y="1547"/>
                  </a:lnTo>
                  <a:lnTo>
                    <a:pt x="2666" y="1563"/>
                  </a:lnTo>
                  <a:lnTo>
                    <a:pt x="2616" y="1581"/>
                  </a:lnTo>
                  <a:lnTo>
                    <a:pt x="2616" y="1581"/>
                  </a:lnTo>
                  <a:lnTo>
                    <a:pt x="2569" y="1599"/>
                  </a:lnTo>
                  <a:lnTo>
                    <a:pt x="2538" y="1611"/>
                  </a:lnTo>
                  <a:lnTo>
                    <a:pt x="2523" y="1620"/>
                  </a:lnTo>
                  <a:lnTo>
                    <a:pt x="2523" y="1620"/>
                  </a:lnTo>
                  <a:lnTo>
                    <a:pt x="2513" y="1632"/>
                  </a:lnTo>
                  <a:lnTo>
                    <a:pt x="2506" y="1648"/>
                  </a:lnTo>
                  <a:lnTo>
                    <a:pt x="2501" y="1668"/>
                  </a:lnTo>
                  <a:lnTo>
                    <a:pt x="2501" y="1668"/>
                  </a:lnTo>
                  <a:lnTo>
                    <a:pt x="2498" y="1708"/>
                  </a:lnTo>
                  <a:lnTo>
                    <a:pt x="2496" y="1784"/>
                  </a:lnTo>
                  <a:lnTo>
                    <a:pt x="2495" y="1898"/>
                  </a:lnTo>
                  <a:lnTo>
                    <a:pt x="2495" y="1898"/>
                  </a:lnTo>
                  <a:lnTo>
                    <a:pt x="2495" y="2029"/>
                  </a:lnTo>
                  <a:lnTo>
                    <a:pt x="2494" y="2120"/>
                  </a:lnTo>
                  <a:lnTo>
                    <a:pt x="2492" y="2170"/>
                  </a:lnTo>
                  <a:lnTo>
                    <a:pt x="2492" y="2170"/>
                  </a:lnTo>
                  <a:lnTo>
                    <a:pt x="2488" y="2250"/>
                  </a:lnTo>
                  <a:lnTo>
                    <a:pt x="2486" y="2304"/>
                  </a:lnTo>
                  <a:lnTo>
                    <a:pt x="2485" y="2331"/>
                  </a:lnTo>
                  <a:lnTo>
                    <a:pt x="2485" y="2331"/>
                  </a:lnTo>
                  <a:lnTo>
                    <a:pt x="2483" y="2373"/>
                  </a:lnTo>
                  <a:lnTo>
                    <a:pt x="2476" y="2402"/>
                  </a:lnTo>
                  <a:lnTo>
                    <a:pt x="2464" y="2420"/>
                  </a:lnTo>
                  <a:lnTo>
                    <a:pt x="2464" y="2420"/>
                  </a:lnTo>
                  <a:lnTo>
                    <a:pt x="2401" y="2457"/>
                  </a:lnTo>
                  <a:lnTo>
                    <a:pt x="2284" y="2498"/>
                  </a:lnTo>
                  <a:lnTo>
                    <a:pt x="2115" y="2542"/>
                  </a:lnTo>
                  <a:lnTo>
                    <a:pt x="2115" y="2542"/>
                  </a:lnTo>
                  <a:lnTo>
                    <a:pt x="1909" y="2580"/>
                  </a:lnTo>
                  <a:lnTo>
                    <a:pt x="1682" y="2603"/>
                  </a:lnTo>
                  <a:lnTo>
                    <a:pt x="1434" y="2612"/>
                  </a:lnTo>
                  <a:lnTo>
                    <a:pt x="1434" y="2612"/>
                  </a:lnTo>
                  <a:lnTo>
                    <a:pt x="1260" y="2606"/>
                  </a:lnTo>
                  <a:lnTo>
                    <a:pt x="1103" y="2592"/>
                  </a:lnTo>
                  <a:lnTo>
                    <a:pt x="961" y="2570"/>
                  </a:lnTo>
                  <a:lnTo>
                    <a:pt x="961" y="2570"/>
                  </a:lnTo>
                  <a:lnTo>
                    <a:pt x="834" y="2537"/>
                  </a:lnTo>
                  <a:lnTo>
                    <a:pt x="721" y="2496"/>
                  </a:lnTo>
                  <a:lnTo>
                    <a:pt x="620" y="2447"/>
                  </a:lnTo>
                  <a:lnTo>
                    <a:pt x="620" y="2447"/>
                  </a:lnTo>
                  <a:lnTo>
                    <a:pt x="500" y="2370"/>
                  </a:lnTo>
                  <a:lnTo>
                    <a:pt x="391" y="2282"/>
                  </a:lnTo>
                  <a:lnTo>
                    <a:pt x="295" y="2184"/>
                  </a:lnTo>
                  <a:lnTo>
                    <a:pt x="295" y="2184"/>
                  </a:lnTo>
                  <a:lnTo>
                    <a:pt x="213" y="2079"/>
                  </a:lnTo>
                  <a:lnTo>
                    <a:pt x="145" y="1968"/>
                  </a:lnTo>
                  <a:lnTo>
                    <a:pt x="94" y="1851"/>
                  </a:lnTo>
                  <a:lnTo>
                    <a:pt x="94" y="1851"/>
                  </a:lnTo>
                  <a:lnTo>
                    <a:pt x="42" y="1682"/>
                  </a:lnTo>
                  <a:lnTo>
                    <a:pt x="12" y="1513"/>
                  </a:lnTo>
                  <a:lnTo>
                    <a:pt x="0" y="1345"/>
                  </a:lnTo>
                  <a:lnTo>
                    <a:pt x="0" y="1345"/>
                  </a:lnTo>
                  <a:lnTo>
                    <a:pt x="16" y="1154"/>
                  </a:lnTo>
                  <a:lnTo>
                    <a:pt x="62" y="962"/>
                  </a:lnTo>
                  <a:lnTo>
                    <a:pt x="138" y="770"/>
                  </a:lnTo>
                  <a:lnTo>
                    <a:pt x="138" y="770"/>
                  </a:lnTo>
                  <a:lnTo>
                    <a:pt x="214" y="634"/>
                  </a:lnTo>
                  <a:lnTo>
                    <a:pt x="308" y="508"/>
                  </a:lnTo>
                  <a:lnTo>
                    <a:pt x="421" y="392"/>
                  </a:lnTo>
                  <a:lnTo>
                    <a:pt x="421" y="392"/>
                  </a:lnTo>
                  <a:lnTo>
                    <a:pt x="553" y="286"/>
                  </a:lnTo>
                  <a:lnTo>
                    <a:pt x="705" y="196"/>
                  </a:lnTo>
                  <a:lnTo>
                    <a:pt x="877" y="122"/>
                  </a:lnTo>
                  <a:lnTo>
                    <a:pt x="877" y="122"/>
                  </a:lnTo>
                  <a:lnTo>
                    <a:pt x="1066" y="67"/>
                  </a:lnTo>
                  <a:lnTo>
                    <a:pt x="1264" y="33"/>
                  </a:lnTo>
                  <a:lnTo>
                    <a:pt x="1474" y="22"/>
                  </a:lnTo>
                  <a:lnTo>
                    <a:pt x="1474" y="22"/>
                  </a:lnTo>
                  <a:lnTo>
                    <a:pt x="1506" y="23"/>
                  </a:lnTo>
                  <a:lnTo>
                    <a:pt x="1550" y="26"/>
                  </a:lnTo>
                  <a:lnTo>
                    <a:pt x="1605" y="31"/>
                  </a:lnTo>
                  <a:lnTo>
                    <a:pt x="1605" y="31"/>
                  </a:lnTo>
                  <a:lnTo>
                    <a:pt x="1765" y="37"/>
                  </a:lnTo>
                  <a:lnTo>
                    <a:pt x="1918" y="58"/>
                  </a:lnTo>
                  <a:lnTo>
                    <a:pt x="2063" y="91"/>
                  </a:lnTo>
                  <a:lnTo>
                    <a:pt x="2063" y="91"/>
                  </a:lnTo>
                  <a:lnTo>
                    <a:pt x="2198" y="132"/>
                  </a:lnTo>
                  <a:lnTo>
                    <a:pt x="2316" y="179"/>
                  </a:lnTo>
                  <a:lnTo>
                    <a:pt x="2418" y="230"/>
                  </a:lnTo>
                  <a:lnTo>
                    <a:pt x="2418" y="230"/>
                  </a:lnTo>
                  <a:close/>
                  <a:moveTo>
                    <a:pt x="4486" y="1159"/>
                  </a:moveTo>
                  <a:lnTo>
                    <a:pt x="4565" y="1243"/>
                  </a:lnTo>
                  <a:lnTo>
                    <a:pt x="4629" y="1334"/>
                  </a:lnTo>
                  <a:lnTo>
                    <a:pt x="4679" y="1433"/>
                  </a:lnTo>
                  <a:lnTo>
                    <a:pt x="4679" y="1433"/>
                  </a:lnTo>
                  <a:lnTo>
                    <a:pt x="4715" y="1535"/>
                  </a:lnTo>
                  <a:lnTo>
                    <a:pt x="4735" y="1632"/>
                  </a:lnTo>
                  <a:lnTo>
                    <a:pt x="4742" y="1726"/>
                  </a:lnTo>
                  <a:lnTo>
                    <a:pt x="4742" y="1726"/>
                  </a:lnTo>
                  <a:lnTo>
                    <a:pt x="4732" y="1888"/>
                  </a:lnTo>
                  <a:lnTo>
                    <a:pt x="4705" y="2026"/>
                  </a:lnTo>
                  <a:lnTo>
                    <a:pt x="4659" y="2142"/>
                  </a:lnTo>
                  <a:lnTo>
                    <a:pt x="4659" y="2142"/>
                  </a:lnTo>
                  <a:lnTo>
                    <a:pt x="4566" y="2288"/>
                  </a:lnTo>
                  <a:lnTo>
                    <a:pt x="4455" y="2405"/>
                  </a:lnTo>
                  <a:lnTo>
                    <a:pt x="4324" y="2495"/>
                  </a:lnTo>
                  <a:lnTo>
                    <a:pt x="4324" y="2495"/>
                  </a:lnTo>
                  <a:lnTo>
                    <a:pt x="4174" y="2557"/>
                  </a:lnTo>
                  <a:lnTo>
                    <a:pt x="4011" y="2596"/>
                  </a:lnTo>
                  <a:lnTo>
                    <a:pt x="3831" y="2608"/>
                  </a:lnTo>
                  <a:lnTo>
                    <a:pt x="3831" y="2608"/>
                  </a:lnTo>
                  <a:lnTo>
                    <a:pt x="3632" y="2594"/>
                  </a:lnTo>
                  <a:lnTo>
                    <a:pt x="3455" y="2549"/>
                  </a:lnTo>
                  <a:lnTo>
                    <a:pt x="3299" y="2474"/>
                  </a:lnTo>
                  <a:lnTo>
                    <a:pt x="3299" y="2474"/>
                  </a:lnTo>
                  <a:lnTo>
                    <a:pt x="3167" y="2379"/>
                  </a:lnTo>
                  <a:lnTo>
                    <a:pt x="3063" y="2278"/>
                  </a:lnTo>
                  <a:lnTo>
                    <a:pt x="2987" y="2167"/>
                  </a:lnTo>
                  <a:lnTo>
                    <a:pt x="2987" y="2167"/>
                  </a:lnTo>
                  <a:lnTo>
                    <a:pt x="2935" y="2044"/>
                  </a:lnTo>
                  <a:lnTo>
                    <a:pt x="2903" y="1901"/>
                  </a:lnTo>
                  <a:lnTo>
                    <a:pt x="2893" y="1742"/>
                  </a:lnTo>
                  <a:lnTo>
                    <a:pt x="2893" y="1742"/>
                  </a:lnTo>
                  <a:lnTo>
                    <a:pt x="2897" y="1655"/>
                  </a:lnTo>
                  <a:lnTo>
                    <a:pt x="2913" y="1569"/>
                  </a:lnTo>
                  <a:lnTo>
                    <a:pt x="2937" y="1482"/>
                  </a:lnTo>
                  <a:lnTo>
                    <a:pt x="2937" y="1482"/>
                  </a:lnTo>
                  <a:lnTo>
                    <a:pt x="2970" y="1399"/>
                  </a:lnTo>
                  <a:lnTo>
                    <a:pt x="3011" y="1324"/>
                  </a:lnTo>
                  <a:lnTo>
                    <a:pt x="3059" y="1255"/>
                  </a:lnTo>
                  <a:lnTo>
                    <a:pt x="3059" y="1255"/>
                  </a:lnTo>
                  <a:lnTo>
                    <a:pt x="3113" y="1195"/>
                  </a:lnTo>
                  <a:lnTo>
                    <a:pt x="3169" y="1141"/>
                  </a:lnTo>
                  <a:lnTo>
                    <a:pt x="3230" y="1094"/>
                  </a:lnTo>
                  <a:lnTo>
                    <a:pt x="3230" y="1094"/>
                  </a:lnTo>
                  <a:lnTo>
                    <a:pt x="3319" y="1037"/>
                  </a:lnTo>
                  <a:lnTo>
                    <a:pt x="3410" y="994"/>
                  </a:lnTo>
                  <a:lnTo>
                    <a:pt x="3501" y="961"/>
                  </a:lnTo>
                  <a:lnTo>
                    <a:pt x="3501" y="961"/>
                  </a:lnTo>
                  <a:lnTo>
                    <a:pt x="3598" y="940"/>
                  </a:lnTo>
                  <a:lnTo>
                    <a:pt x="3707" y="926"/>
                  </a:lnTo>
                  <a:lnTo>
                    <a:pt x="3829" y="922"/>
                  </a:lnTo>
                  <a:lnTo>
                    <a:pt x="3829" y="922"/>
                  </a:lnTo>
                  <a:lnTo>
                    <a:pt x="4090" y="948"/>
                  </a:lnTo>
                  <a:lnTo>
                    <a:pt x="4309" y="1027"/>
                  </a:lnTo>
                  <a:lnTo>
                    <a:pt x="4486" y="1159"/>
                  </a:lnTo>
                  <a:lnTo>
                    <a:pt x="4486" y="1159"/>
                  </a:lnTo>
                  <a:close/>
                  <a:moveTo>
                    <a:pt x="3385" y="1826"/>
                  </a:moveTo>
                  <a:lnTo>
                    <a:pt x="3395" y="1963"/>
                  </a:lnTo>
                  <a:lnTo>
                    <a:pt x="3404" y="2054"/>
                  </a:lnTo>
                  <a:lnTo>
                    <a:pt x="3410" y="2101"/>
                  </a:lnTo>
                  <a:lnTo>
                    <a:pt x="3410" y="2101"/>
                  </a:lnTo>
                  <a:lnTo>
                    <a:pt x="3431" y="2183"/>
                  </a:lnTo>
                  <a:lnTo>
                    <a:pt x="3459" y="2257"/>
                  </a:lnTo>
                  <a:lnTo>
                    <a:pt x="3494" y="2324"/>
                  </a:lnTo>
                  <a:lnTo>
                    <a:pt x="3494" y="2324"/>
                  </a:lnTo>
                  <a:lnTo>
                    <a:pt x="3524" y="2362"/>
                  </a:lnTo>
                  <a:lnTo>
                    <a:pt x="3567" y="2397"/>
                  </a:lnTo>
                  <a:lnTo>
                    <a:pt x="3620" y="2429"/>
                  </a:lnTo>
                  <a:lnTo>
                    <a:pt x="3620" y="2429"/>
                  </a:lnTo>
                  <a:lnTo>
                    <a:pt x="3683" y="2455"/>
                  </a:lnTo>
                  <a:lnTo>
                    <a:pt x="3753" y="2470"/>
                  </a:lnTo>
                  <a:lnTo>
                    <a:pt x="3831" y="2476"/>
                  </a:lnTo>
                  <a:lnTo>
                    <a:pt x="3831" y="2476"/>
                  </a:lnTo>
                  <a:lnTo>
                    <a:pt x="3924" y="2466"/>
                  </a:lnTo>
                  <a:lnTo>
                    <a:pt x="4007" y="2437"/>
                  </a:lnTo>
                  <a:lnTo>
                    <a:pt x="4080" y="2387"/>
                  </a:lnTo>
                  <a:lnTo>
                    <a:pt x="4080" y="2387"/>
                  </a:lnTo>
                  <a:lnTo>
                    <a:pt x="4140" y="2316"/>
                  </a:lnTo>
                  <a:lnTo>
                    <a:pt x="4189" y="2222"/>
                  </a:lnTo>
                  <a:lnTo>
                    <a:pt x="4224" y="2105"/>
                  </a:lnTo>
                  <a:lnTo>
                    <a:pt x="4224" y="2105"/>
                  </a:lnTo>
                  <a:lnTo>
                    <a:pt x="4240" y="2004"/>
                  </a:lnTo>
                  <a:lnTo>
                    <a:pt x="4249" y="1867"/>
                  </a:lnTo>
                  <a:lnTo>
                    <a:pt x="4253" y="1695"/>
                  </a:lnTo>
                  <a:lnTo>
                    <a:pt x="4253" y="1695"/>
                  </a:lnTo>
                  <a:lnTo>
                    <a:pt x="4239" y="1483"/>
                  </a:lnTo>
                  <a:lnTo>
                    <a:pt x="4198" y="1319"/>
                  </a:lnTo>
                  <a:lnTo>
                    <a:pt x="4132" y="1199"/>
                  </a:lnTo>
                  <a:lnTo>
                    <a:pt x="4132" y="1199"/>
                  </a:lnTo>
                  <a:lnTo>
                    <a:pt x="4043" y="1118"/>
                  </a:lnTo>
                  <a:lnTo>
                    <a:pt x="3937" y="1070"/>
                  </a:lnTo>
                  <a:lnTo>
                    <a:pt x="3814" y="1054"/>
                  </a:lnTo>
                  <a:lnTo>
                    <a:pt x="3814" y="1054"/>
                  </a:lnTo>
                  <a:lnTo>
                    <a:pt x="3716" y="1062"/>
                  </a:lnTo>
                  <a:lnTo>
                    <a:pt x="3631" y="1091"/>
                  </a:lnTo>
                  <a:lnTo>
                    <a:pt x="3556" y="1136"/>
                  </a:lnTo>
                  <a:lnTo>
                    <a:pt x="3556" y="1136"/>
                  </a:lnTo>
                  <a:lnTo>
                    <a:pt x="3496" y="1200"/>
                  </a:lnTo>
                  <a:lnTo>
                    <a:pt x="3448" y="1282"/>
                  </a:lnTo>
                  <a:lnTo>
                    <a:pt x="3414" y="1381"/>
                  </a:lnTo>
                  <a:lnTo>
                    <a:pt x="3414" y="1381"/>
                  </a:lnTo>
                  <a:lnTo>
                    <a:pt x="3400" y="1477"/>
                  </a:lnTo>
                  <a:lnTo>
                    <a:pt x="3389" y="1625"/>
                  </a:lnTo>
                  <a:lnTo>
                    <a:pt x="3385" y="1826"/>
                  </a:lnTo>
                  <a:lnTo>
                    <a:pt x="3385" y="1826"/>
                  </a:lnTo>
                  <a:close/>
                  <a:moveTo>
                    <a:pt x="6558" y="1159"/>
                  </a:moveTo>
                  <a:lnTo>
                    <a:pt x="6637" y="1243"/>
                  </a:lnTo>
                  <a:lnTo>
                    <a:pt x="6701" y="1334"/>
                  </a:lnTo>
                  <a:lnTo>
                    <a:pt x="6750" y="1433"/>
                  </a:lnTo>
                  <a:lnTo>
                    <a:pt x="6750" y="1433"/>
                  </a:lnTo>
                  <a:lnTo>
                    <a:pt x="6785" y="1535"/>
                  </a:lnTo>
                  <a:lnTo>
                    <a:pt x="6807" y="1632"/>
                  </a:lnTo>
                  <a:lnTo>
                    <a:pt x="6814" y="1726"/>
                  </a:lnTo>
                  <a:lnTo>
                    <a:pt x="6814" y="1726"/>
                  </a:lnTo>
                  <a:lnTo>
                    <a:pt x="6804" y="1888"/>
                  </a:lnTo>
                  <a:lnTo>
                    <a:pt x="6777" y="2026"/>
                  </a:lnTo>
                  <a:lnTo>
                    <a:pt x="6731" y="2142"/>
                  </a:lnTo>
                  <a:lnTo>
                    <a:pt x="6731" y="2142"/>
                  </a:lnTo>
                  <a:lnTo>
                    <a:pt x="6638" y="2288"/>
                  </a:lnTo>
                  <a:lnTo>
                    <a:pt x="6527" y="2405"/>
                  </a:lnTo>
                  <a:lnTo>
                    <a:pt x="6395" y="2495"/>
                  </a:lnTo>
                  <a:lnTo>
                    <a:pt x="6395" y="2495"/>
                  </a:lnTo>
                  <a:lnTo>
                    <a:pt x="6246" y="2557"/>
                  </a:lnTo>
                  <a:lnTo>
                    <a:pt x="6083" y="2596"/>
                  </a:lnTo>
                  <a:lnTo>
                    <a:pt x="5903" y="2608"/>
                  </a:lnTo>
                  <a:lnTo>
                    <a:pt x="5903" y="2608"/>
                  </a:lnTo>
                  <a:lnTo>
                    <a:pt x="5704" y="2594"/>
                  </a:lnTo>
                  <a:lnTo>
                    <a:pt x="5527" y="2549"/>
                  </a:lnTo>
                  <a:lnTo>
                    <a:pt x="5370" y="2474"/>
                  </a:lnTo>
                  <a:lnTo>
                    <a:pt x="5370" y="2474"/>
                  </a:lnTo>
                  <a:lnTo>
                    <a:pt x="5239" y="2379"/>
                  </a:lnTo>
                  <a:lnTo>
                    <a:pt x="5135" y="2278"/>
                  </a:lnTo>
                  <a:lnTo>
                    <a:pt x="5058" y="2167"/>
                  </a:lnTo>
                  <a:lnTo>
                    <a:pt x="5058" y="2167"/>
                  </a:lnTo>
                  <a:lnTo>
                    <a:pt x="5007" y="2044"/>
                  </a:lnTo>
                  <a:lnTo>
                    <a:pt x="4975" y="1901"/>
                  </a:lnTo>
                  <a:lnTo>
                    <a:pt x="4965" y="1742"/>
                  </a:lnTo>
                  <a:lnTo>
                    <a:pt x="4965" y="1742"/>
                  </a:lnTo>
                  <a:lnTo>
                    <a:pt x="4970" y="1655"/>
                  </a:lnTo>
                  <a:lnTo>
                    <a:pt x="4985" y="1569"/>
                  </a:lnTo>
                  <a:lnTo>
                    <a:pt x="5009" y="1482"/>
                  </a:lnTo>
                  <a:lnTo>
                    <a:pt x="5009" y="1482"/>
                  </a:lnTo>
                  <a:lnTo>
                    <a:pt x="5042" y="1399"/>
                  </a:lnTo>
                  <a:lnTo>
                    <a:pt x="5083" y="1324"/>
                  </a:lnTo>
                  <a:lnTo>
                    <a:pt x="5131" y="1255"/>
                  </a:lnTo>
                  <a:lnTo>
                    <a:pt x="5131" y="1255"/>
                  </a:lnTo>
                  <a:lnTo>
                    <a:pt x="5184" y="1195"/>
                  </a:lnTo>
                  <a:lnTo>
                    <a:pt x="5240" y="1141"/>
                  </a:lnTo>
                  <a:lnTo>
                    <a:pt x="5302" y="1094"/>
                  </a:lnTo>
                  <a:lnTo>
                    <a:pt x="5302" y="1094"/>
                  </a:lnTo>
                  <a:lnTo>
                    <a:pt x="5391" y="1037"/>
                  </a:lnTo>
                  <a:lnTo>
                    <a:pt x="5482" y="994"/>
                  </a:lnTo>
                  <a:lnTo>
                    <a:pt x="5572" y="961"/>
                  </a:lnTo>
                  <a:lnTo>
                    <a:pt x="5572" y="961"/>
                  </a:lnTo>
                  <a:lnTo>
                    <a:pt x="5670" y="940"/>
                  </a:lnTo>
                  <a:lnTo>
                    <a:pt x="5778" y="926"/>
                  </a:lnTo>
                  <a:lnTo>
                    <a:pt x="5901" y="922"/>
                  </a:lnTo>
                  <a:lnTo>
                    <a:pt x="5901" y="922"/>
                  </a:lnTo>
                  <a:lnTo>
                    <a:pt x="6162" y="948"/>
                  </a:lnTo>
                  <a:lnTo>
                    <a:pt x="6381" y="1027"/>
                  </a:lnTo>
                  <a:lnTo>
                    <a:pt x="6558" y="1159"/>
                  </a:lnTo>
                  <a:lnTo>
                    <a:pt x="6558" y="1159"/>
                  </a:lnTo>
                  <a:close/>
                  <a:moveTo>
                    <a:pt x="5457" y="1826"/>
                  </a:moveTo>
                  <a:lnTo>
                    <a:pt x="5467" y="1963"/>
                  </a:lnTo>
                  <a:lnTo>
                    <a:pt x="5476" y="2054"/>
                  </a:lnTo>
                  <a:lnTo>
                    <a:pt x="5482" y="2101"/>
                  </a:lnTo>
                  <a:lnTo>
                    <a:pt x="5482" y="2101"/>
                  </a:lnTo>
                  <a:lnTo>
                    <a:pt x="5503" y="2183"/>
                  </a:lnTo>
                  <a:lnTo>
                    <a:pt x="5531" y="2257"/>
                  </a:lnTo>
                  <a:lnTo>
                    <a:pt x="5565" y="2324"/>
                  </a:lnTo>
                  <a:lnTo>
                    <a:pt x="5565" y="2324"/>
                  </a:lnTo>
                  <a:lnTo>
                    <a:pt x="5596" y="2362"/>
                  </a:lnTo>
                  <a:lnTo>
                    <a:pt x="5638" y="2397"/>
                  </a:lnTo>
                  <a:lnTo>
                    <a:pt x="5692" y="2429"/>
                  </a:lnTo>
                  <a:lnTo>
                    <a:pt x="5692" y="2429"/>
                  </a:lnTo>
                  <a:lnTo>
                    <a:pt x="5754" y="2455"/>
                  </a:lnTo>
                  <a:lnTo>
                    <a:pt x="5825" y="2470"/>
                  </a:lnTo>
                  <a:lnTo>
                    <a:pt x="5903" y="2476"/>
                  </a:lnTo>
                  <a:lnTo>
                    <a:pt x="5903" y="2476"/>
                  </a:lnTo>
                  <a:lnTo>
                    <a:pt x="5996" y="2466"/>
                  </a:lnTo>
                  <a:lnTo>
                    <a:pt x="6078" y="2437"/>
                  </a:lnTo>
                  <a:lnTo>
                    <a:pt x="6150" y="2387"/>
                  </a:lnTo>
                  <a:lnTo>
                    <a:pt x="6150" y="2387"/>
                  </a:lnTo>
                  <a:lnTo>
                    <a:pt x="6212" y="2316"/>
                  </a:lnTo>
                  <a:lnTo>
                    <a:pt x="6260" y="2222"/>
                  </a:lnTo>
                  <a:lnTo>
                    <a:pt x="6295" y="2105"/>
                  </a:lnTo>
                  <a:lnTo>
                    <a:pt x="6295" y="2105"/>
                  </a:lnTo>
                  <a:lnTo>
                    <a:pt x="6312" y="2004"/>
                  </a:lnTo>
                  <a:lnTo>
                    <a:pt x="6321" y="1867"/>
                  </a:lnTo>
                  <a:lnTo>
                    <a:pt x="6325" y="1695"/>
                  </a:lnTo>
                  <a:lnTo>
                    <a:pt x="6325" y="1695"/>
                  </a:lnTo>
                  <a:lnTo>
                    <a:pt x="6311" y="1483"/>
                  </a:lnTo>
                  <a:lnTo>
                    <a:pt x="6270" y="1319"/>
                  </a:lnTo>
                  <a:lnTo>
                    <a:pt x="6204" y="1199"/>
                  </a:lnTo>
                  <a:lnTo>
                    <a:pt x="6204" y="1199"/>
                  </a:lnTo>
                  <a:lnTo>
                    <a:pt x="6114" y="1118"/>
                  </a:lnTo>
                  <a:lnTo>
                    <a:pt x="6009" y="1070"/>
                  </a:lnTo>
                  <a:lnTo>
                    <a:pt x="5886" y="1054"/>
                  </a:lnTo>
                  <a:lnTo>
                    <a:pt x="5886" y="1054"/>
                  </a:lnTo>
                  <a:lnTo>
                    <a:pt x="5788" y="1062"/>
                  </a:lnTo>
                  <a:lnTo>
                    <a:pt x="5702" y="1091"/>
                  </a:lnTo>
                  <a:lnTo>
                    <a:pt x="5628" y="1136"/>
                  </a:lnTo>
                  <a:lnTo>
                    <a:pt x="5628" y="1136"/>
                  </a:lnTo>
                  <a:lnTo>
                    <a:pt x="5568" y="1200"/>
                  </a:lnTo>
                  <a:lnTo>
                    <a:pt x="5520" y="1282"/>
                  </a:lnTo>
                  <a:lnTo>
                    <a:pt x="5486" y="1381"/>
                  </a:lnTo>
                  <a:lnTo>
                    <a:pt x="5486" y="1381"/>
                  </a:lnTo>
                  <a:lnTo>
                    <a:pt x="5472" y="1477"/>
                  </a:lnTo>
                  <a:lnTo>
                    <a:pt x="5461" y="1625"/>
                  </a:lnTo>
                  <a:lnTo>
                    <a:pt x="5457" y="1826"/>
                  </a:lnTo>
                  <a:lnTo>
                    <a:pt x="5457" y="1826"/>
                  </a:lnTo>
                  <a:close/>
                  <a:moveTo>
                    <a:pt x="7417" y="1085"/>
                  </a:moveTo>
                  <a:lnTo>
                    <a:pt x="7482" y="1046"/>
                  </a:lnTo>
                  <a:lnTo>
                    <a:pt x="7546" y="1015"/>
                  </a:lnTo>
                  <a:lnTo>
                    <a:pt x="7607" y="992"/>
                  </a:lnTo>
                  <a:lnTo>
                    <a:pt x="7607" y="992"/>
                  </a:lnTo>
                  <a:lnTo>
                    <a:pt x="7677" y="974"/>
                  </a:lnTo>
                  <a:lnTo>
                    <a:pt x="7763" y="958"/>
                  </a:lnTo>
                  <a:lnTo>
                    <a:pt x="7867" y="947"/>
                  </a:lnTo>
                  <a:lnTo>
                    <a:pt x="7867" y="947"/>
                  </a:lnTo>
                  <a:lnTo>
                    <a:pt x="7979" y="947"/>
                  </a:lnTo>
                  <a:lnTo>
                    <a:pt x="7979" y="947"/>
                  </a:lnTo>
                  <a:lnTo>
                    <a:pt x="8123" y="962"/>
                  </a:lnTo>
                  <a:lnTo>
                    <a:pt x="8264" y="1011"/>
                  </a:lnTo>
                  <a:lnTo>
                    <a:pt x="8401" y="1092"/>
                  </a:lnTo>
                  <a:lnTo>
                    <a:pt x="8401" y="1092"/>
                  </a:lnTo>
                  <a:lnTo>
                    <a:pt x="8405" y="1046"/>
                  </a:lnTo>
                  <a:lnTo>
                    <a:pt x="8402" y="917"/>
                  </a:lnTo>
                  <a:lnTo>
                    <a:pt x="8410" y="709"/>
                  </a:lnTo>
                  <a:lnTo>
                    <a:pt x="8410" y="709"/>
                  </a:lnTo>
                  <a:lnTo>
                    <a:pt x="8405" y="520"/>
                  </a:lnTo>
                  <a:lnTo>
                    <a:pt x="8387" y="382"/>
                  </a:lnTo>
                  <a:lnTo>
                    <a:pt x="8359" y="297"/>
                  </a:lnTo>
                  <a:lnTo>
                    <a:pt x="8359" y="297"/>
                  </a:lnTo>
                  <a:lnTo>
                    <a:pt x="8333" y="268"/>
                  </a:lnTo>
                  <a:lnTo>
                    <a:pt x="8297" y="250"/>
                  </a:lnTo>
                  <a:lnTo>
                    <a:pt x="8253" y="242"/>
                  </a:lnTo>
                  <a:lnTo>
                    <a:pt x="8253" y="242"/>
                  </a:lnTo>
                  <a:lnTo>
                    <a:pt x="8206" y="237"/>
                  </a:lnTo>
                  <a:lnTo>
                    <a:pt x="8164" y="229"/>
                  </a:lnTo>
                  <a:lnTo>
                    <a:pt x="8131" y="217"/>
                  </a:lnTo>
                  <a:lnTo>
                    <a:pt x="8131" y="217"/>
                  </a:lnTo>
                  <a:lnTo>
                    <a:pt x="8131" y="124"/>
                  </a:lnTo>
                  <a:lnTo>
                    <a:pt x="8131" y="124"/>
                  </a:lnTo>
                  <a:lnTo>
                    <a:pt x="8159" y="117"/>
                  </a:lnTo>
                  <a:lnTo>
                    <a:pt x="8192" y="112"/>
                  </a:lnTo>
                  <a:lnTo>
                    <a:pt x="8230" y="111"/>
                  </a:lnTo>
                  <a:lnTo>
                    <a:pt x="8230" y="111"/>
                  </a:lnTo>
                  <a:lnTo>
                    <a:pt x="8282" y="106"/>
                  </a:lnTo>
                  <a:lnTo>
                    <a:pt x="8361" y="93"/>
                  </a:lnTo>
                  <a:lnTo>
                    <a:pt x="8464" y="72"/>
                  </a:lnTo>
                  <a:lnTo>
                    <a:pt x="8464" y="72"/>
                  </a:lnTo>
                  <a:lnTo>
                    <a:pt x="8533" y="58"/>
                  </a:lnTo>
                  <a:lnTo>
                    <a:pt x="8733" y="13"/>
                  </a:lnTo>
                  <a:lnTo>
                    <a:pt x="8733" y="13"/>
                  </a:lnTo>
                  <a:lnTo>
                    <a:pt x="8768" y="6"/>
                  </a:lnTo>
                  <a:lnTo>
                    <a:pt x="8793" y="2"/>
                  </a:lnTo>
                  <a:lnTo>
                    <a:pt x="8807" y="0"/>
                  </a:lnTo>
                  <a:lnTo>
                    <a:pt x="8807" y="0"/>
                  </a:lnTo>
                  <a:lnTo>
                    <a:pt x="8816" y="1"/>
                  </a:lnTo>
                  <a:lnTo>
                    <a:pt x="8826" y="2"/>
                  </a:lnTo>
                  <a:lnTo>
                    <a:pt x="8840" y="4"/>
                  </a:lnTo>
                  <a:lnTo>
                    <a:pt x="8840" y="4"/>
                  </a:lnTo>
                  <a:lnTo>
                    <a:pt x="8847" y="29"/>
                  </a:lnTo>
                  <a:lnTo>
                    <a:pt x="8850" y="49"/>
                  </a:lnTo>
                  <a:lnTo>
                    <a:pt x="8851" y="64"/>
                  </a:lnTo>
                  <a:lnTo>
                    <a:pt x="8851" y="64"/>
                  </a:lnTo>
                  <a:lnTo>
                    <a:pt x="8849" y="94"/>
                  </a:lnTo>
                  <a:lnTo>
                    <a:pt x="8849" y="128"/>
                  </a:lnTo>
                  <a:lnTo>
                    <a:pt x="8849" y="128"/>
                  </a:lnTo>
                  <a:lnTo>
                    <a:pt x="8850" y="183"/>
                  </a:lnTo>
                  <a:lnTo>
                    <a:pt x="8851" y="279"/>
                  </a:lnTo>
                  <a:lnTo>
                    <a:pt x="8855" y="416"/>
                  </a:lnTo>
                  <a:lnTo>
                    <a:pt x="8855" y="416"/>
                  </a:lnTo>
                  <a:lnTo>
                    <a:pt x="8855" y="519"/>
                  </a:lnTo>
                  <a:lnTo>
                    <a:pt x="8857" y="575"/>
                  </a:lnTo>
                  <a:lnTo>
                    <a:pt x="8855" y="671"/>
                  </a:lnTo>
                  <a:lnTo>
                    <a:pt x="8861" y="872"/>
                  </a:lnTo>
                  <a:lnTo>
                    <a:pt x="8857" y="990"/>
                  </a:lnTo>
                  <a:lnTo>
                    <a:pt x="8857" y="990"/>
                  </a:lnTo>
                  <a:lnTo>
                    <a:pt x="8855" y="1050"/>
                  </a:lnTo>
                  <a:lnTo>
                    <a:pt x="8854" y="1132"/>
                  </a:lnTo>
                  <a:lnTo>
                    <a:pt x="8853" y="1232"/>
                  </a:lnTo>
                  <a:lnTo>
                    <a:pt x="8853" y="1232"/>
                  </a:lnTo>
                  <a:lnTo>
                    <a:pt x="8853" y="1250"/>
                  </a:lnTo>
                  <a:lnTo>
                    <a:pt x="8854" y="1266"/>
                  </a:lnTo>
                  <a:lnTo>
                    <a:pt x="8855" y="1280"/>
                  </a:lnTo>
                  <a:lnTo>
                    <a:pt x="8855" y="1280"/>
                  </a:lnTo>
                  <a:lnTo>
                    <a:pt x="8855" y="1352"/>
                  </a:lnTo>
                  <a:lnTo>
                    <a:pt x="8855" y="1352"/>
                  </a:lnTo>
                  <a:lnTo>
                    <a:pt x="8854" y="1371"/>
                  </a:lnTo>
                  <a:lnTo>
                    <a:pt x="8853" y="1386"/>
                  </a:lnTo>
                  <a:lnTo>
                    <a:pt x="8853" y="1398"/>
                  </a:lnTo>
                  <a:lnTo>
                    <a:pt x="8853" y="1398"/>
                  </a:lnTo>
                  <a:lnTo>
                    <a:pt x="8854" y="1421"/>
                  </a:lnTo>
                  <a:lnTo>
                    <a:pt x="8855" y="1448"/>
                  </a:lnTo>
                  <a:lnTo>
                    <a:pt x="8859" y="1481"/>
                  </a:lnTo>
                  <a:lnTo>
                    <a:pt x="8859" y="1481"/>
                  </a:lnTo>
                  <a:lnTo>
                    <a:pt x="8859" y="1588"/>
                  </a:lnTo>
                  <a:lnTo>
                    <a:pt x="8857" y="1628"/>
                  </a:lnTo>
                  <a:lnTo>
                    <a:pt x="8857" y="1628"/>
                  </a:lnTo>
                  <a:lnTo>
                    <a:pt x="8855" y="1670"/>
                  </a:lnTo>
                  <a:lnTo>
                    <a:pt x="8854" y="1721"/>
                  </a:lnTo>
                  <a:lnTo>
                    <a:pt x="8853" y="1782"/>
                  </a:lnTo>
                  <a:lnTo>
                    <a:pt x="8853" y="1782"/>
                  </a:lnTo>
                  <a:lnTo>
                    <a:pt x="8854" y="1846"/>
                  </a:lnTo>
                  <a:lnTo>
                    <a:pt x="8855" y="1907"/>
                  </a:lnTo>
                  <a:lnTo>
                    <a:pt x="8857" y="1963"/>
                  </a:lnTo>
                  <a:lnTo>
                    <a:pt x="8857" y="1963"/>
                  </a:lnTo>
                  <a:lnTo>
                    <a:pt x="8858" y="1984"/>
                  </a:lnTo>
                  <a:lnTo>
                    <a:pt x="8859" y="2004"/>
                  </a:lnTo>
                  <a:lnTo>
                    <a:pt x="8859" y="2023"/>
                  </a:lnTo>
                  <a:lnTo>
                    <a:pt x="8859" y="2023"/>
                  </a:lnTo>
                  <a:lnTo>
                    <a:pt x="8859" y="2167"/>
                  </a:lnTo>
                  <a:lnTo>
                    <a:pt x="8859" y="2167"/>
                  </a:lnTo>
                  <a:lnTo>
                    <a:pt x="8859" y="2216"/>
                  </a:lnTo>
                  <a:lnTo>
                    <a:pt x="8861" y="2272"/>
                  </a:lnTo>
                  <a:lnTo>
                    <a:pt x="8864" y="2332"/>
                  </a:lnTo>
                  <a:lnTo>
                    <a:pt x="8864" y="2332"/>
                  </a:lnTo>
                  <a:lnTo>
                    <a:pt x="8899" y="2346"/>
                  </a:lnTo>
                  <a:lnTo>
                    <a:pt x="8958" y="2356"/>
                  </a:lnTo>
                  <a:lnTo>
                    <a:pt x="9041" y="2364"/>
                  </a:lnTo>
                  <a:lnTo>
                    <a:pt x="9041" y="2364"/>
                  </a:lnTo>
                  <a:lnTo>
                    <a:pt x="9069" y="2366"/>
                  </a:lnTo>
                  <a:lnTo>
                    <a:pt x="9096" y="2370"/>
                  </a:lnTo>
                  <a:lnTo>
                    <a:pt x="9119" y="2374"/>
                  </a:lnTo>
                  <a:lnTo>
                    <a:pt x="9119" y="2374"/>
                  </a:lnTo>
                  <a:lnTo>
                    <a:pt x="9125" y="2391"/>
                  </a:lnTo>
                  <a:lnTo>
                    <a:pt x="9128" y="2405"/>
                  </a:lnTo>
                  <a:lnTo>
                    <a:pt x="9131" y="2416"/>
                  </a:lnTo>
                  <a:lnTo>
                    <a:pt x="9131" y="2416"/>
                  </a:lnTo>
                  <a:lnTo>
                    <a:pt x="9128" y="2429"/>
                  </a:lnTo>
                  <a:lnTo>
                    <a:pt x="9123" y="2447"/>
                  </a:lnTo>
                  <a:lnTo>
                    <a:pt x="9115" y="2468"/>
                  </a:lnTo>
                  <a:lnTo>
                    <a:pt x="9115" y="2468"/>
                  </a:lnTo>
                  <a:lnTo>
                    <a:pt x="9060" y="2479"/>
                  </a:lnTo>
                  <a:lnTo>
                    <a:pt x="9001" y="2490"/>
                  </a:lnTo>
                  <a:lnTo>
                    <a:pt x="8942" y="2497"/>
                  </a:lnTo>
                  <a:lnTo>
                    <a:pt x="8942" y="2497"/>
                  </a:lnTo>
                  <a:lnTo>
                    <a:pt x="8776" y="2522"/>
                  </a:lnTo>
                  <a:lnTo>
                    <a:pt x="8645" y="2553"/>
                  </a:lnTo>
                  <a:lnTo>
                    <a:pt x="8550" y="2590"/>
                  </a:lnTo>
                  <a:lnTo>
                    <a:pt x="8550" y="2590"/>
                  </a:lnTo>
                  <a:lnTo>
                    <a:pt x="8515" y="2606"/>
                  </a:lnTo>
                  <a:lnTo>
                    <a:pt x="8489" y="2617"/>
                  </a:lnTo>
                  <a:lnTo>
                    <a:pt x="8472" y="2620"/>
                  </a:lnTo>
                  <a:lnTo>
                    <a:pt x="8472" y="2620"/>
                  </a:lnTo>
                  <a:lnTo>
                    <a:pt x="8456" y="2620"/>
                  </a:lnTo>
                  <a:lnTo>
                    <a:pt x="8439" y="2619"/>
                  </a:lnTo>
                  <a:lnTo>
                    <a:pt x="8420" y="2617"/>
                  </a:lnTo>
                  <a:lnTo>
                    <a:pt x="8420" y="2617"/>
                  </a:lnTo>
                  <a:lnTo>
                    <a:pt x="8421" y="2596"/>
                  </a:lnTo>
                  <a:lnTo>
                    <a:pt x="8422" y="2581"/>
                  </a:lnTo>
                  <a:lnTo>
                    <a:pt x="8422" y="2572"/>
                  </a:lnTo>
                  <a:lnTo>
                    <a:pt x="8422" y="2572"/>
                  </a:lnTo>
                  <a:lnTo>
                    <a:pt x="8421" y="2495"/>
                  </a:lnTo>
                  <a:lnTo>
                    <a:pt x="8419" y="2439"/>
                  </a:lnTo>
                  <a:lnTo>
                    <a:pt x="8417" y="2404"/>
                  </a:lnTo>
                  <a:lnTo>
                    <a:pt x="8417" y="2404"/>
                  </a:lnTo>
                  <a:lnTo>
                    <a:pt x="8394" y="2416"/>
                  </a:lnTo>
                  <a:lnTo>
                    <a:pt x="8369" y="2429"/>
                  </a:lnTo>
                  <a:lnTo>
                    <a:pt x="8342" y="2445"/>
                  </a:lnTo>
                  <a:lnTo>
                    <a:pt x="8342" y="2445"/>
                  </a:lnTo>
                  <a:lnTo>
                    <a:pt x="8255" y="2491"/>
                  </a:lnTo>
                  <a:lnTo>
                    <a:pt x="8172" y="2527"/>
                  </a:lnTo>
                  <a:lnTo>
                    <a:pt x="8096" y="2552"/>
                  </a:lnTo>
                  <a:lnTo>
                    <a:pt x="8096" y="2552"/>
                  </a:lnTo>
                  <a:lnTo>
                    <a:pt x="8018" y="2569"/>
                  </a:lnTo>
                  <a:lnTo>
                    <a:pt x="7934" y="2578"/>
                  </a:lnTo>
                  <a:lnTo>
                    <a:pt x="7843" y="2582"/>
                  </a:lnTo>
                  <a:lnTo>
                    <a:pt x="7843" y="2582"/>
                  </a:lnTo>
                  <a:lnTo>
                    <a:pt x="7684" y="2571"/>
                  </a:lnTo>
                  <a:lnTo>
                    <a:pt x="7550" y="2541"/>
                  </a:lnTo>
                  <a:lnTo>
                    <a:pt x="7438" y="2490"/>
                  </a:lnTo>
                  <a:lnTo>
                    <a:pt x="7438" y="2490"/>
                  </a:lnTo>
                  <a:lnTo>
                    <a:pt x="7304" y="2393"/>
                  </a:lnTo>
                  <a:lnTo>
                    <a:pt x="7200" y="2285"/>
                  </a:lnTo>
                  <a:lnTo>
                    <a:pt x="7128" y="2166"/>
                  </a:lnTo>
                  <a:lnTo>
                    <a:pt x="7128" y="2166"/>
                  </a:lnTo>
                  <a:lnTo>
                    <a:pt x="7081" y="2035"/>
                  </a:lnTo>
                  <a:lnTo>
                    <a:pt x="7052" y="1897"/>
                  </a:lnTo>
                  <a:lnTo>
                    <a:pt x="7043" y="1751"/>
                  </a:lnTo>
                  <a:lnTo>
                    <a:pt x="7043" y="1751"/>
                  </a:lnTo>
                  <a:lnTo>
                    <a:pt x="7084" y="1504"/>
                  </a:lnTo>
                  <a:lnTo>
                    <a:pt x="7209" y="1282"/>
                  </a:lnTo>
                  <a:lnTo>
                    <a:pt x="7417" y="1085"/>
                  </a:lnTo>
                  <a:lnTo>
                    <a:pt x="7417" y="1085"/>
                  </a:lnTo>
                  <a:close/>
                  <a:moveTo>
                    <a:pt x="8038" y="2362"/>
                  </a:moveTo>
                  <a:lnTo>
                    <a:pt x="8065" y="2365"/>
                  </a:lnTo>
                  <a:lnTo>
                    <a:pt x="8089" y="2366"/>
                  </a:lnTo>
                  <a:lnTo>
                    <a:pt x="8110" y="2366"/>
                  </a:lnTo>
                  <a:lnTo>
                    <a:pt x="8110" y="2366"/>
                  </a:lnTo>
                  <a:lnTo>
                    <a:pt x="8156" y="2363"/>
                  </a:lnTo>
                  <a:lnTo>
                    <a:pt x="8204" y="2353"/>
                  </a:lnTo>
                  <a:lnTo>
                    <a:pt x="8253" y="2339"/>
                  </a:lnTo>
                  <a:lnTo>
                    <a:pt x="8253" y="2339"/>
                  </a:lnTo>
                  <a:lnTo>
                    <a:pt x="8304" y="2318"/>
                  </a:lnTo>
                  <a:lnTo>
                    <a:pt x="8357" y="2292"/>
                  </a:lnTo>
                  <a:lnTo>
                    <a:pt x="8413" y="2260"/>
                  </a:lnTo>
                  <a:lnTo>
                    <a:pt x="8413" y="2260"/>
                  </a:lnTo>
                  <a:lnTo>
                    <a:pt x="8414" y="2223"/>
                  </a:lnTo>
                  <a:lnTo>
                    <a:pt x="8414" y="2196"/>
                  </a:lnTo>
                  <a:lnTo>
                    <a:pt x="8414" y="2180"/>
                  </a:lnTo>
                  <a:lnTo>
                    <a:pt x="8414" y="2180"/>
                  </a:lnTo>
                  <a:lnTo>
                    <a:pt x="8413" y="1827"/>
                  </a:lnTo>
                  <a:lnTo>
                    <a:pt x="8406" y="1582"/>
                  </a:lnTo>
                  <a:lnTo>
                    <a:pt x="8396" y="1445"/>
                  </a:lnTo>
                  <a:lnTo>
                    <a:pt x="8396" y="1445"/>
                  </a:lnTo>
                  <a:lnTo>
                    <a:pt x="8370" y="1342"/>
                  </a:lnTo>
                  <a:lnTo>
                    <a:pt x="8327" y="1254"/>
                  </a:lnTo>
                  <a:lnTo>
                    <a:pt x="8264" y="1186"/>
                  </a:lnTo>
                  <a:lnTo>
                    <a:pt x="8264" y="1186"/>
                  </a:lnTo>
                  <a:lnTo>
                    <a:pt x="8186" y="1136"/>
                  </a:lnTo>
                  <a:lnTo>
                    <a:pt x="8097" y="1105"/>
                  </a:lnTo>
                  <a:lnTo>
                    <a:pt x="7999" y="1096"/>
                  </a:lnTo>
                  <a:lnTo>
                    <a:pt x="7999" y="1096"/>
                  </a:lnTo>
                  <a:lnTo>
                    <a:pt x="7942" y="1099"/>
                  </a:lnTo>
                  <a:lnTo>
                    <a:pt x="7884" y="1109"/>
                  </a:lnTo>
                  <a:lnTo>
                    <a:pt x="7830" y="1126"/>
                  </a:lnTo>
                  <a:lnTo>
                    <a:pt x="7830" y="1126"/>
                  </a:lnTo>
                  <a:lnTo>
                    <a:pt x="7781" y="1150"/>
                  </a:lnTo>
                  <a:lnTo>
                    <a:pt x="7738" y="1179"/>
                  </a:lnTo>
                  <a:lnTo>
                    <a:pt x="7701" y="1216"/>
                  </a:lnTo>
                  <a:lnTo>
                    <a:pt x="7701" y="1216"/>
                  </a:lnTo>
                  <a:lnTo>
                    <a:pt x="7655" y="1275"/>
                  </a:lnTo>
                  <a:lnTo>
                    <a:pt x="7618" y="1339"/>
                  </a:lnTo>
                  <a:lnTo>
                    <a:pt x="7588" y="1408"/>
                  </a:lnTo>
                  <a:lnTo>
                    <a:pt x="7588" y="1408"/>
                  </a:lnTo>
                  <a:lnTo>
                    <a:pt x="7559" y="1506"/>
                  </a:lnTo>
                  <a:lnTo>
                    <a:pt x="7542" y="1600"/>
                  </a:lnTo>
                  <a:lnTo>
                    <a:pt x="7536" y="1689"/>
                  </a:lnTo>
                  <a:lnTo>
                    <a:pt x="7536" y="1689"/>
                  </a:lnTo>
                  <a:lnTo>
                    <a:pt x="7551" y="1882"/>
                  </a:lnTo>
                  <a:lnTo>
                    <a:pt x="7598" y="2043"/>
                  </a:lnTo>
                  <a:lnTo>
                    <a:pt x="7675" y="2170"/>
                  </a:lnTo>
                  <a:lnTo>
                    <a:pt x="7675" y="2170"/>
                  </a:lnTo>
                  <a:lnTo>
                    <a:pt x="7777" y="2266"/>
                  </a:lnTo>
                  <a:lnTo>
                    <a:pt x="7898" y="2329"/>
                  </a:lnTo>
                  <a:lnTo>
                    <a:pt x="8038" y="2362"/>
                  </a:lnTo>
                  <a:lnTo>
                    <a:pt x="8038" y="2362"/>
                  </a:lnTo>
                  <a:close/>
                </a:path>
              </a:pathLst>
            </a:custGeom>
            <a:gradFill rotWithShape="0">
              <a:gsLst>
                <a:gs pos="0">
                  <a:srgbClr val="fff200"/>
                </a:gs>
                <a:gs pos="100000">
                  <a:srgbClr val="4d0808"/>
                </a:gs>
              </a:gsLst>
              <a:lin ang="8100000"/>
            </a:gra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200"/>
            </a:gs>
            <a:gs pos="100000">
              <a:srgbClr val="00008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Great Jobs 4 U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1984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t New York’s Favorite Healthy Restauran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200"/>
            </a:gs>
            <a:gs pos="100000">
              <a:srgbClr val="00008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Good 4 U is Looking For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Experienced waiters and waitresse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rained, creative chef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ssistant chefs: If you’re willing to learn, we’re willing to train you!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>
            <a:hlinkClick r:id="rId1" action="ppaction://hlinksldjump"/>
          </p:cNvPr>
          <p:cNvSpPr/>
          <p:nvPr/>
        </p:nvSpPr>
        <p:spPr>
          <a:xfrm>
            <a:off x="533520" y="5791320"/>
            <a:ext cx="520560" cy="520560"/>
          </a:xfrm>
          <a:custGeom>
            <a:avLst/>
            <a:gdLst>
              <a:gd name="textAreaLeft" fmla="*/ 33480 w 520560"/>
              <a:gd name="textAreaRight" fmla="*/ 487080 w 520560"/>
              <a:gd name="textAreaTop" fmla="*/ 33480 h 520560"/>
              <a:gd name="textAreaBottom" fmla="*/ 487080 h 520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1600">
                <a:moveTo>
                  <a:pt x="108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1600">
                <a:moveTo>
                  <a:pt x="8224" y="8224"/>
                </a:moveTo>
                <a:lnTo>
                  <a:pt x="12088" y="8224"/>
                </a:lnTo>
                <a:lnTo>
                  <a:pt x="12088" y="15221"/>
                </a:lnTo>
                <a:lnTo>
                  <a:pt x="13376" y="15221"/>
                </a:lnTo>
                <a:lnTo>
                  <a:pt x="13376" y="16144"/>
                </a:lnTo>
                <a:lnTo>
                  <a:pt x="8224" y="16144"/>
                </a:lnTo>
                <a:lnTo>
                  <a:pt x="8224" y="15221"/>
                </a:lnTo>
                <a:lnTo>
                  <a:pt x="9512" y="15221"/>
                </a:lnTo>
                <a:lnTo>
                  <a:pt x="9512" y="9129"/>
                </a:lnTo>
                <a:lnTo>
                  <a:pt x="8224" y="9129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ff8200"/>
            </a:gs>
            <a:gs pos="100000">
              <a:srgbClr val="00008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tarting Salaries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314720" y="1905120"/>
            <a:ext cx="651312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4122720"/>
                <a:tab algn="dec" pos="50371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aiter/Waitress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$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8.00 hr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4122720"/>
                <a:tab algn="dec" pos="50371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ssistant Chef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$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12.50 hr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4122720"/>
                <a:tab algn="dec" pos="50371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xperienced Chef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$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17.50 hr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200"/>
            </a:gs>
            <a:gs pos="100000">
              <a:srgbClr val="00008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Interested?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371600" y="1984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ome talk to us 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2T14:13:50Z</dcterms:created>
  <dc:creator>Student Name</dc:creator>
  <dc:description/>
  <dc:language>en-US</dc:language>
  <cp:lastModifiedBy>Administrator</cp:lastModifiedBy>
  <dcterms:modified xsi:type="dcterms:W3CDTF">2004-06-23T11:34:04Z</dcterms:modified>
  <cp:revision>6</cp:revision>
  <dc:subject/>
  <dc:title>Great Jobs 4 U</dc:title>
</cp:coreProperties>
</file>