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B92-D1EE-440D-8500-A968F1EF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35D-B45F-446D-AF86-B1F3412C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D7C-D549-46E2-9FC0-8B0FE1E4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6D4-10B9-413F-AF5D-AE7FF69A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3399-3D23-49BA-88A9-20AA5037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CE1B-BED0-45E7-B34E-2657541B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4F97-F631-4533-975A-B9610067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A3FF-CBF8-4C04-9D40-D1409D58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30B7-E086-49E9-81BF-00E09556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AD1D-C457-49C4-A22F-B0E9AE3E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BDD9-28D5-41BA-A6E7-B015419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C44-3D9A-4B25-9E31-151B8035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346B-DE90-4505-A128-C6E7662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6C23-C0FC-4763-A678-5FE70012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6CA8-8E2A-4DDE-9D68-7EA1D6EB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A96-039D-491F-8945-B99BDF1B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0357-D0CC-4A66-92E3-54E82BC5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132-96E7-49E1-888E-2B778C9D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153-B26A-44A5-BFD9-1F1C7B86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1F8-70A7-4D43-962D-0B8DB062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6D6-EAB5-4153-B35F-18584A40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E0D-D345-42A9-982C-F77C856F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7B1-C27E-4208-8A18-EC66F24B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ECE-131E-437A-9B40-15DF131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ED5-353E-4F7D-81BF-671AA11BD88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76920" y="4876920"/>
            <a:ext cx="4113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>
                      <a:alpha val="60000"/>
                    </a:srgbClr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2dffd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4 U Tea</a:t>
            </a:r>
            <a:endParaRPr b="0" lang="en-US" sz="1800" spc="1" strike="noStrike">
              <a:ln w="12600">
                <a:solidFill>
                  <a:srgbClr val="cc99ff">
                    <a:alpha val="60000"/>
                  </a:srgbClr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2dffd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DF0F-53FA-4CE1-8225-291FAC0D377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Good 4 U Herbal Teas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ew Product Line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666880" y="4648320"/>
            <a:ext cx="56390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>
                      <a:alpha val="60000"/>
                    </a:srgbClr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2dffd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4 U Tea</a:t>
            </a:r>
            <a:endParaRPr b="0" lang="en-US" sz="1800" spc="1" strike="noStrike">
              <a:ln w="12600">
                <a:solidFill>
                  <a:srgbClr val="cc99ff">
                    <a:alpha val="60000"/>
                  </a:srgbClr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2dffd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y Herbal Tea?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ealthy alternative to coffe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licious and refresh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n be served hot or col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Current Customer Preferences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anilla Spice herbal tea is the new best-selling bever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ced and hot tea sales are equa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erbal tea now accounts for 40% of beverage sa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Vanilla Spice Tea Tops the Charts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8640" y="1600200"/>
          <a:ext cx="8226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600200"/>
                    <a:ext cx="8226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5840" y="102960"/>
            <a:ext cx="91598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Vanilla Spice: The Crowd Pleaser</a:t>
            </a:r>
            <a:endParaRPr b="1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00200" y="1752480"/>
          <a:ext cx="6629400" cy="381024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</a:tblGrid>
              <a:tr h="63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Weekly Sales Percentag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anilla Spice Te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6459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164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arkling Wat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6459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164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Juic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6459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164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ffe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6459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164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6459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164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Herbal Tea Goals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321640" y="1533600"/>
            <a:ext cx="4512600" cy="4076280"/>
            <a:chOff x="2321640" y="1533600"/>
            <a:chExt cx="4512600" cy="4076280"/>
          </a:xfrm>
        </p:grpSpPr>
        <p:sp>
          <p:nvSpPr>
            <p:cNvPr id="182" name="_s57358"/>
            <p:cNvSpPr/>
            <p:nvPr/>
          </p:nvSpPr>
          <p:spPr>
            <a:xfrm flipH="1">
              <a:off x="3489840" y="4353480"/>
              <a:ext cx="545760" cy="316440"/>
            </a:xfrm>
            <a:prstGeom prst="line">
              <a:avLst/>
            </a:prstGeom>
            <a:ln w="28440">
              <a:solidFill>
                <a:srgbClr val="006699">
                  <a:alpha val="50000"/>
                </a:srgbClr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_s57357"/>
            <p:cNvSpPr/>
            <p:nvPr/>
          </p:nvSpPr>
          <p:spPr>
            <a:xfrm>
              <a:off x="2321640" y="4355280"/>
              <a:ext cx="1253160" cy="1253160"/>
            </a:xfrm>
            <a:prstGeom prst="ellipse">
              <a:avLst/>
            </a:prstGeom>
            <a:solidFill>
              <a:srgbClr val="edfad2">
                <a:alpha val="50000"/>
              </a:srgbClr>
            </a:solidFill>
            <a:ln w="9360">
              <a:solidFill>
                <a:srgbClr val="00669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440" rIns="10944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Create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Retail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Market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_s57356"/>
            <p:cNvSpPr/>
            <p:nvPr/>
          </p:nvSpPr>
          <p:spPr>
            <a:xfrm>
              <a:off x="5118480" y="4355280"/>
              <a:ext cx="547560" cy="314640"/>
            </a:xfrm>
            <a:prstGeom prst="line">
              <a:avLst/>
            </a:prstGeom>
            <a:ln w="28440">
              <a:solidFill>
                <a:srgbClr val="006699">
                  <a:alpha val="50000"/>
                </a:srgbClr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_s57355"/>
            <p:cNvSpPr/>
            <p:nvPr/>
          </p:nvSpPr>
          <p:spPr>
            <a:xfrm>
              <a:off x="5581080" y="4356720"/>
              <a:ext cx="1253160" cy="1253160"/>
            </a:xfrm>
            <a:prstGeom prst="ellipse">
              <a:avLst/>
            </a:prstGeom>
            <a:solidFill>
              <a:srgbClr val="edfad2">
                <a:alpha val="50000"/>
              </a:srgbClr>
            </a:solidFill>
            <a:ln w="9360">
              <a:solidFill>
                <a:srgbClr val="00669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440" rIns="10944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Repeat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Sales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_s57354"/>
            <p:cNvSpPr/>
            <p:nvPr/>
          </p:nvSpPr>
          <p:spPr>
            <a:xfrm flipV="1">
              <a:off x="4578120" y="2784960"/>
              <a:ext cx="0" cy="631080"/>
            </a:xfrm>
            <a:prstGeom prst="line">
              <a:avLst/>
            </a:prstGeom>
            <a:ln w="28440">
              <a:solidFill>
                <a:srgbClr val="006699">
                  <a:alpha val="50000"/>
                </a:srgbClr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_s57353"/>
            <p:cNvSpPr/>
            <p:nvPr/>
          </p:nvSpPr>
          <p:spPr>
            <a:xfrm>
              <a:off x="3952440" y="1533600"/>
              <a:ext cx="1253160" cy="1253160"/>
            </a:xfrm>
            <a:prstGeom prst="ellipse">
              <a:avLst/>
            </a:prstGeom>
            <a:solidFill>
              <a:srgbClr val="edfad2">
                <a:alpha val="50000"/>
              </a:srgbClr>
            </a:solidFill>
            <a:ln w="9360">
              <a:solidFill>
                <a:srgbClr val="00669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440" rIns="10944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Customer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Recognition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_s57352"/>
            <p:cNvSpPr/>
            <p:nvPr/>
          </p:nvSpPr>
          <p:spPr>
            <a:xfrm>
              <a:off x="3952440" y="3416400"/>
              <a:ext cx="1253160" cy="1253160"/>
            </a:xfrm>
            <a:prstGeom prst="ellipse">
              <a:avLst/>
            </a:prstGeom>
            <a:solidFill>
              <a:srgbClr val="edfad2">
                <a:alpha val="50000"/>
              </a:srgbClr>
            </a:solidFill>
            <a:ln w="9360">
              <a:solidFill>
                <a:srgbClr val="00669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440" rIns="10944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Profitable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Product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 Narrow"/>
                </a:rPr>
                <a:t>Line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Marketing Objectives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media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aunch Vanilla Spice as prototyp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sign package and manufacture local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ll at restaura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u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rket nationally within two year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velop product l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20:16:25Z</dcterms:created>
  <dc:creator>Student Name</dc:creator>
  <dc:description/>
  <dc:language>en-US</dc:language>
  <cp:lastModifiedBy>Student Name</cp:lastModifiedBy>
  <dcterms:modified xsi:type="dcterms:W3CDTF">2002-01-22T20:59:25Z</dcterms:modified>
  <cp:revision>3</cp:revision>
  <dc:subject/>
  <dc:title>Good 4 U Herbal Teas</dc:title>
</cp:coreProperties>
</file>