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2EA-C78C-40FF-B419-95FDC917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6B1-41E2-41FB-843F-F8B5C3B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849-E76F-40F8-80A9-EF6A84EC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FF9-D8E2-402A-B839-7E16F5F8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C73F2-8F6E-41F6-BF3D-828D73D3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F5D1B-3CE5-45EB-B963-96A5378A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0AEF7-E75C-40BD-A140-E1A56212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9125C-8A9B-4849-B0C4-31B611DD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A7863-CF80-4DEA-8A99-14F399C8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D4BD0-77C1-4930-940A-F2430C0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0496D-607F-4103-8D55-7E698E0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89F-C66F-464F-8C73-4FBA704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E5718-EFE6-4E5A-BBCB-7D556DAA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2545-943E-4A94-95EA-347D4EA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987B9-6878-4E75-B770-486C70BF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F1C9B-3A36-458E-BAEC-63575947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ACA90-A765-4F1F-9E3F-DF035201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0F4-90C2-4275-BBB6-80526CE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7F3-9DEC-40B9-A469-C8A66138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C3F-6770-432C-A5F3-7BDB199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2AC-63A2-472B-9E43-78DBB27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239-A454-4A68-97CD-8298C7A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1D8-C5BC-47EA-8652-19F246B9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699-39E7-410A-99C7-E5DD6E7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0ff7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6b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FF42-519C-45E8-9C50-1A2FE58BE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08C4-F18E-456D-AE6F-AB729E7DC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8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b8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6b8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Retreat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Get-aways to regenerate your energy and crea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18000" y="1794240"/>
            <a:ext cx="2820240" cy="1013760"/>
            <a:chOff x="2718000" y="1794240"/>
            <a:chExt cx="2820240" cy="1013760"/>
          </a:xfrm>
        </p:grpSpPr>
        <p:sp>
          <p:nvSpPr>
            <p:cNvPr id="86" name=""/>
            <p:cNvSpPr/>
            <p:nvPr/>
          </p:nvSpPr>
          <p:spPr>
            <a:xfrm>
              <a:off x="4849560" y="2162520"/>
              <a:ext cx="686520" cy="64368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49560" y="2162520"/>
              <a:ext cx="688680" cy="64548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1"/>
                  </a:moveTo>
                  <a:lnTo>
                    <a:pt x="15" y="4"/>
                  </a:lnTo>
                  <a:lnTo>
                    <a:pt x="1491" y="1"/>
                  </a:lnTo>
                  <a:lnTo>
                    <a:pt x="1471" y="179"/>
                  </a:lnTo>
                  <a:lnTo>
                    <a:pt x="1213" y="196"/>
                  </a:lnTo>
                  <a:lnTo>
                    <a:pt x="1213" y="196"/>
                  </a:lnTo>
                  <a:lnTo>
                    <a:pt x="1140" y="204"/>
                  </a:lnTo>
                  <a:lnTo>
                    <a:pt x="1083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89"/>
                  </a:lnTo>
                  <a:lnTo>
                    <a:pt x="1005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0" y="556"/>
                  </a:lnTo>
                  <a:lnTo>
                    <a:pt x="976" y="595"/>
                  </a:lnTo>
                  <a:lnTo>
                    <a:pt x="973" y="627"/>
                  </a:lnTo>
                  <a:lnTo>
                    <a:pt x="973" y="627"/>
                  </a:lnTo>
                  <a:lnTo>
                    <a:pt x="966" y="709"/>
                  </a:lnTo>
                  <a:lnTo>
                    <a:pt x="936" y="918"/>
                  </a:lnTo>
                  <a:lnTo>
                    <a:pt x="927" y="1098"/>
                  </a:lnTo>
                  <a:lnTo>
                    <a:pt x="871" y="1485"/>
                  </a:lnTo>
                  <a:lnTo>
                    <a:pt x="830" y="2046"/>
                  </a:lnTo>
                  <a:lnTo>
                    <a:pt x="830" y="2046"/>
                  </a:lnTo>
                  <a:lnTo>
                    <a:pt x="827" y="2199"/>
                  </a:lnTo>
                  <a:lnTo>
                    <a:pt x="845" y="2336"/>
                  </a:lnTo>
                  <a:lnTo>
                    <a:pt x="886" y="2450"/>
                  </a:lnTo>
                  <a:lnTo>
                    <a:pt x="886" y="2450"/>
                  </a:lnTo>
                  <a:lnTo>
                    <a:pt x="937" y="2522"/>
                  </a:lnTo>
                  <a:lnTo>
                    <a:pt x="999" y="2566"/>
                  </a:lnTo>
                  <a:lnTo>
                    <a:pt x="1083" y="2605"/>
                  </a:lnTo>
                  <a:lnTo>
                    <a:pt x="1083" y="2605"/>
                  </a:lnTo>
                  <a:lnTo>
                    <a:pt x="1204" y="2644"/>
                  </a:lnTo>
                  <a:lnTo>
                    <a:pt x="1342" y="2666"/>
                  </a:lnTo>
                  <a:lnTo>
                    <a:pt x="1471" y="2671"/>
                  </a:lnTo>
                  <a:lnTo>
                    <a:pt x="1471" y="2671"/>
                  </a:lnTo>
                  <a:lnTo>
                    <a:pt x="1592" y="2665"/>
                  </a:lnTo>
                  <a:lnTo>
                    <a:pt x="1677" y="2653"/>
                  </a:lnTo>
                  <a:lnTo>
                    <a:pt x="1790" y="2633"/>
                  </a:lnTo>
                  <a:lnTo>
                    <a:pt x="1790" y="2633"/>
                  </a:lnTo>
                  <a:lnTo>
                    <a:pt x="1862" y="2616"/>
                  </a:lnTo>
                  <a:lnTo>
                    <a:pt x="1926" y="2596"/>
                  </a:lnTo>
                  <a:lnTo>
                    <a:pt x="1979" y="2572"/>
                  </a:lnTo>
                  <a:lnTo>
                    <a:pt x="1979" y="2572"/>
                  </a:lnTo>
                  <a:lnTo>
                    <a:pt x="2040" y="2530"/>
                  </a:lnTo>
                  <a:lnTo>
                    <a:pt x="2079" y="2486"/>
                  </a:lnTo>
                  <a:lnTo>
                    <a:pt x="2109" y="2444"/>
                  </a:lnTo>
                  <a:lnTo>
                    <a:pt x="2109" y="2444"/>
                  </a:lnTo>
                  <a:lnTo>
                    <a:pt x="2162" y="2363"/>
                  </a:lnTo>
                  <a:lnTo>
                    <a:pt x="2197" y="2287"/>
                  </a:lnTo>
                  <a:lnTo>
                    <a:pt x="2226" y="2214"/>
                  </a:lnTo>
                  <a:lnTo>
                    <a:pt x="2226" y="2214"/>
                  </a:lnTo>
                  <a:lnTo>
                    <a:pt x="2264" y="2097"/>
                  </a:lnTo>
                  <a:lnTo>
                    <a:pt x="2297" y="1945"/>
                  </a:lnTo>
                  <a:lnTo>
                    <a:pt x="2324" y="1754"/>
                  </a:lnTo>
                  <a:lnTo>
                    <a:pt x="2324" y="1754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1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2" y="418"/>
                  </a:lnTo>
                  <a:lnTo>
                    <a:pt x="2422" y="418"/>
                  </a:lnTo>
                  <a:lnTo>
                    <a:pt x="2422" y="340"/>
                  </a:lnTo>
                  <a:lnTo>
                    <a:pt x="2415" y="280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1" y="202"/>
                  </a:lnTo>
                  <a:lnTo>
                    <a:pt x="2301" y="179"/>
                  </a:lnTo>
                  <a:lnTo>
                    <a:pt x="2246" y="172"/>
                  </a:lnTo>
                  <a:lnTo>
                    <a:pt x="2246" y="172"/>
                  </a:lnTo>
                  <a:lnTo>
                    <a:pt x="2039" y="176"/>
                  </a:lnTo>
                  <a:lnTo>
                    <a:pt x="2010" y="170"/>
                  </a:lnTo>
                  <a:lnTo>
                    <a:pt x="2035" y="0"/>
                  </a:lnTo>
                  <a:lnTo>
                    <a:pt x="3215" y="1"/>
                  </a:lnTo>
                  <a:lnTo>
                    <a:pt x="3204" y="165"/>
                  </a:lnTo>
                  <a:lnTo>
                    <a:pt x="3204" y="165"/>
                  </a:lnTo>
                  <a:lnTo>
                    <a:pt x="3146" y="177"/>
                  </a:lnTo>
                  <a:lnTo>
                    <a:pt x="3084" y="188"/>
                  </a:lnTo>
                  <a:lnTo>
                    <a:pt x="3023" y="194"/>
                  </a:lnTo>
                  <a:lnTo>
                    <a:pt x="3023" y="194"/>
                  </a:lnTo>
                  <a:lnTo>
                    <a:pt x="2937" y="205"/>
                  </a:lnTo>
                  <a:lnTo>
                    <a:pt x="2882" y="217"/>
                  </a:lnTo>
                  <a:lnTo>
                    <a:pt x="2856" y="227"/>
                  </a:lnTo>
                  <a:lnTo>
                    <a:pt x="2856" y="227"/>
                  </a:lnTo>
                  <a:lnTo>
                    <a:pt x="2836" y="249"/>
                  </a:lnTo>
                  <a:lnTo>
                    <a:pt x="2823" y="276"/>
                  </a:lnTo>
                  <a:lnTo>
                    <a:pt x="2815" y="310"/>
                  </a:lnTo>
                  <a:lnTo>
                    <a:pt x="2815" y="310"/>
                  </a:lnTo>
                  <a:lnTo>
                    <a:pt x="2812" y="342"/>
                  </a:lnTo>
                  <a:lnTo>
                    <a:pt x="2809" y="379"/>
                  </a:lnTo>
                  <a:lnTo>
                    <a:pt x="2807" y="427"/>
                  </a:lnTo>
                  <a:lnTo>
                    <a:pt x="2807" y="427"/>
                  </a:lnTo>
                  <a:lnTo>
                    <a:pt x="2805" y="473"/>
                  </a:lnTo>
                  <a:lnTo>
                    <a:pt x="2799" y="538"/>
                  </a:lnTo>
                  <a:lnTo>
                    <a:pt x="2789" y="621"/>
                  </a:lnTo>
                  <a:lnTo>
                    <a:pt x="2789" y="621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3" y="775"/>
                  </a:lnTo>
                  <a:lnTo>
                    <a:pt x="2771" y="804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49" y="1052"/>
                  </a:lnTo>
                  <a:lnTo>
                    <a:pt x="2739" y="1163"/>
                  </a:lnTo>
                  <a:lnTo>
                    <a:pt x="2739" y="1163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099"/>
                  </a:lnTo>
                  <a:lnTo>
                    <a:pt x="2652" y="2239"/>
                  </a:lnTo>
                  <a:lnTo>
                    <a:pt x="2652" y="2239"/>
                  </a:lnTo>
                  <a:lnTo>
                    <a:pt x="2617" y="2335"/>
                  </a:lnTo>
                  <a:lnTo>
                    <a:pt x="2580" y="2416"/>
                  </a:lnTo>
                  <a:lnTo>
                    <a:pt x="2538" y="2483"/>
                  </a:lnTo>
                  <a:lnTo>
                    <a:pt x="2538" y="2483"/>
                  </a:lnTo>
                  <a:lnTo>
                    <a:pt x="2469" y="2578"/>
                  </a:lnTo>
                  <a:lnTo>
                    <a:pt x="2389" y="2676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1" y="2835"/>
                  </a:lnTo>
                  <a:lnTo>
                    <a:pt x="2059" y="2901"/>
                  </a:lnTo>
                  <a:lnTo>
                    <a:pt x="1901" y="2956"/>
                  </a:lnTo>
                  <a:lnTo>
                    <a:pt x="1901" y="2956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6" y="3020"/>
                  </a:lnTo>
                  <a:lnTo>
                    <a:pt x="1276" y="3020"/>
                  </a:lnTo>
                  <a:lnTo>
                    <a:pt x="1052" y="2991"/>
                  </a:lnTo>
                  <a:lnTo>
                    <a:pt x="846" y="2935"/>
                  </a:lnTo>
                  <a:lnTo>
                    <a:pt x="669" y="2870"/>
                  </a:lnTo>
                  <a:lnTo>
                    <a:pt x="669" y="2870"/>
                  </a:lnTo>
                  <a:lnTo>
                    <a:pt x="529" y="2801"/>
                  </a:lnTo>
                  <a:lnTo>
                    <a:pt x="416" y="2720"/>
                  </a:lnTo>
                  <a:lnTo>
                    <a:pt x="331" y="2625"/>
                  </a:lnTo>
                  <a:lnTo>
                    <a:pt x="331" y="2625"/>
                  </a:lnTo>
                  <a:lnTo>
                    <a:pt x="270" y="2516"/>
                  </a:lnTo>
                  <a:lnTo>
                    <a:pt x="229" y="2385"/>
                  </a:lnTo>
                  <a:lnTo>
                    <a:pt x="209" y="2234"/>
                  </a:lnTo>
                  <a:lnTo>
                    <a:pt x="209" y="2234"/>
                  </a:lnTo>
                  <a:lnTo>
                    <a:pt x="205" y="2108"/>
                  </a:lnTo>
                  <a:lnTo>
                    <a:pt x="214" y="1949"/>
                  </a:lnTo>
                  <a:lnTo>
                    <a:pt x="234" y="1760"/>
                  </a:lnTo>
                  <a:lnTo>
                    <a:pt x="234" y="1760"/>
                  </a:lnTo>
                  <a:lnTo>
                    <a:pt x="367" y="692"/>
                  </a:lnTo>
                  <a:lnTo>
                    <a:pt x="367" y="692"/>
                  </a:lnTo>
                  <a:lnTo>
                    <a:pt x="389" y="477"/>
                  </a:lnTo>
                  <a:lnTo>
                    <a:pt x="395" y="335"/>
                  </a:lnTo>
                  <a:lnTo>
                    <a:pt x="384" y="266"/>
                  </a:lnTo>
                  <a:lnTo>
                    <a:pt x="384" y="266"/>
                  </a:lnTo>
                  <a:lnTo>
                    <a:pt x="334" y="226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6" y="185"/>
                  </a:lnTo>
                  <a:lnTo>
                    <a:pt x="0" y="181"/>
                  </a:lnTo>
                  <a:lnTo>
                    <a:pt x="0" y="1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8480" y="1949760"/>
              <a:ext cx="905760" cy="85032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18480" y="1949760"/>
              <a:ext cx="905760" cy="850320"/>
            </a:xfrm>
            <a:custGeom>
              <a:avLst/>
              <a:gdLst/>
              <a:ahLst/>
              <a:rect l="l" t="t" r="r" b="b"/>
              <a:pathLst>
                <a:path w="4240" h="3994">
                  <a:moveTo>
                    <a:pt x="4240" y="2391"/>
                  </a:moveTo>
                  <a:lnTo>
                    <a:pt x="3689" y="3163"/>
                  </a:lnTo>
                  <a:lnTo>
                    <a:pt x="3018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6" y="3678"/>
                  </a:lnTo>
                  <a:lnTo>
                    <a:pt x="2932" y="3860"/>
                  </a:lnTo>
                  <a:lnTo>
                    <a:pt x="3050" y="3969"/>
                  </a:lnTo>
                  <a:lnTo>
                    <a:pt x="3050" y="3969"/>
                  </a:lnTo>
                  <a:lnTo>
                    <a:pt x="2939" y="3994"/>
                  </a:lnTo>
                  <a:lnTo>
                    <a:pt x="1741" y="3994"/>
                  </a:lnTo>
                  <a:lnTo>
                    <a:pt x="1763" y="3969"/>
                  </a:lnTo>
                  <a:lnTo>
                    <a:pt x="1763" y="3969"/>
                  </a:lnTo>
                  <a:lnTo>
                    <a:pt x="1875" y="3927"/>
                  </a:lnTo>
                  <a:lnTo>
                    <a:pt x="1966" y="3877"/>
                  </a:lnTo>
                  <a:lnTo>
                    <a:pt x="2038" y="3820"/>
                  </a:lnTo>
                  <a:lnTo>
                    <a:pt x="2038" y="3820"/>
                  </a:lnTo>
                  <a:lnTo>
                    <a:pt x="2097" y="3749"/>
                  </a:lnTo>
                  <a:lnTo>
                    <a:pt x="2146" y="3660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9" y="3173"/>
                  </a:lnTo>
                  <a:lnTo>
                    <a:pt x="0" y="3173"/>
                  </a:lnTo>
                  <a:lnTo>
                    <a:pt x="2898" y="0"/>
                  </a:lnTo>
                  <a:lnTo>
                    <a:pt x="4026" y="0"/>
                  </a:lnTo>
                  <a:lnTo>
                    <a:pt x="3209" y="2645"/>
                  </a:lnTo>
                  <a:lnTo>
                    <a:pt x="3209" y="2645"/>
                  </a:lnTo>
                  <a:lnTo>
                    <a:pt x="3368" y="2639"/>
                  </a:lnTo>
                  <a:lnTo>
                    <a:pt x="3566" y="2622"/>
                  </a:lnTo>
                  <a:lnTo>
                    <a:pt x="3721" y="2600"/>
                  </a:lnTo>
                  <a:lnTo>
                    <a:pt x="3721" y="2600"/>
                  </a:lnTo>
                  <a:lnTo>
                    <a:pt x="3899" y="2552"/>
                  </a:lnTo>
                  <a:lnTo>
                    <a:pt x="4072" y="2482"/>
                  </a:lnTo>
                  <a:lnTo>
                    <a:pt x="4240" y="2391"/>
                  </a:lnTo>
                  <a:lnTo>
                    <a:pt x="4240" y="23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72640" y="2041560"/>
              <a:ext cx="421200" cy="474480"/>
            </a:xfrm>
            <a:custGeom>
              <a:avLst/>
              <a:gdLst/>
              <a:ahLst/>
              <a:rect l="l" t="t" r="r" b="b"/>
              <a:pathLst>
                <a:path w="1969" h="2223">
                  <a:moveTo>
                    <a:pt x="1300" y="2223"/>
                  </a:moveTo>
                  <a:lnTo>
                    <a:pt x="1969" y="0"/>
                  </a:lnTo>
                  <a:lnTo>
                    <a:pt x="0" y="2216"/>
                  </a:lnTo>
                  <a:lnTo>
                    <a:pt x="0" y="2216"/>
                  </a:lnTo>
                  <a:lnTo>
                    <a:pt x="178" y="2217"/>
                  </a:lnTo>
                  <a:lnTo>
                    <a:pt x="354" y="2217"/>
                  </a:lnTo>
                  <a:lnTo>
                    <a:pt x="531" y="2218"/>
                  </a:lnTo>
                  <a:lnTo>
                    <a:pt x="531" y="2218"/>
                  </a:lnTo>
                  <a:lnTo>
                    <a:pt x="700" y="2219"/>
                  </a:lnTo>
                  <a:lnTo>
                    <a:pt x="852" y="2220"/>
                  </a:lnTo>
                  <a:lnTo>
                    <a:pt x="988" y="2221"/>
                  </a:lnTo>
                  <a:lnTo>
                    <a:pt x="988" y="2221"/>
                  </a:lnTo>
                  <a:lnTo>
                    <a:pt x="1108" y="2222"/>
                  </a:lnTo>
                  <a:lnTo>
                    <a:pt x="1211" y="2223"/>
                  </a:lnTo>
                  <a:lnTo>
                    <a:pt x="1300" y="2223"/>
                  </a:lnTo>
                  <a:lnTo>
                    <a:pt x="1300" y="22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18000" y="1794240"/>
              <a:ext cx="1952280" cy="55872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What is a Good 4 U Retreat?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ni va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portunity to unwind in a healthy atmo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 for your healthy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Retreat feature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class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food with gourmet fl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paced meditative nature w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d bicycle tours (all ability leve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ing lectures on sports physiology and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2002 Retreat Schedule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22-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Florida’s Key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ly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Washington’s San Juan Is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Vermont’s Northeast Kingdom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 8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Utah’s Canyon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Action Item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274320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5680" indent="0">
              <a:spcBef>
                <a:spcPts val="499"/>
              </a:spcBef>
              <a:buNone/>
              <a:tabLst>
                <a:tab algn="l" pos="0"/>
                <a:tab algn="l" pos="166068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wner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ue Dat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5680" indent="0">
              <a:spcBef>
                <a:spcPts val="499"/>
              </a:spcBef>
              <a:buNone/>
              <a:tabLst>
                <a:tab algn="l" pos="0"/>
                <a:tab algn="l" pos="166068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ie Jon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/15/200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a plan for a retreat to be held in March,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5680" indent="0">
              <a:spcBef>
                <a:spcPts val="499"/>
              </a:spcBef>
              <a:buNone/>
              <a:tabLst>
                <a:tab algn="l" pos="0"/>
                <a:tab algn="l" pos="166068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la Fran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/18/200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a plan for a retreat to be held in August,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5680" indent="0">
              <a:spcBef>
                <a:spcPts val="499"/>
              </a:spcBef>
              <a:buNone/>
              <a:tabLst>
                <a:tab algn="l" pos="0"/>
                <a:tab algn="l" pos="166068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Brink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/20/200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a plan for a retreat to take place in May, 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4:12:28Z</dcterms:created>
  <dc:creator>default</dc:creator>
  <dc:description/>
  <dc:language>en-US</dc:language>
  <cp:lastModifiedBy>Hurix</cp:lastModifiedBy>
  <dcterms:modified xsi:type="dcterms:W3CDTF">2004-07-08T09:49:47Z</dcterms:modified>
  <cp:revision>10</cp:revision>
  <dc:subject/>
  <dc:title>Good 4 U Retreats</dc:title>
</cp:coreProperties>
</file>