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B40-1871-4DBD-A3CB-BD11564E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41B-C837-42FB-BD67-D9B8666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B57-EBA0-48B8-B504-DAA4F4C9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A6C-CF44-49A3-AB8B-EB64FC05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8D219-B560-4F55-AEEA-94CFA160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42138-12AF-4391-87D0-A7B582C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FA863-E341-4FEF-9C7D-F37A3F8B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43884-AEFD-42D0-89EA-AE047B19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8DE64-A2EA-400D-ABF0-8D9A672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A005B-F23D-4EA1-A086-D7D81E1F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2BADE-4453-4883-9162-A6460D4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BD7-832F-4F2E-9297-E3BA791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DEC99-B1A3-4B24-9457-D94FF93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73BF-E94B-4355-AF99-56E06F5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30B80-035E-4EF8-A039-D9A7B9E8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87AA5-9144-490F-AB24-7216E6E8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1890E-BC99-45FF-A935-671300AD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FE9-BBD0-41B1-BE23-50A0B9B5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02D-1F20-41F7-9107-D0E62F1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1E6-A645-4DB3-BBDD-FEE6DF42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C73-1198-4CEB-8C7C-33BA0AD1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8A8-BD6E-41DB-81C1-DB68D7BE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E0C-1E9D-4291-BA16-563E06B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78E-CBF9-424E-87EA-E47640C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0ff7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6b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B33C-6458-4174-BACB-BB9A969E4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DC31-3A51-4D2C-BE2D-C4064C952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8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b8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b8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Good 4 U Retreat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Get-aways to regenerate your energy and crea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What is a Good 4 U Retreat?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ni va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portunity to unwind in a healthy atmo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 for your healthy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 feature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lass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food with gourmet fl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paced meditative nature w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d bicycle tours (all ability lev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ing lectures on sports physiology and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2002 Retreat Schedule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22-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Florida’s Everglade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ly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Washington’s San Juan Is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Vermont’s Northeast Kingdom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 8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Utah’s Canyon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4:12:28Z</dcterms:created>
  <dc:creator>default</dc:creator>
  <dc:description/>
  <dc:language>en-US</dc:language>
  <cp:lastModifiedBy>Reviewer 1</cp:lastModifiedBy>
  <dcterms:modified xsi:type="dcterms:W3CDTF">2002-01-28T22:35:05Z</dcterms:modified>
  <cp:revision>10</cp:revision>
  <dc:subject/>
  <dc:title>Good 4 U Retreats</dc:title>
</cp:coreProperties>
</file>