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11A-8B2B-493B-B12E-DEDFE4EA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B7A-1CC1-4272-AE54-6E03653F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060-9459-406D-B8EB-06AAB023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41B-C68A-41A9-A896-895499B1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FB807-F5F8-49D1-B4F1-8D0EA1DD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28A2C-BCCE-488B-B5FC-212DF1B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F901-C2A6-4604-8CB1-997D453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92FFD-BE96-4714-A267-8CE066E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F86E7-6EFE-48AA-8764-813681E4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AD3D1-CAB5-471C-8D78-CFB4EC39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F5637-4712-4422-84EC-8680E9C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08E-DE94-45E3-9769-0927885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4BAB4-ECAD-49B3-9A68-1B9BA88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CCB51-5892-40DA-B3DA-3E99850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7EC87-1C19-47FC-A1BC-6555715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47AD-2E10-453E-8E1B-61EE8878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E6DE-EB87-4C7D-B6C0-C520D187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C92-386C-4AE7-814D-5EEA847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46C-D38B-468D-A2ED-E0B29A35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335-0ED7-4F5A-A909-F58D0392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CC4-37F9-48A3-93B7-455886D7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6CB-22CE-44A2-99E1-8AF39DC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420-6197-478B-904B-16B285E8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A1B-D057-4B86-A22E-4C9A94FB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0ff7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6b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E95-E642-48BC-86A4-A6A4A7493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01F-8D01-48E1-B20A-42BE6C3EE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8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b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b8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Get-aw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elp you regene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18000" y="1794240"/>
            <a:ext cx="2820240" cy="1013760"/>
            <a:chOff x="2718000" y="1794240"/>
            <a:chExt cx="2820240" cy="1013760"/>
          </a:xfrm>
        </p:grpSpPr>
        <p:sp>
          <p:nvSpPr>
            <p:cNvPr id="86" name=""/>
            <p:cNvSpPr/>
            <p:nvPr/>
          </p:nvSpPr>
          <p:spPr>
            <a:xfrm>
              <a:off x="4849560" y="2162520"/>
              <a:ext cx="686520" cy="6436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49560" y="2162520"/>
              <a:ext cx="688680" cy="6454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1"/>
                  </a:moveTo>
                  <a:lnTo>
                    <a:pt x="15" y="4"/>
                  </a:lnTo>
                  <a:lnTo>
                    <a:pt x="1491" y="1"/>
                  </a:lnTo>
                  <a:lnTo>
                    <a:pt x="1471" y="179"/>
                  </a:lnTo>
                  <a:lnTo>
                    <a:pt x="1213" y="196"/>
                  </a:lnTo>
                  <a:lnTo>
                    <a:pt x="1213" y="196"/>
                  </a:lnTo>
                  <a:lnTo>
                    <a:pt x="1140" y="204"/>
                  </a:lnTo>
                  <a:lnTo>
                    <a:pt x="1083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89"/>
                  </a:lnTo>
                  <a:lnTo>
                    <a:pt x="1005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0" y="556"/>
                  </a:lnTo>
                  <a:lnTo>
                    <a:pt x="976" y="595"/>
                  </a:lnTo>
                  <a:lnTo>
                    <a:pt x="973" y="627"/>
                  </a:lnTo>
                  <a:lnTo>
                    <a:pt x="973" y="627"/>
                  </a:lnTo>
                  <a:lnTo>
                    <a:pt x="966" y="709"/>
                  </a:lnTo>
                  <a:lnTo>
                    <a:pt x="936" y="918"/>
                  </a:lnTo>
                  <a:lnTo>
                    <a:pt x="927" y="1098"/>
                  </a:lnTo>
                  <a:lnTo>
                    <a:pt x="871" y="1485"/>
                  </a:lnTo>
                  <a:lnTo>
                    <a:pt x="830" y="2046"/>
                  </a:lnTo>
                  <a:lnTo>
                    <a:pt x="830" y="2046"/>
                  </a:lnTo>
                  <a:lnTo>
                    <a:pt x="827" y="2199"/>
                  </a:lnTo>
                  <a:lnTo>
                    <a:pt x="845" y="2336"/>
                  </a:lnTo>
                  <a:lnTo>
                    <a:pt x="886" y="2450"/>
                  </a:lnTo>
                  <a:lnTo>
                    <a:pt x="886" y="2450"/>
                  </a:lnTo>
                  <a:lnTo>
                    <a:pt x="937" y="2522"/>
                  </a:lnTo>
                  <a:lnTo>
                    <a:pt x="999" y="2566"/>
                  </a:lnTo>
                  <a:lnTo>
                    <a:pt x="1083" y="2605"/>
                  </a:lnTo>
                  <a:lnTo>
                    <a:pt x="1083" y="2605"/>
                  </a:lnTo>
                  <a:lnTo>
                    <a:pt x="1204" y="2644"/>
                  </a:lnTo>
                  <a:lnTo>
                    <a:pt x="1342" y="2666"/>
                  </a:lnTo>
                  <a:lnTo>
                    <a:pt x="1471" y="2671"/>
                  </a:lnTo>
                  <a:lnTo>
                    <a:pt x="1471" y="2671"/>
                  </a:lnTo>
                  <a:lnTo>
                    <a:pt x="1592" y="2665"/>
                  </a:lnTo>
                  <a:lnTo>
                    <a:pt x="1677" y="2653"/>
                  </a:lnTo>
                  <a:lnTo>
                    <a:pt x="1790" y="2633"/>
                  </a:lnTo>
                  <a:lnTo>
                    <a:pt x="1790" y="2633"/>
                  </a:lnTo>
                  <a:lnTo>
                    <a:pt x="1862" y="2616"/>
                  </a:lnTo>
                  <a:lnTo>
                    <a:pt x="1926" y="2596"/>
                  </a:lnTo>
                  <a:lnTo>
                    <a:pt x="1979" y="2572"/>
                  </a:lnTo>
                  <a:lnTo>
                    <a:pt x="1979" y="2572"/>
                  </a:lnTo>
                  <a:lnTo>
                    <a:pt x="2040" y="2530"/>
                  </a:lnTo>
                  <a:lnTo>
                    <a:pt x="2079" y="2486"/>
                  </a:lnTo>
                  <a:lnTo>
                    <a:pt x="2109" y="2444"/>
                  </a:lnTo>
                  <a:lnTo>
                    <a:pt x="2109" y="2444"/>
                  </a:lnTo>
                  <a:lnTo>
                    <a:pt x="2162" y="2363"/>
                  </a:lnTo>
                  <a:lnTo>
                    <a:pt x="2197" y="2287"/>
                  </a:lnTo>
                  <a:lnTo>
                    <a:pt x="2226" y="2214"/>
                  </a:lnTo>
                  <a:lnTo>
                    <a:pt x="2226" y="2214"/>
                  </a:lnTo>
                  <a:lnTo>
                    <a:pt x="2264" y="2097"/>
                  </a:lnTo>
                  <a:lnTo>
                    <a:pt x="2297" y="1945"/>
                  </a:lnTo>
                  <a:lnTo>
                    <a:pt x="2324" y="1754"/>
                  </a:lnTo>
                  <a:lnTo>
                    <a:pt x="2324" y="1754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1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2" y="418"/>
                  </a:lnTo>
                  <a:lnTo>
                    <a:pt x="2422" y="418"/>
                  </a:lnTo>
                  <a:lnTo>
                    <a:pt x="2422" y="340"/>
                  </a:lnTo>
                  <a:lnTo>
                    <a:pt x="2415" y="280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1" y="202"/>
                  </a:lnTo>
                  <a:lnTo>
                    <a:pt x="2301" y="179"/>
                  </a:lnTo>
                  <a:lnTo>
                    <a:pt x="2246" y="172"/>
                  </a:lnTo>
                  <a:lnTo>
                    <a:pt x="2246" y="172"/>
                  </a:lnTo>
                  <a:lnTo>
                    <a:pt x="2039" y="176"/>
                  </a:lnTo>
                  <a:lnTo>
                    <a:pt x="2010" y="170"/>
                  </a:lnTo>
                  <a:lnTo>
                    <a:pt x="2035" y="0"/>
                  </a:lnTo>
                  <a:lnTo>
                    <a:pt x="3215" y="1"/>
                  </a:lnTo>
                  <a:lnTo>
                    <a:pt x="3204" y="165"/>
                  </a:lnTo>
                  <a:lnTo>
                    <a:pt x="3204" y="165"/>
                  </a:lnTo>
                  <a:lnTo>
                    <a:pt x="3146" y="177"/>
                  </a:lnTo>
                  <a:lnTo>
                    <a:pt x="3084" y="188"/>
                  </a:lnTo>
                  <a:lnTo>
                    <a:pt x="3023" y="194"/>
                  </a:lnTo>
                  <a:lnTo>
                    <a:pt x="3023" y="194"/>
                  </a:lnTo>
                  <a:lnTo>
                    <a:pt x="2937" y="205"/>
                  </a:lnTo>
                  <a:lnTo>
                    <a:pt x="2882" y="217"/>
                  </a:lnTo>
                  <a:lnTo>
                    <a:pt x="2856" y="227"/>
                  </a:lnTo>
                  <a:lnTo>
                    <a:pt x="2856" y="227"/>
                  </a:lnTo>
                  <a:lnTo>
                    <a:pt x="2836" y="249"/>
                  </a:lnTo>
                  <a:lnTo>
                    <a:pt x="2823" y="276"/>
                  </a:lnTo>
                  <a:lnTo>
                    <a:pt x="2815" y="310"/>
                  </a:lnTo>
                  <a:lnTo>
                    <a:pt x="2815" y="310"/>
                  </a:lnTo>
                  <a:lnTo>
                    <a:pt x="2812" y="342"/>
                  </a:lnTo>
                  <a:lnTo>
                    <a:pt x="2809" y="379"/>
                  </a:lnTo>
                  <a:lnTo>
                    <a:pt x="2807" y="427"/>
                  </a:lnTo>
                  <a:lnTo>
                    <a:pt x="2807" y="427"/>
                  </a:lnTo>
                  <a:lnTo>
                    <a:pt x="2805" y="473"/>
                  </a:lnTo>
                  <a:lnTo>
                    <a:pt x="2799" y="538"/>
                  </a:lnTo>
                  <a:lnTo>
                    <a:pt x="2789" y="621"/>
                  </a:lnTo>
                  <a:lnTo>
                    <a:pt x="2789" y="621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3" y="775"/>
                  </a:lnTo>
                  <a:lnTo>
                    <a:pt x="2771" y="804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49" y="1052"/>
                  </a:lnTo>
                  <a:lnTo>
                    <a:pt x="2739" y="1163"/>
                  </a:lnTo>
                  <a:lnTo>
                    <a:pt x="2739" y="1163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099"/>
                  </a:lnTo>
                  <a:lnTo>
                    <a:pt x="2652" y="2239"/>
                  </a:lnTo>
                  <a:lnTo>
                    <a:pt x="2652" y="2239"/>
                  </a:lnTo>
                  <a:lnTo>
                    <a:pt x="2617" y="2335"/>
                  </a:lnTo>
                  <a:lnTo>
                    <a:pt x="2580" y="2416"/>
                  </a:lnTo>
                  <a:lnTo>
                    <a:pt x="2538" y="2483"/>
                  </a:lnTo>
                  <a:lnTo>
                    <a:pt x="2538" y="2483"/>
                  </a:lnTo>
                  <a:lnTo>
                    <a:pt x="2469" y="2578"/>
                  </a:lnTo>
                  <a:lnTo>
                    <a:pt x="2389" y="2676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1" y="2835"/>
                  </a:lnTo>
                  <a:lnTo>
                    <a:pt x="2059" y="2901"/>
                  </a:lnTo>
                  <a:lnTo>
                    <a:pt x="1901" y="2956"/>
                  </a:lnTo>
                  <a:lnTo>
                    <a:pt x="1901" y="2956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6" y="3020"/>
                  </a:lnTo>
                  <a:lnTo>
                    <a:pt x="1276" y="3020"/>
                  </a:lnTo>
                  <a:lnTo>
                    <a:pt x="1052" y="2991"/>
                  </a:lnTo>
                  <a:lnTo>
                    <a:pt x="846" y="2935"/>
                  </a:lnTo>
                  <a:lnTo>
                    <a:pt x="669" y="2870"/>
                  </a:lnTo>
                  <a:lnTo>
                    <a:pt x="669" y="2870"/>
                  </a:lnTo>
                  <a:lnTo>
                    <a:pt x="529" y="2801"/>
                  </a:lnTo>
                  <a:lnTo>
                    <a:pt x="416" y="2720"/>
                  </a:lnTo>
                  <a:lnTo>
                    <a:pt x="331" y="2625"/>
                  </a:lnTo>
                  <a:lnTo>
                    <a:pt x="331" y="2625"/>
                  </a:lnTo>
                  <a:lnTo>
                    <a:pt x="270" y="2516"/>
                  </a:lnTo>
                  <a:lnTo>
                    <a:pt x="229" y="2385"/>
                  </a:lnTo>
                  <a:lnTo>
                    <a:pt x="209" y="2234"/>
                  </a:lnTo>
                  <a:lnTo>
                    <a:pt x="209" y="2234"/>
                  </a:lnTo>
                  <a:lnTo>
                    <a:pt x="205" y="2108"/>
                  </a:lnTo>
                  <a:lnTo>
                    <a:pt x="214" y="1949"/>
                  </a:lnTo>
                  <a:lnTo>
                    <a:pt x="234" y="1760"/>
                  </a:lnTo>
                  <a:lnTo>
                    <a:pt x="234" y="1760"/>
                  </a:lnTo>
                  <a:lnTo>
                    <a:pt x="367" y="692"/>
                  </a:lnTo>
                  <a:lnTo>
                    <a:pt x="367" y="692"/>
                  </a:lnTo>
                  <a:lnTo>
                    <a:pt x="389" y="477"/>
                  </a:lnTo>
                  <a:lnTo>
                    <a:pt x="395" y="335"/>
                  </a:lnTo>
                  <a:lnTo>
                    <a:pt x="384" y="266"/>
                  </a:lnTo>
                  <a:lnTo>
                    <a:pt x="384" y="266"/>
                  </a:lnTo>
                  <a:lnTo>
                    <a:pt x="334" y="226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6" y="185"/>
                  </a:lnTo>
                  <a:lnTo>
                    <a:pt x="0" y="181"/>
                  </a:lnTo>
                  <a:lnTo>
                    <a:pt x="0" y="1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4">
                  <a:moveTo>
                    <a:pt x="4240" y="2391"/>
                  </a:moveTo>
                  <a:lnTo>
                    <a:pt x="3689" y="3163"/>
                  </a:lnTo>
                  <a:lnTo>
                    <a:pt x="3018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6" y="3678"/>
                  </a:lnTo>
                  <a:lnTo>
                    <a:pt x="2932" y="3860"/>
                  </a:lnTo>
                  <a:lnTo>
                    <a:pt x="3050" y="3969"/>
                  </a:lnTo>
                  <a:lnTo>
                    <a:pt x="3050" y="3969"/>
                  </a:lnTo>
                  <a:lnTo>
                    <a:pt x="2939" y="3994"/>
                  </a:lnTo>
                  <a:lnTo>
                    <a:pt x="1741" y="3994"/>
                  </a:lnTo>
                  <a:lnTo>
                    <a:pt x="1763" y="3969"/>
                  </a:lnTo>
                  <a:lnTo>
                    <a:pt x="1763" y="3969"/>
                  </a:lnTo>
                  <a:lnTo>
                    <a:pt x="1875" y="3927"/>
                  </a:lnTo>
                  <a:lnTo>
                    <a:pt x="1966" y="3877"/>
                  </a:lnTo>
                  <a:lnTo>
                    <a:pt x="2038" y="3820"/>
                  </a:lnTo>
                  <a:lnTo>
                    <a:pt x="2038" y="3820"/>
                  </a:lnTo>
                  <a:lnTo>
                    <a:pt x="2097" y="3749"/>
                  </a:lnTo>
                  <a:lnTo>
                    <a:pt x="2146" y="3660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9" y="3173"/>
                  </a:lnTo>
                  <a:lnTo>
                    <a:pt x="0" y="3173"/>
                  </a:lnTo>
                  <a:lnTo>
                    <a:pt x="2898" y="0"/>
                  </a:lnTo>
                  <a:lnTo>
                    <a:pt x="4026" y="0"/>
                  </a:lnTo>
                  <a:lnTo>
                    <a:pt x="3209" y="2645"/>
                  </a:lnTo>
                  <a:lnTo>
                    <a:pt x="3209" y="2645"/>
                  </a:lnTo>
                  <a:lnTo>
                    <a:pt x="3368" y="2639"/>
                  </a:lnTo>
                  <a:lnTo>
                    <a:pt x="3566" y="2622"/>
                  </a:lnTo>
                  <a:lnTo>
                    <a:pt x="3721" y="2600"/>
                  </a:lnTo>
                  <a:lnTo>
                    <a:pt x="3721" y="2600"/>
                  </a:lnTo>
                  <a:lnTo>
                    <a:pt x="3899" y="2552"/>
                  </a:lnTo>
                  <a:lnTo>
                    <a:pt x="4072" y="2482"/>
                  </a:lnTo>
                  <a:lnTo>
                    <a:pt x="4240" y="2391"/>
                  </a:lnTo>
                  <a:lnTo>
                    <a:pt x="4240" y="23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2640" y="2041560"/>
              <a:ext cx="421200" cy="474480"/>
            </a:xfrm>
            <a:custGeom>
              <a:avLst/>
              <a:gdLst/>
              <a:ahLst/>
              <a:rect l="l" t="t" r="r" b="b"/>
              <a:pathLst>
                <a:path w="1969" h="2223">
                  <a:moveTo>
                    <a:pt x="1300" y="2223"/>
                  </a:moveTo>
                  <a:lnTo>
                    <a:pt x="1969" y="0"/>
                  </a:lnTo>
                  <a:lnTo>
                    <a:pt x="0" y="2216"/>
                  </a:lnTo>
                  <a:lnTo>
                    <a:pt x="0" y="2216"/>
                  </a:lnTo>
                  <a:lnTo>
                    <a:pt x="178" y="2217"/>
                  </a:lnTo>
                  <a:lnTo>
                    <a:pt x="354" y="2217"/>
                  </a:lnTo>
                  <a:lnTo>
                    <a:pt x="531" y="2218"/>
                  </a:lnTo>
                  <a:lnTo>
                    <a:pt x="531" y="2218"/>
                  </a:lnTo>
                  <a:lnTo>
                    <a:pt x="700" y="2219"/>
                  </a:lnTo>
                  <a:lnTo>
                    <a:pt x="852" y="2220"/>
                  </a:lnTo>
                  <a:lnTo>
                    <a:pt x="988" y="2221"/>
                  </a:lnTo>
                  <a:lnTo>
                    <a:pt x="988" y="2221"/>
                  </a:lnTo>
                  <a:lnTo>
                    <a:pt x="1108" y="2222"/>
                  </a:lnTo>
                  <a:lnTo>
                    <a:pt x="1211" y="2223"/>
                  </a:lnTo>
                  <a:lnTo>
                    <a:pt x="1300" y="2223"/>
                  </a:lnTo>
                  <a:lnTo>
                    <a:pt x="1300" y="22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18000" y="1794240"/>
              <a:ext cx="1952280" cy="55872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 with gourmet fl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meditative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 on sports physiology and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2002 Retreat Schedule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2-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Florida’s Key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y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Washington’s San Juan Is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Vermont’s Northeast Kingdom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 8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Utah’s Canyon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default</dc:creator>
  <dc:description/>
  <dc:language>en-US</dc:language>
  <cp:lastModifiedBy>Reviewer 1</cp:lastModifiedBy>
  <dcterms:modified xsi:type="dcterms:W3CDTF">2002-01-28T01:41:13Z</dcterms:modified>
  <cp:revision>8</cp:revision>
  <dc:subject/>
  <dc:title>Good 4 U Retreats</dc:title>
</cp:coreProperties>
</file>