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716-3F70-4609-9C6C-13C1E62B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F0B-A349-4BD5-8D66-A8E89F4C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F2E-7ACE-4808-8790-8340E510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9E0-089B-44E6-9C18-0155F88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E17-0D2E-4F89-A14E-0F6BBB06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4651-7569-46CE-AB0E-45816C1C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64E-7F16-4295-9EF1-C125F91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BAF3-0BC2-46F3-9AA5-684C9CC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D580-7D20-4E52-A1F0-19E3BA59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7FFD-D42E-4B75-9437-07C324C5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26B-1241-4D72-B305-A360B8D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4D1-4525-44AC-931F-D043CFD7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38E2-4E52-4056-9C62-8CADA41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617-2D76-4BBE-A73C-FAF8955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ED3-78B4-4037-AACC-40E6884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993-C773-4DBE-AEA7-B4A9E05B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B8B-B424-4F7B-8492-09BB2A6E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1BB-4DAF-45DE-B404-41ACA865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A95-EFCC-432E-B26D-ACDD90A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20C-C2CC-4982-A0A0-EEA7C14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D8E-52AD-4D25-A1A4-1C601AE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D15-2279-4588-AE2B-D0D7D1F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36E-816C-4BDA-B8EE-F525969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9B8-8BE2-4841-A371-ECB460E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797-E78C-4A7F-B60C-8E0EA504E7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539-A0EB-4B25-8DE9-AA616389F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49A-46D2-43BE-BC1B-9C5C9E2687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8E0-4858-4B61-862F-F819A1CD8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Become an Animal Angel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Rescue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E0C3-34D1-43C8-8E25-F0E623E108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F08C54-24DE-4B96-B1FA-E9D4E5754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ster Ange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temporary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speci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usebrea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dience trai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pet to adoption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sts covered by Animal An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A5D-5265-4C03-A8E7-6D2A7527D1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CB7E-8549-48A1-914E-C600A9C6EBCC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Do I Become an Ange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 off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9E9-FEF5-48C4-9C1A-035A39BB37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C2FEF-43F8-4EE6-91BD-D10B543783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1EF-9FD9-4C1A-9BD0-594507E879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87E17-257B-445A-A405-55E311AF0E9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he Foundation hel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ts are abando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an Animal Ang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nimal Angels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you can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D8D-CA0C-4AB7-B705-8ECD030326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AEDBB-BAC8-46FE-8EC2-E9F0F65BEDF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Does The Foundation Help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Temporary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Obedience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Veterin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Loving Permanent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031-D455-4061-9897-93E0E9D816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710D4-3564-4B70-B3BC-958AF3485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y Pets Are Abandon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or deteriorating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terinary b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0F5-7366-4DEF-8A49-1A69A755E5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2E3F9-2E92-4112-AD92-EEBE1DAA41A9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o Is an Animal Ange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livs that unwanted pets deserve a home and somone to lov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s that you can teach an old dog new 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s that you can retrain animals to be lo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C32-E500-4E61-8AA8-3F0E72D41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834BF-C165-461A-88A1-1FC73F353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ow You Can Hel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your time and t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ome a foster pa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 at adoption fai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new or used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ates, pads, collars, leads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096-B6ED-46BC-BA9E-C6BA2F2B6D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2DE36-0AE8-4689-8321-C7E167D55606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ore Ways to Help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inancial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 a ch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onsor a foster p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732-A3C6-4932-A3F4-E3CB2B1EC1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F5CC-F7BF-4502-BC89-A53D660067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doption Ange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at adoption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animals to 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potential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up on ad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Rescu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C70-AA04-459C-9FAB-F1A06348F1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AAB34-30A3-452A-AA89-40FB38CFC12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nda O'Leary</cp:lastModifiedBy>
  <dcterms:modified xsi:type="dcterms:W3CDTF">2001-06-28T14:58:59Z</dcterms:modified>
  <cp:revision>13</cp:revision>
  <dc:subject/>
  <dc:title>Become an Animal Angel</dc:title>
</cp:coreProperties>
</file>