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8D8-5A6A-4E9C-9DF2-5BEF251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3DD-1263-4EBA-9CD6-F68FF420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832-FBE9-4DC0-87F3-9720BDB6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D7C-8BB3-4D06-AABB-25E788EA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7B39-987B-4619-A8E6-8EAF627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DA4-FEC0-40F6-8701-83259928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BEA-D408-4F5A-9B7D-1332BB1A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B8EE-B9FC-4FFB-B931-AD44996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8A9-1BE0-4378-9178-52C4E2C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86C8-3001-4C45-9E79-ACB21E9A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F00-DBFC-436D-AF51-826B8099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E43-2085-4F41-9DB0-0234DA60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4410-4567-4FB1-96BD-FCAB1CF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D45-3465-4FC7-AD0A-99AF1F46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A7AB-15DC-435F-A684-75F6797D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9DCF-FF0F-4435-97AC-D3332255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C669-8E55-44A4-B508-C90952B6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322-83FD-40F6-ADD7-A56E20FC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7D7-C295-4E16-90CB-886577C1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64D-BF65-4AC6-83AC-BBD6619D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DED-4785-4518-94C8-AEC69740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C43-4F90-40E6-912F-F0ADBF1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236-1632-46FD-BF19-9769413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B26-1318-441B-8966-E62AB76C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EAEA-1134-497C-8A98-D0E01443D5A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F3D0-1332-4432-8D66-2575EAB01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7E0D-451A-444A-B3EC-81CDFCEAE88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ACF-0411-4BB4-94A2-201CBA620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reating an Effective Resume and Cover Letter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Care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B604-9D4E-4448-B092-3ED6C66225D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6FFAA0-DBA9-4E54-AC59-AD37A385AE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Qualities of a Good Cover Lette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, consise, and clear business letter-writing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-centered, not self-cen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ipient’s name and title is correctly spe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-free, clean, and visually att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skills, qualifications, and experiences most relevant to th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ore than one page printed on quality stationery and envel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BE8-87CE-449C-BF2A-4E8ED0D694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1E7D3-4B6A-47F8-B6DF-3B3F9DA6D7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natomy of a Good Cover Lette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para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es your purpose for writing, how you heard about position, company or who referred y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paragraph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s reasons for wanting to work for this employer, describes your qualifications, skills, and experiences in relation to their nee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ing para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nks recipeint for their time, requests a meeting time, informs them of how you intend to follow u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932-7491-4784-B186-2B8AED2B9B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5C81C-ADED-4172-BCCC-35CF9FB159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Cover Lett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for positions that have been publicly advertis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p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when contacting an organization that is not currently advertis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es you to a person who can assist you in your career field by providing information on that field and/or on specific opportunit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5F5-29CF-40E1-BD04-C6CB90042D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1DC1D-60FA-4B0D-AAAE-46EFBD176B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resumes and cover letters that ge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 Studen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001-433E-4931-BAB7-930EE79150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491CB-AFC5-48E6-88FF-960A2FA6DA2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me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 letter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930-85BC-4729-9D55-92AA7C1BA2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FE7FC-170D-4502-B662-C98D3635574B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sume Guidelin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BDC-C431-47F1-AA25-774541F972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6DF8F-9638-4732-8308-6B679BE93DF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sume Forma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ts relevent work experience by company/title in reverse order of when you performed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ranges work experience by functional headings, such as Managerial, Purchasing, or Administra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xes chronological and functional formats to highlight progressively complex duties under a functional he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864-FE19-484E-B450-69C8607577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3361D-BECC-4451-8418-65482A6D67DD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sume Heading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ntifying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me, address, phone numbers, and e-mail addr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ear, concise, and focused on what you want to do within the organiz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go back 10 years, not including high school experi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censes and certif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ships and/or volunteer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fessional affil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ations and present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D89-4EAF-4D61-A7E1-AAADF3B44D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556F7-0135-482E-A1CD-E22B80B3F409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sume Quali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f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er-pr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bul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 resume flat, not fol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, well-known abbreviations and key words from job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32A-7609-45D3-8559-3572AACCA5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988FA-5D80-4131-84CA-5290A80C48F4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sume Resourc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mes That Knock ‘Em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me 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Resume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me Hand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ing the Perfect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D11-5094-4403-ABFD-73EA0689F9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56BB8-626D-424A-AEE9-656538A9E91A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ver Letter Guideline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ies of a good cover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tomy of a good cover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cover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C48-F474-4762-8767-9CE2D003CC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BBFB9-7BB5-42BB-A981-22BA12632D2D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nda O'Leary</cp:lastModifiedBy>
  <dcterms:modified xsi:type="dcterms:W3CDTF">2001-06-28T15:00:21Z</dcterms:modified>
  <cp:revision>9</cp:revision>
  <dc:subject/>
  <dc:title>Creating an Effective Resume and Cover Letter</dc:title>
</cp:coreProperties>
</file>