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374-C702-490A-8666-4E88A80B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C10-4EEA-4525-B863-2FF22975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3BB-10FD-44FB-9BC7-E81A5548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0EB-9599-4FA8-82A5-D3BA2C20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0171-0DA3-4B52-B31A-0B5461FC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25A3-CDDE-49CD-B219-CD411F7D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04F7-3C8C-4414-8EFC-196AC9A5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DFCF-D958-4D37-BE4E-A0DD7BC6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D746-4FFC-4060-BD07-34088885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FFEA-573A-4BEC-9573-5F76514C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2954-3895-4BCE-A6B7-CACFA67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1EC-A989-46E1-8E99-7588B10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9DF5-0549-41F0-9130-92DA897C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8B7E-6805-405B-9238-32AFFA31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0A25-BF30-4F9E-B86C-811F634C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71AA-227B-4A80-BDCC-6D4776E0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09E3-CE25-4687-A5FD-0DC1EE25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294-16EA-42A9-A5B9-3EF41173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8C7-5A1D-4EE7-BBB5-FD34F9E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EC6-BA97-4786-AC10-65CBB8B9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9B1-B9A5-47C4-893A-AC77C61C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133-609C-4918-87FA-3669099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F0C-916B-451B-8BD7-D3BFD412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1CF-55A1-4BF6-95B4-B2B16964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9185-8716-4EC1-9486-13FC923F64E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6389-4F7E-44A1-93F2-394D89156D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E8B2-563A-4BDA-B877-8F876646FA1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FC74-8C39-468F-845A-4FCECF7EE0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26960"/>
            <a:ext cx="8228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Become an Animal Angel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5520" y="533376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33560" y="2133720"/>
            <a:ext cx="284976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0B6C-5A56-45BC-9E4D-0FCAC4515FC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B2C7858-8242-4553-AD79-660BB78B3A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Adoption Angel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at adoption 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animals to 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 potential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up on ad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0BC-B2A0-43FC-A7D2-983883A139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4254C-A635-47F7-8197-A47863848A6D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ow Do I Become an Angel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e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a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 off Do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4F4-EA25-4D68-922B-D4BF860074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A01BB-6665-4A56-AED7-F7232D3D3D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he Foundation Hel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ation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pets are aband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Animal Ang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nimal Angels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you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2D2-FBB0-4D00-8B01-CDA14B8744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FB66D-46BA-434C-97EF-1CC04F89E563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ow Does the Foundation Help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Temporary H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Obedience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Veterinary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Loving Permanent H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B1C-4A87-4C53-9C28-4AC66E0751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19F8B-5140-402F-8002-75FE676F83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oundation Histor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9000" y="2362320"/>
            <a:ext cx="1371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00600" y="23623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ed by Ed Wil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first she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an volunteer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ded to 10 shel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DCB-1ACB-42E0-B013-BDD105BE0E1B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13769-417C-4A55-BA20-C18D0813AB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y Pets are Abandon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or deteriorating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terinary bi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life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B2E-A66F-4C24-B7F1-B0E7B526C8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579A6-6782-4978-B1BF-897F49E0B859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o Is an Animal Angel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s that unwanted pets deserve a home and someone to lov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s that you can teach an old dog new tri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s that you can retrain animals to be lo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C6A-E7D4-4B67-92CA-EA3B5526EE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577DE-42D7-4DD3-AF79-44AAF497B4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ow You Can Hel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e your time and tal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ster par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k at adoption fai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e new or used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ates, pads, collars, leads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246-C700-4515-8A76-65230AA5E8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AECE6-B362-4D0E-B1B8-4596470AD9B6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ore Ways to Help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financial suppor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sor a foster p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456-15C6-44F6-895B-764B542C97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114A0-CF4A-48D2-B915-B04DD6C9BC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oster Angel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temporary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special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usebreak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edience trai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cia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pet to adoption 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osts covered by Animal An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380-3662-4338-AC97-1CE9E310C2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7ACE6-4945-43ED-9203-4FC109CEE35B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nda O'Leary</cp:lastModifiedBy>
  <dcterms:modified xsi:type="dcterms:W3CDTF">2001-06-28T15:22:51Z</dcterms:modified>
  <cp:revision>21</cp:revision>
  <dc:subject/>
  <dc:title>Become an Animal Angel</dc:title>
</cp:coreProperties>
</file>