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BC7-88D1-413D-99A7-E0C1D501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7E6-15E5-4255-B2F1-522AEA61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69D-64AD-4D1F-A2D7-816BD14B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31B-63C0-4934-8C90-C456382A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06B5-4F5D-4401-B226-1ADA42B0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0014-1681-4536-A52D-E21F79BF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F8EB-1256-4B0A-BD89-F7E004BF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9E34-911E-4F99-ADE8-1872AB20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2A6A-71B1-4A8C-AA03-D5CC04B9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567D-6141-4DC2-B3BA-0B7C63B0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2913-A67F-43AA-8E5D-7153900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4E9-8CB5-4B3C-AFA2-A4D4867F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3193-F63F-4FF9-A028-C6F2680B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7EE3-20F7-4F7E-B442-A60ADBA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CE9A-0CED-43C8-B92F-C6D20F16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E3DF-87C8-4C38-8807-D6152AF8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10E4-668D-4A7E-975A-4158F58C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627-E813-48C2-B0EC-0B4D8862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F33-2B41-4717-A6D2-040D0560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AC6-624E-47A4-83AE-B16589D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837-C0C6-4310-9E50-5DD72708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2CD-29C9-4426-A203-13F9AE10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684-D9A0-418C-A552-E9DB831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8A9-B1D5-44A9-A52B-007963AD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630-4E00-47FE-9CAB-5F56261AE6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FA99-27AD-4F44-AA60-7B475506B7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izona State University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udent Na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U Main Student Affairs orga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rizona Prevention Resource Cen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reer Servi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unseling &amp; Consul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tional Develop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ial Un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reational Spor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gistr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U Main Student Affairs Orga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udent Develop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udent Financial Assist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udent Heal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udent Information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udent Lif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dergraduate Admis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udent Services Build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leted in 198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al of “saving steps” for stud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yden Libr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e of six libraries on the Main camp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uses materials in the humanities and social sciences, including business and educ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lson Fine Arts Cen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igned by architect Antoine Predo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ways free admis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izona State Univers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e university, geographically distribute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U Ma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U W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U E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izona State University Ma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ed in Tempe (adjacent to SE Phoenix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43,800 students (33,400 undergradua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95 undergraduate maj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-campus residentiel commun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U E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ed in East Mesa (20 mi from ASU Mai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me to the College of Technology and Applied Sciences and the Morrison School of Agribusiness and Resource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izona State University We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ed in NW Phoenix (25 mi from ASU Mai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4,900 upper devision &amp; graduate stud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30 degree progra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mu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izona State University Ma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que characteristic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e of few four-year institutions in growing metropoltan ar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rves large community college po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verse, non-traditional student b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izona State University Ma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erage age is 23 (7% over 3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y 44% live in Tem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2% enrolled less than 7 semester hour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55% have more than 12 transfer hou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0% live on camp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33% of undergraduates are seni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izona State University Main Orga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cademic Organ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e Academic Colle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versity Honors Colle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lege of Extended Edu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lege of La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aduate Colle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izona State University Main Orga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ministrative Organ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cademic Affai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ministrative Servi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titutional Advanc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ear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udent Affai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01:29:03Z</dcterms:created>
  <dc:creator/>
  <dc:description/>
  <dc:language>en-US</dc:language>
  <cp:lastModifiedBy>Linda O'Leary</cp:lastModifiedBy>
  <dcterms:modified xsi:type="dcterms:W3CDTF">2001-06-28T16:04:30Z</dcterms:modified>
  <cp:revision>21</cp:revision>
  <dc:subject/>
  <dc:title>Arizona State University </dc:title>
</cp:coreProperties>
</file>