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chimes.wav" ContentType="audio/x-wav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735763" cy="88487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735600" cy="884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19240" cy="4428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640" bIns="44640" anchor="t">
            <a:noAutofit/>
          </a:bodyPr>
          <a:p>
            <a:pPr marL="216000" indent="0">
              <a:buNone/>
              <a:tabLst>
                <a:tab algn="l" pos="0"/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3816000" y="0"/>
            <a:ext cx="2919240" cy="4428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640" bIns="44640" anchor="t">
            <a:noAutofit/>
          </a:bodyPr>
          <a:lstStyle>
            <a:lvl1pPr marL="216000" indent="0" algn="r">
              <a:buNone/>
              <a:tabLst>
                <a:tab algn="l" pos="0"/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1157400" y="663120"/>
            <a:ext cx="4424400" cy="3318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898200" y="4203720"/>
            <a:ext cx="4938840" cy="39816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640" bIns="446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8"/>
          </p:nvPr>
        </p:nvSpPr>
        <p:spPr>
          <a:xfrm>
            <a:off x="-360" y="8405280"/>
            <a:ext cx="2919240" cy="4431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640" bIns="44640" anchor="b">
            <a:noAutofit/>
          </a:bodyPr>
          <a:lstStyle>
            <a:lvl1pPr marL="216000" indent="0">
              <a:buNone/>
              <a:tabLst>
                <a:tab algn="l" pos="0"/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9"/>
          </p:nvPr>
        </p:nvSpPr>
        <p:spPr>
          <a:xfrm>
            <a:off x="3816000" y="8405280"/>
            <a:ext cx="2919240" cy="4431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640" bIns="44640" anchor="b">
            <a:noAutofit/>
          </a:bodyPr>
          <a:lstStyle>
            <a:lvl1pPr marL="216000" indent="0" algn="r">
              <a:buNone/>
              <a:tabLst>
                <a:tab algn="l" pos="0"/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fld id="{2BBB7107-49D2-476D-862A-4B2ABE60EE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57400" y="663480"/>
            <a:ext cx="4424400" cy="331812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898200" y="4203720"/>
            <a:ext cx="4938840" cy="39816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640" bIns="4464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how the next hidden slide if someone asks about adoption ra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05913-4994-4697-988A-11DC79291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A4120-DC2B-44E4-B2CE-2FA2C39E9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22E6E-D9E8-461C-96FA-07A23B1BD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D8701-A1A2-478C-BAD2-E99BD2029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3FC28-9306-4F77-B16C-1C89D3BFD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FB121-60B4-4A90-8E08-DAA23CFD8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F3A58-8039-4152-8E15-D25D673D1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5A649-4E73-4195-B4D5-87159AF62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8A977-BDB3-4461-8DAC-E43DE82A4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990720" y="167616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64D3B-457B-4E4B-9F0D-6B9C0F4E6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C2BBA-7991-4381-BAC8-7FD03E91E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00637-C8CB-4869-8F9C-969A6FD34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EDF0C-6061-4DB5-BE4C-1B3C257E4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F592F-6147-4A18-95AC-3B0415E23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9E455-B8E7-421A-8493-6DB205640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07F19-046A-4416-BEB8-4FC626548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FE6AE-7725-4CE8-ABFE-0122EA499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24CE1-C202-48DC-89C2-334AAA59A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C98A3-69FF-4A16-A3DE-3A84A6479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AAED8-FD5A-44E5-9E6C-32A68447A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90720" y="167616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D31F3-CFD6-4A01-978D-7FCB787AE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66D94-E358-4CE8-A1E1-9016B91A1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19611-B51D-4EAC-AC5D-193D8275E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97483-644B-4A25-988C-8651FA6E2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9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9900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3399"/>
              </a:gs>
              <a:gs pos="100000">
                <a:srgbClr val="0000cc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0000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00009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99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193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0BC71-4450-482A-A439-39C6C236EDBB}" type="datetime">
              <a:rPr b="0" lang="en-US" sz="1400" spc="-1" strike="noStrike">
                <a:solidFill>
                  <a:srgbClr val="ffffff"/>
                </a:solidFill>
                <a:latin typeface="Tahoma"/>
              </a:rPr>
              <a:t>07/31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AEF76-6383-4AF0-8DDD-A3FBDED63B06}" type="slidenum">
              <a:rPr b="0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0000cc"/>
                  </a:gs>
                  <a:gs pos="100000">
                    <a:srgbClr val="ffcc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99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0000cc"/>
                  </a:gs>
                  <a:gs pos="100000">
                    <a:srgbClr val="99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3399"/>
                </a:gs>
                <a:gs pos="100000">
                  <a:srgbClr val="0000cc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0000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0000cc"/>
                </a:gs>
                <a:gs pos="100000">
                  <a:srgbClr val="00009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94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3B7A2-DB02-4F89-B58B-401E4BEBD348}" type="datetime">
              <a:rPr b="0" lang="en-US" sz="1400" spc="-1" strike="noStrike">
                <a:solidFill>
                  <a:srgbClr val="000094"/>
                </a:solidFill>
                <a:latin typeface="Tahoma"/>
              </a:rPr>
              <a:t>07/31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94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4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94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C04D1-7D49-4B67-9C65-B63657BC8190}" type="slidenum">
              <a:rPr b="0" lang="en-US" sz="1400" spc="-1" strike="noStrike">
                <a:solidFill>
                  <a:srgbClr val="000094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9900ff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3193ff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07640" y="33336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Become an Animal Angel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32529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udent Nam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4500720" y="1989000"/>
            <a:ext cx="3490920" cy="43894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Become an Animal Angel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En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 rot="20700000">
            <a:off x="826920" y="3573000"/>
            <a:ext cx="3048120" cy="2971800"/>
          </a:xfrm>
          <a:custGeom>
            <a:avLst/>
            <a:gdLst>
              <a:gd name="textAreaLeft" fmla="*/ 716400 w 3048120"/>
              <a:gd name="textAreaRight" fmla="*/ 2329560 w 3048120"/>
              <a:gd name="textAreaTop" fmla="*/ 349200 h 2971800"/>
              <a:gd name="textAreaBottom" fmla="*/ 1864080 h 29718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ffffff"/>
            </a:solidFill>
            <a:miter/>
          </a:ln>
          <a:effectLst>
            <a:outerShdw dist="107932" dir="8100000" blurRad="0" rotWithShape="0">
              <a:srgbClr val="ff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cc"/>
                </a:solidFill>
                <a:latin typeface="Informal Roman"/>
              </a:rPr>
              <a:t>Open Your Hear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Topics Of Discussi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817280" y="2017800"/>
            <a:ext cx="4599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ow does the Foundation help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oundation histor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hy animals are abandone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ho are Animal Angel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ow Animal Angels help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ow you can help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5940360" y="2457360"/>
            <a:ext cx="2905200" cy="264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16000" y="456840"/>
            <a:ext cx="764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How Does The Foundation Help?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888920" y="2169720"/>
            <a:ext cx="69879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vide temporary ho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vide obedience train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vide veterinary ca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nd loving permanent ho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Foundation Histor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981080" y="1828800"/>
            <a:ext cx="1371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Yea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99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99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997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00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352680" y="182880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v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unded by Ed Wilt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uilt first shelt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egan volunteer progra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xpanded to 10 shelt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Success Rat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1332000" y="2384280"/>
          <a:ext cx="6769080" cy="3205440"/>
        </p:xfrm>
        <a:graphic>
          <a:graphicData uri="http://schemas.openxmlformats.org/drawingml/2006/table">
            <a:tbl>
              <a:tblPr/>
              <a:tblGrid>
                <a:gridCol w="1401840"/>
                <a:gridCol w="2414520"/>
                <a:gridCol w="2952720"/>
              </a:tblGrid>
              <a:tr h="754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33cc"/>
                          </a:solidFill>
                          <a:latin typeface="Tahoma"/>
                        </a:rPr>
                        <a:t>Year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94"/>
                      </a:solidFill>
                    </a:lnL>
                    <a:lnR w="5760">
                      <a:solidFill>
                        <a:srgbClr val="000094"/>
                      </a:solidFill>
                    </a:lnR>
                    <a:lnT w="18720">
                      <a:solidFill>
                        <a:srgbClr val="000094"/>
                      </a:solidFill>
                    </a:lnT>
                    <a:lnB w="5760">
                      <a:solidFill>
                        <a:srgbClr val="000094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33cc"/>
                          </a:solidFill>
                          <a:latin typeface="Tahoma"/>
                        </a:rPr>
                        <a:t>Rescues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4"/>
                      </a:solidFill>
                    </a:lnL>
                    <a:lnR w="5760">
                      <a:solidFill>
                        <a:srgbClr val="000094"/>
                      </a:solidFill>
                    </a:lnR>
                    <a:lnT w="18720">
                      <a:solidFill>
                        <a:srgbClr val="000094"/>
                      </a:solidFill>
                    </a:lnT>
                    <a:lnB w="5760">
                      <a:solidFill>
                        <a:srgbClr val="000094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33cc"/>
                          </a:solidFill>
                          <a:latin typeface="Tahoma"/>
                        </a:rPr>
                        <a:t>Adoptions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4"/>
                      </a:solidFill>
                    </a:lnL>
                    <a:lnR w="18720">
                      <a:solidFill>
                        <a:srgbClr val="000094"/>
                      </a:solidFill>
                    </a:lnR>
                    <a:lnT w="18720">
                      <a:solidFill>
                        <a:srgbClr val="000094"/>
                      </a:solidFill>
                    </a:lnT>
                    <a:lnB w="5760">
                      <a:solidFill>
                        <a:srgbClr val="000094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612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33cc"/>
                          </a:solidFill>
                          <a:latin typeface="Tahoma"/>
                        </a:rPr>
                        <a:t>19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94"/>
                      </a:solidFill>
                    </a:lnL>
                    <a:lnR w="5760">
                      <a:solidFill>
                        <a:srgbClr val="000094"/>
                      </a:solidFill>
                    </a:lnR>
                    <a:lnT w="5760">
                      <a:solidFill>
                        <a:srgbClr val="000094"/>
                      </a:solidFill>
                    </a:lnT>
                    <a:lnB w="5760">
                      <a:solidFill>
                        <a:srgbClr val="000094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94"/>
                          </a:solidFill>
                          <a:latin typeface="Tahoma"/>
                        </a:rPr>
                        <a:t>7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4"/>
                      </a:solidFill>
                    </a:lnL>
                    <a:lnR w="5760">
                      <a:solidFill>
                        <a:srgbClr val="000094"/>
                      </a:solidFill>
                    </a:lnR>
                    <a:lnT w="5760">
                      <a:solidFill>
                        <a:srgbClr val="000094"/>
                      </a:solidFill>
                    </a:lnT>
                    <a:lnB w="5760">
                      <a:solidFill>
                        <a:srgbClr val="000094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94"/>
                          </a:solidFill>
                          <a:latin typeface="Tahoma"/>
                        </a:rPr>
                        <a:t>4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4"/>
                      </a:solidFill>
                    </a:lnL>
                    <a:lnR w="18720">
                      <a:solidFill>
                        <a:srgbClr val="000094"/>
                      </a:solidFill>
                    </a:lnR>
                    <a:lnT w="5760">
                      <a:solidFill>
                        <a:srgbClr val="000094"/>
                      </a:solidFill>
                    </a:lnT>
                    <a:lnB w="5760">
                      <a:solidFill>
                        <a:srgbClr val="000094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612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33cc"/>
                          </a:solidFill>
                          <a:latin typeface="Tahoma"/>
                        </a:rPr>
                        <a:t>20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94"/>
                      </a:solidFill>
                    </a:lnL>
                    <a:lnR w="5760">
                      <a:solidFill>
                        <a:srgbClr val="000094"/>
                      </a:solidFill>
                    </a:lnR>
                    <a:lnT w="5760">
                      <a:solidFill>
                        <a:srgbClr val="000094"/>
                      </a:solidFill>
                    </a:lnT>
                    <a:lnB w="5760">
                      <a:solidFill>
                        <a:srgbClr val="000094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94"/>
                          </a:solidFill>
                          <a:latin typeface="Tahoma"/>
                        </a:rPr>
                        <a:t>8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4"/>
                      </a:solidFill>
                    </a:lnL>
                    <a:lnR w="5760">
                      <a:solidFill>
                        <a:srgbClr val="000094"/>
                      </a:solidFill>
                    </a:lnR>
                    <a:lnT w="5760">
                      <a:solidFill>
                        <a:srgbClr val="000094"/>
                      </a:solidFill>
                    </a:lnT>
                    <a:lnB w="5760">
                      <a:solidFill>
                        <a:srgbClr val="000094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94"/>
                          </a:solidFill>
                          <a:latin typeface="Tahoma"/>
                        </a:rPr>
                        <a:t>7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4"/>
                      </a:solidFill>
                    </a:lnL>
                    <a:lnR w="18720">
                      <a:solidFill>
                        <a:srgbClr val="000094"/>
                      </a:solidFill>
                    </a:lnR>
                    <a:lnT w="5760">
                      <a:solidFill>
                        <a:srgbClr val="000094"/>
                      </a:solidFill>
                    </a:lnT>
                    <a:lnB w="5760">
                      <a:solidFill>
                        <a:srgbClr val="000094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612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33cc"/>
                          </a:solidFill>
                          <a:latin typeface="Tahoma"/>
                        </a:rPr>
                        <a:t>200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94"/>
                      </a:solidFill>
                    </a:lnL>
                    <a:lnR w="5760">
                      <a:solidFill>
                        <a:srgbClr val="000094"/>
                      </a:solidFill>
                    </a:lnR>
                    <a:lnT w="5760">
                      <a:solidFill>
                        <a:srgbClr val="000094"/>
                      </a:solidFill>
                    </a:lnT>
                    <a:lnB w="5760">
                      <a:solidFill>
                        <a:srgbClr val="000094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94"/>
                          </a:solidFill>
                          <a:latin typeface="Tahoma"/>
                        </a:rPr>
                        <a:t>9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4"/>
                      </a:solidFill>
                    </a:lnL>
                    <a:lnR w="5760">
                      <a:solidFill>
                        <a:srgbClr val="000094"/>
                      </a:solidFill>
                    </a:lnR>
                    <a:lnT w="5760">
                      <a:solidFill>
                        <a:srgbClr val="000094"/>
                      </a:solidFill>
                    </a:lnT>
                    <a:lnB w="5760">
                      <a:solidFill>
                        <a:srgbClr val="000094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94"/>
                          </a:solidFill>
                          <a:latin typeface="Tahoma"/>
                        </a:rPr>
                        <a:t>8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4"/>
                      </a:solidFill>
                    </a:lnL>
                    <a:lnR w="18720">
                      <a:solidFill>
                        <a:srgbClr val="000094"/>
                      </a:solidFill>
                    </a:lnR>
                    <a:lnT w="5760">
                      <a:solidFill>
                        <a:srgbClr val="000094"/>
                      </a:solidFill>
                    </a:lnT>
                    <a:lnB w="5760">
                      <a:solidFill>
                        <a:srgbClr val="000094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613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33cc"/>
                          </a:solidFill>
                          <a:latin typeface="Tahoma"/>
                        </a:rPr>
                        <a:t>200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94"/>
                      </a:solidFill>
                    </a:lnL>
                    <a:lnR w="5760">
                      <a:solidFill>
                        <a:srgbClr val="000094"/>
                      </a:solidFill>
                    </a:lnR>
                    <a:lnT w="5760">
                      <a:solidFill>
                        <a:srgbClr val="000094"/>
                      </a:solidFill>
                    </a:lnT>
                    <a:lnB w="18720">
                      <a:solidFill>
                        <a:srgbClr val="000094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94"/>
                          </a:solidFill>
                          <a:latin typeface="Tahoma"/>
                        </a:rPr>
                        <a:t>102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4"/>
                      </a:solidFill>
                    </a:lnL>
                    <a:lnR w="5760">
                      <a:solidFill>
                        <a:srgbClr val="000094"/>
                      </a:solidFill>
                    </a:lnR>
                    <a:lnT w="5760">
                      <a:solidFill>
                        <a:srgbClr val="000094"/>
                      </a:solidFill>
                    </a:lnT>
                    <a:lnB w="18720">
                      <a:solidFill>
                        <a:srgbClr val="000094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94"/>
                          </a:solidFill>
                          <a:latin typeface="Tahoma"/>
                        </a:rPr>
                        <a:t>100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4"/>
                      </a:solidFill>
                    </a:lnL>
                    <a:lnR w="18720">
                      <a:solidFill>
                        <a:srgbClr val="000094"/>
                      </a:solidFill>
                    </a:lnR>
                    <a:lnT w="5760">
                      <a:solidFill>
                        <a:srgbClr val="000094"/>
                      </a:solidFill>
                    </a:lnT>
                    <a:lnB w="18720">
                      <a:solidFill>
                        <a:srgbClr val="000094"/>
                      </a:solidFill>
                    </a:lnB>
                    <a:solidFill>
                      <a:srgbClr val="ffcc00"/>
                    </a:solidFill>
                  </a:tcPr>
                </a:tc>
              </a:tr>
            </a:tbl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Why Animals Are Abandoned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528560" y="2060640"/>
            <a:ext cx="68310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oor or deteriorating healt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intenance expens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eterinary bill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hange in lifesty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edical reas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ehavioral problem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Who Is An Animal Angel?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600200" y="1752120"/>
            <a:ext cx="67816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elieves that unwanted pets deserve a good hom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elieves that you can teach an old dog new trick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elieves that you can retrain animals to be lovab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Foster Angel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vide a temporary hom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valuate special nee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ousebreak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bedience train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ocializ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ring animal to adoption fai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ll costs covered by Animal Ange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5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500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Adoption Angel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ork at adoption fai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ransport animals to fai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erview potential paren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llow up on adopti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all new paren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o a surprise home visi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1-10-09T09:40:50Z</dcterms:modified>
  <cp:revision>38</cp:revision>
  <dc:subject/>
  <dc:title>Recruitment</dc:title>
</cp:coreProperties>
</file>