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E40C-CA1D-42BB-9DA5-333AACC6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AE17-1324-431F-9D9A-90024DBF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A244-2E28-4C8C-9CED-5653D8432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1261-A75B-407E-A189-80215B26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AF32-7AE9-48EB-BB3A-40FA402A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6E5C-1D7F-4FAC-807B-22B20E59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03F3-AA8F-4092-80BD-15700A2D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6D6A-5BBE-47ED-B17A-C5DE6858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FBE7-90E1-42CA-9BD4-8E0E27C8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4279-A969-47E5-AB94-25DE7633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A882-313A-4B60-8BF1-892DCB1D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DEDA-063F-49D1-AF43-95F037B1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2574-7D1A-4D06-91DF-F7E918D2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7BA0-76C3-404A-9EF5-65FA9471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D2EA-C600-4831-A9D8-5D49C9E3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646B-9B6D-476C-9CBA-6A784761B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3000-89AE-4952-9387-62687E53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6380-2EE5-4CB4-9D90-6EC720AF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508-75BA-4B41-ADD4-8C55801A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DC5B-4F03-4F73-84E2-0F53D1E7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E10A-D4CF-4721-BABE-511ABB97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E446-E7BE-42DF-BA65-D80F50FC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6D97-3674-4685-8306-96A65841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1E5B-B124-402F-9738-0A56D23B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0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8ea0d8"/>
              </a:gs>
              <a:gs pos="100000">
                <a:srgbClr val="66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2449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7396-EBB6-4CB4-97FC-ACF1065036A2}" type="slidenum">
              <a:rPr b="0" lang="en-US" sz="2400" spc="-1" strike="noStrike">
                <a:solidFill>
                  <a:srgbClr val="19244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lvl="3" marL="1712880" indent="-228600">
              <a:spcBef>
                <a:spcPts val="700"/>
              </a:spcBef>
              <a:buClr>
                <a:srgbClr val="1924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0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8ea0d8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2449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040F-E161-4CB6-85C0-57B888F9DDA0}" type="slidenum"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  <a:p>
            <a:pPr lvl="2" marL="914400" indent="227160" algn="ctr"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2449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192449"/>
              </a:solidFill>
              <a:latin typeface="Comic Sans MS"/>
            </a:endParaRPr>
          </a:p>
          <a:p>
            <a:pPr lvl="3" marL="1371600" indent="112680" algn="ctr">
              <a:spcBef>
                <a:spcPts val="451"/>
              </a:spcBef>
              <a:buClr>
                <a:srgbClr val="1924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244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192449"/>
              </a:solidFill>
              <a:latin typeface="Comic Sans MS"/>
            </a:endParaRPr>
          </a:p>
          <a:p>
            <a:pPr lvl="4" marL="1828800" algn="ctr">
              <a:spcBef>
                <a:spcPts val="451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244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192449"/>
              </a:solidFill>
              <a:latin typeface="Comic Sans MS"/>
            </a:endParaRPr>
          </a:p>
          <a:p>
            <a:pPr lvl="5" marL="1828800">
              <a:spcBef>
                <a:spcPts val="451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244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192449"/>
              </a:solidFill>
              <a:latin typeface="Comic Sans MS"/>
            </a:endParaRPr>
          </a:p>
          <a:p>
            <a:pPr lvl="6" marL="1828800">
              <a:spcBef>
                <a:spcPts val="451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244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19244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0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2449"/>
                </a:solidFill>
                <a:latin typeface="Comic Sans MS"/>
              </a:rPr>
              <a:t>Animal Angels</a:t>
            </a: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4648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All creatures deserve a good home and someone to love them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0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2449"/>
                </a:solidFill>
                <a:latin typeface="Comic Sans MS"/>
              </a:rPr>
              <a:t>Events Calendar</a:t>
            </a: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57480" y="1981080"/>
          <a:ext cx="7772400" cy="447516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Whe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Wher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Adoption Fair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Saturday, Nov 21</a:t>
                      </a:r>
                      <a:r>
                        <a:rPr b="0" lang="en-US" sz="2000" spc="-1" strike="noStrike" baseline="30000">
                          <a:solidFill>
                            <a:srgbClr val="192449"/>
                          </a:solidFill>
                          <a:latin typeface="Comic Sans MS"/>
                        </a:rPr>
                        <a:t>st</a:t>
                      </a:r>
                      <a:r>
                        <a:rPr b="0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 12:00-4:00pm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Pets4U South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Adoption Fair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Saturday, Nov 28</a:t>
                      </a:r>
                      <a:r>
                        <a:rPr b="0" lang="en-US" sz="2000" spc="-1" strike="noStrike" baseline="30000">
                          <a:solidFill>
                            <a:srgbClr val="192449"/>
                          </a:solidFill>
                          <a:latin typeface="Comic Sans MS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 11:00-5:00pm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Pets4U North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Obedience Clas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Monday Nov 30</a:t>
                      </a:r>
                      <a:r>
                        <a:rPr b="0" lang="en-US" sz="2000" spc="-1" strike="noStrike" baseline="30000">
                          <a:solidFill>
                            <a:srgbClr val="192449"/>
                          </a:solidFill>
                          <a:latin typeface="Comic Sans MS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 7:00-8:00pm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Grover Elementary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Adoption  Fair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Sunday, Dec 6</a:t>
                      </a:r>
                      <a:r>
                        <a:rPr b="0" lang="en-US" sz="2000" spc="-1" strike="noStrike" baseline="30000">
                          <a:solidFill>
                            <a:srgbClr val="192449"/>
                          </a:solidFill>
                          <a:latin typeface="Comic Sans MS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, 11:00-5:00pm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South Park Mall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0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2449"/>
                </a:solidFill>
                <a:latin typeface="Comic Sans MS"/>
              </a:rPr>
              <a:t>How to Become an Angel</a:t>
            </a: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2057400"/>
            <a:ext cx="39243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Arial"/>
              </a:rPr>
              <a:t>Adopt an anim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Arial"/>
              </a:rPr>
              <a:t>Call Us to Volunte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Arial"/>
              </a:rPr>
              <a:t>Send a Che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Arial"/>
              </a:rPr>
              <a:t>Drop Off Don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3e68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Arial"/>
              </a:rPr>
              <a:t>Cra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3e68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Arial"/>
              </a:rPr>
              <a:t>Crate Pad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3e68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Arial"/>
              </a:rPr>
              <a:t>Colla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3e68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Arial"/>
              </a:rPr>
              <a:t>Leash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3e68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Arial"/>
              </a:rPr>
              <a:t>Food Dish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991040" y="2406600"/>
            <a:ext cx="3657600" cy="2209680"/>
          </a:xfrm>
          <a:prstGeom prst="rect">
            <a:avLst/>
          </a:prstGeom>
          <a:solidFill>
            <a:srgbClr val="c9ddf1"/>
          </a:solidFill>
          <a:ln w="57240">
            <a:solidFill>
              <a:srgbClr val="192449"/>
            </a:solidFill>
            <a:miter/>
          </a:ln>
        </p:spPr>
        <p:txBody>
          <a:bodyPr anchor="t">
            <a:normAutofit/>
          </a:bodyPr>
          <a:p>
            <a:pPr marL="457200" indent="-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2449"/>
                </a:solidFill>
                <a:latin typeface="Comic Sans MS"/>
              </a:rPr>
              <a:t>Animal Angels</a:t>
            </a:r>
            <a:endParaRPr b="0" lang="en-US" sz="20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2449"/>
                </a:solidFill>
                <a:latin typeface="Comic Sans MS"/>
              </a:rPr>
              <a:t>1166 Oak Street</a:t>
            </a:r>
            <a:endParaRPr b="0" lang="en-US" sz="20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2449"/>
                </a:solidFill>
                <a:latin typeface="Comic Sans MS"/>
              </a:rPr>
              <a:t>Smitherton, AZ 85048</a:t>
            </a:r>
            <a:endParaRPr b="0" lang="en-US" sz="20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2449"/>
                </a:solidFill>
                <a:latin typeface="Comic Sans MS"/>
              </a:rPr>
              <a:t>602-555-1313</a:t>
            </a:r>
            <a:endParaRPr b="0" lang="en-US" sz="20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24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0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2449"/>
                </a:solidFill>
                <a:latin typeface="Comic Sans MS"/>
              </a:rPr>
              <a:t>Who is an Animal Angel?</a:t>
            </a: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Believes that unwanted pets deserve a home and someone to love them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Believes that you can teach an old dog new tricks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Believes that you can retrain animals to be lovable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0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2449"/>
                </a:solidFill>
                <a:latin typeface="Comic Sans MS"/>
              </a:rPr>
              <a:t>What is a Rescue Animal?</a:t>
            </a: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Saved from imminent danger and destruction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Comic Sans MS"/>
              </a:rPr>
              <a:t>Stray animals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Comic Sans MS"/>
              </a:rPr>
              <a:t>Abused animals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Comic Sans MS"/>
              </a:rPr>
              <a:t>Unwanted animals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A special friend in need of a special home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0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2449"/>
                </a:solidFill>
                <a:latin typeface="Comic Sans MS"/>
              </a:rPr>
              <a:t>Adopting a Rescue Animal</a:t>
            </a: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Are the animals spayed or neutered before adoption?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Is the animal evaluated by a veterinarian?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Is the animal’s temperament evaluated?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Are experienced people available for guidance after adoption?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0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2449"/>
                </a:solidFill>
                <a:latin typeface="Comic Sans MS"/>
              </a:rPr>
              <a:t>What Should I Expect?</a:t>
            </a: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415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Comic Sans MS"/>
              </a:rPr>
              <a:t>Expect a lot of questions because the Angels want to be sure of you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Comic Sans MS"/>
              </a:rPr>
              <a:t>Expect to be patient because I may not be housebroken or trained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Comic Sans MS"/>
              </a:rPr>
              <a:t>Expect to give me a lot of love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Comic Sans MS"/>
              </a:rPr>
              <a:t>Expect to get a lot of love in return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19640" y="2101680"/>
            <a:ext cx="3619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0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2449"/>
                </a:solidFill>
                <a:latin typeface="Comic Sans MS"/>
              </a:rPr>
              <a:t>Animals for Adoption</a:t>
            </a: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3810240" cy="1981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28840" y="2101680"/>
            <a:ext cx="3809880" cy="19814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4235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92449"/>
                </a:solidFill>
                <a:latin typeface="Comic Sans MS"/>
              </a:rPr>
              <a:t>We want to be your pet!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0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2449"/>
                </a:solidFill>
                <a:latin typeface="Comic Sans MS"/>
              </a:rPr>
              <a:t>Jake</a:t>
            </a: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Comic Sans MS"/>
              </a:rPr>
              <a:t>2 year old Sheltie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Comic Sans MS"/>
              </a:rPr>
              <a:t>His owners had to move out of state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Comic Sans MS"/>
              </a:rPr>
              <a:t>Excellent with children and other animals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Comic Sans MS"/>
              </a:rPr>
              <a:t>Needs someone to love him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2786040" cy="3581280"/>
          </a:xfrm>
          <a:prstGeom prst="rect">
            <a:avLst/>
          </a:prstGeom>
          <a:ln w="22860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0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2449"/>
                </a:solidFill>
                <a:latin typeface="Comic Sans MS"/>
              </a:rPr>
              <a:t>Wolfie</a:t>
            </a: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Comic Sans MS"/>
              </a:rPr>
              <a:t>6 month old German Shepard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Comic Sans MS"/>
              </a:rPr>
              <a:t>Cute as a bug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Comic Sans MS"/>
              </a:rPr>
              <a:t>Loves to play fetch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Comic Sans MS"/>
              </a:rPr>
              <a:t>His owner passed away suddenly and he needs someone to love him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3733560" cy="2436840"/>
          </a:xfrm>
          <a:prstGeom prst="rect">
            <a:avLst/>
          </a:prstGeom>
          <a:ln w="228600">
            <a:solidFill>
              <a:srgbClr val="99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0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2449"/>
                </a:solidFill>
                <a:latin typeface="Comic Sans MS"/>
              </a:rPr>
              <a:t>Adoption Fees</a:t>
            </a: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Dogs</a:t>
            </a: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$75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Cats</a:t>
            </a: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$50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Guinea Pigs</a:t>
            </a: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$10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Rabbits</a:t>
            </a: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$25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Ferrets</a:t>
            </a: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$60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All other animals call for rate.</a:t>
            </a:r>
            <a:br>
              <a:rPr sz="2800"/>
            </a:b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602-555-1313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30T03:00:48Z</dcterms:created>
  <dc:creator/>
  <dc:description/>
  <dc:language>en-US</dc:language>
  <cp:lastModifiedBy/>
  <dcterms:modified xsi:type="dcterms:W3CDTF">2001-10-09T09:38:25Z</dcterms:modified>
  <cp:revision>10</cp:revision>
  <dc:subject/>
  <dc:title>Animal Angels3</dc:title>
</cp:coreProperties>
</file>