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A85F-21D2-490D-9123-96FDF29A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6DA5-D8A7-4C81-86B7-A5F4FA96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34F1-57FE-45A5-B803-1B9BE796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D3C8-7A67-4030-8D52-57EB43B2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2D23-9539-4F32-ABA1-AC7B3A37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2300-82DC-415B-B5D0-66C4F05D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5EF1-AF4E-40A6-A351-66F7B17B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CA48-F13C-447C-A259-91EEEAEC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C854-EADB-437B-B1E9-92044C47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A356-EBD4-4460-BF70-5BC74F1F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4073-D721-456D-ACF5-01353A5A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5B07-F2D4-439B-9138-9C45B1C3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FE10-B6A0-47F3-B5AD-EEE729B0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0D25-1FAA-4B9A-A16F-34BC7EF5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6F94-0109-4D31-AE57-7A7134B0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29B6-31A4-4BDB-8B46-B1762B82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EA33-3C28-444E-87C5-4E388A11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056F-FBE6-46FC-97E8-1FD8CF32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B800-5A9F-4683-9E79-01880093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853F-FD81-465B-9B1A-810726E2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A3AE-A68D-4113-BB79-53F6C7AE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7A65-8C9F-42CA-8901-96A4A9D6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6835-44B6-428D-82BE-827046C7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6748-6CD2-4935-A0BB-4A3006B3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4C52-F755-4209-A5B2-D4F68712EBC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BB68-1B42-4015-9C5B-9FC6CE0E6F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0DE6-BEA5-4D85-B27F-6C7C98A6888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FC24-9CA0-429C-B762-A419CD844A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Water Safety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Student Name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64DA-F769-4267-BE90-2A8693199F7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F32E10E-3978-4556-B8A6-32BC4DF07B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opics of Discuss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ling F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l 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C5A9-2D3C-46FE-9C6D-ABEB07FF2FE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25B3B-47E5-4ADA-BE97-829070E331C2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tartling Fact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rowning mortality rate of Arizona's preschoolers ranks FIRST in the 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m weather, long summers, and over 200,000 pools make Arizona prone to water-related incid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th is just one outcome of water related incidents. In about 9% of the incidents, the child survived, but with some degree of brain dam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214C-FC8E-455E-8904-EA66B254A59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BE639-B08B-4869-A8FB-A2FA8E5D5A70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Drowning By Age Group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0880" y="1447920"/>
          <a:ext cx="8458200" cy="4295520"/>
        </p:xfrm>
        <a:graphic>
          <a:graphicData uri="http://schemas.openxmlformats.org/drawingml/2006/table">
            <a:tbl>
              <a:tblPr/>
              <a:tblGrid>
                <a:gridCol w="2895840"/>
                <a:gridCol w="838080"/>
                <a:gridCol w="990720"/>
                <a:gridCol w="1143000"/>
                <a:gridCol w="1066680"/>
                <a:gridCol w="685800"/>
                <a:gridCol w="8380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Water B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 –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 – 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 – 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5 – 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5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Bath Tu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Buck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anal or Irrigation Dit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Fish Pon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ool, above grou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ool, in grou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River or Lak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S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All Water Bod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604D-C937-4107-9C40-7AA2A88B429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D27CB-E342-4424-84E0-94C802A46D9E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Pool Rul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leave children unobserved around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lose your yard and pool with self locking, self closing g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leave furniture or toys near the fence that children can use to climb 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toys and pets away from p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0AA2-8B2C-4DD5-8CE3-73AF5AF1CC4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4EC79-3834-4C29-8F86-0C70C57DD22F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Pool Rul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leave children unobserved around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lose your yard and pool with self locking, self closing g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leave furniture or toys near the fence that children can use to climb 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toys and pets away from p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2EAE-BF21-48F3-A333-8D59864A459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A8D43-43FF-4E75-9CA6-B156AAF42852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Pool Rules (Cont.)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basic lifesaving equipment by the pool, including a cordless ph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 CPR and phone numbers near the p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pool covers before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 CP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F099-19EA-4525-BCBD-900DCCEB165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070E1-C307-45A0-A816-671404AB0259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inally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l safety rules are not just for childr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6F71-B271-49AF-B29F-BFE61E12D69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B400B-7ECF-4054-A852-FF51E88E568C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1-10-09T09:43:04Z</dcterms:modified>
  <cp:revision>9</cp:revision>
  <dc:subject/>
  <dc:title>Water Safety</dc:title>
</cp:coreProperties>
</file>