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AF5F-F863-46C0-92C7-2A9D68803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analysis done upon request. Ask at front de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trainers available Monday through Friday from 10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fitness workshops offered periodically. Check calendar in lob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381-812F-4214-A5A1-75BA0008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DFA-D189-4C0D-B6A9-2E785A89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F1C-B73E-43FE-B6AC-0E2AFE2C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843-B757-4BF8-86BA-D8F672B5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1693-725E-4E9B-9398-635703EA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654D-B736-4F3B-B840-95812D6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229B-8805-499E-8F87-0B2067FF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FAEC-8EC2-427F-8E91-2B27C353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BE73-D0DC-4AAA-A2FC-7297CE5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9563-E6E7-49B3-99CC-2028551F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DA71-E21F-4F90-B672-3808DBCD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301-BADD-4CF6-94E7-7DA7291E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565A-170B-44E4-ABBD-78B709A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5690-D9A1-4DDA-8DCE-1334C352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B363-8BCA-40B2-9057-859B69D7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8E3B-9F03-4051-BF12-D365A434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3011-6366-4C84-A4E7-3102935E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F54-C97C-4D0D-9B47-328137A6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C31-39D4-4EE7-AC33-35ECA57A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B41-02B1-43BE-9413-EF91FA22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B62-CC1D-4742-87B2-F72732C1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872-4FFB-41C9-9D25-3969197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B77-4D70-4D60-80D0-56A5F18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B6D-A5C0-4692-BDFB-4F9C46FF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8773-D2C0-4F7B-B9EC-754A3F9F86F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D34E-8EBD-494E-9474-E01C6FC60B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EAA2-FE17-41E8-9B46-879B50E3D26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3A13-6D92-4EEA-BDAD-BF5A58C1BF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hy Exercise?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ed b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festyle Fit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6512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ercise Makes Life More Fun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a regular workout program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a workout group and share th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343480" y="2209680"/>
            <a:ext cx="24195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2F2-6D68-44FF-86AC-DE2071C16B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3A0F0-60A3-4541-98B7-F3D501F89B5E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Lifestyle Fitness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0" y="4724280"/>
            <a:ext cx="45720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645000"/>
            <a:ext cx="3048120" cy="1572120"/>
          </a:xfrm>
          <a:prstGeom prst="rect">
            <a:avLst/>
          </a:prstGeom>
          <a:solidFill>
            <a:srgbClr val="009999"/>
          </a:solidFill>
          <a:ln cap="sq" w="57240">
            <a:solidFill>
              <a:srgbClr val="ffcc00"/>
            </a:solidFill>
            <a:miter/>
          </a:ln>
          <a:effectLst>
            <a:outerShdw dist="107932" dir="135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 Wharton Dr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50) 555-77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fitlif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Ongoing Exercise Can Do for Yo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181480" y="313056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D29-E386-4239-91E6-2606CCEBFB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480E4-3DCF-4A82-A737-71366B5483D3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nef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heart disease and normalizes 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s blood sugar and controls body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bone and tissue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s life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248440" y="22096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818-A713-4CEB-9A56-C95F6F0A51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3B1E6-49B2-4CC3-80DF-4AD464E8DCF2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gulate Blood Sugar and Control Body Weigh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s body’s ability to metabolize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s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s weight-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334120" y="220968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772-EE15-4B33-A436-D28CAC463B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EE806-EDD3-4786-A3B3-E54473159C97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vent Heart Disease and Normalize Blood Press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s plaque buildup in art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“good” and decreases “bad”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resting heart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obstructive blood c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heart stronger and more 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E16-2E21-4654-B878-5D1F52ECB7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34B23-8ED2-4E42-8A76-6699C4A25997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vent Bone and Muscle Tissue Lo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osteopo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loss of lean body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drop in metabolic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71E-49C3-434E-88E3-C89C35C00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4D305-2A05-4D91-8C4D-2DCABA37EBAF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mprove Lifesty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activity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stress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s 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other healthy ha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C9B-48BB-4F63-8565-F96D44256B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DA505-80E6-4AFB-85A8-60682C0C1B31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grams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zed fitness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workout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ning and racquetball cl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718-05D6-467C-B990-595DE0FDBB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81F42-1CD2-4AED-9537-1949E43353C1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ifestyle Fitness Program Schedu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981080"/>
          <a:ext cx="8305920" cy="4181760"/>
        </p:xfrm>
        <a:graphic>
          <a:graphicData uri="http://schemas.openxmlformats.org/drawingml/2006/table">
            <a:tbl>
              <a:tblPr/>
              <a:tblGrid>
                <a:gridCol w="685800"/>
                <a:gridCol w="1143000"/>
                <a:gridCol w="990720"/>
                <a:gridCol w="1143000"/>
                <a:gridCol w="990360"/>
                <a:gridCol w="1143000"/>
                <a:gridCol w="1143000"/>
                <a:gridCol w="10670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g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g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 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 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cuit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cuit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cuit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zz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ua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Worko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 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Worko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 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Worko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quet-ball Leag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quet-ball Leag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zz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e Kwon 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zz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e Kwon 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zz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D92-5D98-4C68-8B1D-E7E858090F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125C2-50A8-4483-987B-25510F0668F6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39:33Z</dcterms:modified>
  <cp:revision>10</cp:revision>
  <dc:subject/>
  <dc:title>Why Exercise?</dc:title>
</cp:coreProperties>
</file>