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clap.wav" ContentType="audio/x-wav"/>
  <Override PartName="/ppt/media/image3.wmf" ContentType="image/x-wmf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33cc"/>
                </a:solidFill>
                <a:latin typeface="Bookman Old Style"/>
              </a:rPr>
              <a:t>Click to move the slide</a:t>
            </a:r>
            <a:endParaRPr b="1" i="1" lang="en-US" sz="5400" spc="-1" strike="noStrike">
              <a:solidFill>
                <a:srgbClr val="0033cc"/>
              </a:solidFill>
              <a:latin typeface="Bookman Old Styl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E789-BDD9-4ABD-AD11-6CBD91FAE0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C064-2B4C-44E2-8F0D-7A5EBFEF1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xt slide displays the same information in a table. It is hid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D6EB-6555-436E-BAE1-761E9B23E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33cc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21FE-DA86-431F-BE81-6EE8CA6A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33cc"/>
              </a:solidFill>
              <a:latin typeface="Bookman Old Styl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4804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019A-4CB1-45AC-975F-7F42A1B48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33cc"/>
              </a:solidFill>
              <a:latin typeface="Bookman Old Sty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91048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14708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91048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14708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57BB-046A-4DD5-9B37-0010C5817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7579-4A3F-45F2-BA32-C3AE4893D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33cc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DCA8-F8C9-413C-ACF9-8CF678AF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33cc"/>
              </a:solidFill>
              <a:latin typeface="Bookman Old Sty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71D6-3FDE-4554-9D97-5CB7C954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33cc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52CA-7F63-4AAA-A5C4-AB901738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33c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A3C5-D184-421A-A866-5CC67791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36720" y="1425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B568-7B90-4A06-AFD5-7A828109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33cc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0418-BE59-4BF4-9472-BC51D434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33cc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07AF-1703-46FB-9963-771A050F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33cc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4804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9FF71-B616-4D97-97F1-1E97AFEF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33cc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DF58-6E49-4741-9366-1E60896B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33cc"/>
              </a:solidFill>
              <a:latin typeface="Bookman Old Sty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8332-6D34-4D4F-A154-BA69F3A3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33cc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54804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5846-1E45-41E2-81E2-4F1569A78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33cc"/>
              </a:solidFill>
              <a:latin typeface="Bookman Old Styl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91048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14708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591048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714708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702C-9076-4BFF-848D-1C2308DE3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33cc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EC91-D5C2-46CC-B8A4-068667A5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33cc"/>
              </a:solidFill>
              <a:latin typeface="Bookman Old Sty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DCE6-3A9D-43EF-B5B3-9A141B4E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33c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E05F-496E-4F94-B4A8-50A81F74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36720" y="1425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DDD9-1D3D-4261-ADF8-BE67F3E1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33cc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CA4E-30AD-4784-8743-97BC06A3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33cc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4804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BC7C-2627-492B-9DAC-2D3F9180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33cc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02D6-A9CF-460A-A3F3-19A41FBC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E4C7-459E-4ADA-ACA0-A9EA6D41750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AD3A-49A0-406F-8B0E-D4B15828ECC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33cc"/>
                </a:solidFill>
                <a:latin typeface="Bookman Old Style"/>
              </a:rPr>
              <a:t>Click to edit the title text format</a:t>
            </a:r>
            <a:endParaRPr b="1" i="1" lang="en-US" sz="5400" spc="-1" strike="noStrike">
              <a:solidFill>
                <a:srgbClr val="0033cc"/>
              </a:solidFill>
              <a:latin typeface="Bookman Old Style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Bookman Old Style"/>
              </a:rPr>
              <a:t>Click to edit the outline text format</a:t>
            </a: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cc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33cc"/>
                </a:solidFill>
                <a:latin typeface="Bookman Old Style"/>
              </a:rPr>
              <a:t>Market Analysis</a:t>
            </a:r>
            <a:endParaRPr b="1" i="1" lang="en-US" sz="5400" spc="-1" strike="noStrike">
              <a:solidFill>
                <a:srgbClr val="0033cc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Bookman Old Style"/>
              </a:rPr>
              <a:t>The Sports Company</a:t>
            </a: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338292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33cc"/>
                </a:solidFill>
                <a:latin typeface="Bookman Old Style"/>
              </a:rPr>
              <a:t>Market Analysis</a:t>
            </a:r>
            <a:endParaRPr b="1" i="1" lang="en-US" sz="5400" spc="-1" strike="noStrike">
              <a:solidFill>
                <a:srgbClr val="0033cc"/>
              </a:solidFill>
              <a:latin typeface="Bookman Old Style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3382920" cy="2492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181480" y="2895480"/>
            <a:ext cx="2438640" cy="152424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The End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133720" y="2362320"/>
            <a:ext cx="5486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nalysis of past, present and future sal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tudent Nam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876920" y="3124080"/>
            <a:ext cx="3717720" cy="28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Sport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D7ED-5D10-4B61-8778-5B4ABA12E59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1/97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1028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Topics of Discussion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ales Growth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ompetitio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Market Shar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Sport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1A9A-41D2-4BC8-891F-CF9D2FDF1C2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1/97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Sales Growth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997 sales $5,100,00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998 sales $5,900,00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999 sales $7,400,00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2000 sales $10,200,00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Sport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A363-C71F-48BA-9BC6-03267947BB7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1/97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Sales Growth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971800" y="2743200"/>
          <a:ext cx="3581280" cy="2917800"/>
        </p:xfrm>
        <a:graphic>
          <a:graphicData uri="http://schemas.openxmlformats.org/drawingml/2006/table">
            <a:tbl>
              <a:tblPr/>
              <a:tblGrid>
                <a:gridCol w="1447560"/>
                <a:gridCol w="21337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Sales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(in millions)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997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.1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998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.9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1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999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7.4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1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0.2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Sport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7F1A-DB20-487F-9D42-3F47F258218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1/97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Market Share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35% Sports Company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30% Action Corporatio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25% Teams Unlimited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0% Other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Sport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FA20-859E-4E17-9251-930E656850B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1/97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Competition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ction Corporatio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established in 1986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located in Union, Oregon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eams Unlimited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established in 1989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located in Spring, Maine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Sport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DD8B-488B-4602-B69F-2CA3A041EA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1/97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Next Steps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esearch Industry Trend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etail Strengths and Weakness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evelop Future Marketing Pla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Sport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F05E-A12E-40AE-AB21-AD99734A324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1/97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What This Means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ast - sales doubled in 4 years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resent - market share 35%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uture - where to go from here?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48320" y="2971800"/>
            <a:ext cx="3924360" cy="239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Sport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BEA6-BE62-4E91-B5A7-4B7D8F7CE28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1/97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28T16:28:00Z</dcterms:created>
  <dc:creator/>
  <dc:description/>
  <dc:language>en-US</dc:language>
  <cp:lastModifiedBy/>
  <dcterms:modified xsi:type="dcterms:W3CDTF">2001-10-09T09:40:09Z</dcterms:modified>
  <cp:revision>10</cp:revision>
  <dc:subject/>
  <dc:title>Market Analysis</dc:title>
</cp:coreProperties>
</file>