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9933"/>
                </a:solidFill>
                <a:latin typeface="Arial"/>
              </a:rPr>
              <a:t>Click to move the slide</a:t>
            </a:r>
            <a:endParaRPr b="0" i="1" lang="en-US" sz="60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9945-84DE-48AE-BEC1-49A939173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the next hidden slide if someone asks about how many animals are adop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w the next hidden slide if someone asks about adoption 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0509D-E17B-448E-B349-6E32466469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49618-38A2-4A93-98D9-D7997C5544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77B32-C439-485D-BEB0-ECEBF7473D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0A71D-D126-4633-BEF5-52B6DF308E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0E69D-E89C-4C71-BDEA-0FE7E31BB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FC4C4-133A-45EC-9784-2A86E1AB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91486-BD44-4A84-8284-9F455784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24C41-B932-49E7-8E24-3C63B62D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A2D60-0AB1-4185-A0D7-4D743236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92AE8-D3A9-4AB8-83D8-6EFBDE52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BDB7D-C4E3-4BCB-80EC-51B651B3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ECABA-A346-432D-AC13-BEFB4C8441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A41DB-E6E7-4659-A0BD-08C55016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3C8DC-4702-4ABD-8868-C95F7F42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A4119-520B-4FD1-99E2-B020579D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A1BD5-7C50-481F-B5E8-30F42A7D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2C061-6B1F-4FDB-ADE8-1C8B37F7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2E12E-27DE-47B0-ABF6-D293D0129F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5D74F-40CA-4C05-B32D-A954CBEC7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15A78-EC01-4C9F-ACF4-8EA16969E8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A16B1-EDE9-4F0D-9326-5FDA8A5957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FF3FF-206F-49D8-BDF1-3445BBD3D1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F706E-9E90-4515-8B20-BE5B24D864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D6F75-ED0F-4060-8E98-2ADD9AB77E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2DFB-54FE-4F5F-A514-1D12C3B965BB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4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0" i="1" lang="en-US" sz="60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1B9D-ABB1-469E-9F63-CFDC58AEA943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AE04-45C8-4C5F-B584-9823A27889C5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66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Arial"/>
              </a:rPr>
              <a:t>Animal Rescue Foundation</a:t>
            </a:r>
            <a:endParaRPr b="0" i="1" lang="en-US" sz="5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400800" y="411480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62120" y="2666880"/>
            <a:ext cx="5006880" cy="3267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09480" y="2286000"/>
            <a:ext cx="5334120" cy="3657600"/>
          </a:xfrm>
          <a:custGeom>
            <a:avLst/>
            <a:gdLst>
              <a:gd name="textAreaLeft" fmla="*/ 250560 w 5334120"/>
              <a:gd name="textAreaRight" fmla="*/ 5083560 w 5334120"/>
              <a:gd name="textAreaTop" fmla="*/ 250560 h 3657600"/>
              <a:gd name="textAreaBottom" fmla="*/ 3407040 h 3657600"/>
            </a:gdLst>
            <a:ahLst/>
            <a:rect l="textAreaLeft" t="textAreaTop" r="textAreaRight" b="textAreaBottom"/>
            <a:pathLst>
              <a:path w="31500" h="21600">
                <a:moveTo>
                  <a:pt x="0" y="0"/>
                </a:moveTo>
                <a:lnTo>
                  <a:pt x="0" y="21600"/>
                </a:lnTo>
                <a:lnTo>
                  <a:pt x="31500" y="21600"/>
                </a:lnTo>
                <a:lnTo>
                  <a:pt x="31500" y="0"/>
                </a:lnTo>
                <a:close/>
                <a:moveTo>
                  <a:pt x="1481" y="1481"/>
                </a:moveTo>
                <a:lnTo>
                  <a:pt x="1481" y="20119"/>
                </a:lnTo>
                <a:lnTo>
                  <a:pt x="30019" y="20119"/>
                </a:lnTo>
                <a:lnTo>
                  <a:pt x="30019" y="1481"/>
                </a:lnTo>
                <a:close/>
              </a:path>
            </a:pathLst>
          </a:custGeom>
          <a:solidFill>
            <a:srgbClr val="d8ec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Topics of Discussion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51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do we do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ndation hist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w can you help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re are we located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151600" y="2543040"/>
            <a:ext cx="3385800" cy="246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imal Ang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07E17-0D31-4DE7-8F9F-36F595F8300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What We Do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rovide temporary hom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rovide obedience train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rovide veterinary car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Find loving, permanent hom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imal Ang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B2C03-D5FE-4CD0-BEAA-88C29CEF139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Foundation History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81080" y="1828800"/>
            <a:ext cx="137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Ye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99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99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99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52680" y="18288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Ev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nded by Ed Wilt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uilt first shel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egan volunteer progra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panded to 10 shelt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imal Ange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55314-7605-4301-97F7-F5A35BB7C39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How You Can Help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olunte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nd a che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rop off don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opt an anim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imal Ang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7928B-2DBE-4DF5-9CBC-C2605A228A4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Where to Find Us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666880"/>
            <a:ext cx="5410080" cy="2185560"/>
          </a:xfrm>
          <a:prstGeom prst="rect">
            <a:avLst/>
          </a:prstGeom>
          <a:solidFill>
            <a:srgbClr val="003399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nimal Rescue Found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1163 Oak Stre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Lakeside, NH 0311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(603) 555-131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imal Ang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BB7CF-8446-49D6-9978-BF6422402FA1}" type="slidenum">
              <a:t>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1-10-09T09:45:15Z</dcterms:modified>
  <cp:revision>24</cp:revision>
  <dc:subject/>
  <dc:title>Foundation Introduction</dc:title>
</cp:coreProperties>
</file>