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9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13.gif" ContentType="image/gif"/>
  <Override PartName="/ppt/media/image5.wmf" ContentType="image/x-wmf"/>
  <Override PartName="/ppt/media/image7.jpeg" ContentType="image/jpeg"/>
  <Override PartName="/ppt/media/image6.wmf" ContentType="image/x-wmf"/>
  <Override PartName="/ppt/media/image8.jpeg" ContentType="image/jpeg"/>
  <Override PartName="/ppt/media/image10.jpeg" ContentType="image/jpeg"/>
  <Override PartName="/ppt/media/image11.jpeg" ContentType="image/jpe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028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515F-A074-4B5F-B351-B11504D58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5F4C-69BD-4CF9-B540-AE2023373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D844-5A82-4AEC-B1E1-905181156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7E18-3F50-4002-BF2B-3B7A97EDC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E9216-674D-45CC-B329-6224428B0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AA24D-B23F-4376-BD51-AEADAB402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514E1-8930-4CD0-A8F7-C1ABC6B05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4F492-5EA5-4723-9EC0-29333CB43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57942-BB46-4FDF-A88F-A7400ADBF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371600" y="10998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9C14C-9555-4FA3-BEF7-173C07F4F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ACF48-BF61-4E07-8B24-C25E1EAD9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559A-C762-44EA-911C-FFF65C879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5D06A-C062-43CF-B91C-B3BF74C6F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F5ADB-CF6E-4F2B-9F47-6FE489FE3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F67A4-8257-4CB6-AA1D-A6C4B8DA2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54217-B15B-4DA4-992E-4D5FFB91B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AB1EF-5A8F-40C6-9C94-6A605330C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B599-7CC4-4F32-B2DF-271676619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EE80-6850-4319-932B-DC62CC695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5223-8208-4291-9664-0C0382B14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371600" y="10998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AAD6-300A-4DBB-BFFA-B92101508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C691-ED26-4113-9E86-BBC2E463E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BA3D-6E39-4CA3-950C-EBB64B1E3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19EF-4580-4F8D-A62E-A3A485A77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9144000" cy="60948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09480"/>
                <a:ext cx="9144000" cy="62485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0" y="0"/>
              <a:ext cx="2646360" cy="5735520"/>
              <a:chOff x="0" y="0"/>
              <a:chExt cx="2646360" cy="5735520"/>
            </a:xfrm>
          </p:grpSpPr>
          <p:pic>
            <p:nvPicPr>
              <p:cNvPr id="5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258840" y="0"/>
                <a:ext cx="885600" cy="50418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" name=""/>
              <p:cNvGrpSpPr/>
              <p:nvPr/>
            </p:nvGrpSpPr>
            <p:grpSpPr>
              <a:xfrm>
                <a:off x="358920" y="0"/>
                <a:ext cx="126720" cy="5735520"/>
                <a:chOff x="358920" y="0"/>
                <a:chExt cx="126720" cy="573552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358920" y="0"/>
                  <a:ext cx="126720" cy="1353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99ff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358920" y="1333440"/>
                  <a:ext cx="126720" cy="4402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9ff99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" name=""/>
              <p:cNvSpPr/>
              <p:nvPr/>
            </p:nvSpPr>
            <p:spPr>
              <a:xfrm>
                <a:off x="0" y="550800"/>
                <a:ext cx="2646360" cy="12708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99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00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6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600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66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66006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66006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66006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D16AF-FCC1-41D2-ABB6-411F19D33732}" type="slidenum">
              <a:rPr b="0" lang="en-US" sz="1400" spc="-1" strike="noStrike">
                <a:solidFill>
                  <a:srgbClr val="66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2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53" name=""/>
              <p:cNvSpPr/>
              <p:nvPr/>
            </p:nvSpPr>
            <p:spPr>
              <a:xfrm>
                <a:off x="0" y="0"/>
                <a:ext cx="9144000" cy="254016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2540160"/>
                <a:ext cx="9144000" cy="431784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pic>
          <p:nvPicPr>
            <p:cNvPr id="55" name="" descr=""/>
            <p:cNvPicPr/>
            <p:nvPr/>
          </p:nvPicPr>
          <p:blipFill>
            <a:blip r:embed="rId2"/>
            <a:stretch/>
          </p:blipFill>
          <p:spPr>
            <a:xfrm>
              <a:off x="258840" y="0"/>
              <a:ext cx="1117440" cy="5041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" name=""/>
            <p:cNvGrpSpPr/>
            <p:nvPr/>
          </p:nvGrpSpPr>
          <p:grpSpPr>
            <a:xfrm>
              <a:off x="1028880" y="0"/>
              <a:ext cx="153720" cy="5735520"/>
              <a:chOff x="1028880" y="0"/>
              <a:chExt cx="153720" cy="5735520"/>
            </a:xfrm>
          </p:grpSpPr>
          <p:sp>
            <p:nvSpPr>
              <p:cNvPr id="57" name=""/>
              <p:cNvSpPr/>
              <p:nvPr/>
            </p:nvSpPr>
            <p:spPr>
              <a:xfrm>
                <a:off x="1028880" y="0"/>
                <a:ext cx="153720" cy="1353960"/>
              </a:xfrm>
              <a:prstGeom prst="rect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99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028880" y="1333440"/>
                <a:ext cx="153720" cy="4402080"/>
              </a:xfrm>
              <a:prstGeom prst="rect">
                <a:avLst/>
              </a:prstGeom>
              <a:gradFill rotWithShape="0">
                <a:gsLst>
                  <a:gs pos="0">
                    <a:srgbClr val="99ff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0" y="2438280"/>
              <a:ext cx="6816600" cy="25416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6CAAA-3D12-40C0-9C1A-4DBB619ACD21}" type="slidenum">
              <a:rPr b="0" lang="en-US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0066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660066"/>
              </a:buClr>
              <a:buFont typeface="Helvetic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0066"/>
              </a:buClr>
              <a:buFont typeface="Helvetic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66006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66006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Summer Session in Toulouse</a:t>
            </a: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Arial"/>
              </a:rPr>
              <a:t>What “Tou” Do!</a:t>
            </a:r>
            <a:endParaRPr b="0" lang="en-US" sz="40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Rail Travel</a:t>
            </a: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716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Get a Euro Pass/Buddy Pass before you go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Be prompt! Use train schedules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Night trains/sleeping car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705720" y="4114800"/>
            <a:ext cx="218412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Trip Costs</a:t>
            </a: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00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Air Plane Ticket </a:t>
            </a:r>
            <a:r>
              <a:rPr b="0" lang="en-US" sz="3200" spc="-1" strike="noStrike">
                <a:solidFill>
                  <a:srgbClr val="660066"/>
                </a:solidFill>
                <a:latin typeface="Symbol"/>
                <a:ea typeface="Symbol"/>
              </a:rPr>
              <a:t></a:t>
            </a: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 $800.00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6600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Hotel 30 days @ 30.00 DO = 900.00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6600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Rail Pass </a:t>
            </a:r>
            <a:r>
              <a:rPr b="0" lang="en-US" sz="3200" spc="-1" strike="noStrike">
                <a:solidFill>
                  <a:srgbClr val="660066"/>
                </a:solidFill>
                <a:latin typeface="Symbol"/>
                <a:ea typeface="Symbol"/>
              </a:rPr>
              <a:t></a:t>
            </a: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 300.00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6600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Food 30 days @ 25.00 = 750.00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6600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Toils/Gas/Misc. </a:t>
            </a:r>
            <a:r>
              <a:rPr b="0" lang="en-US" sz="3200" spc="-1" strike="noStrike">
                <a:solidFill>
                  <a:srgbClr val="660066"/>
                </a:solidFill>
                <a:latin typeface="Symbol"/>
                <a:ea typeface="Symbol"/>
              </a:rPr>
              <a:t></a:t>
            </a: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 300.00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6600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Tuition </a:t>
            </a:r>
            <a:r>
              <a:rPr b="0" lang="en-US" sz="3200" spc="-1" strike="noStrike">
                <a:solidFill>
                  <a:srgbClr val="660066"/>
                </a:solidFill>
                <a:latin typeface="Symbol"/>
                <a:ea typeface="Symbol"/>
              </a:rPr>
              <a:t></a:t>
            </a: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 1000.00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6600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Total </a:t>
            </a:r>
            <a:r>
              <a:rPr b="0" lang="en-US" sz="3200" spc="-1" strike="noStrike">
                <a:solidFill>
                  <a:srgbClr val="660066"/>
                </a:solidFill>
                <a:latin typeface="Symbol"/>
                <a:ea typeface="Symbol"/>
              </a:rPr>
              <a:t></a:t>
            </a: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 $4050.00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66"/>
                </a:solidFill>
                <a:latin typeface="Arial"/>
              </a:rPr>
              <a:t>Join us and see how others live and work.</a:t>
            </a:r>
            <a:endParaRPr b="0" lang="en-US" sz="4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905120" y="3809880"/>
            <a:ext cx="3047760" cy="11898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For More Information contact the MBA Office at 999-9999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5219640" y="306864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What To Pack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140360" y="1484280"/>
            <a:ext cx="403848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Pack light!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Comfortable shoes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Watch/Travel Alarm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Phrase book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Bring 1 set of dress clothes for company visits (no jackets required)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116000" y="1413000"/>
            <a:ext cx="2881440" cy="43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Currency</a:t>
            </a: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6600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Bring a small amount of Francs for your arrival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6600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Bring a small calculator for conversions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6600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ATM &amp; credit cards are convenient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6600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Exchange desk at rail stations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334120" y="2816280"/>
            <a:ext cx="3657600" cy="24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Doing Laundry</a:t>
            </a: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Laundromat nearby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Bring your wallet!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A load will cost $7  or ? Francs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machines take 10 or 2 franc coins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Buy a large bottle of detergent and share with other classmate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Jambon &amp; Fromage?</a:t>
            </a: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Vegetarians beware!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A decent French meal will cost ~$20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Sandwiches on baguettes are available in the ESC cafeteria &amp; every café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Bring your phrase book to dinner to decipher menu item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Tipping is not expected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Dinner</a:t>
            </a: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Dinner is usually served at 8:00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Expect to pay ~$8-25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Don’t be in hurry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029200" y="2743200"/>
            <a:ext cx="3695760" cy="35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Favorite Places</a:t>
            </a: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42640" y="15238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The “Why Not?” café/bar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Bakery in the mall near hotel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Pates Bar on Tripierre St. (39FFr)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029200" y="1981080"/>
            <a:ext cx="3848040" cy="2819520"/>
            <a:chOff x="5029200" y="1981080"/>
            <a:chExt cx="3848040" cy="2819520"/>
          </a:xfrm>
        </p:grpSpPr>
        <p:pic>
          <p:nvPicPr>
            <p:cNvPr id="119" name="" descr=""/>
            <p:cNvPicPr/>
            <p:nvPr/>
          </p:nvPicPr>
          <p:blipFill>
            <a:blip r:embed="rId1"/>
            <a:stretch/>
          </p:blipFill>
          <p:spPr>
            <a:xfrm>
              <a:off x="5029200" y="1981080"/>
              <a:ext cx="3848040" cy="281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5121360" y="2027160"/>
              <a:ext cx="3625920" cy="268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43080" indent="-343080">
                <a:spcBef>
                  <a:spcPts val="601"/>
                </a:spcBef>
                <a:buClr>
                  <a:srgbClr val="660066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Grocery Stores</a:t>
            </a: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Champions takes credit cards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Casino-corner shop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Bag your own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What to buy: cereal, milk, yogurt, bread, fruit, granola bars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334120" y="2828880"/>
            <a:ext cx="3657600" cy="24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Side Trips</a:t>
            </a: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Spain 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Italy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Germany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Holland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556000" y="836640"/>
            <a:ext cx="1811160" cy="28083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4140360" y="3789360"/>
            <a:ext cx="1811160" cy="27367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4500720" y="1628640"/>
            <a:ext cx="3097080" cy="20224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684360" y="3789360"/>
            <a:ext cx="328932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29T01:34:28Z</dcterms:created>
  <dc:creator/>
  <dc:description/>
  <dc:language>en-US</dc:language>
  <cp:lastModifiedBy/>
  <cp:lastPrinted>1998-01-29T03:09:49Z</cp:lastPrinted>
  <dcterms:modified xsi:type="dcterms:W3CDTF">2001-10-09T09:46:31Z</dcterms:modified>
  <cp:revision>10</cp:revision>
  <dc:subject/>
  <dc:title>Toulouse</dc:title>
</cp:coreProperties>
</file>