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uthor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8-21T13:51:05.420000000" idx="1">
    <p:pos x="10" y="10"/>
    <p:text>Reviewers: In addition to the content, please comment on the color and design. Thank you for your help on this project.</p:text>
  </p:cm>
  <p:cm authorId="0" dt="2001-08-21T16:12:37.120000000" idx="2">
    <p:pos x="106" y="106"/>
    <p:text>My only suggestions are changes to slide 5.</p:text>
  </p:cm>
</p:cmLst>
</file>

<file path=ppt/comments/comment5.xml><?xml version="1.0" encoding="utf-8"?>
<p:cmLst xmlns:p="http://schemas.openxmlformats.org/presentationml/2006/main">
  <p:cm authorId="0" dt="2001-08-21T16:12:55.300000000" idx="3">
    <p:pos x="10" y="10"/>
    <p:text>This slide is too crowd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D7D-6CA8-4971-8EFB-5C5654A8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143-B6B3-48E3-AB99-9C6B238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69-F351-4B60-98B9-C1623B63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973-9FC7-402E-A1DB-46B7492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0F99-1707-4BB5-BED5-60FAC80D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D1D1-A333-4B6D-890F-00113BE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049-58BD-4210-87C3-FD4AE9B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80D-F9B6-4F66-8880-9E3CA2A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0F5B-14D6-433E-8C4F-4B936D9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6E4E-E5F5-4666-9BF3-CDC725C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A237-3455-4DFF-B58D-1DF5081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E44-F886-4BC0-991E-EF81DAC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D339-DCC6-4477-944C-C468D92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D201-F0E1-4BD5-84BB-3752239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2D3B-59C9-4352-869E-EFF4D49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D264-3B09-4C32-B5EB-BE1C4901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BEB-2EB5-4276-A04A-D7F3760F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B5C-6490-4E5A-BCBB-9E513806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BB4-F7FF-4E9F-8DE3-54E7DB3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7FF-E752-436D-8414-CF7E1A12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C8D-3519-452B-ADC4-7951611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EE5-07BD-439A-879B-6B2463A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136-9052-435D-B591-37E20D2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949-B4CC-47FC-A864-F5D4B97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5160" y="-21960"/>
            <a:ext cx="2964600" cy="3165120"/>
            <a:chOff x="6275160" y="-21960"/>
            <a:chExt cx="2964600" cy="316512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400120"/>
              <a:ext cx="1004760" cy="723600"/>
              <a:chOff x="7566840" y="2400120"/>
              <a:chExt cx="1004760" cy="72360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400120"/>
                <a:ext cx="100476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71656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386000"/>
              <a:ext cx="1005120" cy="723600"/>
              <a:chOff x="7798320" y="1386000"/>
              <a:chExt cx="1005120" cy="72360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38600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02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23600"/>
              <a:chOff x="6328800" y="0"/>
              <a:chExt cx="1005120" cy="72360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16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5160" y="-21960"/>
              <a:ext cx="2964600" cy="3165120"/>
              <a:chOff x="6275160" y="-21960"/>
              <a:chExt cx="2964600" cy="316512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386640"/>
                <a:ext cx="1498680" cy="1060200"/>
                <a:chOff x="6990840" y="386640"/>
                <a:chExt cx="1498680" cy="10602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386640"/>
                  <a:ext cx="1498680" cy="10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774360"/>
                  <a:ext cx="297000" cy="19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5160" y="-21960"/>
                <a:ext cx="2864160" cy="2180160"/>
                <a:chOff x="6275160" y="-21960"/>
                <a:chExt cx="2864160" cy="21801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47280" y="806760"/>
                  <a:ext cx="1045080" cy="1101240"/>
                  <a:chOff x="7847280" y="806760"/>
                  <a:chExt cx="1045080" cy="110124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78520" y="1083960"/>
                    <a:ext cx="848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14640" y="1532160"/>
                    <a:ext cx="455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7280" y="729000"/>
                  <a:ext cx="1260000" cy="1027080"/>
                  <a:chOff x="7847280" y="729000"/>
                  <a:chExt cx="1260000" cy="1027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9810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368720"/>
                    <a:ext cx="4996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1880" y="698040"/>
                  <a:ext cx="1284480" cy="807840"/>
                  <a:chOff x="7841880" y="698040"/>
                  <a:chExt cx="1284480" cy="807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887760"/>
                    <a:ext cx="8902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17756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62400"/>
                  <a:ext cx="1301040" cy="650880"/>
                  <a:chOff x="7838280" y="662400"/>
                  <a:chExt cx="1301040" cy="65088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790920"/>
                    <a:ext cx="86004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640" y="988920"/>
                    <a:ext cx="4618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3400" y="629280"/>
                  <a:ext cx="1222200" cy="404280"/>
                  <a:chOff x="7853400" y="629280"/>
                  <a:chExt cx="1222200" cy="4042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681480"/>
                    <a:ext cx="792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64640"/>
                    <a:ext cx="4258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2120" y="607320"/>
                  <a:ext cx="1105560" cy="177120"/>
                  <a:chOff x="7872120" y="607320"/>
                  <a:chExt cx="1105560" cy="1771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3200" y="6217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11640"/>
                    <a:ext cx="38664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840" y="401400"/>
                  <a:ext cx="982800" cy="318240"/>
                  <a:chOff x="7845840" y="401400"/>
                  <a:chExt cx="982800" cy="3182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421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4040" y="438120"/>
                    <a:ext cx="33984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44440" y="867240"/>
                  <a:ext cx="1045440" cy="1101240"/>
                  <a:chOff x="6544440" y="867240"/>
                  <a:chExt cx="1045440" cy="11012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808320" y="1144800"/>
                    <a:ext cx="849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65680" y="1592640"/>
                    <a:ext cx="4557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7200" y="815760"/>
                  <a:ext cx="1261080" cy="1027080"/>
                  <a:chOff x="6307200" y="815760"/>
                  <a:chExt cx="1261080" cy="10270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2240" y="10674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520" y="1455120"/>
                    <a:ext cx="500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8120" y="785880"/>
                  <a:ext cx="1284480" cy="807840"/>
                  <a:chOff x="6288120" y="785880"/>
                  <a:chExt cx="1284480" cy="807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4560" y="975600"/>
                    <a:ext cx="8906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26540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5160" y="750600"/>
                  <a:ext cx="1300680" cy="649800"/>
                  <a:chOff x="6275160" y="750600"/>
                  <a:chExt cx="1300680" cy="6498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879480"/>
                    <a:ext cx="860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076400"/>
                    <a:ext cx="461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17480"/>
                  <a:ext cx="1222200" cy="402840"/>
                  <a:chOff x="6338880" y="717480"/>
                  <a:chExt cx="1222200" cy="402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880" y="770040"/>
                    <a:ext cx="7923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560" y="852480"/>
                    <a:ext cx="42552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693720"/>
                  <a:ext cx="1106640" cy="177120"/>
                  <a:chOff x="6436440" y="693720"/>
                  <a:chExt cx="1106640" cy="177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08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8240" y="698040"/>
                    <a:ext cx="38700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6200" y="487800"/>
                  <a:ext cx="982800" cy="318240"/>
                  <a:chOff x="6586200" y="487800"/>
                  <a:chExt cx="982800" cy="3182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520" y="6285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2452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9120" y="372240"/>
                  <a:ext cx="965520" cy="441000"/>
                  <a:chOff x="6639120" y="372240"/>
                  <a:chExt cx="965520" cy="4410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280" y="595440"/>
                    <a:ext cx="6321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28040"/>
                    <a:ext cx="339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3960" y="209880"/>
                  <a:ext cx="899280" cy="612720"/>
                  <a:chOff x="6753960" y="209880"/>
                  <a:chExt cx="899280" cy="612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49360"/>
                    <a:ext cx="6336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1240" y="290160"/>
                    <a:ext cx="3398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9520" y="50760"/>
                  <a:ext cx="822240" cy="744840"/>
                  <a:chOff x="6869520" y="50760"/>
                  <a:chExt cx="822240" cy="7448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4600" y="480960"/>
                    <a:ext cx="64188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7440" y="147600"/>
                    <a:ext cx="3452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5040" y="13680"/>
                  <a:ext cx="598680" cy="755640"/>
                  <a:chOff x="7115040" y="13680"/>
                  <a:chExt cx="598680" cy="75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51840" y="455400"/>
                    <a:ext cx="5418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9360" y="96480"/>
                    <a:ext cx="291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640" y="-21960"/>
                  <a:ext cx="460440" cy="778320"/>
                  <a:chOff x="7289640" y="-21960"/>
                  <a:chExt cx="460440" cy="778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43280" y="438120"/>
                    <a:ext cx="522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80280" y="53280"/>
                    <a:ext cx="2804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4000" y="258480"/>
                  <a:ext cx="961920" cy="451440"/>
                  <a:chOff x="7794000" y="258480"/>
                  <a:chExt cx="961920" cy="4514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488880"/>
                    <a:ext cx="6321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1608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127080"/>
                  <a:ext cx="912960" cy="590760"/>
                  <a:chOff x="7738920" y="127080"/>
                  <a:chExt cx="912960" cy="590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52160"/>
                    <a:ext cx="6332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320" y="204480"/>
                    <a:ext cx="339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30040" y="465840"/>
                  <a:ext cx="50616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7600" y="93960"/>
                  <a:ext cx="27108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70160" y="-12240"/>
                  <a:ext cx="490320" cy="761040"/>
                  <a:chOff x="7670160" y="-12240"/>
                  <a:chExt cx="490320" cy="7610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64320" y="445320"/>
                    <a:ext cx="5230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92280" y="72000"/>
                    <a:ext cx="2808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70880" y="34200"/>
                  <a:ext cx="773280" cy="721800"/>
                  <a:chOff x="7670880" y="34200"/>
                  <a:chExt cx="773280" cy="721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32720" y="433440"/>
                    <a:ext cx="568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7920" y="110880"/>
                    <a:ext cx="3052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0120" y="-1440"/>
                  <a:ext cx="175680" cy="716400"/>
                  <a:chOff x="7710120" y="-1440"/>
                  <a:chExt cx="175680" cy="716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30840" y="457560"/>
                    <a:ext cx="4690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7240" y="93240"/>
                    <a:ext cx="2516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6160" y="890640"/>
                  <a:ext cx="897480" cy="1203840"/>
                  <a:chOff x="6716160" y="890640"/>
                  <a:chExt cx="897480" cy="1203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77080" y="1202040"/>
                    <a:ext cx="848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22640" y="1710720"/>
                    <a:ext cx="4554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8200" y="938880"/>
                  <a:ext cx="606240" cy="1201320"/>
                  <a:chOff x="7018200" y="938880"/>
                  <a:chExt cx="606240" cy="1201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7008120" y="1252440"/>
                    <a:ext cx="785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7003440" y="1771920"/>
                    <a:ext cx="4212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4120" y="960480"/>
                  <a:ext cx="359280" cy="1170360"/>
                  <a:chOff x="7314120" y="960480"/>
                  <a:chExt cx="359280" cy="11703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53200" y="1271880"/>
                    <a:ext cx="75348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61560" y="1797120"/>
                    <a:ext cx="4042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9840" y="870840"/>
                  <a:ext cx="933120" cy="1184760"/>
                  <a:chOff x="7809840" y="870840"/>
                  <a:chExt cx="933120" cy="11847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707600" y="1175760"/>
                    <a:ext cx="849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76400" y="1672200"/>
                    <a:ext cx="4554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94720" y="916560"/>
                  <a:ext cx="720720" cy="1215360"/>
                  <a:chOff x="7794720" y="916560"/>
                  <a:chExt cx="720720" cy="1215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44240" y="1235160"/>
                    <a:ext cx="8125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9200" y="1761840"/>
                    <a:ext cx="435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62320" y="963720"/>
                  <a:ext cx="502200" cy="1194480"/>
                  <a:chOff x="7762320" y="963720"/>
                  <a:chExt cx="502200" cy="11944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53520" y="1293840"/>
                    <a:ext cx="788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91560" y="1827000"/>
                    <a:ext cx="422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6040" y="1015920"/>
                  <a:ext cx="286920" cy="1110600"/>
                  <a:chOff x="7736040" y="1015920"/>
                  <a:chExt cx="286920" cy="11106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88360" y="1320480"/>
                    <a:ext cx="7246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702200" y="1820520"/>
                    <a:ext cx="3891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320" y="1034280"/>
                  <a:ext cx="274320" cy="1086120"/>
                  <a:chOff x="7501320" y="1034280"/>
                  <a:chExt cx="274320" cy="10861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36800" y="1343160"/>
                    <a:ext cx="7081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406280" y="1848240"/>
                    <a:ext cx="37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173600"/>
                <a:ext cx="249840" cy="72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875160"/>
                <a:ext cx="2179800" cy="226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23560"/>
                <a:ext cx="1549080" cy="20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28640"/>
                <a:ext cx="9507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788760"/>
                <a:ext cx="1466640" cy="22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75280"/>
                <a:ext cx="15285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39800"/>
                <a:ext cx="24120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35120"/>
                <a:ext cx="6393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581760"/>
                <a:ext cx="907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297800"/>
                <a:ext cx="248400" cy="728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058400"/>
                <a:ext cx="226080" cy="411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00680"/>
                <a:ext cx="1528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54080"/>
                <a:ext cx="1284840" cy="22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30720"/>
                <a:ext cx="54216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33720"/>
                <a:ext cx="55620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39560"/>
                <a:ext cx="357120" cy="751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15640"/>
                <a:ext cx="21456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23200"/>
                <a:ext cx="516960" cy="78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23600"/>
                <a:ext cx="778680" cy="52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65600"/>
                <a:ext cx="340200" cy="705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52040"/>
                <a:ext cx="22752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40880"/>
                <a:ext cx="22644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F54-292C-4FD7-88FA-410AA941E27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5A8F-4325-4D24-99F8-EA0B4DC3A73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 Rescue Found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elp save an anim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ents Calend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9480" y="2514600"/>
          <a:ext cx="8153640" cy="3581280"/>
        </p:xfrm>
        <a:graphic>
          <a:graphicData uri="http://schemas.openxmlformats.org/drawingml/2006/table">
            <a:tbl>
              <a:tblPr/>
              <a:tblGrid>
                <a:gridCol w="2514600"/>
                <a:gridCol w="2743200"/>
                <a:gridCol w="289584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doption Fair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uppy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onday, Nov 30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uesday, Nov 3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ak View Hig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to Find 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1828800"/>
            <a:ext cx="3962160" cy="2185560"/>
          </a:xfrm>
          <a:prstGeom prst="rect">
            <a:avLst/>
          </a:prstGeom>
          <a:solidFill>
            <a:srgbClr val="af273e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2A8-895D-40A0-88CB-1265239D104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A5DA-9DBC-44BC-A46C-90F5333A9E71}" type="datetime1">
              <a:rPr lang="en-US"/>
              <a:t>07/30/26</a:t>
            </a:fld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Philoso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unwanted pets deserve a good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teach an old dog new tri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retrain animals to be lov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Rescue Animal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Saved from imminent danger and destru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tray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bus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Unwant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special friend in need of a special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 Can Hel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952880" cy="2492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lunt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nd a che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op off don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opt an anim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 rot="21122400">
            <a:off x="1600200" y="4952520"/>
            <a:ext cx="35244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riends Forever...</a:t>
            </a:r>
            <a:endParaRPr b="0" lang="en-US" sz="4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ng a Rescue Anim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ull veterinary 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animals are spayed or neut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nimal’s temperament is evalu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ollow-up guidance is avail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Should I Expec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lot of question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be pati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ive them a lot of l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et a lot of love in retu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Jak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-year old Shelti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s had to move out of st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cellent with children and o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eds someone to love h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86040" cy="358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Sadi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-year old c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te as a bu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ves to pl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 moved to a retirement h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on’t you take the time to play with 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921040" cy="3581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on F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o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7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a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Guinea Pi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bbi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2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erre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6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other animals call 555-1313 for 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8:00:52Z</dcterms:created>
  <dc:creator/>
  <dc:description/>
  <dc:language>en-US</dc:language>
  <cp:lastModifiedBy/>
  <dcterms:modified xsi:type="dcterms:W3CDTF">2001-10-09T09:45:58Z</dcterms:modified>
  <cp:revision>14</cp:revision>
  <dc:subject/>
  <dc:title>Kiosk Review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0991973</vt:r8>
  </property>
  <property fmtid="{D5CDD505-2E9C-101B-9397-08002B2CF9AE}" pid="3" name="_ReviewCycleID">
    <vt:r8>1061792054</vt:r8>
  </property>
  <property fmtid="{D5CDD505-2E9C-101B-9397-08002B2CF9AE}" pid="4" name="_ReviewingToolsShownOnce">
    <vt:lpwstr/>
  </property>
</Properties>
</file>