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gif" ContentType="image/gif"/>
  <Override PartName="/ppt/media/image7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D59-7FA5-4146-98F9-BA0F78DF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E6E-6150-4014-8094-882CBCE0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0CE-0090-4C61-910D-85385631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061-72A8-4803-8999-1DBA5DAB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DF9A-BB47-44C3-A3F6-BEFAAB25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01DB-429D-45C5-A845-CFE92A3B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442F-E55C-483C-841F-2D7C47C0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B4D0-E298-4BFE-8B14-C9C8F011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0BD2-E190-48D9-91DF-C909D9A9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3E58-20F8-4EA1-897D-3A1A9D6A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020F-BDD6-4CF3-98FF-3333C58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F14-1B02-4DFC-BB59-1BBF26AB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B16E-A3B9-4102-A8B1-4BD50C65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177A-E4C6-4235-8791-83727E96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EE0A-0F49-49E0-984D-FD8CA8D6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3415-382F-4322-A032-9291DD25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212A-12BF-46BA-AA8D-9AB22C9C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A22-5C19-484C-9CB8-9E5A7941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0D0-589B-484D-B231-BF86C0D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A09-187A-4970-ACA6-B193C00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8F0-CBCA-47DF-A1B0-81D54E36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001-1E86-4323-8BE7-9B76C910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796-444F-408C-8CAE-8D4DCD2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5BB-0CAE-451B-99FD-CA6333B0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967db5"/>
              </a:gs>
              <a:gs pos="100000">
                <a:srgbClr val="8061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967db5"/>
              </a:gs>
              <a:gs pos="100000">
                <a:srgbClr val="8061a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37C0-04A2-485C-9F60-5BD7D5E5E1CE}" type="slidenum">
              <a:rPr b="0" lang="en-US" sz="2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967db5"/>
              </a:gs>
              <a:gs pos="100000">
                <a:srgbClr val="8061a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BA5C-8C3E-4F12-871D-76B199A4159F}" type="slidenum"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Animal Angel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creatures deserve a good home and someone to love th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Adoption Fe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$7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$5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uinea Pi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$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bbi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$2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rre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$6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other animals call for rate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02-555-131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Events Calendar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19320" y="2514600"/>
          <a:ext cx="7467480" cy="3581280"/>
        </p:xfrm>
        <a:graphic>
          <a:graphicData uri="http://schemas.openxmlformats.org/drawingml/2006/table">
            <a:tbl>
              <a:tblPr/>
              <a:tblGrid>
                <a:gridCol w="2361960"/>
                <a:gridCol w="2514600"/>
                <a:gridCol w="25909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Times New Roman"/>
                        </a:rPr>
                        <a:t>Wha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381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ac1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Times New Roman"/>
                        </a:rPr>
                        <a:t>Whe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381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ac1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Times New Roman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381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ac164"/>
                    </a:solidFill>
                  </a:tcPr>
                </a:tc>
              </a:tr>
              <a:tr h="609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doption Fair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aturday, Nov 21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s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ets4U Sout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aturday, Nov 28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t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ets4U Nort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unday, Dec 6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t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outh Park Mall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uppy Clas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onday, Nov 30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t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over Elementa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Obedience Clas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381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uesday, Nov 31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s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381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Oak View Hig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381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Become an Animal Angel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700000">
            <a:off x="4952880" y="3352320"/>
            <a:ext cx="3048120" cy="2971800"/>
          </a:xfrm>
          <a:custGeom>
            <a:avLst/>
            <a:gdLst>
              <a:gd name="textAreaLeft" fmla="*/ 716400 w 3048120"/>
              <a:gd name="textAreaRight" fmla="*/ 2329560 w 3048120"/>
              <a:gd name="textAreaTop" fmla="*/ 349200 h 2971800"/>
              <a:gd name="textAreaBottom" fmla="*/ 1864080 h 2971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ffffcc"/>
            </a:solidFill>
            <a:miter/>
          </a:ln>
          <a:effectLst>
            <a:outerShdw dist="107932" dir="8100000" blurRad="0" rotWithShape="0">
              <a:srgbClr val="b0ae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2449"/>
                </a:solidFill>
                <a:latin typeface="Arial"/>
              </a:rPr>
              <a:t>Open Your Hea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90B1-E15A-4025-BC5F-11DC51D520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D97C91E-8004-48F2-AC30-C249902042C4}" type="datetime1">
              <a:rPr lang="en-US"/>
              <a:t>07/30/26</a:t>
            </a:fld>
          </a:p>
        </p:txBody>
      </p:sp>
    </p:spTree>
  </p:cSld>
  <p:transition spd="med" advTm="7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Who is an Animal Angel?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lieves that unwanted pets deserve a home and someone to love th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lieves that you can teach an old dog new tric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lieves that you can retrain animals to be lov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How Do I Become an Angel?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nd a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op off Don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038480"/>
            <a:ext cx="3276720" cy="2128320"/>
          </a:xfrm>
          <a:prstGeom prst="rect">
            <a:avLst/>
          </a:prstGeom>
          <a:solidFill>
            <a:srgbClr val="fac164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2449"/>
                </a:solidFill>
                <a:latin typeface="Times New Roman"/>
              </a:rPr>
              <a:t>Animal Ange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2449"/>
                </a:solidFill>
                <a:latin typeface="Times New Roman"/>
              </a:rPr>
              <a:t>1166 Oak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2449"/>
                </a:solidFill>
                <a:latin typeface="Times New Roman"/>
              </a:rPr>
              <a:t>Smitherton, NH 031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2449"/>
                </a:solidFill>
                <a:latin typeface="Times New Roman"/>
              </a:rPr>
              <a:t>(603) 555-131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What is a Rescue Animal?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d from imminent danger and destr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ray anim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used anim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wanted anim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special friend in need of a special h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Adopting a Rescue Animal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animals are fully evaluated by a veterinaria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imals are spayed or neutered before adop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nimal’s temperament is evaluated for nee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rienced people are available for guidance after adop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What Should I Expect?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ct a lot of questions because the Angels want to be sure of yo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ct to be patient because the animal may not be housebroken or train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ct to give them a lot of lo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ct to get a lot of love in retur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Animals for Adoption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4800600" cy="2411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 rot="20572200">
            <a:off x="3733920" y="4723920"/>
            <a:ext cx="51051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192449"/>
                  </a:solidFill>
                  <a:miter/>
                </a:ln>
                <a:solidFill>
                  <a:srgbClr val="c3e684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riends Forever...</a:t>
            </a:r>
            <a:endParaRPr b="0" lang="en-US" sz="4400" spc="1" strike="noStrike">
              <a:ln w="12600">
                <a:solidFill>
                  <a:srgbClr val="192449"/>
                </a:solidFill>
                <a:miter/>
              </a:ln>
              <a:solidFill>
                <a:srgbClr val="c3e684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Jake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 year old Shelti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s owners had to move out of st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llent with children and other anim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eds someone to love hi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370160" y="2101680"/>
            <a:ext cx="3201840" cy="4114800"/>
          </a:xfrm>
          <a:prstGeom prst="rect">
            <a:avLst/>
          </a:prstGeom>
          <a:ln w="76320">
            <a:solidFill>
              <a:srgbClr val="c3e684"/>
            </a:solidFill>
            <a:miter/>
          </a:ln>
        </p:spPr>
      </p:pic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Sadie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Sad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 year old c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te as a bu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ves to pl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r owner moved to a retirement ho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n’t you take the time to play with her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93840" y="2101680"/>
            <a:ext cx="3355920" cy="4114800"/>
          </a:xfrm>
          <a:prstGeom prst="rect">
            <a:avLst/>
          </a:prstGeom>
          <a:ln w="76320">
            <a:solidFill>
              <a:srgbClr val="c3e684"/>
            </a:solidFill>
            <a:miter/>
          </a:ln>
        </p:spPr>
      </p:pic>
    </p:spTree>
  </p:cSld>
  <p:transition spd="med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21:29:51Z</dcterms:created>
  <dc:creator/>
  <dc:description/>
  <dc:language>en-US</dc:language>
  <cp:lastModifiedBy/>
  <dcterms:modified xsi:type="dcterms:W3CDTF">2001-10-09T09:44:10Z</dcterms:modified>
  <cp:revision>17</cp:revision>
  <dc:subject/>
  <dc:title>Kiosk Original</dc:title>
</cp:coreProperties>
</file>