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clap.wav" ContentType="audio/x-wav"/>
  <Override PartName="/ppt/media/image3.wmf" ContentType="image/x-wmf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Bookman Old Style"/>
              </a:rPr>
              <a:t>Click to move the slide</a:t>
            </a: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B8C3-94A2-4A74-81FE-4C2F8F4B5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78EF-F510-42F9-8B27-2B9B0B9D4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slide displays the same information in a table. It is hid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5FE-013D-4341-9065-E74370F7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676-145A-471D-816A-E8B07F09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758-B945-4E43-B8CC-29AA85AD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525-42B3-43E8-99DE-2D9C772E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1FF3-4C86-4503-AA24-62E64230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2106-7E58-4C40-B7C6-75D49EE4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A4B8-2D39-42E3-8737-95864D1C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411F-6A4A-4707-8939-2B4BD169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EB91-A747-4321-91B6-A362B34D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E858-FFA6-438B-A07F-B6CF0774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F130-E5DA-4D15-BBF7-F60201BC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6A0-CCCB-4C02-B071-1BDA91D0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717B-5EA3-4FBC-8D1D-CF770871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B224-2C40-45C3-99C7-199A82E3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A4B7-D0A6-437B-87BB-70C0AC7F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C250-29C0-45B7-9624-E73FCA83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AAE1-2575-455E-AB05-5EC46EB8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235-42B1-4049-8ABD-4391E957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6AF-B298-421F-9EF4-3FE09B84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A05-327D-4A2E-AC0D-167A8206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D3F-D4F7-4DF2-B901-09D3F8BB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84D-54A4-48EC-8B1B-48C346EE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0A1-20F5-4560-AEE1-DEE002F0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BFF-9C77-4033-9C55-13BD4F36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BB57-86CA-42AC-97A9-AD4F61A1A36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23B1-F8C4-43BA-A0AB-184241ADDFD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Bookman Old Style"/>
              </a:rPr>
              <a:t>Click to edit the title text format</a:t>
            </a: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Bookman Old Style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Bookman Old Style"/>
              </a:rPr>
              <a:t>Market Analysis</a:t>
            </a: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Bookman Old Style"/>
              </a:rPr>
              <a:t>The Sports Company</a:t>
            </a:r>
            <a:endParaRPr b="1" lang="en-US" sz="2800" spc="-1" strike="noStrike">
              <a:solidFill>
                <a:srgbClr val="008080"/>
              </a:solidFill>
              <a:latin typeface="Bookman Old Style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3829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Bookman Old Style"/>
              </a:rPr>
              <a:t>Market Analysis</a:t>
            </a:r>
            <a:endParaRPr b="1" i="1" lang="en-US" sz="5400" spc="-1" strike="noStrike">
              <a:solidFill>
                <a:srgbClr val="0033cc"/>
              </a:solidFill>
              <a:latin typeface="Bookman Old Styl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382920" cy="2492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181480" y="2895480"/>
            <a:ext cx="2438640" cy="152424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he End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720" y="236232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nalysis of past, present and future sal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tudent Nam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76920" y="3124080"/>
            <a:ext cx="3717720" cy="28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Sport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DDB-6676-44D1-9426-760534D510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/97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opics of Discussion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ales Growth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Sport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BED-A184-47C7-A5A1-D103D081A7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/9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Sales Growth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997 sales $5,100,0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998 sales $5,900,0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999 sales $7,400,0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000 sales $10,200,0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Sport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985-9836-4866-9988-D428C8949C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/97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Sales Growth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971800" y="2743200"/>
          <a:ext cx="3581280" cy="2917800"/>
        </p:xfrm>
        <a:graphic>
          <a:graphicData uri="http://schemas.openxmlformats.org/drawingml/2006/table">
            <a:tbl>
              <a:tblPr/>
              <a:tblGrid>
                <a:gridCol w="1447560"/>
                <a:gridCol w="2133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ales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in millions)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.1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.9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.4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0.2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Sport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232-18E9-469D-ABB1-AABC3DB73C8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/9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Market Share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5% Sports Company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0% Action Corpora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5% Teams Unlimite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% Other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Sport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5F6-58D7-41EB-8FD9-8A7206D904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/9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ompetition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ction Corpora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stablished in 1986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ocated in Union, Orego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eams Unlimite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stablished in 1989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ocated in Spring, Main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Sport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B41-296E-4280-BBD4-C8274A8E64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/9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Next Steps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esearch Industry Trend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tail Strengths and Weakness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velop Future Marketing Pla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Sport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868-6EE9-4776-B0EA-3FAC5003C3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/9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What This Means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t - sales doubled in 4 year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esent - market share 35%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uture - where to go from here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8320" y="2971800"/>
            <a:ext cx="3924360" cy="23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Sport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192-EDD2-4A95-B9AC-0143B94E90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1/9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8T16:28:00Z</dcterms:created>
  <dc:creator/>
  <dc:description/>
  <dc:language>en-US</dc:language>
  <cp:lastModifiedBy/>
  <dcterms:modified xsi:type="dcterms:W3CDTF">2001-10-09T09:40:09Z</dcterms:modified>
  <cp:revision>10</cp:revision>
  <dc:subject/>
  <dc:title>Market Analysis</dc:title>
</cp:coreProperties>
</file>