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0888-DBD1-4AE0-B286-4B2CC7E8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DAC6-F4EB-4946-950B-B3BAFEDF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9E0-FFCE-4F04-9E52-E2B09A7A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1911-5E52-45CB-A746-3063C08C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D2A7-9A59-4B25-A5BD-AFD12854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1058-72B2-420B-B822-38272557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6D69-1A2D-4FAC-BDC6-65B245A4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A914-A90F-4651-987F-5BE3E416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8610-FFD1-4B7E-9D32-2EC49D82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56B1-0F58-4EF2-91BD-902D2D51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E992-5873-4847-9E37-6AD9C026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4CB-592A-46D4-8DDC-5835F5E5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15B0-B645-4DAA-80CF-A3171A27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9158-2E5F-4254-B794-A91518FF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9DC1-8E85-4DE7-A23F-CAE00976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6109-6310-4F47-9A18-6F7706C2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D939-5CAD-41DE-B358-F69E8AB8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AD7-76E5-4FD9-8DE2-BC99C8D3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E5C-75B4-443B-927D-713897C2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C3E-E596-4034-A28C-C5373D9A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43C-9F2E-487B-94A1-A05BFDD5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D80-081A-4AA0-B885-9FF2B8F5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00E-BA50-4CA2-956C-FABD2A34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E1E-A882-44FA-894D-471244B2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FBA2-AB35-497B-BC16-B1C91ADE377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22A4-F482-4EF4-ACFD-FEEF740443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7445-F854-4C8B-BB1B-49DBBBF48DD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97BF-93F5-4408-9239-9A3B70759B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Water Safety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Student Name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0776-9026-4097-BE65-717D50461B4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7FFACA0-A6E9-4FCA-ABC1-9562F2F333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opics of Discuss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ling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l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7FC-B642-46D0-9057-3785AE67E97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872FA-CE6A-4BFE-9F2A-7E66923BD462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tartling Fact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rowning mortality rate of Arizona's preschoolers ranks FIRST in the 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m weather, long summers, and over 200,000 pools make Arizona prone to water-related incid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th is just one outcome of water related incidents. In about 9% of the incidents, the child survived, but with some degree of brain dam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BD1-3AD5-4418-8084-7F52886131F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6E9B3-E2B9-42D7-BBCF-901FF2FF6B53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Drowning By Age Group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1447920"/>
          <a:ext cx="8458200" cy="4295520"/>
        </p:xfrm>
        <a:graphic>
          <a:graphicData uri="http://schemas.openxmlformats.org/drawingml/2006/table">
            <a:tbl>
              <a:tblPr/>
              <a:tblGrid>
                <a:gridCol w="2895840"/>
                <a:gridCol w="838080"/>
                <a:gridCol w="990720"/>
                <a:gridCol w="1143000"/>
                <a:gridCol w="1066680"/>
                <a:gridCol w="685800"/>
                <a:gridCol w="838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Water B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 –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 – 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 – 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 – 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5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Bath Tu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Buck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anal or Irrigation Dit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Fish Pon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ool, above gro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ool, in gro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River or Lak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S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ll Water Bo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386-0EB6-424C-BE7E-1D4FACEA1DE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8A49C-1F4D-44B9-9D95-BE8434EB9984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ool Rul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leave children unobserved arou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lose your yard and pool with self locking, self closing g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leave furniture or toys near the fence that children can use to climb 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toys and pets away from p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787-5E2F-4514-B38C-5223DC7379D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08392-AC5F-4494-B80C-F9055765DBFB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ool Rul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leave children unobserved arou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lose your yard and pool with self locking, self closing g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leave furniture or toys near the fence that children can use to climb 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toys and pets away from p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0771-62E1-4F23-8FA3-566532C55F1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A503A-88B7-48E3-8BBE-CEF8C63F3D50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ool Rules (Cont.)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basic lifesaving equipment by the pool, including a cordless ph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 CPR and phone numbers near the p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pool covers before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CP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18E-DF1E-4179-858F-12CB4BF322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D542D-C947-4E54-B1A9-E40FED281F2A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nally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l safety rules are not just for childr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540-88B9-48EE-A40B-01B449E3605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B66C6-A7B8-4B8E-A4C8-25C45D1C7F31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1-10-09T09:43:04Z</dcterms:modified>
  <cp:revision>9</cp:revision>
  <dc:subject/>
  <dc:title>Water Safety</dc:title>
</cp:coreProperties>
</file>