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8B8-2250-4C3C-B1BD-D6178CB8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2A6-CC02-4D6A-B9BB-145AB143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34D-0C91-4C51-8712-92EFB089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BE0-288D-4EF6-B781-E10D0D7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7A6D-8CA6-492E-ADA4-1A6B9EEC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8FF8-60DC-4E2E-8734-178B3B12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9B6D-20DB-4F93-ACF9-24549DA5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33A0-ECB2-4455-9B31-937765A4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C89-05DD-4050-B233-D9920D8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28D-CC82-446D-9A59-F0C81834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8CA4-0A21-4A78-B55D-B4AFC0F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42C-A300-470D-A7FB-7C7D130C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02EF-7A9C-4D94-A700-C9E24F2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D411-BED1-4311-892E-CE775DE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F1F5-6397-4C19-9229-A9D44129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FEA-8528-4325-A76C-51AF82DA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34FD-6CA0-4F35-B918-7D8E1FFC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E7F-292A-4672-A9BA-EB82DFF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040-649F-464E-94BC-FAA1797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F86-8090-4045-9D13-422496E8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7C4-4817-4D7F-B4F6-CD7E49AA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C37-5084-41F0-B35F-279542DD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7C8-682C-48A7-8E8F-416403C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574-3AAC-4C5F-A599-A49D202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8ea0d8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35A-C5C2-4881-8908-B81D340E1C9F}" type="slidenum">
              <a:rPr b="0" lang="en-US" sz="2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3" marL="1712880" indent="-228600">
              <a:spcBef>
                <a:spcPts val="700"/>
              </a:spcBef>
              <a:buClr>
                <a:srgbClr val="1924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8ea0d8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FB8B-F4A6-4297-BFDF-09D3E24D89A0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lvl="2" marL="914400" indent="227160" algn="ctr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2449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lvl="3" marL="1371600" indent="112680" algn="ctr">
              <a:spcBef>
                <a:spcPts val="451"/>
              </a:spcBef>
              <a:buClr>
                <a:srgbClr val="1924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244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nimal Angels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ll creatures deserve a good home and someone to love them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Events Calendar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57480" y="1981080"/>
          <a:ext cx="7772400" cy="447516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Whe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Adoption Fai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aturday, Nov 21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 12:00-4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Pets4U South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Adoption Fai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aturday, Nov 28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 11:00-5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Pets4U North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Obedience Clas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Monday Nov 30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 7:00-8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Grover Elementar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Adoption  Fai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unday, Dec 6</a:t>
                      </a:r>
                      <a:r>
                        <a:rPr b="0" lang="en-US" sz="2000" spc="-1" strike="noStrike" baseline="30000">
                          <a:solidFill>
                            <a:srgbClr val="192449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, 11:00-5:00p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92449"/>
                          </a:solidFill>
                          <a:latin typeface="Comic Sans MS"/>
                        </a:rPr>
                        <a:t>South Park Mal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How to Become an Angel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057400"/>
            <a:ext cx="39243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Adopt an anim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Call Us to Volunte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Send a Che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Arial"/>
              </a:rPr>
              <a:t>Drop Off Don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Cra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Crate Pa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Coll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Leas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e68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Arial"/>
              </a:rPr>
              <a:t>Food Dis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91040" y="2406600"/>
            <a:ext cx="3657600" cy="2209680"/>
          </a:xfrm>
          <a:prstGeom prst="rect">
            <a:avLst/>
          </a:prstGeom>
          <a:solidFill>
            <a:srgbClr val="c9ddf1"/>
          </a:solidFill>
          <a:ln w="57240">
            <a:solidFill>
              <a:srgbClr val="192449"/>
            </a:solidFill>
            <a:miter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Animal Angels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1166 Oak Street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Smitherton, AZ 85048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2449"/>
                </a:solidFill>
                <a:latin typeface="Comic Sans MS"/>
              </a:rPr>
              <a:t>602-555-1313</a:t>
            </a: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ho is an Animal Angel?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Believes that unwanted pets deserve a home and someone to love them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Believes that you can teach an old dog new tricks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Believes that you can retrain animals to be lovable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hat is a Rescue Animal?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Saved from imminent danger and destruction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Stray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Abused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Unwanted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 special friend in need of a special home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dopting a Rescue Animal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re the animals spayed or neutered before adoption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Is the animal evaluated by a veterinarian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Is the animal’s temperament evaluated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re experienced people available for guidance after adoption?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hat Should I Expect?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415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a lot of questions because the Angels want to be sure of you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to be patient because I may not be housebroken or trained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to give me a lot of love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pect to get a lot of love in return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210168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nimals for Adoption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8840" y="2101680"/>
            <a:ext cx="380988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4235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2449"/>
                </a:solidFill>
                <a:latin typeface="Comic Sans MS"/>
              </a:rPr>
              <a:t>We want to be your pet!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Jake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2 year old Sheltie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His owners had to move out of state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Excellent with children and other animals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Needs someone to love him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2786040" cy="3581280"/>
          </a:xfrm>
          <a:prstGeom prst="rect">
            <a:avLst/>
          </a:prstGeom>
          <a:ln w="228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Wolfie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6 month old German Shepard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Cute as a bug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Loves to play fetch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2449"/>
                </a:solidFill>
                <a:latin typeface="Comic Sans MS"/>
              </a:rPr>
              <a:t>His owner passed away suddenly and he needs someone to love him</a:t>
            </a:r>
            <a:endParaRPr b="0" lang="en-US" sz="2400" spc="-1" strike="noStrike">
              <a:solidFill>
                <a:srgbClr val="19244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3733560" cy="2436840"/>
          </a:xfrm>
          <a:prstGeom prst="rect">
            <a:avLst/>
          </a:prstGeom>
          <a:ln w="22860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0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2449"/>
                </a:solidFill>
                <a:latin typeface="Comic Sans MS"/>
              </a:rPr>
              <a:t>Adoption Fees</a:t>
            </a:r>
            <a:endParaRPr b="0" lang="en-US" sz="4000" spc="-1" strike="noStrike">
              <a:solidFill>
                <a:srgbClr val="192449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Dog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75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Cat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50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Guinea Pig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10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Rabbit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25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Ferrets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$60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9900cc"/>
              </a:buClr>
              <a:buSzPct val="75000"/>
              <a:buFont typeface="Wingdings" charset="2"/>
              <a:buChar char="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All other animals call for rate.</a:t>
            </a:r>
            <a:br>
              <a:rPr sz="2800"/>
            </a:br>
            <a:r>
              <a:rPr b="0" lang="en-US" sz="2800" spc="-1" strike="noStrike">
                <a:solidFill>
                  <a:srgbClr val="192449"/>
                </a:solidFill>
                <a:latin typeface="Comic Sans MS"/>
              </a:rPr>
              <a:t>602-555-1313</a:t>
            </a:r>
            <a:endParaRPr b="0" lang="en-US" sz="2800" spc="-1" strike="noStrike">
              <a:solidFill>
                <a:srgbClr val="1924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0T03:00:48Z</dcterms:created>
  <dc:creator/>
  <dc:description/>
  <dc:language>en-US</dc:language>
  <cp:lastModifiedBy/>
  <dcterms:modified xsi:type="dcterms:W3CDTF">2001-10-09T09:38:25Z</dcterms:modified>
  <cp:revision>10</cp:revision>
  <dc:subject/>
  <dc:title>Animal Angels3</dc:title>
</cp:coreProperties>
</file>