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8848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88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0"/>
            <a:ext cx="2919240" cy="4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7400" y="663120"/>
            <a:ext cx="4424400" cy="331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203720"/>
            <a:ext cx="4938840" cy="398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405280"/>
            <a:ext cx="291924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8405280"/>
            <a:ext cx="291924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1A28CCB1-1AE7-4E1B-99F1-BDC2AE6F8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7400" y="663480"/>
            <a:ext cx="4424400" cy="3318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203720"/>
            <a:ext cx="4938840" cy="398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e next hidden slide if someone asks about adoption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97D-75BF-4867-ABC7-166256FD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EC1-0115-49B1-8A59-3354BE3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A20-8140-4E7C-86BF-197E782C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AC8-C43E-467E-834F-66FA4810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CC80-0351-4DDD-AA9A-9611F368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C631-F36E-423C-9709-1ED47DE5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0E9-43E4-449A-81E7-D6CF6F79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32E-0DB5-4604-8947-A0576D87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FB2-651B-4675-951B-B7CAED9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08F0-A078-4A39-8E1B-1F9B1F2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ADB-719D-4F4D-BC7A-39C4AB9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37C-1149-4977-94D2-AE229FD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03AB-8A85-492E-B13A-D22F729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3F7-CD7E-4244-8102-E54AFE6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56C2-250D-4F1A-BCF7-B7F1D08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4F0A-8562-462F-82D7-191E041D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C40-061A-477C-8438-3D3F0189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A17-7D4A-45A5-BF01-F7BAED87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E6A-5A2E-4E11-B43C-C5DC29A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07B-D734-4181-970F-513FDED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199-0C74-471F-8BB5-2ED7C32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3D5-EA80-4277-88E7-1F86D72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F49-50D3-4644-966C-2298F97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ABD-79D6-4B84-863D-C2319EB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350E-080A-449D-92AA-54DB23FA07DA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CCB-BC8E-4784-B6AC-6F75CB1AFC2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FFCA-038F-4C0C-8364-7453DFECD409}" type="datetime">
              <a:rPr b="0" lang="en-US" sz="1400" spc="-1" strike="noStrike">
                <a:solidFill>
                  <a:srgbClr val="000094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2C78-0B49-4C5F-91DD-7C7D50401DD3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764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come an Animal Ang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3252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3490920" cy="43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come an Animal Ang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20700000">
            <a:off x="826920" y="3573000"/>
            <a:ext cx="3048120" cy="2971800"/>
          </a:xfrm>
          <a:custGeom>
            <a:avLst/>
            <a:gdLst>
              <a:gd name="textAreaLeft" fmla="*/ 716400 w 3048120"/>
              <a:gd name="textAreaRight" fmla="*/ 2329560 w 3048120"/>
              <a:gd name="textAreaTop" fmla="*/ 349200 h 2971800"/>
              <a:gd name="textAreaBottom" fmla="*/ 1864080 h 2971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Informal Roman"/>
              </a:rPr>
              <a:t>Open Your He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ics Of Discus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1728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es the Foundation help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ation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animals are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are Animal Ang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Animal Angels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you c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0360" y="2457360"/>
            <a:ext cx="290520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76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es The Foundation Help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88920" y="2169720"/>
            <a:ext cx="6987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emporary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obedience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veterinary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loving permanent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undation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13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526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ed by Ed Wil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first shel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an volunteer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ed to 10 shel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ccess R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32000" y="2384280"/>
          <a:ext cx="6769080" cy="3205440"/>
        </p:xfrm>
        <a:graphic>
          <a:graphicData uri="http://schemas.openxmlformats.org/drawingml/2006/table">
            <a:tbl>
              <a:tblPr/>
              <a:tblGrid>
                <a:gridCol w="1401840"/>
                <a:gridCol w="2414520"/>
                <a:gridCol w="295272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Year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escue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Adop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1872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9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7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4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8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7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9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8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576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20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10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576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4"/>
                          </a:solidFill>
                          <a:latin typeface="Tahoma"/>
                        </a:rPr>
                        <a:t>10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4"/>
                      </a:solidFill>
                    </a:lnL>
                    <a:lnR w="18720">
                      <a:solidFill>
                        <a:srgbClr val="000094"/>
                      </a:solidFill>
                    </a:lnR>
                    <a:lnT w="5760">
                      <a:solidFill>
                        <a:srgbClr val="000094"/>
                      </a:solidFill>
                    </a:lnT>
                    <a:lnB w="18720">
                      <a:solidFill>
                        <a:srgbClr val="000094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nimals Are Abando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8560" y="2060640"/>
            <a:ext cx="683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or deteriorating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exp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terinary b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avior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 Is An Animal Ange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781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unwanted pets deserve a good ho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you can teach an old dog new tri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s that you can retrain animals to be lov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ster Ang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 temporary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special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bre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dienc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ng animal to adoption 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sts covered by Animal An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option Ang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at adoption 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animals to 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view potential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up on ado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new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 surprise home vis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40:50Z</dcterms:modified>
  <cp:revision>38</cp:revision>
  <dc:subject/>
  <dc:title>Recruitment</dc:title>
</cp:coreProperties>
</file>