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119-B97B-40BB-A305-CF4404B4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analysis done upon request. Ask at front de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trainers available Monday through Friday from 10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fitness workshops offered periodically. Check calendar in lo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1EE-2CD9-48F4-9A71-A364DBCA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623-AD39-455C-B25E-7A49CE5E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7A1-C4FB-4CAD-B7B9-625BB16A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AEE-FF4E-476E-B794-10854D82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6E2C-91B8-4DA6-B33E-B73A4CA3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345E-1F01-418B-BE65-AAA8D82D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B937-C96A-4DE4-89EB-8DF28B39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0108-8B3F-4247-AC09-8C659FB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910-F59B-40F2-ACD1-A3A9CDDD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652A-B239-43B1-8A5D-D2CB9A98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38F-67DD-40D3-A9EC-F33BF31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FF9-4710-4CA7-9810-3BF9FDBE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89E-2DDE-4F5D-A929-B84853E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0ACB-B9F4-4C9C-B329-FD42ACE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54A8-70BF-45D1-B175-83077DE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212-581D-49BC-91DC-DC77817B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7F2-14BB-4328-B5CC-FDCCF46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D05-C291-40F9-ADE2-7E0D281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BA1-89BC-4C95-9022-4B58EE3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6E4-8ABD-432A-B494-EB5D751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E07-8B03-478E-A753-0F46B51C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308-94EB-49B5-8801-02EEDE2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393-D72D-491F-A348-809FC25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F54-1BB3-4545-9B68-BB51F0C6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9A5-079F-4C27-9111-EBBA887883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843-E779-4E8B-AE5E-F52BE28C02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A50-D335-4805-AE96-C9C142502E0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4281-FA05-4C8C-96E0-3F41B3B21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hy Exercise?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ed b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festyle Fit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65120"/>
            <a:ext cx="8458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ercise Makes Life More Fun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a regular workout program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a workout group and share th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343480" y="2209680"/>
            <a:ext cx="24195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6C6-C737-41AF-8A56-5F7DB360CF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71E93-016C-45E5-BEE6-F58DD7F633A3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Lifestyle Fitness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0" y="4724280"/>
            <a:ext cx="45720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645000"/>
            <a:ext cx="3048120" cy="1572120"/>
          </a:xfrm>
          <a:prstGeom prst="rect">
            <a:avLst/>
          </a:prstGeom>
          <a:solidFill>
            <a:srgbClr val="009999"/>
          </a:solidFill>
          <a:ln cap="sq" w="57240">
            <a:solidFill>
              <a:srgbClr val="ffcc00"/>
            </a:solidFill>
            <a:miter/>
          </a:ln>
          <a:effectLst>
            <a:outerShdw dist="107932" dir="135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 Wharton Dr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50) 555-77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fitlif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Ongoing Exercise Can Do for Yo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181480" y="313056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88C-D186-47BF-898C-2A4E01BC6D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0A999-791B-452A-805E-6C41CA72220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nef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heart disease and normalizes 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s blood sugar and controls body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bone and tissue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life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248440" y="22096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E2C-4144-452B-844D-6A4ED24764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FB1C1-625A-46BC-A98F-9370B674B5C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gulate Blood Sugar and Control Body Weigh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s body’s ability to metabolize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s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s weight-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334120" y="220968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69D-FA01-43B3-9DC5-EFA7DFC512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12E00-1778-4463-A20D-85DF4F5417C0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vent Heart Disease and Normalize Blood Press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s plaque buildup in art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“good” and decreases “bad”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s resting heart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obstructive blood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heart stronger and more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8C2-DC5D-4B0D-8D02-768D0930A6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21F13-6B30-4AB0-929D-05FF9279EA6A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vent Bone and Muscle Tissue Lo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loss of lean body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drop in metabolic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784-D755-402B-B55A-9F052EEFA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B8AC-D11A-49C0-81F6-3B21862B8837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mprove Lifesty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activity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stress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s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other healthy ha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74B-9A55-44C7-9E76-66E54DF8F0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FF7F7-0FFC-43C4-8191-F7F7664599F9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gram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ed fitness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workout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and racquetball cl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C34-E56A-4F38-952A-9CE9750346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EC977-EB0D-474A-A742-F95890FC4003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ifestyle Fitness Program Schedu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981080"/>
          <a:ext cx="8305920" cy="4181760"/>
        </p:xfrm>
        <a:graphic>
          <a:graphicData uri="http://schemas.openxmlformats.org/drawingml/2006/table">
            <a:tbl>
              <a:tblPr/>
              <a:tblGrid>
                <a:gridCol w="685800"/>
                <a:gridCol w="1143000"/>
                <a:gridCol w="990720"/>
                <a:gridCol w="1143000"/>
                <a:gridCol w="990360"/>
                <a:gridCol w="1143000"/>
                <a:gridCol w="1143000"/>
                <a:gridCol w="10670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g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cuit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cuit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 Aerob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cuit 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ua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Worko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Worko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 Clu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Worko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quet-ball Lea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quet-ball Lea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1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e Kwon 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e Kwon 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zz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dent N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95D-E95E-4A36-AC21-1CAC025276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138CD-6C81-4911-923C-27792AD30511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10-09T09:39:33Z</dcterms:modified>
  <cp:revision>10</cp:revision>
  <dc:subject/>
  <dc:title>Why Exercise?</dc:title>
</cp:coreProperties>
</file>