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0" i="1" lang="en-US" sz="6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B5DA-2D49-4BA7-B3B7-1B5770FB5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how many animals are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adop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0646-004E-4B8B-BF07-6BAC2444E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4E93-5808-4EFF-AB04-4BCAB9ED2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EE45-C390-4C75-9CDB-32ACFDEE0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F363-ED45-45B5-95F1-E4FD75D35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D94AA-E782-464D-A522-58B72DD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E567-844C-4883-8BE0-62569C9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ED1D-A1CE-4C9D-8598-DD583E81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D54AE-0BC2-4FCD-9504-651521E5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F831-81B7-4277-BDB1-35D2E48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64229-897F-45A3-B977-578D311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924C3-A652-483F-846E-A9728407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B67B-BD46-4349-B903-2B7706393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C805B-F660-4B9A-BFB4-D281920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989B7-6DE7-4CAF-ACC7-FB674EA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424C-DE0C-4143-B9DA-394CFA6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B996-2DC8-442B-82C4-0CD0B911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9542-C690-4E51-B069-E3F5ACA5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AA5C-F260-4357-95E0-CCF5ACE00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86DA-850C-4137-80F1-00750B051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4ED1-838B-4335-9D97-41EF8DF7B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B905-D4C4-4A8B-9390-162B0BCF6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A15A-B3D7-44FF-BD1D-EDC441BEB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7151-9552-4CF1-A7DB-A76F60F54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201D-3605-4E53-A3CE-C533F2C54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9FBE-978C-4760-9295-831EE6E2967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4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i="1" lang="en-US" sz="6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759-D9B3-451A-B199-089B8F15F0F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1E1D-6E85-45F2-9BD3-A43798C87B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Animal Rescue Foundation</a:t>
            </a:r>
            <a:endParaRPr b="0" i="1" lang="en-US" sz="5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00800" y="4114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5006880" cy="326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2286000"/>
            <a:ext cx="5334120" cy="3657600"/>
          </a:xfrm>
          <a:custGeom>
            <a:avLst/>
            <a:gdLst>
              <a:gd name="textAreaLeft" fmla="*/ 250560 w 5334120"/>
              <a:gd name="textAreaRight" fmla="*/ 5083560 w 5334120"/>
              <a:gd name="textAreaTop" fmla="*/ 250560 h 3657600"/>
              <a:gd name="textAreaBottom" fmla="*/ 3407040 h 3657600"/>
            </a:gdLst>
            <a:ahLst/>
            <a:rect l="textAreaLeft" t="textAreaTop" r="textAreaRight" b="textAreaBottom"/>
            <a:pathLst>
              <a:path w="31500" h="21600">
                <a:moveTo>
                  <a:pt x="0" y="0"/>
                </a:moveTo>
                <a:lnTo>
                  <a:pt x="0" y="21600"/>
                </a:lnTo>
                <a:lnTo>
                  <a:pt x="31500" y="21600"/>
                </a:lnTo>
                <a:lnTo>
                  <a:pt x="31500" y="0"/>
                </a:lnTo>
                <a:close/>
                <a:moveTo>
                  <a:pt x="1481" y="1481"/>
                </a:moveTo>
                <a:lnTo>
                  <a:pt x="1481" y="20119"/>
                </a:lnTo>
                <a:lnTo>
                  <a:pt x="30019" y="20119"/>
                </a:lnTo>
                <a:lnTo>
                  <a:pt x="30019" y="1481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1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we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ndation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can you hel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re are we loca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51600" y="2543040"/>
            <a:ext cx="3385800" cy="24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E187-EF34-419B-91B5-906566C7B6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at We D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temporary ho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obedience trai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veterinary c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d loving, permanent ho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2F1C-D6E0-4DEA-BEA1-EF8A2F9E99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oundation History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526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nded by Ed Wilt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 first shel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gan volunteer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anded to 10 shel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1507-9269-4357-A263-30DD9FD4DD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How You Can Help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d a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op off don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opt an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D842-B574-462B-B606-7C3F94F761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ere to Find U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666880"/>
            <a:ext cx="5410080" cy="218556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5B70-4E10-4871-AF4E-3844BC0F34D5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5:15Z</dcterms:modified>
  <cp:revision>24</cp:revision>
  <dc:subject/>
  <dc:title>Foundation Introduction</dc:title>
</cp:coreProperties>
</file>