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13.gif" ContentType="image/gif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2EA-F446-4245-9D18-39F49885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078-B6EA-4C22-BAE8-26EAE5C2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273-4150-4A3C-B83C-CAC49F53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3D3-1C18-4C96-803B-E605B3F1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B603-D73A-4283-9163-D18F635A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ECC1-1907-4CE3-B1D4-B62F2F8F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4CF2-0F95-466E-92E4-D5F14235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08E9-2381-4831-ADE1-820BAE6C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7F49-1B97-469D-8910-66DD4DC4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C24F-96F1-4DCB-81DF-1896AD41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99E7-3AF2-4C82-908E-290E95E2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F41-7175-4E86-8437-94E9EE8C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6A19-D180-4723-9F83-CE222A44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E4C7-4A33-4EC6-B063-946C7F3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A9D8-15D6-4D75-8D98-D5FE0422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6A86-18E7-47E0-B57D-23008E6A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684C-E742-4383-B900-3816F6F5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931-4BFA-4A78-A7D4-8226A5A6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11D-23A1-4447-AD7F-443291E6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458-9FDE-4777-A459-7C5BC33F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9E5-CDA8-4C01-94D0-C16752AA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B52-CEB0-40A5-8A36-EBB31FB7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135-A24B-480F-B156-7C50BE4C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A1B-3599-4440-A46B-87DA875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85600" cy="5041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BE26-3F66-4F27-892E-9326FCDE47E8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117440" cy="504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720" cy="5735520"/>
              <a:chOff x="1028880" y="0"/>
              <a:chExt cx="15372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72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72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DD99-A4BF-433B-B874-C96795687D4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ummer Session in Toulous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What “Tou” Do!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Rail Travel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t a Euro Pass/Buddy Pass before you go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e prompt! Use train schedul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Night trains/sleeping ca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21841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Trip Cost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ir Plane Ticket </a:t>
            </a:r>
            <a:r>
              <a:rPr b="0" lang="en-US" sz="3200" spc="-1" strike="noStrike">
                <a:solidFill>
                  <a:srgbClr val="660066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$80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Hotel 30 days @ 30.00 DO = 90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Rail Pass </a:t>
            </a:r>
            <a:r>
              <a:rPr b="0" lang="en-US" sz="3200" spc="-1" strike="noStrike">
                <a:solidFill>
                  <a:srgbClr val="660066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30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od 30 days @ 25.00 = 75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oils/Gas/Misc. </a:t>
            </a:r>
            <a:r>
              <a:rPr b="0" lang="en-US" sz="3200" spc="-1" strike="noStrike">
                <a:solidFill>
                  <a:srgbClr val="660066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30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uition </a:t>
            </a:r>
            <a:r>
              <a:rPr b="0" lang="en-US" sz="3200" spc="-1" strike="noStrike">
                <a:solidFill>
                  <a:srgbClr val="660066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100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otal </a:t>
            </a:r>
            <a:r>
              <a:rPr b="0" lang="en-US" sz="3200" spc="-1" strike="noStrike">
                <a:solidFill>
                  <a:srgbClr val="660066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$405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Join us and see how others live and work.</a:t>
            </a:r>
            <a:endParaRPr b="0" lang="en-US" sz="4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809880"/>
            <a:ext cx="3047760" cy="1189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or More Information contact the MBA Office at 999-9999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19640" y="30686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hat To Pack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48428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ack light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fortable shoe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atch/Travel Alarm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hrase book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ring 1 set of dress clothes for company visits (no jackets required)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288144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urrency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ring a small amount of Francs for your arriva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ring a small calculator for convers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M &amp; credit cards are convenien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change desk at rail sta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4120" y="2816280"/>
            <a:ext cx="36576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Doing Laundry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aundromat nearby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ing your wallet!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load will cost $7  or ? Franc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chines take 10 or 2 franc coi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 a large bottle of detergent and share with other classma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Jambon &amp; Fromage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Vegetarians beware!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decent French meal will cost ~$2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andwiches on baguettes are available in the ESC cafeteria &amp; every café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ing your phrase book to dinner to decipher menu item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ipping is not expec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Dinner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nner is usually served at 8: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pect to pay ~$8-25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n’t be in hurry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6957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avorite Place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e “Why Not?” café/bar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akery in the mall near hot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ates Bar on Tripierre St. (39FFr)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029200" y="1981080"/>
            <a:ext cx="3848040" cy="2819520"/>
            <a:chOff x="5029200" y="1981080"/>
            <a:chExt cx="3848040" cy="28195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5029200" y="1981080"/>
              <a:ext cx="384804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121360" y="2027160"/>
              <a:ext cx="3625920" cy="26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66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Grocery Store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mpions takes credit card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asino-corner shop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ag your ow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at to buy: cereal, milk, yogurt, bread, fruit, granola bar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4120" y="282888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ide Trip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pain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olland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181116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40360" y="3789360"/>
            <a:ext cx="1811160" cy="273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00720" y="1628640"/>
            <a:ext cx="309708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32893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01:34:28Z</dcterms:created>
  <dc:creator/>
  <dc:description/>
  <dc:language>en-US</dc:language>
  <cp:lastModifiedBy/>
  <cp:lastPrinted>1998-01-29T03:09:49Z</cp:lastPrinted>
  <dcterms:modified xsi:type="dcterms:W3CDTF">2001-10-09T09:46:31Z</dcterms:modified>
  <cp:revision>10</cp:revision>
  <dc:subject/>
  <dc:title>Toulouse</dc:title>
</cp:coreProperties>
</file>