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AD8-DF73-4F9B-B106-08D96860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073-19A6-4286-8387-25B7F838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15A-1775-4B41-B496-E72E251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F15-B146-4811-B86F-F5162DF4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BE0-B092-4D10-BD4F-148A4157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87CF-9899-495B-AA10-2F878880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D32-E1D6-46D5-8500-A7D19B39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111C-24E8-429D-9FF9-EF928137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2353-41FB-4A5D-A6A3-BCD39ABD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D96C-E3A4-4824-B880-B6AF3E8D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539F-4CDF-41CC-9980-F229B85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D0C-7320-49C8-9BE3-D58F146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5F6-6EE3-4921-A397-46A6005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8900-3881-4028-A726-660B1311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FAE8-4B73-4548-B4E2-B95D6C2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7D4C-C14D-4CFB-88AA-EA26835A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B1E-AF12-4CF1-B29F-10382AE8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FC8-7BAA-4A86-8269-B01F930B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85B-C79F-421B-A160-865E282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DB8-58FC-4E61-B525-FF68405B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C85-FEF8-4D2A-926D-36E0CC8A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2E7-BAF0-4FF1-B6E7-87D7BF9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54E-3D3C-4675-A43D-576ABC27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F50-3E5A-4B66-9DC1-41298685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2708-10F3-49B4-9A6A-090974AA00E1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967db5"/>
              </a:gs>
              <a:gs pos="100000">
                <a:srgbClr val="806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343-B320-43A5-9866-F464613E0593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nimal Angel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creatures deserve a good home and someone to love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option Fe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7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5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nea Pi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bbi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rre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$6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other animals call for rate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02-555-131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Events Calendar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19320" y="2514600"/>
          <a:ext cx="7467480" cy="3581280"/>
        </p:xfrm>
        <a:graphic>
          <a:graphicData uri="http://schemas.openxmlformats.org/drawingml/2006/table">
            <a:tbl>
              <a:tblPr/>
              <a:tblGrid>
                <a:gridCol w="2361960"/>
                <a:gridCol w="2514600"/>
                <a:gridCol w="25909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a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381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doption Fair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aturday, Nov 21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ts4U Sou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aturday, Nov 28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ts4U Nor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nday, Dec 6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outh Park Mal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uppy Clas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onday, Nov 30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t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over Elementa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bedience Clas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uesday, Nov 31</a:t>
                      </a:r>
                      <a:r>
                        <a:rPr b="0" lang="en-US" sz="24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s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ak View High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381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381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Become an Animal Angel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700000">
            <a:off x="4952880" y="3352320"/>
            <a:ext cx="3048120" cy="2971800"/>
          </a:xfrm>
          <a:custGeom>
            <a:avLst/>
            <a:gdLst>
              <a:gd name="textAreaLeft" fmla="*/ 716400 w 3048120"/>
              <a:gd name="textAreaRight" fmla="*/ 2329560 w 3048120"/>
              <a:gd name="textAreaTop" fmla="*/ 349200 h 2971800"/>
              <a:gd name="textAreaBottom" fmla="*/ 1864080 h 2971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ffffcc"/>
            </a:solidFill>
            <a:miter/>
          </a:ln>
          <a:effectLst>
            <a:outerShdw dist="107932" dir="8100000" blurRad="0" rotWithShape="0">
              <a:srgbClr val="b0ae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Arial"/>
              </a:rPr>
              <a:t>Open Your Hea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mal Ang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30B9-9DC0-45F9-8869-707C17BD0B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345CA6B-2707-4E58-A1B3-122C5D206120}" type="datetime1">
              <a:rPr lang="en-US"/>
              <a:t>07/29/26</a:t>
            </a:fld>
          </a:p>
        </p:txBody>
      </p:sp>
    </p:spTree>
  </p:cSld>
  <p:transition spd="med" advTm="7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o is an Animal Ange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unwanted pets deserve a home and someone to love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you can teach an old dog new tric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lieves that you can retrain animals to be lo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How Do I Become an Ange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d a che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op off Don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038480"/>
            <a:ext cx="3276720" cy="2128320"/>
          </a:xfrm>
          <a:prstGeom prst="rect">
            <a:avLst/>
          </a:prstGeom>
          <a:solidFill>
            <a:srgbClr val="fac164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Animal Ang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1166 Oak Stre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Smitherton, NH 031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2449"/>
                </a:solidFill>
                <a:latin typeface="Times New Roman"/>
              </a:rPr>
              <a:t>(603) 555-13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at is a Rescue Animal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d from imminent danger and de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ay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used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wanted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special friend in need of a special h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opting a Rescue Animal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animals are fully evaluated by a veterinari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imals are spayed or neutered before ado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nimal’s temperament is evaluated for nee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ienced people are available for guidance after ado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What Should I Expect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a lot of questions because the Angels want to be sure of y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be patient because the animal may not be housebroken or tra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give them a lot of lo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ct to get a lot of love in retu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nimals for Adoption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4800600" cy="241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0572200">
            <a:off x="3733920" y="4723920"/>
            <a:ext cx="5105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192449"/>
                  </a:solidFill>
                  <a:miter/>
                </a:ln>
                <a:solidFill>
                  <a:srgbClr val="c3e684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 Forever...</a:t>
            </a:r>
            <a:endParaRPr b="0" lang="en-US" sz="4400" spc="1" strike="noStrike">
              <a:ln w="12600">
                <a:solidFill>
                  <a:srgbClr val="192449"/>
                </a:solidFill>
                <a:miter/>
              </a:ln>
              <a:solidFill>
                <a:srgbClr val="c3e684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Jak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year old Shelti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s owners had to move out of s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llent with children and other anim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eds someone to love hi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370160" y="2101680"/>
            <a:ext cx="3201840" cy="4114800"/>
          </a:xfrm>
          <a:prstGeom prst="rect">
            <a:avLst/>
          </a:prstGeom>
          <a:ln w="76320">
            <a:solidFill>
              <a:srgbClr val="c3e684"/>
            </a:solidFill>
            <a:miter/>
          </a:ln>
        </p:spPr>
      </p:pic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7d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die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di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 year old c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te as a bu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ves to p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r owner moved to a retirement h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n’t you take the time to play with her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93840" y="2101680"/>
            <a:ext cx="3355920" cy="4114800"/>
          </a:xfrm>
          <a:prstGeom prst="rect">
            <a:avLst/>
          </a:prstGeom>
          <a:ln w="76320">
            <a:solidFill>
              <a:srgbClr val="c3e684"/>
            </a:solidFill>
            <a:miter/>
          </a:ln>
        </p:spPr>
      </p:pic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21:29:51Z</dcterms:created>
  <dc:creator/>
  <dc:description/>
  <dc:language>en-US</dc:language>
  <cp:lastModifiedBy/>
  <dcterms:modified xsi:type="dcterms:W3CDTF">2001-10-09T09:44:10Z</dcterms:modified>
  <cp:revision>17</cp:revision>
  <dc:subject/>
  <dc:title>Kiosk Original</dc:title>
</cp:coreProperties>
</file>