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EC3-6CCD-4E0B-9BB4-585A1B60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AF3-FFCC-41B9-B9F2-7A683F45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E40-6A0B-4F55-B7CB-5BA9E5D2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6A4-EB9B-4B60-81AD-F14C8B28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08CF-C3C9-42F8-8F21-99C7C6BC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7BAC-A4F3-4157-BF30-19D765D1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7CCF-F478-4204-BF15-EC2B2F0E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8309-49E0-48CF-9090-BA8B2F77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CD43-F5D9-426D-BF96-E56F72C8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C2FB-479E-4B94-9AD0-DEF7D473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1E3B-B5E0-483E-B976-0A72CD76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6CE-3D10-45DE-9FC8-B05DCD2E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8BDE-33CC-48D1-8245-3D097CD8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3823-51C4-47A8-9D2E-5F351E1B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0AF7-D8F4-45CF-BC13-EDE192E5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4F43-49F6-45B3-91AB-22C65995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4E32-723E-49DA-A03C-CD632C73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88B-1D81-4B12-9563-BAFC51D8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A79-053F-48D7-8970-F2369036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4AC-4E1F-4D3A-A416-996B4316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188-2F00-4C59-BFEF-CB1CEE98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180-E709-4D8F-837D-CB28CE3E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D49-2EC9-4453-8A1B-F202C49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4EC-5B62-4DE2-8C11-62797E61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E5CB-FD2D-4750-8895-B3D3F207943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7459-0BE0-4291-854B-1153807CA3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un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Web-based Training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by IUN, In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Benefits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travel required; work from the comfort of your home or off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imited access to over 200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w price of $15 per mon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ly interactive features to enhance your learning exper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How to register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one: 555-698-005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x: 555-633-444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bsit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iun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-mail: register@iun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1T19:47:03Z</dcterms:created>
  <dc:creator>Glen J. Coulthard</dc:creator>
  <dc:description/>
  <dc:language>en-US</dc:language>
  <cp:lastModifiedBy>Glen J. Coulthard</cp:lastModifiedBy>
  <dcterms:modified xsi:type="dcterms:W3CDTF">2003-07-08T21:04:58Z</dcterms:modified>
  <cp:revision>6</cp:revision>
  <dc:subject>Microsoft Office System 2003</dc:subject>
  <dc:title>Web-based Training</dc:title>
</cp:coreProperties>
</file>