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1C2-AA90-48DC-85AE-D183D695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358-EE8D-4C81-B681-7026351D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CE4-CB16-455E-80A6-ED19B186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719-FF27-4454-87F7-8EA3A234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2703-D061-4823-B1F7-C61F1E92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1A92-32F8-4787-B16F-54E9BD83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ED7A-6F14-4D46-B502-337232FC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8571-C98D-4E31-877A-684E3DC3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1392-6F54-4F59-B5C0-FC40B71E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007B-746C-4886-8310-AA1C0F7F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DD9B-08E3-4A37-873B-428B7C53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C3B-D2CD-4B41-935C-3041B55A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B531-108A-4CF0-A403-E1E04A7B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53B2-F070-4983-8A21-A58FECF7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F40D-0E16-4071-AE15-F0CF29B8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7235-AD4A-4B68-A806-18558794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D133-E327-4EB2-A6E6-0F398176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487-8F37-42D1-815E-DDA33BB4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BBE-4B17-4C8B-9FDF-ADD3C950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5B3-E172-4651-B462-A12644C2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A09-767E-4B59-8203-3C0415B0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4AF-DB5C-49F4-8534-2B83A912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068-D457-43FD-9079-F95D0BAB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ED3-51C4-42D3-8772-D8B0B10B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DB3E-62F1-4B67-8400-294D57F5B3AE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45F0-4F07-4A15-A962-015F0BD46F24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Outback Export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8e2"/>
                </a:solidFill>
                <a:latin typeface="Arial Narrow"/>
              </a:rPr>
              <a:t>Coal Exportation</a:t>
            </a:r>
            <a:endParaRPr b="0" lang="en-US" sz="4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nnual Australian  Coal Export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pproximately 8 million tons from Queensland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0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pproximately 4 million tons from New South Wal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1T05:25:38Z</dcterms:created>
  <dc:creator>Glen J. Coulthard</dc:creator>
  <dc:description/>
  <dc:language>en-US</dc:language>
  <cp:lastModifiedBy>Glen J. Coulthard</cp:lastModifiedBy>
  <dcterms:modified xsi:type="dcterms:W3CDTF">2003-07-08T21:05:09Z</dcterms:modified>
  <cp:revision>8</cp:revision>
  <dc:subject>Microsoft Office System 2003</dc:subject>
  <dc:title>Outback Exports</dc:title>
</cp:coreProperties>
</file>