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34-86C2-4786-B9D6-BEB08363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F36-598D-40E7-9B8E-20AAB65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89C-A29D-4F62-9EFE-73F55C1D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ED8-729F-4842-83D0-CDC57F7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B58-5B80-4198-AD90-BC3A6FFC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98C2-CB25-4C14-9E4F-18ECBDB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12D2-FB7C-47FF-A673-D5FAA4A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21E2-2F88-45D9-B121-2EA2A81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BCAD-6AB9-4806-8885-48B0A6B3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A4C6-2475-4039-92B4-C9D45CC0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FBD4-1059-4376-B72F-6564D49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01A-68DD-432E-A96B-4969E5A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982C-404E-4A58-AA0C-578DA04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BA19-8BA1-40F9-AAA6-6263B7E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A4F-B2FF-41B4-9FFE-4610ED6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00BC-8BA1-4D0A-AD17-64B6CC94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F5B-DCE4-411E-AB72-1A98F700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B95-4711-4EAF-9526-3620A63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050-5848-4AF9-9883-C490A53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C67-53D2-407C-81A9-E6166CE6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A29-F675-4061-A9BA-A9804FA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34B-0FF0-45C0-A459-DA85935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347-905F-4724-983D-B02F153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11E-02B4-4EE8-8E76-60F20C3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CC6E-F6D7-4061-BD73-538FFE7AAA11}" type="datetime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4EB-A122-41B6-B9A5-7C6ECAE98BD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9AD-C00F-46EC-92D9-1A07745E5AEF}" type="datetime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66E1-87C2-4501-A360-053F98C21E6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arketing Pla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pared by Cynthia Golansk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4EC-1B8F-4B87-A2AF-8EEB253C073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F37AA9-32D4-4153-9F3E-215C91DAE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arket Summar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rket: past, present, &amp; futu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view changes in market share, leadership, players, market shifts, costs, pricing, compet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1880" y="3773520"/>
            <a:ext cx="4809960" cy="2157480"/>
          </a:xfrm>
          <a:custGeom>
            <a:avLst/>
            <a:gdLst/>
            <a:ahLst/>
            <a:rect l="l" t="t" r="r" b="b"/>
            <a:pathLst>
              <a:path w="3984" h="2016">
                <a:moveTo>
                  <a:pt x="0" y="0"/>
                </a:moveTo>
                <a:lnTo>
                  <a:pt x="0" y="2016"/>
                </a:lnTo>
                <a:lnTo>
                  <a:pt x="3984" y="2016"/>
                </a:lnTo>
              </a:path>
            </a:pathLst>
          </a:custGeom>
          <a:noFill/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59240" y="5322960"/>
            <a:ext cx="939600" cy="5522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300"/>
                </a:moveTo>
                <a:lnTo>
                  <a:pt x="0" y="480"/>
                </a:lnTo>
                <a:lnTo>
                  <a:pt x="816" y="480"/>
                </a:lnTo>
                <a:lnTo>
                  <a:pt x="816" y="0"/>
                </a:lnTo>
                <a:lnTo>
                  <a:pt x="738" y="51"/>
                </a:lnTo>
                <a:lnTo>
                  <a:pt x="645" y="102"/>
                </a:lnTo>
                <a:lnTo>
                  <a:pt x="573" y="129"/>
                </a:lnTo>
                <a:lnTo>
                  <a:pt x="456" y="165"/>
                </a:lnTo>
                <a:lnTo>
                  <a:pt x="339" y="201"/>
                </a:lnTo>
                <a:lnTo>
                  <a:pt x="207" y="243"/>
                </a:lnTo>
                <a:lnTo>
                  <a:pt x="81" y="279"/>
                </a:lnTo>
                <a:lnTo>
                  <a:pt x="0" y="300"/>
                </a:lnTo>
                <a:close/>
              </a:path>
            </a:pathLst>
          </a:custGeom>
          <a:solidFill>
            <a:srgbClr val="afb5d2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67240" y="4241880"/>
            <a:ext cx="1000080" cy="1633320"/>
          </a:xfrm>
          <a:custGeom>
            <a:avLst/>
            <a:gdLst/>
            <a:ahLst/>
            <a:rect l="l" t="t" r="r" b="b"/>
            <a:pathLst>
              <a:path w="867" h="1418">
                <a:moveTo>
                  <a:pt x="867" y="0"/>
                </a:moveTo>
                <a:lnTo>
                  <a:pt x="866" y="1418"/>
                </a:lnTo>
                <a:lnTo>
                  <a:pt x="0" y="1416"/>
                </a:lnTo>
                <a:lnTo>
                  <a:pt x="0" y="882"/>
                </a:lnTo>
                <a:lnTo>
                  <a:pt x="84" y="804"/>
                </a:lnTo>
                <a:lnTo>
                  <a:pt x="156" y="735"/>
                </a:lnTo>
                <a:lnTo>
                  <a:pt x="222" y="657"/>
                </a:lnTo>
                <a:lnTo>
                  <a:pt x="297" y="558"/>
                </a:lnTo>
                <a:lnTo>
                  <a:pt x="381" y="453"/>
                </a:lnTo>
                <a:lnTo>
                  <a:pt x="486" y="318"/>
                </a:lnTo>
                <a:lnTo>
                  <a:pt x="543" y="240"/>
                </a:lnTo>
                <a:lnTo>
                  <a:pt x="630" y="129"/>
                </a:lnTo>
                <a:lnTo>
                  <a:pt x="687" y="72"/>
                </a:lnTo>
                <a:lnTo>
                  <a:pt x="753" y="27"/>
                </a:lnTo>
                <a:lnTo>
                  <a:pt x="801" y="16"/>
                </a:lnTo>
                <a:lnTo>
                  <a:pt x="867" y="0"/>
                </a:lnTo>
                <a:close/>
              </a:path>
            </a:pathLst>
          </a:custGeom>
          <a:solidFill>
            <a:srgbClr val="99ffcc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92400" y="5702400"/>
            <a:ext cx="311040" cy="172800"/>
          </a:xfrm>
          <a:custGeom>
            <a:avLst/>
            <a:gdLst/>
            <a:ahLst/>
            <a:rect l="l" t="t" r="r" b="b"/>
            <a:pathLst>
              <a:path w="366" h="174">
                <a:moveTo>
                  <a:pt x="0" y="123"/>
                </a:moveTo>
                <a:lnTo>
                  <a:pt x="0" y="174"/>
                </a:lnTo>
                <a:lnTo>
                  <a:pt x="366" y="174"/>
                </a:lnTo>
                <a:lnTo>
                  <a:pt x="366" y="0"/>
                </a:lnTo>
                <a:lnTo>
                  <a:pt x="320" y="18"/>
                </a:lnTo>
                <a:lnTo>
                  <a:pt x="267" y="39"/>
                </a:lnTo>
                <a:lnTo>
                  <a:pt x="198" y="61"/>
                </a:lnTo>
                <a:lnTo>
                  <a:pt x="132" y="86"/>
                </a:lnTo>
                <a:lnTo>
                  <a:pt x="74" y="106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568200" y="5322960"/>
            <a:ext cx="939960" cy="5522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300"/>
                </a:moveTo>
                <a:lnTo>
                  <a:pt x="0" y="480"/>
                </a:lnTo>
                <a:lnTo>
                  <a:pt x="816" y="480"/>
                </a:lnTo>
                <a:lnTo>
                  <a:pt x="816" y="0"/>
                </a:lnTo>
                <a:lnTo>
                  <a:pt x="738" y="51"/>
                </a:lnTo>
                <a:lnTo>
                  <a:pt x="645" y="102"/>
                </a:lnTo>
                <a:lnTo>
                  <a:pt x="573" y="129"/>
                </a:lnTo>
                <a:lnTo>
                  <a:pt x="456" y="165"/>
                </a:lnTo>
                <a:lnTo>
                  <a:pt x="339" y="201"/>
                </a:lnTo>
                <a:lnTo>
                  <a:pt x="207" y="243"/>
                </a:lnTo>
                <a:lnTo>
                  <a:pt x="81" y="279"/>
                </a:lnTo>
                <a:lnTo>
                  <a:pt x="0" y="3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18080" y="4241880"/>
            <a:ext cx="998640" cy="1633320"/>
          </a:xfrm>
          <a:custGeom>
            <a:avLst/>
            <a:gdLst/>
            <a:ahLst/>
            <a:rect l="l" t="t" r="r" b="b"/>
            <a:pathLst>
              <a:path w="867" h="1418">
                <a:moveTo>
                  <a:pt x="867" y="0"/>
                </a:moveTo>
                <a:lnTo>
                  <a:pt x="866" y="1418"/>
                </a:lnTo>
                <a:lnTo>
                  <a:pt x="0" y="1416"/>
                </a:lnTo>
                <a:lnTo>
                  <a:pt x="0" y="882"/>
                </a:lnTo>
                <a:lnTo>
                  <a:pt x="84" y="804"/>
                </a:lnTo>
                <a:lnTo>
                  <a:pt x="156" y="735"/>
                </a:lnTo>
                <a:lnTo>
                  <a:pt x="222" y="657"/>
                </a:lnTo>
                <a:lnTo>
                  <a:pt x="297" y="558"/>
                </a:lnTo>
                <a:lnTo>
                  <a:pt x="381" y="453"/>
                </a:lnTo>
                <a:lnTo>
                  <a:pt x="486" y="318"/>
                </a:lnTo>
                <a:lnTo>
                  <a:pt x="543" y="240"/>
                </a:lnTo>
                <a:lnTo>
                  <a:pt x="630" y="129"/>
                </a:lnTo>
                <a:lnTo>
                  <a:pt x="687" y="72"/>
                </a:lnTo>
                <a:lnTo>
                  <a:pt x="753" y="27"/>
                </a:lnTo>
                <a:lnTo>
                  <a:pt x="801" y="16"/>
                </a:lnTo>
                <a:lnTo>
                  <a:pt x="867" y="0"/>
                </a:lnTo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78000" y="4913640"/>
            <a:ext cx="14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Early Adopters/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Pioneer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3960" y="368820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Mass Market/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Follower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36040" y="498384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End of Lif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04880" y="5976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6699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16080" y="4415040"/>
            <a:ext cx="10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6699"/>
                </a:solidFill>
                <a:latin typeface="Arial"/>
              </a:rPr>
              <a:t>Number</a:t>
            </a:r>
            <a:br>
              <a:rPr sz="1400"/>
            </a:br>
            <a:r>
              <a:rPr b="0" i="1" lang="en-US" sz="1400" spc="-1" strike="noStrike">
                <a:solidFill>
                  <a:srgbClr val="336699"/>
                </a:solidFill>
                <a:latin typeface="Arial"/>
              </a:rPr>
              <a:t>of</a:t>
            </a:r>
            <a:br>
              <a:rPr sz="1400"/>
            </a:br>
            <a:r>
              <a:rPr b="0" i="1" lang="en-US" sz="14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278-97F0-4960-A726-F648B0484A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D7AFF-12D0-410D-98D2-EEA80845C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t">
            <a:normAutofit/>
          </a:bodyPr>
          <a:p>
            <a:pPr marL="287280" indent="-2872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competitive landscap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27120" indent="-2253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vide an overview of product competitors, their strengths and weakness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7120" indent="-2253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sition each competitor’s product against new produc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276160" y="1981080"/>
            <a:ext cx="3639240" cy="3565800"/>
            <a:chOff x="5276160" y="1981080"/>
            <a:chExt cx="3639240" cy="3565800"/>
          </a:xfrm>
        </p:grpSpPr>
        <p:sp>
          <p:nvSpPr>
            <p:cNvPr id="110" name=""/>
            <p:cNvSpPr/>
            <p:nvPr/>
          </p:nvSpPr>
          <p:spPr>
            <a:xfrm>
              <a:off x="6540480" y="2955960"/>
              <a:ext cx="644400" cy="646200"/>
            </a:xfrm>
            <a:prstGeom prst="ellips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8489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69080" y="2955960"/>
              <a:ext cx="482760" cy="4842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4386a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8480" y="4352760"/>
              <a:ext cx="408240" cy="40644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46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69240" y="4084560"/>
              <a:ext cx="542880" cy="5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8e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91040" y="1981080"/>
              <a:ext cx="3024360" cy="3022560"/>
            </a:xfrm>
            <a:custGeom>
              <a:avLst/>
              <a:gdLst/>
              <a:ahLst/>
              <a:rect l="l" t="t" r="r" b="b"/>
              <a:pathLst>
                <a:path w="2976" h="2976">
                  <a:moveTo>
                    <a:pt x="0" y="0"/>
                  </a:moveTo>
                  <a:lnTo>
                    <a:pt x="0" y="2976"/>
                  </a:lnTo>
                  <a:lnTo>
                    <a:pt x="2976" y="2976"/>
                  </a:lnTo>
                </a:path>
              </a:pathLst>
            </a:custGeom>
            <a:noFill/>
            <a:ln w="1908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3716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3560" y="5048280"/>
              <a:ext cx="1520640" cy="498600"/>
            </a:xfrm>
            <a:prstGeom prst="rightArrow">
              <a:avLst>
                <a:gd name="adj1" fmla="val 50000"/>
                <a:gd name="adj2" fmla="val 76245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5400000">
              <a:off x="4884480" y="3257640"/>
              <a:ext cx="1251000" cy="468360"/>
            </a:xfrm>
            <a:prstGeom prst="rightArrow">
              <a:avLst>
                <a:gd name="adj1" fmla="val 50000"/>
                <a:gd name="adj2" fmla="val 66776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B9B-70EF-42FE-996F-3B350650B9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0B77B-D8E2-4EE8-B153-B6BD307AB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Pricing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ic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mmarize specific pricing strategi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mpare to substitute product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olici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mmarize policy relevant to understanding key pricing issu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04C-DDF4-4FB0-87A3-2921DE653E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19F67-4B56-4FE6-90BD-00BB264D2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istribu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istribution strateg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nels of distribu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mmarize channels of distribu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istribution by chann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how plan of what percent share of distribution will be contributed by each channel -- a pie chart might be helpfu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1B3-4FEC-4E0B-995B-4F28331B54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54835-EAC3-4136-A3CE-5EB98B848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Internation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ternational distribu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ddress distribution strategi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scuss issues specific to international distribu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ternational pricing strateg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calization issu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ighlight requirements for local product variat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189-7080-45B6-AB19-40497205B7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663A2-1FE8-4540-8E5E-203CA320F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 J. Coulthard</dc:creator>
  <dc:description/>
  <dc:language>en-US</dc:language>
  <cp:lastModifiedBy>Glen J. Coulthard</cp:lastModifiedBy>
  <cp:lastPrinted>1996-03-05T21:54:17Z</cp:lastPrinted>
  <dcterms:modified xsi:type="dcterms:W3CDTF">2003-10-27T06:20:05Z</dcterms:modified>
  <cp:revision>7</cp:revision>
  <dc:subject>Microsoft Office System 2003</dc:subject>
  <dc:title>Marketing Plan</dc:title>
</cp:coreProperties>
</file>