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15F-0082-4BF5-9E72-CB7069E4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AB2-4221-4F2F-9CE8-36CFAD4A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2BE-08E8-40F3-9CCF-58A0B76A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283-81B7-497D-963F-FCA3B3D2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0F4E-FAF4-4CDB-9855-B4E0F130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266C-7325-459D-9308-6ED3BFAE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E4D9-3681-4510-B239-1426B661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DFBB-0DBA-449B-87A6-FCE18872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620F-CA19-428C-966F-1BFAF5C0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7E2D-3003-4EBE-8344-FCE79CBE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0619-58DC-4987-8D87-63CDEF32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1E1-6EB5-458A-AADC-CFA37EC3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3921-F32E-4537-B12D-5604A7B5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721F-620D-4C67-A0AF-E0CEA6E5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680E-0AD8-45DD-A1B3-33BF3B7C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A22B-5104-40B1-9079-00D16E42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1F61-FC9C-4F54-80B2-D14F5170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5088-9C10-4E99-A45F-8CA3C782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848-8D75-4672-B081-8F6844CE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26F-BC2D-403B-A9EC-9F23E0A2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B9E-5612-4472-A130-F6283BE8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66F-00DB-424E-9F21-FEAD449F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A80-8A6D-4AA3-B70B-0A098946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218-59E6-465D-9B75-6E191FBF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33F2-4C3F-4563-8853-48B970C385C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E18A-AA71-4EE1-B9EC-F1EF6FF3CB5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.C. Mel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560" y="3885840"/>
            <a:ext cx="70866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C. Melon, In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 York, NY 1002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-555-RCM-EL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41508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R.C. Melon label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means quality..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87640" y="1941480"/>
            <a:ext cx="644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n and women’s cloth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cessor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d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ow cost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ast delive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liable shipp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902520"/>
            <a:ext cx="86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Men and Women’s Clothing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11320" y="1941480"/>
            <a:ext cx="652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ir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weat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otwea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lipp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leepwea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902520"/>
            <a:ext cx="86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ther Item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87640" y="1941480"/>
            <a:ext cx="644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t accessor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ravel and lugg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ift ide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ed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utomotive to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30T16:43:10Z</dcterms:created>
  <dc:creator>Glen J. Coulthard</dc:creator>
  <dc:description/>
  <dc:language>en-US</dc:language>
  <cp:lastModifiedBy>Glen J. Coulthard</cp:lastModifiedBy>
  <dcterms:modified xsi:type="dcterms:W3CDTF">2003-07-08T21:02:38Z</dcterms:modified>
  <cp:revision>10</cp:revision>
  <dc:subject>Microsoft Office System 2003</dc:subject>
  <dc:title>R.C. Melon</dc:title>
</cp:coreProperties>
</file>