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C9C-38E9-4BC4-AF58-8359C3CB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202-1159-4DEB-AC93-E109E2E3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268-E1EE-4B8C-BA5B-86CDFF58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476-8306-4220-BAE9-D2B7CB06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1B24-C667-494C-8743-4F1E4721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D7E2-08BB-45D7-9D11-DDCB0CD8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A816-7B97-4367-9DB8-B97295DA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1616-9E99-4E6D-AC91-3AB2C953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BDB2-6845-425B-9873-8BC53061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FA5C-2C3E-4AE2-A657-EEEE8EDC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FC3E-FF77-4871-814E-17A0A5D7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1F67-995D-49D4-A5AE-EC23D74B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DC98-6559-4DE8-A05D-24CB9244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6228-262A-4644-8BFA-05D2B196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BA52-1D3E-4F5D-8EDF-A268AEBD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F661-107D-4B58-8CB9-6EA7284A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2EED-635D-471B-B762-10BB7B8C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A3A-4030-4C45-A76C-E335A717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001-534B-46B7-955B-7C265C42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7A50-7521-4E5C-A11A-2C403D1F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F97-1950-48FB-97D8-7A406B19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822-A056-4852-B0AB-FC02A468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EA7-EE3A-4CE1-83E0-180A9037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C3E-F748-459E-ACDA-6DA960ED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2381-6E3A-4DDF-A9CE-D2BC0D5044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E5A1-BD4B-45B5-8D35-FFF1A6C93D0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Travel Today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doesn’t have to break the bank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12679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o the following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842920"/>
            <a:ext cx="8229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creat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en to what I have to s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1371600"/>
            <a:ext cx="6095880" cy="90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iscussion Topic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3047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re to buy plane ticke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o buy plane ticke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sh versus Cre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30T18:22:12Z</dcterms:created>
  <dc:creator>Glen J. Coulthard</dc:creator>
  <dc:description/>
  <dc:language>en-US</dc:language>
  <cp:lastModifiedBy>Glen J. Coulthard</cp:lastModifiedBy>
  <dcterms:modified xsi:type="dcterms:W3CDTF">2003-10-25T11:55:18Z</dcterms:modified>
  <cp:revision>14</cp:revision>
  <dc:subject>Microsoft Office System 2003</dc:subject>
  <dc:title>Travel</dc:title>
</cp:coreProperties>
</file>