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79A-3250-4473-9FAF-A317B430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AEA-E040-45EF-BB57-6F590C9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D20-476A-4AD3-9D3B-9650D097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124-192F-40F3-AAA0-CBE7A82A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3F53D-68EC-4C6E-AECE-AC96E140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0BEB3-F722-40F8-A76A-A82F82A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BE906-59DE-4C92-BCA9-E980E25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C5A24-E9EF-4C2A-AB84-23311B8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48FED-3D2D-4104-AA52-9E1B8DC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3E18-44F3-4316-A38B-C22902D9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24A4C-F240-41AA-9C39-33FC41D6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297-C757-4EDA-A291-127041C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8603C-A1B5-4F07-896A-D2F4F73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4AF9-1A36-46B1-8320-B9BCD9D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D183-3C43-4F68-890C-7D934D91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DDA16-C896-4BF3-AF3F-177C1DCF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365AD-C45D-4EF2-831E-8720D103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A42-3E07-4191-BEDE-A81DE6E8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668-BA73-49C6-9793-FA39C13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917-37FC-4DD2-996E-F991A32F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45E-16C9-44AB-ABCB-B05AD44E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D7E-D74E-4C56-899B-008EA03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FF3-4671-44F8-B493-5244F16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468-D29A-479D-9207-6781371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B01-AB1F-4B2B-998C-6EDB49B9AE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A45-3357-4810-8731-BF3DC053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FE86-387F-4057-9577-DFBCA2AB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4E9-FC45-4BCD-903D-6689D2D1ED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ftware Edg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ployee Ori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by Mary Pipp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AB301-DD9A-427A-BB2A-1C017339BC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FAA5280-4CCE-444D-97C3-6369FA1A4187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history &amp;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’s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20E-1263-461C-AE10-902B0700C2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E5C31-433A-4DD3-B0E3-95B8DB2D643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ny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s the company f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product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B30-4324-43A8-9921-ABA3923C02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3FED5-2680-4930-80B8-CFEA4E99C7B5}" type="datetime1">
              <a:rPr lang="en-US"/>
              <a:t>07/30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ny Poli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most important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company business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expectations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company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00E-A89E-40BB-9669-06B4F414D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F292A-A831-442E-ACBA-9159E2944C1E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/dent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tion/sick/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ility/life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rement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/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8BB-E03F-4680-8781-805DF895F1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BB43-6981-4A33-BC10-BE9D4837B073}" type="datetime1">
              <a:rPr lang="en-US"/>
              <a:t>07/30/26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hand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olicy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name/phone for each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logic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A54-0E71-4D1A-9518-EFEB34BE96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873DF-301B-4841-8B42-193BEC8B97FF}" type="datetime1">
              <a:rPr lang="en-US"/>
              <a:t>07/30/2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 J. Coulthard</dc:creator>
  <dc:description/>
  <dc:language>en-US</dc:language>
  <cp:lastModifiedBy>Glen J. Coulthard</cp:lastModifiedBy>
  <cp:lastPrinted>1996-03-19T21:02:48Z</cp:lastPrinted>
  <dcterms:modified xsi:type="dcterms:W3CDTF">2003-07-08T21:03:13Z</dcterms:modified>
  <cp:revision>8</cp:revision>
  <dc:subject>Microsoft Office System 2003</dc:subject>
  <dc:title>The Software Edge</dc:title>
</cp:coreProperties>
</file>