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49F-8316-4CE5-91BA-B041FD6A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663-F2AC-4D61-BDA0-58BF5FE4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DA1-7C52-4637-BF53-002681D3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FA0-8DF3-412E-B581-6ACB39E5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21D-D1C1-4E54-86F4-EF78A6B5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10D-4049-4AD8-A43B-6C4732A4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D18-82B5-4D4D-B15D-C038A7E3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9CBF-F5F5-4097-8453-52829AC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9C6-12A4-4343-835F-14111E9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21BA-F3A5-4F7F-85EF-E8266C8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BDB8-F560-4B18-90D5-DC0CF12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66BA-4128-41E5-AFCA-CE54509C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4FD0-9607-44A3-9368-484CA63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7EF0-BFA5-4359-9A20-87FF301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7ED-1080-4AB8-A167-186A19BB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7FC-BF22-4ACD-A2F1-229E4CC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D9C-406C-4E8F-9922-59789D7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9037-6094-4C2D-9C7D-5335B121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C9A-AA05-4668-910F-67DFB963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8030-40E7-4BEF-B881-7DF15BB5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887-9D9C-42E2-B695-8DF8AFE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295-E49E-477E-86DE-7F091D79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E93-007B-4CE3-B4E9-D69D0B8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AAB-6D2A-43A8-BF18-15D5DA72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D23-DDC2-4341-8D4C-7676590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898-7FB6-476A-9A2B-A73CB12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B03-4DD6-425B-8140-23035D8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D23-54F1-46F6-BBCF-71FDB349C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0D86624F-1626-4769-AFB5-BB9E28525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85640" y="287280"/>
            <a:ext cx="81108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lectri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ciples &amp;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 Ed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92240" y="3879720"/>
            <a:ext cx="5143680" cy="1311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hapter  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student vers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176560" y="578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2133720" y="6121440"/>
            <a:ext cx="5091120" cy="173160"/>
            <a:chOff x="2133720" y="6121440"/>
            <a:chExt cx="5091120" cy="173160"/>
          </a:xfrm>
        </p:grpSpPr>
        <p:sp>
          <p:nvSpPr>
            <p:cNvPr id="97" name="Line 7"/>
            <p:cNvSpPr/>
            <p:nvPr/>
          </p:nvSpPr>
          <p:spPr>
            <a:xfrm>
              <a:off x="2133720" y="6121440"/>
              <a:ext cx="50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2136240" y="618192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2136240" y="62388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2136240" y="62946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Text Box 22"/>
          <p:cNvSpPr/>
          <p:nvPr/>
        </p:nvSpPr>
        <p:spPr>
          <a:xfrm>
            <a:off x="2517840" y="26701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hard J. Fowl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1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F4DE954B-BDE1-42E4-BD8A-AB565C23A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152280" y="2664720"/>
            <a:ext cx="8534160" cy="1114920"/>
            <a:chOff x="152280" y="2664720"/>
            <a:chExt cx="8534160" cy="1114920"/>
          </a:xfrm>
        </p:grpSpPr>
        <p:sp>
          <p:nvSpPr>
            <p:cNvPr id="237" name="Text Box 6"/>
            <p:cNvSpPr/>
            <p:nvPr/>
          </p:nvSpPr>
          <p:spPr>
            <a:xfrm>
              <a:off x="152280" y="2664720"/>
              <a:ext cx="81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harged capacitor stores energy in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385560" y="3137040"/>
              <a:ext cx="830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distorted dielectric material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52) 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192240" y="3912840"/>
            <a:ext cx="8186040" cy="1114560"/>
            <a:chOff x="192240" y="3912840"/>
            <a:chExt cx="8186040" cy="1114560"/>
          </a:xfrm>
        </p:grpSpPr>
        <p:sp>
          <p:nvSpPr>
            <p:cNvPr id="240" name="Text Box 9"/>
            <p:cNvSpPr/>
            <p:nvPr/>
          </p:nvSpPr>
          <p:spPr>
            <a:xfrm>
              <a:off x="192240" y="3912840"/>
              <a:ext cx="81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creasing the plate area of a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738360" y="4384800"/>
              <a:ext cx="694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ill increase its capacitance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55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191520" y="5071320"/>
            <a:ext cx="8797320" cy="1099080"/>
            <a:chOff x="191520" y="5071320"/>
            <a:chExt cx="8797320" cy="1099080"/>
          </a:xfrm>
        </p:grpSpPr>
        <p:sp>
          <p:nvSpPr>
            <p:cNvPr id="243" name="Text Box 10"/>
            <p:cNvSpPr/>
            <p:nvPr/>
          </p:nvSpPr>
          <p:spPr>
            <a:xfrm>
              <a:off x="191520" y="5071320"/>
              <a:ext cx="879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creasing the plate spacing of a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678240" y="5527800"/>
              <a:ext cx="70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ill decrease its capacitance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55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5"/>
          <p:cNvGrpSpPr/>
          <p:nvPr/>
        </p:nvGrpSpPr>
        <p:grpSpPr>
          <a:xfrm>
            <a:off x="185760" y="1148040"/>
            <a:ext cx="8622720" cy="1365840"/>
            <a:chOff x="185760" y="1148040"/>
            <a:chExt cx="8622720" cy="1365840"/>
          </a:xfrm>
        </p:grpSpPr>
        <p:grpSp>
          <p:nvGrpSpPr>
            <p:cNvPr id="246" name="Group 5"/>
            <p:cNvGrpSpPr/>
            <p:nvPr/>
          </p:nvGrpSpPr>
          <p:grpSpPr>
            <a:xfrm>
              <a:off x="185760" y="1148040"/>
              <a:ext cx="8622720" cy="1139040"/>
              <a:chOff x="185760" y="1148040"/>
              <a:chExt cx="8622720" cy="1139040"/>
            </a:xfrm>
          </p:grpSpPr>
          <p:sp>
            <p:nvSpPr>
              <p:cNvPr id="247" name="Text Box 3"/>
              <p:cNvSpPr/>
              <p:nvPr/>
            </p:nvSpPr>
            <p:spPr>
              <a:xfrm>
                <a:off x="185760" y="1148040"/>
                <a:ext cx="842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n electric field between the plates of a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4"/>
              <p:cNvSpPr/>
              <p:nvPr/>
            </p:nvSpPr>
            <p:spPr>
              <a:xfrm>
                <a:off x="407160" y="1644480"/>
                <a:ext cx="840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apacitor stresses the dielectric material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4"/>
            <p:cNvSpPr/>
            <p:nvPr/>
          </p:nvSpPr>
          <p:spPr>
            <a:xfrm>
              <a:off x="3276720" y="2145600"/>
              <a:ext cx="12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52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16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B6F39604-66D3-4BF2-B873-199B63D3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73160" y="85680"/>
            <a:ext cx="8734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lectric Field Of  A Charged Capacit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5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177840" y="2835360"/>
            <a:ext cx="5689440" cy="1371600"/>
            <a:chOff x="177840" y="2835360"/>
            <a:chExt cx="5689440" cy="1371600"/>
          </a:xfrm>
        </p:grpSpPr>
        <p:sp>
          <p:nvSpPr>
            <p:cNvPr id="253" name="Rectangle 5"/>
            <p:cNvSpPr/>
            <p:nvPr/>
          </p:nvSpPr>
          <p:spPr>
            <a:xfrm>
              <a:off x="2057040" y="2835360"/>
              <a:ext cx="381024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6"/>
            <p:cNvGrpSpPr/>
            <p:nvPr/>
          </p:nvGrpSpPr>
          <p:grpSpPr>
            <a:xfrm>
              <a:off x="177840" y="3001680"/>
              <a:ext cx="1877760" cy="947160"/>
              <a:chOff x="177840" y="3001680"/>
              <a:chExt cx="1877760" cy="947160"/>
            </a:xfrm>
          </p:grpSpPr>
          <p:sp>
            <p:nvSpPr>
              <p:cNvPr id="255" name="Text Box 7"/>
              <p:cNvSpPr/>
              <p:nvPr/>
            </p:nvSpPr>
            <p:spPr>
              <a:xfrm>
                <a:off x="177840" y="3001680"/>
                <a:ext cx="163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Dielectric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material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>
                <a:off x="1598400" y="3475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7"/>
          <p:cNvGrpSpPr/>
          <p:nvPr/>
        </p:nvGrpSpPr>
        <p:grpSpPr>
          <a:xfrm>
            <a:off x="5523840" y="5104440"/>
            <a:ext cx="3371040" cy="1450080"/>
            <a:chOff x="5523840" y="5104440"/>
            <a:chExt cx="3371040" cy="1450080"/>
          </a:xfrm>
        </p:grpSpPr>
        <p:grpSp>
          <p:nvGrpSpPr>
            <p:cNvPr id="258" name="Group 28"/>
            <p:cNvGrpSpPr/>
            <p:nvPr/>
          </p:nvGrpSpPr>
          <p:grpSpPr>
            <a:xfrm>
              <a:off x="6016680" y="5104440"/>
              <a:ext cx="2878200" cy="459720"/>
              <a:chOff x="6016680" y="5104440"/>
              <a:chExt cx="2878200" cy="459720"/>
            </a:xfrm>
          </p:grpSpPr>
          <p:sp>
            <p:nvSpPr>
              <p:cNvPr id="259" name="Text Box 29"/>
              <p:cNvSpPr/>
              <p:nvPr/>
            </p:nvSpPr>
            <p:spPr>
              <a:xfrm>
                <a:off x="6016680" y="5104440"/>
                <a:ext cx="28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The electric field (   )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0"/>
              <p:cNvSpPr/>
              <p:nvPr/>
            </p:nvSpPr>
            <p:spPr>
              <a:xfrm>
                <a:off x="8508960" y="5181840"/>
                <a:ext cx="0" cy="30456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Text Box 31"/>
            <p:cNvSpPr/>
            <p:nvPr/>
          </p:nvSpPr>
          <p:spPr>
            <a:xfrm>
              <a:off x="6452280" y="5378760"/>
              <a:ext cx="20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tresses the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dielectric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2"/>
            <p:cNvSpPr/>
            <p:nvPr/>
          </p:nvSpPr>
          <p:spPr>
            <a:xfrm>
              <a:off x="5523840" y="60948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material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33"/>
          <p:cNvGrpSpPr/>
          <p:nvPr/>
        </p:nvGrpSpPr>
        <p:grpSpPr>
          <a:xfrm>
            <a:off x="2133720" y="2759040"/>
            <a:ext cx="3657600" cy="1523880"/>
            <a:chOff x="2133720" y="2759040"/>
            <a:chExt cx="3657600" cy="1523880"/>
          </a:xfrm>
        </p:grpSpPr>
        <p:sp>
          <p:nvSpPr>
            <p:cNvPr id="264" name="Line 34"/>
            <p:cNvSpPr/>
            <p:nvPr/>
          </p:nvSpPr>
          <p:spPr>
            <a:xfrm>
              <a:off x="213372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35"/>
            <p:cNvSpPr/>
            <p:nvPr/>
          </p:nvSpPr>
          <p:spPr>
            <a:xfrm>
              <a:off x="243828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274320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304812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8"/>
            <p:cNvSpPr/>
            <p:nvPr/>
          </p:nvSpPr>
          <p:spPr>
            <a:xfrm>
              <a:off x="335268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39"/>
            <p:cNvSpPr/>
            <p:nvPr/>
          </p:nvSpPr>
          <p:spPr>
            <a:xfrm>
              <a:off x="365760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0"/>
            <p:cNvSpPr/>
            <p:nvPr/>
          </p:nvSpPr>
          <p:spPr>
            <a:xfrm>
              <a:off x="396252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1"/>
            <p:cNvSpPr/>
            <p:nvPr/>
          </p:nvSpPr>
          <p:spPr>
            <a:xfrm>
              <a:off x="426708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42"/>
            <p:cNvSpPr/>
            <p:nvPr/>
          </p:nvSpPr>
          <p:spPr>
            <a:xfrm>
              <a:off x="457200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>
              <a:off x="487692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4"/>
            <p:cNvSpPr/>
            <p:nvPr/>
          </p:nvSpPr>
          <p:spPr>
            <a:xfrm>
              <a:off x="518148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5"/>
            <p:cNvSpPr/>
            <p:nvPr/>
          </p:nvSpPr>
          <p:spPr>
            <a:xfrm>
              <a:off x="548640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6"/>
            <p:cNvSpPr/>
            <p:nvPr/>
          </p:nvSpPr>
          <p:spPr>
            <a:xfrm>
              <a:off x="5791320" y="2759040"/>
              <a:ext cx="0" cy="152388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7"/>
            <p:cNvSpPr/>
            <p:nvPr/>
          </p:nvSpPr>
          <p:spPr>
            <a:xfrm>
              <a:off x="304812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8"/>
            <p:cNvSpPr/>
            <p:nvPr/>
          </p:nvSpPr>
          <p:spPr>
            <a:xfrm>
              <a:off x="335268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49"/>
            <p:cNvSpPr/>
            <p:nvPr/>
          </p:nvSpPr>
          <p:spPr>
            <a:xfrm>
              <a:off x="365760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50"/>
            <p:cNvSpPr/>
            <p:nvPr/>
          </p:nvSpPr>
          <p:spPr>
            <a:xfrm>
              <a:off x="396252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51"/>
            <p:cNvSpPr/>
            <p:nvPr/>
          </p:nvSpPr>
          <p:spPr>
            <a:xfrm>
              <a:off x="426708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2"/>
            <p:cNvSpPr/>
            <p:nvPr/>
          </p:nvSpPr>
          <p:spPr>
            <a:xfrm>
              <a:off x="457200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53"/>
            <p:cNvSpPr/>
            <p:nvPr/>
          </p:nvSpPr>
          <p:spPr>
            <a:xfrm>
              <a:off x="487692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54"/>
            <p:cNvSpPr/>
            <p:nvPr/>
          </p:nvSpPr>
          <p:spPr>
            <a:xfrm>
              <a:off x="518148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55"/>
            <p:cNvSpPr/>
            <p:nvPr/>
          </p:nvSpPr>
          <p:spPr>
            <a:xfrm>
              <a:off x="548640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56"/>
            <p:cNvSpPr/>
            <p:nvPr/>
          </p:nvSpPr>
          <p:spPr>
            <a:xfrm>
              <a:off x="579132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57"/>
            <p:cNvSpPr/>
            <p:nvPr/>
          </p:nvSpPr>
          <p:spPr>
            <a:xfrm>
              <a:off x="213372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8"/>
            <p:cNvSpPr/>
            <p:nvPr/>
          </p:nvSpPr>
          <p:spPr>
            <a:xfrm>
              <a:off x="243828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59"/>
            <p:cNvSpPr/>
            <p:nvPr/>
          </p:nvSpPr>
          <p:spPr>
            <a:xfrm>
              <a:off x="2743200" y="3139920"/>
              <a:ext cx="0" cy="457200"/>
            </a:xfrm>
            <a:prstGeom prst="line">
              <a:avLst/>
            </a:prstGeom>
            <a:ln w="936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61"/>
          <p:cNvGrpSpPr/>
          <p:nvPr/>
        </p:nvGrpSpPr>
        <p:grpSpPr>
          <a:xfrm>
            <a:off x="606600" y="4083840"/>
            <a:ext cx="5260680" cy="2012040"/>
            <a:chOff x="606600" y="4083840"/>
            <a:chExt cx="5260680" cy="2012040"/>
          </a:xfrm>
        </p:grpSpPr>
        <p:sp>
          <p:nvSpPr>
            <p:cNvPr id="291" name="Rectangle 19"/>
            <p:cNvSpPr/>
            <p:nvPr/>
          </p:nvSpPr>
          <p:spPr>
            <a:xfrm>
              <a:off x="2057400" y="4190760"/>
              <a:ext cx="3809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0"/>
            <p:cNvSpPr/>
            <p:nvPr/>
          </p:nvSpPr>
          <p:spPr>
            <a:xfrm>
              <a:off x="3924360" y="4571640"/>
              <a:ext cx="76320" cy="1524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21"/>
            <p:cNvGrpSpPr/>
            <p:nvPr/>
          </p:nvGrpSpPr>
          <p:grpSpPr>
            <a:xfrm>
              <a:off x="2589480" y="5074200"/>
              <a:ext cx="1309320" cy="520560"/>
              <a:chOff x="2589480" y="5074200"/>
              <a:chExt cx="1309320" cy="520560"/>
            </a:xfrm>
          </p:grpSpPr>
          <p:sp>
            <p:nvSpPr>
              <p:cNvPr id="294" name="Text Box 22"/>
              <p:cNvSpPr/>
              <p:nvPr/>
            </p:nvSpPr>
            <p:spPr>
              <a:xfrm>
                <a:off x="2589480" y="5074200"/>
                <a:ext cx="95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Lead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23"/>
              <p:cNvSpPr/>
              <p:nvPr/>
            </p:nvSpPr>
            <p:spPr>
              <a:xfrm>
                <a:off x="3517920" y="5333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24"/>
            <p:cNvGrpSpPr/>
            <p:nvPr/>
          </p:nvGrpSpPr>
          <p:grpSpPr>
            <a:xfrm>
              <a:off x="606600" y="4083840"/>
              <a:ext cx="1461960" cy="520560"/>
              <a:chOff x="606600" y="4083840"/>
              <a:chExt cx="1461960" cy="520560"/>
            </a:xfrm>
          </p:grpSpPr>
          <p:sp>
            <p:nvSpPr>
              <p:cNvPr id="297" name="Text Box 25"/>
              <p:cNvSpPr/>
              <p:nvPr/>
            </p:nvSpPr>
            <p:spPr>
              <a:xfrm>
                <a:off x="606600" y="4083840"/>
                <a:ext cx="95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Plate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1535040" y="43434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2"/>
          <p:cNvGrpSpPr/>
          <p:nvPr/>
        </p:nvGrpSpPr>
        <p:grpSpPr>
          <a:xfrm>
            <a:off x="606600" y="990720"/>
            <a:ext cx="5260680" cy="1937520"/>
            <a:chOff x="606600" y="990720"/>
            <a:chExt cx="5260680" cy="1937520"/>
          </a:xfrm>
        </p:grpSpPr>
        <p:sp>
          <p:nvSpPr>
            <p:cNvPr id="300" name="Rectangle 10"/>
            <p:cNvSpPr/>
            <p:nvPr/>
          </p:nvSpPr>
          <p:spPr>
            <a:xfrm>
              <a:off x="2057400" y="2514600"/>
              <a:ext cx="380988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924360" y="990720"/>
              <a:ext cx="763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12"/>
            <p:cNvGrpSpPr/>
            <p:nvPr/>
          </p:nvGrpSpPr>
          <p:grpSpPr>
            <a:xfrm>
              <a:off x="2576880" y="1341000"/>
              <a:ext cx="1309320" cy="520560"/>
              <a:chOff x="2576880" y="1341000"/>
              <a:chExt cx="1309320" cy="52056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2576880" y="1341000"/>
                <a:ext cx="95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Lead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>
                <a:off x="3505320" y="1600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606600" y="2407680"/>
              <a:ext cx="1461960" cy="520560"/>
              <a:chOff x="606600" y="2407680"/>
              <a:chExt cx="1461960" cy="52056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606600" y="2407680"/>
                <a:ext cx="95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Plate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1535040" y="26672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Text Box 63"/>
          <p:cNvSpPr/>
          <p:nvPr/>
        </p:nvSpPr>
        <p:spPr>
          <a:xfrm>
            <a:off x="2116080" y="23914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+ + + + + + + + + + 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0"/>
          <p:cNvSpPr/>
          <p:nvPr/>
        </p:nvSpPr>
        <p:spPr>
          <a:xfrm>
            <a:off x="2165040" y="3961440"/>
            <a:ext cx="36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- - - - - - - - - 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4"/>
          <p:cNvSpPr/>
          <p:nvPr/>
        </p:nvSpPr>
        <p:spPr>
          <a:xfrm>
            <a:off x="5939280" y="930240"/>
            <a:ext cx="27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rst, constru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capacitor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note its part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5"/>
          <p:cNvSpPr/>
          <p:nvPr/>
        </p:nvSpPr>
        <p:spPr>
          <a:xfrm>
            <a:off x="5943600" y="2100960"/>
            <a:ext cx="301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ext, charge the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apacitor and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observe the electric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ield.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6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10F0B08A-1B7F-4883-8276-832FB7BE0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938880" y="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tressed Dielectric Materia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5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04"/>
          <p:cNvGrpSpPr/>
          <p:nvPr/>
        </p:nvGrpSpPr>
        <p:grpSpPr>
          <a:xfrm>
            <a:off x="576360" y="685080"/>
            <a:ext cx="7067520" cy="5290920"/>
            <a:chOff x="576360" y="685080"/>
            <a:chExt cx="7067520" cy="5290920"/>
          </a:xfrm>
        </p:grpSpPr>
        <p:grpSp>
          <p:nvGrpSpPr>
            <p:cNvPr id="315" name="Group 103"/>
            <p:cNvGrpSpPr/>
            <p:nvPr/>
          </p:nvGrpSpPr>
          <p:grpSpPr>
            <a:xfrm>
              <a:off x="2133720" y="1630440"/>
              <a:ext cx="5257800" cy="3809880"/>
              <a:chOff x="2133720" y="1630440"/>
              <a:chExt cx="5257800" cy="3809880"/>
            </a:xfrm>
          </p:grpSpPr>
          <p:sp>
            <p:nvSpPr>
              <p:cNvPr id="316" name="Line 15"/>
              <p:cNvSpPr/>
              <p:nvPr/>
            </p:nvSpPr>
            <p:spPr>
              <a:xfrm>
                <a:off x="213372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6"/>
              <p:cNvSpPr/>
              <p:nvPr/>
            </p:nvSpPr>
            <p:spPr>
              <a:xfrm>
                <a:off x="257184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7"/>
              <p:cNvSpPr/>
              <p:nvPr/>
            </p:nvSpPr>
            <p:spPr>
              <a:xfrm>
                <a:off x="300996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344808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388620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>
                <a:off x="432432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>
                <a:off x="476244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520056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23"/>
              <p:cNvSpPr/>
              <p:nvPr/>
            </p:nvSpPr>
            <p:spPr>
              <a:xfrm>
                <a:off x="563868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24"/>
              <p:cNvSpPr/>
              <p:nvPr/>
            </p:nvSpPr>
            <p:spPr>
              <a:xfrm>
                <a:off x="607680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651528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695340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>
                <a:off x="7391520" y="1630440"/>
                <a:ext cx="0" cy="380988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>
                <a:off x="344808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388620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30"/>
              <p:cNvSpPr/>
              <p:nvPr/>
            </p:nvSpPr>
            <p:spPr>
              <a:xfrm>
                <a:off x="432432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31"/>
              <p:cNvSpPr/>
              <p:nvPr/>
            </p:nvSpPr>
            <p:spPr>
              <a:xfrm>
                <a:off x="476244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520056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563868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>
                <a:off x="607680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>
                <a:off x="651528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695340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7"/>
              <p:cNvSpPr/>
              <p:nvPr/>
            </p:nvSpPr>
            <p:spPr>
              <a:xfrm>
                <a:off x="739152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38"/>
              <p:cNvSpPr/>
              <p:nvPr/>
            </p:nvSpPr>
            <p:spPr>
              <a:xfrm>
                <a:off x="213372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>
                <a:off x="257184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0"/>
              <p:cNvSpPr/>
              <p:nvPr/>
            </p:nvSpPr>
            <p:spPr>
              <a:xfrm>
                <a:off x="3009960" y="2583000"/>
                <a:ext cx="0" cy="1143000"/>
              </a:xfrm>
              <a:prstGeom prst="line">
                <a:avLst/>
              </a:prstGeom>
              <a:ln w="9360">
                <a:solidFill>
                  <a:srgbClr val="66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102"/>
            <p:cNvGrpSpPr/>
            <p:nvPr/>
          </p:nvGrpSpPr>
          <p:grpSpPr>
            <a:xfrm>
              <a:off x="576360" y="4830120"/>
              <a:ext cx="7067520" cy="1145880"/>
              <a:chOff x="576360" y="4830120"/>
              <a:chExt cx="7067520" cy="1145880"/>
            </a:xfrm>
          </p:grpSpPr>
          <p:grpSp>
            <p:nvGrpSpPr>
              <p:cNvPr id="343" name="Group 44"/>
              <p:cNvGrpSpPr/>
              <p:nvPr/>
            </p:nvGrpSpPr>
            <p:grpSpPr>
              <a:xfrm>
                <a:off x="3338640" y="5455440"/>
                <a:ext cx="1309320" cy="520560"/>
                <a:chOff x="3338640" y="5455440"/>
                <a:chExt cx="1309320" cy="520560"/>
              </a:xfrm>
            </p:grpSpPr>
            <p:sp>
              <p:nvSpPr>
                <p:cNvPr id="344" name="Text Box 45"/>
                <p:cNvSpPr/>
                <p:nvPr/>
              </p:nvSpPr>
              <p:spPr>
                <a:xfrm>
                  <a:off x="3338640" y="5455440"/>
                  <a:ext cx="95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Lead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46"/>
                <p:cNvSpPr/>
                <p:nvPr/>
              </p:nvSpPr>
              <p:spPr>
                <a:xfrm>
                  <a:off x="4267080" y="5714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Rectangle 42"/>
              <p:cNvSpPr/>
              <p:nvPr/>
            </p:nvSpPr>
            <p:spPr>
              <a:xfrm>
                <a:off x="1873080" y="5029200"/>
                <a:ext cx="5770800" cy="381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43"/>
              <p:cNvSpPr/>
              <p:nvPr/>
            </p:nvSpPr>
            <p:spPr>
              <a:xfrm>
                <a:off x="4643280" y="5410440"/>
                <a:ext cx="346320" cy="5331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Group 69"/>
              <p:cNvGrpSpPr/>
              <p:nvPr/>
            </p:nvGrpSpPr>
            <p:grpSpPr>
              <a:xfrm>
                <a:off x="576360" y="4998240"/>
                <a:ext cx="1298520" cy="520560"/>
                <a:chOff x="576360" y="4998240"/>
                <a:chExt cx="1298520" cy="520560"/>
              </a:xfrm>
            </p:grpSpPr>
            <p:sp>
              <p:nvSpPr>
                <p:cNvPr id="349" name="Text Box 48"/>
                <p:cNvSpPr/>
                <p:nvPr/>
              </p:nvSpPr>
              <p:spPr>
                <a:xfrm>
                  <a:off x="576360" y="4998240"/>
                  <a:ext cx="95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8000"/>
                      </a:solidFill>
                      <a:latin typeface="Times New Roman"/>
                    </a:rPr>
                    <a:t>Plate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49"/>
                <p:cNvSpPr/>
                <p:nvPr/>
              </p:nvSpPr>
              <p:spPr>
                <a:xfrm>
                  <a:off x="1600200" y="5257440"/>
                  <a:ext cx="27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Text Box 60"/>
              <p:cNvSpPr/>
              <p:nvPr/>
            </p:nvSpPr>
            <p:spPr>
              <a:xfrm>
                <a:off x="2025360" y="4830120"/>
                <a:ext cx="5415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-  -  -  -  -  -  -  -  -  -  -  -  -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01"/>
            <p:cNvGrpSpPr/>
            <p:nvPr/>
          </p:nvGrpSpPr>
          <p:grpSpPr>
            <a:xfrm>
              <a:off x="606600" y="685080"/>
              <a:ext cx="7016400" cy="1022760"/>
              <a:chOff x="606600" y="685080"/>
              <a:chExt cx="7016400" cy="1022760"/>
            </a:xfrm>
          </p:grpSpPr>
          <p:sp>
            <p:nvSpPr>
              <p:cNvPr id="353" name="Rectangle 52"/>
              <p:cNvSpPr/>
              <p:nvPr/>
            </p:nvSpPr>
            <p:spPr>
              <a:xfrm>
                <a:off x="4632480" y="716040"/>
                <a:ext cx="344160" cy="533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51"/>
              <p:cNvSpPr/>
              <p:nvPr/>
            </p:nvSpPr>
            <p:spPr>
              <a:xfrm>
                <a:off x="1871640" y="1249560"/>
                <a:ext cx="575136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79640" y="1126440"/>
                <a:ext cx="562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3300"/>
                    </a:solidFill>
                    <a:latin typeface="Times New Roman"/>
                  </a:rPr>
                  <a:t>+  +  +  +  +  +  +  +  +  +  +  +  +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Group 70"/>
              <p:cNvGrpSpPr/>
              <p:nvPr/>
            </p:nvGrpSpPr>
            <p:grpSpPr>
              <a:xfrm>
                <a:off x="606600" y="1142280"/>
                <a:ext cx="1298520" cy="520560"/>
                <a:chOff x="606600" y="1142280"/>
                <a:chExt cx="1298520" cy="520560"/>
              </a:xfrm>
            </p:grpSpPr>
            <p:sp>
              <p:nvSpPr>
                <p:cNvPr id="357" name="Text Box 71"/>
                <p:cNvSpPr/>
                <p:nvPr/>
              </p:nvSpPr>
              <p:spPr>
                <a:xfrm>
                  <a:off x="606600" y="1142280"/>
                  <a:ext cx="95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8000"/>
                      </a:solidFill>
                      <a:latin typeface="Times New Roman"/>
                    </a:rPr>
                    <a:t>Plate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72"/>
                <p:cNvSpPr/>
                <p:nvPr/>
              </p:nvSpPr>
              <p:spPr>
                <a:xfrm>
                  <a:off x="1630440" y="1401480"/>
                  <a:ext cx="27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73"/>
              <p:cNvGrpSpPr/>
              <p:nvPr/>
            </p:nvGrpSpPr>
            <p:grpSpPr>
              <a:xfrm>
                <a:off x="3349800" y="685080"/>
                <a:ext cx="1311120" cy="520560"/>
                <a:chOff x="3349800" y="685080"/>
                <a:chExt cx="1311120" cy="520560"/>
              </a:xfrm>
            </p:grpSpPr>
            <p:sp>
              <p:nvSpPr>
                <p:cNvPr id="360" name="Text Box 74"/>
                <p:cNvSpPr/>
                <p:nvPr/>
              </p:nvSpPr>
              <p:spPr>
                <a:xfrm>
                  <a:off x="3349800" y="685080"/>
                  <a:ext cx="95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Lead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75"/>
                <p:cNvSpPr/>
                <p:nvPr/>
              </p:nvSpPr>
              <p:spPr>
                <a:xfrm>
                  <a:off x="4280040" y="944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Group 100"/>
            <p:cNvGrpSpPr/>
            <p:nvPr/>
          </p:nvGrpSpPr>
          <p:grpSpPr>
            <a:xfrm>
              <a:off x="2209680" y="1706760"/>
              <a:ext cx="1524240" cy="2666880"/>
              <a:chOff x="2209680" y="1706760"/>
              <a:chExt cx="1524240" cy="2666880"/>
            </a:xfrm>
          </p:grpSpPr>
          <p:sp>
            <p:nvSpPr>
              <p:cNvPr id="363" name="Oval 78"/>
              <p:cNvSpPr/>
              <p:nvPr/>
            </p:nvSpPr>
            <p:spPr>
              <a:xfrm>
                <a:off x="2209680" y="1928880"/>
                <a:ext cx="1524240" cy="2444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79"/>
              <p:cNvSpPr/>
              <p:nvPr/>
            </p:nvSpPr>
            <p:spPr>
              <a:xfrm>
                <a:off x="2819520" y="3929040"/>
                <a:ext cx="304560" cy="2970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80"/>
              <p:cNvSpPr/>
              <p:nvPr/>
            </p:nvSpPr>
            <p:spPr>
              <a:xfrm>
                <a:off x="2743200" y="1706760"/>
                <a:ext cx="533520" cy="519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99"/>
            <p:cNvGrpSpPr/>
            <p:nvPr/>
          </p:nvGrpSpPr>
          <p:grpSpPr>
            <a:xfrm>
              <a:off x="3352680" y="2163960"/>
              <a:ext cx="1524240" cy="2743200"/>
              <a:chOff x="3352680" y="2163960"/>
              <a:chExt cx="1524240" cy="2743200"/>
            </a:xfrm>
          </p:grpSpPr>
          <p:sp>
            <p:nvSpPr>
              <p:cNvPr id="367" name="Oval 83"/>
              <p:cNvSpPr/>
              <p:nvPr/>
            </p:nvSpPr>
            <p:spPr>
              <a:xfrm>
                <a:off x="3352680" y="2392560"/>
                <a:ext cx="1524240" cy="2514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84"/>
              <p:cNvSpPr/>
              <p:nvPr/>
            </p:nvSpPr>
            <p:spPr>
              <a:xfrm>
                <a:off x="3962520" y="4449960"/>
                <a:ext cx="304560" cy="3045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85"/>
              <p:cNvSpPr/>
              <p:nvPr/>
            </p:nvSpPr>
            <p:spPr>
              <a:xfrm>
                <a:off x="3886200" y="2163960"/>
                <a:ext cx="533520" cy="533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98"/>
            <p:cNvGrpSpPr/>
            <p:nvPr/>
          </p:nvGrpSpPr>
          <p:grpSpPr>
            <a:xfrm>
              <a:off x="4572000" y="1782720"/>
              <a:ext cx="1523880" cy="2743200"/>
              <a:chOff x="4572000" y="1782720"/>
              <a:chExt cx="1523880" cy="2743200"/>
            </a:xfrm>
          </p:grpSpPr>
          <p:sp>
            <p:nvSpPr>
              <p:cNvPr id="371" name="Oval 87"/>
              <p:cNvSpPr/>
              <p:nvPr/>
            </p:nvSpPr>
            <p:spPr>
              <a:xfrm>
                <a:off x="4572000" y="2011320"/>
                <a:ext cx="1523880" cy="2514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88"/>
              <p:cNvSpPr/>
              <p:nvPr/>
            </p:nvSpPr>
            <p:spPr>
              <a:xfrm>
                <a:off x="5181480" y="4068720"/>
                <a:ext cx="304920" cy="3049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89"/>
              <p:cNvSpPr/>
              <p:nvPr/>
            </p:nvSpPr>
            <p:spPr>
              <a:xfrm>
                <a:off x="5105520" y="1782720"/>
                <a:ext cx="533160" cy="53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97"/>
            <p:cNvGrpSpPr/>
            <p:nvPr/>
          </p:nvGrpSpPr>
          <p:grpSpPr>
            <a:xfrm>
              <a:off x="5791320" y="2087640"/>
              <a:ext cx="1523880" cy="2743200"/>
              <a:chOff x="5791320" y="2087640"/>
              <a:chExt cx="1523880" cy="2743200"/>
            </a:xfrm>
          </p:grpSpPr>
          <p:sp>
            <p:nvSpPr>
              <p:cNvPr id="375" name="Oval 91"/>
              <p:cNvSpPr/>
              <p:nvPr/>
            </p:nvSpPr>
            <p:spPr>
              <a:xfrm>
                <a:off x="5791320" y="2316240"/>
                <a:ext cx="1523880" cy="2514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92"/>
              <p:cNvSpPr/>
              <p:nvPr/>
            </p:nvSpPr>
            <p:spPr>
              <a:xfrm>
                <a:off x="6400800" y="4373640"/>
                <a:ext cx="304920" cy="3049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93"/>
              <p:cNvSpPr/>
              <p:nvPr/>
            </p:nvSpPr>
            <p:spPr>
              <a:xfrm>
                <a:off x="6324480" y="2087640"/>
                <a:ext cx="533520" cy="53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Text Box 94"/>
          <p:cNvSpPr/>
          <p:nvPr/>
        </p:nvSpPr>
        <p:spPr>
          <a:xfrm>
            <a:off x="23400" y="5942520"/>
            <a:ext cx="90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distorted orbital paths increase the energy level of the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5"/>
          <p:cNvSpPr/>
          <p:nvPr/>
        </p:nvSpPr>
        <p:spPr>
          <a:xfrm>
            <a:off x="403920" y="6323400"/>
            <a:ext cx="82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capacitor stores energy in its distorted dielectric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6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9F8BBAAA-7185-44F8-A6EC-D7010437F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35"/>
          <p:cNvGrpSpPr/>
          <p:nvPr/>
        </p:nvGrpSpPr>
        <p:grpSpPr>
          <a:xfrm>
            <a:off x="609480" y="990720"/>
            <a:ext cx="1828800" cy="1143000"/>
            <a:chOff x="609480" y="990720"/>
            <a:chExt cx="1828800" cy="1143000"/>
          </a:xfrm>
        </p:grpSpPr>
        <p:sp>
          <p:nvSpPr>
            <p:cNvPr id="382" name="Line 23"/>
            <p:cNvSpPr/>
            <p:nvPr/>
          </p:nvSpPr>
          <p:spPr>
            <a:xfrm>
              <a:off x="1523880" y="175284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609480" y="1295640"/>
              <a:ext cx="1828800" cy="53352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19"/>
            <p:cNvSpPr/>
            <p:nvPr/>
          </p:nvSpPr>
          <p:spPr>
            <a:xfrm>
              <a:off x="609480" y="1143360"/>
              <a:ext cx="1828800" cy="53316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1523880" y="99072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6"/>
          <p:cNvGrpSpPr/>
          <p:nvPr/>
        </p:nvGrpSpPr>
        <p:grpSpPr>
          <a:xfrm>
            <a:off x="609480" y="3200400"/>
            <a:ext cx="1828800" cy="1143000"/>
            <a:chOff x="609480" y="3200400"/>
            <a:chExt cx="1828800" cy="1143000"/>
          </a:xfrm>
        </p:grpSpPr>
        <p:sp>
          <p:nvSpPr>
            <p:cNvPr id="387" name="Line 27"/>
            <p:cNvSpPr/>
            <p:nvPr/>
          </p:nvSpPr>
          <p:spPr>
            <a:xfrm>
              <a:off x="1523880" y="396252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8"/>
            <p:cNvSpPr/>
            <p:nvPr/>
          </p:nvSpPr>
          <p:spPr>
            <a:xfrm>
              <a:off x="609480" y="3505320"/>
              <a:ext cx="1828800" cy="53352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9"/>
            <p:cNvSpPr/>
            <p:nvPr/>
          </p:nvSpPr>
          <p:spPr>
            <a:xfrm>
              <a:off x="609480" y="3353040"/>
              <a:ext cx="1828800" cy="53316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30"/>
            <p:cNvSpPr/>
            <p:nvPr/>
          </p:nvSpPr>
          <p:spPr>
            <a:xfrm>
              <a:off x="1523880" y="320040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34"/>
          <p:cNvGrpSpPr/>
          <p:nvPr/>
        </p:nvGrpSpPr>
        <p:grpSpPr>
          <a:xfrm>
            <a:off x="6019920" y="914400"/>
            <a:ext cx="2514600" cy="1218960"/>
            <a:chOff x="6019920" y="914400"/>
            <a:chExt cx="2514600" cy="1218960"/>
          </a:xfrm>
        </p:grpSpPr>
        <p:sp>
          <p:nvSpPr>
            <p:cNvPr id="392" name="Line 33"/>
            <p:cNvSpPr/>
            <p:nvPr/>
          </p:nvSpPr>
          <p:spPr>
            <a:xfrm>
              <a:off x="7315200" y="175248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AutoShape 32"/>
            <p:cNvSpPr/>
            <p:nvPr/>
          </p:nvSpPr>
          <p:spPr>
            <a:xfrm>
              <a:off x="6019920" y="1218960"/>
              <a:ext cx="2514600" cy="609840"/>
            </a:xfrm>
            <a:prstGeom prst="cube">
              <a:avLst>
                <a:gd name="adj" fmla="val 9192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AutoShape 25"/>
            <p:cNvSpPr/>
            <p:nvPr/>
          </p:nvSpPr>
          <p:spPr>
            <a:xfrm>
              <a:off x="6019920" y="1066680"/>
              <a:ext cx="2514600" cy="609480"/>
            </a:xfrm>
            <a:prstGeom prst="cube">
              <a:avLst>
                <a:gd name="adj" fmla="val 9192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>
              <a:off x="7315200" y="9144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52"/>
          <p:cNvGrpSpPr/>
          <p:nvPr/>
        </p:nvGrpSpPr>
        <p:grpSpPr>
          <a:xfrm>
            <a:off x="6477120" y="2971800"/>
            <a:ext cx="1828800" cy="1371600"/>
            <a:chOff x="6477120" y="2971800"/>
            <a:chExt cx="1828800" cy="1371600"/>
          </a:xfrm>
        </p:grpSpPr>
        <p:sp>
          <p:nvSpPr>
            <p:cNvPr id="397" name="Line 42"/>
            <p:cNvSpPr/>
            <p:nvPr/>
          </p:nvSpPr>
          <p:spPr>
            <a:xfrm>
              <a:off x="7391520" y="396252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43"/>
            <p:cNvSpPr/>
            <p:nvPr/>
          </p:nvSpPr>
          <p:spPr>
            <a:xfrm>
              <a:off x="6477120" y="3505320"/>
              <a:ext cx="1828800" cy="53352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AutoShape 44"/>
            <p:cNvSpPr/>
            <p:nvPr/>
          </p:nvSpPr>
          <p:spPr>
            <a:xfrm>
              <a:off x="6477120" y="3124440"/>
              <a:ext cx="1828800" cy="53316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45"/>
            <p:cNvSpPr/>
            <p:nvPr/>
          </p:nvSpPr>
          <p:spPr>
            <a:xfrm>
              <a:off x="7391520" y="297180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64"/>
          <p:cNvGrpSpPr/>
          <p:nvPr/>
        </p:nvGrpSpPr>
        <p:grpSpPr>
          <a:xfrm>
            <a:off x="685800" y="5181480"/>
            <a:ext cx="1828800" cy="1371600"/>
            <a:chOff x="685800" y="5181480"/>
            <a:chExt cx="1828800" cy="1371600"/>
          </a:xfrm>
        </p:grpSpPr>
        <p:sp>
          <p:nvSpPr>
            <p:cNvPr id="402" name="Line 54"/>
            <p:cNvSpPr/>
            <p:nvPr/>
          </p:nvSpPr>
          <p:spPr>
            <a:xfrm>
              <a:off x="1600200" y="61722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AutoShape 55"/>
            <p:cNvSpPr/>
            <p:nvPr/>
          </p:nvSpPr>
          <p:spPr>
            <a:xfrm>
              <a:off x="685800" y="5715000"/>
              <a:ext cx="1828800" cy="53316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56"/>
            <p:cNvSpPr/>
            <p:nvPr/>
          </p:nvSpPr>
          <p:spPr>
            <a:xfrm>
              <a:off x="685800" y="5333760"/>
              <a:ext cx="1828800" cy="53352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57"/>
            <p:cNvSpPr/>
            <p:nvPr/>
          </p:nvSpPr>
          <p:spPr>
            <a:xfrm>
              <a:off x="1600200" y="518148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66"/>
          <p:cNvGrpSpPr/>
          <p:nvPr/>
        </p:nvGrpSpPr>
        <p:grpSpPr>
          <a:xfrm>
            <a:off x="6553080" y="5181480"/>
            <a:ext cx="1981440" cy="1447560"/>
            <a:chOff x="6553080" y="5181480"/>
            <a:chExt cx="1981440" cy="1447560"/>
          </a:xfrm>
        </p:grpSpPr>
        <p:sp>
          <p:nvSpPr>
            <p:cNvPr id="407" name="Line 59"/>
            <p:cNvSpPr/>
            <p:nvPr/>
          </p:nvSpPr>
          <p:spPr>
            <a:xfrm>
              <a:off x="7467480" y="624816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60"/>
            <p:cNvSpPr/>
            <p:nvPr/>
          </p:nvSpPr>
          <p:spPr>
            <a:xfrm>
              <a:off x="6553080" y="5790960"/>
              <a:ext cx="1828800" cy="53352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AutoShape 63"/>
            <p:cNvSpPr/>
            <p:nvPr/>
          </p:nvSpPr>
          <p:spPr>
            <a:xfrm>
              <a:off x="6553080" y="5410080"/>
              <a:ext cx="1905120" cy="838080"/>
            </a:xfrm>
            <a:prstGeom prst="cube">
              <a:avLst>
                <a:gd name="adj" fmla="val 6756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61"/>
            <p:cNvSpPr/>
            <p:nvPr/>
          </p:nvSpPr>
          <p:spPr>
            <a:xfrm>
              <a:off x="6553080" y="5410080"/>
              <a:ext cx="1828800" cy="533160"/>
            </a:xfrm>
            <a:prstGeom prst="cube">
              <a:avLst>
                <a:gd name="adj" fmla="val 9166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62"/>
            <p:cNvSpPr/>
            <p:nvPr/>
          </p:nvSpPr>
          <p:spPr>
            <a:xfrm>
              <a:off x="7467480" y="525744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65"/>
            <p:cNvSpPr/>
            <p:nvPr/>
          </p:nvSpPr>
          <p:spPr>
            <a:xfrm>
              <a:off x="8381880" y="5181480"/>
              <a:ext cx="1526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Text Box 68"/>
          <p:cNvSpPr/>
          <p:nvPr/>
        </p:nvSpPr>
        <p:spPr>
          <a:xfrm>
            <a:off x="3443040" y="98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late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73"/>
          <p:cNvGrpSpPr/>
          <p:nvPr/>
        </p:nvGrpSpPr>
        <p:grpSpPr>
          <a:xfrm>
            <a:off x="3029760" y="1294200"/>
            <a:ext cx="2494080" cy="610920"/>
            <a:chOff x="3029760" y="1294200"/>
            <a:chExt cx="2494080" cy="610920"/>
          </a:xfrm>
        </p:grpSpPr>
        <p:sp>
          <p:nvSpPr>
            <p:cNvPr id="415" name="Text Box 69"/>
            <p:cNvSpPr/>
            <p:nvPr/>
          </p:nvSpPr>
          <p:spPr>
            <a:xfrm>
              <a:off x="3029760" y="129420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More capacitanc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70"/>
            <p:cNvSpPr/>
            <p:nvPr/>
          </p:nvSpPr>
          <p:spPr>
            <a:xfrm>
              <a:off x="3200400" y="1905120"/>
              <a:ext cx="2286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Text Box 72"/>
          <p:cNvSpPr/>
          <p:nvPr/>
        </p:nvSpPr>
        <p:spPr>
          <a:xfrm>
            <a:off x="3229560" y="33516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pacing of pl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76"/>
          <p:cNvGrpSpPr/>
          <p:nvPr/>
        </p:nvGrpSpPr>
        <p:grpSpPr>
          <a:xfrm>
            <a:off x="3265920" y="3732840"/>
            <a:ext cx="2372760" cy="610560"/>
            <a:chOff x="3265920" y="3732840"/>
            <a:chExt cx="2372760" cy="610560"/>
          </a:xfrm>
        </p:grpSpPr>
        <p:sp>
          <p:nvSpPr>
            <p:cNvPr id="419" name="Line 74"/>
            <p:cNvSpPr/>
            <p:nvPr/>
          </p:nvSpPr>
          <p:spPr>
            <a:xfrm>
              <a:off x="3352680" y="4343400"/>
              <a:ext cx="2286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75"/>
            <p:cNvSpPr/>
            <p:nvPr/>
          </p:nvSpPr>
          <p:spPr>
            <a:xfrm>
              <a:off x="3265920" y="3732840"/>
              <a:ext cx="23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Less capacitanc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77"/>
          <p:cNvSpPr/>
          <p:nvPr/>
        </p:nvSpPr>
        <p:spPr>
          <a:xfrm>
            <a:off x="3349080" y="54090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ielectric mater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85"/>
          <p:cNvGrpSpPr/>
          <p:nvPr/>
        </p:nvGrpSpPr>
        <p:grpSpPr>
          <a:xfrm>
            <a:off x="3351960" y="5790240"/>
            <a:ext cx="2494080" cy="534240"/>
            <a:chOff x="3351960" y="5790240"/>
            <a:chExt cx="2494080" cy="534240"/>
          </a:xfrm>
        </p:grpSpPr>
        <p:sp>
          <p:nvSpPr>
            <p:cNvPr id="423" name="Text Box 78"/>
            <p:cNvSpPr/>
            <p:nvPr/>
          </p:nvSpPr>
          <p:spPr>
            <a:xfrm>
              <a:off x="3351960" y="579024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More capacitanc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79"/>
            <p:cNvSpPr/>
            <p:nvPr/>
          </p:nvSpPr>
          <p:spPr>
            <a:xfrm>
              <a:off x="3505320" y="6324480"/>
              <a:ext cx="2286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86"/>
          <p:cNvGrpSpPr/>
          <p:nvPr/>
        </p:nvGrpSpPr>
        <p:grpSpPr>
          <a:xfrm>
            <a:off x="2362320" y="5150880"/>
            <a:ext cx="1023120" cy="520560"/>
            <a:chOff x="2362320" y="5150880"/>
            <a:chExt cx="1023120" cy="520560"/>
          </a:xfrm>
        </p:grpSpPr>
        <p:sp>
          <p:nvSpPr>
            <p:cNvPr id="426" name="Text Box 80"/>
            <p:cNvSpPr/>
            <p:nvPr/>
          </p:nvSpPr>
          <p:spPr>
            <a:xfrm>
              <a:off x="2692800" y="51508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Ai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82"/>
            <p:cNvSpPr/>
            <p:nvPr/>
          </p:nvSpPr>
          <p:spPr>
            <a:xfrm flipH="1">
              <a:off x="2362320" y="5410080"/>
              <a:ext cx="380880" cy="22860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87"/>
          <p:cNvGrpSpPr/>
          <p:nvPr/>
        </p:nvGrpSpPr>
        <p:grpSpPr>
          <a:xfrm>
            <a:off x="7579800" y="4922280"/>
            <a:ext cx="1183320" cy="640440"/>
            <a:chOff x="7579800" y="4922280"/>
            <a:chExt cx="1183320" cy="640440"/>
          </a:xfrm>
        </p:grpSpPr>
        <p:sp>
          <p:nvSpPr>
            <p:cNvPr id="429" name="Text Box 81"/>
            <p:cNvSpPr/>
            <p:nvPr/>
          </p:nvSpPr>
          <p:spPr>
            <a:xfrm>
              <a:off x="7579800" y="492228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Mic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83"/>
            <p:cNvSpPr/>
            <p:nvPr/>
          </p:nvSpPr>
          <p:spPr>
            <a:xfrm>
              <a:off x="8458200" y="5181480"/>
              <a:ext cx="30492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84"/>
            <p:cNvSpPr/>
            <p:nvPr/>
          </p:nvSpPr>
          <p:spPr>
            <a:xfrm flipH="1">
              <a:off x="8381520" y="5181480"/>
              <a:ext cx="381240" cy="38124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54"/>
          <p:cNvGrpSpPr/>
          <p:nvPr/>
        </p:nvGrpSpPr>
        <p:grpSpPr>
          <a:xfrm>
            <a:off x="352800" y="56880"/>
            <a:ext cx="8687520" cy="856440"/>
            <a:chOff x="352800" y="56880"/>
            <a:chExt cx="8687520" cy="856440"/>
          </a:xfrm>
        </p:grpSpPr>
        <p:sp>
          <p:nvSpPr>
            <p:cNvPr id="433" name="Text Box 67"/>
            <p:cNvSpPr/>
            <p:nvPr/>
          </p:nvSpPr>
          <p:spPr>
            <a:xfrm>
              <a:off x="352800" y="56880"/>
              <a:ext cx="86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Physical Factors Affecting Capacitance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53"/>
            <p:cNvSpPr/>
            <p:nvPr/>
          </p:nvSpPr>
          <p:spPr>
            <a:xfrm>
              <a:off x="3739320" y="545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(Page 255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Slide Number Placeholder 55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E99E48E-C09D-478E-BA82-4047A4AD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2080800" y="135720"/>
            <a:ext cx="496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apacitor-Value Quiz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76440" y="1157400"/>
            <a:ext cx="45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harged capacitor produc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(n) ____ ____ between its pl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674280" y="236124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harged capacitor stores energy in its ____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674640" y="311472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arging a capacitor increases the ener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 of the ____ in the dielectr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673920" y="43758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ing the plate area ____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76080" y="5272200"/>
            <a:ext cx="48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ing the distance betwee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tes _____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1"/>
          <p:cNvSpPr/>
          <p:nvPr/>
        </p:nvSpPr>
        <p:spPr>
          <a:xfrm>
            <a:off x="6972480" y="1157400"/>
            <a:ext cx="178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lectric fie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973560" y="2284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ielect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3"/>
          <p:cNvSpPr/>
          <p:nvPr/>
        </p:nvSpPr>
        <p:spPr>
          <a:xfrm>
            <a:off x="6975360" y="309276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lectr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4"/>
          <p:cNvSpPr/>
          <p:nvPr/>
        </p:nvSpPr>
        <p:spPr>
          <a:xfrm>
            <a:off x="6975720" y="4356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76080" y="525636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1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6C42EC1A-4AAF-48E1-B1D8-F00EC6B4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232200" y="1065960"/>
            <a:ext cx="8509680" cy="1083960"/>
            <a:chOff x="232200" y="1065960"/>
            <a:chExt cx="8509680" cy="1083960"/>
          </a:xfrm>
        </p:grpSpPr>
        <p:sp>
          <p:nvSpPr>
            <p:cNvPr id="452" name="Text Box 6"/>
            <p:cNvSpPr/>
            <p:nvPr/>
          </p:nvSpPr>
          <p:spPr>
            <a:xfrm>
              <a:off x="232200" y="1065960"/>
              <a:ext cx="81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 electric field between the plates of a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7"/>
            <p:cNvSpPr/>
            <p:nvPr/>
          </p:nvSpPr>
          <p:spPr>
            <a:xfrm>
              <a:off x="630360" y="1507320"/>
              <a:ext cx="81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pacitor stresses the dielectric material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8"/>
          <p:cNvGrpSpPr/>
          <p:nvPr/>
        </p:nvGrpSpPr>
        <p:grpSpPr>
          <a:xfrm>
            <a:off x="231840" y="2161440"/>
            <a:ext cx="7716600" cy="1115640"/>
            <a:chOff x="231840" y="2161440"/>
            <a:chExt cx="7716600" cy="1115640"/>
          </a:xfrm>
        </p:grpSpPr>
        <p:sp>
          <p:nvSpPr>
            <p:cNvPr id="455" name="Text Box 9"/>
            <p:cNvSpPr/>
            <p:nvPr/>
          </p:nvSpPr>
          <p:spPr>
            <a:xfrm>
              <a:off x="231840" y="2161440"/>
              <a:ext cx="771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harged capacitor stores energy in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720" y="2634480"/>
              <a:ext cx="629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distorted dielectric material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11"/>
          <p:cNvGrpSpPr/>
          <p:nvPr/>
        </p:nvGrpSpPr>
        <p:grpSpPr>
          <a:xfrm>
            <a:off x="192240" y="3380760"/>
            <a:ext cx="8186040" cy="1115280"/>
            <a:chOff x="192240" y="3380760"/>
            <a:chExt cx="8186040" cy="1115280"/>
          </a:xfrm>
        </p:grpSpPr>
        <p:sp>
          <p:nvSpPr>
            <p:cNvPr id="458" name="Text Box 12"/>
            <p:cNvSpPr/>
            <p:nvPr/>
          </p:nvSpPr>
          <p:spPr>
            <a:xfrm>
              <a:off x="192240" y="3380760"/>
              <a:ext cx="81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creasing the plate area of a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13"/>
            <p:cNvSpPr/>
            <p:nvPr/>
          </p:nvSpPr>
          <p:spPr>
            <a:xfrm>
              <a:off x="709920" y="3853440"/>
              <a:ext cx="568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ill increase its capacitanc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4"/>
          <p:cNvGrpSpPr/>
          <p:nvPr/>
        </p:nvGrpSpPr>
        <p:grpSpPr>
          <a:xfrm>
            <a:off x="191520" y="4539600"/>
            <a:ext cx="8797320" cy="1099800"/>
            <a:chOff x="191520" y="4539600"/>
            <a:chExt cx="8797320" cy="1099800"/>
          </a:xfrm>
        </p:grpSpPr>
        <p:sp>
          <p:nvSpPr>
            <p:cNvPr id="461" name="Text Box 15"/>
            <p:cNvSpPr/>
            <p:nvPr/>
          </p:nvSpPr>
          <p:spPr>
            <a:xfrm>
              <a:off x="191520" y="4539600"/>
              <a:ext cx="879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creasing the plate spacing of a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6"/>
            <p:cNvSpPr/>
            <p:nvPr/>
          </p:nvSpPr>
          <p:spPr>
            <a:xfrm>
              <a:off x="649800" y="4996800"/>
              <a:ext cx="57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ill decrease its capacitanc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Slide Number Placeholder 16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AA75035C-EABE-43A7-9C32-5C81817C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7"/>
          <p:cNvGrpSpPr/>
          <p:nvPr/>
        </p:nvGrpSpPr>
        <p:grpSpPr>
          <a:xfrm>
            <a:off x="496080" y="942120"/>
            <a:ext cx="7120800" cy="1083240"/>
            <a:chOff x="496080" y="942120"/>
            <a:chExt cx="7120800" cy="1083240"/>
          </a:xfrm>
        </p:grpSpPr>
        <p:sp>
          <p:nvSpPr>
            <p:cNvPr id="466" name="Text Box 3"/>
            <p:cNvSpPr/>
            <p:nvPr/>
          </p:nvSpPr>
          <p:spPr>
            <a:xfrm>
              <a:off x="496080" y="942120"/>
              <a:ext cx="71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filter capacitor can smooth out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4"/>
            <p:cNvSpPr/>
            <p:nvPr/>
          </p:nvSpPr>
          <p:spPr>
            <a:xfrm>
              <a:off x="973440" y="1382760"/>
              <a:ext cx="619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ulsating direct current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60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471240" y="3656880"/>
            <a:ext cx="8047440" cy="1114920"/>
            <a:chOff x="471240" y="3656880"/>
            <a:chExt cx="8047440" cy="1114920"/>
          </a:xfrm>
        </p:grpSpPr>
        <p:sp>
          <p:nvSpPr>
            <p:cNvPr id="469" name="Text Box 9"/>
            <p:cNvSpPr/>
            <p:nvPr/>
          </p:nvSpPr>
          <p:spPr>
            <a:xfrm>
              <a:off x="471240" y="3656880"/>
              <a:ext cx="804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s a capacitor charges, it takes energ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939600" y="4129200"/>
              <a:ext cx="46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the source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66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17"/>
          <p:cNvGrpSpPr/>
          <p:nvPr/>
        </p:nvGrpSpPr>
        <p:grpSpPr>
          <a:xfrm>
            <a:off x="519840" y="4876200"/>
            <a:ext cx="7591680" cy="1114920"/>
            <a:chOff x="519840" y="4876200"/>
            <a:chExt cx="7591680" cy="1114920"/>
          </a:xfrm>
        </p:grpSpPr>
        <p:sp>
          <p:nvSpPr>
            <p:cNvPr id="472" name="Text Box 14"/>
            <p:cNvSpPr/>
            <p:nvPr/>
          </p:nvSpPr>
          <p:spPr>
            <a:xfrm>
              <a:off x="519840" y="4876200"/>
              <a:ext cx="74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s a capacitor discharges, it retur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15"/>
            <p:cNvSpPr/>
            <p:nvPr/>
          </p:nvSpPr>
          <p:spPr>
            <a:xfrm>
              <a:off x="850320" y="5348520"/>
              <a:ext cx="72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stored energy to the source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67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15"/>
          <p:cNvGrpSpPr/>
          <p:nvPr/>
        </p:nvGrpSpPr>
        <p:grpSpPr>
          <a:xfrm>
            <a:off x="471600" y="2133360"/>
            <a:ext cx="7869240" cy="1359720"/>
            <a:chOff x="471600" y="2133360"/>
            <a:chExt cx="7869240" cy="1359720"/>
          </a:xfrm>
        </p:grpSpPr>
        <p:grpSp>
          <p:nvGrpSpPr>
            <p:cNvPr id="475" name="Group 8"/>
            <p:cNvGrpSpPr/>
            <p:nvPr/>
          </p:nvGrpSpPr>
          <p:grpSpPr>
            <a:xfrm>
              <a:off x="471600" y="2133360"/>
              <a:ext cx="7869240" cy="1115640"/>
              <a:chOff x="471600" y="2133360"/>
              <a:chExt cx="7869240" cy="1115640"/>
            </a:xfrm>
          </p:grpSpPr>
          <p:sp>
            <p:nvSpPr>
              <p:cNvPr id="476" name="Text Box 5"/>
              <p:cNvSpPr/>
              <p:nvPr/>
            </p:nvSpPr>
            <p:spPr>
              <a:xfrm>
                <a:off x="471600" y="2133360"/>
                <a:ext cx="786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fter five time constants, a capacitor 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6"/>
              <p:cNvSpPr/>
              <p:nvPr/>
            </p:nvSpPr>
            <p:spPr>
              <a:xfrm>
                <a:off x="950400" y="2606400"/>
                <a:ext cx="720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s essentially charged or discharged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Rectangle 14"/>
            <p:cNvSpPr/>
            <p:nvPr/>
          </p:nvSpPr>
          <p:spPr>
            <a:xfrm>
              <a:off x="3284640" y="312480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64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Slide Number Placeholder 16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EB796CE3-6D01-40D3-A5F2-963DAFF3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3"/>
          <p:cNvSpPr/>
          <p:nvPr/>
        </p:nvSpPr>
        <p:spPr>
          <a:xfrm>
            <a:off x="2254320" y="321408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lsating dc before filte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220200" y="610956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fter filte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17"/>
          <p:cNvSpPr/>
          <p:nvPr/>
        </p:nvSpPr>
        <p:spPr>
          <a:xfrm flipH="1">
            <a:off x="1295280" y="1568520"/>
            <a:ext cx="1527120" cy="1600200"/>
          </a:xfrm>
          <a:custGeom>
            <a:avLst/>
            <a:gdLst>
              <a:gd name="textAreaLeft" fmla="*/ 360 w 1527120"/>
              <a:gd name="textAreaRight" fmla="*/ 1527840 w 1527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fill="none" w="42990" h="21600">
                <a:moveTo>
                  <a:pt x="0" y="19641"/>
                </a:moveTo>
                <a:cubicBezTo>
                  <a:pt x="1013" y="8516"/>
                  <a:pt x="10340" y="-1"/>
                  <a:pt x="21511" y="0"/>
                </a:cubicBezTo>
                <a:cubicBezTo>
                  <a:pt x="32556" y="0"/>
                  <a:pt x="41823" y="8333"/>
                  <a:pt x="42990" y="19317"/>
                </a:cubicBezTo>
              </a:path>
              <a:path stroke="0" w="42990" h="21600">
                <a:moveTo>
                  <a:pt x="0" y="19641"/>
                </a:moveTo>
                <a:cubicBezTo>
                  <a:pt x="1013" y="8516"/>
                  <a:pt x="10340" y="-1"/>
                  <a:pt x="21511" y="0"/>
                </a:cubicBezTo>
                <a:cubicBezTo>
                  <a:pt x="32556" y="0"/>
                  <a:pt x="41823" y="8333"/>
                  <a:pt x="42990" y="19317"/>
                </a:cubicBezTo>
                <a:lnTo>
                  <a:pt x="2151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38"/>
          <p:cNvSpPr/>
          <p:nvPr/>
        </p:nvSpPr>
        <p:spPr>
          <a:xfrm flipH="1">
            <a:off x="2895480" y="1568520"/>
            <a:ext cx="1527120" cy="1600200"/>
          </a:xfrm>
          <a:custGeom>
            <a:avLst/>
            <a:gdLst>
              <a:gd name="textAreaLeft" fmla="*/ 360 w 1527120"/>
              <a:gd name="textAreaRight" fmla="*/ 1527840 w 1527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fill="none" w="42990" h="21600">
                <a:moveTo>
                  <a:pt x="0" y="19641"/>
                </a:moveTo>
                <a:cubicBezTo>
                  <a:pt x="1013" y="8516"/>
                  <a:pt x="10340" y="-1"/>
                  <a:pt x="21511" y="0"/>
                </a:cubicBezTo>
                <a:cubicBezTo>
                  <a:pt x="32556" y="0"/>
                  <a:pt x="41823" y="8333"/>
                  <a:pt x="42990" y="19317"/>
                </a:cubicBezTo>
              </a:path>
              <a:path stroke="0" w="42990" h="21600">
                <a:moveTo>
                  <a:pt x="0" y="19641"/>
                </a:moveTo>
                <a:cubicBezTo>
                  <a:pt x="1013" y="8516"/>
                  <a:pt x="10340" y="-1"/>
                  <a:pt x="21511" y="0"/>
                </a:cubicBezTo>
                <a:cubicBezTo>
                  <a:pt x="32556" y="0"/>
                  <a:pt x="41823" y="8333"/>
                  <a:pt x="42990" y="19317"/>
                </a:cubicBezTo>
                <a:lnTo>
                  <a:pt x="2151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39"/>
          <p:cNvSpPr/>
          <p:nvPr/>
        </p:nvSpPr>
        <p:spPr>
          <a:xfrm flipH="1">
            <a:off x="4495680" y="1568520"/>
            <a:ext cx="1525680" cy="1600200"/>
          </a:xfrm>
          <a:custGeom>
            <a:avLst/>
            <a:gdLst>
              <a:gd name="textAreaLeft" fmla="*/ 360 w 1525680"/>
              <a:gd name="textAreaRight" fmla="*/ 1526400 w 15256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fill="none" w="42952" h="21600">
                <a:moveTo>
                  <a:pt x="0" y="19259"/>
                </a:moveTo>
                <a:cubicBezTo>
                  <a:pt x="1194" y="8300"/>
                  <a:pt x="10449" y="-1"/>
                  <a:pt x="21473" y="0"/>
                </a:cubicBezTo>
                <a:cubicBezTo>
                  <a:pt x="32518" y="0"/>
                  <a:pt x="41785" y="8333"/>
                  <a:pt x="42952" y="19317"/>
                </a:cubicBezTo>
              </a:path>
              <a:path stroke="0" w="42952" h="21600">
                <a:moveTo>
                  <a:pt x="0" y="19259"/>
                </a:moveTo>
                <a:cubicBezTo>
                  <a:pt x="1194" y="8300"/>
                  <a:pt x="10449" y="-1"/>
                  <a:pt x="21473" y="0"/>
                </a:cubicBezTo>
                <a:cubicBezTo>
                  <a:pt x="32518" y="0"/>
                  <a:pt x="41785" y="8333"/>
                  <a:pt x="42952" y="19317"/>
                </a:cubicBezTo>
                <a:lnTo>
                  <a:pt x="21473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rc 40"/>
          <p:cNvSpPr/>
          <p:nvPr/>
        </p:nvSpPr>
        <p:spPr>
          <a:xfrm flipH="1">
            <a:off x="6095880" y="1568520"/>
            <a:ext cx="1527120" cy="1600200"/>
          </a:xfrm>
          <a:custGeom>
            <a:avLst/>
            <a:gdLst>
              <a:gd name="textAreaLeft" fmla="*/ 360 w 1527120"/>
              <a:gd name="textAreaRight" fmla="*/ 1527840 w 1527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fill="none" w="42988" h="21600">
                <a:moveTo>
                  <a:pt x="-1" y="19619"/>
                </a:moveTo>
                <a:cubicBezTo>
                  <a:pt x="1023" y="8504"/>
                  <a:pt x="10346" y="-1"/>
                  <a:pt x="21509" y="0"/>
                </a:cubicBezTo>
                <a:cubicBezTo>
                  <a:pt x="32554" y="0"/>
                  <a:pt x="41821" y="8333"/>
                  <a:pt x="42988" y="19317"/>
                </a:cubicBezTo>
              </a:path>
              <a:path stroke="0" w="42988" h="21600">
                <a:moveTo>
                  <a:pt x="-1" y="19619"/>
                </a:moveTo>
                <a:cubicBezTo>
                  <a:pt x="1023" y="8504"/>
                  <a:pt x="10346" y="-1"/>
                  <a:pt x="21509" y="0"/>
                </a:cubicBezTo>
                <a:cubicBezTo>
                  <a:pt x="32554" y="0"/>
                  <a:pt x="41821" y="8333"/>
                  <a:pt x="42988" y="19317"/>
                </a:cubicBezTo>
                <a:lnTo>
                  <a:pt x="21509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74"/>
          <p:cNvGrpSpPr/>
          <p:nvPr/>
        </p:nvGrpSpPr>
        <p:grpSpPr>
          <a:xfrm>
            <a:off x="831960" y="4616280"/>
            <a:ext cx="7016760" cy="1860840"/>
            <a:chOff x="831960" y="4616280"/>
            <a:chExt cx="7016760" cy="1860840"/>
          </a:xfrm>
        </p:grpSpPr>
        <p:cxnSp>
          <p:nvCxnSpPr>
            <p:cNvPr id="487" name="AutoShape 42"/>
            <p:cNvCxnSpPr/>
            <p:nvPr/>
          </p:nvCxnSpPr>
          <p:spPr>
            <a:xfrm>
              <a:off x="1218960" y="4616280"/>
              <a:ext cx="6630120" cy="1372320"/>
            </a:xfrm>
            <a:prstGeom prst="bentConnector3">
              <a:avLst>
                <a:gd name="adj1" fmla="val 814"/>
              </a:avLst>
            </a:prstGeom>
            <a:ln w="38160">
              <a:solidFill>
                <a:srgbClr val="000000"/>
              </a:solidFill>
              <a:miter/>
            </a:ln>
          </p:spPr>
        </p:cxnSp>
        <p:grpSp>
          <p:nvGrpSpPr>
            <p:cNvPr id="488" name="Group 72"/>
            <p:cNvGrpSpPr/>
            <p:nvPr/>
          </p:nvGrpSpPr>
          <p:grpSpPr>
            <a:xfrm>
              <a:off x="831960" y="4844520"/>
              <a:ext cx="383400" cy="991800"/>
              <a:chOff x="831960" y="4844520"/>
              <a:chExt cx="383400" cy="991800"/>
            </a:xfrm>
          </p:grpSpPr>
          <p:sp>
            <p:nvSpPr>
              <p:cNvPr id="489" name="Text Box 61"/>
              <p:cNvSpPr/>
              <p:nvPr/>
            </p:nvSpPr>
            <p:spPr>
              <a:xfrm>
                <a:off x="831960" y="5376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62"/>
              <p:cNvSpPr/>
              <p:nvPr/>
            </p:nvSpPr>
            <p:spPr>
              <a:xfrm flipV="1">
                <a:off x="1055520" y="4844520"/>
                <a:ext cx="0" cy="45684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66"/>
            <p:cNvGrpSpPr/>
            <p:nvPr/>
          </p:nvGrpSpPr>
          <p:grpSpPr>
            <a:xfrm>
              <a:off x="1525680" y="5834520"/>
              <a:ext cx="839520" cy="642600"/>
              <a:chOff x="1525680" y="5834520"/>
              <a:chExt cx="839520" cy="642600"/>
            </a:xfrm>
          </p:grpSpPr>
          <p:sp>
            <p:nvSpPr>
              <p:cNvPr id="492" name="Text Box 64"/>
              <p:cNvSpPr/>
              <p:nvPr/>
            </p:nvSpPr>
            <p:spPr>
              <a:xfrm>
                <a:off x="1525680" y="5834520"/>
                <a:ext cx="30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c0000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65"/>
              <p:cNvSpPr/>
              <p:nvPr/>
            </p:nvSpPr>
            <p:spPr>
              <a:xfrm>
                <a:off x="1832040" y="6231960"/>
                <a:ext cx="53316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Group 70"/>
          <p:cNvGrpSpPr/>
          <p:nvPr/>
        </p:nvGrpSpPr>
        <p:grpSpPr>
          <a:xfrm>
            <a:off x="843120" y="1644480"/>
            <a:ext cx="7005600" cy="1860840"/>
            <a:chOff x="843120" y="1644480"/>
            <a:chExt cx="7005600" cy="1860840"/>
          </a:xfrm>
        </p:grpSpPr>
        <p:cxnSp>
          <p:nvCxnSpPr>
            <p:cNvPr id="495" name="AutoShape 5"/>
            <p:cNvCxnSpPr/>
            <p:nvPr/>
          </p:nvCxnSpPr>
          <p:spPr>
            <a:xfrm>
              <a:off x="1218960" y="1644480"/>
              <a:ext cx="6630120" cy="1372320"/>
            </a:xfrm>
            <a:prstGeom prst="bentConnector3">
              <a:avLst>
                <a:gd name="adj1" fmla="val 81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496" name="Text Box 60"/>
            <p:cNvSpPr/>
            <p:nvPr/>
          </p:nvSpPr>
          <p:spPr>
            <a:xfrm>
              <a:off x="843120" y="240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3"/>
            <p:cNvSpPr/>
            <p:nvPr/>
          </p:nvSpPr>
          <p:spPr>
            <a:xfrm flipV="1">
              <a:off x="1066680" y="1949040"/>
              <a:ext cx="0" cy="4572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67"/>
            <p:cNvGrpSpPr/>
            <p:nvPr/>
          </p:nvGrpSpPr>
          <p:grpSpPr>
            <a:xfrm>
              <a:off x="1525680" y="2862720"/>
              <a:ext cx="839520" cy="642600"/>
              <a:chOff x="1525680" y="2862720"/>
              <a:chExt cx="839520" cy="642600"/>
            </a:xfrm>
          </p:grpSpPr>
          <p:sp>
            <p:nvSpPr>
              <p:cNvPr id="499" name="Text Box 68"/>
              <p:cNvSpPr/>
              <p:nvPr/>
            </p:nvSpPr>
            <p:spPr>
              <a:xfrm>
                <a:off x="1525680" y="2862720"/>
                <a:ext cx="30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c0000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69"/>
              <p:cNvSpPr/>
              <p:nvPr/>
            </p:nvSpPr>
            <p:spPr>
              <a:xfrm>
                <a:off x="1832040" y="3260160"/>
                <a:ext cx="53316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Group 75"/>
          <p:cNvGrpSpPr/>
          <p:nvPr/>
        </p:nvGrpSpPr>
        <p:grpSpPr>
          <a:xfrm>
            <a:off x="1294920" y="4540320"/>
            <a:ext cx="1905480" cy="1598400"/>
            <a:chOff x="1294920" y="4540320"/>
            <a:chExt cx="1905480" cy="1598400"/>
          </a:xfrm>
        </p:grpSpPr>
        <p:sp>
          <p:nvSpPr>
            <p:cNvPr id="502" name="Arc 43"/>
            <p:cNvSpPr/>
            <p:nvPr/>
          </p:nvSpPr>
          <p:spPr>
            <a:xfrm flipH="1">
              <a:off x="1294560" y="4540320"/>
              <a:ext cx="762120" cy="15984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fill="none" w="21479" h="21588">
                  <a:moveTo>
                    <a:pt x="732" y="0"/>
                  </a:moveTo>
                  <a:cubicBezTo>
                    <a:pt x="11493" y="365"/>
                    <a:pt x="20341" y="8599"/>
                    <a:pt x="21479" y="19305"/>
                  </a:cubicBezTo>
                </a:path>
                <a:path stroke="0" w="21479" h="21588">
                  <a:moveTo>
                    <a:pt x="732" y="0"/>
                  </a:moveTo>
                  <a:cubicBezTo>
                    <a:pt x="11493" y="365"/>
                    <a:pt x="20341" y="8599"/>
                    <a:pt x="21479" y="19305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50"/>
            <p:cNvSpPr/>
            <p:nvPr/>
          </p:nvSpPr>
          <p:spPr>
            <a:xfrm>
              <a:off x="1981080" y="4540320"/>
              <a:ext cx="1219320" cy="3805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0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288" y="168"/>
                    <a:pt x="384" y="192"/>
                  </a:cubicBezTo>
                  <a:cubicBezTo>
                    <a:pt x="480" y="216"/>
                    <a:pt x="672" y="232"/>
                    <a:pt x="720" y="24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53"/>
          <p:cNvGrpSpPr/>
          <p:nvPr/>
        </p:nvGrpSpPr>
        <p:grpSpPr>
          <a:xfrm>
            <a:off x="3200400" y="4540320"/>
            <a:ext cx="1600200" cy="1600200"/>
            <a:chOff x="3200400" y="4540320"/>
            <a:chExt cx="1600200" cy="1600200"/>
          </a:xfrm>
        </p:grpSpPr>
        <p:sp>
          <p:nvSpPr>
            <p:cNvPr id="505" name="Arc 51"/>
            <p:cNvSpPr/>
            <p:nvPr/>
          </p:nvSpPr>
          <p:spPr>
            <a:xfrm flipH="1">
              <a:off x="3200400" y="4541760"/>
              <a:ext cx="457200" cy="15987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fill="none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</a:path>
                <a:path stroke="0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52"/>
            <p:cNvSpPr/>
            <p:nvPr/>
          </p:nvSpPr>
          <p:spPr>
            <a:xfrm>
              <a:off x="3581280" y="4540320"/>
              <a:ext cx="1219320" cy="3808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0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288" y="168"/>
                    <a:pt x="384" y="192"/>
                  </a:cubicBezTo>
                  <a:cubicBezTo>
                    <a:pt x="480" y="216"/>
                    <a:pt x="672" y="232"/>
                    <a:pt x="720" y="24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54"/>
          <p:cNvGrpSpPr/>
          <p:nvPr/>
        </p:nvGrpSpPr>
        <p:grpSpPr>
          <a:xfrm>
            <a:off x="4800600" y="4540320"/>
            <a:ext cx="1600200" cy="1600200"/>
            <a:chOff x="4800600" y="4540320"/>
            <a:chExt cx="1600200" cy="1600200"/>
          </a:xfrm>
        </p:grpSpPr>
        <p:sp>
          <p:nvSpPr>
            <p:cNvPr id="508" name="Arc 55"/>
            <p:cNvSpPr/>
            <p:nvPr/>
          </p:nvSpPr>
          <p:spPr>
            <a:xfrm flipH="1">
              <a:off x="4800600" y="4541760"/>
              <a:ext cx="457200" cy="15987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fill="none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</a:path>
                <a:path stroke="0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56"/>
            <p:cNvSpPr/>
            <p:nvPr/>
          </p:nvSpPr>
          <p:spPr>
            <a:xfrm>
              <a:off x="5181480" y="4540320"/>
              <a:ext cx="1219320" cy="3808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0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288" y="168"/>
                    <a:pt x="384" y="192"/>
                  </a:cubicBezTo>
                  <a:cubicBezTo>
                    <a:pt x="480" y="216"/>
                    <a:pt x="672" y="232"/>
                    <a:pt x="720" y="24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57"/>
          <p:cNvGrpSpPr/>
          <p:nvPr/>
        </p:nvGrpSpPr>
        <p:grpSpPr>
          <a:xfrm>
            <a:off x="6400800" y="4540320"/>
            <a:ext cx="1600200" cy="1600200"/>
            <a:chOff x="6400800" y="4540320"/>
            <a:chExt cx="1600200" cy="1600200"/>
          </a:xfrm>
        </p:grpSpPr>
        <p:sp>
          <p:nvSpPr>
            <p:cNvPr id="511" name="Arc 58"/>
            <p:cNvSpPr/>
            <p:nvPr/>
          </p:nvSpPr>
          <p:spPr>
            <a:xfrm flipH="1">
              <a:off x="6400800" y="4541760"/>
              <a:ext cx="457200" cy="15987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fill="none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</a:path>
                <a:path stroke="0" w="13755" h="21588">
                  <a:moveTo>
                    <a:pt x="732" y="0"/>
                  </a:moveTo>
                  <a:cubicBezTo>
                    <a:pt x="5499" y="162"/>
                    <a:pt x="10078" y="1896"/>
                    <a:pt x="13755" y="4933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59"/>
            <p:cNvSpPr/>
            <p:nvPr/>
          </p:nvSpPr>
          <p:spPr>
            <a:xfrm>
              <a:off x="6781680" y="4540320"/>
              <a:ext cx="1219320" cy="3808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0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288" y="168"/>
                    <a:pt x="384" y="192"/>
                  </a:cubicBezTo>
                  <a:cubicBezTo>
                    <a:pt x="480" y="216"/>
                    <a:pt x="672" y="232"/>
                    <a:pt x="720" y="24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Rectangle 71"/>
          <p:cNvSpPr/>
          <p:nvPr/>
        </p:nvSpPr>
        <p:spPr>
          <a:xfrm>
            <a:off x="7620120" y="4768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7"/>
          <p:cNvGrpSpPr/>
          <p:nvPr/>
        </p:nvGrpSpPr>
        <p:grpSpPr>
          <a:xfrm>
            <a:off x="1224000" y="212040"/>
            <a:ext cx="6694200" cy="853560"/>
            <a:chOff x="1224000" y="212040"/>
            <a:chExt cx="6694200" cy="853560"/>
          </a:xfrm>
        </p:grpSpPr>
        <p:sp>
          <p:nvSpPr>
            <p:cNvPr id="515" name="Text Box 2"/>
            <p:cNvSpPr/>
            <p:nvPr/>
          </p:nvSpPr>
          <p:spPr>
            <a:xfrm>
              <a:off x="1224000" y="212040"/>
              <a:ext cx="669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Action  Of  A Filter Capacitor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6"/>
            <p:cNvSpPr/>
            <p:nvPr/>
          </p:nvSpPr>
          <p:spPr>
            <a:xfrm>
              <a:off x="3284640" y="6973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(Page 260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Slide Number Placeholder 3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1B8749A1-600F-4685-B104-4E1B12F8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2" descr="Untitled-1"/>
          <p:cNvPicPr/>
          <p:nvPr/>
        </p:nvPicPr>
        <p:blipFill>
          <a:blip r:embed="rId1"/>
          <a:stretch/>
        </p:blipFill>
        <p:spPr>
          <a:xfrm>
            <a:off x="2157480" y="2057400"/>
            <a:ext cx="4819680" cy="16286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1550520" y="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Electrolytic Capacitor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910600" y="14382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ting  plug on this 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2286000" y="1666800"/>
            <a:ext cx="83808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2286000" y="1666800"/>
            <a:ext cx="6094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67000" y="4159080"/>
            <a:ext cx="609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s capacitor is about to be reverse-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nected to a 15-V dc supply.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Page 256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3000" y="559260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 the venting plug in this series of slid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C051F028-56B7-48C7-8376-2C30B29E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8" descr="Untitled-1"/>
          <p:cNvPicPr/>
          <p:nvPr/>
        </p:nvPicPr>
        <p:blipFill>
          <a:blip r:embed="rId1"/>
          <a:stretch/>
        </p:blipFill>
        <p:spPr>
          <a:xfrm>
            <a:off x="2081160" y="2286000"/>
            <a:ext cx="4934160" cy="16574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459360" y="77616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 voltage has been applied for about 25 second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139760" y="472428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 the venting plug is being pushed ou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214640" y="5562720"/>
            <a:ext cx="684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next slide shows the last 5 seco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f the life of this capacito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5198737F-0449-4C69-909F-6F55F886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368000" y="380880"/>
            <a:ext cx="60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0880" y="173664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or Termi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Use of Capaci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ors in Ac and Dc Circu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eries and Parallel Capaci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ime Consta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ive React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1790640" y="5991120"/>
            <a:ext cx="4305240" cy="173160"/>
            <a:chOff x="1790640" y="5991120"/>
            <a:chExt cx="4305240" cy="173160"/>
          </a:xfrm>
        </p:grpSpPr>
        <p:sp>
          <p:nvSpPr>
            <p:cNvPr id="108" name="Line 7"/>
            <p:cNvSpPr/>
            <p:nvPr/>
          </p:nvSpPr>
          <p:spPr>
            <a:xfrm>
              <a:off x="1790640" y="599112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1792800" y="605160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1792800" y="61084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1792800" y="61642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Slide Number Placeholder 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64BAAFE9-CA34-4C51-B619-672B5280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9"/>
          <p:cNvSpPr/>
          <p:nvPr/>
        </p:nvSpPr>
        <p:spPr>
          <a:xfrm>
            <a:off x="2265840" y="70488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Watch the venting plug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752040" y="206280"/>
            <a:ext cx="82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1976040" y="5638680"/>
            <a:ext cx="53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play to rerun the video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AEDBFB3D-C0B5-42B6-A2DE-B973BA54C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WindowsMediaPlayer1"/>
          <p:cNvGraphicFramePr/>
          <p:nvPr/>
        </p:nvGraphicFramePr>
        <p:xfrm>
          <a:off x="2133720" y="1676520"/>
          <a:ext cx="50799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5079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Untitled-1"/>
          <p:cNvPicPr/>
          <p:nvPr/>
        </p:nvPicPr>
        <p:blipFill>
          <a:blip r:embed="rId1"/>
          <a:stretch/>
        </p:blipFill>
        <p:spPr>
          <a:xfrm>
            <a:off x="1143000" y="1447920"/>
            <a:ext cx="6848640" cy="45529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590400" y="193680"/>
            <a:ext cx="77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to view after the smoke has clea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For protection, the capacitor was under a piece of glass.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B5B97E4-767D-4643-8BDA-14834FF72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0" name="AutoShape 3"/>
          <p:cNvCxnSpPr/>
          <p:nvPr/>
        </p:nvCxnSpPr>
        <p:spPr>
          <a:xfrm flipH="1" flipV="1" rot="10800000">
            <a:off x="1142640" y="1066320"/>
            <a:ext cx="7239600" cy="3048840"/>
          </a:xfrm>
          <a:prstGeom prst="bentConnector3">
            <a:avLst>
              <a:gd name="adj1" fmla="val -2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1" name="Freeform 5"/>
          <p:cNvSpPr/>
          <p:nvPr/>
        </p:nvSpPr>
        <p:spPr>
          <a:xfrm>
            <a:off x="1143000" y="1143000"/>
            <a:ext cx="7010280" cy="298440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4416" h="1880">
                <a:moveTo>
                  <a:pt x="0" y="1880"/>
                </a:moveTo>
                <a:cubicBezTo>
                  <a:pt x="128" y="1592"/>
                  <a:pt x="256" y="1304"/>
                  <a:pt x="384" y="1112"/>
                </a:cubicBezTo>
                <a:cubicBezTo>
                  <a:pt x="512" y="920"/>
                  <a:pt x="616" y="848"/>
                  <a:pt x="768" y="728"/>
                </a:cubicBezTo>
                <a:cubicBezTo>
                  <a:pt x="920" y="608"/>
                  <a:pt x="1112" y="480"/>
                  <a:pt x="1296" y="392"/>
                </a:cubicBezTo>
                <a:cubicBezTo>
                  <a:pt x="1480" y="304"/>
                  <a:pt x="1659" y="249"/>
                  <a:pt x="1872" y="200"/>
                </a:cubicBezTo>
                <a:cubicBezTo>
                  <a:pt x="2085" y="151"/>
                  <a:pt x="2355" y="123"/>
                  <a:pt x="2571" y="99"/>
                </a:cubicBezTo>
                <a:cubicBezTo>
                  <a:pt x="2787" y="75"/>
                  <a:pt x="2949" y="71"/>
                  <a:pt x="3168" y="56"/>
                </a:cubicBezTo>
                <a:cubicBezTo>
                  <a:pt x="3387" y="41"/>
                  <a:pt x="3680" y="16"/>
                  <a:pt x="3888" y="8"/>
                </a:cubicBezTo>
                <a:cubicBezTo>
                  <a:pt x="4096" y="0"/>
                  <a:pt x="4312" y="8"/>
                  <a:pt x="4416" y="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AutoShape 10"/>
          <p:cNvCxnSpPr/>
          <p:nvPr/>
        </p:nvCxnSpPr>
        <p:spPr>
          <a:xfrm flipH="1" rot="16200000">
            <a:off x="799920" y="2476080"/>
            <a:ext cx="1905840" cy="1372320"/>
          </a:xfrm>
          <a:prstGeom prst="bentConnector3">
            <a:avLst>
              <a:gd name="adj1" fmla="val 122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543" name="AutoShape 11"/>
          <p:cNvCxnSpPr/>
          <p:nvPr/>
        </p:nvCxnSpPr>
        <p:spPr>
          <a:xfrm>
            <a:off x="1143000" y="1523520"/>
            <a:ext cx="2743920" cy="2591640"/>
          </a:xfrm>
          <a:prstGeom prst="bentConnector3">
            <a:avLst>
              <a:gd name="adj1" fmla="val 96286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544" name="Rectangle 12"/>
          <p:cNvSpPr/>
          <p:nvPr/>
        </p:nvSpPr>
        <p:spPr>
          <a:xfrm>
            <a:off x="990720" y="2133720"/>
            <a:ext cx="75960" cy="22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4"/>
          <p:cNvCxnSpPr/>
          <p:nvPr/>
        </p:nvCxnSpPr>
        <p:spPr>
          <a:xfrm flipH="1" flipV="1">
            <a:off x="1065960" y="1294920"/>
            <a:ext cx="4039560" cy="2820240"/>
          </a:xfrm>
          <a:prstGeom prst="bentConnector3">
            <a:avLst>
              <a:gd name="adj1" fmla="val -7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546" name="Line 15"/>
          <p:cNvSpPr/>
          <p:nvPr/>
        </p:nvSpPr>
        <p:spPr>
          <a:xfrm flipV="1">
            <a:off x="6477120" y="12189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6"/>
          <p:cNvSpPr/>
          <p:nvPr/>
        </p:nvSpPr>
        <p:spPr>
          <a:xfrm flipV="1">
            <a:off x="7848720" y="1142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1142640" y="12193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577800" y="837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76320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"/>
          <p:cNvSpPr/>
          <p:nvPr/>
        </p:nvSpPr>
        <p:spPr>
          <a:xfrm rot="16200000">
            <a:off x="-279720" y="2415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% of source volt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990720" y="1295280"/>
            <a:ext cx="75960" cy="38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554280" y="434232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ime cons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8532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228060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365868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5023800" y="411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7"/>
          <p:cNvSpPr/>
          <p:nvPr/>
        </p:nvSpPr>
        <p:spPr>
          <a:xfrm>
            <a:off x="6325560" y="411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8"/>
          <p:cNvSpPr/>
          <p:nvPr/>
        </p:nvSpPr>
        <p:spPr>
          <a:xfrm>
            <a:off x="769104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786240" y="464724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fter 1 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he capacitor is 63.2 % charged.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1270800" y="495216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fter 2 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he capacitor is 86.5 % 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1720080" y="5317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fter 3 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the capacitor is 95.0 % 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2185200" y="563796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fter 4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capacitor is 98.2 % 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4"/>
          <p:cNvSpPr/>
          <p:nvPr/>
        </p:nvSpPr>
        <p:spPr>
          <a:xfrm>
            <a:off x="2566080" y="59425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fter 5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apacitor is 99.3 % 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992520" y="6247800"/>
            <a:ext cx="70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capacitor is essentially charged after 5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30"/>
          <p:cNvGrpSpPr/>
          <p:nvPr/>
        </p:nvGrpSpPr>
        <p:grpSpPr>
          <a:xfrm>
            <a:off x="1143000" y="135720"/>
            <a:ext cx="6551640" cy="1007280"/>
            <a:chOff x="1143000" y="135720"/>
            <a:chExt cx="6551640" cy="1007280"/>
          </a:xfrm>
        </p:grpSpPr>
        <p:sp>
          <p:nvSpPr>
            <p:cNvPr id="567" name="Text Box 2"/>
            <p:cNvSpPr/>
            <p:nvPr/>
          </p:nvSpPr>
          <p:spPr>
            <a:xfrm>
              <a:off x="1227240" y="135720"/>
              <a:ext cx="646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RC Time Constant -- Charge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6"/>
            <p:cNvSpPr/>
            <p:nvPr/>
          </p:nvSpPr>
          <p:spPr>
            <a:xfrm flipH="1">
              <a:off x="1143000" y="1143000"/>
              <a:ext cx="5715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29"/>
            <p:cNvSpPr/>
            <p:nvPr/>
          </p:nvSpPr>
          <p:spPr>
            <a:xfrm>
              <a:off x="3665520" y="6094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(Page 263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Slide Number Placeholder 31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5816CE73-D9D2-4DDC-8C56-15FD18EEF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1" name="AutoShape 2"/>
          <p:cNvCxnSpPr/>
          <p:nvPr/>
        </p:nvCxnSpPr>
        <p:spPr>
          <a:xfrm rot="10800000">
            <a:off x="1065960" y="685080"/>
            <a:ext cx="7544520" cy="3277440"/>
          </a:xfrm>
          <a:prstGeom prst="bentConnector3">
            <a:avLst>
              <a:gd name="adj1" fmla="val 9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72" name="Freeform 3"/>
          <p:cNvSpPr/>
          <p:nvPr/>
        </p:nvSpPr>
        <p:spPr>
          <a:xfrm flipV="1">
            <a:off x="1143000" y="914040"/>
            <a:ext cx="7010280" cy="2984400"/>
          </a:xfrm>
          <a:custGeom>
            <a:avLst/>
            <a:gdLst>
              <a:gd name="textAreaLeft" fmla="*/ 0 w 7010280"/>
              <a:gd name="textAreaRight" fmla="*/ 7010640 w 7010280"/>
              <a:gd name="textAreaTop" fmla="*/ 360 h 2984400"/>
              <a:gd name="textAreaBottom" fmla="*/ 2985120 h 2984400"/>
            </a:gdLst>
            <a:ahLst/>
            <a:rect l="textAreaLeft" t="textAreaTop" r="textAreaRight" b="textAreaBottom"/>
            <a:pathLst>
              <a:path w="4416" h="1880">
                <a:moveTo>
                  <a:pt x="0" y="1880"/>
                </a:moveTo>
                <a:cubicBezTo>
                  <a:pt x="128" y="1592"/>
                  <a:pt x="256" y="1304"/>
                  <a:pt x="384" y="1112"/>
                </a:cubicBezTo>
                <a:cubicBezTo>
                  <a:pt x="512" y="920"/>
                  <a:pt x="616" y="848"/>
                  <a:pt x="768" y="728"/>
                </a:cubicBezTo>
                <a:cubicBezTo>
                  <a:pt x="920" y="608"/>
                  <a:pt x="1112" y="480"/>
                  <a:pt x="1296" y="392"/>
                </a:cubicBezTo>
                <a:cubicBezTo>
                  <a:pt x="1480" y="304"/>
                  <a:pt x="1656" y="248"/>
                  <a:pt x="1872" y="200"/>
                </a:cubicBezTo>
                <a:cubicBezTo>
                  <a:pt x="2088" y="152"/>
                  <a:pt x="2376" y="128"/>
                  <a:pt x="2592" y="104"/>
                </a:cubicBezTo>
                <a:cubicBezTo>
                  <a:pt x="2808" y="80"/>
                  <a:pt x="2952" y="72"/>
                  <a:pt x="3168" y="56"/>
                </a:cubicBezTo>
                <a:cubicBezTo>
                  <a:pt x="3384" y="40"/>
                  <a:pt x="3680" y="16"/>
                  <a:pt x="3888" y="8"/>
                </a:cubicBezTo>
                <a:cubicBezTo>
                  <a:pt x="4096" y="0"/>
                  <a:pt x="4312" y="8"/>
                  <a:pt x="4416" y="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631800" y="4647240"/>
            <a:ext cx="52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fter 1 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he capacitor is 63.2 % discharged.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1116360" y="4952160"/>
            <a:ext cx="51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fter 2 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he capacitor is 86.5 % dis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1565640" y="5317200"/>
            <a:ext cx="51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fter 3 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the capacitor is 95.0 % dis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2030760" y="5637960"/>
            <a:ext cx="51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fter 4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capacitor is 98.2 % dis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2411640" y="5942520"/>
            <a:ext cx="51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After 5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he capacitor is 99.3 % discha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699840" y="6247800"/>
            <a:ext cx="74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capacitor is essentially discharged after 5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3554280" y="42058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ime cons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985320" y="392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2280600" y="392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3658680" y="392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502380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632556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7691040" y="3929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533520" y="684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6"/>
          <p:cNvSpPr/>
          <p:nvPr/>
        </p:nvSpPr>
        <p:spPr>
          <a:xfrm>
            <a:off x="718560" y="3793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7"/>
          <p:cNvSpPr/>
          <p:nvPr/>
        </p:nvSpPr>
        <p:spPr>
          <a:xfrm rot="16200000">
            <a:off x="-451800" y="217332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% of capacitor volt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AutoShape 30"/>
          <p:cNvCxnSpPr>
            <a:stCxn id="581" idx="0"/>
          </p:cNvCxnSpPr>
          <p:nvPr/>
        </p:nvCxnSpPr>
        <p:spPr>
          <a:xfrm flipV="1" rot="16200000">
            <a:off x="1195200" y="2689920"/>
            <a:ext cx="1111680" cy="136944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590" name="Line 33"/>
          <p:cNvSpPr/>
          <p:nvPr/>
        </p:nvSpPr>
        <p:spPr>
          <a:xfrm>
            <a:off x="51055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4"/>
          <p:cNvSpPr/>
          <p:nvPr/>
        </p:nvSpPr>
        <p:spPr>
          <a:xfrm flipH="1">
            <a:off x="1066320" y="37339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5"/>
          <p:cNvSpPr/>
          <p:nvPr/>
        </p:nvSpPr>
        <p:spPr>
          <a:xfrm flipV="1">
            <a:off x="38098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36"/>
          <p:cNvSpPr/>
          <p:nvPr/>
        </p:nvSpPr>
        <p:spPr>
          <a:xfrm flipH="1">
            <a:off x="106668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37"/>
          <p:cNvSpPr/>
          <p:nvPr/>
        </p:nvSpPr>
        <p:spPr>
          <a:xfrm>
            <a:off x="64008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38"/>
          <p:cNvSpPr/>
          <p:nvPr/>
        </p:nvSpPr>
        <p:spPr>
          <a:xfrm flipV="1">
            <a:off x="7848720" y="3886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9"/>
          <p:cNvSpPr/>
          <p:nvPr/>
        </p:nvSpPr>
        <p:spPr>
          <a:xfrm>
            <a:off x="2603160" y="26647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36.8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3931920" y="32760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3.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5113080" y="34426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5.0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2"/>
          <p:cNvSpPr/>
          <p:nvPr/>
        </p:nvSpPr>
        <p:spPr>
          <a:xfrm>
            <a:off x="6382800" y="3518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8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3"/>
          <p:cNvSpPr/>
          <p:nvPr/>
        </p:nvSpPr>
        <p:spPr>
          <a:xfrm>
            <a:off x="7856280" y="35805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0.7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4"/>
          <p:cNvSpPr/>
          <p:nvPr/>
        </p:nvSpPr>
        <p:spPr>
          <a:xfrm>
            <a:off x="380880" y="7524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RC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Time Constant – Discharg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6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E07D8579-9DFA-49DE-8384-3340FE690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46"/>
          <p:cNvGrpSpPr/>
          <p:nvPr/>
        </p:nvGrpSpPr>
        <p:grpSpPr>
          <a:xfrm>
            <a:off x="3201480" y="1980000"/>
            <a:ext cx="430920" cy="1068840"/>
            <a:chOff x="3201480" y="1980000"/>
            <a:chExt cx="430920" cy="1068840"/>
          </a:xfrm>
        </p:grpSpPr>
        <p:sp>
          <p:nvSpPr>
            <p:cNvPr id="604" name="Text Box 2"/>
            <p:cNvSpPr/>
            <p:nvPr/>
          </p:nvSpPr>
          <p:spPr>
            <a:xfrm>
              <a:off x="3297600" y="2406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3201480" y="198000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Group 9"/>
          <p:cNvGrpSpPr/>
          <p:nvPr/>
        </p:nvGrpSpPr>
        <p:grpSpPr>
          <a:xfrm>
            <a:off x="915480" y="1675440"/>
            <a:ext cx="454320" cy="1906560"/>
            <a:chOff x="915480" y="1675440"/>
            <a:chExt cx="454320" cy="1906560"/>
          </a:xfrm>
        </p:grpSpPr>
        <p:sp>
          <p:nvSpPr>
            <p:cNvPr id="607" name="Text Box 10"/>
            <p:cNvSpPr/>
            <p:nvPr/>
          </p:nvSpPr>
          <p:spPr>
            <a:xfrm>
              <a:off x="1036800" y="2939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915480" y="167544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47"/>
          <p:cNvGrpSpPr/>
          <p:nvPr/>
        </p:nvGrpSpPr>
        <p:grpSpPr>
          <a:xfrm>
            <a:off x="703440" y="1523520"/>
            <a:ext cx="3126960" cy="2286720"/>
            <a:chOff x="703440" y="1523520"/>
            <a:chExt cx="3126960" cy="2286720"/>
          </a:xfrm>
        </p:grpSpPr>
        <p:grpSp>
          <p:nvGrpSpPr>
            <p:cNvPr id="610" name="Group 4"/>
            <p:cNvGrpSpPr/>
            <p:nvPr/>
          </p:nvGrpSpPr>
          <p:grpSpPr>
            <a:xfrm>
              <a:off x="2751480" y="1523520"/>
              <a:ext cx="1078920" cy="2286000"/>
              <a:chOff x="2751480" y="1523520"/>
              <a:chExt cx="1078920" cy="2286000"/>
            </a:xfrm>
          </p:grpSpPr>
          <p:sp>
            <p:nvSpPr>
              <p:cNvPr id="611" name="Arc 5"/>
              <p:cNvSpPr/>
              <p:nvPr/>
            </p:nvSpPr>
            <p:spPr>
              <a:xfrm rot="18301200">
                <a:off x="2951280" y="2414520"/>
                <a:ext cx="678960" cy="841680"/>
              </a:xfrm>
              <a:custGeom>
                <a:avLst/>
                <a:gdLst>
                  <a:gd name="textAreaLeft" fmla="*/ 0 w 678960"/>
                  <a:gd name="textAreaRight" fmla="*/ 679320 w 678960"/>
                  <a:gd name="textAreaTop" fmla="*/ 0 h 841680"/>
                  <a:gd name="textAreaBottom" fmla="*/ 842040 h 84168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6"/>
              <p:cNvSpPr/>
              <p:nvPr/>
            </p:nvSpPr>
            <p:spPr>
              <a:xfrm>
                <a:off x="2849400" y="23659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7"/>
              <p:cNvSpPr/>
              <p:nvPr/>
            </p:nvSpPr>
            <p:spPr>
              <a:xfrm>
                <a:off x="3288960" y="2606400"/>
                <a:ext cx="0" cy="12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8"/>
              <p:cNvSpPr/>
              <p:nvPr/>
            </p:nvSpPr>
            <p:spPr>
              <a:xfrm flipV="1">
                <a:off x="3288960" y="1523520"/>
                <a:ext cx="0" cy="84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Line 12"/>
            <p:cNvSpPr/>
            <p:nvPr/>
          </p:nvSpPr>
          <p:spPr>
            <a:xfrm>
              <a:off x="1333440" y="1523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6" name="AutoShape 13"/>
            <p:cNvCxnSpPr>
              <a:stCxn id="615" idx="0"/>
              <a:endCxn id="613" idx="0"/>
            </p:cNvCxnSpPr>
            <p:nvPr/>
          </p:nvCxnSpPr>
          <p:spPr>
            <a:xfrm>
              <a:off x="1333080" y="3809520"/>
              <a:ext cx="1956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AutoShape 14"/>
            <p:cNvCxnSpPr/>
            <p:nvPr/>
          </p:nvCxnSpPr>
          <p:spPr>
            <a:xfrm>
              <a:off x="1333080" y="1523520"/>
              <a:ext cx="1956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18" name="Group 15"/>
            <p:cNvGrpSpPr/>
            <p:nvPr/>
          </p:nvGrpSpPr>
          <p:grpSpPr>
            <a:xfrm>
              <a:off x="703440" y="2004840"/>
              <a:ext cx="1261440" cy="1203120"/>
              <a:chOff x="703440" y="2004840"/>
              <a:chExt cx="1261440" cy="1203120"/>
            </a:xfrm>
          </p:grpSpPr>
          <p:sp>
            <p:nvSpPr>
              <p:cNvPr id="619" name="Oval 16"/>
              <p:cNvSpPr/>
              <p:nvPr/>
            </p:nvSpPr>
            <p:spPr>
              <a:xfrm>
                <a:off x="703440" y="2004840"/>
                <a:ext cx="1261440" cy="120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7"/>
              <p:cNvGrpSpPr/>
              <p:nvPr/>
            </p:nvGrpSpPr>
            <p:grpSpPr>
              <a:xfrm>
                <a:off x="955080" y="2245680"/>
                <a:ext cx="757080" cy="721800"/>
                <a:chOff x="955080" y="2245680"/>
                <a:chExt cx="757080" cy="721800"/>
              </a:xfrm>
            </p:grpSpPr>
            <p:sp>
              <p:nvSpPr>
                <p:cNvPr id="621" name="Arc 18"/>
                <p:cNvSpPr/>
                <p:nvPr/>
              </p:nvSpPr>
              <p:spPr>
                <a:xfrm flipH="1">
                  <a:off x="95472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Arc 19"/>
                <p:cNvSpPr/>
                <p:nvPr/>
              </p:nvSpPr>
              <p:spPr>
                <a:xfrm flipH="1" flipV="1">
                  <a:off x="133416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3" name="Group 20"/>
          <p:cNvGrpSpPr/>
          <p:nvPr/>
        </p:nvGrpSpPr>
        <p:grpSpPr>
          <a:xfrm>
            <a:off x="1905120" y="1752480"/>
            <a:ext cx="756720" cy="1803240"/>
            <a:chOff x="1905120" y="1752480"/>
            <a:chExt cx="756720" cy="1803240"/>
          </a:xfrm>
        </p:grpSpPr>
        <p:sp>
          <p:nvSpPr>
            <p:cNvPr id="624" name="Line 21"/>
            <p:cNvSpPr/>
            <p:nvPr/>
          </p:nvSpPr>
          <p:spPr>
            <a:xfrm flipH="1">
              <a:off x="1905120" y="175248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>
              <a:off x="1905120" y="35557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51"/>
          <p:cNvGrpSpPr/>
          <p:nvPr/>
        </p:nvGrpSpPr>
        <p:grpSpPr>
          <a:xfrm>
            <a:off x="4571640" y="1386000"/>
            <a:ext cx="895320" cy="1433520"/>
            <a:chOff x="4571640" y="1386000"/>
            <a:chExt cx="895320" cy="1433520"/>
          </a:xfrm>
        </p:grpSpPr>
        <p:sp>
          <p:nvSpPr>
            <p:cNvPr id="627" name="Text Box 28"/>
            <p:cNvSpPr/>
            <p:nvPr/>
          </p:nvSpPr>
          <p:spPr>
            <a:xfrm>
              <a:off x="4573800" y="13860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Arc 31"/>
            <p:cNvSpPr/>
            <p:nvPr/>
          </p:nvSpPr>
          <p:spPr>
            <a:xfrm flipH="1">
              <a:off x="4571280" y="176688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Text Box 39"/>
          <p:cNvSpPr/>
          <p:nvPr/>
        </p:nvSpPr>
        <p:spPr>
          <a:xfrm>
            <a:off x="635040" y="41900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uring the first quarter of the cycle, the current decrease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608400" y="479952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the voltage increa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639000" y="540900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eded to charge the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3907800" y="479952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ource is providing the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4848840" y="54090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the voltage reaches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5"/>
          <p:cNvSpPr/>
          <p:nvPr/>
        </p:nvSpPr>
        <p:spPr>
          <a:xfrm>
            <a:off x="655200" y="601884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ak value, there is no 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8"/>
          <p:cNvGrpSpPr/>
          <p:nvPr/>
        </p:nvGrpSpPr>
        <p:grpSpPr>
          <a:xfrm>
            <a:off x="1905120" y="1752480"/>
            <a:ext cx="756720" cy="1803240"/>
            <a:chOff x="1905120" y="1752480"/>
            <a:chExt cx="756720" cy="1803240"/>
          </a:xfrm>
        </p:grpSpPr>
        <p:sp>
          <p:nvSpPr>
            <p:cNvPr id="636" name="Line 49"/>
            <p:cNvSpPr/>
            <p:nvPr/>
          </p:nvSpPr>
          <p:spPr>
            <a:xfrm flipH="1">
              <a:off x="1905120" y="1752480"/>
              <a:ext cx="75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0"/>
            <p:cNvSpPr/>
            <p:nvPr/>
          </p:nvSpPr>
          <p:spPr>
            <a:xfrm>
              <a:off x="1905120" y="3555720"/>
              <a:ext cx="756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4572000" y="1660680"/>
            <a:ext cx="3581280" cy="2073240"/>
            <a:chOff x="4572000" y="1660680"/>
            <a:chExt cx="3581280" cy="2073240"/>
          </a:xfrm>
        </p:grpSpPr>
        <p:sp>
          <p:nvSpPr>
            <p:cNvPr id="639" name="Line 55"/>
            <p:cNvSpPr/>
            <p:nvPr/>
          </p:nvSpPr>
          <p:spPr>
            <a:xfrm>
              <a:off x="4572000" y="26971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6"/>
            <p:cNvSpPr/>
            <p:nvPr/>
          </p:nvSpPr>
          <p:spPr>
            <a:xfrm>
              <a:off x="4572000" y="166068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66"/>
          <p:cNvGrpSpPr/>
          <p:nvPr/>
        </p:nvGrpSpPr>
        <p:grpSpPr>
          <a:xfrm>
            <a:off x="4571640" y="1324080"/>
            <a:ext cx="1104840" cy="1495440"/>
            <a:chOff x="4571640" y="1324080"/>
            <a:chExt cx="1104840" cy="1495440"/>
          </a:xfrm>
        </p:grpSpPr>
        <p:sp>
          <p:nvSpPr>
            <p:cNvPr id="642" name="Text Box 61"/>
            <p:cNvSpPr/>
            <p:nvPr/>
          </p:nvSpPr>
          <p:spPr>
            <a:xfrm>
              <a:off x="5293080" y="132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rc 62"/>
            <p:cNvSpPr/>
            <p:nvPr/>
          </p:nvSpPr>
          <p:spPr>
            <a:xfrm flipH="1">
              <a:off x="4571280" y="1766880"/>
              <a:ext cx="871560" cy="105264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</a:path>
                <a:path stroke="0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  <a:lnTo>
                    <a:pt x="1107" y="21600"/>
                  </a:lnTo>
                  <a:close/>
                </a:path>
              </a:pathLst>
            </a:custGeom>
            <a:noFill/>
            <a:ln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44"/>
          <p:cNvGrpSpPr/>
          <p:nvPr/>
        </p:nvGrpSpPr>
        <p:grpSpPr>
          <a:xfrm>
            <a:off x="96480" y="136080"/>
            <a:ext cx="8882640" cy="918360"/>
            <a:chOff x="96480" y="136080"/>
            <a:chExt cx="8882640" cy="918360"/>
          </a:xfrm>
        </p:grpSpPr>
        <p:sp>
          <p:nvSpPr>
            <p:cNvPr id="645" name="Text Box 32"/>
            <p:cNvSpPr/>
            <p:nvPr/>
          </p:nvSpPr>
          <p:spPr>
            <a:xfrm>
              <a:off x="96480" y="136080"/>
              <a:ext cx="88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Energy Transfer In A Capacitor Circuit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3434760" y="686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(Page 266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Slide Number Placeholder 45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5C59B165-351F-4AD2-AC3D-6592B609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3"/>
          <p:cNvSpPr/>
          <p:nvPr/>
        </p:nvSpPr>
        <p:spPr>
          <a:xfrm>
            <a:off x="3278520" y="2406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201480" y="1980000"/>
            <a:ext cx="4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5"/>
          <p:cNvGrpSpPr/>
          <p:nvPr/>
        </p:nvGrpSpPr>
        <p:grpSpPr>
          <a:xfrm>
            <a:off x="2751480" y="1523520"/>
            <a:ext cx="1078920" cy="2286000"/>
            <a:chOff x="2751480" y="1523520"/>
            <a:chExt cx="1078920" cy="2286000"/>
          </a:xfrm>
        </p:grpSpPr>
        <p:sp>
          <p:nvSpPr>
            <p:cNvPr id="651" name="Arc 6"/>
            <p:cNvSpPr/>
            <p:nvPr/>
          </p:nvSpPr>
          <p:spPr>
            <a:xfrm rot="18301200">
              <a:off x="2951280" y="2414520"/>
              <a:ext cx="678960" cy="84168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fill="none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</a:path>
                <a:path stroke="0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  <a:lnTo>
                    <a:pt x="0" y="2054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7"/>
            <p:cNvSpPr/>
            <p:nvPr/>
          </p:nvSpPr>
          <p:spPr>
            <a:xfrm>
              <a:off x="2849400" y="2365920"/>
              <a:ext cx="88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8"/>
            <p:cNvSpPr/>
            <p:nvPr/>
          </p:nvSpPr>
          <p:spPr>
            <a:xfrm>
              <a:off x="3288960" y="260640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9"/>
            <p:cNvSpPr/>
            <p:nvPr/>
          </p:nvSpPr>
          <p:spPr>
            <a:xfrm flipV="1">
              <a:off x="3288960" y="1523520"/>
              <a:ext cx="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47"/>
          <p:cNvGrpSpPr/>
          <p:nvPr/>
        </p:nvGrpSpPr>
        <p:grpSpPr>
          <a:xfrm>
            <a:off x="915480" y="1675440"/>
            <a:ext cx="454320" cy="1906560"/>
            <a:chOff x="915480" y="1675440"/>
            <a:chExt cx="454320" cy="1906560"/>
          </a:xfrm>
        </p:grpSpPr>
        <p:sp>
          <p:nvSpPr>
            <p:cNvPr id="656" name="Text Box 11"/>
            <p:cNvSpPr/>
            <p:nvPr/>
          </p:nvSpPr>
          <p:spPr>
            <a:xfrm>
              <a:off x="1036800" y="2939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2"/>
            <p:cNvSpPr/>
            <p:nvPr/>
          </p:nvSpPr>
          <p:spPr>
            <a:xfrm>
              <a:off x="915480" y="167544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Line 13"/>
          <p:cNvSpPr/>
          <p:nvPr/>
        </p:nvSpPr>
        <p:spPr>
          <a:xfrm>
            <a:off x="1333440" y="1523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AutoShape 14"/>
          <p:cNvCxnSpPr>
            <a:stCxn id="658" idx="0"/>
            <a:endCxn id="653" idx="0"/>
          </p:cNvCxnSpPr>
          <p:nvPr/>
        </p:nvCxnSpPr>
        <p:spPr>
          <a:xfrm>
            <a:off x="1333080" y="3809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AutoShape 15"/>
          <p:cNvCxnSpPr/>
          <p:nvPr/>
        </p:nvCxnSpPr>
        <p:spPr>
          <a:xfrm>
            <a:off x="1333080" y="1523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Group 16"/>
          <p:cNvGrpSpPr/>
          <p:nvPr/>
        </p:nvGrpSpPr>
        <p:grpSpPr>
          <a:xfrm>
            <a:off x="703440" y="2004840"/>
            <a:ext cx="1261440" cy="1203120"/>
            <a:chOff x="703440" y="2004840"/>
            <a:chExt cx="1261440" cy="1203120"/>
          </a:xfrm>
        </p:grpSpPr>
        <p:sp>
          <p:nvSpPr>
            <p:cNvPr id="662" name="Oval 17"/>
            <p:cNvSpPr/>
            <p:nvPr/>
          </p:nvSpPr>
          <p:spPr>
            <a:xfrm>
              <a:off x="703440" y="2004840"/>
              <a:ext cx="1261440" cy="120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Group 18"/>
            <p:cNvGrpSpPr/>
            <p:nvPr/>
          </p:nvGrpSpPr>
          <p:grpSpPr>
            <a:xfrm>
              <a:off x="955080" y="2245680"/>
              <a:ext cx="757080" cy="721800"/>
              <a:chOff x="955080" y="2245680"/>
              <a:chExt cx="757080" cy="721800"/>
            </a:xfrm>
          </p:grpSpPr>
          <p:sp>
            <p:nvSpPr>
              <p:cNvPr id="664" name="Arc 19"/>
              <p:cNvSpPr/>
              <p:nvPr/>
            </p:nvSpPr>
            <p:spPr>
              <a:xfrm flipH="1">
                <a:off x="954720" y="224568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Arc 20"/>
              <p:cNvSpPr/>
              <p:nvPr/>
            </p:nvSpPr>
            <p:spPr>
              <a:xfrm flipH="1" flipV="1">
                <a:off x="1334160" y="256284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360 h 404640"/>
                  <a:gd name="textAreaBottom" fmla="*/ 40536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Group 21"/>
          <p:cNvGrpSpPr/>
          <p:nvPr/>
        </p:nvGrpSpPr>
        <p:grpSpPr>
          <a:xfrm>
            <a:off x="2092320" y="1765440"/>
            <a:ext cx="756720" cy="1802880"/>
            <a:chOff x="2092320" y="1765440"/>
            <a:chExt cx="756720" cy="1802880"/>
          </a:xfrm>
        </p:grpSpPr>
        <p:sp>
          <p:nvSpPr>
            <p:cNvPr id="667" name="Line 22"/>
            <p:cNvSpPr/>
            <p:nvPr/>
          </p:nvSpPr>
          <p:spPr>
            <a:xfrm flipH="1">
              <a:off x="20923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3"/>
            <p:cNvSpPr/>
            <p:nvPr/>
          </p:nvSpPr>
          <p:spPr>
            <a:xfrm>
              <a:off x="20923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Line 25"/>
          <p:cNvSpPr/>
          <p:nvPr/>
        </p:nvSpPr>
        <p:spPr>
          <a:xfrm>
            <a:off x="4572000" y="2666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rc 27"/>
          <p:cNvSpPr/>
          <p:nvPr/>
        </p:nvSpPr>
        <p:spPr>
          <a:xfrm flipH="1" flipV="1">
            <a:off x="5479920" y="2568600"/>
            <a:ext cx="920880" cy="1052640"/>
          </a:xfrm>
          <a:custGeom>
            <a:avLst/>
            <a:gdLst>
              <a:gd name="textAreaLeft" fmla="*/ 360 w 920880"/>
              <a:gd name="textAreaRight" fmla="*/ 921600 w 92088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fill="none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</a:path>
              <a:path stroke="0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  <a:lnTo>
                  <a:pt x="231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rc 31"/>
          <p:cNvSpPr/>
          <p:nvPr/>
        </p:nvSpPr>
        <p:spPr>
          <a:xfrm flipH="1">
            <a:off x="5428440" y="1787400"/>
            <a:ext cx="895320" cy="1052640"/>
          </a:xfrm>
          <a:custGeom>
            <a:avLst/>
            <a:gdLst>
              <a:gd name="textAreaLeft" fmla="*/ -360 w 895320"/>
              <a:gd name="textAreaRight" fmla="*/ 895320 w 89532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fill="none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</a:path>
              <a:path stroke="0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  <a:lnTo>
                  <a:pt x="21431" y="21600"/>
                </a:lnTo>
                <a:close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570200" y="1371600"/>
            <a:ext cx="1055520" cy="2362320"/>
            <a:chOff x="4570200" y="1371600"/>
            <a:chExt cx="1055520" cy="2362320"/>
          </a:xfrm>
        </p:grpSpPr>
        <p:sp>
          <p:nvSpPr>
            <p:cNvPr id="673" name="Line 28"/>
            <p:cNvSpPr/>
            <p:nvPr/>
          </p:nvSpPr>
          <p:spPr>
            <a:xfrm>
              <a:off x="4572000" y="166068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29"/>
            <p:cNvSpPr/>
            <p:nvPr/>
          </p:nvSpPr>
          <p:spPr>
            <a:xfrm>
              <a:off x="4573800" y="13716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0"/>
            <p:cNvSpPr/>
            <p:nvPr/>
          </p:nvSpPr>
          <p:spPr>
            <a:xfrm>
              <a:off x="5259240" y="1371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Arc 32"/>
            <p:cNvSpPr/>
            <p:nvPr/>
          </p:nvSpPr>
          <p:spPr>
            <a:xfrm flipH="1">
              <a:off x="4569840" y="1787400"/>
              <a:ext cx="871560" cy="105264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</a:path>
                <a:path stroke="0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  <a:lnTo>
                    <a:pt x="1107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Arc 33"/>
            <p:cNvSpPr/>
            <p:nvPr/>
          </p:nvSpPr>
          <p:spPr>
            <a:xfrm flipH="1">
              <a:off x="4572000" y="1790640"/>
              <a:ext cx="892080" cy="1052640"/>
            </a:xfrm>
            <a:custGeom>
              <a:avLst/>
              <a:gdLst>
                <a:gd name="textAreaLeft" fmla="*/ 360 w 892080"/>
                <a:gd name="textAreaRight" fmla="*/ 892800 w 89208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136" h="21600">
                  <a:moveTo>
                    <a:pt x="0" y="18289"/>
                  </a:moveTo>
                  <a:cubicBezTo>
                    <a:pt x="1632" y="7763"/>
                    <a:pt x="10694" y="-1"/>
                    <a:pt x="21345" y="0"/>
                  </a:cubicBezTo>
                  <a:cubicBezTo>
                    <a:pt x="21942" y="0"/>
                    <a:pt x="22540" y="24"/>
                    <a:pt x="23135" y="74"/>
                  </a:cubicBezTo>
                </a:path>
                <a:path stroke="0" w="23136" h="21600">
                  <a:moveTo>
                    <a:pt x="0" y="18289"/>
                  </a:moveTo>
                  <a:cubicBezTo>
                    <a:pt x="1632" y="7763"/>
                    <a:pt x="10694" y="-1"/>
                    <a:pt x="21345" y="0"/>
                  </a:cubicBezTo>
                  <a:cubicBezTo>
                    <a:pt x="21942" y="0"/>
                    <a:pt x="22540" y="24"/>
                    <a:pt x="23135" y="74"/>
                  </a:cubicBezTo>
                  <a:lnTo>
                    <a:pt x="21345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Text Box 35"/>
          <p:cNvSpPr/>
          <p:nvPr/>
        </p:nvSpPr>
        <p:spPr>
          <a:xfrm>
            <a:off x="77400" y="135720"/>
            <a:ext cx="88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 Capacitor Circu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1"/>
          <p:cNvSpPr/>
          <p:nvPr/>
        </p:nvSpPr>
        <p:spPr>
          <a:xfrm>
            <a:off x="304200" y="46472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uring the second quarter-cycle,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2"/>
          <p:cNvSpPr/>
          <p:nvPr/>
        </p:nvSpPr>
        <p:spPr>
          <a:xfrm>
            <a:off x="4411800" y="464724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apacitor returns its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3"/>
          <p:cNvSpPr/>
          <p:nvPr/>
        </p:nvSpPr>
        <p:spPr>
          <a:xfrm>
            <a:off x="610200" y="51804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o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4"/>
          <p:cNvSpPr/>
          <p:nvPr/>
        </p:nvSpPr>
        <p:spPr>
          <a:xfrm>
            <a:off x="2286000" y="5161320"/>
            <a:ext cx="66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ice that the current has changed direc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5"/>
          <p:cNvSpPr/>
          <p:nvPr/>
        </p:nvSpPr>
        <p:spPr>
          <a:xfrm>
            <a:off x="810360" y="579024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lso notice that the current  is now increasing whil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6"/>
          <p:cNvSpPr/>
          <p:nvPr/>
        </p:nvSpPr>
        <p:spPr>
          <a:xfrm>
            <a:off x="1164240" y="6323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oltage is decreas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6"/>
          <p:cNvSpPr/>
          <p:nvPr/>
        </p:nvSpPr>
        <p:spPr>
          <a:xfrm>
            <a:off x="2358720" y="83700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cond quarter-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9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96909CEB-934F-46DD-B886-7AFDA6E2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3"/>
          <p:cNvSpPr/>
          <p:nvPr/>
        </p:nvSpPr>
        <p:spPr>
          <a:xfrm>
            <a:off x="3278520" y="182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3201480" y="258984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5"/>
          <p:cNvGrpSpPr/>
          <p:nvPr/>
        </p:nvGrpSpPr>
        <p:grpSpPr>
          <a:xfrm>
            <a:off x="2751480" y="1523520"/>
            <a:ext cx="1078920" cy="2286000"/>
            <a:chOff x="2751480" y="1523520"/>
            <a:chExt cx="1078920" cy="2286000"/>
          </a:xfrm>
        </p:grpSpPr>
        <p:sp>
          <p:nvSpPr>
            <p:cNvPr id="690" name="Arc 6"/>
            <p:cNvSpPr/>
            <p:nvPr/>
          </p:nvSpPr>
          <p:spPr>
            <a:xfrm rot="18301200">
              <a:off x="2951280" y="2414520"/>
              <a:ext cx="678960" cy="84168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fill="none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</a:path>
                <a:path stroke="0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  <a:lnTo>
                    <a:pt x="0" y="2054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7"/>
            <p:cNvSpPr/>
            <p:nvPr/>
          </p:nvSpPr>
          <p:spPr>
            <a:xfrm>
              <a:off x="2849400" y="2365920"/>
              <a:ext cx="88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8"/>
            <p:cNvSpPr/>
            <p:nvPr/>
          </p:nvSpPr>
          <p:spPr>
            <a:xfrm>
              <a:off x="3288960" y="260640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9"/>
            <p:cNvSpPr/>
            <p:nvPr/>
          </p:nvSpPr>
          <p:spPr>
            <a:xfrm flipV="1">
              <a:off x="3288960" y="1523520"/>
              <a:ext cx="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51"/>
          <p:cNvGrpSpPr/>
          <p:nvPr/>
        </p:nvGrpSpPr>
        <p:grpSpPr>
          <a:xfrm>
            <a:off x="1017360" y="1675440"/>
            <a:ext cx="429120" cy="1906920"/>
            <a:chOff x="1017360" y="1675440"/>
            <a:chExt cx="429120" cy="1906920"/>
          </a:xfrm>
        </p:grpSpPr>
        <p:sp>
          <p:nvSpPr>
            <p:cNvPr id="695" name="Text Box 11"/>
            <p:cNvSpPr/>
            <p:nvPr/>
          </p:nvSpPr>
          <p:spPr>
            <a:xfrm flipV="1">
              <a:off x="1036800" y="16750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2"/>
            <p:cNvSpPr/>
            <p:nvPr/>
          </p:nvSpPr>
          <p:spPr>
            <a:xfrm flipV="1">
              <a:off x="1017360" y="3122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Line 13"/>
          <p:cNvSpPr/>
          <p:nvPr/>
        </p:nvSpPr>
        <p:spPr>
          <a:xfrm>
            <a:off x="1333440" y="1523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4"/>
          <p:cNvCxnSpPr>
            <a:stCxn id="697" idx="0"/>
            <a:endCxn id="692" idx="0"/>
          </p:cNvCxnSpPr>
          <p:nvPr/>
        </p:nvCxnSpPr>
        <p:spPr>
          <a:xfrm>
            <a:off x="1333080" y="3809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9" name="AutoShape 15"/>
          <p:cNvCxnSpPr/>
          <p:nvPr/>
        </p:nvCxnSpPr>
        <p:spPr>
          <a:xfrm>
            <a:off x="1333080" y="1523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00" name="Group 16"/>
          <p:cNvGrpSpPr/>
          <p:nvPr/>
        </p:nvGrpSpPr>
        <p:grpSpPr>
          <a:xfrm>
            <a:off x="703440" y="2004840"/>
            <a:ext cx="1261440" cy="1203120"/>
            <a:chOff x="703440" y="2004840"/>
            <a:chExt cx="1261440" cy="1203120"/>
          </a:xfrm>
        </p:grpSpPr>
        <p:sp>
          <p:nvSpPr>
            <p:cNvPr id="701" name="Oval 17"/>
            <p:cNvSpPr/>
            <p:nvPr/>
          </p:nvSpPr>
          <p:spPr>
            <a:xfrm>
              <a:off x="703440" y="2004840"/>
              <a:ext cx="1261440" cy="120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8"/>
            <p:cNvGrpSpPr/>
            <p:nvPr/>
          </p:nvGrpSpPr>
          <p:grpSpPr>
            <a:xfrm>
              <a:off x="955080" y="2245680"/>
              <a:ext cx="757080" cy="721800"/>
              <a:chOff x="955080" y="2245680"/>
              <a:chExt cx="757080" cy="721800"/>
            </a:xfrm>
          </p:grpSpPr>
          <p:sp>
            <p:nvSpPr>
              <p:cNvPr id="703" name="Arc 19"/>
              <p:cNvSpPr/>
              <p:nvPr/>
            </p:nvSpPr>
            <p:spPr>
              <a:xfrm flipH="1">
                <a:off x="954720" y="224568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Arc 20"/>
              <p:cNvSpPr/>
              <p:nvPr/>
            </p:nvSpPr>
            <p:spPr>
              <a:xfrm flipH="1" flipV="1">
                <a:off x="1334160" y="256284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360 h 404640"/>
                  <a:gd name="textAreaBottom" fmla="*/ 40536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21"/>
          <p:cNvGrpSpPr/>
          <p:nvPr/>
        </p:nvGrpSpPr>
        <p:grpSpPr>
          <a:xfrm>
            <a:off x="2092320" y="1765440"/>
            <a:ext cx="756720" cy="1802880"/>
            <a:chOff x="2092320" y="1765440"/>
            <a:chExt cx="756720" cy="1802880"/>
          </a:xfrm>
        </p:grpSpPr>
        <p:sp>
          <p:nvSpPr>
            <p:cNvPr id="706" name="Line 22"/>
            <p:cNvSpPr/>
            <p:nvPr/>
          </p:nvSpPr>
          <p:spPr>
            <a:xfrm>
              <a:off x="20923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23"/>
            <p:cNvSpPr/>
            <p:nvPr/>
          </p:nvSpPr>
          <p:spPr>
            <a:xfrm flipH="1">
              <a:off x="20923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Arc 26"/>
          <p:cNvSpPr/>
          <p:nvPr/>
        </p:nvSpPr>
        <p:spPr>
          <a:xfrm flipH="1" flipV="1">
            <a:off x="6324480" y="2606040"/>
            <a:ext cx="828720" cy="1050840"/>
          </a:xfrm>
          <a:custGeom>
            <a:avLst/>
            <a:gdLst>
              <a:gd name="textAreaLeft" fmla="*/ 360 w 828720"/>
              <a:gd name="textAreaRight" fmla="*/ 829440 w 828720"/>
              <a:gd name="textAreaTop" fmla="*/ 0 h 1050840"/>
              <a:gd name="textAreaBottom" fmla="*/ 1050840 h 1050840"/>
            </a:gdLst>
            <a:ahLst/>
            <a:rect l="textAreaLeft" t="textAreaTop" r="textAreaRight" b="textAreaBottom"/>
            <a:pathLst>
              <a:path fill="none" w="21479" h="21522">
                <a:moveTo>
                  <a:pt x="1837" y="0"/>
                </a:moveTo>
                <a:cubicBezTo>
                  <a:pt x="12148" y="880"/>
                  <a:pt x="20385" y="8949"/>
                  <a:pt x="21479" y="19239"/>
                </a:cubicBezTo>
              </a:path>
              <a:path stroke="0" w="21479" h="21522">
                <a:moveTo>
                  <a:pt x="1837" y="0"/>
                </a:moveTo>
                <a:cubicBezTo>
                  <a:pt x="12148" y="880"/>
                  <a:pt x="20385" y="8949"/>
                  <a:pt x="21479" y="19239"/>
                </a:cubicBezTo>
                <a:lnTo>
                  <a:pt x="0" y="21522"/>
                </a:lnTo>
                <a:close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8"/>
          <p:cNvSpPr/>
          <p:nvPr/>
        </p:nvSpPr>
        <p:spPr>
          <a:xfrm>
            <a:off x="4572000" y="26971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46"/>
          <p:cNvGrpSpPr/>
          <p:nvPr/>
        </p:nvGrpSpPr>
        <p:grpSpPr>
          <a:xfrm>
            <a:off x="4570200" y="1371600"/>
            <a:ext cx="1830600" cy="2362320"/>
            <a:chOff x="4570200" y="1371600"/>
            <a:chExt cx="1830600" cy="2362320"/>
          </a:xfrm>
        </p:grpSpPr>
        <p:sp>
          <p:nvSpPr>
            <p:cNvPr id="711" name="Arc 25"/>
            <p:cNvSpPr/>
            <p:nvPr/>
          </p:nvSpPr>
          <p:spPr>
            <a:xfrm flipH="1" flipV="1">
              <a:off x="5479920" y="2568600"/>
              <a:ext cx="920880" cy="1052640"/>
            </a:xfrm>
            <a:custGeom>
              <a:avLst/>
              <a:gdLst>
                <a:gd name="textAreaLeft" fmla="*/ 360 w 920880"/>
                <a:gd name="textAreaRight" fmla="*/ 921600 w 920880"/>
                <a:gd name="textAreaTop" fmla="*/ 360 h 1052640"/>
                <a:gd name="textAreaBottom" fmla="*/ 1053360 h 1052640"/>
              </a:gdLst>
              <a:ahLst/>
              <a:rect l="textAreaLeft" t="textAreaTop" r="textAreaRight" b="textAreaBottom"/>
              <a:pathLst>
                <a:path fill="none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</a:path>
                <a:path stroke="0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  <a:lnTo>
                    <a:pt x="231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7"/>
            <p:cNvSpPr/>
            <p:nvPr/>
          </p:nvSpPr>
          <p:spPr>
            <a:xfrm>
              <a:off x="4572000" y="166068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9"/>
            <p:cNvSpPr/>
            <p:nvPr/>
          </p:nvSpPr>
          <p:spPr>
            <a:xfrm>
              <a:off x="4573440" y="1371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30"/>
            <p:cNvSpPr/>
            <p:nvPr/>
          </p:nvSpPr>
          <p:spPr>
            <a:xfrm>
              <a:off x="5259240" y="1371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rc 31"/>
            <p:cNvSpPr/>
            <p:nvPr/>
          </p:nvSpPr>
          <p:spPr>
            <a:xfrm flipH="1">
              <a:off x="5428440" y="178740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rc 32"/>
            <p:cNvSpPr/>
            <p:nvPr/>
          </p:nvSpPr>
          <p:spPr>
            <a:xfrm flipH="1">
              <a:off x="4569840" y="1787400"/>
              <a:ext cx="871560" cy="105264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</a:path>
                <a:path stroke="0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  <a:lnTo>
                    <a:pt x="1107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rc 33"/>
            <p:cNvSpPr/>
            <p:nvPr/>
          </p:nvSpPr>
          <p:spPr>
            <a:xfrm flipH="1">
              <a:off x="4571280" y="179064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Arc 35"/>
          <p:cNvSpPr/>
          <p:nvPr/>
        </p:nvSpPr>
        <p:spPr>
          <a:xfrm flipH="1" flipV="1">
            <a:off x="6266880" y="2568600"/>
            <a:ext cx="895320" cy="1052640"/>
          </a:xfrm>
          <a:custGeom>
            <a:avLst/>
            <a:gdLst>
              <a:gd name="textAreaLeft" fmla="*/ -360 w 895320"/>
              <a:gd name="textAreaRight" fmla="*/ 895320 w 89532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fill="none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</a:path>
              <a:path stroke="0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  <a:lnTo>
                  <a:pt x="2143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6"/>
          <p:cNvSpPr/>
          <p:nvPr/>
        </p:nvSpPr>
        <p:spPr>
          <a:xfrm>
            <a:off x="77400" y="135720"/>
            <a:ext cx="88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 Capacitor Circu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9"/>
          <p:cNvSpPr/>
          <p:nvPr/>
        </p:nvSpPr>
        <p:spPr>
          <a:xfrm>
            <a:off x="379800" y="464724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uring the third quarter-cycl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0"/>
          <p:cNvSpPr/>
          <p:nvPr/>
        </p:nvSpPr>
        <p:spPr>
          <a:xfrm>
            <a:off x="3801960" y="4647240"/>
            <a:ext cx="54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source provides the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1"/>
          <p:cNvSpPr/>
          <p:nvPr/>
        </p:nvSpPr>
        <p:spPr>
          <a:xfrm>
            <a:off x="379800" y="518040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 charge the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2"/>
          <p:cNvSpPr/>
          <p:nvPr/>
        </p:nvSpPr>
        <p:spPr>
          <a:xfrm>
            <a:off x="3583440" y="518040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otice that the current has not chang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3"/>
          <p:cNvSpPr/>
          <p:nvPr/>
        </p:nvSpPr>
        <p:spPr>
          <a:xfrm>
            <a:off x="375840" y="5713920"/>
            <a:ext cx="82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irection.  It is now decreasing while the voltage is increas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52"/>
          <p:cNvSpPr/>
          <p:nvPr/>
        </p:nvSpPr>
        <p:spPr>
          <a:xfrm>
            <a:off x="2655000" y="8370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rd quarter-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40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ADAE7614-05D0-4EA3-A546-76EEDA2F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3278520" y="182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3201480" y="2589840"/>
            <a:ext cx="4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751480" y="1523520"/>
            <a:ext cx="1078920" cy="2286000"/>
            <a:chOff x="2751480" y="1523520"/>
            <a:chExt cx="1078920" cy="2286000"/>
          </a:xfrm>
        </p:grpSpPr>
        <p:sp>
          <p:nvSpPr>
            <p:cNvPr id="730" name="Arc 6"/>
            <p:cNvSpPr/>
            <p:nvPr/>
          </p:nvSpPr>
          <p:spPr>
            <a:xfrm rot="18301200">
              <a:off x="2951280" y="2414520"/>
              <a:ext cx="678960" cy="84168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fill="none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</a:path>
                <a:path stroke="0" w="21287" h="20547">
                  <a:moveTo>
                    <a:pt x="6662" y="0"/>
                  </a:moveTo>
                  <a:cubicBezTo>
                    <a:pt x="14295" y="2475"/>
                    <a:pt x="19926" y="8976"/>
                    <a:pt x="21287" y="16883"/>
                  </a:cubicBezTo>
                  <a:lnTo>
                    <a:pt x="0" y="2054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7"/>
            <p:cNvSpPr/>
            <p:nvPr/>
          </p:nvSpPr>
          <p:spPr>
            <a:xfrm>
              <a:off x="2849400" y="2365920"/>
              <a:ext cx="88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8"/>
            <p:cNvSpPr/>
            <p:nvPr/>
          </p:nvSpPr>
          <p:spPr>
            <a:xfrm>
              <a:off x="3288960" y="260640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 flipV="1">
              <a:off x="3288960" y="1523520"/>
              <a:ext cx="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0"/>
          <p:cNvGrpSpPr/>
          <p:nvPr/>
        </p:nvGrpSpPr>
        <p:grpSpPr>
          <a:xfrm>
            <a:off x="1015920" y="1675440"/>
            <a:ext cx="430920" cy="1906920"/>
            <a:chOff x="1015920" y="1675440"/>
            <a:chExt cx="430920" cy="1906920"/>
          </a:xfrm>
        </p:grpSpPr>
        <p:sp>
          <p:nvSpPr>
            <p:cNvPr id="735" name="Text Box 11"/>
            <p:cNvSpPr/>
            <p:nvPr/>
          </p:nvSpPr>
          <p:spPr>
            <a:xfrm flipV="1">
              <a:off x="1036800" y="16750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12"/>
            <p:cNvSpPr/>
            <p:nvPr/>
          </p:nvSpPr>
          <p:spPr>
            <a:xfrm flipV="1">
              <a:off x="1015920" y="312228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Line 13"/>
          <p:cNvSpPr/>
          <p:nvPr/>
        </p:nvSpPr>
        <p:spPr>
          <a:xfrm>
            <a:off x="1333440" y="1523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AutoShape 14"/>
          <p:cNvCxnSpPr>
            <a:stCxn id="737" idx="0"/>
            <a:endCxn id="732" idx="0"/>
          </p:cNvCxnSpPr>
          <p:nvPr/>
        </p:nvCxnSpPr>
        <p:spPr>
          <a:xfrm>
            <a:off x="1333080" y="3809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9" name="AutoShape 15"/>
          <p:cNvCxnSpPr/>
          <p:nvPr/>
        </p:nvCxnSpPr>
        <p:spPr>
          <a:xfrm>
            <a:off x="1333080" y="1523520"/>
            <a:ext cx="195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40" name="Group 16"/>
          <p:cNvGrpSpPr/>
          <p:nvPr/>
        </p:nvGrpSpPr>
        <p:grpSpPr>
          <a:xfrm>
            <a:off x="703440" y="2004840"/>
            <a:ext cx="1261440" cy="1203120"/>
            <a:chOff x="703440" y="2004840"/>
            <a:chExt cx="1261440" cy="1203120"/>
          </a:xfrm>
        </p:grpSpPr>
        <p:sp>
          <p:nvSpPr>
            <p:cNvPr id="741" name="Oval 17"/>
            <p:cNvSpPr/>
            <p:nvPr/>
          </p:nvSpPr>
          <p:spPr>
            <a:xfrm>
              <a:off x="703440" y="2004840"/>
              <a:ext cx="1261440" cy="120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Group 18"/>
            <p:cNvGrpSpPr/>
            <p:nvPr/>
          </p:nvGrpSpPr>
          <p:grpSpPr>
            <a:xfrm>
              <a:off x="955080" y="2245680"/>
              <a:ext cx="757080" cy="721800"/>
              <a:chOff x="955080" y="2245680"/>
              <a:chExt cx="757080" cy="721800"/>
            </a:xfrm>
          </p:grpSpPr>
          <p:sp>
            <p:nvSpPr>
              <p:cNvPr id="743" name="Arc 19"/>
              <p:cNvSpPr/>
              <p:nvPr/>
            </p:nvSpPr>
            <p:spPr>
              <a:xfrm flipH="1">
                <a:off x="954720" y="224568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Arc 20"/>
              <p:cNvSpPr/>
              <p:nvPr/>
            </p:nvSpPr>
            <p:spPr>
              <a:xfrm flipH="1" flipV="1">
                <a:off x="1334160" y="2562840"/>
                <a:ext cx="377640" cy="4046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360 h 404640"/>
                  <a:gd name="textAreaBottom" fmla="*/ 405360 h 404640"/>
                </a:gdLst>
                <a:ahLst/>
                <a:rect l="textAreaLeft" t="textAreaTop" r="textAreaRight" b="textAreaBottom"/>
                <a:pathLst>
                  <a:path fill="none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</a:path>
                  <a:path stroke="0" w="42910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32476" y="0"/>
                      <a:pt x="41743" y="8333"/>
                      <a:pt x="42910" y="19317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5" name="Group 21"/>
          <p:cNvGrpSpPr/>
          <p:nvPr/>
        </p:nvGrpSpPr>
        <p:grpSpPr>
          <a:xfrm>
            <a:off x="2092320" y="1765440"/>
            <a:ext cx="756720" cy="1802880"/>
            <a:chOff x="2092320" y="1765440"/>
            <a:chExt cx="756720" cy="1802880"/>
          </a:xfrm>
        </p:grpSpPr>
        <p:sp>
          <p:nvSpPr>
            <p:cNvPr id="746" name="Line 22"/>
            <p:cNvSpPr/>
            <p:nvPr/>
          </p:nvSpPr>
          <p:spPr>
            <a:xfrm flipH="1">
              <a:off x="20923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23"/>
            <p:cNvSpPr/>
            <p:nvPr/>
          </p:nvSpPr>
          <p:spPr>
            <a:xfrm>
              <a:off x="20923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25"/>
          <p:cNvSpPr/>
          <p:nvPr/>
        </p:nvSpPr>
        <p:spPr>
          <a:xfrm>
            <a:off x="4572000" y="26971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45"/>
          <p:cNvGrpSpPr/>
          <p:nvPr/>
        </p:nvGrpSpPr>
        <p:grpSpPr>
          <a:xfrm>
            <a:off x="4570200" y="1371600"/>
            <a:ext cx="2600280" cy="2362320"/>
            <a:chOff x="4570200" y="1371600"/>
            <a:chExt cx="2600280" cy="2362320"/>
          </a:xfrm>
        </p:grpSpPr>
        <p:sp>
          <p:nvSpPr>
            <p:cNvPr id="750" name="Arc 24"/>
            <p:cNvSpPr/>
            <p:nvPr/>
          </p:nvSpPr>
          <p:spPr>
            <a:xfrm flipH="1" flipV="1">
              <a:off x="6323760" y="2606040"/>
              <a:ext cx="846360" cy="1050840"/>
            </a:xfrm>
            <a:custGeom>
              <a:avLst/>
              <a:gdLst>
                <a:gd name="textAreaLeft" fmla="*/ -360 w 846360"/>
                <a:gd name="textAreaRight" fmla="*/ 846360 w 846360"/>
                <a:gd name="textAreaTop" fmla="*/ -360 h 1050840"/>
                <a:gd name="textAreaBottom" fmla="*/ 1050840 h 1050840"/>
              </a:gdLst>
              <a:ahLst/>
              <a:rect l="textAreaLeft" t="textAreaTop" r="textAreaRight" b="textAreaBottom"/>
              <a:pathLst>
                <a:path fill="none" w="21686" h="21600">
                  <a:moveTo>
                    <a:pt x="-1" y="0"/>
                  </a:moveTo>
                  <a:cubicBezTo>
                    <a:pt x="68" y="0"/>
                    <a:pt x="137" y="-1"/>
                    <a:pt x="207" y="0"/>
                  </a:cubicBezTo>
                  <a:cubicBezTo>
                    <a:pt x="11252" y="0"/>
                    <a:pt x="20519" y="8333"/>
                    <a:pt x="21686" y="19317"/>
                  </a:cubicBezTo>
                </a:path>
                <a:path stroke="0" w="21686" h="21600">
                  <a:moveTo>
                    <a:pt x="-1" y="0"/>
                  </a:moveTo>
                  <a:cubicBezTo>
                    <a:pt x="68" y="0"/>
                    <a:pt x="137" y="-1"/>
                    <a:pt x="207" y="0"/>
                  </a:cubicBezTo>
                  <a:cubicBezTo>
                    <a:pt x="11252" y="0"/>
                    <a:pt x="20519" y="8333"/>
                    <a:pt x="21686" y="19317"/>
                  </a:cubicBezTo>
                  <a:lnTo>
                    <a:pt x="207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Arc 27"/>
            <p:cNvSpPr/>
            <p:nvPr/>
          </p:nvSpPr>
          <p:spPr>
            <a:xfrm flipH="1" flipV="1">
              <a:off x="5479920" y="2568600"/>
              <a:ext cx="920880" cy="1052640"/>
            </a:xfrm>
            <a:custGeom>
              <a:avLst/>
              <a:gdLst>
                <a:gd name="textAreaLeft" fmla="*/ 360 w 920880"/>
                <a:gd name="textAreaRight" fmla="*/ 921600 w 920880"/>
                <a:gd name="textAreaTop" fmla="*/ 360 h 1052640"/>
                <a:gd name="textAreaBottom" fmla="*/ 1053360 h 1052640"/>
              </a:gdLst>
              <a:ahLst/>
              <a:rect l="textAreaLeft" t="textAreaTop" r="textAreaRight" b="textAreaBottom"/>
              <a:pathLst>
                <a:path fill="none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</a:path>
                <a:path stroke="0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  <a:lnTo>
                    <a:pt x="231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28"/>
            <p:cNvSpPr/>
            <p:nvPr/>
          </p:nvSpPr>
          <p:spPr>
            <a:xfrm>
              <a:off x="4572000" y="166068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29"/>
            <p:cNvSpPr/>
            <p:nvPr/>
          </p:nvSpPr>
          <p:spPr>
            <a:xfrm>
              <a:off x="4573800" y="13716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30"/>
            <p:cNvSpPr/>
            <p:nvPr/>
          </p:nvSpPr>
          <p:spPr>
            <a:xfrm>
              <a:off x="525960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Arc 31"/>
            <p:cNvSpPr/>
            <p:nvPr/>
          </p:nvSpPr>
          <p:spPr>
            <a:xfrm flipH="1">
              <a:off x="5428440" y="178740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Arc 32"/>
            <p:cNvSpPr/>
            <p:nvPr/>
          </p:nvSpPr>
          <p:spPr>
            <a:xfrm flipH="1">
              <a:off x="4569840" y="1787400"/>
              <a:ext cx="871560" cy="105264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</a:path>
                <a:path stroke="0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  <a:lnTo>
                    <a:pt x="1107" y="21600"/>
                  </a:lnTo>
                  <a:close/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Arc 33"/>
            <p:cNvSpPr/>
            <p:nvPr/>
          </p:nvSpPr>
          <p:spPr>
            <a:xfrm flipH="1">
              <a:off x="4571280" y="179064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Arc 34"/>
            <p:cNvSpPr/>
            <p:nvPr/>
          </p:nvSpPr>
          <p:spPr>
            <a:xfrm flipH="1" flipV="1">
              <a:off x="6266880" y="256860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360 h 1052640"/>
                <a:gd name="textAreaBottom" fmla="*/ 105336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Text Box 35"/>
          <p:cNvSpPr/>
          <p:nvPr/>
        </p:nvSpPr>
        <p:spPr>
          <a:xfrm>
            <a:off x="118800" y="151560"/>
            <a:ext cx="88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 Capacitor Circu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304200" y="464724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uring the fourth quarter-cycl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7"/>
          <p:cNvSpPr/>
          <p:nvPr/>
        </p:nvSpPr>
        <p:spPr>
          <a:xfrm>
            <a:off x="4335480" y="464724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capacitor returns its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367200" y="51804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1752480" y="5161320"/>
            <a:ext cx="71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the current has changed direc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0"/>
          <p:cNvSpPr/>
          <p:nvPr/>
        </p:nvSpPr>
        <p:spPr>
          <a:xfrm>
            <a:off x="335520" y="5675760"/>
            <a:ext cx="74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lso notice that the current  is now increasing while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rc 41"/>
          <p:cNvSpPr/>
          <p:nvPr/>
        </p:nvSpPr>
        <p:spPr>
          <a:xfrm flipV="1">
            <a:off x="7116840" y="2590920"/>
            <a:ext cx="874800" cy="1054080"/>
          </a:xfrm>
          <a:custGeom>
            <a:avLst/>
            <a:gdLst>
              <a:gd name="textAreaLeft" fmla="*/ 0 w 874800"/>
              <a:gd name="textAreaRight" fmla="*/ 875160 w 874800"/>
              <a:gd name="textAreaTop" fmla="*/ 360 h 1054080"/>
              <a:gd name="textAreaBottom" fmla="*/ 1054800 h 1054080"/>
            </a:gdLst>
            <a:ahLst/>
            <a:rect l="textAreaLeft" t="textAreaTop" r="textAreaRight" b="textAreaBottom"/>
            <a:pathLst>
              <a:path fill="none" w="22675" h="21600">
                <a:moveTo>
                  <a:pt x="0" y="33"/>
                </a:moveTo>
                <a:cubicBezTo>
                  <a:pt x="398" y="11"/>
                  <a:pt x="797" y="-1"/>
                  <a:pt x="1196" y="0"/>
                </a:cubicBezTo>
                <a:cubicBezTo>
                  <a:pt x="12241" y="0"/>
                  <a:pt x="21508" y="8333"/>
                  <a:pt x="22675" y="19317"/>
                </a:cubicBezTo>
              </a:path>
              <a:path stroke="0" w="22675" h="21600">
                <a:moveTo>
                  <a:pt x="0" y="33"/>
                </a:moveTo>
                <a:cubicBezTo>
                  <a:pt x="398" y="11"/>
                  <a:pt x="797" y="-1"/>
                  <a:pt x="1196" y="0"/>
                </a:cubicBezTo>
                <a:cubicBezTo>
                  <a:pt x="12241" y="0"/>
                  <a:pt x="21508" y="8333"/>
                  <a:pt x="22675" y="19317"/>
                </a:cubicBezTo>
                <a:lnTo>
                  <a:pt x="1196" y="21600"/>
                </a:lnTo>
                <a:close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rc 44"/>
          <p:cNvSpPr/>
          <p:nvPr/>
        </p:nvSpPr>
        <p:spPr>
          <a:xfrm flipH="1">
            <a:off x="7156440" y="1752480"/>
            <a:ext cx="920880" cy="1052640"/>
          </a:xfrm>
          <a:custGeom>
            <a:avLst/>
            <a:gdLst>
              <a:gd name="textAreaLeft" fmla="*/ 360 w 920880"/>
              <a:gd name="textAreaRight" fmla="*/ 921600 w 92088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fill="none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</a:path>
              <a:path stroke="0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  <a:lnTo>
                  <a:pt x="231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342000" y="61711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oltage is decreas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9"/>
          <p:cNvSpPr/>
          <p:nvPr/>
        </p:nvSpPr>
        <p:spPr>
          <a:xfrm>
            <a:off x="2799720" y="913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urth quarter-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43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B7033935-2EA1-4AE6-9286-1AC48F34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984320" y="15156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apacitor-Action Quiz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607680" y="1035360"/>
            <a:ext cx="519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filter capacitor changes pulsating 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o ____ d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607680" y="210204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fter one time constant a capaci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____ % charg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607320" y="316872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apacitor is essentially charg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fter ____ time consta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606960" y="42357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an ac circuit, a capacitor returns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the source ____ each cy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607320" y="5302440"/>
            <a:ext cx="60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an ac source, the capacitor voltage 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ile the capacitor current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0"/>
          <p:cNvSpPr/>
          <p:nvPr/>
        </p:nvSpPr>
        <p:spPr>
          <a:xfrm>
            <a:off x="7185240" y="103536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luctua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1"/>
          <p:cNvSpPr/>
          <p:nvPr/>
        </p:nvSpPr>
        <p:spPr>
          <a:xfrm>
            <a:off x="7186680" y="2094120"/>
            <a:ext cx="71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3.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2"/>
          <p:cNvSpPr/>
          <p:nvPr/>
        </p:nvSpPr>
        <p:spPr>
          <a:xfrm>
            <a:off x="7185240" y="3152880"/>
            <a:ext cx="6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3"/>
          <p:cNvSpPr/>
          <p:nvPr/>
        </p:nvSpPr>
        <p:spPr>
          <a:xfrm>
            <a:off x="7185600" y="421164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w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7185600" y="53330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1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1F66807D-B85D-4238-9551-310CB93A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5"/>
          <p:cNvGrpSpPr/>
          <p:nvPr/>
        </p:nvGrpSpPr>
        <p:grpSpPr>
          <a:xfrm>
            <a:off x="496080" y="942120"/>
            <a:ext cx="7120800" cy="1083960"/>
            <a:chOff x="496080" y="942120"/>
            <a:chExt cx="7120800" cy="1083960"/>
          </a:xfrm>
        </p:grpSpPr>
        <p:sp>
          <p:nvSpPr>
            <p:cNvPr id="786" name="Text Box 6"/>
            <p:cNvSpPr/>
            <p:nvPr/>
          </p:nvSpPr>
          <p:spPr>
            <a:xfrm>
              <a:off x="496080" y="942120"/>
              <a:ext cx="71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filter capacitor can smooth out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"/>
            <p:cNvSpPr/>
            <p:nvPr/>
          </p:nvSpPr>
          <p:spPr>
            <a:xfrm>
              <a:off x="952920" y="1383480"/>
              <a:ext cx="494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ulsating direct current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Group 8"/>
          <p:cNvGrpSpPr/>
          <p:nvPr/>
        </p:nvGrpSpPr>
        <p:grpSpPr>
          <a:xfrm>
            <a:off x="471600" y="2129760"/>
            <a:ext cx="7869240" cy="1115280"/>
            <a:chOff x="471600" y="2129760"/>
            <a:chExt cx="7869240" cy="1115280"/>
          </a:xfrm>
        </p:grpSpPr>
        <p:sp>
          <p:nvSpPr>
            <p:cNvPr id="789" name="Text Box 9"/>
            <p:cNvSpPr/>
            <p:nvPr/>
          </p:nvSpPr>
          <p:spPr>
            <a:xfrm>
              <a:off x="471600" y="2129760"/>
              <a:ext cx="786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fter five time constants, a capacitor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10"/>
            <p:cNvSpPr/>
            <p:nvPr/>
          </p:nvSpPr>
          <p:spPr>
            <a:xfrm>
              <a:off x="950400" y="2602440"/>
              <a:ext cx="72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s essentially charged or discharged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Group 11"/>
          <p:cNvGrpSpPr/>
          <p:nvPr/>
        </p:nvGrpSpPr>
        <p:grpSpPr>
          <a:xfrm>
            <a:off x="471240" y="3228120"/>
            <a:ext cx="8047440" cy="1116000"/>
            <a:chOff x="471240" y="3228120"/>
            <a:chExt cx="8047440" cy="1116000"/>
          </a:xfrm>
        </p:grpSpPr>
        <p:sp>
          <p:nvSpPr>
            <p:cNvPr id="792" name="Text Box 12"/>
            <p:cNvSpPr/>
            <p:nvPr/>
          </p:nvSpPr>
          <p:spPr>
            <a:xfrm>
              <a:off x="471240" y="3228120"/>
              <a:ext cx="804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s a capacitor charges, it takes energ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13"/>
            <p:cNvSpPr/>
            <p:nvPr/>
          </p:nvSpPr>
          <p:spPr>
            <a:xfrm>
              <a:off x="927000" y="3701520"/>
              <a:ext cx="33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the sourc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14"/>
          <p:cNvGrpSpPr/>
          <p:nvPr/>
        </p:nvGrpSpPr>
        <p:grpSpPr>
          <a:xfrm>
            <a:off x="519840" y="4447440"/>
            <a:ext cx="7489800" cy="1115640"/>
            <a:chOff x="519840" y="4447440"/>
            <a:chExt cx="7489800" cy="1115640"/>
          </a:xfrm>
        </p:grpSpPr>
        <p:sp>
          <p:nvSpPr>
            <p:cNvPr id="795" name="Text Box 15"/>
            <p:cNvSpPr/>
            <p:nvPr/>
          </p:nvSpPr>
          <p:spPr>
            <a:xfrm>
              <a:off x="519840" y="4447440"/>
              <a:ext cx="74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s a capacitor discharges, it retur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16"/>
            <p:cNvSpPr/>
            <p:nvPr/>
          </p:nvSpPr>
          <p:spPr>
            <a:xfrm>
              <a:off x="824760" y="4920480"/>
              <a:ext cx="612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stored energy to the sourc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Slide Number Placeholder 16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EE910B80-A1A4-42DF-8263-6D271A20A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95360" y="1374840"/>
            <a:ext cx="81342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41880" y="1415880"/>
            <a:ext cx="78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r Stud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esentation is arranged in segments.  Each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preceded by a 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P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 and is followed by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.  When you reach a Concep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ide, you can return to the beginning of that segment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ing on the Repeat Segment button.  This will allow yo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view that segment again, if you want t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4094DB9A-D9BD-4E81-BF17-6FA1E3BC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1093680" y="212760"/>
            <a:ext cx="691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63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393480" y="14155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st series C drops the m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406800" y="232992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rgest parallel C draws the m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29480" y="3206520"/>
            <a:ext cx="815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inverse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Group 10"/>
          <p:cNvGrpSpPr/>
          <p:nvPr/>
        </p:nvGrpSpPr>
        <p:grpSpPr>
          <a:xfrm>
            <a:off x="396000" y="4127040"/>
            <a:ext cx="8134200" cy="1131480"/>
            <a:chOff x="396000" y="4127040"/>
            <a:chExt cx="8134200" cy="1131480"/>
          </a:xfrm>
        </p:grpSpPr>
        <p:sp>
          <p:nvSpPr>
            <p:cNvPr id="803" name="Text Box 6"/>
            <p:cNvSpPr/>
            <p:nvPr/>
          </p:nvSpPr>
          <p:spPr>
            <a:xfrm>
              <a:off x="396000" y="4127040"/>
              <a:ext cx="81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relaxation oscillator, the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7"/>
            <p:cNvSpPr/>
            <p:nvPr/>
          </p:nvSpPr>
          <p:spPr>
            <a:xfrm>
              <a:off x="840240" y="4615920"/>
              <a:ext cx="56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rges until the NE-2 fir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Slide Number Placeholder 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CD6500FA-AE71-453A-8D79-718E5A40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108"/>
          <p:cNvGrpSpPr/>
          <p:nvPr/>
        </p:nvGrpSpPr>
        <p:grpSpPr>
          <a:xfrm>
            <a:off x="1227600" y="1523520"/>
            <a:ext cx="2499480" cy="2972160"/>
            <a:chOff x="1227600" y="1523520"/>
            <a:chExt cx="2499480" cy="2972160"/>
          </a:xfrm>
        </p:grpSpPr>
        <p:sp>
          <p:nvSpPr>
            <p:cNvPr id="807" name="Line 12"/>
            <p:cNvSpPr/>
            <p:nvPr/>
          </p:nvSpPr>
          <p:spPr>
            <a:xfrm>
              <a:off x="1228680" y="15238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8" name="AutoShape 14"/>
            <p:cNvCxnSpPr/>
            <p:nvPr/>
          </p:nvCxnSpPr>
          <p:spPr>
            <a:xfrm>
              <a:off x="1228320" y="1523520"/>
              <a:ext cx="195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809" name="Group 70"/>
            <p:cNvGrpSpPr/>
            <p:nvPr/>
          </p:nvGrpSpPr>
          <p:grpSpPr>
            <a:xfrm>
              <a:off x="2646720" y="1523880"/>
              <a:ext cx="1080360" cy="1680120"/>
              <a:chOff x="2646720" y="1523880"/>
              <a:chExt cx="1080360" cy="1680120"/>
            </a:xfrm>
          </p:grpSpPr>
          <p:sp>
            <p:nvSpPr>
              <p:cNvPr id="810" name="Arc 57"/>
              <p:cNvSpPr/>
              <p:nvPr/>
            </p:nvSpPr>
            <p:spPr>
              <a:xfrm rot="18301200">
                <a:off x="2846880" y="226224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58"/>
              <p:cNvSpPr/>
              <p:nvPr/>
            </p:nvSpPr>
            <p:spPr>
              <a:xfrm>
                <a:off x="2744640" y="221436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59"/>
              <p:cNvSpPr/>
              <p:nvPr/>
            </p:nvSpPr>
            <p:spPr>
              <a:xfrm>
                <a:off x="3186000" y="24382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66"/>
              <p:cNvSpPr/>
              <p:nvPr/>
            </p:nvSpPr>
            <p:spPr>
              <a:xfrm>
                <a:off x="3186000" y="15238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71"/>
            <p:cNvGrpSpPr/>
            <p:nvPr/>
          </p:nvGrpSpPr>
          <p:grpSpPr>
            <a:xfrm>
              <a:off x="2646720" y="2743200"/>
              <a:ext cx="1080360" cy="1680120"/>
              <a:chOff x="2646720" y="2743200"/>
              <a:chExt cx="1080360" cy="1680120"/>
            </a:xfrm>
          </p:grpSpPr>
          <p:sp>
            <p:nvSpPr>
              <p:cNvPr id="815" name="Arc 72"/>
              <p:cNvSpPr/>
              <p:nvPr/>
            </p:nvSpPr>
            <p:spPr>
              <a:xfrm rot="18301200">
                <a:off x="2846880" y="348156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73"/>
              <p:cNvSpPr/>
              <p:nvPr/>
            </p:nvSpPr>
            <p:spPr>
              <a:xfrm>
                <a:off x="2744640" y="343368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74"/>
              <p:cNvSpPr/>
              <p:nvPr/>
            </p:nvSpPr>
            <p:spPr>
              <a:xfrm>
                <a:off x="3186000" y="36576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75"/>
              <p:cNvSpPr/>
              <p:nvPr/>
            </p:nvSpPr>
            <p:spPr>
              <a:xfrm>
                <a:off x="3186000" y="27432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19" name="AutoShape 76"/>
            <p:cNvCxnSpPr/>
            <p:nvPr/>
          </p:nvCxnSpPr>
          <p:spPr>
            <a:xfrm flipH="1" rot="16200000">
              <a:off x="1932480" y="3028680"/>
              <a:ext cx="548280" cy="1958040"/>
            </a:xfrm>
            <a:prstGeom prst="bentConnector3">
              <a:avLst>
                <a:gd name="adj1" fmla="val 139093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820" name="Group 109"/>
          <p:cNvGrpSpPr/>
          <p:nvPr/>
        </p:nvGrpSpPr>
        <p:grpSpPr>
          <a:xfrm>
            <a:off x="5610240" y="1523520"/>
            <a:ext cx="2383920" cy="2899800"/>
            <a:chOff x="5610240" y="1523520"/>
            <a:chExt cx="2383920" cy="2899800"/>
          </a:xfrm>
        </p:grpSpPr>
        <p:grpSp>
          <p:nvGrpSpPr>
            <p:cNvPr id="821" name="Group 77"/>
            <p:cNvGrpSpPr/>
            <p:nvPr/>
          </p:nvGrpSpPr>
          <p:grpSpPr>
            <a:xfrm>
              <a:off x="6913800" y="1523880"/>
              <a:ext cx="1080360" cy="1680120"/>
              <a:chOff x="6913800" y="1523880"/>
              <a:chExt cx="1080360" cy="1680120"/>
            </a:xfrm>
          </p:grpSpPr>
          <p:sp>
            <p:nvSpPr>
              <p:cNvPr id="822" name="Arc 78"/>
              <p:cNvSpPr/>
              <p:nvPr/>
            </p:nvSpPr>
            <p:spPr>
              <a:xfrm rot="18301200">
                <a:off x="7113960" y="226224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79"/>
              <p:cNvSpPr/>
              <p:nvPr/>
            </p:nvSpPr>
            <p:spPr>
              <a:xfrm>
                <a:off x="7011720" y="221436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80"/>
              <p:cNvSpPr/>
              <p:nvPr/>
            </p:nvSpPr>
            <p:spPr>
              <a:xfrm>
                <a:off x="7453080" y="24382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81"/>
              <p:cNvSpPr/>
              <p:nvPr/>
            </p:nvSpPr>
            <p:spPr>
              <a:xfrm>
                <a:off x="7453080" y="15238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82"/>
            <p:cNvGrpSpPr/>
            <p:nvPr/>
          </p:nvGrpSpPr>
          <p:grpSpPr>
            <a:xfrm>
              <a:off x="6913800" y="2743200"/>
              <a:ext cx="1080360" cy="1680120"/>
              <a:chOff x="6913800" y="2743200"/>
              <a:chExt cx="1080360" cy="1680120"/>
            </a:xfrm>
          </p:grpSpPr>
          <p:sp>
            <p:nvSpPr>
              <p:cNvPr id="827" name="Arc 83"/>
              <p:cNvSpPr/>
              <p:nvPr/>
            </p:nvSpPr>
            <p:spPr>
              <a:xfrm rot="18301200">
                <a:off x="7113960" y="348156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84"/>
              <p:cNvSpPr/>
              <p:nvPr/>
            </p:nvSpPr>
            <p:spPr>
              <a:xfrm>
                <a:off x="7011720" y="343368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Line 85"/>
              <p:cNvSpPr/>
              <p:nvPr/>
            </p:nvSpPr>
            <p:spPr>
              <a:xfrm>
                <a:off x="7453080" y="36576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86"/>
              <p:cNvSpPr/>
              <p:nvPr/>
            </p:nvSpPr>
            <p:spPr>
              <a:xfrm>
                <a:off x="7453080" y="27432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Line 91"/>
            <p:cNvSpPr/>
            <p:nvPr/>
          </p:nvSpPr>
          <p:spPr>
            <a:xfrm flipH="1">
              <a:off x="5610240" y="15238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4"/>
            <p:cNvSpPr/>
            <p:nvPr/>
          </p:nvSpPr>
          <p:spPr>
            <a:xfrm flipV="1">
              <a:off x="5610240" y="15235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95"/>
            <p:cNvSpPr/>
            <p:nvPr/>
          </p:nvSpPr>
          <p:spPr>
            <a:xfrm flipH="1">
              <a:off x="5610240" y="4343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96"/>
            <p:cNvSpPr/>
            <p:nvPr/>
          </p:nvSpPr>
          <p:spPr>
            <a:xfrm>
              <a:off x="5610240" y="36576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Text Box 99"/>
          <p:cNvSpPr/>
          <p:nvPr/>
        </p:nvSpPr>
        <p:spPr>
          <a:xfrm>
            <a:off x="426240" y="-17280"/>
            <a:ext cx="82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Voltage Distribution In Series Capaci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s 265 and 273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06"/>
          <p:cNvGrpSpPr/>
          <p:nvPr/>
        </p:nvGrpSpPr>
        <p:grpSpPr>
          <a:xfrm>
            <a:off x="299160" y="1782000"/>
            <a:ext cx="1560960" cy="1425960"/>
            <a:chOff x="299160" y="1782000"/>
            <a:chExt cx="1560960" cy="1425960"/>
          </a:xfrm>
        </p:grpSpPr>
        <p:grpSp>
          <p:nvGrpSpPr>
            <p:cNvPr id="837" name="Group 15"/>
            <p:cNvGrpSpPr/>
            <p:nvPr/>
          </p:nvGrpSpPr>
          <p:grpSpPr>
            <a:xfrm>
              <a:off x="598680" y="2004840"/>
              <a:ext cx="1261440" cy="1203120"/>
              <a:chOff x="598680" y="2004840"/>
              <a:chExt cx="1261440" cy="1203120"/>
            </a:xfrm>
          </p:grpSpPr>
          <p:sp>
            <p:nvSpPr>
              <p:cNvPr id="838" name="Oval 16"/>
              <p:cNvSpPr/>
              <p:nvPr/>
            </p:nvSpPr>
            <p:spPr>
              <a:xfrm>
                <a:off x="598680" y="2004840"/>
                <a:ext cx="1261440" cy="1203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9" name="Group 17"/>
              <p:cNvGrpSpPr/>
              <p:nvPr/>
            </p:nvGrpSpPr>
            <p:grpSpPr>
              <a:xfrm>
                <a:off x="850320" y="2245680"/>
                <a:ext cx="757080" cy="721800"/>
                <a:chOff x="850320" y="2245680"/>
                <a:chExt cx="757080" cy="721800"/>
              </a:xfrm>
            </p:grpSpPr>
            <p:sp>
              <p:nvSpPr>
                <p:cNvPr id="840" name="Arc 18"/>
                <p:cNvSpPr/>
                <p:nvPr/>
              </p:nvSpPr>
              <p:spPr>
                <a:xfrm flipH="1">
                  <a:off x="84996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 flipH="1" flipV="1">
                  <a:off x="122940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2" name="Text Box 100"/>
            <p:cNvSpPr/>
            <p:nvPr/>
          </p:nvSpPr>
          <p:spPr>
            <a:xfrm>
              <a:off x="299160" y="178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60 </a:t>
              </a:r>
              <a:r>
                <a:rPr b="1" i="1" lang="en-US" sz="20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107"/>
          <p:cNvGrpSpPr/>
          <p:nvPr/>
        </p:nvGrpSpPr>
        <p:grpSpPr>
          <a:xfrm>
            <a:off x="4871160" y="1778760"/>
            <a:ext cx="1356120" cy="2031120"/>
            <a:chOff x="4871160" y="1778760"/>
            <a:chExt cx="1356120" cy="2031120"/>
          </a:xfrm>
        </p:grpSpPr>
        <p:grpSp>
          <p:nvGrpSpPr>
            <p:cNvPr id="844" name="Group 36"/>
            <p:cNvGrpSpPr/>
            <p:nvPr/>
          </p:nvGrpSpPr>
          <p:grpSpPr>
            <a:xfrm>
              <a:off x="4992480" y="1778760"/>
              <a:ext cx="1234800" cy="2031120"/>
              <a:chOff x="4992480" y="1778760"/>
              <a:chExt cx="1234800" cy="2031120"/>
            </a:xfrm>
          </p:grpSpPr>
          <p:sp>
            <p:nvSpPr>
              <p:cNvPr id="845" name="Line 37"/>
              <p:cNvSpPr/>
              <p:nvPr/>
            </p:nvSpPr>
            <p:spPr>
              <a:xfrm>
                <a:off x="5335200" y="3200760"/>
                <a:ext cx="54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38"/>
              <p:cNvSpPr/>
              <p:nvPr/>
            </p:nvSpPr>
            <p:spPr>
              <a:xfrm>
                <a:off x="4992480" y="3064680"/>
                <a:ext cx="123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39"/>
              <p:cNvSpPr/>
              <p:nvPr/>
            </p:nvSpPr>
            <p:spPr>
              <a:xfrm>
                <a:off x="5335200" y="2929680"/>
                <a:ext cx="54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40"/>
              <p:cNvSpPr/>
              <p:nvPr/>
            </p:nvSpPr>
            <p:spPr>
              <a:xfrm>
                <a:off x="4992480" y="2794320"/>
                <a:ext cx="123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41"/>
              <p:cNvSpPr/>
              <p:nvPr/>
            </p:nvSpPr>
            <p:spPr>
              <a:xfrm flipV="1">
                <a:off x="5609520" y="1778760"/>
                <a:ext cx="0" cy="10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42"/>
              <p:cNvSpPr/>
              <p:nvPr/>
            </p:nvSpPr>
            <p:spPr>
              <a:xfrm>
                <a:off x="5609520" y="320076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Text Box 101"/>
            <p:cNvSpPr/>
            <p:nvPr/>
          </p:nvSpPr>
          <p:spPr>
            <a:xfrm>
              <a:off x="4871160" y="24217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60 </a:t>
              </a:r>
              <a:r>
                <a:rPr b="1" i="1" lang="en-US" sz="20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Group 123"/>
          <p:cNvGrpSpPr/>
          <p:nvPr/>
        </p:nvGrpSpPr>
        <p:grpSpPr>
          <a:xfrm>
            <a:off x="3642480" y="1980000"/>
            <a:ext cx="679320" cy="1953360"/>
            <a:chOff x="3642480" y="1980000"/>
            <a:chExt cx="679320" cy="1953360"/>
          </a:xfrm>
        </p:grpSpPr>
        <p:grpSp>
          <p:nvGrpSpPr>
            <p:cNvPr id="853" name="Group 111"/>
            <p:cNvGrpSpPr/>
            <p:nvPr/>
          </p:nvGrpSpPr>
          <p:grpSpPr>
            <a:xfrm>
              <a:off x="3642480" y="1980000"/>
              <a:ext cx="679320" cy="734040"/>
              <a:chOff x="3642480" y="1980000"/>
              <a:chExt cx="679320" cy="734040"/>
            </a:xfrm>
          </p:grpSpPr>
          <p:sp>
            <p:nvSpPr>
              <p:cNvPr id="854" name="Text Box 102"/>
              <p:cNvSpPr/>
              <p:nvPr/>
            </p:nvSpPr>
            <p:spPr>
              <a:xfrm>
                <a:off x="3642480" y="198000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110"/>
              <p:cNvSpPr/>
              <p:nvPr/>
            </p:nvSpPr>
            <p:spPr>
              <a:xfrm>
                <a:off x="3651840" y="2315160"/>
                <a:ext cx="66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40 </a:t>
                </a:r>
                <a:r>
                  <a:rPr b="1" i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16"/>
            <p:cNvGrpSpPr/>
            <p:nvPr/>
          </p:nvGrpSpPr>
          <p:grpSpPr>
            <a:xfrm>
              <a:off x="3642480" y="3199320"/>
              <a:ext cx="679320" cy="734040"/>
              <a:chOff x="3642480" y="3199320"/>
              <a:chExt cx="679320" cy="734040"/>
            </a:xfrm>
          </p:grpSpPr>
          <p:sp>
            <p:nvSpPr>
              <p:cNvPr id="857" name="Text Box 117"/>
              <p:cNvSpPr/>
              <p:nvPr/>
            </p:nvSpPr>
            <p:spPr>
              <a:xfrm>
                <a:off x="3642480" y="319932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Text Box 118"/>
              <p:cNvSpPr/>
              <p:nvPr/>
            </p:nvSpPr>
            <p:spPr>
              <a:xfrm>
                <a:off x="3651840" y="3534480"/>
                <a:ext cx="66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20 </a:t>
                </a:r>
                <a:r>
                  <a:rPr b="1" i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Group 122"/>
          <p:cNvGrpSpPr/>
          <p:nvPr/>
        </p:nvGrpSpPr>
        <p:grpSpPr>
          <a:xfrm>
            <a:off x="7890480" y="2010240"/>
            <a:ext cx="755280" cy="1923120"/>
            <a:chOff x="7890480" y="2010240"/>
            <a:chExt cx="755280" cy="1923120"/>
          </a:xfrm>
        </p:grpSpPr>
        <p:grpSp>
          <p:nvGrpSpPr>
            <p:cNvPr id="860" name="Group 112"/>
            <p:cNvGrpSpPr/>
            <p:nvPr/>
          </p:nvGrpSpPr>
          <p:grpSpPr>
            <a:xfrm>
              <a:off x="7890480" y="2010240"/>
              <a:ext cx="679320" cy="734040"/>
              <a:chOff x="7890480" y="2010240"/>
              <a:chExt cx="679320" cy="734040"/>
            </a:xfrm>
          </p:grpSpPr>
          <p:sp>
            <p:nvSpPr>
              <p:cNvPr id="861" name="Text Box 113"/>
              <p:cNvSpPr/>
              <p:nvPr/>
            </p:nvSpPr>
            <p:spPr>
              <a:xfrm>
                <a:off x="7890480" y="201024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114"/>
              <p:cNvSpPr/>
              <p:nvPr/>
            </p:nvSpPr>
            <p:spPr>
              <a:xfrm>
                <a:off x="7899840" y="2345400"/>
                <a:ext cx="66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40 </a:t>
                </a:r>
                <a:r>
                  <a:rPr b="1" i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119"/>
            <p:cNvGrpSpPr/>
            <p:nvPr/>
          </p:nvGrpSpPr>
          <p:grpSpPr>
            <a:xfrm>
              <a:off x="7966440" y="3199320"/>
              <a:ext cx="679320" cy="734040"/>
              <a:chOff x="7966440" y="3199320"/>
              <a:chExt cx="679320" cy="734040"/>
            </a:xfrm>
          </p:grpSpPr>
          <p:sp>
            <p:nvSpPr>
              <p:cNvPr id="864" name="Text Box 120"/>
              <p:cNvSpPr/>
              <p:nvPr/>
            </p:nvSpPr>
            <p:spPr>
              <a:xfrm>
                <a:off x="7966440" y="319932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121"/>
              <p:cNvSpPr/>
              <p:nvPr/>
            </p:nvSpPr>
            <p:spPr>
              <a:xfrm>
                <a:off x="7975800" y="3534480"/>
                <a:ext cx="66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20 </a:t>
                </a:r>
                <a:r>
                  <a:rPr b="1" i="1" lang="en-US" sz="20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Text Box 124"/>
          <p:cNvSpPr/>
          <p:nvPr/>
        </p:nvSpPr>
        <p:spPr>
          <a:xfrm>
            <a:off x="610200" y="4723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either a 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125"/>
          <p:cNvSpPr/>
          <p:nvPr/>
        </p:nvSpPr>
        <p:spPr>
          <a:xfrm>
            <a:off x="2468160" y="472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 an a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26"/>
          <p:cNvSpPr/>
          <p:nvPr/>
        </p:nvSpPr>
        <p:spPr>
          <a:xfrm>
            <a:off x="3614400" y="47232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ries circuit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27"/>
          <p:cNvSpPr/>
          <p:nvPr/>
        </p:nvSpPr>
        <p:spPr>
          <a:xfrm>
            <a:off x="5446440" y="47232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mallest capaci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28"/>
          <p:cNvSpPr/>
          <p:nvPr/>
        </p:nvSpPr>
        <p:spPr>
          <a:xfrm>
            <a:off x="609120" y="53330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velops the most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29"/>
          <p:cNvSpPr/>
          <p:nvPr/>
        </p:nvSpPr>
        <p:spPr>
          <a:xfrm>
            <a:off x="4184280" y="5333040"/>
            <a:ext cx="45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voltage distributes in inver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30"/>
          <p:cNvSpPr/>
          <p:nvPr/>
        </p:nvSpPr>
        <p:spPr>
          <a:xfrm>
            <a:off x="624600" y="59425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portion to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6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E2AF67F9-9C53-4899-831D-B08D6EAB4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77"/>
          <p:cNvGrpSpPr/>
          <p:nvPr/>
        </p:nvGrpSpPr>
        <p:grpSpPr>
          <a:xfrm>
            <a:off x="2971440" y="1143000"/>
            <a:ext cx="3727800" cy="1680120"/>
            <a:chOff x="2971440" y="1143000"/>
            <a:chExt cx="3727800" cy="1680120"/>
          </a:xfrm>
        </p:grpSpPr>
        <p:grpSp>
          <p:nvGrpSpPr>
            <p:cNvPr id="875" name="Group 17"/>
            <p:cNvGrpSpPr/>
            <p:nvPr/>
          </p:nvGrpSpPr>
          <p:grpSpPr>
            <a:xfrm>
              <a:off x="5618880" y="1143000"/>
              <a:ext cx="1080360" cy="1680120"/>
              <a:chOff x="5618880" y="1143000"/>
              <a:chExt cx="1080360" cy="1680120"/>
            </a:xfrm>
          </p:grpSpPr>
          <p:sp>
            <p:nvSpPr>
              <p:cNvPr id="876" name="Arc 18"/>
              <p:cNvSpPr/>
              <p:nvPr/>
            </p:nvSpPr>
            <p:spPr>
              <a:xfrm rot="18301200">
                <a:off x="5819040" y="188136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19"/>
              <p:cNvSpPr/>
              <p:nvPr/>
            </p:nvSpPr>
            <p:spPr>
              <a:xfrm>
                <a:off x="5716800" y="183348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0"/>
              <p:cNvSpPr/>
              <p:nvPr/>
            </p:nvSpPr>
            <p:spPr>
              <a:xfrm>
                <a:off x="6158160" y="20574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21"/>
              <p:cNvSpPr/>
              <p:nvPr/>
            </p:nvSpPr>
            <p:spPr>
              <a:xfrm>
                <a:off x="6158160" y="11430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22"/>
            <p:cNvGrpSpPr/>
            <p:nvPr/>
          </p:nvGrpSpPr>
          <p:grpSpPr>
            <a:xfrm>
              <a:off x="3818520" y="1143000"/>
              <a:ext cx="1080360" cy="1680120"/>
              <a:chOff x="3818520" y="1143000"/>
              <a:chExt cx="1080360" cy="1680120"/>
            </a:xfrm>
          </p:grpSpPr>
          <p:sp>
            <p:nvSpPr>
              <p:cNvPr id="881" name="Arc 23"/>
              <p:cNvSpPr/>
              <p:nvPr/>
            </p:nvSpPr>
            <p:spPr>
              <a:xfrm rot="18301200">
                <a:off x="4018680" y="1881360"/>
                <a:ext cx="679320" cy="8431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24"/>
              <p:cNvSpPr/>
              <p:nvPr/>
            </p:nvSpPr>
            <p:spPr>
              <a:xfrm>
                <a:off x="3916440" y="1833480"/>
                <a:ext cx="88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5"/>
              <p:cNvSpPr/>
              <p:nvPr/>
            </p:nvSpPr>
            <p:spPr>
              <a:xfrm>
                <a:off x="4357800" y="20574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26"/>
              <p:cNvSpPr/>
              <p:nvPr/>
            </p:nvSpPr>
            <p:spPr>
              <a:xfrm>
                <a:off x="4357800" y="11430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Line 27"/>
            <p:cNvSpPr/>
            <p:nvPr/>
          </p:nvSpPr>
          <p:spPr>
            <a:xfrm flipH="1">
              <a:off x="2971440" y="1143000"/>
              <a:ext cx="317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 flipH="1">
              <a:off x="2971800" y="27432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Text Box 31"/>
          <p:cNvSpPr/>
          <p:nvPr/>
        </p:nvSpPr>
        <p:spPr>
          <a:xfrm>
            <a:off x="192960" y="-17280"/>
            <a:ext cx="87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urrent Distribution In Parallel Capaci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7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63"/>
          <p:cNvSpPr/>
          <p:nvPr/>
        </p:nvSpPr>
        <p:spPr>
          <a:xfrm>
            <a:off x="2468160" y="5028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 an a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64"/>
          <p:cNvSpPr/>
          <p:nvPr/>
        </p:nvSpPr>
        <p:spPr>
          <a:xfrm>
            <a:off x="3502440" y="5009040"/>
            <a:ext cx="22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allel circuit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65"/>
          <p:cNvSpPr/>
          <p:nvPr/>
        </p:nvSpPr>
        <p:spPr>
          <a:xfrm>
            <a:off x="5693040" y="50281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he largest capaci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66"/>
          <p:cNvSpPr/>
          <p:nvPr/>
        </p:nvSpPr>
        <p:spPr>
          <a:xfrm>
            <a:off x="629280" y="563760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draws the most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7"/>
          <p:cNvSpPr/>
          <p:nvPr/>
        </p:nvSpPr>
        <p:spPr>
          <a:xfrm>
            <a:off x="3922560" y="563760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current distributes in dir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68"/>
          <p:cNvSpPr/>
          <p:nvPr/>
        </p:nvSpPr>
        <p:spPr>
          <a:xfrm>
            <a:off x="624600" y="62474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portion to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Group 86"/>
          <p:cNvGrpSpPr/>
          <p:nvPr/>
        </p:nvGrpSpPr>
        <p:grpSpPr>
          <a:xfrm>
            <a:off x="1670760" y="1142640"/>
            <a:ext cx="1926000" cy="1600560"/>
            <a:chOff x="1670760" y="1142640"/>
            <a:chExt cx="1926000" cy="1600560"/>
          </a:xfrm>
        </p:grpSpPr>
        <p:sp>
          <p:nvSpPr>
            <p:cNvPr id="895" name="Text Box 47"/>
            <p:cNvSpPr/>
            <p:nvPr/>
          </p:nvSpPr>
          <p:spPr>
            <a:xfrm>
              <a:off x="1670760" y="152316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60 </a:t>
              </a:r>
              <a:r>
                <a:rPr b="1" i="1" lang="en-US" sz="20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41"/>
            <p:cNvSpPr/>
            <p:nvPr/>
          </p:nvSpPr>
          <p:spPr>
            <a:xfrm>
              <a:off x="2705040" y="2133720"/>
              <a:ext cx="54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42"/>
            <p:cNvSpPr/>
            <p:nvPr/>
          </p:nvSpPr>
          <p:spPr>
            <a:xfrm>
              <a:off x="2361960" y="1996920"/>
              <a:ext cx="123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43"/>
            <p:cNvSpPr/>
            <p:nvPr/>
          </p:nvSpPr>
          <p:spPr>
            <a:xfrm>
              <a:off x="2705040" y="1862280"/>
              <a:ext cx="54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44"/>
            <p:cNvSpPr/>
            <p:nvPr/>
          </p:nvSpPr>
          <p:spPr>
            <a:xfrm>
              <a:off x="2361960" y="1727280"/>
              <a:ext cx="123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46"/>
            <p:cNvSpPr/>
            <p:nvPr/>
          </p:nvSpPr>
          <p:spPr>
            <a:xfrm>
              <a:off x="2979360" y="21337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71"/>
            <p:cNvSpPr/>
            <p:nvPr/>
          </p:nvSpPr>
          <p:spPr>
            <a:xfrm flipV="1">
              <a:off x="2971440" y="11426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5"/>
          <p:cNvGrpSpPr/>
          <p:nvPr/>
        </p:nvGrpSpPr>
        <p:grpSpPr>
          <a:xfrm>
            <a:off x="4752000" y="1599120"/>
            <a:ext cx="2503080" cy="764280"/>
            <a:chOff x="4752000" y="1599120"/>
            <a:chExt cx="2503080" cy="764280"/>
          </a:xfrm>
        </p:grpSpPr>
        <p:grpSp>
          <p:nvGrpSpPr>
            <p:cNvPr id="903" name="Group 79"/>
            <p:cNvGrpSpPr/>
            <p:nvPr/>
          </p:nvGrpSpPr>
          <p:grpSpPr>
            <a:xfrm>
              <a:off x="4752000" y="1599120"/>
              <a:ext cx="674280" cy="764280"/>
              <a:chOff x="4752000" y="1599120"/>
              <a:chExt cx="674280" cy="764280"/>
            </a:xfrm>
          </p:grpSpPr>
          <p:sp>
            <p:nvSpPr>
              <p:cNvPr id="904" name="Text Box 80"/>
              <p:cNvSpPr/>
              <p:nvPr/>
            </p:nvSpPr>
            <p:spPr>
              <a:xfrm>
                <a:off x="4752000" y="159912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Text Box 81"/>
              <p:cNvSpPr/>
              <p:nvPr/>
            </p:nvSpPr>
            <p:spPr>
              <a:xfrm>
                <a:off x="4781880" y="1903680"/>
                <a:ext cx="62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2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2"/>
            <p:cNvGrpSpPr/>
            <p:nvPr/>
          </p:nvGrpSpPr>
          <p:grpSpPr>
            <a:xfrm>
              <a:off x="6580800" y="1599120"/>
              <a:ext cx="674280" cy="764280"/>
              <a:chOff x="6580800" y="1599120"/>
              <a:chExt cx="674280" cy="764280"/>
            </a:xfrm>
          </p:grpSpPr>
          <p:sp>
            <p:nvSpPr>
              <p:cNvPr id="907" name="Text Box 83"/>
              <p:cNvSpPr/>
              <p:nvPr/>
            </p:nvSpPr>
            <p:spPr>
              <a:xfrm>
                <a:off x="6580800" y="159912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Text Box 84"/>
              <p:cNvSpPr/>
              <p:nvPr/>
            </p:nvSpPr>
            <p:spPr>
              <a:xfrm>
                <a:off x="6610680" y="1903680"/>
                <a:ext cx="62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4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100"/>
          <p:cNvGrpSpPr/>
          <p:nvPr/>
        </p:nvGrpSpPr>
        <p:grpSpPr>
          <a:xfrm>
            <a:off x="4169520" y="3580200"/>
            <a:ext cx="2686320" cy="764280"/>
            <a:chOff x="4169520" y="3580200"/>
            <a:chExt cx="2686320" cy="764280"/>
          </a:xfrm>
        </p:grpSpPr>
        <p:grpSp>
          <p:nvGrpSpPr>
            <p:cNvPr id="910" name="Group 101"/>
            <p:cNvGrpSpPr/>
            <p:nvPr/>
          </p:nvGrpSpPr>
          <p:grpSpPr>
            <a:xfrm>
              <a:off x="4169520" y="3580200"/>
              <a:ext cx="857520" cy="764280"/>
              <a:chOff x="4169520" y="3580200"/>
              <a:chExt cx="857520" cy="764280"/>
            </a:xfrm>
          </p:grpSpPr>
          <p:sp>
            <p:nvSpPr>
              <p:cNvPr id="911" name="Text Box 102"/>
              <p:cNvSpPr/>
              <p:nvPr/>
            </p:nvSpPr>
            <p:spPr>
              <a:xfrm>
                <a:off x="4253760" y="358020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103"/>
              <p:cNvSpPr/>
              <p:nvPr/>
            </p:nvSpPr>
            <p:spPr>
              <a:xfrm>
                <a:off x="4169520" y="388476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0.2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04"/>
            <p:cNvGrpSpPr/>
            <p:nvPr/>
          </p:nvGrpSpPr>
          <p:grpSpPr>
            <a:xfrm>
              <a:off x="5998320" y="3580200"/>
              <a:ext cx="857520" cy="764280"/>
              <a:chOff x="5998320" y="3580200"/>
              <a:chExt cx="857520" cy="764280"/>
            </a:xfrm>
          </p:grpSpPr>
          <p:sp>
            <p:nvSpPr>
              <p:cNvPr id="914" name="Text Box 105"/>
              <p:cNvSpPr/>
              <p:nvPr/>
            </p:nvSpPr>
            <p:spPr>
              <a:xfrm>
                <a:off x="6082560" y="3580200"/>
                <a:ext cx="67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Text Box 106"/>
              <p:cNvSpPr/>
              <p:nvPr/>
            </p:nvSpPr>
            <p:spPr>
              <a:xfrm>
                <a:off x="5998320" y="388476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0.4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111"/>
          <p:cNvGrpSpPr/>
          <p:nvPr/>
        </p:nvGrpSpPr>
        <p:grpSpPr>
          <a:xfrm>
            <a:off x="2361960" y="3124080"/>
            <a:ext cx="3726720" cy="1680120"/>
            <a:chOff x="2361960" y="3124080"/>
            <a:chExt cx="3726720" cy="1680120"/>
          </a:xfrm>
        </p:grpSpPr>
        <p:grpSp>
          <p:nvGrpSpPr>
            <p:cNvPr id="917" name="Group 87"/>
            <p:cNvGrpSpPr/>
            <p:nvPr/>
          </p:nvGrpSpPr>
          <p:grpSpPr>
            <a:xfrm>
              <a:off x="2361960" y="3124080"/>
              <a:ext cx="3726720" cy="1680120"/>
              <a:chOff x="2361960" y="3124080"/>
              <a:chExt cx="3726720" cy="1680120"/>
            </a:xfrm>
          </p:grpSpPr>
          <p:grpSp>
            <p:nvGrpSpPr>
              <p:cNvPr id="918" name="Group 88"/>
              <p:cNvGrpSpPr/>
              <p:nvPr/>
            </p:nvGrpSpPr>
            <p:grpSpPr>
              <a:xfrm>
                <a:off x="5008680" y="3124080"/>
                <a:ext cx="1080000" cy="1680120"/>
                <a:chOff x="5008680" y="3124080"/>
                <a:chExt cx="1080000" cy="1680120"/>
              </a:xfrm>
            </p:grpSpPr>
            <p:sp>
              <p:nvSpPr>
                <p:cNvPr id="919" name="Arc 89"/>
                <p:cNvSpPr/>
                <p:nvPr/>
              </p:nvSpPr>
              <p:spPr>
                <a:xfrm rot="18301200">
                  <a:off x="5208840" y="3862800"/>
                  <a:ext cx="679320" cy="842760"/>
                </a:xfrm>
                <a:custGeom>
                  <a:avLst/>
                  <a:gdLst>
                    <a:gd name="textAreaLeft" fmla="*/ 0 w 679320"/>
                    <a:gd name="textAreaRight" fmla="*/ 679680 w 679320"/>
                    <a:gd name="textAreaTop" fmla="*/ 0 h 842760"/>
                    <a:gd name="textAreaBottom" fmla="*/ 843120 h 842760"/>
                  </a:gdLst>
                  <a:ahLst/>
                  <a:rect l="textAreaLeft" t="textAreaTop" r="textAreaRight" b="textAreaBottom"/>
                  <a:pathLst>
                    <a:path fill="none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</a:path>
                    <a:path stroke="0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  <a:lnTo>
                        <a:pt x="0" y="2054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Line 90"/>
                <p:cNvSpPr/>
                <p:nvPr/>
              </p:nvSpPr>
              <p:spPr>
                <a:xfrm>
                  <a:off x="5106960" y="3814560"/>
                  <a:ext cx="883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Line 91"/>
                <p:cNvSpPr/>
                <p:nvPr/>
              </p:nvSpPr>
              <p:spPr>
                <a:xfrm>
                  <a:off x="554796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Line 92"/>
                <p:cNvSpPr/>
                <p:nvPr/>
              </p:nvSpPr>
              <p:spPr>
                <a:xfrm>
                  <a:off x="5547960" y="31240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93"/>
              <p:cNvGrpSpPr/>
              <p:nvPr/>
            </p:nvGrpSpPr>
            <p:grpSpPr>
              <a:xfrm>
                <a:off x="3208320" y="3124080"/>
                <a:ext cx="1080000" cy="1680120"/>
                <a:chOff x="3208320" y="3124080"/>
                <a:chExt cx="1080000" cy="1680120"/>
              </a:xfrm>
            </p:grpSpPr>
            <p:sp>
              <p:nvSpPr>
                <p:cNvPr id="924" name="Arc 94"/>
                <p:cNvSpPr/>
                <p:nvPr/>
              </p:nvSpPr>
              <p:spPr>
                <a:xfrm rot="18301200">
                  <a:off x="3408480" y="3862800"/>
                  <a:ext cx="679320" cy="842760"/>
                </a:xfrm>
                <a:custGeom>
                  <a:avLst/>
                  <a:gdLst>
                    <a:gd name="textAreaLeft" fmla="*/ 0 w 679320"/>
                    <a:gd name="textAreaRight" fmla="*/ 679680 w 679320"/>
                    <a:gd name="textAreaTop" fmla="*/ 0 h 842760"/>
                    <a:gd name="textAreaBottom" fmla="*/ 843120 h 842760"/>
                  </a:gdLst>
                  <a:ahLst/>
                  <a:rect l="textAreaLeft" t="textAreaTop" r="textAreaRight" b="textAreaBottom"/>
                  <a:pathLst>
                    <a:path fill="none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</a:path>
                    <a:path stroke="0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  <a:lnTo>
                        <a:pt x="0" y="2054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Line 95"/>
                <p:cNvSpPr/>
                <p:nvPr/>
              </p:nvSpPr>
              <p:spPr>
                <a:xfrm>
                  <a:off x="3306600" y="3814560"/>
                  <a:ext cx="883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Line 96"/>
                <p:cNvSpPr/>
                <p:nvPr/>
              </p:nvSpPr>
              <p:spPr>
                <a:xfrm>
                  <a:off x="374760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Line 97"/>
                <p:cNvSpPr/>
                <p:nvPr/>
              </p:nvSpPr>
              <p:spPr>
                <a:xfrm>
                  <a:off x="3747600" y="31240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Line 98"/>
              <p:cNvSpPr/>
              <p:nvPr/>
            </p:nvSpPr>
            <p:spPr>
              <a:xfrm flipH="1">
                <a:off x="2362320" y="3124080"/>
                <a:ext cx="31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99"/>
              <p:cNvSpPr/>
              <p:nvPr/>
            </p:nvSpPr>
            <p:spPr>
              <a:xfrm flipH="1">
                <a:off x="2361960" y="4724280"/>
                <a:ext cx="320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Line 108"/>
            <p:cNvSpPr/>
            <p:nvPr/>
          </p:nvSpPr>
          <p:spPr>
            <a:xfrm>
              <a:off x="2362320" y="31240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32"/>
          <p:cNvGrpSpPr/>
          <p:nvPr/>
        </p:nvGrpSpPr>
        <p:grpSpPr>
          <a:xfrm>
            <a:off x="1410480" y="3069360"/>
            <a:ext cx="1560960" cy="1425960"/>
            <a:chOff x="1410480" y="3069360"/>
            <a:chExt cx="1560960" cy="1425960"/>
          </a:xfrm>
        </p:grpSpPr>
        <p:grpSp>
          <p:nvGrpSpPr>
            <p:cNvPr id="932" name="Group 33"/>
            <p:cNvGrpSpPr/>
            <p:nvPr/>
          </p:nvGrpSpPr>
          <p:grpSpPr>
            <a:xfrm>
              <a:off x="1710000" y="3292200"/>
              <a:ext cx="1261440" cy="1203120"/>
              <a:chOff x="1710000" y="3292200"/>
              <a:chExt cx="1261440" cy="1203120"/>
            </a:xfrm>
          </p:grpSpPr>
          <p:sp>
            <p:nvSpPr>
              <p:cNvPr id="933" name="Oval 34"/>
              <p:cNvSpPr/>
              <p:nvPr/>
            </p:nvSpPr>
            <p:spPr>
              <a:xfrm>
                <a:off x="1710000" y="3292200"/>
                <a:ext cx="1261440" cy="1203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Group 35"/>
              <p:cNvGrpSpPr/>
              <p:nvPr/>
            </p:nvGrpSpPr>
            <p:grpSpPr>
              <a:xfrm>
                <a:off x="1961640" y="3533040"/>
                <a:ext cx="757080" cy="721800"/>
                <a:chOff x="1961640" y="3533040"/>
                <a:chExt cx="757080" cy="721800"/>
              </a:xfrm>
            </p:grpSpPr>
            <p:sp>
              <p:nvSpPr>
                <p:cNvPr id="935" name="Arc 36"/>
                <p:cNvSpPr/>
                <p:nvPr/>
              </p:nvSpPr>
              <p:spPr>
                <a:xfrm flipH="1">
                  <a:off x="1961280" y="35330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Arc 37"/>
                <p:cNvSpPr/>
                <p:nvPr/>
              </p:nvSpPr>
              <p:spPr>
                <a:xfrm flipH="1" flipV="1">
                  <a:off x="2340720" y="385020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Text Box 38"/>
            <p:cNvSpPr/>
            <p:nvPr/>
          </p:nvSpPr>
          <p:spPr>
            <a:xfrm>
              <a:off x="1410480" y="306936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60 </a:t>
              </a:r>
              <a:r>
                <a:rPr b="1" i="1" lang="en-US" sz="20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Text Box 110"/>
          <p:cNvSpPr/>
          <p:nvPr/>
        </p:nvSpPr>
        <p:spPr>
          <a:xfrm>
            <a:off x="667080" y="50281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In either a 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12"/>
          <p:cNvSpPr/>
          <p:nvPr/>
        </p:nvSpPr>
        <p:spPr>
          <a:xfrm>
            <a:off x="3544560" y="22086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ak charging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Slide Number Placeholder 67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3B75022A-8F3D-4944-98D3-1BDB4218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36"/>
          <p:cNvGrpSpPr/>
          <p:nvPr/>
        </p:nvGrpSpPr>
        <p:grpSpPr>
          <a:xfrm>
            <a:off x="4724280" y="609480"/>
            <a:ext cx="3047760" cy="1905120"/>
            <a:chOff x="4724280" y="609480"/>
            <a:chExt cx="3047760" cy="1905120"/>
          </a:xfrm>
        </p:grpSpPr>
        <p:grpSp>
          <p:nvGrpSpPr>
            <p:cNvPr id="942" name="Group 37"/>
            <p:cNvGrpSpPr/>
            <p:nvPr/>
          </p:nvGrpSpPr>
          <p:grpSpPr>
            <a:xfrm>
              <a:off x="4952880" y="1371240"/>
              <a:ext cx="1981080" cy="757080"/>
              <a:chOff x="4952880" y="1371240"/>
              <a:chExt cx="1981080" cy="757080"/>
            </a:xfrm>
          </p:grpSpPr>
          <p:sp>
            <p:nvSpPr>
              <p:cNvPr id="943" name="Rectangle 38"/>
              <p:cNvSpPr/>
              <p:nvPr/>
            </p:nvSpPr>
            <p:spPr>
              <a:xfrm>
                <a:off x="4952880" y="1439640"/>
                <a:ext cx="568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9"/>
              <p:cNvSpPr/>
              <p:nvPr/>
            </p:nvSpPr>
            <p:spPr>
              <a:xfrm>
                <a:off x="4952880" y="1784160"/>
                <a:ext cx="5688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40"/>
              <p:cNvSpPr/>
              <p:nvPr/>
            </p:nvSpPr>
            <p:spPr>
              <a:xfrm rot="16200000">
                <a:off x="5124960" y="126684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41"/>
              <p:cNvSpPr/>
              <p:nvPr/>
            </p:nvSpPr>
            <p:spPr>
              <a:xfrm>
                <a:off x="5295600" y="143964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42"/>
              <p:cNvSpPr/>
              <p:nvPr/>
            </p:nvSpPr>
            <p:spPr>
              <a:xfrm>
                <a:off x="5295600" y="178416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43"/>
              <p:cNvSpPr/>
              <p:nvPr/>
            </p:nvSpPr>
            <p:spPr>
              <a:xfrm rot="16200000">
                <a:off x="5124240" y="195624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44"/>
              <p:cNvSpPr/>
              <p:nvPr/>
            </p:nvSpPr>
            <p:spPr>
              <a:xfrm rot="16200000">
                <a:off x="5126040" y="161244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45"/>
              <p:cNvSpPr/>
              <p:nvPr/>
            </p:nvSpPr>
            <p:spPr>
              <a:xfrm>
                <a:off x="5360760" y="2023920"/>
                <a:ext cx="82440" cy="1044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6"/>
              <p:cNvSpPr/>
              <p:nvPr/>
            </p:nvSpPr>
            <p:spPr>
              <a:xfrm>
                <a:off x="547992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Rectangle 47"/>
              <p:cNvSpPr/>
              <p:nvPr/>
            </p:nvSpPr>
            <p:spPr>
              <a:xfrm>
                <a:off x="547992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48"/>
              <p:cNvSpPr/>
              <p:nvPr/>
            </p:nvSpPr>
            <p:spPr>
              <a:xfrm rot="16200000">
                <a:off x="5653800" y="1267200"/>
                <a:ext cx="536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49"/>
              <p:cNvSpPr/>
              <p:nvPr/>
            </p:nvSpPr>
            <p:spPr>
              <a:xfrm>
                <a:off x="5822640" y="1439640"/>
                <a:ext cx="558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50"/>
              <p:cNvSpPr/>
              <p:nvPr/>
            </p:nvSpPr>
            <p:spPr>
              <a:xfrm>
                <a:off x="5822640" y="1784160"/>
                <a:ext cx="558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51"/>
              <p:cNvSpPr/>
              <p:nvPr/>
            </p:nvSpPr>
            <p:spPr>
              <a:xfrm rot="16200000">
                <a:off x="5653080" y="1956600"/>
                <a:ext cx="550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52"/>
              <p:cNvSpPr/>
              <p:nvPr/>
            </p:nvSpPr>
            <p:spPr>
              <a:xfrm rot="16200000">
                <a:off x="5654520" y="1612440"/>
                <a:ext cx="518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Rectangle 53"/>
              <p:cNvSpPr/>
              <p:nvPr/>
            </p:nvSpPr>
            <p:spPr>
              <a:xfrm>
                <a:off x="600372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54"/>
              <p:cNvSpPr/>
              <p:nvPr/>
            </p:nvSpPr>
            <p:spPr>
              <a:xfrm>
                <a:off x="600372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55"/>
              <p:cNvSpPr/>
              <p:nvPr/>
            </p:nvSpPr>
            <p:spPr>
              <a:xfrm rot="16200000">
                <a:off x="6176160" y="1268640"/>
                <a:ext cx="536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56"/>
              <p:cNvSpPr/>
              <p:nvPr/>
            </p:nvSpPr>
            <p:spPr>
              <a:xfrm>
                <a:off x="6346440" y="1439640"/>
                <a:ext cx="590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7"/>
              <p:cNvSpPr/>
              <p:nvPr/>
            </p:nvSpPr>
            <p:spPr>
              <a:xfrm>
                <a:off x="6346440" y="1784160"/>
                <a:ext cx="590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58"/>
              <p:cNvSpPr/>
              <p:nvPr/>
            </p:nvSpPr>
            <p:spPr>
              <a:xfrm rot="16200000">
                <a:off x="6175440" y="1958040"/>
                <a:ext cx="5508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Rectangle 59"/>
              <p:cNvSpPr/>
              <p:nvPr/>
            </p:nvSpPr>
            <p:spPr>
              <a:xfrm rot="16200000">
                <a:off x="6176880" y="1613880"/>
                <a:ext cx="518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60"/>
              <p:cNvSpPr/>
              <p:nvPr/>
            </p:nvSpPr>
            <p:spPr>
              <a:xfrm>
                <a:off x="653220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61"/>
              <p:cNvSpPr/>
              <p:nvPr/>
            </p:nvSpPr>
            <p:spPr>
              <a:xfrm>
                <a:off x="653220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62"/>
              <p:cNvSpPr/>
              <p:nvPr/>
            </p:nvSpPr>
            <p:spPr>
              <a:xfrm rot="16200000">
                <a:off x="6704640" y="126684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63"/>
              <p:cNvSpPr/>
              <p:nvPr/>
            </p:nvSpPr>
            <p:spPr>
              <a:xfrm>
                <a:off x="6876720" y="143964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64"/>
              <p:cNvSpPr/>
              <p:nvPr/>
            </p:nvSpPr>
            <p:spPr>
              <a:xfrm>
                <a:off x="6876720" y="178416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65"/>
              <p:cNvSpPr/>
              <p:nvPr/>
            </p:nvSpPr>
            <p:spPr>
              <a:xfrm rot="16200000">
                <a:off x="6703920" y="195624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66"/>
              <p:cNvSpPr/>
              <p:nvPr/>
            </p:nvSpPr>
            <p:spPr>
              <a:xfrm rot="16200000">
                <a:off x="6705720" y="161244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67"/>
              <p:cNvSpPr/>
              <p:nvPr/>
            </p:nvSpPr>
            <p:spPr>
              <a:xfrm>
                <a:off x="5892480" y="2027160"/>
                <a:ext cx="8100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68"/>
              <p:cNvSpPr/>
              <p:nvPr/>
            </p:nvSpPr>
            <p:spPr>
              <a:xfrm>
                <a:off x="6402240" y="2027160"/>
                <a:ext cx="8244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69"/>
            <p:cNvGrpSpPr/>
            <p:nvPr/>
          </p:nvGrpSpPr>
          <p:grpSpPr>
            <a:xfrm>
              <a:off x="4724280" y="609480"/>
              <a:ext cx="3047760" cy="1905120"/>
              <a:chOff x="4724280" y="609480"/>
              <a:chExt cx="3047760" cy="1905120"/>
            </a:xfrm>
          </p:grpSpPr>
          <p:sp>
            <p:nvSpPr>
              <p:cNvPr id="975" name="Rectangle 70"/>
              <p:cNvSpPr/>
              <p:nvPr/>
            </p:nvSpPr>
            <p:spPr>
              <a:xfrm>
                <a:off x="4800600" y="1066680"/>
                <a:ext cx="2209680" cy="1371600"/>
              </a:xfrm>
              <a:prstGeom prst="rect">
                <a:avLst/>
              </a:prstGeom>
              <a:noFill/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Group 71"/>
              <p:cNvGrpSpPr/>
              <p:nvPr/>
            </p:nvGrpSpPr>
            <p:grpSpPr>
              <a:xfrm>
                <a:off x="4876920" y="1143000"/>
                <a:ext cx="2031840" cy="185760"/>
                <a:chOff x="4876920" y="1143000"/>
                <a:chExt cx="2031840" cy="185760"/>
              </a:xfrm>
            </p:grpSpPr>
            <p:sp>
              <p:nvSpPr>
                <p:cNvPr id="977" name="Rectangle 72"/>
                <p:cNvSpPr/>
                <p:nvPr/>
              </p:nvSpPr>
              <p:spPr>
                <a:xfrm>
                  <a:off x="665028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73"/>
                <p:cNvSpPr/>
                <p:nvPr/>
              </p:nvSpPr>
              <p:spPr>
                <a:xfrm>
                  <a:off x="6280200" y="1143000"/>
                  <a:ext cx="29700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74"/>
                <p:cNvSpPr/>
                <p:nvPr/>
              </p:nvSpPr>
              <p:spPr>
                <a:xfrm>
                  <a:off x="561528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cc0000"/>
                      </a:solidFill>
                      <a:latin typeface="Times New Roman"/>
                    </a:rPr>
                    <a:t>mA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75"/>
                <p:cNvSpPr/>
                <p:nvPr/>
              </p:nvSpPr>
              <p:spPr>
                <a:xfrm>
                  <a:off x="4876920" y="11430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mV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76"/>
                <p:cNvSpPr/>
                <p:nvPr/>
              </p:nvSpPr>
              <p:spPr>
                <a:xfrm>
                  <a:off x="522792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77"/>
                <p:cNvSpPr/>
                <p:nvPr/>
              </p:nvSpPr>
              <p:spPr>
                <a:xfrm>
                  <a:off x="5943600" y="11430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Group 78"/>
              <p:cNvGrpSpPr/>
              <p:nvPr/>
            </p:nvGrpSpPr>
            <p:grpSpPr>
              <a:xfrm>
                <a:off x="5943600" y="2057400"/>
                <a:ext cx="811440" cy="398880"/>
                <a:chOff x="5943600" y="2057400"/>
                <a:chExt cx="811440" cy="398880"/>
              </a:xfrm>
            </p:grpSpPr>
            <p:sp>
              <p:nvSpPr>
                <p:cNvPr id="984" name="Oval 79"/>
                <p:cNvSpPr/>
                <p:nvPr/>
              </p:nvSpPr>
              <p:spPr>
                <a:xfrm>
                  <a:off x="5943600" y="2246040"/>
                  <a:ext cx="109800" cy="109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0"/>
                <p:cNvSpPr/>
                <p:nvPr/>
              </p:nvSpPr>
              <p:spPr>
                <a:xfrm>
                  <a:off x="5970600" y="2274480"/>
                  <a:ext cx="54000" cy="5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Text Box 81"/>
                <p:cNvSpPr/>
                <p:nvPr/>
              </p:nvSpPr>
              <p:spPr>
                <a:xfrm>
                  <a:off x="6054480" y="2057400"/>
                  <a:ext cx="70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 A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Group 82"/>
              <p:cNvGrpSpPr/>
              <p:nvPr/>
            </p:nvGrpSpPr>
            <p:grpSpPr>
              <a:xfrm>
                <a:off x="4724280" y="609480"/>
                <a:ext cx="3047760" cy="1905120"/>
                <a:chOff x="4724280" y="609480"/>
                <a:chExt cx="3047760" cy="1905120"/>
              </a:xfrm>
            </p:grpSpPr>
            <p:sp>
              <p:nvSpPr>
                <p:cNvPr id="988" name="AutoShape 83"/>
                <p:cNvSpPr/>
                <p:nvPr/>
              </p:nvSpPr>
              <p:spPr>
                <a:xfrm>
                  <a:off x="4724280" y="609480"/>
                  <a:ext cx="3047760" cy="476280"/>
                </a:xfrm>
                <a:prstGeom prst="parallelogram">
                  <a:avLst>
                    <a:gd name="adj" fmla="val 159977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AutoShape 84"/>
                <p:cNvSpPr/>
                <p:nvPr/>
              </p:nvSpPr>
              <p:spPr>
                <a:xfrm flipV="1" rot="5400000">
                  <a:off x="6432120" y="1174680"/>
                  <a:ext cx="1905120" cy="774720"/>
                </a:xfrm>
                <a:prstGeom prst="parallelogram">
                  <a:avLst>
                    <a:gd name="adj" fmla="val 61478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85"/>
              <p:cNvGrpSpPr/>
              <p:nvPr/>
            </p:nvGrpSpPr>
            <p:grpSpPr>
              <a:xfrm>
                <a:off x="4923000" y="2101680"/>
                <a:ext cx="2011320" cy="337320"/>
                <a:chOff x="4923000" y="2101680"/>
                <a:chExt cx="2011320" cy="337320"/>
              </a:xfrm>
            </p:grpSpPr>
            <p:grpSp>
              <p:nvGrpSpPr>
                <p:cNvPr id="991" name="Group 86"/>
                <p:cNvGrpSpPr/>
                <p:nvPr/>
              </p:nvGrpSpPr>
              <p:grpSpPr>
                <a:xfrm>
                  <a:off x="5181840" y="2101680"/>
                  <a:ext cx="685800" cy="337320"/>
                  <a:chOff x="5181840" y="2101680"/>
                  <a:chExt cx="685800" cy="337320"/>
                </a:xfrm>
              </p:grpSpPr>
              <p:sp>
                <p:nvSpPr>
                  <p:cNvPr id="992" name="Oval 87"/>
                  <p:cNvSpPr/>
                  <p:nvPr/>
                </p:nvSpPr>
                <p:spPr>
                  <a:xfrm>
                    <a:off x="5745600" y="2239920"/>
                    <a:ext cx="1220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Oval 88"/>
                  <p:cNvSpPr/>
                  <p:nvPr/>
                </p:nvSpPr>
                <p:spPr>
                  <a:xfrm>
                    <a:off x="5775840" y="2266920"/>
                    <a:ext cx="61920" cy="56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Text Box 89"/>
                  <p:cNvSpPr/>
                  <p:nvPr/>
                </p:nvSpPr>
                <p:spPr>
                  <a:xfrm>
                    <a:off x="5181840" y="2101680"/>
                    <a:ext cx="60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5" name="Rectangle 90"/>
                <p:cNvSpPr/>
                <p:nvPr/>
              </p:nvSpPr>
              <p:spPr>
                <a:xfrm>
                  <a:off x="4923000" y="21762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 c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91"/>
                <p:cNvSpPr/>
                <p:nvPr/>
              </p:nvSpPr>
              <p:spPr>
                <a:xfrm>
                  <a:off x="6675480" y="21762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 c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7" name="Group 130"/>
          <p:cNvGrpSpPr/>
          <p:nvPr/>
        </p:nvGrpSpPr>
        <p:grpSpPr>
          <a:xfrm>
            <a:off x="4952880" y="1371600"/>
            <a:ext cx="1981080" cy="782640"/>
            <a:chOff x="4952880" y="1371600"/>
            <a:chExt cx="1981080" cy="782640"/>
          </a:xfrm>
        </p:grpSpPr>
        <p:sp>
          <p:nvSpPr>
            <p:cNvPr id="998" name="Rectangle 93"/>
            <p:cNvSpPr/>
            <p:nvPr/>
          </p:nvSpPr>
          <p:spPr>
            <a:xfrm>
              <a:off x="4952880" y="1440000"/>
              <a:ext cx="568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94"/>
            <p:cNvSpPr/>
            <p:nvPr/>
          </p:nvSpPr>
          <p:spPr>
            <a:xfrm>
              <a:off x="4952880" y="1784520"/>
              <a:ext cx="568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95"/>
            <p:cNvSpPr/>
            <p:nvPr/>
          </p:nvSpPr>
          <p:spPr>
            <a:xfrm rot="16200000">
              <a:off x="5124960" y="126756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96"/>
            <p:cNvSpPr/>
            <p:nvPr/>
          </p:nvSpPr>
          <p:spPr>
            <a:xfrm>
              <a:off x="5295600" y="144000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97"/>
            <p:cNvSpPr/>
            <p:nvPr/>
          </p:nvSpPr>
          <p:spPr>
            <a:xfrm>
              <a:off x="5295600" y="178452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98"/>
            <p:cNvSpPr/>
            <p:nvPr/>
          </p:nvSpPr>
          <p:spPr>
            <a:xfrm rot="16200000">
              <a:off x="5124240" y="195732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99"/>
            <p:cNvSpPr/>
            <p:nvPr/>
          </p:nvSpPr>
          <p:spPr>
            <a:xfrm rot="16200000">
              <a:off x="5125680" y="1612440"/>
              <a:ext cx="52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00"/>
            <p:cNvSpPr/>
            <p:nvPr/>
          </p:nvSpPr>
          <p:spPr>
            <a:xfrm>
              <a:off x="5360760" y="2024280"/>
              <a:ext cx="8244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01"/>
            <p:cNvSpPr/>
            <p:nvPr/>
          </p:nvSpPr>
          <p:spPr>
            <a:xfrm>
              <a:off x="5479920" y="14400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02"/>
            <p:cNvSpPr/>
            <p:nvPr/>
          </p:nvSpPr>
          <p:spPr>
            <a:xfrm>
              <a:off x="5479920" y="178452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03"/>
            <p:cNvSpPr/>
            <p:nvPr/>
          </p:nvSpPr>
          <p:spPr>
            <a:xfrm rot="16200000">
              <a:off x="5653440" y="126756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04"/>
            <p:cNvSpPr/>
            <p:nvPr/>
          </p:nvSpPr>
          <p:spPr>
            <a:xfrm>
              <a:off x="5822640" y="144000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05"/>
            <p:cNvSpPr/>
            <p:nvPr/>
          </p:nvSpPr>
          <p:spPr>
            <a:xfrm>
              <a:off x="5822640" y="178452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06"/>
            <p:cNvSpPr/>
            <p:nvPr/>
          </p:nvSpPr>
          <p:spPr>
            <a:xfrm rot="16200000">
              <a:off x="5652720" y="195732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07"/>
            <p:cNvSpPr/>
            <p:nvPr/>
          </p:nvSpPr>
          <p:spPr>
            <a:xfrm rot="16200000">
              <a:off x="5654520" y="1612800"/>
              <a:ext cx="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08"/>
            <p:cNvSpPr/>
            <p:nvPr/>
          </p:nvSpPr>
          <p:spPr>
            <a:xfrm>
              <a:off x="6003720" y="14400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09"/>
            <p:cNvSpPr/>
            <p:nvPr/>
          </p:nvSpPr>
          <p:spPr>
            <a:xfrm>
              <a:off x="6003720" y="178452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10"/>
            <p:cNvSpPr/>
            <p:nvPr/>
          </p:nvSpPr>
          <p:spPr>
            <a:xfrm rot="16200000">
              <a:off x="6175800" y="1269000"/>
              <a:ext cx="5400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11"/>
            <p:cNvSpPr/>
            <p:nvPr/>
          </p:nvSpPr>
          <p:spPr>
            <a:xfrm>
              <a:off x="6346440" y="1440000"/>
              <a:ext cx="586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12"/>
            <p:cNvSpPr/>
            <p:nvPr/>
          </p:nvSpPr>
          <p:spPr>
            <a:xfrm>
              <a:off x="6346440" y="1784520"/>
              <a:ext cx="586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13"/>
            <p:cNvSpPr/>
            <p:nvPr/>
          </p:nvSpPr>
          <p:spPr>
            <a:xfrm rot="16200000">
              <a:off x="6175080" y="1958760"/>
              <a:ext cx="5544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14"/>
            <p:cNvSpPr/>
            <p:nvPr/>
          </p:nvSpPr>
          <p:spPr>
            <a:xfrm rot="16200000">
              <a:off x="6176880" y="1614240"/>
              <a:ext cx="5220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15"/>
            <p:cNvSpPr/>
            <p:nvPr/>
          </p:nvSpPr>
          <p:spPr>
            <a:xfrm>
              <a:off x="6532200" y="14400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16"/>
            <p:cNvSpPr/>
            <p:nvPr/>
          </p:nvSpPr>
          <p:spPr>
            <a:xfrm>
              <a:off x="6532200" y="178452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17"/>
            <p:cNvSpPr/>
            <p:nvPr/>
          </p:nvSpPr>
          <p:spPr>
            <a:xfrm rot="16200000">
              <a:off x="6704280" y="126756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18"/>
            <p:cNvSpPr/>
            <p:nvPr/>
          </p:nvSpPr>
          <p:spPr>
            <a:xfrm>
              <a:off x="6876720" y="144000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19"/>
            <p:cNvSpPr/>
            <p:nvPr/>
          </p:nvSpPr>
          <p:spPr>
            <a:xfrm>
              <a:off x="6876720" y="178452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20"/>
            <p:cNvSpPr/>
            <p:nvPr/>
          </p:nvSpPr>
          <p:spPr>
            <a:xfrm rot="16200000">
              <a:off x="6703560" y="1957320"/>
              <a:ext cx="554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21"/>
            <p:cNvSpPr/>
            <p:nvPr/>
          </p:nvSpPr>
          <p:spPr>
            <a:xfrm rot="16200000">
              <a:off x="6705360" y="1612800"/>
              <a:ext cx="522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22"/>
            <p:cNvSpPr/>
            <p:nvPr/>
          </p:nvSpPr>
          <p:spPr>
            <a:xfrm>
              <a:off x="5892480" y="2027160"/>
              <a:ext cx="81000" cy="101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23"/>
            <p:cNvSpPr/>
            <p:nvPr/>
          </p:nvSpPr>
          <p:spPr>
            <a:xfrm>
              <a:off x="6395760" y="2052720"/>
              <a:ext cx="824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228"/>
          <p:cNvGrpSpPr/>
          <p:nvPr/>
        </p:nvGrpSpPr>
        <p:grpSpPr>
          <a:xfrm>
            <a:off x="1061280" y="990000"/>
            <a:ext cx="2757960" cy="1328040"/>
            <a:chOff x="1061280" y="990000"/>
            <a:chExt cx="2757960" cy="1328040"/>
          </a:xfrm>
        </p:grpSpPr>
        <p:sp>
          <p:nvSpPr>
            <p:cNvPr id="1030" name="Text Box 26"/>
            <p:cNvSpPr/>
            <p:nvPr/>
          </p:nvSpPr>
          <p:spPr>
            <a:xfrm>
              <a:off x="3195360" y="12326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Group 224"/>
            <p:cNvGrpSpPr/>
            <p:nvPr/>
          </p:nvGrpSpPr>
          <p:grpSpPr>
            <a:xfrm>
              <a:off x="1061280" y="990000"/>
              <a:ext cx="2178360" cy="1328040"/>
              <a:chOff x="1061280" y="990000"/>
              <a:chExt cx="2178360" cy="1328040"/>
            </a:xfrm>
          </p:grpSpPr>
          <p:sp>
            <p:nvSpPr>
              <p:cNvPr id="1032" name="Line 4"/>
              <p:cNvSpPr/>
              <p:nvPr/>
            </p:nvSpPr>
            <p:spPr>
              <a:xfrm>
                <a:off x="1994040" y="990720"/>
                <a:ext cx="0" cy="117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3" name="AutoShape 5"/>
              <p:cNvCxnSpPr/>
              <p:nvPr/>
            </p:nvCxnSpPr>
            <p:spPr>
              <a:xfrm>
                <a:off x="1993680" y="990360"/>
                <a:ext cx="97380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grpSp>
            <p:nvGrpSpPr>
              <p:cNvPr id="1034" name="Group 6"/>
              <p:cNvGrpSpPr/>
              <p:nvPr/>
            </p:nvGrpSpPr>
            <p:grpSpPr>
              <a:xfrm>
                <a:off x="2696040" y="990720"/>
                <a:ext cx="543600" cy="858960"/>
                <a:chOff x="2696040" y="990720"/>
                <a:chExt cx="543600" cy="858960"/>
              </a:xfrm>
            </p:grpSpPr>
            <p:sp>
              <p:nvSpPr>
                <p:cNvPr id="1035" name="Arc 7"/>
                <p:cNvSpPr/>
                <p:nvPr/>
              </p:nvSpPr>
              <p:spPr>
                <a:xfrm rot="18301200">
                  <a:off x="2793240" y="1376280"/>
                  <a:ext cx="348840" cy="419400"/>
                </a:xfrm>
                <a:custGeom>
                  <a:avLst/>
                  <a:gdLst>
                    <a:gd name="textAreaLeft" fmla="*/ 0 w 348840"/>
                    <a:gd name="textAreaRight" fmla="*/ 349200 w 34884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fill="none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</a:path>
                    <a:path stroke="0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  <a:lnTo>
                        <a:pt x="0" y="2054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Line 8"/>
                <p:cNvSpPr/>
                <p:nvPr/>
              </p:nvSpPr>
              <p:spPr>
                <a:xfrm>
                  <a:off x="2747880" y="1345320"/>
                  <a:ext cx="43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9"/>
                <p:cNvSpPr/>
                <p:nvPr/>
              </p:nvSpPr>
              <p:spPr>
                <a:xfrm>
                  <a:off x="2967480" y="1460520"/>
                  <a:ext cx="0" cy="352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10"/>
                <p:cNvSpPr/>
                <p:nvPr/>
              </p:nvSpPr>
              <p:spPr>
                <a:xfrm>
                  <a:off x="2967480" y="990720"/>
                  <a:ext cx="0" cy="352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Group 18"/>
              <p:cNvGrpSpPr/>
              <p:nvPr/>
            </p:nvGrpSpPr>
            <p:grpSpPr>
              <a:xfrm>
                <a:off x="1679400" y="1238400"/>
                <a:ext cx="628920" cy="617400"/>
                <a:chOff x="1679400" y="1238400"/>
                <a:chExt cx="628920" cy="617400"/>
              </a:xfrm>
            </p:grpSpPr>
            <p:sp>
              <p:nvSpPr>
                <p:cNvPr id="1040" name="Oval 19"/>
                <p:cNvSpPr/>
                <p:nvPr/>
              </p:nvSpPr>
              <p:spPr>
                <a:xfrm>
                  <a:off x="1679400" y="1238400"/>
                  <a:ext cx="628920" cy="617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1" name="Group 20"/>
                <p:cNvGrpSpPr/>
                <p:nvPr/>
              </p:nvGrpSpPr>
              <p:grpSpPr>
                <a:xfrm>
                  <a:off x="1804680" y="1361880"/>
                  <a:ext cx="377280" cy="369720"/>
                  <a:chOff x="1804680" y="1361880"/>
                  <a:chExt cx="377280" cy="369720"/>
                </a:xfrm>
              </p:grpSpPr>
              <p:sp>
                <p:nvSpPr>
                  <p:cNvPr id="1042" name="Arc 21"/>
                  <p:cNvSpPr/>
                  <p:nvPr/>
                </p:nvSpPr>
                <p:spPr>
                  <a:xfrm flipH="1">
                    <a:off x="1804320" y="136188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360"/>
                      <a:gd name="textAreaBottom" fmla="*/ 20772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Arc 22"/>
                  <p:cNvSpPr/>
                  <p:nvPr/>
                </p:nvSpPr>
                <p:spPr>
                  <a:xfrm flipH="1" flipV="1">
                    <a:off x="1993320" y="152424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360 h 207360"/>
                      <a:gd name="textAreaBottom" fmla="*/ 20808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44" name="Text Box 23"/>
              <p:cNvSpPr/>
              <p:nvPr/>
            </p:nvSpPr>
            <p:spPr>
              <a:xfrm>
                <a:off x="1290240" y="99000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00"/>
                    </a:solidFill>
                    <a:latin typeface="Times New Roman"/>
                  </a:rPr>
                  <a:t>40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Times New Roman"/>
                  </a:rPr>
                  <a:t>V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Text Box 34"/>
              <p:cNvSpPr/>
              <p:nvPr/>
            </p:nvSpPr>
            <p:spPr>
              <a:xfrm>
                <a:off x="1061280" y="176616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100 Hz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6" name="AutoShape 127"/>
              <p:cNvCxnSpPr/>
              <p:nvPr/>
            </p:nvCxnSpPr>
            <p:spPr>
              <a:xfrm rot="5400000">
                <a:off x="2304360" y="1440720"/>
                <a:ext cx="351360" cy="973800"/>
              </a:xfrm>
              <a:prstGeom prst="bentConnector3">
                <a:avLst>
                  <a:gd name="adj1" fmla="val 16123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047" name="Rectangle 129"/>
          <p:cNvSpPr/>
          <p:nvPr/>
        </p:nvSpPr>
        <p:spPr>
          <a:xfrm>
            <a:off x="2895480" y="1752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295"/>
          <p:cNvGrpSpPr/>
          <p:nvPr/>
        </p:nvGrpSpPr>
        <p:grpSpPr>
          <a:xfrm>
            <a:off x="1061280" y="2864880"/>
            <a:ext cx="2729520" cy="1328040"/>
            <a:chOff x="1061280" y="2864880"/>
            <a:chExt cx="2729520" cy="1328040"/>
          </a:xfrm>
        </p:grpSpPr>
        <p:sp>
          <p:nvSpPr>
            <p:cNvPr id="1049" name="Line 134"/>
            <p:cNvSpPr/>
            <p:nvPr/>
          </p:nvSpPr>
          <p:spPr>
            <a:xfrm>
              <a:off x="1994040" y="2865600"/>
              <a:ext cx="0" cy="11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0" name="AutoShape 135"/>
            <p:cNvCxnSpPr/>
            <p:nvPr/>
          </p:nvCxnSpPr>
          <p:spPr>
            <a:xfrm>
              <a:off x="1993680" y="2865240"/>
              <a:ext cx="973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051" name="Group 136"/>
            <p:cNvGrpSpPr/>
            <p:nvPr/>
          </p:nvGrpSpPr>
          <p:grpSpPr>
            <a:xfrm>
              <a:off x="2696040" y="2865600"/>
              <a:ext cx="543600" cy="858960"/>
              <a:chOff x="2696040" y="2865600"/>
              <a:chExt cx="543600" cy="858960"/>
            </a:xfrm>
          </p:grpSpPr>
          <p:sp>
            <p:nvSpPr>
              <p:cNvPr id="1052" name="Arc 137"/>
              <p:cNvSpPr/>
              <p:nvPr/>
            </p:nvSpPr>
            <p:spPr>
              <a:xfrm rot="18301200">
                <a:off x="2793240" y="3251160"/>
                <a:ext cx="348840" cy="4194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138"/>
              <p:cNvSpPr/>
              <p:nvPr/>
            </p:nvSpPr>
            <p:spPr>
              <a:xfrm>
                <a:off x="2747880" y="3220200"/>
                <a:ext cx="43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Line 139"/>
              <p:cNvSpPr/>
              <p:nvPr/>
            </p:nvSpPr>
            <p:spPr>
              <a:xfrm>
                <a:off x="2967480" y="333540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Line 140"/>
              <p:cNvSpPr/>
              <p:nvPr/>
            </p:nvSpPr>
            <p:spPr>
              <a:xfrm>
                <a:off x="2967480" y="286560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Group 141"/>
            <p:cNvGrpSpPr/>
            <p:nvPr/>
          </p:nvGrpSpPr>
          <p:grpSpPr>
            <a:xfrm>
              <a:off x="1679400" y="3112920"/>
              <a:ext cx="628920" cy="617760"/>
              <a:chOff x="1679400" y="3112920"/>
              <a:chExt cx="628920" cy="617760"/>
            </a:xfrm>
          </p:grpSpPr>
          <p:sp>
            <p:nvSpPr>
              <p:cNvPr id="1057" name="Oval 142"/>
              <p:cNvSpPr/>
              <p:nvPr/>
            </p:nvSpPr>
            <p:spPr>
              <a:xfrm>
                <a:off x="1679400" y="3112920"/>
                <a:ext cx="628920" cy="61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Group 143"/>
              <p:cNvGrpSpPr/>
              <p:nvPr/>
            </p:nvGrpSpPr>
            <p:grpSpPr>
              <a:xfrm>
                <a:off x="1804680" y="3236400"/>
                <a:ext cx="377280" cy="370080"/>
                <a:chOff x="1804680" y="3236400"/>
                <a:chExt cx="377280" cy="370080"/>
              </a:xfrm>
            </p:grpSpPr>
            <p:sp>
              <p:nvSpPr>
                <p:cNvPr id="1059" name="Arc 144"/>
                <p:cNvSpPr/>
                <p:nvPr/>
              </p:nvSpPr>
              <p:spPr>
                <a:xfrm flipH="1">
                  <a:off x="1804320" y="3236400"/>
                  <a:ext cx="188280" cy="207720"/>
                </a:xfrm>
                <a:custGeom>
                  <a:avLst/>
                  <a:gdLst>
                    <a:gd name="textAreaLeft" fmla="*/ -360 w 188280"/>
                    <a:gd name="textAreaRight" fmla="*/ 188280 w 1882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Arc 145"/>
                <p:cNvSpPr/>
                <p:nvPr/>
              </p:nvSpPr>
              <p:spPr>
                <a:xfrm flipH="1" flipV="1">
                  <a:off x="1993320" y="3398400"/>
                  <a:ext cx="188280" cy="207720"/>
                </a:xfrm>
                <a:custGeom>
                  <a:avLst/>
                  <a:gdLst>
                    <a:gd name="textAreaLeft" fmla="*/ -360 w 188280"/>
                    <a:gd name="textAreaRight" fmla="*/ 188280 w 188280"/>
                    <a:gd name="textAreaTop" fmla="*/ -360 h 207720"/>
                    <a:gd name="textAreaBottom" fmla="*/ 207720 h 20772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1" name="Text Box 146"/>
            <p:cNvSpPr/>
            <p:nvPr/>
          </p:nvSpPr>
          <p:spPr>
            <a:xfrm>
              <a:off x="1290240" y="28648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Times New Roman"/>
                </a:rPr>
                <a:t>40 </a:t>
              </a:r>
              <a:r>
                <a:rPr b="1" i="1" lang="en-US" sz="1800" spc="-1" strike="noStrike">
                  <a:solidFill>
                    <a:srgbClr val="006600"/>
                  </a:solidFill>
                  <a:latin typeface="Times New Roman"/>
                </a:rPr>
                <a:t>V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Text Box 147"/>
            <p:cNvSpPr/>
            <p:nvPr/>
          </p:nvSpPr>
          <p:spPr>
            <a:xfrm>
              <a:off x="3224520" y="310752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Text Box 148"/>
            <p:cNvSpPr/>
            <p:nvPr/>
          </p:nvSpPr>
          <p:spPr>
            <a:xfrm>
              <a:off x="1061280" y="364104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100 Hz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4" name="AutoShape 149"/>
            <p:cNvCxnSpPr/>
            <p:nvPr/>
          </p:nvCxnSpPr>
          <p:spPr>
            <a:xfrm rot="5400000">
              <a:off x="2304360" y="3315600"/>
              <a:ext cx="351360" cy="973800"/>
            </a:xfrm>
            <a:prstGeom prst="bentConnector3">
              <a:avLst>
                <a:gd name="adj1" fmla="val 16123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065" name="Rectangle 150"/>
          <p:cNvSpPr/>
          <p:nvPr/>
        </p:nvSpPr>
        <p:spPr>
          <a:xfrm>
            <a:off x="28954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183"/>
          <p:cNvGrpSpPr/>
          <p:nvPr/>
        </p:nvGrpSpPr>
        <p:grpSpPr>
          <a:xfrm>
            <a:off x="4952880" y="1371600"/>
            <a:ext cx="1981080" cy="782640"/>
            <a:chOff x="4952880" y="1371600"/>
            <a:chExt cx="1981080" cy="782640"/>
          </a:xfrm>
        </p:grpSpPr>
        <p:sp>
          <p:nvSpPr>
            <p:cNvPr id="1067" name="Rectangle 152"/>
            <p:cNvSpPr/>
            <p:nvPr/>
          </p:nvSpPr>
          <p:spPr>
            <a:xfrm>
              <a:off x="4952880" y="1440000"/>
              <a:ext cx="568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153"/>
            <p:cNvSpPr/>
            <p:nvPr/>
          </p:nvSpPr>
          <p:spPr>
            <a:xfrm>
              <a:off x="4952880" y="1784520"/>
              <a:ext cx="568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154"/>
            <p:cNvSpPr/>
            <p:nvPr/>
          </p:nvSpPr>
          <p:spPr>
            <a:xfrm rot="16200000">
              <a:off x="5124960" y="126756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155"/>
            <p:cNvSpPr/>
            <p:nvPr/>
          </p:nvSpPr>
          <p:spPr>
            <a:xfrm>
              <a:off x="5295600" y="144000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156"/>
            <p:cNvSpPr/>
            <p:nvPr/>
          </p:nvSpPr>
          <p:spPr>
            <a:xfrm>
              <a:off x="5295600" y="178452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157"/>
            <p:cNvSpPr/>
            <p:nvPr/>
          </p:nvSpPr>
          <p:spPr>
            <a:xfrm rot="16200000">
              <a:off x="5124240" y="195732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158"/>
            <p:cNvSpPr/>
            <p:nvPr/>
          </p:nvSpPr>
          <p:spPr>
            <a:xfrm rot="16200000">
              <a:off x="5125680" y="1612800"/>
              <a:ext cx="5256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59"/>
            <p:cNvSpPr/>
            <p:nvPr/>
          </p:nvSpPr>
          <p:spPr>
            <a:xfrm>
              <a:off x="5360760" y="2023920"/>
              <a:ext cx="8244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160"/>
            <p:cNvSpPr/>
            <p:nvPr/>
          </p:nvSpPr>
          <p:spPr>
            <a:xfrm>
              <a:off x="5479920" y="14400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161"/>
            <p:cNvSpPr/>
            <p:nvPr/>
          </p:nvSpPr>
          <p:spPr>
            <a:xfrm>
              <a:off x="5479920" y="178452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62"/>
            <p:cNvSpPr/>
            <p:nvPr/>
          </p:nvSpPr>
          <p:spPr>
            <a:xfrm rot="16200000">
              <a:off x="5653440" y="126756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163"/>
            <p:cNvSpPr/>
            <p:nvPr/>
          </p:nvSpPr>
          <p:spPr>
            <a:xfrm>
              <a:off x="5822640" y="1440000"/>
              <a:ext cx="558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164"/>
            <p:cNvSpPr/>
            <p:nvPr/>
          </p:nvSpPr>
          <p:spPr>
            <a:xfrm>
              <a:off x="5822640" y="1784520"/>
              <a:ext cx="558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165"/>
            <p:cNvSpPr/>
            <p:nvPr/>
          </p:nvSpPr>
          <p:spPr>
            <a:xfrm rot="16200000">
              <a:off x="5652720" y="195732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166"/>
            <p:cNvSpPr/>
            <p:nvPr/>
          </p:nvSpPr>
          <p:spPr>
            <a:xfrm rot="16200000">
              <a:off x="5654160" y="1612800"/>
              <a:ext cx="5256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167"/>
            <p:cNvSpPr/>
            <p:nvPr/>
          </p:nvSpPr>
          <p:spPr>
            <a:xfrm>
              <a:off x="6003720" y="14400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168"/>
            <p:cNvSpPr/>
            <p:nvPr/>
          </p:nvSpPr>
          <p:spPr>
            <a:xfrm>
              <a:off x="6003720" y="178452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169"/>
            <p:cNvSpPr/>
            <p:nvPr/>
          </p:nvSpPr>
          <p:spPr>
            <a:xfrm rot="16200000">
              <a:off x="6175800" y="1269000"/>
              <a:ext cx="540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170"/>
            <p:cNvSpPr/>
            <p:nvPr/>
          </p:nvSpPr>
          <p:spPr>
            <a:xfrm>
              <a:off x="6346440" y="1440000"/>
              <a:ext cx="590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171"/>
            <p:cNvSpPr/>
            <p:nvPr/>
          </p:nvSpPr>
          <p:spPr>
            <a:xfrm>
              <a:off x="6346440" y="1784520"/>
              <a:ext cx="590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172"/>
            <p:cNvSpPr/>
            <p:nvPr/>
          </p:nvSpPr>
          <p:spPr>
            <a:xfrm rot="16200000">
              <a:off x="6175080" y="1958760"/>
              <a:ext cx="554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173"/>
            <p:cNvSpPr/>
            <p:nvPr/>
          </p:nvSpPr>
          <p:spPr>
            <a:xfrm rot="16200000">
              <a:off x="6176520" y="1614240"/>
              <a:ext cx="525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174"/>
            <p:cNvSpPr/>
            <p:nvPr/>
          </p:nvSpPr>
          <p:spPr>
            <a:xfrm>
              <a:off x="6532200" y="14400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75"/>
            <p:cNvSpPr/>
            <p:nvPr/>
          </p:nvSpPr>
          <p:spPr>
            <a:xfrm>
              <a:off x="6532200" y="178452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176"/>
            <p:cNvSpPr/>
            <p:nvPr/>
          </p:nvSpPr>
          <p:spPr>
            <a:xfrm rot="16200000">
              <a:off x="6704640" y="126756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177"/>
            <p:cNvSpPr/>
            <p:nvPr/>
          </p:nvSpPr>
          <p:spPr>
            <a:xfrm>
              <a:off x="6876720" y="144000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178"/>
            <p:cNvSpPr/>
            <p:nvPr/>
          </p:nvSpPr>
          <p:spPr>
            <a:xfrm>
              <a:off x="6876720" y="178452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179"/>
            <p:cNvSpPr/>
            <p:nvPr/>
          </p:nvSpPr>
          <p:spPr>
            <a:xfrm rot="16200000">
              <a:off x="6703920" y="195732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180"/>
            <p:cNvSpPr/>
            <p:nvPr/>
          </p:nvSpPr>
          <p:spPr>
            <a:xfrm rot="16200000">
              <a:off x="6705360" y="1612800"/>
              <a:ext cx="5256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81"/>
            <p:cNvSpPr/>
            <p:nvPr/>
          </p:nvSpPr>
          <p:spPr>
            <a:xfrm>
              <a:off x="5892480" y="2027160"/>
              <a:ext cx="81000" cy="101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182"/>
            <p:cNvSpPr/>
            <p:nvPr/>
          </p:nvSpPr>
          <p:spPr>
            <a:xfrm>
              <a:off x="6395760" y="2052720"/>
              <a:ext cx="824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Freeform 184"/>
          <p:cNvSpPr/>
          <p:nvPr/>
        </p:nvSpPr>
        <p:spPr>
          <a:xfrm>
            <a:off x="2971800" y="1668600"/>
            <a:ext cx="2819520" cy="992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1776" h="625">
                <a:moveTo>
                  <a:pt x="1776" y="389"/>
                </a:moveTo>
                <a:cubicBezTo>
                  <a:pt x="1752" y="445"/>
                  <a:pt x="1724" y="497"/>
                  <a:pt x="1680" y="533"/>
                </a:cubicBezTo>
                <a:cubicBezTo>
                  <a:pt x="1636" y="569"/>
                  <a:pt x="1567" y="588"/>
                  <a:pt x="1509" y="603"/>
                </a:cubicBezTo>
                <a:cubicBezTo>
                  <a:pt x="1451" y="618"/>
                  <a:pt x="1411" y="625"/>
                  <a:pt x="1328" y="621"/>
                </a:cubicBezTo>
                <a:cubicBezTo>
                  <a:pt x="1245" y="617"/>
                  <a:pt x="1101" y="620"/>
                  <a:pt x="1008" y="581"/>
                </a:cubicBezTo>
                <a:cubicBezTo>
                  <a:pt x="915" y="542"/>
                  <a:pt x="830" y="461"/>
                  <a:pt x="768" y="389"/>
                </a:cubicBezTo>
                <a:cubicBezTo>
                  <a:pt x="706" y="317"/>
                  <a:pt x="693" y="205"/>
                  <a:pt x="637" y="149"/>
                </a:cubicBezTo>
                <a:cubicBezTo>
                  <a:pt x="581" y="93"/>
                  <a:pt x="486" y="74"/>
                  <a:pt x="432" y="53"/>
                </a:cubicBezTo>
                <a:cubicBezTo>
                  <a:pt x="378" y="32"/>
                  <a:pt x="352" y="29"/>
                  <a:pt x="310" y="21"/>
                </a:cubicBezTo>
                <a:cubicBezTo>
                  <a:pt x="268" y="13"/>
                  <a:pt x="234" y="6"/>
                  <a:pt x="182" y="3"/>
                </a:cubicBezTo>
                <a:cubicBezTo>
                  <a:pt x="130" y="0"/>
                  <a:pt x="38" y="5"/>
                  <a:pt x="0" y="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reeform 185"/>
          <p:cNvSpPr/>
          <p:nvPr/>
        </p:nvSpPr>
        <p:spPr>
          <a:xfrm>
            <a:off x="2971800" y="2209680"/>
            <a:ext cx="3048120" cy="7002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920" h="441">
                <a:moveTo>
                  <a:pt x="1920" y="48"/>
                </a:moveTo>
                <a:cubicBezTo>
                  <a:pt x="1872" y="164"/>
                  <a:pt x="1784" y="273"/>
                  <a:pt x="1728" y="336"/>
                </a:cubicBezTo>
                <a:cubicBezTo>
                  <a:pt x="1672" y="399"/>
                  <a:pt x="1646" y="411"/>
                  <a:pt x="1582" y="426"/>
                </a:cubicBezTo>
                <a:cubicBezTo>
                  <a:pt x="1518" y="441"/>
                  <a:pt x="1442" y="433"/>
                  <a:pt x="1346" y="426"/>
                </a:cubicBezTo>
                <a:cubicBezTo>
                  <a:pt x="1250" y="419"/>
                  <a:pt x="1120" y="423"/>
                  <a:pt x="1008" y="384"/>
                </a:cubicBezTo>
                <a:cubicBezTo>
                  <a:pt x="896" y="345"/>
                  <a:pt x="776" y="248"/>
                  <a:pt x="672" y="192"/>
                </a:cubicBezTo>
                <a:cubicBezTo>
                  <a:pt x="568" y="136"/>
                  <a:pt x="496" y="80"/>
                  <a:pt x="384" y="48"/>
                </a:cubicBezTo>
                <a:cubicBezTo>
                  <a:pt x="272" y="16"/>
                  <a:pt x="136" y="8"/>
                  <a:pt x="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20"/>
          <p:cNvSpPr/>
          <p:nvPr/>
        </p:nvSpPr>
        <p:spPr>
          <a:xfrm>
            <a:off x="510480" y="4266000"/>
            <a:ext cx="50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s 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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21"/>
          <p:cNvSpPr/>
          <p:nvPr/>
        </p:nvSpPr>
        <p:spPr>
          <a:xfrm>
            <a:off x="5399640" y="4240800"/>
            <a:ext cx="256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, calculat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22"/>
          <p:cNvSpPr/>
          <p:nvPr/>
        </p:nvSpPr>
        <p:spPr>
          <a:xfrm>
            <a:off x="1357560" y="4774320"/>
            <a:ext cx="58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4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50.24 m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796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25"/>
          <p:cNvSpPr/>
          <p:nvPr/>
        </p:nvSpPr>
        <p:spPr>
          <a:xfrm>
            <a:off x="510480" y="5256720"/>
            <a:ext cx="50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is 1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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6"/>
          <p:cNvSpPr/>
          <p:nvPr/>
        </p:nvSpPr>
        <p:spPr>
          <a:xfrm>
            <a:off x="5432040" y="5231520"/>
            <a:ext cx="26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n, calculat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27"/>
          <p:cNvSpPr/>
          <p:nvPr/>
        </p:nvSpPr>
        <p:spPr>
          <a:xfrm>
            <a:off x="1986840" y="5688720"/>
            <a:ext cx="464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4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25.12 m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1592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291"/>
          <p:cNvSpPr/>
          <p:nvPr/>
        </p:nvSpPr>
        <p:spPr>
          <a:xfrm>
            <a:off x="2824200" y="1544760"/>
            <a:ext cx="4122720" cy="174456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44560"/>
              <a:gd name="textAreaBottom" fmla="*/ 1744920 h 1744560"/>
            </a:gdLst>
            <a:ahLst/>
            <a:rect l="textAreaLeft" t="textAreaTop" r="textAreaRight" b="textAreaBottom"/>
            <a:pathLst>
              <a:path w="2597" h="1099">
                <a:moveTo>
                  <a:pt x="1053" y="323"/>
                </a:moveTo>
                <a:cubicBezTo>
                  <a:pt x="1123" y="411"/>
                  <a:pt x="1017" y="561"/>
                  <a:pt x="1057" y="608"/>
                </a:cubicBezTo>
                <a:cubicBezTo>
                  <a:pt x="1097" y="655"/>
                  <a:pt x="1145" y="608"/>
                  <a:pt x="1293" y="608"/>
                </a:cubicBezTo>
                <a:cubicBezTo>
                  <a:pt x="1441" y="608"/>
                  <a:pt x="1764" y="607"/>
                  <a:pt x="1948" y="608"/>
                </a:cubicBezTo>
                <a:cubicBezTo>
                  <a:pt x="2132" y="609"/>
                  <a:pt x="2290" y="603"/>
                  <a:pt x="2397" y="611"/>
                </a:cubicBezTo>
                <a:cubicBezTo>
                  <a:pt x="2504" y="619"/>
                  <a:pt x="2581" y="627"/>
                  <a:pt x="2589" y="659"/>
                </a:cubicBezTo>
                <a:cubicBezTo>
                  <a:pt x="2597" y="691"/>
                  <a:pt x="2509" y="763"/>
                  <a:pt x="2445" y="803"/>
                </a:cubicBezTo>
                <a:cubicBezTo>
                  <a:pt x="2381" y="843"/>
                  <a:pt x="2325" y="851"/>
                  <a:pt x="2205" y="899"/>
                </a:cubicBezTo>
                <a:cubicBezTo>
                  <a:pt x="2085" y="947"/>
                  <a:pt x="1933" y="1083"/>
                  <a:pt x="1725" y="1091"/>
                </a:cubicBezTo>
                <a:cubicBezTo>
                  <a:pt x="1517" y="1099"/>
                  <a:pt x="1150" y="1012"/>
                  <a:pt x="957" y="947"/>
                </a:cubicBezTo>
                <a:cubicBezTo>
                  <a:pt x="764" y="882"/>
                  <a:pt x="698" y="749"/>
                  <a:pt x="566" y="699"/>
                </a:cubicBezTo>
                <a:cubicBezTo>
                  <a:pt x="434" y="649"/>
                  <a:pt x="245" y="715"/>
                  <a:pt x="166" y="645"/>
                </a:cubicBezTo>
                <a:cubicBezTo>
                  <a:pt x="87" y="575"/>
                  <a:pt x="109" y="366"/>
                  <a:pt x="94" y="281"/>
                </a:cubicBezTo>
                <a:cubicBezTo>
                  <a:pt x="79" y="196"/>
                  <a:pt x="75" y="181"/>
                  <a:pt x="75" y="136"/>
                </a:cubicBezTo>
                <a:cubicBezTo>
                  <a:pt x="75" y="91"/>
                  <a:pt x="0" y="18"/>
                  <a:pt x="94" y="9"/>
                </a:cubicBezTo>
                <a:cubicBezTo>
                  <a:pt x="188" y="0"/>
                  <a:pt x="479" y="29"/>
                  <a:pt x="639" y="81"/>
                </a:cubicBezTo>
                <a:cubicBezTo>
                  <a:pt x="799" y="133"/>
                  <a:pt x="967" y="273"/>
                  <a:pt x="1053" y="32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92"/>
          <p:cNvSpPr/>
          <p:nvPr/>
        </p:nvSpPr>
        <p:spPr>
          <a:xfrm>
            <a:off x="2971800" y="2308320"/>
            <a:ext cx="2857680" cy="127296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800" h="802">
                <a:moveTo>
                  <a:pt x="1800" y="0"/>
                </a:moveTo>
                <a:cubicBezTo>
                  <a:pt x="1767" y="30"/>
                  <a:pt x="1676" y="118"/>
                  <a:pt x="1600" y="182"/>
                </a:cubicBezTo>
                <a:cubicBezTo>
                  <a:pt x="1524" y="246"/>
                  <a:pt x="1413" y="328"/>
                  <a:pt x="1346" y="382"/>
                </a:cubicBezTo>
                <a:cubicBezTo>
                  <a:pt x="1279" y="436"/>
                  <a:pt x="1282" y="464"/>
                  <a:pt x="1200" y="509"/>
                </a:cubicBezTo>
                <a:cubicBezTo>
                  <a:pt x="1118" y="554"/>
                  <a:pt x="985" y="612"/>
                  <a:pt x="855" y="654"/>
                </a:cubicBezTo>
                <a:cubicBezTo>
                  <a:pt x="725" y="696"/>
                  <a:pt x="561" y="739"/>
                  <a:pt x="419" y="764"/>
                </a:cubicBezTo>
                <a:cubicBezTo>
                  <a:pt x="277" y="789"/>
                  <a:pt x="87" y="794"/>
                  <a:pt x="0" y="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293"/>
          <p:cNvSpPr/>
          <p:nvPr/>
        </p:nvSpPr>
        <p:spPr>
          <a:xfrm>
            <a:off x="2971800" y="2279520"/>
            <a:ext cx="3060720" cy="17654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765440"/>
              <a:gd name="textAreaBottom" fmla="*/ 1765800 h 1765440"/>
            </a:gdLst>
            <a:ahLst/>
            <a:rect l="textAreaLeft" t="textAreaTop" r="textAreaRight" b="textAreaBottom"/>
            <a:pathLst>
              <a:path w="1928" h="1112">
                <a:moveTo>
                  <a:pt x="1928" y="0"/>
                </a:moveTo>
                <a:cubicBezTo>
                  <a:pt x="1864" y="82"/>
                  <a:pt x="1688" y="349"/>
                  <a:pt x="1546" y="491"/>
                </a:cubicBezTo>
                <a:cubicBezTo>
                  <a:pt x="1404" y="633"/>
                  <a:pt x="1200" y="772"/>
                  <a:pt x="1073" y="854"/>
                </a:cubicBezTo>
                <a:cubicBezTo>
                  <a:pt x="946" y="936"/>
                  <a:pt x="879" y="949"/>
                  <a:pt x="782" y="982"/>
                </a:cubicBezTo>
                <a:cubicBezTo>
                  <a:pt x="685" y="1015"/>
                  <a:pt x="576" y="1036"/>
                  <a:pt x="491" y="1054"/>
                </a:cubicBezTo>
                <a:cubicBezTo>
                  <a:pt x="406" y="1072"/>
                  <a:pt x="324" y="1082"/>
                  <a:pt x="273" y="1091"/>
                </a:cubicBezTo>
                <a:cubicBezTo>
                  <a:pt x="222" y="1100"/>
                  <a:pt x="227" y="1106"/>
                  <a:pt x="182" y="1109"/>
                </a:cubicBezTo>
                <a:cubicBezTo>
                  <a:pt x="137" y="1112"/>
                  <a:pt x="38" y="1108"/>
                  <a:pt x="0" y="110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96"/>
          <p:cNvSpPr/>
          <p:nvPr/>
        </p:nvSpPr>
        <p:spPr>
          <a:xfrm>
            <a:off x="1283760" y="6222240"/>
            <a:ext cx="618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is inversely proportional to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297"/>
          <p:cNvSpPr/>
          <p:nvPr/>
        </p:nvSpPr>
        <p:spPr>
          <a:xfrm>
            <a:off x="2971800" y="1523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173"/>
          <p:cNvGrpSpPr/>
          <p:nvPr/>
        </p:nvGrpSpPr>
        <p:grpSpPr>
          <a:xfrm>
            <a:off x="180000" y="-360"/>
            <a:ext cx="8713440" cy="888120"/>
            <a:chOff x="180000" y="-360"/>
            <a:chExt cx="8713440" cy="888120"/>
          </a:xfrm>
        </p:grpSpPr>
        <p:sp>
          <p:nvSpPr>
            <p:cNvPr id="1112" name="Text Box 2"/>
            <p:cNvSpPr/>
            <p:nvPr/>
          </p:nvSpPr>
          <p:spPr>
            <a:xfrm>
              <a:off x="180000" y="-360"/>
              <a:ext cx="871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Capacitive Reactance And Capacitance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172"/>
            <p:cNvSpPr/>
            <p:nvPr/>
          </p:nvSpPr>
          <p:spPr>
            <a:xfrm>
              <a:off x="3434400" y="5194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(Page 267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Slide Number Placeholder 174"/>
          <p:cNvSpPr/>
          <p:nvPr/>
        </p:nvSpPr>
        <p:spPr>
          <a:xfrm>
            <a:off x="-76320" y="-76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D66C0A21-5032-48A3-9363-07DA7027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3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3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3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3"/>
          <p:cNvGrpSpPr/>
          <p:nvPr/>
        </p:nvGrpSpPr>
        <p:grpSpPr>
          <a:xfrm>
            <a:off x="4724280" y="640800"/>
            <a:ext cx="3047760" cy="1904760"/>
            <a:chOff x="4724280" y="640800"/>
            <a:chExt cx="3047760" cy="1904760"/>
          </a:xfrm>
        </p:grpSpPr>
        <p:grpSp>
          <p:nvGrpSpPr>
            <p:cNvPr id="1116" name="Group 4"/>
            <p:cNvGrpSpPr/>
            <p:nvPr/>
          </p:nvGrpSpPr>
          <p:grpSpPr>
            <a:xfrm>
              <a:off x="4952880" y="1402920"/>
              <a:ext cx="1981080" cy="756720"/>
              <a:chOff x="4952880" y="1402920"/>
              <a:chExt cx="1981080" cy="756720"/>
            </a:xfrm>
          </p:grpSpPr>
          <p:sp>
            <p:nvSpPr>
              <p:cNvPr id="1117" name="Rectangle 5"/>
              <p:cNvSpPr/>
              <p:nvPr/>
            </p:nvSpPr>
            <p:spPr>
              <a:xfrm>
                <a:off x="4952880" y="1471320"/>
                <a:ext cx="568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6"/>
              <p:cNvSpPr/>
              <p:nvPr/>
            </p:nvSpPr>
            <p:spPr>
              <a:xfrm>
                <a:off x="4952880" y="1815480"/>
                <a:ext cx="5688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Rectangle 7"/>
              <p:cNvSpPr/>
              <p:nvPr/>
            </p:nvSpPr>
            <p:spPr>
              <a:xfrm rot="16200000">
                <a:off x="5124960" y="129852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8"/>
              <p:cNvSpPr/>
              <p:nvPr/>
            </p:nvSpPr>
            <p:spPr>
              <a:xfrm>
                <a:off x="5295600" y="147132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9"/>
              <p:cNvSpPr/>
              <p:nvPr/>
            </p:nvSpPr>
            <p:spPr>
              <a:xfrm>
                <a:off x="5295600" y="181548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10"/>
              <p:cNvSpPr/>
              <p:nvPr/>
            </p:nvSpPr>
            <p:spPr>
              <a:xfrm rot="16200000">
                <a:off x="5124240" y="198756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1"/>
              <p:cNvSpPr/>
              <p:nvPr/>
            </p:nvSpPr>
            <p:spPr>
              <a:xfrm rot="16200000">
                <a:off x="5126040" y="164412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12"/>
              <p:cNvSpPr/>
              <p:nvPr/>
            </p:nvSpPr>
            <p:spPr>
              <a:xfrm>
                <a:off x="5360760" y="2055240"/>
                <a:ext cx="82440" cy="1044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Rectangle 13"/>
              <p:cNvSpPr/>
              <p:nvPr/>
            </p:nvSpPr>
            <p:spPr>
              <a:xfrm>
                <a:off x="547992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4"/>
              <p:cNvSpPr/>
              <p:nvPr/>
            </p:nvSpPr>
            <p:spPr>
              <a:xfrm>
                <a:off x="547992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Rectangle 15"/>
              <p:cNvSpPr/>
              <p:nvPr/>
            </p:nvSpPr>
            <p:spPr>
              <a:xfrm rot="16200000">
                <a:off x="5653800" y="1298880"/>
                <a:ext cx="536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Rectangle 16"/>
              <p:cNvSpPr/>
              <p:nvPr/>
            </p:nvSpPr>
            <p:spPr>
              <a:xfrm>
                <a:off x="5822640" y="1471320"/>
                <a:ext cx="558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17"/>
              <p:cNvSpPr/>
              <p:nvPr/>
            </p:nvSpPr>
            <p:spPr>
              <a:xfrm>
                <a:off x="5822640" y="1815480"/>
                <a:ext cx="558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Rectangle 18"/>
              <p:cNvSpPr/>
              <p:nvPr/>
            </p:nvSpPr>
            <p:spPr>
              <a:xfrm rot="16200000">
                <a:off x="5653080" y="1987920"/>
                <a:ext cx="550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rot="16200000">
                <a:off x="5654520" y="1644120"/>
                <a:ext cx="518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20"/>
              <p:cNvSpPr/>
              <p:nvPr/>
            </p:nvSpPr>
            <p:spPr>
              <a:xfrm>
                <a:off x="600372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Rectangle 21"/>
              <p:cNvSpPr/>
              <p:nvPr/>
            </p:nvSpPr>
            <p:spPr>
              <a:xfrm>
                <a:off x="600372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Rectangle 22"/>
              <p:cNvSpPr/>
              <p:nvPr/>
            </p:nvSpPr>
            <p:spPr>
              <a:xfrm rot="16200000">
                <a:off x="6176160" y="1300320"/>
                <a:ext cx="536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23"/>
              <p:cNvSpPr/>
              <p:nvPr/>
            </p:nvSpPr>
            <p:spPr>
              <a:xfrm>
                <a:off x="6346440" y="1471320"/>
                <a:ext cx="590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24"/>
              <p:cNvSpPr/>
              <p:nvPr/>
            </p:nvSpPr>
            <p:spPr>
              <a:xfrm>
                <a:off x="6346440" y="1815480"/>
                <a:ext cx="590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Rectangle 25"/>
              <p:cNvSpPr/>
              <p:nvPr/>
            </p:nvSpPr>
            <p:spPr>
              <a:xfrm rot="16200000">
                <a:off x="6175440" y="1989360"/>
                <a:ext cx="5508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26"/>
              <p:cNvSpPr/>
              <p:nvPr/>
            </p:nvSpPr>
            <p:spPr>
              <a:xfrm rot="16200000">
                <a:off x="6176880" y="1645560"/>
                <a:ext cx="518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Rectangle 27"/>
              <p:cNvSpPr/>
              <p:nvPr/>
            </p:nvSpPr>
            <p:spPr>
              <a:xfrm>
                <a:off x="653220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Rectangle 28"/>
              <p:cNvSpPr/>
              <p:nvPr/>
            </p:nvSpPr>
            <p:spPr>
              <a:xfrm>
                <a:off x="653220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29"/>
              <p:cNvSpPr/>
              <p:nvPr/>
            </p:nvSpPr>
            <p:spPr>
              <a:xfrm rot="16200000">
                <a:off x="6704640" y="129852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Rectangle 30"/>
              <p:cNvSpPr/>
              <p:nvPr/>
            </p:nvSpPr>
            <p:spPr>
              <a:xfrm>
                <a:off x="6876720" y="147132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Rectangle 31"/>
              <p:cNvSpPr/>
              <p:nvPr/>
            </p:nvSpPr>
            <p:spPr>
              <a:xfrm>
                <a:off x="6876720" y="181548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32"/>
              <p:cNvSpPr/>
              <p:nvPr/>
            </p:nvSpPr>
            <p:spPr>
              <a:xfrm rot="16200000">
                <a:off x="6703920" y="198756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Rectangle 33"/>
              <p:cNvSpPr/>
              <p:nvPr/>
            </p:nvSpPr>
            <p:spPr>
              <a:xfrm rot="16200000">
                <a:off x="6705720" y="164412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Rectangle 34"/>
              <p:cNvSpPr/>
              <p:nvPr/>
            </p:nvSpPr>
            <p:spPr>
              <a:xfrm>
                <a:off x="5892480" y="2058480"/>
                <a:ext cx="8100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35"/>
              <p:cNvSpPr/>
              <p:nvPr/>
            </p:nvSpPr>
            <p:spPr>
              <a:xfrm>
                <a:off x="6402240" y="2058480"/>
                <a:ext cx="8244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36"/>
            <p:cNvGrpSpPr/>
            <p:nvPr/>
          </p:nvGrpSpPr>
          <p:grpSpPr>
            <a:xfrm>
              <a:off x="4724280" y="640800"/>
              <a:ext cx="3047760" cy="1904760"/>
              <a:chOff x="4724280" y="640800"/>
              <a:chExt cx="3047760" cy="1904760"/>
            </a:xfrm>
          </p:grpSpPr>
          <p:sp>
            <p:nvSpPr>
              <p:cNvPr id="1149" name="Rectangle 37"/>
              <p:cNvSpPr/>
              <p:nvPr/>
            </p:nvSpPr>
            <p:spPr>
              <a:xfrm>
                <a:off x="4800600" y="1098360"/>
                <a:ext cx="2209680" cy="1371240"/>
              </a:xfrm>
              <a:prstGeom prst="rect">
                <a:avLst/>
              </a:prstGeom>
              <a:noFill/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0" name="Group 38"/>
              <p:cNvGrpSpPr/>
              <p:nvPr/>
            </p:nvGrpSpPr>
            <p:grpSpPr>
              <a:xfrm>
                <a:off x="4876920" y="1174680"/>
                <a:ext cx="2031840" cy="185400"/>
                <a:chOff x="4876920" y="1174680"/>
                <a:chExt cx="2031840" cy="185400"/>
              </a:xfrm>
            </p:grpSpPr>
            <p:sp>
              <p:nvSpPr>
                <p:cNvPr id="1151" name="Rectangle 39"/>
                <p:cNvSpPr/>
                <p:nvPr/>
              </p:nvSpPr>
              <p:spPr>
                <a:xfrm>
                  <a:off x="665028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40"/>
                <p:cNvSpPr/>
                <p:nvPr/>
              </p:nvSpPr>
              <p:spPr>
                <a:xfrm>
                  <a:off x="6280200" y="1174680"/>
                  <a:ext cx="29700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Rectangle 41"/>
                <p:cNvSpPr/>
                <p:nvPr/>
              </p:nvSpPr>
              <p:spPr>
                <a:xfrm>
                  <a:off x="561528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cc0000"/>
                      </a:solidFill>
                      <a:latin typeface="Times New Roman"/>
                    </a:rPr>
                    <a:t>mA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Rectangle 42"/>
                <p:cNvSpPr/>
                <p:nvPr/>
              </p:nvSpPr>
              <p:spPr>
                <a:xfrm>
                  <a:off x="4876920" y="117468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mV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Rectangle 43"/>
                <p:cNvSpPr/>
                <p:nvPr/>
              </p:nvSpPr>
              <p:spPr>
                <a:xfrm>
                  <a:off x="522792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Rectangle 44"/>
                <p:cNvSpPr/>
                <p:nvPr/>
              </p:nvSpPr>
              <p:spPr>
                <a:xfrm>
                  <a:off x="5943600" y="117468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Group 45"/>
              <p:cNvGrpSpPr/>
              <p:nvPr/>
            </p:nvGrpSpPr>
            <p:grpSpPr>
              <a:xfrm>
                <a:off x="5943600" y="2089080"/>
                <a:ext cx="811440" cy="398880"/>
                <a:chOff x="5943600" y="2089080"/>
                <a:chExt cx="811440" cy="398880"/>
              </a:xfrm>
            </p:grpSpPr>
            <p:sp>
              <p:nvSpPr>
                <p:cNvPr id="1158" name="Oval 46"/>
                <p:cNvSpPr/>
                <p:nvPr/>
              </p:nvSpPr>
              <p:spPr>
                <a:xfrm>
                  <a:off x="5943600" y="2277720"/>
                  <a:ext cx="109800" cy="109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47"/>
                <p:cNvSpPr/>
                <p:nvPr/>
              </p:nvSpPr>
              <p:spPr>
                <a:xfrm>
                  <a:off x="5970600" y="2305800"/>
                  <a:ext cx="54000" cy="5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Text Box 48"/>
                <p:cNvSpPr/>
                <p:nvPr/>
              </p:nvSpPr>
              <p:spPr>
                <a:xfrm>
                  <a:off x="6054480" y="2089080"/>
                  <a:ext cx="70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 A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Group 49"/>
              <p:cNvGrpSpPr/>
              <p:nvPr/>
            </p:nvGrpSpPr>
            <p:grpSpPr>
              <a:xfrm>
                <a:off x="4724280" y="640800"/>
                <a:ext cx="3047760" cy="1904760"/>
                <a:chOff x="4724280" y="640800"/>
                <a:chExt cx="3047760" cy="1904760"/>
              </a:xfrm>
            </p:grpSpPr>
            <p:sp>
              <p:nvSpPr>
                <p:cNvPr id="1162" name="AutoShape 50"/>
                <p:cNvSpPr/>
                <p:nvPr/>
              </p:nvSpPr>
              <p:spPr>
                <a:xfrm>
                  <a:off x="4724280" y="641520"/>
                  <a:ext cx="3047760" cy="475920"/>
                </a:xfrm>
                <a:prstGeom prst="parallelogram">
                  <a:avLst>
                    <a:gd name="adj" fmla="val 160098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AutoShape 51"/>
                <p:cNvSpPr/>
                <p:nvPr/>
              </p:nvSpPr>
              <p:spPr>
                <a:xfrm flipV="1" rot="5400000">
                  <a:off x="6432120" y="1205280"/>
                  <a:ext cx="1904760" cy="774720"/>
                </a:xfrm>
                <a:prstGeom prst="parallelogram">
                  <a:avLst>
                    <a:gd name="adj" fmla="val 61466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Group 52"/>
              <p:cNvGrpSpPr/>
              <p:nvPr/>
            </p:nvGrpSpPr>
            <p:grpSpPr>
              <a:xfrm>
                <a:off x="4923000" y="2133360"/>
                <a:ext cx="2011320" cy="337320"/>
                <a:chOff x="4923000" y="2133360"/>
                <a:chExt cx="2011320" cy="337320"/>
              </a:xfrm>
            </p:grpSpPr>
            <p:grpSp>
              <p:nvGrpSpPr>
                <p:cNvPr id="1165" name="Group 53"/>
                <p:cNvGrpSpPr/>
                <p:nvPr/>
              </p:nvGrpSpPr>
              <p:grpSpPr>
                <a:xfrm>
                  <a:off x="5181840" y="2133360"/>
                  <a:ext cx="685800" cy="337320"/>
                  <a:chOff x="5181840" y="2133360"/>
                  <a:chExt cx="685800" cy="337320"/>
                </a:xfrm>
              </p:grpSpPr>
              <p:sp>
                <p:nvSpPr>
                  <p:cNvPr id="1166" name="Oval 54"/>
                  <p:cNvSpPr/>
                  <p:nvPr/>
                </p:nvSpPr>
                <p:spPr>
                  <a:xfrm>
                    <a:off x="5745600" y="2271240"/>
                    <a:ext cx="122040" cy="11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Oval 55"/>
                  <p:cNvSpPr/>
                  <p:nvPr/>
                </p:nvSpPr>
                <p:spPr>
                  <a:xfrm>
                    <a:off x="5775840" y="2298240"/>
                    <a:ext cx="61920" cy="56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Text Box 56"/>
                  <p:cNvSpPr/>
                  <p:nvPr/>
                </p:nvSpPr>
                <p:spPr>
                  <a:xfrm>
                    <a:off x="5181840" y="2133360"/>
                    <a:ext cx="60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9" name="Rectangle 57"/>
                <p:cNvSpPr/>
                <p:nvPr/>
              </p:nvSpPr>
              <p:spPr>
                <a:xfrm>
                  <a:off x="4923000" y="220752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 c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Rectangle 58"/>
                <p:cNvSpPr/>
                <p:nvPr/>
              </p:nvSpPr>
              <p:spPr>
                <a:xfrm>
                  <a:off x="6675480" y="220752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 c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1" name="Group 59"/>
          <p:cNvGrpSpPr/>
          <p:nvPr/>
        </p:nvGrpSpPr>
        <p:grpSpPr>
          <a:xfrm>
            <a:off x="4952880" y="1403280"/>
            <a:ext cx="1981080" cy="782640"/>
            <a:chOff x="4952880" y="1403280"/>
            <a:chExt cx="1981080" cy="782640"/>
          </a:xfrm>
        </p:grpSpPr>
        <p:sp>
          <p:nvSpPr>
            <p:cNvPr id="1172" name="Rectangle 60"/>
            <p:cNvSpPr/>
            <p:nvPr/>
          </p:nvSpPr>
          <p:spPr>
            <a:xfrm>
              <a:off x="4952880" y="1471680"/>
              <a:ext cx="568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61"/>
            <p:cNvSpPr/>
            <p:nvPr/>
          </p:nvSpPr>
          <p:spPr>
            <a:xfrm>
              <a:off x="4952880" y="1816200"/>
              <a:ext cx="568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Rectangle 62"/>
            <p:cNvSpPr/>
            <p:nvPr/>
          </p:nvSpPr>
          <p:spPr>
            <a:xfrm rot="16200000">
              <a:off x="5124960" y="129924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63"/>
            <p:cNvSpPr/>
            <p:nvPr/>
          </p:nvSpPr>
          <p:spPr>
            <a:xfrm>
              <a:off x="5295600" y="147168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64"/>
            <p:cNvSpPr/>
            <p:nvPr/>
          </p:nvSpPr>
          <p:spPr>
            <a:xfrm>
              <a:off x="5295600" y="181620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Rectangle 65"/>
            <p:cNvSpPr/>
            <p:nvPr/>
          </p:nvSpPr>
          <p:spPr>
            <a:xfrm rot="16200000">
              <a:off x="5124240" y="198900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Rectangle 66"/>
            <p:cNvSpPr/>
            <p:nvPr/>
          </p:nvSpPr>
          <p:spPr>
            <a:xfrm rot="16200000">
              <a:off x="5125680" y="1644120"/>
              <a:ext cx="52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67"/>
            <p:cNvSpPr/>
            <p:nvPr/>
          </p:nvSpPr>
          <p:spPr>
            <a:xfrm>
              <a:off x="5360760" y="2055960"/>
              <a:ext cx="8244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Rectangle 68"/>
            <p:cNvSpPr/>
            <p:nvPr/>
          </p:nvSpPr>
          <p:spPr>
            <a:xfrm>
              <a:off x="5479920" y="147168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Rectangle 69"/>
            <p:cNvSpPr/>
            <p:nvPr/>
          </p:nvSpPr>
          <p:spPr>
            <a:xfrm>
              <a:off x="5479920" y="18162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70"/>
            <p:cNvSpPr/>
            <p:nvPr/>
          </p:nvSpPr>
          <p:spPr>
            <a:xfrm rot="16200000">
              <a:off x="5653440" y="129924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71"/>
            <p:cNvSpPr/>
            <p:nvPr/>
          </p:nvSpPr>
          <p:spPr>
            <a:xfrm>
              <a:off x="5822640" y="147168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Rectangle 72"/>
            <p:cNvSpPr/>
            <p:nvPr/>
          </p:nvSpPr>
          <p:spPr>
            <a:xfrm>
              <a:off x="5822640" y="181620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73"/>
            <p:cNvSpPr/>
            <p:nvPr/>
          </p:nvSpPr>
          <p:spPr>
            <a:xfrm rot="16200000">
              <a:off x="5652720" y="198900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Rectangle 74"/>
            <p:cNvSpPr/>
            <p:nvPr/>
          </p:nvSpPr>
          <p:spPr>
            <a:xfrm rot="16200000">
              <a:off x="5654520" y="1644480"/>
              <a:ext cx="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75"/>
            <p:cNvSpPr/>
            <p:nvPr/>
          </p:nvSpPr>
          <p:spPr>
            <a:xfrm>
              <a:off x="6003720" y="147168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76"/>
            <p:cNvSpPr/>
            <p:nvPr/>
          </p:nvSpPr>
          <p:spPr>
            <a:xfrm>
              <a:off x="6003720" y="18162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77"/>
            <p:cNvSpPr/>
            <p:nvPr/>
          </p:nvSpPr>
          <p:spPr>
            <a:xfrm rot="16200000">
              <a:off x="6175800" y="1300680"/>
              <a:ext cx="5400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78"/>
            <p:cNvSpPr/>
            <p:nvPr/>
          </p:nvSpPr>
          <p:spPr>
            <a:xfrm>
              <a:off x="6346440" y="1471680"/>
              <a:ext cx="586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79"/>
            <p:cNvSpPr/>
            <p:nvPr/>
          </p:nvSpPr>
          <p:spPr>
            <a:xfrm>
              <a:off x="6346440" y="1816200"/>
              <a:ext cx="586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80"/>
            <p:cNvSpPr/>
            <p:nvPr/>
          </p:nvSpPr>
          <p:spPr>
            <a:xfrm rot="16200000">
              <a:off x="6175080" y="1990440"/>
              <a:ext cx="5544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Rectangle 81"/>
            <p:cNvSpPr/>
            <p:nvPr/>
          </p:nvSpPr>
          <p:spPr>
            <a:xfrm rot="16200000">
              <a:off x="6176880" y="1645920"/>
              <a:ext cx="52200" cy="258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82"/>
            <p:cNvSpPr/>
            <p:nvPr/>
          </p:nvSpPr>
          <p:spPr>
            <a:xfrm>
              <a:off x="6532200" y="147168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Rectangle 83"/>
            <p:cNvSpPr/>
            <p:nvPr/>
          </p:nvSpPr>
          <p:spPr>
            <a:xfrm>
              <a:off x="6532200" y="18162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84"/>
            <p:cNvSpPr/>
            <p:nvPr/>
          </p:nvSpPr>
          <p:spPr>
            <a:xfrm rot="16200000">
              <a:off x="6704280" y="129924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85"/>
            <p:cNvSpPr/>
            <p:nvPr/>
          </p:nvSpPr>
          <p:spPr>
            <a:xfrm>
              <a:off x="6876720" y="147168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86"/>
            <p:cNvSpPr/>
            <p:nvPr/>
          </p:nvSpPr>
          <p:spPr>
            <a:xfrm>
              <a:off x="6876720" y="181620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Rectangle 87"/>
            <p:cNvSpPr/>
            <p:nvPr/>
          </p:nvSpPr>
          <p:spPr>
            <a:xfrm rot="16200000">
              <a:off x="6703560" y="1989000"/>
              <a:ext cx="554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88"/>
            <p:cNvSpPr/>
            <p:nvPr/>
          </p:nvSpPr>
          <p:spPr>
            <a:xfrm rot="16200000">
              <a:off x="6705360" y="1644480"/>
              <a:ext cx="522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Rectangle 89"/>
            <p:cNvSpPr/>
            <p:nvPr/>
          </p:nvSpPr>
          <p:spPr>
            <a:xfrm>
              <a:off x="5892480" y="2058840"/>
              <a:ext cx="81000" cy="101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Rectangle 90"/>
            <p:cNvSpPr/>
            <p:nvPr/>
          </p:nvSpPr>
          <p:spPr>
            <a:xfrm>
              <a:off x="6395760" y="2084400"/>
              <a:ext cx="824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Group 91"/>
          <p:cNvGrpSpPr/>
          <p:nvPr/>
        </p:nvGrpSpPr>
        <p:grpSpPr>
          <a:xfrm>
            <a:off x="1061280" y="1021680"/>
            <a:ext cx="2757960" cy="1328040"/>
            <a:chOff x="1061280" y="1021680"/>
            <a:chExt cx="2757960" cy="1328040"/>
          </a:xfrm>
        </p:grpSpPr>
        <p:sp>
          <p:nvSpPr>
            <p:cNvPr id="1204" name="Text Box 92"/>
            <p:cNvSpPr/>
            <p:nvPr/>
          </p:nvSpPr>
          <p:spPr>
            <a:xfrm>
              <a:off x="3195360" y="1264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Group 93"/>
            <p:cNvGrpSpPr/>
            <p:nvPr/>
          </p:nvGrpSpPr>
          <p:grpSpPr>
            <a:xfrm>
              <a:off x="1061280" y="1021680"/>
              <a:ext cx="2178360" cy="1328040"/>
              <a:chOff x="1061280" y="1021680"/>
              <a:chExt cx="2178360" cy="1328040"/>
            </a:xfrm>
          </p:grpSpPr>
          <p:sp>
            <p:nvSpPr>
              <p:cNvPr id="1206" name="Line 94"/>
              <p:cNvSpPr/>
              <p:nvPr/>
            </p:nvSpPr>
            <p:spPr>
              <a:xfrm>
                <a:off x="1994040" y="1022400"/>
                <a:ext cx="0" cy="117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07" name="AutoShape 95"/>
              <p:cNvCxnSpPr/>
              <p:nvPr/>
            </p:nvCxnSpPr>
            <p:spPr>
              <a:xfrm>
                <a:off x="1993680" y="1022040"/>
                <a:ext cx="97380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grpSp>
            <p:nvGrpSpPr>
              <p:cNvPr id="1208" name="Group 96"/>
              <p:cNvGrpSpPr/>
              <p:nvPr/>
            </p:nvGrpSpPr>
            <p:grpSpPr>
              <a:xfrm>
                <a:off x="2696040" y="1022400"/>
                <a:ext cx="543600" cy="858960"/>
                <a:chOff x="2696040" y="1022400"/>
                <a:chExt cx="543600" cy="858960"/>
              </a:xfrm>
            </p:grpSpPr>
            <p:sp>
              <p:nvSpPr>
                <p:cNvPr id="1209" name="Arc 97"/>
                <p:cNvSpPr/>
                <p:nvPr/>
              </p:nvSpPr>
              <p:spPr>
                <a:xfrm rot="18301200">
                  <a:off x="2793240" y="1407960"/>
                  <a:ext cx="348840" cy="419400"/>
                </a:xfrm>
                <a:custGeom>
                  <a:avLst/>
                  <a:gdLst>
                    <a:gd name="textAreaLeft" fmla="*/ 0 w 348840"/>
                    <a:gd name="textAreaRight" fmla="*/ 349200 w 34884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fill="none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</a:path>
                    <a:path stroke="0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  <a:lnTo>
                        <a:pt x="0" y="2054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Line 98"/>
                <p:cNvSpPr/>
                <p:nvPr/>
              </p:nvSpPr>
              <p:spPr>
                <a:xfrm>
                  <a:off x="2747880" y="1377000"/>
                  <a:ext cx="43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Line 99"/>
                <p:cNvSpPr/>
                <p:nvPr/>
              </p:nvSpPr>
              <p:spPr>
                <a:xfrm>
                  <a:off x="2967480" y="1492200"/>
                  <a:ext cx="0" cy="352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Line 100"/>
                <p:cNvSpPr/>
                <p:nvPr/>
              </p:nvSpPr>
              <p:spPr>
                <a:xfrm>
                  <a:off x="2967480" y="1022400"/>
                  <a:ext cx="0" cy="352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101"/>
              <p:cNvGrpSpPr/>
              <p:nvPr/>
            </p:nvGrpSpPr>
            <p:grpSpPr>
              <a:xfrm>
                <a:off x="1679400" y="1270080"/>
                <a:ext cx="628920" cy="617400"/>
                <a:chOff x="1679400" y="1270080"/>
                <a:chExt cx="628920" cy="617400"/>
              </a:xfrm>
            </p:grpSpPr>
            <p:sp>
              <p:nvSpPr>
                <p:cNvPr id="1214" name="Oval 102"/>
                <p:cNvSpPr/>
                <p:nvPr/>
              </p:nvSpPr>
              <p:spPr>
                <a:xfrm>
                  <a:off x="1679400" y="1270080"/>
                  <a:ext cx="628920" cy="617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5" name="Group 103"/>
                <p:cNvGrpSpPr/>
                <p:nvPr/>
              </p:nvGrpSpPr>
              <p:grpSpPr>
                <a:xfrm>
                  <a:off x="1804680" y="1393560"/>
                  <a:ext cx="377280" cy="369720"/>
                  <a:chOff x="1804680" y="1393560"/>
                  <a:chExt cx="377280" cy="369720"/>
                </a:xfrm>
              </p:grpSpPr>
              <p:sp>
                <p:nvSpPr>
                  <p:cNvPr id="1216" name="Arc 104"/>
                  <p:cNvSpPr/>
                  <p:nvPr/>
                </p:nvSpPr>
                <p:spPr>
                  <a:xfrm flipH="1">
                    <a:off x="1804320" y="139356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360"/>
                      <a:gd name="textAreaBottom" fmla="*/ 20772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Arc 105"/>
                  <p:cNvSpPr/>
                  <p:nvPr/>
                </p:nvSpPr>
                <p:spPr>
                  <a:xfrm flipH="1" flipV="1">
                    <a:off x="1993320" y="155592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360 h 207360"/>
                      <a:gd name="textAreaBottom" fmla="*/ 20808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8" name="Text Box 106"/>
              <p:cNvSpPr/>
              <p:nvPr/>
            </p:nvSpPr>
            <p:spPr>
              <a:xfrm>
                <a:off x="1290240" y="102168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Times New Roman"/>
                  </a:rPr>
                  <a:t>40 </a:t>
                </a:r>
                <a:r>
                  <a:rPr b="1" i="1" lang="en-US" sz="1800" spc="-1" strike="noStrike">
                    <a:solidFill>
                      <a:srgbClr val="008000"/>
                    </a:solidFill>
                    <a:latin typeface="Times New Roman"/>
                  </a:rPr>
                  <a:t>V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Text Box 107"/>
              <p:cNvSpPr/>
              <p:nvPr/>
            </p:nvSpPr>
            <p:spPr>
              <a:xfrm>
                <a:off x="1061280" y="179784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100 Hz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20" name="AutoShape 108"/>
              <p:cNvCxnSpPr/>
              <p:nvPr/>
            </p:nvCxnSpPr>
            <p:spPr>
              <a:xfrm rot="5400000">
                <a:off x="2304360" y="1472400"/>
                <a:ext cx="351360" cy="973800"/>
              </a:xfrm>
              <a:prstGeom prst="bentConnector3">
                <a:avLst>
                  <a:gd name="adj1" fmla="val 16123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221" name="Rectangle 109"/>
          <p:cNvSpPr/>
          <p:nvPr/>
        </p:nvSpPr>
        <p:spPr>
          <a:xfrm>
            <a:off x="2895480" y="1784520"/>
            <a:ext cx="152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110"/>
          <p:cNvGrpSpPr/>
          <p:nvPr/>
        </p:nvGrpSpPr>
        <p:grpSpPr>
          <a:xfrm>
            <a:off x="1118160" y="2896560"/>
            <a:ext cx="2672640" cy="1328040"/>
            <a:chOff x="1118160" y="2896560"/>
            <a:chExt cx="2672640" cy="1328040"/>
          </a:xfrm>
        </p:grpSpPr>
        <p:sp>
          <p:nvSpPr>
            <p:cNvPr id="1223" name="Line 111"/>
            <p:cNvSpPr/>
            <p:nvPr/>
          </p:nvSpPr>
          <p:spPr>
            <a:xfrm>
              <a:off x="1994040" y="2897280"/>
              <a:ext cx="0" cy="11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4" name="AutoShape 112"/>
            <p:cNvCxnSpPr/>
            <p:nvPr/>
          </p:nvCxnSpPr>
          <p:spPr>
            <a:xfrm>
              <a:off x="1993680" y="2896920"/>
              <a:ext cx="973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225" name="Group 113"/>
            <p:cNvGrpSpPr/>
            <p:nvPr/>
          </p:nvGrpSpPr>
          <p:grpSpPr>
            <a:xfrm>
              <a:off x="2696040" y="2897280"/>
              <a:ext cx="543600" cy="858960"/>
              <a:chOff x="2696040" y="2897280"/>
              <a:chExt cx="543600" cy="858960"/>
            </a:xfrm>
          </p:grpSpPr>
          <p:sp>
            <p:nvSpPr>
              <p:cNvPr id="1226" name="Arc 114"/>
              <p:cNvSpPr/>
              <p:nvPr/>
            </p:nvSpPr>
            <p:spPr>
              <a:xfrm rot="18301200">
                <a:off x="2793240" y="3282840"/>
                <a:ext cx="348840" cy="4194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fill="none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</a:path>
                  <a:path stroke="0" w="21287" h="20547">
                    <a:moveTo>
                      <a:pt x="6662" y="0"/>
                    </a:moveTo>
                    <a:cubicBezTo>
                      <a:pt x="14295" y="2475"/>
                      <a:pt x="19926" y="8976"/>
                      <a:pt x="21287" y="16883"/>
                    </a:cubicBezTo>
                    <a:lnTo>
                      <a:pt x="0" y="2054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Line 115"/>
              <p:cNvSpPr/>
              <p:nvPr/>
            </p:nvSpPr>
            <p:spPr>
              <a:xfrm>
                <a:off x="2747880" y="3251880"/>
                <a:ext cx="43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16"/>
              <p:cNvSpPr/>
              <p:nvPr/>
            </p:nvSpPr>
            <p:spPr>
              <a:xfrm>
                <a:off x="2967480" y="336708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Line 117"/>
              <p:cNvSpPr/>
              <p:nvPr/>
            </p:nvSpPr>
            <p:spPr>
              <a:xfrm>
                <a:off x="2967480" y="2897280"/>
                <a:ext cx="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Group 118"/>
            <p:cNvGrpSpPr/>
            <p:nvPr/>
          </p:nvGrpSpPr>
          <p:grpSpPr>
            <a:xfrm>
              <a:off x="1679400" y="3144600"/>
              <a:ext cx="628920" cy="617760"/>
              <a:chOff x="1679400" y="3144600"/>
              <a:chExt cx="628920" cy="617760"/>
            </a:xfrm>
          </p:grpSpPr>
          <p:sp>
            <p:nvSpPr>
              <p:cNvPr id="1231" name="Oval 119"/>
              <p:cNvSpPr/>
              <p:nvPr/>
            </p:nvSpPr>
            <p:spPr>
              <a:xfrm>
                <a:off x="1679400" y="3144600"/>
                <a:ext cx="628920" cy="61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2" name="Group 120"/>
              <p:cNvGrpSpPr/>
              <p:nvPr/>
            </p:nvGrpSpPr>
            <p:grpSpPr>
              <a:xfrm>
                <a:off x="1804680" y="3268080"/>
                <a:ext cx="377280" cy="370080"/>
                <a:chOff x="1804680" y="3268080"/>
                <a:chExt cx="377280" cy="370080"/>
              </a:xfrm>
            </p:grpSpPr>
            <p:sp>
              <p:nvSpPr>
                <p:cNvPr id="1233" name="Arc 121"/>
                <p:cNvSpPr/>
                <p:nvPr/>
              </p:nvSpPr>
              <p:spPr>
                <a:xfrm flipH="1">
                  <a:off x="1804320" y="3268080"/>
                  <a:ext cx="188280" cy="207720"/>
                </a:xfrm>
                <a:custGeom>
                  <a:avLst/>
                  <a:gdLst>
                    <a:gd name="textAreaLeft" fmla="*/ -360 w 188280"/>
                    <a:gd name="textAreaRight" fmla="*/ 188280 w 1882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Arc 122"/>
                <p:cNvSpPr/>
                <p:nvPr/>
              </p:nvSpPr>
              <p:spPr>
                <a:xfrm flipH="1" flipV="1">
                  <a:off x="1993320" y="3430080"/>
                  <a:ext cx="188280" cy="207720"/>
                </a:xfrm>
                <a:custGeom>
                  <a:avLst/>
                  <a:gdLst>
                    <a:gd name="textAreaLeft" fmla="*/ -360 w 188280"/>
                    <a:gd name="textAreaRight" fmla="*/ 188280 w 188280"/>
                    <a:gd name="textAreaTop" fmla="*/ -360 h 207720"/>
                    <a:gd name="textAreaBottom" fmla="*/ 207720 h 20772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Text Box 123"/>
            <p:cNvSpPr/>
            <p:nvPr/>
          </p:nvSpPr>
          <p:spPr>
            <a:xfrm>
              <a:off x="1290240" y="28965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40 </a:t>
              </a:r>
              <a:r>
                <a:rPr b="1" i="1" lang="en-US" sz="18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124"/>
            <p:cNvSpPr/>
            <p:nvPr/>
          </p:nvSpPr>
          <p:spPr>
            <a:xfrm>
              <a:off x="3224520" y="313920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Text Box 125"/>
            <p:cNvSpPr/>
            <p:nvPr/>
          </p:nvSpPr>
          <p:spPr>
            <a:xfrm>
              <a:off x="1118160" y="36727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50 Hz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8" name="AutoShape 126"/>
            <p:cNvCxnSpPr/>
            <p:nvPr/>
          </p:nvCxnSpPr>
          <p:spPr>
            <a:xfrm rot="5400000">
              <a:off x="2304360" y="3347280"/>
              <a:ext cx="351360" cy="973800"/>
            </a:xfrm>
            <a:prstGeom prst="bentConnector3">
              <a:avLst>
                <a:gd name="adj1" fmla="val 16123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39" name="Rectangle 127"/>
          <p:cNvSpPr/>
          <p:nvPr/>
        </p:nvSpPr>
        <p:spPr>
          <a:xfrm>
            <a:off x="2895480" y="36892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Group 128"/>
          <p:cNvGrpSpPr/>
          <p:nvPr/>
        </p:nvGrpSpPr>
        <p:grpSpPr>
          <a:xfrm>
            <a:off x="4952880" y="1403280"/>
            <a:ext cx="1981080" cy="782640"/>
            <a:chOff x="4952880" y="1403280"/>
            <a:chExt cx="1981080" cy="782640"/>
          </a:xfrm>
        </p:grpSpPr>
        <p:sp>
          <p:nvSpPr>
            <p:cNvPr id="1241" name="Rectangle 129"/>
            <p:cNvSpPr/>
            <p:nvPr/>
          </p:nvSpPr>
          <p:spPr>
            <a:xfrm>
              <a:off x="4952880" y="1471680"/>
              <a:ext cx="568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130"/>
            <p:cNvSpPr/>
            <p:nvPr/>
          </p:nvSpPr>
          <p:spPr>
            <a:xfrm>
              <a:off x="4952880" y="1816200"/>
              <a:ext cx="5688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131"/>
            <p:cNvSpPr/>
            <p:nvPr/>
          </p:nvSpPr>
          <p:spPr>
            <a:xfrm rot="16200000">
              <a:off x="5124960" y="129924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132"/>
            <p:cNvSpPr/>
            <p:nvPr/>
          </p:nvSpPr>
          <p:spPr>
            <a:xfrm>
              <a:off x="5295600" y="147168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33"/>
            <p:cNvSpPr/>
            <p:nvPr/>
          </p:nvSpPr>
          <p:spPr>
            <a:xfrm>
              <a:off x="5295600" y="181620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134"/>
            <p:cNvSpPr/>
            <p:nvPr/>
          </p:nvSpPr>
          <p:spPr>
            <a:xfrm rot="16200000">
              <a:off x="5124240" y="198900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135"/>
            <p:cNvSpPr/>
            <p:nvPr/>
          </p:nvSpPr>
          <p:spPr>
            <a:xfrm rot="16200000">
              <a:off x="5125680" y="1644480"/>
              <a:ext cx="5256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136"/>
            <p:cNvSpPr/>
            <p:nvPr/>
          </p:nvSpPr>
          <p:spPr>
            <a:xfrm>
              <a:off x="5360760" y="2055600"/>
              <a:ext cx="8244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137"/>
            <p:cNvSpPr/>
            <p:nvPr/>
          </p:nvSpPr>
          <p:spPr>
            <a:xfrm>
              <a:off x="5479920" y="147168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138"/>
            <p:cNvSpPr/>
            <p:nvPr/>
          </p:nvSpPr>
          <p:spPr>
            <a:xfrm>
              <a:off x="5479920" y="18162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139"/>
            <p:cNvSpPr/>
            <p:nvPr/>
          </p:nvSpPr>
          <p:spPr>
            <a:xfrm rot="16200000">
              <a:off x="5653440" y="129924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140"/>
            <p:cNvSpPr/>
            <p:nvPr/>
          </p:nvSpPr>
          <p:spPr>
            <a:xfrm>
              <a:off x="5822640" y="1471680"/>
              <a:ext cx="558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141"/>
            <p:cNvSpPr/>
            <p:nvPr/>
          </p:nvSpPr>
          <p:spPr>
            <a:xfrm>
              <a:off x="5822640" y="1816200"/>
              <a:ext cx="558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142"/>
            <p:cNvSpPr/>
            <p:nvPr/>
          </p:nvSpPr>
          <p:spPr>
            <a:xfrm rot="16200000">
              <a:off x="5652720" y="1989000"/>
              <a:ext cx="554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43"/>
            <p:cNvSpPr/>
            <p:nvPr/>
          </p:nvSpPr>
          <p:spPr>
            <a:xfrm rot="16200000">
              <a:off x="5654160" y="1644480"/>
              <a:ext cx="5256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44"/>
            <p:cNvSpPr/>
            <p:nvPr/>
          </p:nvSpPr>
          <p:spPr>
            <a:xfrm>
              <a:off x="6003720" y="147168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45"/>
            <p:cNvSpPr/>
            <p:nvPr/>
          </p:nvSpPr>
          <p:spPr>
            <a:xfrm>
              <a:off x="6003720" y="181620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46"/>
            <p:cNvSpPr/>
            <p:nvPr/>
          </p:nvSpPr>
          <p:spPr>
            <a:xfrm rot="16200000">
              <a:off x="6175800" y="1300680"/>
              <a:ext cx="540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47"/>
            <p:cNvSpPr/>
            <p:nvPr/>
          </p:nvSpPr>
          <p:spPr>
            <a:xfrm>
              <a:off x="6346440" y="1471680"/>
              <a:ext cx="590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48"/>
            <p:cNvSpPr/>
            <p:nvPr/>
          </p:nvSpPr>
          <p:spPr>
            <a:xfrm>
              <a:off x="6346440" y="1816200"/>
              <a:ext cx="590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Rectangle 149"/>
            <p:cNvSpPr/>
            <p:nvPr/>
          </p:nvSpPr>
          <p:spPr>
            <a:xfrm rot="16200000">
              <a:off x="6175080" y="1990440"/>
              <a:ext cx="554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150"/>
            <p:cNvSpPr/>
            <p:nvPr/>
          </p:nvSpPr>
          <p:spPr>
            <a:xfrm rot="16200000">
              <a:off x="6176520" y="1645920"/>
              <a:ext cx="525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151"/>
            <p:cNvSpPr/>
            <p:nvPr/>
          </p:nvSpPr>
          <p:spPr>
            <a:xfrm>
              <a:off x="6532200" y="1471680"/>
              <a:ext cx="540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Rectangle 152"/>
            <p:cNvSpPr/>
            <p:nvPr/>
          </p:nvSpPr>
          <p:spPr>
            <a:xfrm>
              <a:off x="6532200" y="1816200"/>
              <a:ext cx="540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53"/>
            <p:cNvSpPr/>
            <p:nvPr/>
          </p:nvSpPr>
          <p:spPr>
            <a:xfrm rot="16200000">
              <a:off x="6704640" y="1299240"/>
              <a:ext cx="540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154"/>
            <p:cNvSpPr/>
            <p:nvPr/>
          </p:nvSpPr>
          <p:spPr>
            <a:xfrm>
              <a:off x="6876720" y="1471680"/>
              <a:ext cx="5724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155"/>
            <p:cNvSpPr/>
            <p:nvPr/>
          </p:nvSpPr>
          <p:spPr>
            <a:xfrm>
              <a:off x="6876720" y="1816200"/>
              <a:ext cx="572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56"/>
            <p:cNvSpPr/>
            <p:nvPr/>
          </p:nvSpPr>
          <p:spPr>
            <a:xfrm rot="16200000">
              <a:off x="6703920" y="1989000"/>
              <a:ext cx="5544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Rectangle 157"/>
            <p:cNvSpPr/>
            <p:nvPr/>
          </p:nvSpPr>
          <p:spPr>
            <a:xfrm rot="16200000">
              <a:off x="6705360" y="1644480"/>
              <a:ext cx="5256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158"/>
            <p:cNvSpPr/>
            <p:nvPr/>
          </p:nvSpPr>
          <p:spPr>
            <a:xfrm>
              <a:off x="5892480" y="2058840"/>
              <a:ext cx="81000" cy="101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59"/>
            <p:cNvSpPr/>
            <p:nvPr/>
          </p:nvSpPr>
          <p:spPr>
            <a:xfrm>
              <a:off x="6395760" y="2084400"/>
              <a:ext cx="824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Freeform 160"/>
          <p:cNvSpPr/>
          <p:nvPr/>
        </p:nvSpPr>
        <p:spPr>
          <a:xfrm>
            <a:off x="2971800" y="1700280"/>
            <a:ext cx="2819520" cy="992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1776" h="625">
                <a:moveTo>
                  <a:pt x="1776" y="389"/>
                </a:moveTo>
                <a:cubicBezTo>
                  <a:pt x="1752" y="445"/>
                  <a:pt x="1724" y="497"/>
                  <a:pt x="1680" y="533"/>
                </a:cubicBezTo>
                <a:cubicBezTo>
                  <a:pt x="1636" y="569"/>
                  <a:pt x="1567" y="588"/>
                  <a:pt x="1509" y="603"/>
                </a:cubicBezTo>
                <a:cubicBezTo>
                  <a:pt x="1451" y="618"/>
                  <a:pt x="1411" y="625"/>
                  <a:pt x="1328" y="621"/>
                </a:cubicBezTo>
                <a:cubicBezTo>
                  <a:pt x="1245" y="617"/>
                  <a:pt x="1101" y="620"/>
                  <a:pt x="1008" y="581"/>
                </a:cubicBezTo>
                <a:cubicBezTo>
                  <a:pt x="915" y="542"/>
                  <a:pt x="830" y="461"/>
                  <a:pt x="768" y="389"/>
                </a:cubicBezTo>
                <a:cubicBezTo>
                  <a:pt x="706" y="317"/>
                  <a:pt x="693" y="205"/>
                  <a:pt x="637" y="149"/>
                </a:cubicBezTo>
                <a:cubicBezTo>
                  <a:pt x="581" y="93"/>
                  <a:pt x="486" y="74"/>
                  <a:pt x="432" y="53"/>
                </a:cubicBezTo>
                <a:cubicBezTo>
                  <a:pt x="378" y="32"/>
                  <a:pt x="352" y="29"/>
                  <a:pt x="310" y="21"/>
                </a:cubicBezTo>
                <a:cubicBezTo>
                  <a:pt x="268" y="13"/>
                  <a:pt x="234" y="6"/>
                  <a:pt x="182" y="3"/>
                </a:cubicBezTo>
                <a:cubicBezTo>
                  <a:pt x="130" y="0"/>
                  <a:pt x="38" y="5"/>
                  <a:pt x="0" y="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Freeform 161"/>
          <p:cNvSpPr/>
          <p:nvPr/>
        </p:nvSpPr>
        <p:spPr>
          <a:xfrm>
            <a:off x="2971800" y="2241720"/>
            <a:ext cx="3048120" cy="699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1920" h="441">
                <a:moveTo>
                  <a:pt x="1920" y="48"/>
                </a:moveTo>
                <a:cubicBezTo>
                  <a:pt x="1872" y="164"/>
                  <a:pt x="1784" y="273"/>
                  <a:pt x="1728" y="336"/>
                </a:cubicBezTo>
                <a:cubicBezTo>
                  <a:pt x="1672" y="399"/>
                  <a:pt x="1646" y="411"/>
                  <a:pt x="1582" y="426"/>
                </a:cubicBezTo>
                <a:cubicBezTo>
                  <a:pt x="1518" y="441"/>
                  <a:pt x="1442" y="433"/>
                  <a:pt x="1346" y="426"/>
                </a:cubicBezTo>
                <a:cubicBezTo>
                  <a:pt x="1250" y="419"/>
                  <a:pt x="1120" y="423"/>
                  <a:pt x="1008" y="384"/>
                </a:cubicBezTo>
                <a:cubicBezTo>
                  <a:pt x="896" y="345"/>
                  <a:pt x="776" y="248"/>
                  <a:pt x="672" y="192"/>
                </a:cubicBezTo>
                <a:cubicBezTo>
                  <a:pt x="568" y="136"/>
                  <a:pt x="496" y="80"/>
                  <a:pt x="384" y="48"/>
                </a:cubicBezTo>
                <a:cubicBezTo>
                  <a:pt x="272" y="16"/>
                  <a:pt x="136" y="8"/>
                  <a:pt x="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62"/>
          <p:cNvSpPr/>
          <p:nvPr/>
        </p:nvSpPr>
        <p:spPr>
          <a:xfrm>
            <a:off x="441720" y="429804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is 1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63"/>
          <p:cNvSpPr/>
          <p:nvPr/>
        </p:nvSpPr>
        <p:spPr>
          <a:xfrm>
            <a:off x="5575680" y="4272840"/>
            <a:ext cx="256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ext, calculat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64"/>
          <p:cNvSpPr/>
          <p:nvPr/>
        </p:nvSpPr>
        <p:spPr>
          <a:xfrm>
            <a:off x="1357920" y="4806000"/>
            <a:ext cx="584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4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50.24 m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796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65"/>
          <p:cNvSpPr/>
          <p:nvPr/>
        </p:nvSpPr>
        <p:spPr>
          <a:xfrm>
            <a:off x="518040" y="52884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is 5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66"/>
          <p:cNvSpPr/>
          <p:nvPr/>
        </p:nvSpPr>
        <p:spPr>
          <a:xfrm>
            <a:off x="5432040" y="5263200"/>
            <a:ext cx="26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n, calcul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67"/>
          <p:cNvSpPr/>
          <p:nvPr/>
        </p:nvSpPr>
        <p:spPr>
          <a:xfrm>
            <a:off x="1986840" y="5720400"/>
            <a:ext cx="464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40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5.12 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1592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168"/>
          <p:cNvSpPr/>
          <p:nvPr/>
        </p:nvSpPr>
        <p:spPr>
          <a:xfrm>
            <a:off x="2824200" y="1576440"/>
            <a:ext cx="4122720" cy="174456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44560"/>
              <a:gd name="textAreaBottom" fmla="*/ 1744920 h 1744560"/>
            </a:gdLst>
            <a:ahLst/>
            <a:rect l="textAreaLeft" t="textAreaTop" r="textAreaRight" b="textAreaBottom"/>
            <a:pathLst>
              <a:path w="2597" h="1099">
                <a:moveTo>
                  <a:pt x="1053" y="323"/>
                </a:moveTo>
                <a:cubicBezTo>
                  <a:pt x="1123" y="411"/>
                  <a:pt x="1017" y="561"/>
                  <a:pt x="1057" y="608"/>
                </a:cubicBezTo>
                <a:cubicBezTo>
                  <a:pt x="1097" y="655"/>
                  <a:pt x="1145" y="608"/>
                  <a:pt x="1293" y="608"/>
                </a:cubicBezTo>
                <a:cubicBezTo>
                  <a:pt x="1441" y="608"/>
                  <a:pt x="1764" y="607"/>
                  <a:pt x="1948" y="608"/>
                </a:cubicBezTo>
                <a:cubicBezTo>
                  <a:pt x="2132" y="609"/>
                  <a:pt x="2290" y="603"/>
                  <a:pt x="2397" y="611"/>
                </a:cubicBezTo>
                <a:cubicBezTo>
                  <a:pt x="2504" y="619"/>
                  <a:pt x="2581" y="627"/>
                  <a:pt x="2589" y="659"/>
                </a:cubicBezTo>
                <a:cubicBezTo>
                  <a:pt x="2597" y="691"/>
                  <a:pt x="2509" y="763"/>
                  <a:pt x="2445" y="803"/>
                </a:cubicBezTo>
                <a:cubicBezTo>
                  <a:pt x="2381" y="843"/>
                  <a:pt x="2325" y="851"/>
                  <a:pt x="2205" y="899"/>
                </a:cubicBezTo>
                <a:cubicBezTo>
                  <a:pt x="2085" y="947"/>
                  <a:pt x="1933" y="1083"/>
                  <a:pt x="1725" y="1091"/>
                </a:cubicBezTo>
                <a:cubicBezTo>
                  <a:pt x="1517" y="1099"/>
                  <a:pt x="1150" y="1012"/>
                  <a:pt x="957" y="947"/>
                </a:cubicBezTo>
                <a:cubicBezTo>
                  <a:pt x="764" y="882"/>
                  <a:pt x="698" y="749"/>
                  <a:pt x="566" y="699"/>
                </a:cubicBezTo>
                <a:cubicBezTo>
                  <a:pt x="434" y="649"/>
                  <a:pt x="245" y="715"/>
                  <a:pt x="166" y="645"/>
                </a:cubicBezTo>
                <a:cubicBezTo>
                  <a:pt x="87" y="575"/>
                  <a:pt x="109" y="366"/>
                  <a:pt x="94" y="281"/>
                </a:cubicBezTo>
                <a:cubicBezTo>
                  <a:pt x="79" y="196"/>
                  <a:pt x="75" y="181"/>
                  <a:pt x="75" y="136"/>
                </a:cubicBezTo>
                <a:cubicBezTo>
                  <a:pt x="75" y="91"/>
                  <a:pt x="0" y="18"/>
                  <a:pt x="94" y="9"/>
                </a:cubicBezTo>
                <a:cubicBezTo>
                  <a:pt x="188" y="0"/>
                  <a:pt x="479" y="29"/>
                  <a:pt x="639" y="81"/>
                </a:cubicBezTo>
                <a:cubicBezTo>
                  <a:pt x="799" y="133"/>
                  <a:pt x="967" y="273"/>
                  <a:pt x="1053" y="32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reeform 169"/>
          <p:cNvSpPr/>
          <p:nvPr/>
        </p:nvSpPr>
        <p:spPr>
          <a:xfrm>
            <a:off x="2971800" y="2340000"/>
            <a:ext cx="2857680" cy="127332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1800" h="802">
                <a:moveTo>
                  <a:pt x="1800" y="0"/>
                </a:moveTo>
                <a:cubicBezTo>
                  <a:pt x="1767" y="30"/>
                  <a:pt x="1676" y="118"/>
                  <a:pt x="1600" y="182"/>
                </a:cubicBezTo>
                <a:cubicBezTo>
                  <a:pt x="1524" y="246"/>
                  <a:pt x="1413" y="328"/>
                  <a:pt x="1346" y="382"/>
                </a:cubicBezTo>
                <a:cubicBezTo>
                  <a:pt x="1279" y="436"/>
                  <a:pt x="1282" y="464"/>
                  <a:pt x="1200" y="509"/>
                </a:cubicBezTo>
                <a:cubicBezTo>
                  <a:pt x="1118" y="554"/>
                  <a:pt x="985" y="612"/>
                  <a:pt x="855" y="654"/>
                </a:cubicBezTo>
                <a:cubicBezTo>
                  <a:pt x="725" y="696"/>
                  <a:pt x="561" y="739"/>
                  <a:pt x="419" y="764"/>
                </a:cubicBezTo>
                <a:cubicBezTo>
                  <a:pt x="277" y="789"/>
                  <a:pt x="87" y="794"/>
                  <a:pt x="0" y="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reeform 170"/>
          <p:cNvSpPr/>
          <p:nvPr/>
        </p:nvSpPr>
        <p:spPr>
          <a:xfrm>
            <a:off x="2971800" y="2311560"/>
            <a:ext cx="3060720" cy="17650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928" h="1112">
                <a:moveTo>
                  <a:pt x="1928" y="0"/>
                </a:moveTo>
                <a:cubicBezTo>
                  <a:pt x="1864" y="82"/>
                  <a:pt x="1688" y="349"/>
                  <a:pt x="1546" y="491"/>
                </a:cubicBezTo>
                <a:cubicBezTo>
                  <a:pt x="1404" y="633"/>
                  <a:pt x="1200" y="772"/>
                  <a:pt x="1073" y="854"/>
                </a:cubicBezTo>
                <a:cubicBezTo>
                  <a:pt x="946" y="936"/>
                  <a:pt x="879" y="949"/>
                  <a:pt x="782" y="982"/>
                </a:cubicBezTo>
                <a:cubicBezTo>
                  <a:pt x="685" y="1015"/>
                  <a:pt x="576" y="1036"/>
                  <a:pt x="491" y="1054"/>
                </a:cubicBezTo>
                <a:cubicBezTo>
                  <a:pt x="406" y="1072"/>
                  <a:pt x="324" y="1082"/>
                  <a:pt x="273" y="1091"/>
                </a:cubicBezTo>
                <a:cubicBezTo>
                  <a:pt x="222" y="1100"/>
                  <a:pt x="227" y="1106"/>
                  <a:pt x="182" y="1109"/>
                </a:cubicBezTo>
                <a:cubicBezTo>
                  <a:pt x="137" y="1112"/>
                  <a:pt x="38" y="1108"/>
                  <a:pt x="0" y="110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71"/>
          <p:cNvSpPr/>
          <p:nvPr/>
        </p:nvSpPr>
        <p:spPr>
          <a:xfrm>
            <a:off x="1335960" y="6253920"/>
            <a:ext cx="60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is inversely proportional to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.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172"/>
          <p:cNvSpPr/>
          <p:nvPr/>
        </p:nvSpPr>
        <p:spPr>
          <a:xfrm>
            <a:off x="2971800" y="1555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Group 173"/>
          <p:cNvGrpSpPr/>
          <p:nvPr/>
        </p:nvGrpSpPr>
        <p:grpSpPr>
          <a:xfrm>
            <a:off x="385200" y="-360"/>
            <a:ext cx="8344800" cy="921600"/>
            <a:chOff x="385200" y="-360"/>
            <a:chExt cx="8344800" cy="921600"/>
          </a:xfrm>
        </p:grpSpPr>
        <p:sp>
          <p:nvSpPr>
            <p:cNvPr id="1286" name="Text Box 2"/>
            <p:cNvSpPr/>
            <p:nvPr/>
          </p:nvSpPr>
          <p:spPr>
            <a:xfrm>
              <a:off x="385200" y="-360"/>
              <a:ext cx="834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Capacitive Reactance And Frequency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72"/>
            <p:cNvSpPr/>
            <p:nvPr/>
          </p:nvSpPr>
          <p:spPr>
            <a:xfrm>
              <a:off x="3358440" y="55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(Page 268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Slide Number Placeholder 174"/>
          <p:cNvSpPr/>
          <p:nvPr/>
        </p:nvSpPr>
        <p:spPr>
          <a:xfrm>
            <a:off x="-76320" y="-76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FED76F5-7071-4414-AA01-C764040B0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3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3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3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3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44"/>
          <p:cNvSpPr/>
          <p:nvPr/>
        </p:nvSpPr>
        <p:spPr>
          <a:xfrm>
            <a:off x="795240" y="0"/>
            <a:ext cx="8093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Relaxation Oscillator Circuit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Page 276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55"/>
          <p:cNvSpPr/>
          <p:nvPr/>
        </p:nvSpPr>
        <p:spPr>
          <a:xfrm>
            <a:off x="469440" y="4343400"/>
            <a:ext cx="83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When power is applied, the capacitor charges to the firing voltag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of the NE-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reeform 56"/>
          <p:cNvSpPr/>
          <p:nvPr/>
        </p:nvSpPr>
        <p:spPr>
          <a:xfrm>
            <a:off x="5835600" y="2743200"/>
            <a:ext cx="1235160" cy="870120"/>
          </a:xfrm>
          <a:custGeom>
            <a:avLst/>
            <a:gdLst>
              <a:gd name="textAreaLeft" fmla="*/ 0 w 1235160"/>
              <a:gd name="textAreaRight" fmla="*/ 1235160 w 12351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78" h="548">
                <a:moveTo>
                  <a:pt x="0" y="548"/>
                </a:moveTo>
                <a:cubicBezTo>
                  <a:pt x="17" y="513"/>
                  <a:pt x="53" y="392"/>
                  <a:pt x="88" y="336"/>
                </a:cubicBezTo>
                <a:cubicBezTo>
                  <a:pt x="123" y="280"/>
                  <a:pt x="161" y="253"/>
                  <a:pt x="212" y="213"/>
                </a:cubicBezTo>
                <a:cubicBezTo>
                  <a:pt x="263" y="173"/>
                  <a:pt x="338" y="125"/>
                  <a:pt x="394" y="96"/>
                </a:cubicBezTo>
                <a:cubicBezTo>
                  <a:pt x="450" y="67"/>
                  <a:pt x="483" y="52"/>
                  <a:pt x="547" y="36"/>
                </a:cubicBezTo>
                <a:cubicBezTo>
                  <a:pt x="611" y="20"/>
                  <a:pt x="730" y="7"/>
                  <a:pt x="778" y="0"/>
                </a:cubicBezTo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7"/>
          <p:cNvSpPr/>
          <p:nvPr/>
        </p:nvSpPr>
        <p:spPr>
          <a:xfrm>
            <a:off x="2077200" y="4664160"/>
            <a:ext cx="56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and produces part of the sawtooth wavefo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58"/>
          <p:cNvSpPr/>
          <p:nvPr/>
        </p:nvSpPr>
        <p:spPr>
          <a:xfrm>
            <a:off x="509400" y="514656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en the NE-2 fires, the capacitor discharges through the NE-2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59"/>
          <p:cNvSpPr/>
          <p:nvPr/>
        </p:nvSpPr>
        <p:spPr>
          <a:xfrm>
            <a:off x="616320" y="5451480"/>
            <a:ext cx="73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source sends current through the NE-2 and the resistor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60"/>
          <p:cNvSpPr/>
          <p:nvPr/>
        </p:nvSpPr>
        <p:spPr>
          <a:xfrm>
            <a:off x="604080" y="579132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 the rest of the sawtooth waveform is produc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61"/>
          <p:cNvSpPr/>
          <p:nvPr/>
        </p:nvSpPr>
        <p:spPr>
          <a:xfrm>
            <a:off x="7070760" y="2743200"/>
            <a:ext cx="76320" cy="838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62"/>
          <p:cNvSpPr/>
          <p:nvPr/>
        </p:nvSpPr>
        <p:spPr>
          <a:xfrm>
            <a:off x="60624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the cycle starts ov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reeform 79"/>
          <p:cNvSpPr/>
          <p:nvPr/>
        </p:nvSpPr>
        <p:spPr>
          <a:xfrm>
            <a:off x="7147080" y="2743200"/>
            <a:ext cx="1234800" cy="870120"/>
          </a:xfrm>
          <a:custGeom>
            <a:avLst/>
            <a:gdLst>
              <a:gd name="textAreaLeft" fmla="*/ 0 w 1234800"/>
              <a:gd name="textAreaRight" fmla="*/ 1235160 w 12348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78" h="548">
                <a:moveTo>
                  <a:pt x="0" y="548"/>
                </a:moveTo>
                <a:cubicBezTo>
                  <a:pt x="17" y="513"/>
                  <a:pt x="53" y="392"/>
                  <a:pt x="88" y="336"/>
                </a:cubicBezTo>
                <a:cubicBezTo>
                  <a:pt x="123" y="280"/>
                  <a:pt x="161" y="253"/>
                  <a:pt x="212" y="213"/>
                </a:cubicBezTo>
                <a:cubicBezTo>
                  <a:pt x="263" y="173"/>
                  <a:pt x="338" y="125"/>
                  <a:pt x="394" y="96"/>
                </a:cubicBezTo>
                <a:cubicBezTo>
                  <a:pt x="450" y="67"/>
                  <a:pt x="483" y="52"/>
                  <a:pt x="547" y="36"/>
                </a:cubicBezTo>
                <a:cubicBezTo>
                  <a:pt x="611" y="20"/>
                  <a:pt x="730" y="7"/>
                  <a:pt x="778" y="0"/>
                </a:cubicBezTo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1"/>
          <a:stretch/>
        </p:blipFill>
        <p:spPr>
          <a:xfrm>
            <a:off x="479520" y="1219320"/>
            <a:ext cx="2714400" cy="2971800"/>
          </a:xfrm>
          <a:prstGeom prst="rect">
            <a:avLst/>
          </a:prstGeom>
          <a:ln w="0">
            <a:noFill/>
          </a:ln>
        </p:spPr>
      </p:pic>
      <p:sp>
        <p:nvSpPr>
          <p:cNvPr id="1300" name="Oval 4"/>
          <p:cNvSpPr/>
          <p:nvPr/>
        </p:nvSpPr>
        <p:spPr>
          <a:xfrm flipH="1">
            <a:off x="2202840" y="38862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5"/>
          <p:cNvSpPr/>
          <p:nvPr/>
        </p:nvSpPr>
        <p:spPr>
          <a:xfrm flipH="1">
            <a:off x="2202840" y="25146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"/>
          <p:cNvSpPr/>
          <p:nvPr/>
        </p:nvSpPr>
        <p:spPr>
          <a:xfrm>
            <a:off x="3886200" y="304812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8"/>
          <p:cNvSpPr/>
          <p:nvPr/>
        </p:nvSpPr>
        <p:spPr>
          <a:xfrm>
            <a:off x="3886200" y="342900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Line 9"/>
          <p:cNvSpPr/>
          <p:nvPr/>
        </p:nvSpPr>
        <p:spPr>
          <a:xfrm>
            <a:off x="3772080" y="3048120"/>
            <a:ext cx="4190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10"/>
          <p:cNvSpPr/>
          <p:nvPr/>
        </p:nvSpPr>
        <p:spPr>
          <a:xfrm>
            <a:off x="3772080" y="3581280"/>
            <a:ext cx="4190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1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2"/>
          <p:cNvSpPr/>
          <p:nvPr/>
        </p:nvSpPr>
        <p:spPr>
          <a:xfrm>
            <a:off x="3505320" y="2819520"/>
            <a:ext cx="914400" cy="99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14"/>
          <p:cNvSpPr/>
          <p:nvPr/>
        </p:nvSpPr>
        <p:spPr>
          <a:xfrm>
            <a:off x="2286000" y="3962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15"/>
          <p:cNvSpPr/>
          <p:nvPr/>
        </p:nvSpPr>
        <p:spPr>
          <a:xfrm flipH="1">
            <a:off x="2285640" y="25909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7"/>
          <p:cNvSpPr/>
          <p:nvPr/>
        </p:nvSpPr>
        <p:spPr>
          <a:xfrm>
            <a:off x="4522680" y="312408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-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Group 18"/>
          <p:cNvGrpSpPr/>
          <p:nvPr/>
        </p:nvGrpSpPr>
        <p:grpSpPr>
          <a:xfrm>
            <a:off x="1170000" y="1523880"/>
            <a:ext cx="914400" cy="2286000"/>
            <a:chOff x="1170000" y="1523880"/>
            <a:chExt cx="914400" cy="2286000"/>
          </a:xfrm>
        </p:grpSpPr>
        <p:sp>
          <p:nvSpPr>
            <p:cNvPr id="1312" name="AutoShape 19"/>
            <p:cNvSpPr/>
            <p:nvPr/>
          </p:nvSpPr>
          <p:spPr>
            <a:xfrm>
              <a:off x="1170000" y="1523880"/>
              <a:ext cx="914400" cy="2286000"/>
            </a:xfrm>
            <a:prstGeom prst="flowChartAlternateProcess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20"/>
            <p:cNvSpPr/>
            <p:nvPr/>
          </p:nvSpPr>
          <p:spPr>
            <a:xfrm>
              <a:off x="1170000" y="2286000"/>
              <a:ext cx="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21"/>
            <p:cNvSpPr/>
            <p:nvPr/>
          </p:nvSpPr>
          <p:spPr>
            <a:xfrm>
              <a:off x="2084400" y="32004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22"/>
            <p:cNvSpPr/>
            <p:nvPr/>
          </p:nvSpPr>
          <p:spPr>
            <a:xfrm>
              <a:off x="1170000" y="3200400"/>
              <a:ext cx="0" cy="2286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23"/>
            <p:cNvSpPr/>
            <p:nvPr/>
          </p:nvSpPr>
          <p:spPr>
            <a:xfrm flipV="1">
              <a:off x="2084400" y="251424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Group 24"/>
          <p:cNvGrpSpPr/>
          <p:nvPr/>
        </p:nvGrpSpPr>
        <p:grpSpPr>
          <a:xfrm>
            <a:off x="1170000" y="1523880"/>
            <a:ext cx="914400" cy="2286000"/>
            <a:chOff x="1170000" y="1523880"/>
            <a:chExt cx="914400" cy="2286000"/>
          </a:xfrm>
        </p:grpSpPr>
        <p:sp>
          <p:nvSpPr>
            <p:cNvPr id="1318" name="AutoShape 25"/>
            <p:cNvSpPr/>
            <p:nvPr/>
          </p:nvSpPr>
          <p:spPr>
            <a:xfrm>
              <a:off x="1170000" y="1523880"/>
              <a:ext cx="914400" cy="22860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26"/>
            <p:cNvSpPr/>
            <p:nvPr/>
          </p:nvSpPr>
          <p:spPr>
            <a:xfrm>
              <a:off x="1170000" y="2286000"/>
              <a:ext cx="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27"/>
            <p:cNvSpPr/>
            <p:nvPr/>
          </p:nvSpPr>
          <p:spPr>
            <a:xfrm>
              <a:off x="2084400" y="32004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28"/>
            <p:cNvSpPr/>
            <p:nvPr/>
          </p:nvSpPr>
          <p:spPr>
            <a:xfrm>
              <a:off x="1170000" y="32004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29"/>
            <p:cNvSpPr/>
            <p:nvPr/>
          </p:nvSpPr>
          <p:spPr>
            <a:xfrm flipV="1">
              <a:off x="2084400" y="25142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Line 53"/>
          <p:cNvSpPr/>
          <p:nvPr/>
        </p:nvSpPr>
        <p:spPr>
          <a:xfrm>
            <a:off x="636480" y="2286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71"/>
          <p:cNvSpPr/>
          <p:nvPr/>
        </p:nvSpPr>
        <p:spPr>
          <a:xfrm>
            <a:off x="609480" y="2286000"/>
            <a:ext cx="0" cy="762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Group 73"/>
          <p:cNvGrpSpPr/>
          <p:nvPr/>
        </p:nvGrpSpPr>
        <p:grpSpPr>
          <a:xfrm>
            <a:off x="1143000" y="1523880"/>
            <a:ext cx="914400" cy="2286000"/>
            <a:chOff x="1143000" y="1523880"/>
            <a:chExt cx="914400" cy="2286000"/>
          </a:xfrm>
        </p:grpSpPr>
        <p:sp>
          <p:nvSpPr>
            <p:cNvPr id="1326" name="AutoShape 74"/>
            <p:cNvSpPr/>
            <p:nvPr/>
          </p:nvSpPr>
          <p:spPr>
            <a:xfrm>
              <a:off x="1143000" y="1523880"/>
              <a:ext cx="914400" cy="2286000"/>
            </a:xfrm>
            <a:prstGeom prst="flowChartAlternateProcess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75"/>
            <p:cNvSpPr/>
            <p:nvPr/>
          </p:nvSpPr>
          <p:spPr>
            <a:xfrm>
              <a:off x="1143000" y="2286000"/>
              <a:ext cx="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76"/>
            <p:cNvSpPr/>
            <p:nvPr/>
          </p:nvSpPr>
          <p:spPr>
            <a:xfrm>
              <a:off x="2057400" y="32004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77"/>
            <p:cNvSpPr/>
            <p:nvPr/>
          </p:nvSpPr>
          <p:spPr>
            <a:xfrm>
              <a:off x="1143000" y="3200400"/>
              <a:ext cx="0" cy="2286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78"/>
            <p:cNvSpPr/>
            <p:nvPr/>
          </p:nvSpPr>
          <p:spPr>
            <a:xfrm flipV="1">
              <a:off x="2057400" y="251424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" name="Line 80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81"/>
          <p:cNvSpPr/>
          <p:nvPr/>
        </p:nvSpPr>
        <p:spPr>
          <a:xfrm>
            <a:off x="3962520" y="3581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Group 82"/>
          <p:cNvGrpSpPr/>
          <p:nvPr/>
        </p:nvGrpSpPr>
        <p:grpSpPr>
          <a:xfrm>
            <a:off x="2541600" y="2743200"/>
            <a:ext cx="1115280" cy="1143000"/>
            <a:chOff x="2541600" y="2743200"/>
            <a:chExt cx="1115280" cy="1143000"/>
          </a:xfrm>
        </p:grpSpPr>
        <p:grpSp>
          <p:nvGrpSpPr>
            <p:cNvPr id="1334" name="Group 83"/>
            <p:cNvGrpSpPr/>
            <p:nvPr/>
          </p:nvGrpSpPr>
          <p:grpSpPr>
            <a:xfrm>
              <a:off x="2541600" y="2743200"/>
              <a:ext cx="1115280" cy="1143000"/>
              <a:chOff x="2541600" y="2743200"/>
              <a:chExt cx="1115280" cy="1143000"/>
            </a:xfrm>
          </p:grpSpPr>
          <p:sp>
            <p:nvSpPr>
              <p:cNvPr id="1335" name="AutoShape 84"/>
              <p:cNvSpPr/>
              <p:nvPr/>
            </p:nvSpPr>
            <p:spPr>
              <a:xfrm>
                <a:off x="2541600" y="2743200"/>
                <a:ext cx="1115280" cy="1143000"/>
              </a:xfrm>
              <a:prstGeom prst="flowChartAlternateProcess">
                <a:avLst/>
              </a:pr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Line 85"/>
              <p:cNvSpPr/>
              <p:nvPr/>
            </p:nvSpPr>
            <p:spPr>
              <a:xfrm>
                <a:off x="3656880" y="304812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Line 86"/>
              <p:cNvSpPr/>
              <p:nvPr/>
            </p:nvSpPr>
            <p:spPr>
              <a:xfrm>
                <a:off x="2541600" y="335268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Line 87"/>
            <p:cNvSpPr/>
            <p:nvPr/>
          </p:nvSpPr>
          <p:spPr>
            <a:xfrm>
              <a:off x="2970720" y="3886200"/>
              <a:ext cx="2574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88"/>
            <p:cNvSpPr/>
            <p:nvPr/>
          </p:nvSpPr>
          <p:spPr>
            <a:xfrm flipH="1">
              <a:off x="3056040" y="2743200"/>
              <a:ext cx="2574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Freeform 89"/>
          <p:cNvSpPr/>
          <p:nvPr/>
        </p:nvSpPr>
        <p:spPr>
          <a:xfrm>
            <a:off x="642960" y="3048120"/>
            <a:ext cx="3624120" cy="1145880"/>
          </a:xfrm>
          <a:custGeom>
            <a:avLst/>
            <a:gdLst>
              <a:gd name="textAreaLeft" fmla="*/ 0 w 3624120"/>
              <a:gd name="textAreaRight" fmla="*/ 3624480 w 3624120"/>
              <a:gd name="textAreaTop" fmla="*/ 0 h 1145880"/>
              <a:gd name="textAreaBottom" fmla="*/ 1145880 h 1145880"/>
            </a:gdLst>
            <a:ahLst/>
            <a:rect l="textAreaLeft" t="textAreaTop" r="textAreaRight" b="textAreaBottom"/>
            <a:pathLst>
              <a:path w="2283" h="722">
                <a:moveTo>
                  <a:pt x="2" y="0"/>
                </a:moveTo>
                <a:cubicBezTo>
                  <a:pt x="0" y="26"/>
                  <a:pt x="2" y="104"/>
                  <a:pt x="2" y="156"/>
                </a:cubicBezTo>
                <a:cubicBezTo>
                  <a:pt x="2" y="208"/>
                  <a:pt x="2" y="267"/>
                  <a:pt x="2" y="312"/>
                </a:cubicBezTo>
                <a:cubicBezTo>
                  <a:pt x="2" y="357"/>
                  <a:pt x="4" y="387"/>
                  <a:pt x="4" y="426"/>
                </a:cubicBezTo>
                <a:cubicBezTo>
                  <a:pt x="4" y="465"/>
                  <a:pt x="0" y="506"/>
                  <a:pt x="4" y="544"/>
                </a:cubicBezTo>
                <a:cubicBezTo>
                  <a:pt x="8" y="582"/>
                  <a:pt x="11" y="626"/>
                  <a:pt x="31" y="653"/>
                </a:cubicBezTo>
                <a:cubicBezTo>
                  <a:pt x="51" y="680"/>
                  <a:pt x="60" y="696"/>
                  <a:pt x="122" y="707"/>
                </a:cubicBezTo>
                <a:cubicBezTo>
                  <a:pt x="184" y="718"/>
                  <a:pt x="95" y="715"/>
                  <a:pt x="404" y="717"/>
                </a:cubicBezTo>
                <a:cubicBezTo>
                  <a:pt x="713" y="719"/>
                  <a:pt x="1690" y="717"/>
                  <a:pt x="1977" y="717"/>
                </a:cubicBezTo>
                <a:cubicBezTo>
                  <a:pt x="2264" y="717"/>
                  <a:pt x="2090" y="722"/>
                  <a:pt x="2127" y="717"/>
                </a:cubicBezTo>
                <a:cubicBezTo>
                  <a:pt x="2164" y="712"/>
                  <a:pt x="2182" y="700"/>
                  <a:pt x="2200" y="689"/>
                </a:cubicBezTo>
                <a:cubicBezTo>
                  <a:pt x="2218" y="678"/>
                  <a:pt x="2224" y="670"/>
                  <a:pt x="2236" y="653"/>
                </a:cubicBezTo>
                <a:cubicBezTo>
                  <a:pt x="2248" y="636"/>
                  <a:pt x="2265" y="610"/>
                  <a:pt x="2273" y="589"/>
                </a:cubicBezTo>
                <a:cubicBezTo>
                  <a:pt x="2281" y="568"/>
                  <a:pt x="2281" y="553"/>
                  <a:pt x="2282" y="526"/>
                </a:cubicBezTo>
                <a:cubicBezTo>
                  <a:pt x="2283" y="499"/>
                  <a:pt x="2282" y="464"/>
                  <a:pt x="2282" y="426"/>
                </a:cubicBezTo>
                <a:cubicBezTo>
                  <a:pt x="2282" y="388"/>
                  <a:pt x="2282" y="325"/>
                  <a:pt x="2282" y="298"/>
                </a:cubicBezTo>
              </a:path>
            </a:pathLst>
          </a:cu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90"/>
          <p:cNvSpPr/>
          <p:nvPr/>
        </p:nvSpPr>
        <p:spPr>
          <a:xfrm>
            <a:off x="587520" y="1063800"/>
            <a:ext cx="3679560" cy="1966680"/>
          </a:xfrm>
          <a:custGeom>
            <a:avLst/>
            <a:gdLst>
              <a:gd name="textAreaLeft" fmla="*/ 0 w 3679560"/>
              <a:gd name="textAreaRight" fmla="*/ 3679920 w 367956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w="2318" h="1239">
                <a:moveTo>
                  <a:pt x="14" y="770"/>
                </a:moveTo>
                <a:cubicBezTo>
                  <a:pt x="14" y="665"/>
                  <a:pt x="0" y="264"/>
                  <a:pt x="12" y="139"/>
                </a:cubicBezTo>
                <a:cubicBezTo>
                  <a:pt x="25" y="13"/>
                  <a:pt x="49" y="42"/>
                  <a:pt x="84" y="21"/>
                </a:cubicBezTo>
                <a:cubicBezTo>
                  <a:pt x="119" y="0"/>
                  <a:pt x="123" y="13"/>
                  <a:pt x="221" y="12"/>
                </a:cubicBezTo>
                <a:cubicBezTo>
                  <a:pt x="319" y="11"/>
                  <a:pt x="542" y="12"/>
                  <a:pt x="675" y="12"/>
                </a:cubicBezTo>
                <a:cubicBezTo>
                  <a:pt x="808" y="12"/>
                  <a:pt x="957" y="10"/>
                  <a:pt x="1021" y="12"/>
                </a:cubicBezTo>
                <a:cubicBezTo>
                  <a:pt x="1085" y="14"/>
                  <a:pt x="1045" y="20"/>
                  <a:pt x="1057" y="21"/>
                </a:cubicBezTo>
                <a:cubicBezTo>
                  <a:pt x="1069" y="22"/>
                  <a:pt x="1081" y="17"/>
                  <a:pt x="1093" y="21"/>
                </a:cubicBezTo>
                <a:cubicBezTo>
                  <a:pt x="1105" y="25"/>
                  <a:pt x="1119" y="34"/>
                  <a:pt x="1130" y="48"/>
                </a:cubicBezTo>
                <a:cubicBezTo>
                  <a:pt x="1141" y="62"/>
                  <a:pt x="1152" y="76"/>
                  <a:pt x="1157" y="103"/>
                </a:cubicBezTo>
                <a:cubicBezTo>
                  <a:pt x="1162" y="130"/>
                  <a:pt x="1157" y="120"/>
                  <a:pt x="1157" y="212"/>
                </a:cubicBezTo>
                <a:cubicBezTo>
                  <a:pt x="1157" y="304"/>
                  <a:pt x="1157" y="566"/>
                  <a:pt x="1157" y="657"/>
                </a:cubicBezTo>
                <a:cubicBezTo>
                  <a:pt x="1157" y="748"/>
                  <a:pt x="1156" y="728"/>
                  <a:pt x="1157" y="757"/>
                </a:cubicBezTo>
                <a:cubicBezTo>
                  <a:pt x="1158" y="786"/>
                  <a:pt x="1160" y="813"/>
                  <a:pt x="1166" y="830"/>
                </a:cubicBezTo>
                <a:cubicBezTo>
                  <a:pt x="1172" y="847"/>
                  <a:pt x="1181" y="851"/>
                  <a:pt x="1193" y="857"/>
                </a:cubicBezTo>
                <a:cubicBezTo>
                  <a:pt x="1205" y="863"/>
                  <a:pt x="1212" y="864"/>
                  <a:pt x="1239" y="866"/>
                </a:cubicBezTo>
                <a:cubicBezTo>
                  <a:pt x="1266" y="868"/>
                  <a:pt x="1312" y="866"/>
                  <a:pt x="1357" y="866"/>
                </a:cubicBezTo>
                <a:cubicBezTo>
                  <a:pt x="1402" y="866"/>
                  <a:pt x="1380" y="866"/>
                  <a:pt x="1512" y="866"/>
                </a:cubicBezTo>
                <a:cubicBezTo>
                  <a:pt x="1644" y="866"/>
                  <a:pt x="2031" y="866"/>
                  <a:pt x="2148" y="866"/>
                </a:cubicBezTo>
                <a:cubicBezTo>
                  <a:pt x="2265" y="866"/>
                  <a:pt x="2191" y="863"/>
                  <a:pt x="2212" y="866"/>
                </a:cubicBezTo>
                <a:cubicBezTo>
                  <a:pt x="2233" y="869"/>
                  <a:pt x="2258" y="873"/>
                  <a:pt x="2275" y="885"/>
                </a:cubicBezTo>
                <a:cubicBezTo>
                  <a:pt x="2292" y="897"/>
                  <a:pt x="2306" y="919"/>
                  <a:pt x="2312" y="939"/>
                </a:cubicBezTo>
                <a:cubicBezTo>
                  <a:pt x="2318" y="959"/>
                  <a:pt x="2312" y="953"/>
                  <a:pt x="2312" y="1003"/>
                </a:cubicBezTo>
                <a:cubicBezTo>
                  <a:pt x="2312" y="1053"/>
                  <a:pt x="2312" y="1190"/>
                  <a:pt x="2312" y="1239"/>
                </a:cubicBezTo>
              </a:path>
            </a:pathLst>
          </a:cu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94"/>
          <p:cNvSpPr/>
          <p:nvPr/>
        </p:nvSpPr>
        <p:spPr>
          <a:xfrm flipH="1">
            <a:off x="3200040" y="2438280"/>
            <a:ext cx="152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97"/>
          <p:cNvSpPr/>
          <p:nvPr/>
        </p:nvSpPr>
        <p:spPr>
          <a:xfrm>
            <a:off x="1905120" y="4191120"/>
            <a:ext cx="7596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103"/>
          <p:cNvSpPr/>
          <p:nvPr/>
        </p:nvSpPr>
        <p:spPr>
          <a:xfrm>
            <a:off x="380880" y="990720"/>
            <a:ext cx="4876920" cy="32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Group 150"/>
          <p:cNvGrpSpPr/>
          <p:nvPr/>
        </p:nvGrpSpPr>
        <p:grpSpPr>
          <a:xfrm>
            <a:off x="479520" y="1219320"/>
            <a:ext cx="4778280" cy="2971800"/>
            <a:chOff x="479520" y="1219320"/>
            <a:chExt cx="4778280" cy="2971800"/>
          </a:xfrm>
        </p:grpSpPr>
        <p:pic>
          <p:nvPicPr>
            <p:cNvPr id="1346" name="Picture 105" descr=""/>
            <p:cNvPicPr/>
            <p:nvPr/>
          </p:nvPicPr>
          <p:blipFill>
            <a:blip r:embed="rId2"/>
            <a:stretch/>
          </p:blipFill>
          <p:spPr>
            <a:xfrm>
              <a:off x="479520" y="1219320"/>
              <a:ext cx="27144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Oval 106"/>
            <p:cNvSpPr/>
            <p:nvPr/>
          </p:nvSpPr>
          <p:spPr>
            <a:xfrm flipH="1">
              <a:off x="2202840" y="38862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107"/>
            <p:cNvSpPr/>
            <p:nvPr/>
          </p:nvSpPr>
          <p:spPr>
            <a:xfrm flipH="1">
              <a:off x="2202840" y="2514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108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109"/>
            <p:cNvSpPr/>
            <p:nvPr/>
          </p:nvSpPr>
          <p:spPr>
            <a:xfrm>
              <a:off x="3886200" y="3429000"/>
              <a:ext cx="152280" cy="15228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110"/>
            <p:cNvSpPr/>
            <p:nvPr/>
          </p:nvSpPr>
          <p:spPr>
            <a:xfrm>
              <a:off x="3772080" y="3048120"/>
              <a:ext cx="419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111"/>
            <p:cNvSpPr/>
            <p:nvPr/>
          </p:nvSpPr>
          <p:spPr>
            <a:xfrm>
              <a:off x="3772080" y="3581280"/>
              <a:ext cx="419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112"/>
            <p:cNvSpPr/>
            <p:nvPr/>
          </p:nvSpPr>
          <p:spPr>
            <a:xfrm>
              <a:off x="4114800" y="32004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Oval 113"/>
            <p:cNvSpPr/>
            <p:nvPr/>
          </p:nvSpPr>
          <p:spPr>
            <a:xfrm>
              <a:off x="3505320" y="2819520"/>
              <a:ext cx="91440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114"/>
            <p:cNvSpPr/>
            <p:nvPr/>
          </p:nvSpPr>
          <p:spPr>
            <a:xfrm>
              <a:off x="2286000" y="39625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115"/>
            <p:cNvSpPr/>
            <p:nvPr/>
          </p:nvSpPr>
          <p:spPr>
            <a:xfrm flipH="1">
              <a:off x="2285640" y="25909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116"/>
            <p:cNvSpPr/>
            <p:nvPr/>
          </p:nvSpPr>
          <p:spPr>
            <a:xfrm>
              <a:off x="4522680" y="3124080"/>
              <a:ext cx="7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NE-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8" name="Group 117"/>
            <p:cNvGrpSpPr/>
            <p:nvPr/>
          </p:nvGrpSpPr>
          <p:grpSpPr>
            <a:xfrm>
              <a:off x="1170000" y="1523880"/>
              <a:ext cx="914400" cy="2286000"/>
              <a:chOff x="1170000" y="1523880"/>
              <a:chExt cx="914400" cy="2286000"/>
            </a:xfrm>
          </p:grpSpPr>
          <p:sp>
            <p:nvSpPr>
              <p:cNvPr id="1359" name="AutoShape 118"/>
              <p:cNvSpPr/>
              <p:nvPr/>
            </p:nvSpPr>
            <p:spPr>
              <a:xfrm>
                <a:off x="1170000" y="1523880"/>
                <a:ext cx="914400" cy="2286000"/>
              </a:xfrm>
              <a:prstGeom prst="flowChartAlternateProcess">
                <a:avLst/>
              </a:pr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Line 119"/>
              <p:cNvSpPr/>
              <p:nvPr/>
            </p:nvSpPr>
            <p:spPr>
              <a:xfrm>
                <a:off x="1170000" y="2286000"/>
                <a:ext cx="0" cy="68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Line 120"/>
              <p:cNvSpPr/>
              <p:nvPr/>
            </p:nvSpPr>
            <p:spPr>
              <a:xfrm>
                <a:off x="2084400" y="32004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Line 121"/>
              <p:cNvSpPr/>
              <p:nvPr/>
            </p:nvSpPr>
            <p:spPr>
              <a:xfrm>
                <a:off x="1170000" y="3200400"/>
                <a:ext cx="0" cy="2286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Line 122"/>
              <p:cNvSpPr/>
              <p:nvPr/>
            </p:nvSpPr>
            <p:spPr>
              <a:xfrm flipV="1">
                <a:off x="2084400" y="2514240"/>
                <a:ext cx="0" cy="3049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Group 123"/>
            <p:cNvGrpSpPr/>
            <p:nvPr/>
          </p:nvGrpSpPr>
          <p:grpSpPr>
            <a:xfrm>
              <a:off x="1170000" y="1523880"/>
              <a:ext cx="914400" cy="2286000"/>
              <a:chOff x="1170000" y="1523880"/>
              <a:chExt cx="914400" cy="2286000"/>
            </a:xfrm>
          </p:grpSpPr>
          <p:sp>
            <p:nvSpPr>
              <p:cNvPr id="1365" name="AutoShape 124"/>
              <p:cNvSpPr/>
              <p:nvPr/>
            </p:nvSpPr>
            <p:spPr>
              <a:xfrm>
                <a:off x="1170000" y="1523880"/>
                <a:ext cx="914400" cy="2286000"/>
              </a:xfrm>
              <a:prstGeom prst="flowChartAlternateProcess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Line 125"/>
              <p:cNvSpPr/>
              <p:nvPr/>
            </p:nvSpPr>
            <p:spPr>
              <a:xfrm>
                <a:off x="1170000" y="2286000"/>
                <a:ext cx="0" cy="68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Line 126"/>
              <p:cNvSpPr/>
              <p:nvPr/>
            </p:nvSpPr>
            <p:spPr>
              <a:xfrm>
                <a:off x="2084400" y="32004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Line 127"/>
              <p:cNvSpPr/>
              <p:nvPr/>
            </p:nvSpPr>
            <p:spPr>
              <a:xfrm>
                <a:off x="1170000" y="320040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Line 128"/>
              <p:cNvSpPr/>
              <p:nvPr/>
            </p:nvSpPr>
            <p:spPr>
              <a:xfrm flipV="1">
                <a:off x="2084400" y="251424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0" name="Line 129"/>
            <p:cNvSpPr/>
            <p:nvPr/>
          </p:nvSpPr>
          <p:spPr>
            <a:xfrm>
              <a:off x="636480" y="228600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130"/>
            <p:cNvSpPr/>
            <p:nvPr/>
          </p:nvSpPr>
          <p:spPr>
            <a:xfrm>
              <a:off x="609480" y="2286000"/>
              <a:ext cx="0" cy="762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Group 131"/>
            <p:cNvGrpSpPr/>
            <p:nvPr/>
          </p:nvGrpSpPr>
          <p:grpSpPr>
            <a:xfrm>
              <a:off x="1143000" y="1523880"/>
              <a:ext cx="914400" cy="2286000"/>
              <a:chOff x="1143000" y="1523880"/>
              <a:chExt cx="914400" cy="2286000"/>
            </a:xfrm>
          </p:grpSpPr>
          <p:sp>
            <p:nvSpPr>
              <p:cNvPr id="1373" name="AutoShape 132"/>
              <p:cNvSpPr/>
              <p:nvPr/>
            </p:nvSpPr>
            <p:spPr>
              <a:xfrm>
                <a:off x="1143000" y="1523880"/>
                <a:ext cx="914400" cy="2286000"/>
              </a:xfrm>
              <a:prstGeom prst="flowChartAlternateProcess">
                <a:avLst/>
              </a:pr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Line 133"/>
              <p:cNvSpPr/>
              <p:nvPr/>
            </p:nvSpPr>
            <p:spPr>
              <a:xfrm>
                <a:off x="1143000" y="2286000"/>
                <a:ext cx="0" cy="68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Line 134"/>
              <p:cNvSpPr/>
              <p:nvPr/>
            </p:nvSpPr>
            <p:spPr>
              <a:xfrm>
                <a:off x="2057400" y="32004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Line 135"/>
              <p:cNvSpPr/>
              <p:nvPr/>
            </p:nvSpPr>
            <p:spPr>
              <a:xfrm>
                <a:off x="1143000" y="3200400"/>
                <a:ext cx="0" cy="2286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Line 136"/>
              <p:cNvSpPr/>
              <p:nvPr/>
            </p:nvSpPr>
            <p:spPr>
              <a:xfrm flipV="1">
                <a:off x="2057400" y="2514240"/>
                <a:ext cx="0" cy="3049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Line 137"/>
            <p:cNvSpPr/>
            <p:nvPr/>
          </p:nvSpPr>
          <p:spPr>
            <a:xfrm>
              <a:off x="396252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138"/>
            <p:cNvSpPr/>
            <p:nvPr/>
          </p:nvSpPr>
          <p:spPr>
            <a:xfrm>
              <a:off x="3962520" y="3581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Slide Number Placeholder 9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F83CF9E6-2271-45B7-B78D-385A13061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"/>
                            </p:stCondLst>
                            <p:childTnLst>
                              <p:par>
                                <p:cTn id="1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50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Text Box 2"/>
          <p:cNvSpPr/>
          <p:nvPr/>
        </p:nvSpPr>
        <p:spPr>
          <a:xfrm>
            <a:off x="1908360" y="107280"/>
            <a:ext cx="52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apacitor-Circuit Quiz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"/>
          <p:cNvSpPr/>
          <p:nvPr/>
        </p:nvSpPr>
        <p:spPr>
          <a:xfrm>
            <a:off x="604440" y="882720"/>
            <a:ext cx="541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a series capacitor circuit, the small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pacitor develops the ____ voltag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603720" y="196704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a parallel capacitor circuit, the small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pacitor draws the ____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5"/>
          <p:cNvSpPr/>
          <p:nvPr/>
        </p:nvSpPr>
        <p:spPr>
          <a:xfrm>
            <a:off x="607320" y="305172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ing capacitance ____ reactanc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6"/>
          <p:cNvSpPr/>
          <p:nvPr/>
        </p:nvSpPr>
        <p:spPr>
          <a:xfrm>
            <a:off x="608400" y="3772440"/>
            <a:ext cx="50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ing frequency ____ reac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7"/>
          <p:cNvSpPr/>
          <p:nvPr/>
        </p:nvSpPr>
        <p:spPr>
          <a:xfrm>
            <a:off x="604080" y="4491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ircuit current in a capacitor circuit will 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en the frequency is decreas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8"/>
          <p:cNvSpPr/>
          <p:nvPr/>
        </p:nvSpPr>
        <p:spPr>
          <a:xfrm>
            <a:off x="607320" y="5577120"/>
            <a:ext cx="59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reactance of a 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 capacitor at 200 Hz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____ oh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9"/>
          <p:cNvSpPr/>
          <p:nvPr/>
        </p:nvSpPr>
        <p:spPr>
          <a:xfrm>
            <a:off x="7164000" y="852480"/>
            <a:ext cx="8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10"/>
          <p:cNvSpPr/>
          <p:nvPr/>
        </p:nvSpPr>
        <p:spPr>
          <a:xfrm>
            <a:off x="7196760" y="1943280"/>
            <a:ext cx="7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ea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1"/>
          <p:cNvSpPr/>
          <p:nvPr/>
        </p:nvSpPr>
        <p:spPr>
          <a:xfrm>
            <a:off x="7163280" y="30340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2"/>
          <p:cNvSpPr/>
          <p:nvPr/>
        </p:nvSpPr>
        <p:spPr>
          <a:xfrm>
            <a:off x="7163280" y="37598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13"/>
          <p:cNvSpPr/>
          <p:nvPr/>
        </p:nvSpPr>
        <p:spPr>
          <a:xfrm>
            <a:off x="7163280" y="4484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15"/>
          <p:cNvSpPr/>
          <p:nvPr/>
        </p:nvSpPr>
        <p:spPr>
          <a:xfrm>
            <a:off x="7197840" y="557712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9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14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6AC0935D-F238-475C-B8B9-AEA092788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500"/>
                            </p:stCondLst>
                            <p:childTnLst>
                              <p:par>
                                <p:cTn id="19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"/>
          <p:cNvSpPr/>
          <p:nvPr/>
        </p:nvSpPr>
        <p:spPr>
          <a:xfrm>
            <a:off x="393480" y="14155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st series C drops the m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406800" y="232992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rgest parallel C draws the m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429480" y="3206520"/>
            <a:ext cx="815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inverse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Group 8"/>
          <p:cNvGrpSpPr/>
          <p:nvPr/>
        </p:nvGrpSpPr>
        <p:grpSpPr>
          <a:xfrm>
            <a:off x="396000" y="4127040"/>
            <a:ext cx="8134200" cy="1131480"/>
            <a:chOff x="396000" y="4127040"/>
            <a:chExt cx="8134200" cy="1131480"/>
          </a:xfrm>
        </p:grpSpPr>
        <p:sp>
          <p:nvSpPr>
            <p:cNvPr id="1402" name="Text Box 9"/>
            <p:cNvSpPr/>
            <p:nvPr/>
          </p:nvSpPr>
          <p:spPr>
            <a:xfrm>
              <a:off x="396000" y="4127040"/>
              <a:ext cx="81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relaxation oscillator, the capaci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0"/>
            <p:cNvSpPr/>
            <p:nvPr/>
          </p:nvSpPr>
          <p:spPr>
            <a:xfrm>
              <a:off x="840240" y="4615920"/>
              <a:ext cx="56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rges until the NE-2 fir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Slide Number Placeholder 10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3601417B-272B-4B40-8CFB-E6C9EC3C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500"/>
                            </p:stCondLst>
                            <p:childTnLst>
                              <p:par>
                                <p:cTn id="2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Text Box 3"/>
          <p:cNvSpPr/>
          <p:nvPr/>
        </p:nvSpPr>
        <p:spPr>
          <a:xfrm>
            <a:off x="2908800" y="38088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4"/>
          <p:cNvSpPr/>
          <p:nvPr/>
        </p:nvSpPr>
        <p:spPr>
          <a:xfrm>
            <a:off x="457200" y="1660680"/>
            <a:ext cx="8381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or Termi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Use of Capaci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ors in Ac and Dc Circu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eries and Parallel Capaci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ime Consta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pacitive React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Group 6"/>
          <p:cNvGrpSpPr/>
          <p:nvPr/>
        </p:nvGrpSpPr>
        <p:grpSpPr>
          <a:xfrm>
            <a:off x="1636560" y="5915160"/>
            <a:ext cx="4305600" cy="172800"/>
            <a:chOff x="1636560" y="5915160"/>
            <a:chExt cx="4305600" cy="172800"/>
          </a:xfrm>
        </p:grpSpPr>
        <p:sp>
          <p:nvSpPr>
            <p:cNvPr id="1408" name="Line 7"/>
            <p:cNvSpPr/>
            <p:nvPr/>
          </p:nvSpPr>
          <p:spPr>
            <a:xfrm>
              <a:off x="1636560" y="5915160"/>
              <a:ext cx="430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8"/>
            <p:cNvSpPr/>
            <p:nvPr/>
          </p:nvSpPr>
          <p:spPr>
            <a:xfrm>
              <a:off x="1638720" y="597528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9"/>
            <p:cNvSpPr/>
            <p:nvPr/>
          </p:nvSpPr>
          <p:spPr>
            <a:xfrm>
              <a:off x="1638720" y="603216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10"/>
            <p:cNvSpPr/>
            <p:nvPr/>
          </p:nvSpPr>
          <p:spPr>
            <a:xfrm>
              <a:off x="1638720" y="608796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Slide Number Placeholder 1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2AC15954-10FC-41A3-87BF-F90C8DFAE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9560" y="995040"/>
            <a:ext cx="66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apacitor has two plates an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ielectri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5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7360" y="2285280"/>
            <a:ext cx="85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electric materials are insulators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5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90360" y="2894760"/>
            <a:ext cx="7678800" cy="1114920"/>
            <a:chOff x="90360" y="2894760"/>
            <a:chExt cx="7678800" cy="1114920"/>
          </a:xfrm>
        </p:grpSpPr>
        <p:sp>
          <p:nvSpPr>
            <p:cNvPr id="120" name="Text Box 6"/>
            <p:cNvSpPr/>
            <p:nvPr/>
          </p:nvSpPr>
          <p:spPr>
            <a:xfrm>
              <a:off x="90360" y="2894760"/>
              <a:ext cx="767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apacitor charges until its voltag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530280" y="3367080"/>
              <a:ext cx="641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quals the source voltage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50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79560" y="4037760"/>
            <a:ext cx="7728840" cy="1114920"/>
            <a:chOff x="79560" y="4037760"/>
            <a:chExt cx="7728840" cy="1114920"/>
          </a:xfrm>
        </p:grpSpPr>
        <p:sp>
          <p:nvSpPr>
            <p:cNvPr id="123" name="Text Box 9"/>
            <p:cNvSpPr/>
            <p:nvPr/>
          </p:nvSpPr>
          <p:spPr>
            <a:xfrm>
              <a:off x="79560" y="4037760"/>
              <a:ext cx="77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attery current decays to zero as th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496800" y="4510080"/>
              <a:ext cx="559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apacitor charges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62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12"/>
          <p:cNvSpPr/>
          <p:nvPr/>
        </p:nvSpPr>
        <p:spPr>
          <a:xfrm>
            <a:off x="163080" y="5109840"/>
            <a:ext cx="73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acitors can cause a large su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63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11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1C1C4AB-C012-41FB-99D9-C5752DD2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42880" y="119520"/>
            <a:ext cx="61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Facts About Capacit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84080" y="989640"/>
            <a:ext cx="49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apacitance stores electric energ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62120" y="2059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dielectric material blocks current  flow betw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plates of a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4280" y="3035880"/>
            <a:ext cx="56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base unit of capacitance is the far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7080" y="36486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st electrolytic capacitors are polar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62120" y="42598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 capacitor’s opposition to current is called reac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89840" y="5482080"/>
            <a:ext cx="52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ohm is the base unit of reac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45280" y="609480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apacitance causes current to lead voltage by 90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70400" y="15228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W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 0.5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V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821880" y="4845600"/>
            <a:ext cx="23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1/(6.28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C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11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9AA1E60A-C4FE-4567-B180-3DA133E7B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9"/>
          <p:cNvGrpSpPr/>
          <p:nvPr/>
        </p:nvGrpSpPr>
        <p:grpSpPr>
          <a:xfrm>
            <a:off x="1447920" y="1447920"/>
            <a:ext cx="3657600" cy="3581280"/>
            <a:chOff x="1447920" y="1447920"/>
            <a:chExt cx="3657600" cy="3581280"/>
          </a:xfrm>
        </p:grpSpPr>
        <p:grpSp>
          <p:nvGrpSpPr>
            <p:cNvPr id="139" name="Group 15"/>
            <p:cNvGrpSpPr/>
            <p:nvPr/>
          </p:nvGrpSpPr>
          <p:grpSpPr>
            <a:xfrm>
              <a:off x="1447920" y="1447920"/>
              <a:ext cx="3516120" cy="3581280"/>
              <a:chOff x="1447920" y="1447920"/>
              <a:chExt cx="3516120" cy="3581280"/>
            </a:xfrm>
          </p:grpSpPr>
          <p:sp>
            <p:nvSpPr>
              <p:cNvPr id="140" name="Line 3"/>
              <p:cNvSpPr/>
              <p:nvPr/>
            </p:nvSpPr>
            <p:spPr>
              <a:xfrm flipH="1">
                <a:off x="3112560" y="3809880"/>
                <a:ext cx="11160" cy="1219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4"/>
              <p:cNvSpPr/>
              <p:nvPr/>
            </p:nvSpPr>
            <p:spPr>
              <a:xfrm>
                <a:off x="1447920" y="2895480"/>
                <a:ext cx="3376440" cy="1067040"/>
              </a:xfrm>
              <a:prstGeom prst="cube">
                <a:avLst>
                  <a:gd name="adj" fmla="val 91666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5"/>
              <p:cNvSpPr/>
              <p:nvPr/>
            </p:nvSpPr>
            <p:spPr>
              <a:xfrm>
                <a:off x="1447920" y="2133720"/>
                <a:ext cx="3516120" cy="1676160"/>
              </a:xfrm>
              <a:prstGeom prst="cube">
                <a:avLst>
                  <a:gd name="adj" fmla="val 6756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447920" y="2133720"/>
                <a:ext cx="3376440" cy="1066680"/>
              </a:xfrm>
              <a:prstGeom prst="cube">
                <a:avLst>
                  <a:gd name="adj" fmla="val 91666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3112920" y="1447920"/>
                <a:ext cx="11160" cy="1143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 flipV="1">
                <a:off x="3809880" y="2286000"/>
                <a:ext cx="990720" cy="99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Rectangle 8"/>
            <p:cNvSpPr/>
            <p:nvPr/>
          </p:nvSpPr>
          <p:spPr>
            <a:xfrm>
              <a:off x="4824360" y="1676520"/>
              <a:ext cx="28116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Line 12"/>
          <p:cNvSpPr/>
          <p:nvPr/>
        </p:nvSpPr>
        <p:spPr>
          <a:xfrm flipV="1">
            <a:off x="4267080" y="21333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419720" y="3352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41972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123920" y="227520"/>
            <a:ext cx="68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onstruction of a Capac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3124080" y="1523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124080" y="4876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5302440" y="126468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302440" y="46173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376960" y="195048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l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453280" y="3702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l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5500800" y="271224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electr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184040" y="5425200"/>
            <a:ext cx="65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lat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ead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conducto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852560" y="603468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lectr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n insulato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3436920" y="7621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Page 251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24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C12357D0-8126-4E4A-B28C-CF808B8CD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4"/>
          <p:cNvSpPr/>
          <p:nvPr/>
        </p:nvSpPr>
        <p:spPr>
          <a:xfrm>
            <a:off x="1667880" y="228600"/>
            <a:ext cx="669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harging A Capacitor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250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3483000" y="121824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urrent flow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9"/>
          <p:cNvGrpSpPr/>
          <p:nvPr/>
        </p:nvGrpSpPr>
        <p:grpSpPr>
          <a:xfrm>
            <a:off x="1523520" y="1447920"/>
            <a:ext cx="762480" cy="1447560"/>
            <a:chOff x="1523520" y="1447920"/>
            <a:chExt cx="762480" cy="1447560"/>
          </a:xfrm>
        </p:grpSpPr>
        <p:sp>
          <p:nvSpPr>
            <p:cNvPr id="165" name="Line 37"/>
            <p:cNvSpPr/>
            <p:nvPr/>
          </p:nvSpPr>
          <p:spPr>
            <a:xfrm>
              <a:off x="1523880" y="1447920"/>
              <a:ext cx="7621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 flipH="1">
              <a:off x="1523520" y="2895480"/>
              <a:ext cx="6858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40"/>
          <p:cNvSpPr/>
          <p:nvPr/>
        </p:nvSpPr>
        <p:spPr>
          <a:xfrm>
            <a:off x="5464080" y="12182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d the capacitor char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4"/>
          <p:cNvGrpSpPr/>
          <p:nvPr/>
        </p:nvGrpSpPr>
        <p:grpSpPr>
          <a:xfrm>
            <a:off x="3125160" y="1675800"/>
            <a:ext cx="430920" cy="1068840"/>
            <a:chOff x="3125160" y="1675800"/>
            <a:chExt cx="430920" cy="1068840"/>
          </a:xfrm>
        </p:grpSpPr>
        <p:sp>
          <p:nvSpPr>
            <p:cNvPr id="169" name="Text Box 42"/>
            <p:cNvSpPr/>
            <p:nvPr/>
          </p:nvSpPr>
          <p:spPr>
            <a:xfrm>
              <a:off x="3183120" y="1675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3125160" y="228492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45"/>
          <p:cNvSpPr/>
          <p:nvPr/>
        </p:nvSpPr>
        <p:spPr>
          <a:xfrm>
            <a:off x="3502080" y="175140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ntil its voltage equals the source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533520" y="1293840"/>
            <a:ext cx="2959560" cy="1754280"/>
            <a:chOff x="533520" y="1293840"/>
            <a:chExt cx="2959560" cy="1754280"/>
          </a:xfrm>
        </p:grpSpPr>
        <p:grpSp>
          <p:nvGrpSpPr>
            <p:cNvPr id="173" name="Group 41"/>
            <p:cNvGrpSpPr/>
            <p:nvPr/>
          </p:nvGrpSpPr>
          <p:grpSpPr>
            <a:xfrm>
              <a:off x="533520" y="1293840"/>
              <a:ext cx="2959560" cy="1754280"/>
              <a:chOff x="533520" y="1293840"/>
              <a:chExt cx="2959560" cy="1754280"/>
            </a:xfrm>
          </p:grpSpPr>
          <p:grpSp>
            <p:nvGrpSpPr>
              <p:cNvPr id="174" name="Group 10"/>
              <p:cNvGrpSpPr/>
              <p:nvPr/>
            </p:nvGrpSpPr>
            <p:grpSpPr>
              <a:xfrm>
                <a:off x="2830680" y="1447920"/>
                <a:ext cx="662400" cy="1447560"/>
                <a:chOff x="2830680" y="1447920"/>
                <a:chExt cx="662400" cy="1447560"/>
              </a:xfrm>
            </p:grpSpPr>
            <p:sp>
              <p:nvSpPr>
                <p:cNvPr id="175" name="Arc 6"/>
                <p:cNvSpPr/>
                <p:nvPr/>
              </p:nvSpPr>
              <p:spPr>
                <a:xfrm flipV="1" rot="3298800">
                  <a:off x="2946600" y="1810440"/>
                  <a:ext cx="429840" cy="50760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360 h 507600"/>
                    <a:gd name="textAreaBottom" fmla="*/ 508320 h 507600"/>
                  </a:gdLst>
                  <a:ahLst/>
                  <a:rect l="textAreaLeft" t="textAreaTop" r="textAreaRight" b="textAreaBottom"/>
                  <a:pathLst>
                    <a:path fill="none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</a:path>
                    <a:path stroke="0" w="21287" h="20547">
                      <a:moveTo>
                        <a:pt x="6662" y="0"/>
                      </a:moveTo>
                      <a:cubicBezTo>
                        <a:pt x="14295" y="2475"/>
                        <a:pt x="19926" y="8976"/>
                        <a:pt x="21287" y="16883"/>
                      </a:cubicBezTo>
                      <a:lnTo>
                        <a:pt x="0" y="2054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7"/>
                <p:cNvSpPr/>
                <p:nvPr/>
              </p:nvSpPr>
              <p:spPr>
                <a:xfrm>
                  <a:off x="2895840" y="236196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8"/>
                <p:cNvSpPr/>
                <p:nvPr/>
              </p:nvSpPr>
              <p:spPr>
                <a:xfrm flipV="1">
                  <a:off x="316080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"/>
                <p:cNvSpPr/>
                <p:nvPr/>
              </p:nvSpPr>
              <p:spPr>
                <a:xfrm>
                  <a:off x="3160800" y="236232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13"/>
              <p:cNvGrpSpPr/>
              <p:nvPr/>
            </p:nvGrpSpPr>
            <p:grpSpPr>
              <a:xfrm>
                <a:off x="533520" y="1523880"/>
                <a:ext cx="685800" cy="1524240"/>
                <a:chOff x="533520" y="1523880"/>
                <a:chExt cx="685800" cy="1524240"/>
              </a:xfrm>
            </p:grpSpPr>
            <p:sp>
              <p:nvSpPr>
                <p:cNvPr id="180" name="Line 2"/>
                <p:cNvSpPr/>
                <p:nvPr/>
              </p:nvSpPr>
              <p:spPr>
                <a:xfrm>
                  <a:off x="72396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"/>
                <p:cNvSpPr/>
                <p:nvPr/>
              </p:nvSpPr>
              <p:spPr>
                <a:xfrm>
                  <a:off x="533520" y="20829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4"/>
                <p:cNvSpPr/>
                <p:nvPr/>
              </p:nvSpPr>
              <p:spPr>
                <a:xfrm>
                  <a:off x="723960" y="2184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5"/>
                <p:cNvSpPr/>
                <p:nvPr/>
              </p:nvSpPr>
              <p:spPr>
                <a:xfrm>
                  <a:off x="533520" y="2286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1"/>
                <p:cNvSpPr/>
                <p:nvPr/>
              </p:nvSpPr>
              <p:spPr>
                <a:xfrm>
                  <a:off x="876240" y="228600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2"/>
                <p:cNvSpPr/>
                <p:nvPr/>
              </p:nvSpPr>
              <p:spPr>
                <a:xfrm flipV="1">
                  <a:off x="876240" y="1523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86" name="AutoShape 33"/>
              <p:cNvCxnSpPr/>
              <p:nvPr/>
            </p:nvCxnSpPr>
            <p:spPr>
              <a:xfrm flipH="1" flipV="1" rot="5400000">
                <a:off x="1941480" y="1752840"/>
                <a:ext cx="153000" cy="2284920"/>
              </a:xfrm>
              <a:prstGeom prst="bentConnector3">
                <a:avLst>
                  <a:gd name="adj1" fmla="val -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AutoShape 34"/>
              <p:cNvCxnSpPr/>
              <p:nvPr/>
            </p:nvCxnSpPr>
            <p:spPr>
              <a:xfrm flipH="1" flipV="1" rot="5400000">
                <a:off x="1980360" y="419760"/>
                <a:ext cx="76680" cy="2284920"/>
              </a:xfrm>
              <a:prstGeom prst="bentConnector3">
                <a:avLst>
                  <a:gd name="adj1" fmla="val 401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8" name="Text Box 46"/>
            <p:cNvSpPr/>
            <p:nvPr/>
          </p:nvSpPr>
          <p:spPr>
            <a:xfrm>
              <a:off x="1143360" y="19645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15 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48"/>
          <p:cNvSpPr/>
          <p:nvPr/>
        </p:nvSpPr>
        <p:spPr>
          <a:xfrm>
            <a:off x="2286360" y="20563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5 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3504600" y="228492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t this time the current sto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50"/>
          <p:cNvGrpSpPr/>
          <p:nvPr/>
        </p:nvGrpSpPr>
        <p:grpSpPr>
          <a:xfrm>
            <a:off x="1523520" y="1447920"/>
            <a:ext cx="762480" cy="1447560"/>
            <a:chOff x="1523520" y="1447920"/>
            <a:chExt cx="762480" cy="1447560"/>
          </a:xfrm>
        </p:grpSpPr>
        <p:sp>
          <p:nvSpPr>
            <p:cNvPr id="192" name="Line 51"/>
            <p:cNvSpPr/>
            <p:nvPr/>
          </p:nvSpPr>
          <p:spPr>
            <a:xfrm>
              <a:off x="1523880" y="1447920"/>
              <a:ext cx="762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 flipH="1">
              <a:off x="1523520" y="2895480"/>
              <a:ext cx="685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2008080" y="3352680"/>
            <a:ext cx="4240440" cy="2093760"/>
            <a:chOff x="2008080" y="3352680"/>
            <a:chExt cx="4240440" cy="2093760"/>
          </a:xfrm>
        </p:grpSpPr>
        <p:sp>
          <p:nvSpPr>
            <p:cNvPr id="195" name="Freeform 55"/>
            <p:cNvSpPr/>
            <p:nvPr/>
          </p:nvSpPr>
          <p:spPr>
            <a:xfrm>
              <a:off x="2008080" y="3352680"/>
              <a:ext cx="4240440" cy="2093760"/>
            </a:xfrm>
            <a:custGeom>
              <a:avLst/>
              <a:gdLst>
                <a:gd name="textAreaLeft" fmla="*/ 0 w 4240440"/>
                <a:gd name="textAreaRight" fmla="*/ 4240440 w 4240440"/>
                <a:gd name="textAreaTop" fmla="*/ 0 h 2093760"/>
                <a:gd name="textAreaBottom" fmla="*/ 2094120 h 2093760"/>
              </a:gdLst>
              <a:ahLst/>
              <a:rect l="textAreaLeft" t="textAreaTop" r="textAreaRight" b="textAreaBottom"/>
              <a:pathLst>
                <a:path w="2671" h="1319">
                  <a:moveTo>
                    <a:pt x="0" y="1304"/>
                  </a:moveTo>
                  <a:cubicBezTo>
                    <a:pt x="9" y="1116"/>
                    <a:pt x="33" y="354"/>
                    <a:pt x="54" y="177"/>
                  </a:cubicBezTo>
                  <a:cubicBezTo>
                    <a:pt x="75" y="0"/>
                    <a:pt x="98" y="173"/>
                    <a:pt x="128" y="242"/>
                  </a:cubicBezTo>
                  <a:cubicBezTo>
                    <a:pt x="158" y="311"/>
                    <a:pt x="175" y="476"/>
                    <a:pt x="235" y="592"/>
                  </a:cubicBezTo>
                  <a:cubicBezTo>
                    <a:pt x="295" y="708"/>
                    <a:pt x="395" y="850"/>
                    <a:pt x="489" y="938"/>
                  </a:cubicBezTo>
                  <a:cubicBezTo>
                    <a:pt x="583" y="1026"/>
                    <a:pt x="671" y="1071"/>
                    <a:pt x="798" y="1119"/>
                  </a:cubicBezTo>
                  <a:cubicBezTo>
                    <a:pt x="925" y="1167"/>
                    <a:pt x="1080" y="1199"/>
                    <a:pt x="1253" y="1229"/>
                  </a:cubicBezTo>
                  <a:cubicBezTo>
                    <a:pt x="1426" y="1259"/>
                    <a:pt x="1599" y="1286"/>
                    <a:pt x="1835" y="1301"/>
                  </a:cubicBezTo>
                  <a:cubicBezTo>
                    <a:pt x="2071" y="1316"/>
                    <a:pt x="2497" y="1315"/>
                    <a:pt x="2671" y="1319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57"/>
            <p:cNvSpPr/>
            <p:nvPr/>
          </p:nvSpPr>
          <p:spPr>
            <a:xfrm>
              <a:off x="3544920" y="4815000"/>
              <a:ext cx="37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64"/>
          <p:cNvGrpSpPr/>
          <p:nvPr/>
        </p:nvGrpSpPr>
        <p:grpSpPr>
          <a:xfrm>
            <a:off x="1981080" y="3505320"/>
            <a:ext cx="3975120" cy="1974600"/>
            <a:chOff x="1981080" y="3505320"/>
            <a:chExt cx="3975120" cy="1974600"/>
          </a:xfrm>
        </p:grpSpPr>
        <p:sp>
          <p:nvSpPr>
            <p:cNvPr id="198" name="Freeform 59"/>
            <p:cNvSpPr/>
            <p:nvPr/>
          </p:nvSpPr>
          <p:spPr>
            <a:xfrm>
              <a:off x="1981080" y="3505320"/>
              <a:ext cx="3975120" cy="1974600"/>
            </a:xfrm>
            <a:custGeom>
              <a:avLst/>
              <a:gdLst>
                <a:gd name="textAreaLeft" fmla="*/ 0 w 3975120"/>
                <a:gd name="textAreaRight" fmla="*/ 3975480 w 3975120"/>
                <a:gd name="textAreaTop" fmla="*/ 0 h 1974600"/>
                <a:gd name="textAreaBottom" fmla="*/ 1974960 h 1974600"/>
              </a:gdLst>
              <a:ahLst/>
              <a:rect l="textAreaLeft" t="textAreaTop" r="textAreaRight" b="textAreaBottom"/>
              <a:pathLst>
                <a:path w="2504" h="1244">
                  <a:moveTo>
                    <a:pt x="0" y="1244"/>
                  </a:moveTo>
                  <a:cubicBezTo>
                    <a:pt x="23" y="1159"/>
                    <a:pt x="86" y="864"/>
                    <a:pt x="140" y="733"/>
                  </a:cubicBezTo>
                  <a:cubicBezTo>
                    <a:pt x="194" y="602"/>
                    <a:pt x="261" y="536"/>
                    <a:pt x="322" y="460"/>
                  </a:cubicBezTo>
                  <a:cubicBezTo>
                    <a:pt x="383" y="384"/>
                    <a:pt x="431" y="329"/>
                    <a:pt x="504" y="278"/>
                  </a:cubicBezTo>
                  <a:cubicBezTo>
                    <a:pt x="577" y="227"/>
                    <a:pt x="661" y="184"/>
                    <a:pt x="758" y="151"/>
                  </a:cubicBezTo>
                  <a:cubicBezTo>
                    <a:pt x="855" y="118"/>
                    <a:pt x="986" y="96"/>
                    <a:pt x="1086" y="78"/>
                  </a:cubicBezTo>
                  <a:cubicBezTo>
                    <a:pt x="1186" y="60"/>
                    <a:pt x="1246" y="54"/>
                    <a:pt x="1358" y="42"/>
                  </a:cubicBezTo>
                  <a:cubicBezTo>
                    <a:pt x="1470" y="30"/>
                    <a:pt x="1567" y="12"/>
                    <a:pt x="1758" y="6"/>
                  </a:cubicBezTo>
                  <a:cubicBezTo>
                    <a:pt x="1949" y="0"/>
                    <a:pt x="2349" y="6"/>
                    <a:pt x="2504" y="6"/>
                  </a:cubicBezTo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0"/>
            <p:cNvSpPr/>
            <p:nvPr/>
          </p:nvSpPr>
          <p:spPr>
            <a:xfrm>
              <a:off x="3432240" y="3635640"/>
              <a:ext cx="4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68"/>
          <p:cNvGrpSpPr/>
          <p:nvPr/>
        </p:nvGrpSpPr>
        <p:grpSpPr>
          <a:xfrm>
            <a:off x="1295640" y="3336120"/>
            <a:ext cx="5791320" cy="2472120"/>
            <a:chOff x="1295640" y="3336120"/>
            <a:chExt cx="5791320" cy="2472120"/>
          </a:xfrm>
        </p:grpSpPr>
        <p:cxnSp>
          <p:nvCxnSpPr>
            <p:cNvPr id="201" name="AutoShape 53"/>
            <p:cNvCxnSpPr/>
            <p:nvPr/>
          </p:nvCxnSpPr>
          <p:spPr>
            <a:xfrm>
              <a:off x="1981080" y="3352320"/>
              <a:ext cx="5106240" cy="2134440"/>
            </a:xfrm>
            <a:prstGeom prst="bentConnector3">
              <a:avLst>
                <a:gd name="adj1" fmla="val 2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2" name="Text Box 62"/>
            <p:cNvSpPr/>
            <p:nvPr/>
          </p:nvSpPr>
          <p:spPr>
            <a:xfrm>
              <a:off x="1295640" y="3336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15 V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3"/>
            <p:cNvSpPr/>
            <p:nvPr/>
          </p:nvSpPr>
          <p:spPr>
            <a:xfrm flipH="1">
              <a:off x="1905120" y="3505320"/>
              <a:ext cx="1828800" cy="0"/>
            </a:xfrm>
            <a:prstGeom prst="line">
              <a:avLst/>
            </a:prstGeom>
            <a:ln w="93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65"/>
            <p:cNvSpPr/>
            <p:nvPr/>
          </p:nvSpPr>
          <p:spPr>
            <a:xfrm>
              <a:off x="1598040" y="531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66"/>
            <p:cNvSpPr/>
            <p:nvPr/>
          </p:nvSpPr>
          <p:spPr>
            <a:xfrm>
              <a:off x="2982600" y="540936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7"/>
            <p:cNvSpPr/>
            <p:nvPr/>
          </p:nvSpPr>
          <p:spPr>
            <a:xfrm>
              <a:off x="373392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69"/>
          <p:cNvSpPr/>
          <p:nvPr/>
        </p:nvSpPr>
        <p:spPr>
          <a:xfrm>
            <a:off x="610920" y="5713920"/>
            <a:ext cx="81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ice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s maximum whe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s minimum and visa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0"/>
          <p:cNvSpPr/>
          <p:nvPr/>
        </p:nvSpPr>
        <p:spPr>
          <a:xfrm>
            <a:off x="234360" y="6222240"/>
            <a:ext cx="89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s very large when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s large and a high-current source is us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8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71AA3941-0733-4025-ABEE-ACCF62861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521720" y="195840"/>
            <a:ext cx="600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apacitor-Current Quiz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59440" y="121824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____ of a capacitor is an insul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58360" y="2917800"/>
            <a:ext cx="59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capacitor current ____ as the capaci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oltage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59080" y="4132440"/>
            <a:ext cx="59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en charged, the capacitor voltage equal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____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59080" y="5348520"/>
            <a:ext cx="62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arging current is controlled by the valu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 ____ and the current capacity of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59800" y="206748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base unit of capacitance is the ____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997320" y="12182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ielect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991200" y="2067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ar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999840" y="291780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008120" y="413244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6980400" y="534852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apac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2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03D3A427-583D-4AA4-B589-BF116809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79200" y="897840"/>
            <a:ext cx="90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apacitor has two plates and a dielectric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81000" y="156780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electric materials are insulato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17"/>
          <p:cNvGrpSpPr/>
          <p:nvPr/>
        </p:nvGrpSpPr>
        <p:grpSpPr>
          <a:xfrm>
            <a:off x="90360" y="2285280"/>
            <a:ext cx="7678800" cy="1115640"/>
            <a:chOff x="90360" y="2285280"/>
            <a:chExt cx="7678800" cy="1115640"/>
          </a:xfrm>
        </p:grpSpPr>
        <p:sp>
          <p:nvSpPr>
            <p:cNvPr id="228" name="Text Box 18"/>
            <p:cNvSpPr/>
            <p:nvPr/>
          </p:nvSpPr>
          <p:spPr>
            <a:xfrm>
              <a:off x="90360" y="2285280"/>
              <a:ext cx="767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apacitor charges until its voltag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05080" y="2758320"/>
              <a:ext cx="515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quals the source voltag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79560" y="3609360"/>
            <a:ext cx="7728840" cy="1115280"/>
            <a:chOff x="79560" y="3609360"/>
            <a:chExt cx="7728840" cy="1115280"/>
          </a:xfrm>
        </p:grpSpPr>
        <p:sp>
          <p:nvSpPr>
            <p:cNvPr id="231" name="Text Box 21"/>
            <p:cNvSpPr/>
            <p:nvPr/>
          </p:nvSpPr>
          <p:spPr>
            <a:xfrm>
              <a:off x="79560" y="3609360"/>
              <a:ext cx="77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attery current decays to zero as th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475560" y="4082040"/>
              <a:ext cx="44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apacitor charg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23"/>
          <p:cNvSpPr/>
          <p:nvPr/>
        </p:nvSpPr>
        <p:spPr>
          <a:xfrm>
            <a:off x="79200" y="4876200"/>
            <a:ext cx="90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acitors can cause a large surge curren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13"/>
          <p:cNvSpPr/>
          <p:nvPr/>
        </p:nvSpPr>
        <p:spPr>
          <a:xfrm>
            <a:off x="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67016E7-AA66-4332-838F-5F76B05A1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14:59:36Z</dcterms:created>
  <dc:creator>R. J. Fowler</dc:creator>
  <dc:description/>
  <dc:language>en-US</dc:language>
  <cp:lastModifiedBy>Cathy L Tepper</cp:lastModifiedBy>
  <cp:lastPrinted>1997-10-23T15:02:08Z</cp:lastPrinted>
  <dcterms:modified xsi:type="dcterms:W3CDTF">2012-04-24T21:36:12Z</dcterms:modified>
  <cp:revision>137</cp:revision>
  <dc:subject/>
  <dc:title>No Slide Title</dc:title>
</cp:coreProperties>
</file>