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DRUMROLL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05BF-1704-485D-AF95-8B537442D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EE6B-C291-4977-B0F5-809B74C1A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B6B2-F63B-4006-B115-819D879F7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EF46-4D0C-4AF7-8B1D-572F68C0B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9540F-0410-4F4F-9F99-00CF075F1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5B63C-944C-46F4-A534-E54A756BC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6322C-B8DD-43BE-A63B-B235EE749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585D8-3421-436E-B3C7-83D8A37E7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BE513-9E90-450F-B40C-973090A9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137AB-56FB-4A2B-AC24-D22330381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CC243-BC65-4DFA-82CB-4FAD5380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E99C-BA05-4878-904B-CE55FE052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5A109-9AB7-4A2A-BE17-8F623288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E5110-9F86-441E-9C44-6D9479BE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D4AD7-CA9D-4877-951A-E42805980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DCAE3-F145-4436-99F7-0F0627BBE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AA2E6-472A-4534-AB8E-CD5860D78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FC5F-38D9-4D40-8588-CD2BC6D32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FCA9-C1A8-49ED-BF16-920A85B0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6CE7-3112-4FE7-93D9-8CDC146B8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5956-5686-4076-BF19-BF65E5CE7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5BF2-8D85-4500-A006-2FF46603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8B24-0331-42F3-ADE3-C87382E3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49F3-7297-4596-985A-7A8DD39C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C71E3-9C99-46F6-B4D3-8A97966BCA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-10440" y="6629400"/>
            <a:ext cx="106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</a:t>
            </a:r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5532480" y="6651720"/>
            <a:ext cx="372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Book Antiqua"/>
              </a:rPr>
              <a:t>© 2013 The McGraw-Hill Companies Inc. All rights reserved.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7"/>
          <p:cNvSpPr/>
          <p:nvPr/>
        </p:nvSpPr>
        <p:spPr>
          <a:xfrm>
            <a:off x="-10440" y="6629400"/>
            <a:ext cx="106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</a:t>
            </a:r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5532480" y="6651720"/>
            <a:ext cx="372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Book Antiqua"/>
              </a:rPr>
              <a:t>© 2013 The McGraw-Hill Companies Inc. All rights reserved.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-152280" y="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 - </a:t>
            </a:r>
            <a:fld id="{F81E5CC8-F75A-47F1-95CD-335176AE56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485640" y="287280"/>
            <a:ext cx="81108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Electricity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rinciples &amp; Applications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ighth Edition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1992240" y="3879720"/>
            <a:ext cx="5143680" cy="1311480"/>
          </a:xfrm>
          <a:prstGeom prst="rect">
            <a:avLst/>
          </a:prstGeom>
          <a:solidFill>
            <a:srgbClr val="ffffcc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Chapter  11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Inductance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(student version)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2176560" y="5780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Group 6"/>
          <p:cNvGrpSpPr/>
          <p:nvPr/>
        </p:nvGrpSpPr>
        <p:grpSpPr>
          <a:xfrm>
            <a:off x="1995480" y="6121440"/>
            <a:ext cx="5091120" cy="173160"/>
            <a:chOff x="1995480" y="6121440"/>
            <a:chExt cx="5091120" cy="173160"/>
          </a:xfrm>
        </p:grpSpPr>
        <p:sp>
          <p:nvSpPr>
            <p:cNvPr id="90" name="Line 7"/>
            <p:cNvSpPr/>
            <p:nvPr/>
          </p:nvSpPr>
          <p:spPr>
            <a:xfrm>
              <a:off x="1995480" y="6121440"/>
              <a:ext cx="509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Line 8"/>
            <p:cNvSpPr/>
            <p:nvPr/>
          </p:nvSpPr>
          <p:spPr>
            <a:xfrm>
              <a:off x="1998000" y="6181920"/>
              <a:ext cx="508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Line 9"/>
            <p:cNvSpPr/>
            <p:nvPr/>
          </p:nvSpPr>
          <p:spPr>
            <a:xfrm>
              <a:off x="1998000" y="6238800"/>
              <a:ext cx="508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Line 10"/>
            <p:cNvSpPr/>
            <p:nvPr/>
          </p:nvSpPr>
          <p:spPr>
            <a:xfrm>
              <a:off x="1998000" y="6294600"/>
              <a:ext cx="508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Text Box 22"/>
          <p:cNvSpPr/>
          <p:nvPr/>
        </p:nvSpPr>
        <p:spPr>
          <a:xfrm>
            <a:off x="2517840" y="2670120"/>
            <a:ext cx="425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ichard J. Fowler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23"/>
          <p:cNvSpPr/>
          <p:nvPr/>
        </p:nvSpPr>
        <p:spPr>
          <a:xfrm>
            <a:off x="-10440" y="6629400"/>
            <a:ext cx="106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</a:t>
            </a:r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24"/>
          <p:cNvSpPr/>
          <p:nvPr/>
        </p:nvSpPr>
        <p:spPr>
          <a:xfrm>
            <a:off x="5532480" y="6651720"/>
            <a:ext cx="372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Book Antiqua"/>
              </a:rPr>
              <a:t>© 2013 The McGraw-Hill Companies Inc. All rights reserved.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Slide Number Placeholder 12"/>
          <p:cNvSpPr/>
          <p:nvPr/>
        </p:nvSpPr>
        <p:spPr>
          <a:xfrm>
            <a:off x="-152280" y="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 - </a:t>
            </a:r>
            <a:fld id="{0D156246-56D7-4BA7-A803-81A53A69D9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1662480" y="136440"/>
            <a:ext cx="5450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Concept Review</a:t>
            </a: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AutoShape 13">
            <a:hlinkClick r:id="rId1" action="ppaction://hlinksldjump"/>
          </p:cNvPr>
          <p:cNvSpPr/>
          <p:nvPr/>
        </p:nvSpPr>
        <p:spPr>
          <a:xfrm>
            <a:off x="768240" y="5873760"/>
            <a:ext cx="2644920" cy="635040"/>
          </a:xfrm>
          <a:custGeom>
            <a:avLst/>
            <a:gdLst>
              <a:gd name="textAreaLeft" fmla="*/ 41040 w 2644920"/>
              <a:gd name="textAreaRight" fmla="*/ 2603880 w 2644920"/>
              <a:gd name="textAreaTop" fmla="*/ 41040 h 635040"/>
              <a:gd name="textAreaBottom" fmla="*/ 594000 h 635040"/>
            </a:gdLst>
            <a:ahLst/>
            <a:rect l="textAreaLeft" t="textAreaTop" r="textAreaRight" b="textAreaBottom"/>
            <a:pathLst>
              <a:path w="89925" h="21600">
                <a:moveTo>
                  <a:pt x="0" y="0"/>
                </a:moveTo>
                <a:lnTo>
                  <a:pt x="89925" y="0"/>
                </a:lnTo>
                <a:lnTo>
                  <a:pt x="89925" y="21600"/>
                </a:lnTo>
                <a:lnTo>
                  <a:pt x="0" y="21600"/>
                </a:lnTo>
                <a:close/>
              </a:path>
              <a:path fill="lightenLess" w="89925" h="21600">
                <a:moveTo>
                  <a:pt x="0" y="0"/>
                </a:moveTo>
                <a:lnTo>
                  <a:pt x="89925" y="0"/>
                </a:lnTo>
                <a:lnTo>
                  <a:pt x="88525" y="1400"/>
                </a:lnTo>
                <a:lnTo>
                  <a:pt x="1400" y="1400"/>
                </a:lnTo>
                <a:close/>
              </a:path>
              <a:path fill="darken" w="89925" h="21600">
                <a:moveTo>
                  <a:pt x="89925" y="0"/>
                </a:moveTo>
                <a:lnTo>
                  <a:pt x="89925" y="21600"/>
                </a:lnTo>
                <a:lnTo>
                  <a:pt x="88525" y="20200"/>
                </a:lnTo>
                <a:lnTo>
                  <a:pt x="88525" y="1400"/>
                </a:lnTo>
                <a:close/>
              </a:path>
              <a:path fill="darkenLess" w="89925" h="21600">
                <a:moveTo>
                  <a:pt x="899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525" y="20200"/>
                </a:lnTo>
                <a:close/>
              </a:path>
              <a:path fill="lighten" w="899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9925" h="21600">
                <a:moveTo>
                  <a:pt x="37956" y="10800"/>
                </a:moveTo>
                <a:lnTo>
                  <a:pt x="51969" y="3794"/>
                </a:lnTo>
                <a:lnTo>
                  <a:pt x="51969" y="17806"/>
                </a:lnTo>
                <a:close/>
              </a:path>
            </a:pathLst>
          </a:custGeom>
          <a:solidFill>
            <a:srgbClr val="d2d2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4"/>
          <p:cNvSpPr/>
          <p:nvPr/>
        </p:nvSpPr>
        <p:spPr>
          <a:xfrm>
            <a:off x="3480840" y="597384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peat Segment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5"/>
          <p:cNvSpPr/>
          <p:nvPr/>
        </p:nvSpPr>
        <p:spPr>
          <a:xfrm>
            <a:off x="45720" y="1035000"/>
            <a:ext cx="873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emf opposes the source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as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increases. 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6"/>
          <p:cNvSpPr/>
          <p:nvPr/>
        </p:nvSpPr>
        <p:spPr>
          <a:xfrm>
            <a:off x="46080" y="1720800"/>
            <a:ext cx="796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emf aids the source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as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decreases.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17"/>
          <p:cNvSpPr/>
          <p:nvPr/>
        </p:nvSpPr>
        <p:spPr>
          <a:xfrm>
            <a:off x="44640" y="2406600"/>
            <a:ext cx="909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eady state dc is unopposed by inductance.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Group 18"/>
          <p:cNvGrpSpPr/>
          <p:nvPr/>
        </p:nvGrpSpPr>
        <p:grpSpPr>
          <a:xfrm>
            <a:off x="46080" y="3168720"/>
            <a:ext cx="8189280" cy="1099800"/>
            <a:chOff x="46080" y="3168720"/>
            <a:chExt cx="8189280" cy="1099800"/>
          </a:xfrm>
        </p:grpSpPr>
        <p:sp>
          <p:nvSpPr>
            <p:cNvPr id="248" name="Text Box 19"/>
            <p:cNvSpPr/>
            <p:nvPr/>
          </p:nvSpPr>
          <p:spPr>
            <a:xfrm>
              <a:off x="46080" y="3168720"/>
              <a:ext cx="8189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Inductance controls the rate at which a</a:t>
              </a:r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Text Box 20"/>
            <p:cNvSpPr/>
            <p:nvPr/>
          </p:nvSpPr>
          <p:spPr>
            <a:xfrm>
              <a:off x="429480" y="3625920"/>
              <a:ext cx="594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direct current can rise or fall.</a:t>
              </a:r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Group 21"/>
          <p:cNvGrpSpPr/>
          <p:nvPr/>
        </p:nvGrpSpPr>
        <p:grpSpPr>
          <a:xfrm>
            <a:off x="47520" y="4464000"/>
            <a:ext cx="8170200" cy="1099800"/>
            <a:chOff x="47520" y="4464000"/>
            <a:chExt cx="8170200" cy="1099800"/>
          </a:xfrm>
        </p:grpSpPr>
        <p:sp>
          <p:nvSpPr>
            <p:cNvPr id="251" name="Text Box 22"/>
            <p:cNvSpPr/>
            <p:nvPr/>
          </p:nvSpPr>
          <p:spPr>
            <a:xfrm>
              <a:off x="47520" y="4464000"/>
              <a:ext cx="761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The current in a dc inductor circuit </a:t>
              </a:r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Text Box 23"/>
            <p:cNvSpPr/>
            <p:nvPr/>
          </p:nvSpPr>
          <p:spPr>
            <a:xfrm>
              <a:off x="519120" y="4921200"/>
              <a:ext cx="7698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is determined by the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of the inductor.</a:t>
              </a:r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Slide Number Placeholder 13"/>
          <p:cNvSpPr/>
          <p:nvPr/>
        </p:nvSpPr>
        <p:spPr>
          <a:xfrm>
            <a:off x="-152280" y="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 - </a:t>
            </a:r>
            <a:fld id="{5DC34F9D-6EDA-4228-9B49-2F568337FC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500"/>
                            </p:stCondLst>
                            <p:childTnLst>
                              <p:par>
                                <p:cTn id="2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3000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3500"/>
                            </p:stCondLst>
                            <p:childTnLst>
                              <p:par>
                                <p:cTn id="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2"/>
          <p:cNvSpPr/>
          <p:nvPr/>
        </p:nvSpPr>
        <p:spPr>
          <a:xfrm>
            <a:off x="1662120" y="0"/>
            <a:ext cx="5703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Concept Preview</a:t>
            </a: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Group 8"/>
          <p:cNvGrpSpPr/>
          <p:nvPr/>
        </p:nvGrpSpPr>
        <p:grpSpPr>
          <a:xfrm>
            <a:off x="-50400" y="1155600"/>
            <a:ext cx="8506080" cy="1099800"/>
            <a:chOff x="-50400" y="1155600"/>
            <a:chExt cx="8506080" cy="1099800"/>
          </a:xfrm>
        </p:grpSpPr>
        <p:sp>
          <p:nvSpPr>
            <p:cNvPr id="256" name="Text Box 3"/>
            <p:cNvSpPr/>
            <p:nvPr/>
          </p:nvSpPr>
          <p:spPr>
            <a:xfrm>
              <a:off x="-50400" y="1155600"/>
              <a:ext cx="8506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Inductance takes energy from the source</a:t>
              </a:r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Text Box 4"/>
            <p:cNvSpPr/>
            <p:nvPr/>
          </p:nvSpPr>
          <p:spPr>
            <a:xfrm>
              <a:off x="373320" y="1612800"/>
              <a:ext cx="6141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while its flux builds up.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(Page 285) </a:t>
              </a: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Group 9"/>
          <p:cNvGrpSpPr/>
          <p:nvPr/>
        </p:nvGrpSpPr>
        <p:grpSpPr>
          <a:xfrm>
            <a:off x="2160" y="2406600"/>
            <a:ext cx="8353800" cy="1099800"/>
            <a:chOff x="2160" y="2406600"/>
            <a:chExt cx="8353800" cy="1099800"/>
          </a:xfrm>
        </p:grpSpPr>
        <p:sp>
          <p:nvSpPr>
            <p:cNvPr id="259" name="Text Box 5"/>
            <p:cNvSpPr/>
            <p:nvPr/>
          </p:nvSpPr>
          <p:spPr>
            <a:xfrm>
              <a:off x="2160" y="2406600"/>
              <a:ext cx="835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Inductance returns energy to the source</a:t>
              </a:r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Text Box 7"/>
            <p:cNvSpPr/>
            <p:nvPr/>
          </p:nvSpPr>
          <p:spPr>
            <a:xfrm>
              <a:off x="387000" y="2863800"/>
              <a:ext cx="5734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when its flux decays.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(Page 285) </a:t>
              </a: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Text Box 10"/>
          <p:cNvSpPr/>
          <p:nvPr/>
        </p:nvSpPr>
        <p:spPr>
          <a:xfrm>
            <a:off x="73440" y="3701880"/>
            <a:ext cx="914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lags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by 90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in an inductive circuit.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Page 296) 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Group 13"/>
          <p:cNvGrpSpPr/>
          <p:nvPr/>
        </p:nvGrpSpPr>
        <p:grpSpPr>
          <a:xfrm>
            <a:off x="2520" y="4464000"/>
            <a:ext cx="7197120" cy="1099800"/>
            <a:chOff x="2520" y="4464000"/>
            <a:chExt cx="7197120" cy="1099800"/>
          </a:xfrm>
        </p:grpSpPr>
        <p:sp>
          <p:nvSpPr>
            <p:cNvPr id="263" name="Text Box 11"/>
            <p:cNvSpPr/>
            <p:nvPr/>
          </p:nvSpPr>
          <p:spPr>
            <a:xfrm>
              <a:off x="2520" y="4464000"/>
              <a:ext cx="7197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In an inductive circuit,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increases</a:t>
              </a:r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Text Box 12"/>
            <p:cNvSpPr/>
            <p:nvPr/>
          </p:nvSpPr>
          <p:spPr>
            <a:xfrm>
              <a:off x="405720" y="4921200"/>
              <a:ext cx="590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while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is decreasing.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(Page 296) </a:t>
              </a: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Slide Number Placeholder 12"/>
          <p:cNvSpPr/>
          <p:nvPr/>
        </p:nvSpPr>
        <p:spPr>
          <a:xfrm>
            <a:off x="-152280" y="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 - </a:t>
            </a:r>
            <a:fld id="{AD410497-D24A-4400-91EA-58AE2CA1C5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Group 68"/>
          <p:cNvGrpSpPr/>
          <p:nvPr/>
        </p:nvGrpSpPr>
        <p:grpSpPr>
          <a:xfrm>
            <a:off x="2820600" y="1903680"/>
            <a:ext cx="429120" cy="1449360"/>
            <a:chOff x="2820600" y="1903680"/>
            <a:chExt cx="429120" cy="1449360"/>
          </a:xfrm>
        </p:grpSpPr>
        <p:sp>
          <p:nvSpPr>
            <p:cNvPr id="267" name="Text Box 3"/>
            <p:cNvSpPr/>
            <p:nvPr/>
          </p:nvSpPr>
          <p:spPr>
            <a:xfrm>
              <a:off x="2916360" y="271044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Text Box 4"/>
            <p:cNvSpPr/>
            <p:nvPr/>
          </p:nvSpPr>
          <p:spPr>
            <a:xfrm>
              <a:off x="2820600" y="1903680"/>
              <a:ext cx="42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</a:rPr>
                <a:t>+</a:t>
              </a:r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Group 5"/>
          <p:cNvGrpSpPr/>
          <p:nvPr/>
        </p:nvGrpSpPr>
        <p:grpSpPr>
          <a:xfrm>
            <a:off x="763200" y="1675440"/>
            <a:ext cx="454320" cy="1906560"/>
            <a:chOff x="763200" y="1675440"/>
            <a:chExt cx="454320" cy="1906560"/>
          </a:xfrm>
        </p:grpSpPr>
        <p:sp>
          <p:nvSpPr>
            <p:cNvPr id="270" name="Text Box 6"/>
            <p:cNvSpPr/>
            <p:nvPr/>
          </p:nvSpPr>
          <p:spPr>
            <a:xfrm>
              <a:off x="884520" y="293940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Text Box 7"/>
            <p:cNvSpPr/>
            <p:nvPr/>
          </p:nvSpPr>
          <p:spPr>
            <a:xfrm>
              <a:off x="763200" y="1675440"/>
              <a:ext cx="42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</a:rPr>
                <a:t>+</a:t>
              </a:r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Group 47"/>
          <p:cNvGrpSpPr/>
          <p:nvPr/>
        </p:nvGrpSpPr>
        <p:grpSpPr>
          <a:xfrm>
            <a:off x="4571640" y="1386000"/>
            <a:ext cx="895320" cy="1433520"/>
            <a:chOff x="4571640" y="1386000"/>
            <a:chExt cx="895320" cy="1433520"/>
          </a:xfrm>
        </p:grpSpPr>
        <p:sp>
          <p:nvSpPr>
            <p:cNvPr id="273" name="Text Box 26"/>
            <p:cNvSpPr/>
            <p:nvPr/>
          </p:nvSpPr>
          <p:spPr>
            <a:xfrm>
              <a:off x="4573800" y="13860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6600"/>
                  </a:solidFill>
                  <a:latin typeface="Times New Roman"/>
                </a:rPr>
                <a:t>V</a:t>
              </a:r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Arc 27"/>
            <p:cNvSpPr/>
            <p:nvPr/>
          </p:nvSpPr>
          <p:spPr>
            <a:xfrm flipH="1">
              <a:off x="4571280" y="1766880"/>
              <a:ext cx="895320" cy="1052640"/>
            </a:xfrm>
            <a:custGeom>
              <a:avLst/>
              <a:gdLst>
                <a:gd name="textAreaLeft" fmla="*/ -360 w 895320"/>
                <a:gd name="textAreaRight" fmla="*/ 895320 w 895320"/>
                <a:gd name="textAreaTop" fmla="*/ 0 h 1052640"/>
                <a:gd name="textAreaBottom" fmla="*/ 1053000 h 1052640"/>
              </a:gdLst>
              <a:ahLst/>
              <a:rect l="textAreaLeft" t="textAreaTop" r="textAreaRight" b="textAreaBottom"/>
              <a:pathLst>
                <a:path fill="none" w="23222" h="21600">
                  <a:moveTo>
                    <a:pt x="0" y="18900"/>
                  </a:moveTo>
                  <a:cubicBezTo>
                    <a:pt x="1361" y="8100"/>
                    <a:pt x="10545" y="-1"/>
                    <a:pt x="21431" y="0"/>
                  </a:cubicBezTo>
                  <a:cubicBezTo>
                    <a:pt x="22028" y="0"/>
                    <a:pt x="22626" y="24"/>
                    <a:pt x="23221" y="74"/>
                  </a:cubicBezTo>
                </a:path>
                <a:path stroke="0" w="23222" h="21600">
                  <a:moveTo>
                    <a:pt x="0" y="18900"/>
                  </a:moveTo>
                  <a:cubicBezTo>
                    <a:pt x="1361" y="8100"/>
                    <a:pt x="10545" y="-1"/>
                    <a:pt x="21431" y="0"/>
                  </a:cubicBezTo>
                  <a:cubicBezTo>
                    <a:pt x="22028" y="0"/>
                    <a:pt x="22626" y="24"/>
                    <a:pt x="23221" y="74"/>
                  </a:cubicBezTo>
                  <a:lnTo>
                    <a:pt x="21431" y="21600"/>
                  </a:lnTo>
                  <a:close/>
                </a:path>
              </a:pathLst>
            </a:custGeom>
            <a:noFill/>
            <a:ln w="38160">
              <a:solidFill>
                <a:srgbClr val="33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Text Box 29"/>
          <p:cNvSpPr/>
          <p:nvPr/>
        </p:nvSpPr>
        <p:spPr>
          <a:xfrm>
            <a:off x="604440" y="4190040"/>
            <a:ext cx="786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During the first quarter of the cycle, the current increases 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0"/>
          <p:cNvSpPr/>
          <p:nvPr/>
        </p:nvSpPr>
        <p:spPr>
          <a:xfrm>
            <a:off x="608760" y="4799520"/>
            <a:ext cx="34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as the voltage decreases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31"/>
          <p:cNvSpPr/>
          <p:nvPr/>
        </p:nvSpPr>
        <p:spPr>
          <a:xfrm>
            <a:off x="607320" y="5409000"/>
            <a:ext cx="61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needed to create the inductor’s flux and cemf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32"/>
          <p:cNvSpPr/>
          <p:nvPr/>
        </p:nvSpPr>
        <p:spPr>
          <a:xfrm>
            <a:off x="3961800" y="4799520"/>
            <a:ext cx="46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The source is providing the energy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34"/>
          <p:cNvSpPr/>
          <p:nvPr/>
        </p:nvSpPr>
        <p:spPr>
          <a:xfrm>
            <a:off x="623880" y="6018840"/>
            <a:ext cx="801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When the current reaches its peak value, there is no voltage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Group 38"/>
          <p:cNvGrpSpPr/>
          <p:nvPr/>
        </p:nvGrpSpPr>
        <p:grpSpPr>
          <a:xfrm>
            <a:off x="4572000" y="1660680"/>
            <a:ext cx="3581280" cy="2073240"/>
            <a:chOff x="4572000" y="1660680"/>
            <a:chExt cx="3581280" cy="2073240"/>
          </a:xfrm>
        </p:grpSpPr>
        <p:sp>
          <p:nvSpPr>
            <p:cNvPr id="281" name="Line 39"/>
            <p:cNvSpPr/>
            <p:nvPr/>
          </p:nvSpPr>
          <p:spPr>
            <a:xfrm>
              <a:off x="4572000" y="2697120"/>
              <a:ext cx="358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40"/>
            <p:cNvSpPr/>
            <p:nvPr/>
          </p:nvSpPr>
          <p:spPr>
            <a:xfrm>
              <a:off x="4572000" y="1660680"/>
              <a:ext cx="0" cy="207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Group 46"/>
          <p:cNvGrpSpPr/>
          <p:nvPr/>
        </p:nvGrpSpPr>
        <p:grpSpPr>
          <a:xfrm>
            <a:off x="4571640" y="1324080"/>
            <a:ext cx="1020960" cy="1495440"/>
            <a:chOff x="4571640" y="1324080"/>
            <a:chExt cx="1020960" cy="1495440"/>
          </a:xfrm>
        </p:grpSpPr>
        <p:sp>
          <p:nvSpPr>
            <p:cNvPr id="284" name="Text Box 42"/>
            <p:cNvSpPr/>
            <p:nvPr/>
          </p:nvSpPr>
          <p:spPr>
            <a:xfrm>
              <a:off x="5293080" y="132408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Arc 43"/>
            <p:cNvSpPr/>
            <p:nvPr/>
          </p:nvSpPr>
          <p:spPr>
            <a:xfrm flipH="1">
              <a:off x="4571280" y="1766880"/>
              <a:ext cx="871560" cy="1052640"/>
            </a:xfrm>
            <a:custGeom>
              <a:avLst/>
              <a:gdLst>
                <a:gd name="textAreaLeft" fmla="*/ -360 w 871560"/>
                <a:gd name="textAreaRight" fmla="*/ 871560 w 871560"/>
                <a:gd name="textAreaTop" fmla="*/ 0 h 1052640"/>
                <a:gd name="textAreaBottom" fmla="*/ 1053000 h 1052640"/>
              </a:gdLst>
              <a:ahLst/>
              <a:rect l="textAreaLeft" t="textAreaTop" r="textAreaRight" b="textAreaBottom"/>
              <a:pathLst>
                <a:path fill="none" w="22586" h="21600">
                  <a:moveTo>
                    <a:pt x="0" y="28"/>
                  </a:moveTo>
                  <a:cubicBezTo>
                    <a:pt x="368" y="9"/>
                    <a:pt x="737" y="-1"/>
                    <a:pt x="1107" y="0"/>
                  </a:cubicBezTo>
                  <a:cubicBezTo>
                    <a:pt x="12152" y="0"/>
                    <a:pt x="21419" y="8333"/>
                    <a:pt x="22586" y="19317"/>
                  </a:cubicBezTo>
                </a:path>
                <a:path stroke="0" w="22586" h="21600">
                  <a:moveTo>
                    <a:pt x="0" y="28"/>
                  </a:moveTo>
                  <a:cubicBezTo>
                    <a:pt x="368" y="9"/>
                    <a:pt x="737" y="-1"/>
                    <a:pt x="1107" y="0"/>
                  </a:cubicBezTo>
                  <a:cubicBezTo>
                    <a:pt x="12152" y="0"/>
                    <a:pt x="21419" y="8333"/>
                    <a:pt x="22586" y="19317"/>
                  </a:cubicBezTo>
                  <a:lnTo>
                    <a:pt x="1107" y="21600"/>
                  </a:lnTo>
                  <a:close/>
                </a:path>
              </a:pathLst>
            </a:custGeom>
            <a:noFill/>
            <a:ln w="381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Group 67"/>
          <p:cNvGrpSpPr/>
          <p:nvPr/>
        </p:nvGrpSpPr>
        <p:grpSpPr>
          <a:xfrm>
            <a:off x="685800" y="1523520"/>
            <a:ext cx="2473560" cy="2286720"/>
            <a:chOff x="685800" y="1523520"/>
            <a:chExt cx="2473560" cy="2286720"/>
          </a:xfrm>
        </p:grpSpPr>
        <p:sp>
          <p:nvSpPr>
            <p:cNvPr id="287" name="Line 14"/>
            <p:cNvSpPr/>
            <p:nvPr/>
          </p:nvSpPr>
          <p:spPr>
            <a:xfrm>
              <a:off x="1295280" y="152388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8" name="AutoShape 16"/>
            <p:cNvCxnSpPr/>
            <p:nvPr/>
          </p:nvCxnSpPr>
          <p:spPr>
            <a:xfrm>
              <a:off x="1294920" y="1523520"/>
              <a:ext cx="1639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289" name="Group 17"/>
            <p:cNvGrpSpPr/>
            <p:nvPr/>
          </p:nvGrpSpPr>
          <p:grpSpPr>
            <a:xfrm>
              <a:off x="685800" y="2004840"/>
              <a:ext cx="1261800" cy="1203120"/>
              <a:chOff x="685800" y="2004840"/>
              <a:chExt cx="1261800" cy="1203120"/>
            </a:xfrm>
          </p:grpSpPr>
          <p:sp>
            <p:nvSpPr>
              <p:cNvPr id="290" name="Oval 18"/>
              <p:cNvSpPr/>
              <p:nvPr/>
            </p:nvSpPr>
            <p:spPr>
              <a:xfrm>
                <a:off x="685800" y="2004840"/>
                <a:ext cx="1261800" cy="1203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1" name="Group 19"/>
              <p:cNvGrpSpPr/>
              <p:nvPr/>
            </p:nvGrpSpPr>
            <p:grpSpPr>
              <a:xfrm>
                <a:off x="937440" y="2245680"/>
                <a:ext cx="757080" cy="721800"/>
                <a:chOff x="937440" y="2245680"/>
                <a:chExt cx="757080" cy="721800"/>
              </a:xfrm>
            </p:grpSpPr>
            <p:sp>
              <p:nvSpPr>
                <p:cNvPr id="292" name="Arc 20"/>
                <p:cNvSpPr/>
                <p:nvPr/>
              </p:nvSpPr>
              <p:spPr>
                <a:xfrm flipH="1">
                  <a:off x="937080" y="2245680"/>
                  <a:ext cx="377640" cy="404640"/>
                </a:xfrm>
                <a:custGeom>
                  <a:avLst/>
                  <a:gdLst>
                    <a:gd name="textAreaLeft" fmla="*/ -360 w 377640"/>
                    <a:gd name="textAreaRight" fmla="*/ 377640 w 377640"/>
                    <a:gd name="textAreaTop" fmla="*/ 0 h 404640"/>
                    <a:gd name="textAreaBottom" fmla="*/ 405000 h 404640"/>
                  </a:gdLst>
                  <a:ahLst/>
                  <a:rect l="textAreaLeft" t="textAreaTop" r="textAreaRight" b="textAreaBottom"/>
                  <a:pathLst>
                    <a:path fill="none" w="42910" h="21600">
                      <a:moveTo>
                        <a:pt x="0" y="18900"/>
                      </a:moveTo>
                      <a:cubicBezTo>
                        <a:pt x="1361" y="8100"/>
                        <a:pt x="10545" y="-1"/>
                        <a:pt x="21431" y="0"/>
                      </a:cubicBezTo>
                      <a:cubicBezTo>
                        <a:pt x="32476" y="0"/>
                        <a:pt x="41743" y="8333"/>
                        <a:pt x="42910" y="19317"/>
                      </a:cubicBezTo>
                    </a:path>
                    <a:path stroke="0" w="42910" h="21600">
                      <a:moveTo>
                        <a:pt x="0" y="18900"/>
                      </a:moveTo>
                      <a:cubicBezTo>
                        <a:pt x="1361" y="8100"/>
                        <a:pt x="10545" y="-1"/>
                        <a:pt x="21431" y="0"/>
                      </a:cubicBezTo>
                      <a:cubicBezTo>
                        <a:pt x="32476" y="0"/>
                        <a:pt x="41743" y="8333"/>
                        <a:pt x="42910" y="19317"/>
                      </a:cubicBezTo>
                      <a:lnTo>
                        <a:pt x="21431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i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Arc 21"/>
                <p:cNvSpPr/>
                <p:nvPr/>
              </p:nvSpPr>
              <p:spPr>
                <a:xfrm flipH="1" flipV="1">
                  <a:off x="1316520" y="2562840"/>
                  <a:ext cx="377640" cy="404640"/>
                </a:xfrm>
                <a:custGeom>
                  <a:avLst/>
                  <a:gdLst>
                    <a:gd name="textAreaLeft" fmla="*/ -360 w 377640"/>
                    <a:gd name="textAreaRight" fmla="*/ 377640 w 377640"/>
                    <a:gd name="textAreaTop" fmla="*/ 360 h 404640"/>
                    <a:gd name="textAreaBottom" fmla="*/ 405360 h 404640"/>
                  </a:gdLst>
                  <a:ahLst/>
                  <a:rect l="textAreaLeft" t="textAreaTop" r="textAreaRight" b="textAreaBottom"/>
                  <a:pathLst>
                    <a:path fill="none" w="42910" h="21600">
                      <a:moveTo>
                        <a:pt x="0" y="18900"/>
                      </a:moveTo>
                      <a:cubicBezTo>
                        <a:pt x="1361" y="8100"/>
                        <a:pt x="10545" y="-1"/>
                        <a:pt x="21431" y="0"/>
                      </a:cubicBezTo>
                      <a:cubicBezTo>
                        <a:pt x="32476" y="0"/>
                        <a:pt x="41743" y="8333"/>
                        <a:pt x="42910" y="19317"/>
                      </a:cubicBezTo>
                    </a:path>
                    <a:path stroke="0" w="42910" h="21600">
                      <a:moveTo>
                        <a:pt x="0" y="18900"/>
                      </a:moveTo>
                      <a:cubicBezTo>
                        <a:pt x="1361" y="8100"/>
                        <a:pt x="10545" y="-1"/>
                        <a:pt x="21431" y="0"/>
                      </a:cubicBezTo>
                      <a:cubicBezTo>
                        <a:pt x="32476" y="0"/>
                        <a:pt x="41743" y="8333"/>
                        <a:pt x="42910" y="19317"/>
                      </a:cubicBezTo>
                      <a:lnTo>
                        <a:pt x="21431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i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4" name="Group 22"/>
            <p:cNvGrpSpPr/>
            <p:nvPr/>
          </p:nvGrpSpPr>
          <p:grpSpPr>
            <a:xfrm>
              <a:off x="1905120" y="1752480"/>
              <a:ext cx="756720" cy="1803240"/>
              <a:chOff x="1905120" y="1752480"/>
              <a:chExt cx="756720" cy="1803240"/>
            </a:xfrm>
          </p:grpSpPr>
          <p:sp>
            <p:nvSpPr>
              <p:cNvPr id="295" name="Line 23"/>
              <p:cNvSpPr/>
              <p:nvPr/>
            </p:nvSpPr>
            <p:spPr>
              <a:xfrm flipH="1">
                <a:off x="1905120" y="1752480"/>
                <a:ext cx="756720" cy="0"/>
              </a:xfrm>
              <a:prstGeom prst="line">
                <a:avLst/>
              </a:prstGeom>
              <a:ln w="936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Line 24"/>
              <p:cNvSpPr/>
              <p:nvPr/>
            </p:nvSpPr>
            <p:spPr>
              <a:xfrm>
                <a:off x="1905120" y="3555720"/>
                <a:ext cx="756720" cy="0"/>
              </a:xfrm>
              <a:prstGeom prst="line">
                <a:avLst/>
              </a:prstGeom>
              <a:ln w="936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Group 35"/>
            <p:cNvGrpSpPr/>
            <p:nvPr/>
          </p:nvGrpSpPr>
          <p:grpSpPr>
            <a:xfrm>
              <a:off x="1905120" y="1752480"/>
              <a:ext cx="756720" cy="1803240"/>
              <a:chOff x="1905120" y="1752480"/>
              <a:chExt cx="756720" cy="1803240"/>
            </a:xfrm>
          </p:grpSpPr>
          <p:sp>
            <p:nvSpPr>
              <p:cNvPr id="298" name="Line 36"/>
              <p:cNvSpPr/>
              <p:nvPr/>
            </p:nvSpPr>
            <p:spPr>
              <a:xfrm flipH="1">
                <a:off x="1905120" y="1752480"/>
                <a:ext cx="756720" cy="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Line 37"/>
              <p:cNvSpPr/>
              <p:nvPr/>
            </p:nvSpPr>
            <p:spPr>
              <a:xfrm>
                <a:off x="1905120" y="3555720"/>
                <a:ext cx="756720" cy="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00" name="AutoShape 61"/>
            <p:cNvCxnSpPr/>
            <p:nvPr/>
          </p:nvCxnSpPr>
          <p:spPr>
            <a:xfrm>
              <a:off x="1294920" y="3809520"/>
              <a:ext cx="1639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301" name="Group 66"/>
            <p:cNvGrpSpPr/>
            <p:nvPr/>
          </p:nvGrpSpPr>
          <p:grpSpPr>
            <a:xfrm>
              <a:off x="2855520" y="1523880"/>
              <a:ext cx="303840" cy="2286000"/>
              <a:chOff x="2855520" y="1523880"/>
              <a:chExt cx="303840" cy="2286000"/>
            </a:xfrm>
          </p:grpSpPr>
          <p:grpSp>
            <p:nvGrpSpPr>
              <p:cNvPr id="302" name="Group 48"/>
              <p:cNvGrpSpPr/>
              <p:nvPr/>
            </p:nvGrpSpPr>
            <p:grpSpPr>
              <a:xfrm>
                <a:off x="2855520" y="2194200"/>
                <a:ext cx="303840" cy="852840"/>
                <a:chOff x="2855520" y="2194200"/>
                <a:chExt cx="303840" cy="852840"/>
              </a:xfrm>
            </p:grpSpPr>
            <p:sp>
              <p:nvSpPr>
                <p:cNvPr id="303" name="Arc 49"/>
                <p:cNvSpPr/>
                <p:nvPr/>
              </p:nvSpPr>
              <p:spPr>
                <a:xfrm rot="18375000">
                  <a:off x="2904480" y="2567520"/>
                  <a:ext cx="211320" cy="212760"/>
                </a:xfrm>
                <a:custGeom>
                  <a:avLst/>
                  <a:gdLst>
                    <a:gd name="textAreaLeft" fmla="*/ 0 w 211320"/>
                    <a:gd name="textAreaRight" fmla="*/ 211680 w 211320"/>
                    <a:gd name="textAreaTop" fmla="*/ 0 h 212760"/>
                    <a:gd name="textAreaBottom" fmla="*/ 213120 h 212760"/>
                  </a:gdLst>
                  <a:ahLst/>
                  <a:rect l="textAreaLeft" t="textAreaTop" r="textAreaRight" b="textAreaBottom"/>
                  <a:pathLst>
                    <a:path fill="none" w="43200" h="43200">
                      <a:moveTo>
                        <a:pt x="20289" y="39"/>
                      </a:moveTo>
                      <a:cubicBezTo>
                        <a:pt x="20726" y="13"/>
                        <a:pt x="21163" y="-1"/>
                        <a:pt x="21600" y="0"/>
                      </a:cubicBezTo>
                      <a:cubicBezTo>
                        <a:pt x="33529" y="0"/>
                        <a:pt x="43200" y="9670"/>
                        <a:pt x="43200" y="21600"/>
                      </a:cubicBezTo>
                      <a:cubicBezTo>
                        <a:pt x="43200" y="33529"/>
                        <a:pt x="33529" y="43200"/>
                        <a:pt x="21600" y="43200"/>
                      </a:cubicBez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18915"/>
                        <a:pt x="500" y="16255"/>
                        <a:pt x="1475" y="13754"/>
                      </a:cubicBezTo>
                    </a:path>
                    <a:path stroke="0" w="43200" h="43200">
                      <a:moveTo>
                        <a:pt x="20289" y="39"/>
                      </a:moveTo>
                      <a:cubicBezTo>
                        <a:pt x="20726" y="13"/>
                        <a:pt x="21163" y="-1"/>
                        <a:pt x="21600" y="0"/>
                      </a:cubicBezTo>
                      <a:cubicBezTo>
                        <a:pt x="33529" y="0"/>
                        <a:pt x="43200" y="9670"/>
                        <a:pt x="43200" y="21600"/>
                      </a:cubicBezTo>
                      <a:cubicBezTo>
                        <a:pt x="43200" y="33529"/>
                        <a:pt x="33529" y="43200"/>
                        <a:pt x="21600" y="43200"/>
                      </a:cubicBez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18915"/>
                        <a:pt x="500" y="16255"/>
                        <a:pt x="1475" y="13754"/>
                      </a:cubicBezTo>
                      <a:lnTo>
                        <a:pt x="2160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i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Arc 50"/>
                <p:cNvSpPr/>
                <p:nvPr/>
              </p:nvSpPr>
              <p:spPr>
                <a:xfrm rot="18375000">
                  <a:off x="2905200" y="2688120"/>
                  <a:ext cx="211320" cy="212760"/>
                </a:xfrm>
                <a:custGeom>
                  <a:avLst/>
                  <a:gdLst>
                    <a:gd name="textAreaLeft" fmla="*/ 0 w 211320"/>
                    <a:gd name="textAreaRight" fmla="*/ 211680 w 211320"/>
                    <a:gd name="textAreaTop" fmla="*/ 0 h 212760"/>
                    <a:gd name="textAreaBottom" fmla="*/ 213120 h 212760"/>
                  </a:gdLst>
                  <a:ahLst/>
                  <a:rect l="textAreaLeft" t="textAreaTop" r="textAreaRight" b="textAreaBottom"/>
                  <a:pathLst>
                    <a:path fill="none" w="43200" h="43200">
                      <a:moveTo>
                        <a:pt x="21637" y="0"/>
                      </a:moveTo>
                      <a:cubicBezTo>
                        <a:pt x="33552" y="20"/>
                        <a:pt x="43200" y="9685"/>
                        <a:pt x="43200" y="21600"/>
                      </a:cubicBezTo>
                      <a:cubicBezTo>
                        <a:pt x="43200" y="33529"/>
                        <a:pt x="33529" y="43200"/>
                        <a:pt x="21600" y="43200"/>
                      </a:cubicBez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19451"/>
                        <a:pt x="320" y="17315"/>
                        <a:pt x="950" y="15261"/>
                      </a:cubicBezTo>
                    </a:path>
                    <a:path stroke="0" w="43200" h="43200">
                      <a:moveTo>
                        <a:pt x="21637" y="0"/>
                      </a:moveTo>
                      <a:cubicBezTo>
                        <a:pt x="33552" y="20"/>
                        <a:pt x="43200" y="9685"/>
                        <a:pt x="43200" y="21600"/>
                      </a:cubicBezTo>
                      <a:cubicBezTo>
                        <a:pt x="43200" y="33529"/>
                        <a:pt x="33529" y="43200"/>
                        <a:pt x="21600" y="43200"/>
                      </a:cubicBez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19451"/>
                        <a:pt x="320" y="17315"/>
                        <a:pt x="950" y="15261"/>
                      </a:cubicBezTo>
                      <a:lnTo>
                        <a:pt x="2160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i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Arc 51"/>
                <p:cNvSpPr/>
                <p:nvPr/>
              </p:nvSpPr>
              <p:spPr>
                <a:xfrm rot="18375000">
                  <a:off x="2902320" y="2315880"/>
                  <a:ext cx="211320" cy="212760"/>
                </a:xfrm>
                <a:custGeom>
                  <a:avLst/>
                  <a:gdLst>
                    <a:gd name="textAreaLeft" fmla="*/ 0 w 211320"/>
                    <a:gd name="textAreaRight" fmla="*/ 211680 w 211320"/>
                    <a:gd name="textAreaTop" fmla="*/ 0 h 212760"/>
                    <a:gd name="textAreaBottom" fmla="*/ 213120 h 212760"/>
                  </a:gdLst>
                  <a:ahLst/>
                  <a:rect l="textAreaLeft" t="textAreaTop" r="textAreaRight" b="textAreaBottom"/>
                  <a:pathLst>
                    <a:path fill="none" w="43200" h="43200">
                      <a:moveTo>
                        <a:pt x="21599" y="0"/>
                      </a:moveTo>
                      <a:cubicBezTo>
                        <a:pt x="33529" y="0"/>
                        <a:pt x="43200" y="9670"/>
                        <a:pt x="43200" y="21600"/>
                      </a:cubicBezTo>
                      <a:cubicBezTo>
                        <a:pt x="43200" y="33529"/>
                        <a:pt x="33529" y="43200"/>
                        <a:pt x="21600" y="43200"/>
                      </a:cubicBez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18915"/>
                        <a:pt x="500" y="16255"/>
                        <a:pt x="1475" y="13754"/>
                      </a:cubicBezTo>
                    </a:path>
                    <a:path stroke="0" w="43200" h="43200">
                      <a:moveTo>
                        <a:pt x="21599" y="0"/>
                      </a:moveTo>
                      <a:cubicBezTo>
                        <a:pt x="33529" y="0"/>
                        <a:pt x="43200" y="9670"/>
                        <a:pt x="43200" y="21600"/>
                      </a:cubicBezTo>
                      <a:cubicBezTo>
                        <a:pt x="43200" y="33529"/>
                        <a:pt x="33529" y="43200"/>
                        <a:pt x="21600" y="43200"/>
                      </a:cubicBez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18915"/>
                        <a:pt x="500" y="16255"/>
                        <a:pt x="1475" y="13754"/>
                      </a:cubicBezTo>
                      <a:lnTo>
                        <a:pt x="2160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i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Arc 52"/>
                <p:cNvSpPr/>
                <p:nvPr/>
              </p:nvSpPr>
              <p:spPr>
                <a:xfrm rot="18375000">
                  <a:off x="2898000" y="2442600"/>
                  <a:ext cx="211320" cy="212760"/>
                </a:xfrm>
                <a:custGeom>
                  <a:avLst/>
                  <a:gdLst>
                    <a:gd name="textAreaLeft" fmla="*/ 0 w 211320"/>
                    <a:gd name="textAreaRight" fmla="*/ 211680 w 211320"/>
                    <a:gd name="textAreaTop" fmla="*/ 0 h 212760"/>
                    <a:gd name="textAreaBottom" fmla="*/ 213120 h 212760"/>
                  </a:gdLst>
                  <a:ahLst/>
                  <a:rect l="textAreaLeft" t="textAreaTop" r="textAreaRight" b="textAreaBottom"/>
                  <a:pathLst>
                    <a:path fill="none" w="43200" h="43190">
                      <a:moveTo>
                        <a:pt x="22256" y="-1"/>
                      </a:moveTo>
                      <a:cubicBezTo>
                        <a:pt x="33924" y="354"/>
                        <a:pt x="43200" y="9916"/>
                        <a:pt x="43200" y="21590"/>
                      </a:cubicBezTo>
                      <a:cubicBezTo>
                        <a:pt x="43200" y="33519"/>
                        <a:pt x="33529" y="43190"/>
                        <a:pt x="21600" y="43190"/>
                      </a:cubicBezTo>
                      <a:cubicBezTo>
                        <a:pt x="9670" y="43190"/>
                        <a:pt x="0" y="33519"/>
                        <a:pt x="0" y="21590"/>
                      </a:cubicBezTo>
                      <a:cubicBezTo>
                        <a:pt x="-1" y="19718"/>
                        <a:pt x="243" y="17854"/>
                        <a:pt x="723" y="16045"/>
                      </a:cubicBezTo>
                    </a:path>
                    <a:path stroke="0" w="43200" h="43190">
                      <a:moveTo>
                        <a:pt x="22256" y="-1"/>
                      </a:moveTo>
                      <a:cubicBezTo>
                        <a:pt x="33924" y="354"/>
                        <a:pt x="43200" y="9916"/>
                        <a:pt x="43200" y="21590"/>
                      </a:cubicBezTo>
                      <a:cubicBezTo>
                        <a:pt x="43200" y="33519"/>
                        <a:pt x="33529" y="43190"/>
                        <a:pt x="21600" y="43190"/>
                      </a:cubicBezTo>
                      <a:cubicBezTo>
                        <a:pt x="9670" y="43190"/>
                        <a:pt x="0" y="33519"/>
                        <a:pt x="0" y="21590"/>
                      </a:cubicBezTo>
                      <a:cubicBezTo>
                        <a:pt x="-1" y="19718"/>
                        <a:pt x="243" y="17854"/>
                        <a:pt x="723" y="16045"/>
                      </a:cubicBezTo>
                      <a:lnTo>
                        <a:pt x="21600" y="2159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i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Line 53"/>
                <p:cNvSpPr/>
                <p:nvPr/>
              </p:nvSpPr>
              <p:spPr>
                <a:xfrm flipH="1" flipV="1">
                  <a:off x="2921040" y="2194200"/>
                  <a:ext cx="1440" cy="164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Line 54"/>
                <p:cNvSpPr/>
                <p:nvPr/>
              </p:nvSpPr>
              <p:spPr>
                <a:xfrm flipH="1">
                  <a:off x="2924280" y="2863800"/>
                  <a:ext cx="2160" cy="18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9" name="Line 59"/>
              <p:cNvSpPr/>
              <p:nvPr/>
            </p:nvSpPr>
            <p:spPr>
              <a:xfrm>
                <a:off x="2932200" y="304812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Line 65"/>
              <p:cNvSpPr/>
              <p:nvPr/>
            </p:nvSpPr>
            <p:spPr>
              <a:xfrm>
                <a:off x="2932200" y="152388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1" name="Group 69"/>
          <p:cNvGrpSpPr/>
          <p:nvPr/>
        </p:nvGrpSpPr>
        <p:grpSpPr>
          <a:xfrm>
            <a:off x="1905120" y="1765440"/>
            <a:ext cx="756720" cy="1802880"/>
            <a:chOff x="1905120" y="1765440"/>
            <a:chExt cx="756720" cy="1802880"/>
          </a:xfrm>
        </p:grpSpPr>
        <p:sp>
          <p:nvSpPr>
            <p:cNvPr id="312" name="Line 70"/>
            <p:cNvSpPr/>
            <p:nvPr/>
          </p:nvSpPr>
          <p:spPr>
            <a:xfrm flipH="1">
              <a:off x="1905120" y="1765440"/>
              <a:ext cx="756720" cy="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71"/>
            <p:cNvSpPr/>
            <p:nvPr/>
          </p:nvSpPr>
          <p:spPr>
            <a:xfrm>
              <a:off x="1905120" y="3568320"/>
              <a:ext cx="756720" cy="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Group 51"/>
          <p:cNvGrpSpPr/>
          <p:nvPr/>
        </p:nvGrpSpPr>
        <p:grpSpPr>
          <a:xfrm>
            <a:off x="131040" y="171000"/>
            <a:ext cx="8910360" cy="959400"/>
            <a:chOff x="131040" y="171000"/>
            <a:chExt cx="8910360" cy="959400"/>
          </a:xfrm>
        </p:grpSpPr>
        <p:sp>
          <p:nvSpPr>
            <p:cNvPr id="315" name="Text Box 28"/>
            <p:cNvSpPr/>
            <p:nvPr/>
          </p:nvSpPr>
          <p:spPr>
            <a:xfrm>
              <a:off x="131040" y="171000"/>
              <a:ext cx="891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Times New Roman"/>
                </a:rPr>
                <a:t>Energy Transfer In An Inductor Circuit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Rectangle 50"/>
            <p:cNvSpPr/>
            <p:nvPr/>
          </p:nvSpPr>
          <p:spPr>
            <a:xfrm>
              <a:off x="3282120" y="762120"/>
              <a:ext cx="126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d2db9"/>
                  </a:solidFill>
                  <a:latin typeface="Times New Roman"/>
                </a:rPr>
                <a:t>(Page 285) </a:t>
              </a: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Slide Number Placeholder 52"/>
          <p:cNvSpPr/>
          <p:nvPr/>
        </p:nvSpPr>
        <p:spPr>
          <a:xfrm>
            <a:off x="-152280" y="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 - </a:t>
            </a:r>
            <a:fld id="{A3E632E5-5F97-45F7-ACEC-F1EB29EC76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57"/>
          <p:cNvGrpSpPr/>
          <p:nvPr/>
        </p:nvGrpSpPr>
        <p:grpSpPr>
          <a:xfrm>
            <a:off x="2998800" y="1904040"/>
            <a:ext cx="429120" cy="1449720"/>
            <a:chOff x="2998800" y="1904040"/>
            <a:chExt cx="429120" cy="1449720"/>
          </a:xfrm>
        </p:grpSpPr>
        <p:sp>
          <p:nvSpPr>
            <p:cNvPr id="319" name="Text Box 3"/>
            <p:cNvSpPr/>
            <p:nvPr/>
          </p:nvSpPr>
          <p:spPr>
            <a:xfrm flipV="1">
              <a:off x="3017880" y="190368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Text Box 4"/>
            <p:cNvSpPr/>
            <p:nvPr/>
          </p:nvSpPr>
          <p:spPr>
            <a:xfrm flipV="1">
              <a:off x="2998800" y="2893680"/>
              <a:ext cx="42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</a:rPr>
                <a:t>+</a:t>
              </a:r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Group 58"/>
          <p:cNvGrpSpPr/>
          <p:nvPr/>
        </p:nvGrpSpPr>
        <p:grpSpPr>
          <a:xfrm>
            <a:off x="788760" y="1675440"/>
            <a:ext cx="429120" cy="1906920"/>
            <a:chOff x="788760" y="1675440"/>
            <a:chExt cx="429120" cy="1906920"/>
          </a:xfrm>
        </p:grpSpPr>
        <p:sp>
          <p:nvSpPr>
            <p:cNvPr id="322" name="Text Box 6"/>
            <p:cNvSpPr/>
            <p:nvPr/>
          </p:nvSpPr>
          <p:spPr>
            <a:xfrm flipV="1">
              <a:off x="884520" y="167508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Text Box 7"/>
            <p:cNvSpPr/>
            <p:nvPr/>
          </p:nvSpPr>
          <p:spPr>
            <a:xfrm flipV="1">
              <a:off x="788760" y="3122280"/>
              <a:ext cx="42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</a:rPr>
                <a:t>+</a:t>
              </a:r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Text Box 11"/>
          <p:cNvSpPr/>
          <p:nvPr/>
        </p:nvSpPr>
        <p:spPr>
          <a:xfrm>
            <a:off x="83520" y="135720"/>
            <a:ext cx="891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Energy Transfer In An Inductor Circuit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Group 54"/>
          <p:cNvGrpSpPr/>
          <p:nvPr/>
        </p:nvGrpSpPr>
        <p:grpSpPr>
          <a:xfrm>
            <a:off x="4571640" y="1295280"/>
            <a:ext cx="3581640" cy="2438640"/>
            <a:chOff x="4571640" y="1295280"/>
            <a:chExt cx="3581640" cy="2438640"/>
          </a:xfrm>
        </p:grpSpPr>
        <p:grpSp>
          <p:nvGrpSpPr>
            <p:cNvPr id="326" name="Group 44"/>
            <p:cNvGrpSpPr/>
            <p:nvPr/>
          </p:nvGrpSpPr>
          <p:grpSpPr>
            <a:xfrm>
              <a:off x="4571640" y="1386000"/>
              <a:ext cx="895320" cy="1433520"/>
              <a:chOff x="4571640" y="1386000"/>
              <a:chExt cx="895320" cy="1433520"/>
            </a:xfrm>
          </p:grpSpPr>
          <p:sp>
            <p:nvSpPr>
              <p:cNvPr id="327" name="Text Box 9"/>
              <p:cNvSpPr/>
              <p:nvPr/>
            </p:nvSpPr>
            <p:spPr>
              <a:xfrm>
                <a:off x="4573800" y="138600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336600"/>
                    </a:solidFill>
                    <a:latin typeface="Times New Roman"/>
                  </a:rPr>
                  <a:t>V</a:t>
                </a:r>
                <a:endParaRPr b="1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Arc 10"/>
              <p:cNvSpPr/>
              <p:nvPr/>
            </p:nvSpPr>
            <p:spPr>
              <a:xfrm flipH="1">
                <a:off x="4571280" y="1766880"/>
                <a:ext cx="895320" cy="1052640"/>
              </a:xfrm>
              <a:custGeom>
                <a:avLst/>
                <a:gdLst>
                  <a:gd name="textAreaLeft" fmla="*/ -360 w 895320"/>
                  <a:gd name="textAreaRight" fmla="*/ 895320 w 895320"/>
                  <a:gd name="textAreaTop" fmla="*/ 0 h 1052640"/>
                  <a:gd name="textAreaBottom" fmla="*/ 1053000 h 1052640"/>
                </a:gdLst>
                <a:ahLst/>
                <a:rect l="textAreaLeft" t="textAreaTop" r="textAreaRight" b="textAreaBottom"/>
                <a:pathLst>
                  <a:path fill="none" w="23222" h="21600">
                    <a:moveTo>
                      <a:pt x="0" y="18900"/>
                    </a:moveTo>
                    <a:cubicBezTo>
                      <a:pt x="1361" y="8100"/>
                      <a:pt x="10545" y="-1"/>
                      <a:pt x="21431" y="0"/>
                    </a:cubicBezTo>
                    <a:cubicBezTo>
                      <a:pt x="22028" y="0"/>
                      <a:pt x="22626" y="24"/>
                      <a:pt x="23221" y="74"/>
                    </a:cubicBezTo>
                  </a:path>
                  <a:path stroke="0" w="23222" h="21600">
                    <a:moveTo>
                      <a:pt x="0" y="18900"/>
                    </a:moveTo>
                    <a:cubicBezTo>
                      <a:pt x="1361" y="8100"/>
                      <a:pt x="10545" y="-1"/>
                      <a:pt x="21431" y="0"/>
                    </a:cubicBezTo>
                    <a:cubicBezTo>
                      <a:pt x="22028" y="0"/>
                      <a:pt x="22626" y="24"/>
                      <a:pt x="23221" y="74"/>
                    </a:cubicBezTo>
                    <a:lnTo>
                      <a:pt x="214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33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Group 12"/>
            <p:cNvGrpSpPr/>
            <p:nvPr/>
          </p:nvGrpSpPr>
          <p:grpSpPr>
            <a:xfrm>
              <a:off x="4572000" y="1660680"/>
              <a:ext cx="3581280" cy="2073240"/>
              <a:chOff x="4572000" y="1660680"/>
              <a:chExt cx="3581280" cy="2073240"/>
            </a:xfrm>
          </p:grpSpPr>
          <p:sp>
            <p:nvSpPr>
              <p:cNvPr id="330" name="Line 13"/>
              <p:cNvSpPr/>
              <p:nvPr/>
            </p:nvSpPr>
            <p:spPr>
              <a:xfrm>
                <a:off x="4572000" y="2697120"/>
                <a:ext cx="358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Line 14"/>
              <p:cNvSpPr/>
              <p:nvPr/>
            </p:nvSpPr>
            <p:spPr>
              <a:xfrm>
                <a:off x="4572000" y="1660680"/>
                <a:ext cx="0" cy="207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Group 43"/>
            <p:cNvGrpSpPr/>
            <p:nvPr/>
          </p:nvGrpSpPr>
          <p:grpSpPr>
            <a:xfrm>
              <a:off x="4571640" y="1295280"/>
              <a:ext cx="1020960" cy="1495440"/>
              <a:chOff x="4571640" y="1295280"/>
              <a:chExt cx="1020960" cy="1495440"/>
            </a:xfrm>
          </p:grpSpPr>
          <p:sp>
            <p:nvSpPr>
              <p:cNvPr id="333" name="Text Box 16"/>
              <p:cNvSpPr/>
              <p:nvPr/>
            </p:nvSpPr>
            <p:spPr>
              <a:xfrm>
                <a:off x="5293080" y="1295280"/>
                <a:ext cx="29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cc0000"/>
                    </a:solidFill>
                    <a:latin typeface="Times New Roman"/>
                  </a:rPr>
                  <a:t>I</a:t>
                </a:r>
                <a:endParaRPr b="1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Arc 17"/>
              <p:cNvSpPr/>
              <p:nvPr/>
            </p:nvSpPr>
            <p:spPr>
              <a:xfrm flipH="1">
                <a:off x="4571280" y="1738080"/>
                <a:ext cx="871560" cy="1052640"/>
              </a:xfrm>
              <a:custGeom>
                <a:avLst/>
                <a:gdLst>
                  <a:gd name="textAreaLeft" fmla="*/ -360 w 871560"/>
                  <a:gd name="textAreaRight" fmla="*/ 871560 w 871560"/>
                  <a:gd name="textAreaTop" fmla="*/ 0 h 1052640"/>
                  <a:gd name="textAreaBottom" fmla="*/ 1053000 h 1052640"/>
                </a:gdLst>
                <a:ahLst/>
                <a:rect l="textAreaLeft" t="textAreaTop" r="textAreaRight" b="textAreaBottom"/>
                <a:pathLst>
                  <a:path fill="none" w="22586" h="21600">
                    <a:moveTo>
                      <a:pt x="0" y="28"/>
                    </a:moveTo>
                    <a:cubicBezTo>
                      <a:pt x="368" y="9"/>
                      <a:pt x="737" y="-1"/>
                      <a:pt x="1107" y="0"/>
                    </a:cubicBezTo>
                    <a:cubicBezTo>
                      <a:pt x="12152" y="0"/>
                      <a:pt x="21419" y="8333"/>
                      <a:pt x="22586" y="19317"/>
                    </a:cubicBezTo>
                  </a:path>
                  <a:path stroke="0" w="22586" h="21600">
                    <a:moveTo>
                      <a:pt x="0" y="28"/>
                    </a:moveTo>
                    <a:cubicBezTo>
                      <a:pt x="368" y="9"/>
                      <a:pt x="737" y="-1"/>
                      <a:pt x="1107" y="0"/>
                    </a:cubicBezTo>
                    <a:cubicBezTo>
                      <a:pt x="12152" y="0"/>
                      <a:pt x="21419" y="8333"/>
                      <a:pt x="22586" y="19317"/>
                    </a:cubicBezTo>
                    <a:lnTo>
                      <a:pt x="1107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5" name="Group 18"/>
          <p:cNvGrpSpPr/>
          <p:nvPr/>
        </p:nvGrpSpPr>
        <p:grpSpPr>
          <a:xfrm>
            <a:off x="685800" y="1523520"/>
            <a:ext cx="2473560" cy="2286720"/>
            <a:chOff x="685800" y="1523520"/>
            <a:chExt cx="2473560" cy="2286720"/>
          </a:xfrm>
        </p:grpSpPr>
        <p:sp>
          <p:nvSpPr>
            <p:cNvPr id="336" name="Line 19"/>
            <p:cNvSpPr/>
            <p:nvPr/>
          </p:nvSpPr>
          <p:spPr>
            <a:xfrm>
              <a:off x="1295280" y="152388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7" name="AutoShape 20"/>
            <p:cNvCxnSpPr/>
            <p:nvPr/>
          </p:nvCxnSpPr>
          <p:spPr>
            <a:xfrm>
              <a:off x="1294920" y="1523520"/>
              <a:ext cx="1639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338" name="Group 21"/>
            <p:cNvGrpSpPr/>
            <p:nvPr/>
          </p:nvGrpSpPr>
          <p:grpSpPr>
            <a:xfrm>
              <a:off x="685800" y="2004840"/>
              <a:ext cx="1261800" cy="1203120"/>
              <a:chOff x="685800" y="2004840"/>
              <a:chExt cx="1261800" cy="1203120"/>
            </a:xfrm>
          </p:grpSpPr>
          <p:sp>
            <p:nvSpPr>
              <p:cNvPr id="339" name="Oval 22"/>
              <p:cNvSpPr/>
              <p:nvPr/>
            </p:nvSpPr>
            <p:spPr>
              <a:xfrm>
                <a:off x="685800" y="2004840"/>
                <a:ext cx="1261800" cy="1203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0" name="Group 23"/>
              <p:cNvGrpSpPr/>
              <p:nvPr/>
            </p:nvGrpSpPr>
            <p:grpSpPr>
              <a:xfrm>
                <a:off x="937440" y="2245680"/>
                <a:ext cx="757080" cy="721800"/>
                <a:chOff x="937440" y="2245680"/>
                <a:chExt cx="757080" cy="721800"/>
              </a:xfrm>
            </p:grpSpPr>
            <p:sp>
              <p:nvSpPr>
                <p:cNvPr id="341" name="Arc 24"/>
                <p:cNvSpPr/>
                <p:nvPr/>
              </p:nvSpPr>
              <p:spPr>
                <a:xfrm flipH="1">
                  <a:off x="937080" y="2245680"/>
                  <a:ext cx="377640" cy="404640"/>
                </a:xfrm>
                <a:custGeom>
                  <a:avLst/>
                  <a:gdLst>
                    <a:gd name="textAreaLeft" fmla="*/ -360 w 377640"/>
                    <a:gd name="textAreaRight" fmla="*/ 377640 w 377640"/>
                    <a:gd name="textAreaTop" fmla="*/ 0 h 404640"/>
                    <a:gd name="textAreaBottom" fmla="*/ 405000 h 404640"/>
                  </a:gdLst>
                  <a:ahLst/>
                  <a:rect l="textAreaLeft" t="textAreaTop" r="textAreaRight" b="textAreaBottom"/>
                  <a:pathLst>
                    <a:path fill="none" w="42910" h="21600">
                      <a:moveTo>
                        <a:pt x="0" y="18900"/>
                      </a:moveTo>
                      <a:cubicBezTo>
                        <a:pt x="1361" y="8100"/>
                        <a:pt x="10545" y="-1"/>
                        <a:pt x="21431" y="0"/>
                      </a:cubicBezTo>
                      <a:cubicBezTo>
                        <a:pt x="32476" y="0"/>
                        <a:pt x="41743" y="8333"/>
                        <a:pt x="42910" y="19317"/>
                      </a:cubicBezTo>
                    </a:path>
                    <a:path stroke="0" w="42910" h="21600">
                      <a:moveTo>
                        <a:pt x="0" y="18900"/>
                      </a:moveTo>
                      <a:cubicBezTo>
                        <a:pt x="1361" y="8100"/>
                        <a:pt x="10545" y="-1"/>
                        <a:pt x="21431" y="0"/>
                      </a:cubicBezTo>
                      <a:cubicBezTo>
                        <a:pt x="32476" y="0"/>
                        <a:pt x="41743" y="8333"/>
                        <a:pt x="42910" y="19317"/>
                      </a:cubicBezTo>
                      <a:lnTo>
                        <a:pt x="21431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i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Arc 25"/>
                <p:cNvSpPr/>
                <p:nvPr/>
              </p:nvSpPr>
              <p:spPr>
                <a:xfrm flipH="1" flipV="1">
                  <a:off x="1316520" y="2562840"/>
                  <a:ext cx="377640" cy="404640"/>
                </a:xfrm>
                <a:custGeom>
                  <a:avLst/>
                  <a:gdLst>
                    <a:gd name="textAreaLeft" fmla="*/ -360 w 377640"/>
                    <a:gd name="textAreaRight" fmla="*/ 377640 w 377640"/>
                    <a:gd name="textAreaTop" fmla="*/ 360 h 404640"/>
                    <a:gd name="textAreaBottom" fmla="*/ 405360 h 404640"/>
                  </a:gdLst>
                  <a:ahLst/>
                  <a:rect l="textAreaLeft" t="textAreaTop" r="textAreaRight" b="textAreaBottom"/>
                  <a:pathLst>
                    <a:path fill="none" w="42910" h="21600">
                      <a:moveTo>
                        <a:pt x="0" y="18900"/>
                      </a:moveTo>
                      <a:cubicBezTo>
                        <a:pt x="1361" y="8100"/>
                        <a:pt x="10545" y="-1"/>
                        <a:pt x="21431" y="0"/>
                      </a:cubicBezTo>
                      <a:cubicBezTo>
                        <a:pt x="32476" y="0"/>
                        <a:pt x="41743" y="8333"/>
                        <a:pt x="42910" y="19317"/>
                      </a:cubicBezTo>
                    </a:path>
                    <a:path stroke="0" w="42910" h="21600">
                      <a:moveTo>
                        <a:pt x="0" y="18900"/>
                      </a:moveTo>
                      <a:cubicBezTo>
                        <a:pt x="1361" y="8100"/>
                        <a:pt x="10545" y="-1"/>
                        <a:pt x="21431" y="0"/>
                      </a:cubicBezTo>
                      <a:cubicBezTo>
                        <a:pt x="32476" y="0"/>
                        <a:pt x="41743" y="8333"/>
                        <a:pt x="42910" y="19317"/>
                      </a:cubicBezTo>
                      <a:lnTo>
                        <a:pt x="21431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i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3" name="Group 26"/>
            <p:cNvGrpSpPr/>
            <p:nvPr/>
          </p:nvGrpSpPr>
          <p:grpSpPr>
            <a:xfrm>
              <a:off x="1905120" y="1752480"/>
              <a:ext cx="756720" cy="1803240"/>
              <a:chOff x="1905120" y="1752480"/>
              <a:chExt cx="756720" cy="1803240"/>
            </a:xfrm>
          </p:grpSpPr>
          <p:sp>
            <p:nvSpPr>
              <p:cNvPr id="344" name="Line 27"/>
              <p:cNvSpPr/>
              <p:nvPr/>
            </p:nvSpPr>
            <p:spPr>
              <a:xfrm flipH="1">
                <a:off x="1905120" y="1752480"/>
                <a:ext cx="756720" cy="0"/>
              </a:xfrm>
              <a:prstGeom prst="line">
                <a:avLst/>
              </a:prstGeom>
              <a:ln w="936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Line 28"/>
              <p:cNvSpPr/>
              <p:nvPr/>
            </p:nvSpPr>
            <p:spPr>
              <a:xfrm>
                <a:off x="1905120" y="3555720"/>
                <a:ext cx="756720" cy="0"/>
              </a:xfrm>
              <a:prstGeom prst="line">
                <a:avLst/>
              </a:prstGeom>
              <a:ln w="936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6" name="Group 29"/>
            <p:cNvGrpSpPr/>
            <p:nvPr/>
          </p:nvGrpSpPr>
          <p:grpSpPr>
            <a:xfrm>
              <a:off x="1905120" y="1752480"/>
              <a:ext cx="756720" cy="1803240"/>
              <a:chOff x="1905120" y="1752480"/>
              <a:chExt cx="756720" cy="1803240"/>
            </a:xfrm>
          </p:grpSpPr>
          <p:sp>
            <p:nvSpPr>
              <p:cNvPr id="347" name="Line 30"/>
              <p:cNvSpPr/>
              <p:nvPr/>
            </p:nvSpPr>
            <p:spPr>
              <a:xfrm flipH="1">
                <a:off x="1905120" y="1752480"/>
                <a:ext cx="756720" cy="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Line 31"/>
              <p:cNvSpPr/>
              <p:nvPr/>
            </p:nvSpPr>
            <p:spPr>
              <a:xfrm>
                <a:off x="1905120" y="3555720"/>
                <a:ext cx="756720" cy="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49" name="AutoShape 32"/>
            <p:cNvCxnSpPr/>
            <p:nvPr/>
          </p:nvCxnSpPr>
          <p:spPr>
            <a:xfrm>
              <a:off x="1294920" y="3809520"/>
              <a:ext cx="1639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350" name="Group 33"/>
            <p:cNvGrpSpPr/>
            <p:nvPr/>
          </p:nvGrpSpPr>
          <p:grpSpPr>
            <a:xfrm>
              <a:off x="2855520" y="1523880"/>
              <a:ext cx="303840" cy="2286000"/>
              <a:chOff x="2855520" y="1523880"/>
              <a:chExt cx="303840" cy="2286000"/>
            </a:xfrm>
          </p:grpSpPr>
          <p:grpSp>
            <p:nvGrpSpPr>
              <p:cNvPr id="351" name="Group 34"/>
              <p:cNvGrpSpPr/>
              <p:nvPr/>
            </p:nvGrpSpPr>
            <p:grpSpPr>
              <a:xfrm>
                <a:off x="2855520" y="2194200"/>
                <a:ext cx="303840" cy="852840"/>
                <a:chOff x="2855520" y="2194200"/>
                <a:chExt cx="303840" cy="852840"/>
              </a:xfrm>
            </p:grpSpPr>
            <p:sp>
              <p:nvSpPr>
                <p:cNvPr id="352" name="Arc 35"/>
                <p:cNvSpPr/>
                <p:nvPr/>
              </p:nvSpPr>
              <p:spPr>
                <a:xfrm rot="18375000">
                  <a:off x="2904480" y="2567520"/>
                  <a:ext cx="211320" cy="212760"/>
                </a:xfrm>
                <a:custGeom>
                  <a:avLst/>
                  <a:gdLst>
                    <a:gd name="textAreaLeft" fmla="*/ 0 w 211320"/>
                    <a:gd name="textAreaRight" fmla="*/ 211680 w 211320"/>
                    <a:gd name="textAreaTop" fmla="*/ 0 h 212760"/>
                    <a:gd name="textAreaBottom" fmla="*/ 213120 h 212760"/>
                  </a:gdLst>
                  <a:ahLst/>
                  <a:rect l="textAreaLeft" t="textAreaTop" r="textAreaRight" b="textAreaBottom"/>
                  <a:pathLst>
                    <a:path fill="none" w="43200" h="43200">
                      <a:moveTo>
                        <a:pt x="20289" y="39"/>
                      </a:moveTo>
                      <a:cubicBezTo>
                        <a:pt x="20726" y="13"/>
                        <a:pt x="21163" y="-1"/>
                        <a:pt x="21600" y="0"/>
                      </a:cubicBezTo>
                      <a:cubicBezTo>
                        <a:pt x="33529" y="0"/>
                        <a:pt x="43200" y="9670"/>
                        <a:pt x="43200" y="21600"/>
                      </a:cubicBezTo>
                      <a:cubicBezTo>
                        <a:pt x="43200" y="33529"/>
                        <a:pt x="33529" y="43200"/>
                        <a:pt x="21600" y="43200"/>
                      </a:cubicBez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18915"/>
                        <a:pt x="500" y="16255"/>
                        <a:pt x="1475" y="13754"/>
                      </a:cubicBezTo>
                    </a:path>
                    <a:path stroke="0" w="43200" h="43200">
                      <a:moveTo>
                        <a:pt x="20289" y="39"/>
                      </a:moveTo>
                      <a:cubicBezTo>
                        <a:pt x="20726" y="13"/>
                        <a:pt x="21163" y="-1"/>
                        <a:pt x="21600" y="0"/>
                      </a:cubicBezTo>
                      <a:cubicBezTo>
                        <a:pt x="33529" y="0"/>
                        <a:pt x="43200" y="9670"/>
                        <a:pt x="43200" y="21600"/>
                      </a:cubicBezTo>
                      <a:cubicBezTo>
                        <a:pt x="43200" y="33529"/>
                        <a:pt x="33529" y="43200"/>
                        <a:pt x="21600" y="43200"/>
                      </a:cubicBez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18915"/>
                        <a:pt x="500" y="16255"/>
                        <a:pt x="1475" y="13754"/>
                      </a:cubicBezTo>
                      <a:lnTo>
                        <a:pt x="2160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i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Arc 36"/>
                <p:cNvSpPr/>
                <p:nvPr/>
              </p:nvSpPr>
              <p:spPr>
                <a:xfrm rot="18375000">
                  <a:off x="2905200" y="2688120"/>
                  <a:ext cx="211320" cy="212760"/>
                </a:xfrm>
                <a:custGeom>
                  <a:avLst/>
                  <a:gdLst>
                    <a:gd name="textAreaLeft" fmla="*/ 0 w 211320"/>
                    <a:gd name="textAreaRight" fmla="*/ 211680 w 211320"/>
                    <a:gd name="textAreaTop" fmla="*/ 0 h 212760"/>
                    <a:gd name="textAreaBottom" fmla="*/ 213120 h 212760"/>
                  </a:gdLst>
                  <a:ahLst/>
                  <a:rect l="textAreaLeft" t="textAreaTop" r="textAreaRight" b="textAreaBottom"/>
                  <a:pathLst>
                    <a:path fill="none" w="43200" h="43200">
                      <a:moveTo>
                        <a:pt x="21637" y="0"/>
                      </a:moveTo>
                      <a:cubicBezTo>
                        <a:pt x="33552" y="20"/>
                        <a:pt x="43200" y="9685"/>
                        <a:pt x="43200" y="21600"/>
                      </a:cubicBezTo>
                      <a:cubicBezTo>
                        <a:pt x="43200" y="33529"/>
                        <a:pt x="33529" y="43200"/>
                        <a:pt x="21600" y="43200"/>
                      </a:cubicBez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19451"/>
                        <a:pt x="320" y="17315"/>
                        <a:pt x="950" y="15261"/>
                      </a:cubicBezTo>
                    </a:path>
                    <a:path stroke="0" w="43200" h="43200">
                      <a:moveTo>
                        <a:pt x="21637" y="0"/>
                      </a:moveTo>
                      <a:cubicBezTo>
                        <a:pt x="33552" y="20"/>
                        <a:pt x="43200" y="9685"/>
                        <a:pt x="43200" y="21600"/>
                      </a:cubicBezTo>
                      <a:cubicBezTo>
                        <a:pt x="43200" y="33529"/>
                        <a:pt x="33529" y="43200"/>
                        <a:pt x="21600" y="43200"/>
                      </a:cubicBez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19451"/>
                        <a:pt x="320" y="17315"/>
                        <a:pt x="950" y="15261"/>
                      </a:cubicBezTo>
                      <a:lnTo>
                        <a:pt x="2160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i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Arc 37"/>
                <p:cNvSpPr/>
                <p:nvPr/>
              </p:nvSpPr>
              <p:spPr>
                <a:xfrm rot="18375000">
                  <a:off x="2902320" y="2315880"/>
                  <a:ext cx="211320" cy="212760"/>
                </a:xfrm>
                <a:custGeom>
                  <a:avLst/>
                  <a:gdLst>
                    <a:gd name="textAreaLeft" fmla="*/ 0 w 211320"/>
                    <a:gd name="textAreaRight" fmla="*/ 211680 w 211320"/>
                    <a:gd name="textAreaTop" fmla="*/ 0 h 212760"/>
                    <a:gd name="textAreaBottom" fmla="*/ 213120 h 212760"/>
                  </a:gdLst>
                  <a:ahLst/>
                  <a:rect l="textAreaLeft" t="textAreaTop" r="textAreaRight" b="textAreaBottom"/>
                  <a:pathLst>
                    <a:path fill="none" w="43200" h="43200">
                      <a:moveTo>
                        <a:pt x="21599" y="0"/>
                      </a:moveTo>
                      <a:cubicBezTo>
                        <a:pt x="33529" y="0"/>
                        <a:pt x="43200" y="9670"/>
                        <a:pt x="43200" y="21600"/>
                      </a:cubicBezTo>
                      <a:cubicBezTo>
                        <a:pt x="43200" y="33529"/>
                        <a:pt x="33529" y="43200"/>
                        <a:pt x="21600" y="43200"/>
                      </a:cubicBez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18915"/>
                        <a:pt x="500" y="16255"/>
                        <a:pt x="1475" y="13754"/>
                      </a:cubicBezTo>
                    </a:path>
                    <a:path stroke="0" w="43200" h="43200">
                      <a:moveTo>
                        <a:pt x="21599" y="0"/>
                      </a:moveTo>
                      <a:cubicBezTo>
                        <a:pt x="33529" y="0"/>
                        <a:pt x="43200" y="9670"/>
                        <a:pt x="43200" y="21600"/>
                      </a:cubicBezTo>
                      <a:cubicBezTo>
                        <a:pt x="43200" y="33529"/>
                        <a:pt x="33529" y="43200"/>
                        <a:pt x="21600" y="43200"/>
                      </a:cubicBez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18915"/>
                        <a:pt x="500" y="16255"/>
                        <a:pt x="1475" y="13754"/>
                      </a:cubicBezTo>
                      <a:lnTo>
                        <a:pt x="2160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i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Arc 38"/>
                <p:cNvSpPr/>
                <p:nvPr/>
              </p:nvSpPr>
              <p:spPr>
                <a:xfrm rot="18375000">
                  <a:off x="2898000" y="2442600"/>
                  <a:ext cx="211320" cy="212760"/>
                </a:xfrm>
                <a:custGeom>
                  <a:avLst/>
                  <a:gdLst>
                    <a:gd name="textAreaLeft" fmla="*/ 0 w 211320"/>
                    <a:gd name="textAreaRight" fmla="*/ 211680 w 211320"/>
                    <a:gd name="textAreaTop" fmla="*/ 0 h 212760"/>
                    <a:gd name="textAreaBottom" fmla="*/ 213120 h 212760"/>
                  </a:gdLst>
                  <a:ahLst/>
                  <a:rect l="textAreaLeft" t="textAreaTop" r="textAreaRight" b="textAreaBottom"/>
                  <a:pathLst>
                    <a:path fill="none" w="43200" h="43190">
                      <a:moveTo>
                        <a:pt x="22256" y="-1"/>
                      </a:moveTo>
                      <a:cubicBezTo>
                        <a:pt x="33924" y="354"/>
                        <a:pt x="43200" y="9916"/>
                        <a:pt x="43200" y="21590"/>
                      </a:cubicBezTo>
                      <a:cubicBezTo>
                        <a:pt x="43200" y="33519"/>
                        <a:pt x="33529" y="43190"/>
                        <a:pt x="21600" y="43190"/>
                      </a:cubicBezTo>
                      <a:cubicBezTo>
                        <a:pt x="9670" y="43190"/>
                        <a:pt x="0" y="33519"/>
                        <a:pt x="0" y="21590"/>
                      </a:cubicBezTo>
                      <a:cubicBezTo>
                        <a:pt x="-1" y="19718"/>
                        <a:pt x="243" y="17854"/>
                        <a:pt x="723" y="16045"/>
                      </a:cubicBezTo>
                    </a:path>
                    <a:path stroke="0" w="43200" h="43190">
                      <a:moveTo>
                        <a:pt x="22256" y="-1"/>
                      </a:moveTo>
                      <a:cubicBezTo>
                        <a:pt x="33924" y="354"/>
                        <a:pt x="43200" y="9916"/>
                        <a:pt x="43200" y="21590"/>
                      </a:cubicBezTo>
                      <a:cubicBezTo>
                        <a:pt x="43200" y="33519"/>
                        <a:pt x="33529" y="43190"/>
                        <a:pt x="21600" y="43190"/>
                      </a:cubicBezTo>
                      <a:cubicBezTo>
                        <a:pt x="9670" y="43190"/>
                        <a:pt x="0" y="33519"/>
                        <a:pt x="0" y="21590"/>
                      </a:cubicBezTo>
                      <a:cubicBezTo>
                        <a:pt x="-1" y="19718"/>
                        <a:pt x="243" y="17854"/>
                        <a:pt x="723" y="16045"/>
                      </a:cubicBezTo>
                      <a:lnTo>
                        <a:pt x="21600" y="2159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i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Line 39"/>
                <p:cNvSpPr/>
                <p:nvPr/>
              </p:nvSpPr>
              <p:spPr>
                <a:xfrm flipH="1" flipV="1">
                  <a:off x="2921040" y="2194200"/>
                  <a:ext cx="1440" cy="164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Line 40"/>
                <p:cNvSpPr/>
                <p:nvPr/>
              </p:nvSpPr>
              <p:spPr>
                <a:xfrm flipH="1">
                  <a:off x="2924280" y="2863800"/>
                  <a:ext cx="2160" cy="18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8" name="Line 41"/>
              <p:cNvSpPr/>
              <p:nvPr/>
            </p:nvSpPr>
            <p:spPr>
              <a:xfrm>
                <a:off x="2932200" y="304812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Line 42"/>
              <p:cNvSpPr/>
              <p:nvPr/>
            </p:nvSpPr>
            <p:spPr>
              <a:xfrm>
                <a:off x="2932200" y="152388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0" name="Arc 46"/>
          <p:cNvSpPr/>
          <p:nvPr/>
        </p:nvSpPr>
        <p:spPr>
          <a:xfrm flipH="1" flipV="1">
            <a:off x="5479920" y="2568600"/>
            <a:ext cx="920880" cy="1052640"/>
          </a:xfrm>
          <a:custGeom>
            <a:avLst/>
            <a:gdLst>
              <a:gd name="textAreaLeft" fmla="*/ 360 w 920880"/>
              <a:gd name="textAreaRight" fmla="*/ 921600 w 920880"/>
              <a:gd name="textAreaTop" fmla="*/ 360 h 1052640"/>
              <a:gd name="textAreaBottom" fmla="*/ 1053360 h 1052640"/>
            </a:gdLst>
            <a:ahLst/>
            <a:rect l="textAreaLeft" t="textAreaTop" r="textAreaRight" b="textAreaBottom"/>
            <a:pathLst>
              <a:path fill="none" w="23790" h="21600">
                <a:moveTo>
                  <a:pt x="-1" y="123"/>
                </a:moveTo>
                <a:cubicBezTo>
                  <a:pt x="767" y="41"/>
                  <a:pt x="1539" y="-1"/>
                  <a:pt x="2311" y="0"/>
                </a:cubicBezTo>
                <a:cubicBezTo>
                  <a:pt x="13356" y="0"/>
                  <a:pt x="22623" y="8333"/>
                  <a:pt x="23790" y="19317"/>
                </a:cubicBezTo>
              </a:path>
              <a:path stroke="0" w="23790" h="21600">
                <a:moveTo>
                  <a:pt x="-1" y="123"/>
                </a:moveTo>
                <a:cubicBezTo>
                  <a:pt x="767" y="41"/>
                  <a:pt x="1539" y="-1"/>
                  <a:pt x="2311" y="0"/>
                </a:cubicBezTo>
                <a:cubicBezTo>
                  <a:pt x="13356" y="0"/>
                  <a:pt x="22623" y="8333"/>
                  <a:pt x="23790" y="19317"/>
                </a:cubicBezTo>
                <a:lnTo>
                  <a:pt x="2311" y="21600"/>
                </a:lnTo>
                <a:close/>
              </a:path>
            </a:pathLst>
          </a:custGeom>
          <a:noFill/>
          <a:ln w="38160">
            <a:solidFill>
              <a:srgbClr val="33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Arc 47"/>
          <p:cNvSpPr/>
          <p:nvPr/>
        </p:nvSpPr>
        <p:spPr>
          <a:xfrm flipH="1">
            <a:off x="5428440" y="1752480"/>
            <a:ext cx="895320" cy="1052640"/>
          </a:xfrm>
          <a:custGeom>
            <a:avLst/>
            <a:gdLst>
              <a:gd name="textAreaLeft" fmla="*/ -360 w 895320"/>
              <a:gd name="textAreaRight" fmla="*/ 895320 w 895320"/>
              <a:gd name="textAreaTop" fmla="*/ 0 h 1052640"/>
              <a:gd name="textAreaBottom" fmla="*/ 1053000 h 1052640"/>
            </a:gdLst>
            <a:ahLst/>
            <a:rect l="textAreaLeft" t="textAreaTop" r="textAreaRight" b="textAreaBottom"/>
            <a:pathLst>
              <a:path fill="none" w="23222" h="21600">
                <a:moveTo>
                  <a:pt x="0" y="18900"/>
                </a:moveTo>
                <a:cubicBezTo>
                  <a:pt x="1361" y="8100"/>
                  <a:pt x="10545" y="-1"/>
                  <a:pt x="21431" y="0"/>
                </a:cubicBezTo>
                <a:cubicBezTo>
                  <a:pt x="22028" y="0"/>
                  <a:pt x="22626" y="24"/>
                  <a:pt x="23221" y="74"/>
                </a:cubicBezTo>
              </a:path>
              <a:path stroke="0" w="23222" h="21600">
                <a:moveTo>
                  <a:pt x="0" y="18900"/>
                </a:moveTo>
                <a:cubicBezTo>
                  <a:pt x="1361" y="8100"/>
                  <a:pt x="10545" y="-1"/>
                  <a:pt x="21431" y="0"/>
                </a:cubicBezTo>
                <a:cubicBezTo>
                  <a:pt x="22028" y="0"/>
                  <a:pt x="22626" y="24"/>
                  <a:pt x="23221" y="74"/>
                </a:cubicBezTo>
                <a:lnTo>
                  <a:pt x="21431" y="21600"/>
                </a:lnTo>
                <a:close/>
              </a:path>
            </a:pathLst>
          </a:custGeom>
          <a:noFill/>
          <a:ln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48"/>
          <p:cNvSpPr/>
          <p:nvPr/>
        </p:nvSpPr>
        <p:spPr>
          <a:xfrm>
            <a:off x="304200" y="4418640"/>
            <a:ext cx="46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During the second quarter-cycle,  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49"/>
          <p:cNvSpPr/>
          <p:nvPr/>
        </p:nvSpPr>
        <p:spPr>
          <a:xfrm>
            <a:off x="491040" y="4951800"/>
            <a:ext cx="19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to the source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50"/>
          <p:cNvSpPr/>
          <p:nvPr/>
        </p:nvSpPr>
        <p:spPr>
          <a:xfrm>
            <a:off x="2405160" y="4923360"/>
            <a:ext cx="60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Notice that the voltage has changed polarity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51"/>
          <p:cNvSpPr/>
          <p:nvPr/>
        </p:nvSpPr>
        <p:spPr>
          <a:xfrm>
            <a:off x="661320" y="5561640"/>
            <a:ext cx="74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Also notice that the current  is now decreasing while the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52"/>
          <p:cNvSpPr/>
          <p:nvPr/>
        </p:nvSpPr>
        <p:spPr>
          <a:xfrm>
            <a:off x="946440" y="6094800"/>
            <a:ext cx="28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voltage is increasing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55"/>
          <p:cNvSpPr/>
          <p:nvPr/>
        </p:nvSpPr>
        <p:spPr>
          <a:xfrm>
            <a:off x="4668840" y="4418640"/>
            <a:ext cx="42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the inductor returns its energy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59"/>
          <p:cNvSpPr/>
          <p:nvPr/>
        </p:nvSpPr>
        <p:spPr>
          <a:xfrm>
            <a:off x="2552400" y="914400"/>
            <a:ext cx="293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econd quarter-cycle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Group 60"/>
          <p:cNvGrpSpPr/>
          <p:nvPr/>
        </p:nvGrpSpPr>
        <p:grpSpPr>
          <a:xfrm>
            <a:off x="1905120" y="1765440"/>
            <a:ext cx="756720" cy="1802880"/>
            <a:chOff x="1905120" y="1765440"/>
            <a:chExt cx="756720" cy="1802880"/>
          </a:xfrm>
        </p:grpSpPr>
        <p:sp>
          <p:nvSpPr>
            <p:cNvPr id="370" name="Line 61"/>
            <p:cNvSpPr/>
            <p:nvPr/>
          </p:nvSpPr>
          <p:spPr>
            <a:xfrm flipH="1">
              <a:off x="1905120" y="1765440"/>
              <a:ext cx="756720" cy="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62"/>
            <p:cNvSpPr/>
            <p:nvPr/>
          </p:nvSpPr>
          <p:spPr>
            <a:xfrm>
              <a:off x="1905120" y="3568320"/>
              <a:ext cx="756720" cy="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Slide Number Placeholder 55"/>
          <p:cNvSpPr/>
          <p:nvPr/>
        </p:nvSpPr>
        <p:spPr>
          <a:xfrm>
            <a:off x="-152280" y="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 - </a:t>
            </a:r>
            <a:fld id="{807B431A-F7E5-49D8-AEFC-9D3EBAF405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000"/>
                            </p:stCondLst>
                            <p:childTnLst>
                              <p:par>
                                <p:cTn id="4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" name="Group 2"/>
          <p:cNvGrpSpPr/>
          <p:nvPr/>
        </p:nvGrpSpPr>
        <p:grpSpPr>
          <a:xfrm>
            <a:off x="2998800" y="1904040"/>
            <a:ext cx="429120" cy="1449720"/>
            <a:chOff x="2998800" y="1904040"/>
            <a:chExt cx="429120" cy="1449720"/>
          </a:xfrm>
        </p:grpSpPr>
        <p:sp>
          <p:nvSpPr>
            <p:cNvPr id="374" name="Text Box 3"/>
            <p:cNvSpPr/>
            <p:nvPr/>
          </p:nvSpPr>
          <p:spPr>
            <a:xfrm flipV="1">
              <a:off x="3017880" y="190368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Text Box 4"/>
            <p:cNvSpPr/>
            <p:nvPr/>
          </p:nvSpPr>
          <p:spPr>
            <a:xfrm flipV="1">
              <a:off x="2998800" y="2893680"/>
              <a:ext cx="42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</a:rPr>
                <a:t>+</a:t>
              </a:r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" name="Group 5"/>
          <p:cNvGrpSpPr/>
          <p:nvPr/>
        </p:nvGrpSpPr>
        <p:grpSpPr>
          <a:xfrm>
            <a:off x="788760" y="1675440"/>
            <a:ext cx="429120" cy="1906920"/>
            <a:chOff x="788760" y="1675440"/>
            <a:chExt cx="429120" cy="1906920"/>
          </a:xfrm>
        </p:grpSpPr>
        <p:sp>
          <p:nvSpPr>
            <p:cNvPr id="377" name="Text Box 6"/>
            <p:cNvSpPr/>
            <p:nvPr/>
          </p:nvSpPr>
          <p:spPr>
            <a:xfrm flipV="1">
              <a:off x="884520" y="167508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Text Box 7"/>
            <p:cNvSpPr/>
            <p:nvPr/>
          </p:nvSpPr>
          <p:spPr>
            <a:xfrm flipV="1">
              <a:off x="788760" y="3122280"/>
              <a:ext cx="42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</a:rPr>
                <a:t>+</a:t>
              </a:r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" name="Text Box 8"/>
          <p:cNvSpPr/>
          <p:nvPr/>
        </p:nvSpPr>
        <p:spPr>
          <a:xfrm>
            <a:off x="62640" y="151560"/>
            <a:ext cx="891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Energy Transfer In An Inductor Circuit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Group 19"/>
          <p:cNvGrpSpPr/>
          <p:nvPr/>
        </p:nvGrpSpPr>
        <p:grpSpPr>
          <a:xfrm>
            <a:off x="685800" y="1523520"/>
            <a:ext cx="2473560" cy="2286720"/>
            <a:chOff x="685800" y="1523520"/>
            <a:chExt cx="2473560" cy="2286720"/>
          </a:xfrm>
        </p:grpSpPr>
        <p:sp>
          <p:nvSpPr>
            <p:cNvPr id="381" name="Line 20"/>
            <p:cNvSpPr/>
            <p:nvPr/>
          </p:nvSpPr>
          <p:spPr>
            <a:xfrm>
              <a:off x="1295280" y="152388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2" name="AutoShape 21"/>
            <p:cNvCxnSpPr/>
            <p:nvPr/>
          </p:nvCxnSpPr>
          <p:spPr>
            <a:xfrm>
              <a:off x="1294920" y="1523520"/>
              <a:ext cx="1639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383" name="Group 22"/>
            <p:cNvGrpSpPr/>
            <p:nvPr/>
          </p:nvGrpSpPr>
          <p:grpSpPr>
            <a:xfrm>
              <a:off x="685800" y="2004840"/>
              <a:ext cx="1261800" cy="1203120"/>
              <a:chOff x="685800" y="2004840"/>
              <a:chExt cx="1261800" cy="1203120"/>
            </a:xfrm>
          </p:grpSpPr>
          <p:sp>
            <p:nvSpPr>
              <p:cNvPr id="384" name="Oval 23"/>
              <p:cNvSpPr/>
              <p:nvPr/>
            </p:nvSpPr>
            <p:spPr>
              <a:xfrm>
                <a:off x="685800" y="2004840"/>
                <a:ext cx="1261800" cy="1203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5" name="Group 24"/>
              <p:cNvGrpSpPr/>
              <p:nvPr/>
            </p:nvGrpSpPr>
            <p:grpSpPr>
              <a:xfrm>
                <a:off x="937440" y="2245680"/>
                <a:ext cx="757080" cy="721800"/>
                <a:chOff x="937440" y="2245680"/>
                <a:chExt cx="757080" cy="721800"/>
              </a:xfrm>
            </p:grpSpPr>
            <p:sp>
              <p:nvSpPr>
                <p:cNvPr id="386" name="Arc 25"/>
                <p:cNvSpPr/>
                <p:nvPr/>
              </p:nvSpPr>
              <p:spPr>
                <a:xfrm flipH="1">
                  <a:off x="937080" y="2245680"/>
                  <a:ext cx="377640" cy="404640"/>
                </a:xfrm>
                <a:custGeom>
                  <a:avLst/>
                  <a:gdLst>
                    <a:gd name="textAreaLeft" fmla="*/ -360 w 377640"/>
                    <a:gd name="textAreaRight" fmla="*/ 377640 w 377640"/>
                    <a:gd name="textAreaTop" fmla="*/ 0 h 404640"/>
                    <a:gd name="textAreaBottom" fmla="*/ 405000 h 404640"/>
                  </a:gdLst>
                  <a:ahLst/>
                  <a:rect l="textAreaLeft" t="textAreaTop" r="textAreaRight" b="textAreaBottom"/>
                  <a:pathLst>
                    <a:path fill="none" w="42910" h="21600">
                      <a:moveTo>
                        <a:pt x="0" y="18900"/>
                      </a:moveTo>
                      <a:cubicBezTo>
                        <a:pt x="1361" y="8100"/>
                        <a:pt x="10545" y="-1"/>
                        <a:pt x="21431" y="0"/>
                      </a:cubicBezTo>
                      <a:cubicBezTo>
                        <a:pt x="32476" y="0"/>
                        <a:pt x="41743" y="8333"/>
                        <a:pt x="42910" y="19317"/>
                      </a:cubicBezTo>
                    </a:path>
                    <a:path stroke="0" w="42910" h="21600">
                      <a:moveTo>
                        <a:pt x="0" y="18900"/>
                      </a:moveTo>
                      <a:cubicBezTo>
                        <a:pt x="1361" y="8100"/>
                        <a:pt x="10545" y="-1"/>
                        <a:pt x="21431" y="0"/>
                      </a:cubicBezTo>
                      <a:cubicBezTo>
                        <a:pt x="32476" y="0"/>
                        <a:pt x="41743" y="8333"/>
                        <a:pt x="42910" y="19317"/>
                      </a:cubicBezTo>
                      <a:lnTo>
                        <a:pt x="21431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i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Arc 26"/>
                <p:cNvSpPr/>
                <p:nvPr/>
              </p:nvSpPr>
              <p:spPr>
                <a:xfrm flipH="1" flipV="1">
                  <a:off x="1316520" y="2562840"/>
                  <a:ext cx="377640" cy="404640"/>
                </a:xfrm>
                <a:custGeom>
                  <a:avLst/>
                  <a:gdLst>
                    <a:gd name="textAreaLeft" fmla="*/ -360 w 377640"/>
                    <a:gd name="textAreaRight" fmla="*/ 377640 w 377640"/>
                    <a:gd name="textAreaTop" fmla="*/ 360 h 404640"/>
                    <a:gd name="textAreaBottom" fmla="*/ 405360 h 404640"/>
                  </a:gdLst>
                  <a:ahLst/>
                  <a:rect l="textAreaLeft" t="textAreaTop" r="textAreaRight" b="textAreaBottom"/>
                  <a:pathLst>
                    <a:path fill="none" w="42910" h="21600">
                      <a:moveTo>
                        <a:pt x="0" y="18900"/>
                      </a:moveTo>
                      <a:cubicBezTo>
                        <a:pt x="1361" y="8100"/>
                        <a:pt x="10545" y="-1"/>
                        <a:pt x="21431" y="0"/>
                      </a:cubicBezTo>
                      <a:cubicBezTo>
                        <a:pt x="32476" y="0"/>
                        <a:pt x="41743" y="8333"/>
                        <a:pt x="42910" y="19317"/>
                      </a:cubicBezTo>
                    </a:path>
                    <a:path stroke="0" w="42910" h="21600">
                      <a:moveTo>
                        <a:pt x="0" y="18900"/>
                      </a:moveTo>
                      <a:cubicBezTo>
                        <a:pt x="1361" y="8100"/>
                        <a:pt x="10545" y="-1"/>
                        <a:pt x="21431" y="0"/>
                      </a:cubicBezTo>
                      <a:cubicBezTo>
                        <a:pt x="32476" y="0"/>
                        <a:pt x="41743" y="8333"/>
                        <a:pt x="42910" y="19317"/>
                      </a:cubicBezTo>
                      <a:lnTo>
                        <a:pt x="21431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i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8" name="Group 27"/>
            <p:cNvGrpSpPr/>
            <p:nvPr/>
          </p:nvGrpSpPr>
          <p:grpSpPr>
            <a:xfrm>
              <a:off x="1905120" y="1752480"/>
              <a:ext cx="756720" cy="1803240"/>
              <a:chOff x="1905120" y="1752480"/>
              <a:chExt cx="756720" cy="1803240"/>
            </a:xfrm>
          </p:grpSpPr>
          <p:sp>
            <p:nvSpPr>
              <p:cNvPr id="389" name="Line 28"/>
              <p:cNvSpPr/>
              <p:nvPr/>
            </p:nvSpPr>
            <p:spPr>
              <a:xfrm flipH="1">
                <a:off x="1905120" y="1752480"/>
                <a:ext cx="756720" cy="0"/>
              </a:xfrm>
              <a:prstGeom prst="line">
                <a:avLst/>
              </a:prstGeom>
              <a:ln w="936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Line 29"/>
              <p:cNvSpPr/>
              <p:nvPr/>
            </p:nvSpPr>
            <p:spPr>
              <a:xfrm>
                <a:off x="1905120" y="3555720"/>
                <a:ext cx="756720" cy="0"/>
              </a:xfrm>
              <a:prstGeom prst="line">
                <a:avLst/>
              </a:prstGeom>
              <a:ln w="936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1" name="Group 30"/>
            <p:cNvGrpSpPr/>
            <p:nvPr/>
          </p:nvGrpSpPr>
          <p:grpSpPr>
            <a:xfrm>
              <a:off x="1905120" y="1752480"/>
              <a:ext cx="756720" cy="1803240"/>
              <a:chOff x="1905120" y="1752480"/>
              <a:chExt cx="756720" cy="1803240"/>
            </a:xfrm>
          </p:grpSpPr>
          <p:sp>
            <p:nvSpPr>
              <p:cNvPr id="392" name="Line 31"/>
              <p:cNvSpPr/>
              <p:nvPr/>
            </p:nvSpPr>
            <p:spPr>
              <a:xfrm flipH="1">
                <a:off x="1905120" y="1752480"/>
                <a:ext cx="756720" cy="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Line 32"/>
              <p:cNvSpPr/>
              <p:nvPr/>
            </p:nvSpPr>
            <p:spPr>
              <a:xfrm>
                <a:off x="1905120" y="3555720"/>
                <a:ext cx="756720" cy="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94" name="AutoShape 33"/>
            <p:cNvCxnSpPr/>
            <p:nvPr/>
          </p:nvCxnSpPr>
          <p:spPr>
            <a:xfrm>
              <a:off x="1294920" y="3809520"/>
              <a:ext cx="1639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395" name="Group 34"/>
            <p:cNvGrpSpPr/>
            <p:nvPr/>
          </p:nvGrpSpPr>
          <p:grpSpPr>
            <a:xfrm>
              <a:off x="2855520" y="1523880"/>
              <a:ext cx="303840" cy="2286000"/>
              <a:chOff x="2855520" y="1523880"/>
              <a:chExt cx="303840" cy="2286000"/>
            </a:xfrm>
          </p:grpSpPr>
          <p:grpSp>
            <p:nvGrpSpPr>
              <p:cNvPr id="396" name="Group 35"/>
              <p:cNvGrpSpPr/>
              <p:nvPr/>
            </p:nvGrpSpPr>
            <p:grpSpPr>
              <a:xfrm>
                <a:off x="2855520" y="2194200"/>
                <a:ext cx="303840" cy="852840"/>
                <a:chOff x="2855520" y="2194200"/>
                <a:chExt cx="303840" cy="852840"/>
              </a:xfrm>
            </p:grpSpPr>
            <p:sp>
              <p:nvSpPr>
                <p:cNvPr id="397" name="Arc 36"/>
                <p:cNvSpPr/>
                <p:nvPr/>
              </p:nvSpPr>
              <p:spPr>
                <a:xfrm rot="18375000">
                  <a:off x="2904480" y="2567520"/>
                  <a:ext cx="211320" cy="212760"/>
                </a:xfrm>
                <a:custGeom>
                  <a:avLst/>
                  <a:gdLst>
                    <a:gd name="textAreaLeft" fmla="*/ 0 w 211320"/>
                    <a:gd name="textAreaRight" fmla="*/ 211680 w 211320"/>
                    <a:gd name="textAreaTop" fmla="*/ 0 h 212760"/>
                    <a:gd name="textAreaBottom" fmla="*/ 213120 h 212760"/>
                  </a:gdLst>
                  <a:ahLst/>
                  <a:rect l="textAreaLeft" t="textAreaTop" r="textAreaRight" b="textAreaBottom"/>
                  <a:pathLst>
                    <a:path fill="none" w="43200" h="43200">
                      <a:moveTo>
                        <a:pt x="20289" y="39"/>
                      </a:moveTo>
                      <a:cubicBezTo>
                        <a:pt x="20726" y="13"/>
                        <a:pt x="21163" y="-1"/>
                        <a:pt x="21600" y="0"/>
                      </a:cubicBezTo>
                      <a:cubicBezTo>
                        <a:pt x="33529" y="0"/>
                        <a:pt x="43200" y="9670"/>
                        <a:pt x="43200" y="21600"/>
                      </a:cubicBezTo>
                      <a:cubicBezTo>
                        <a:pt x="43200" y="33529"/>
                        <a:pt x="33529" y="43200"/>
                        <a:pt x="21600" y="43200"/>
                      </a:cubicBez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18915"/>
                        <a:pt x="500" y="16255"/>
                        <a:pt x="1475" y="13754"/>
                      </a:cubicBezTo>
                    </a:path>
                    <a:path stroke="0" w="43200" h="43200">
                      <a:moveTo>
                        <a:pt x="20289" y="39"/>
                      </a:moveTo>
                      <a:cubicBezTo>
                        <a:pt x="20726" y="13"/>
                        <a:pt x="21163" y="-1"/>
                        <a:pt x="21600" y="0"/>
                      </a:cubicBezTo>
                      <a:cubicBezTo>
                        <a:pt x="33529" y="0"/>
                        <a:pt x="43200" y="9670"/>
                        <a:pt x="43200" y="21600"/>
                      </a:cubicBezTo>
                      <a:cubicBezTo>
                        <a:pt x="43200" y="33529"/>
                        <a:pt x="33529" y="43200"/>
                        <a:pt x="21600" y="43200"/>
                      </a:cubicBez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18915"/>
                        <a:pt x="500" y="16255"/>
                        <a:pt x="1475" y="13754"/>
                      </a:cubicBezTo>
                      <a:lnTo>
                        <a:pt x="2160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i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Arc 37"/>
                <p:cNvSpPr/>
                <p:nvPr/>
              </p:nvSpPr>
              <p:spPr>
                <a:xfrm rot="18375000">
                  <a:off x="2905200" y="2688120"/>
                  <a:ext cx="211320" cy="212760"/>
                </a:xfrm>
                <a:custGeom>
                  <a:avLst/>
                  <a:gdLst>
                    <a:gd name="textAreaLeft" fmla="*/ 0 w 211320"/>
                    <a:gd name="textAreaRight" fmla="*/ 211680 w 211320"/>
                    <a:gd name="textAreaTop" fmla="*/ 0 h 212760"/>
                    <a:gd name="textAreaBottom" fmla="*/ 213120 h 212760"/>
                  </a:gdLst>
                  <a:ahLst/>
                  <a:rect l="textAreaLeft" t="textAreaTop" r="textAreaRight" b="textAreaBottom"/>
                  <a:pathLst>
                    <a:path fill="none" w="43200" h="43200">
                      <a:moveTo>
                        <a:pt x="21637" y="0"/>
                      </a:moveTo>
                      <a:cubicBezTo>
                        <a:pt x="33552" y="20"/>
                        <a:pt x="43200" y="9685"/>
                        <a:pt x="43200" y="21600"/>
                      </a:cubicBezTo>
                      <a:cubicBezTo>
                        <a:pt x="43200" y="33529"/>
                        <a:pt x="33529" y="43200"/>
                        <a:pt x="21600" y="43200"/>
                      </a:cubicBez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19451"/>
                        <a:pt x="320" y="17315"/>
                        <a:pt x="950" y="15261"/>
                      </a:cubicBezTo>
                    </a:path>
                    <a:path stroke="0" w="43200" h="43200">
                      <a:moveTo>
                        <a:pt x="21637" y="0"/>
                      </a:moveTo>
                      <a:cubicBezTo>
                        <a:pt x="33552" y="20"/>
                        <a:pt x="43200" y="9685"/>
                        <a:pt x="43200" y="21600"/>
                      </a:cubicBezTo>
                      <a:cubicBezTo>
                        <a:pt x="43200" y="33529"/>
                        <a:pt x="33529" y="43200"/>
                        <a:pt x="21600" y="43200"/>
                      </a:cubicBez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19451"/>
                        <a:pt x="320" y="17315"/>
                        <a:pt x="950" y="15261"/>
                      </a:cubicBezTo>
                      <a:lnTo>
                        <a:pt x="2160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i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Arc 38"/>
                <p:cNvSpPr/>
                <p:nvPr/>
              </p:nvSpPr>
              <p:spPr>
                <a:xfrm rot="18375000">
                  <a:off x="2902320" y="2315880"/>
                  <a:ext cx="211320" cy="212760"/>
                </a:xfrm>
                <a:custGeom>
                  <a:avLst/>
                  <a:gdLst>
                    <a:gd name="textAreaLeft" fmla="*/ 0 w 211320"/>
                    <a:gd name="textAreaRight" fmla="*/ 211680 w 211320"/>
                    <a:gd name="textAreaTop" fmla="*/ 0 h 212760"/>
                    <a:gd name="textAreaBottom" fmla="*/ 213120 h 212760"/>
                  </a:gdLst>
                  <a:ahLst/>
                  <a:rect l="textAreaLeft" t="textAreaTop" r="textAreaRight" b="textAreaBottom"/>
                  <a:pathLst>
                    <a:path fill="none" w="43200" h="43200">
                      <a:moveTo>
                        <a:pt x="21599" y="0"/>
                      </a:moveTo>
                      <a:cubicBezTo>
                        <a:pt x="33529" y="0"/>
                        <a:pt x="43200" y="9670"/>
                        <a:pt x="43200" y="21600"/>
                      </a:cubicBezTo>
                      <a:cubicBezTo>
                        <a:pt x="43200" y="33529"/>
                        <a:pt x="33529" y="43200"/>
                        <a:pt x="21600" y="43200"/>
                      </a:cubicBez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18915"/>
                        <a:pt x="500" y="16255"/>
                        <a:pt x="1475" y="13754"/>
                      </a:cubicBezTo>
                    </a:path>
                    <a:path stroke="0" w="43200" h="43200">
                      <a:moveTo>
                        <a:pt x="21599" y="0"/>
                      </a:moveTo>
                      <a:cubicBezTo>
                        <a:pt x="33529" y="0"/>
                        <a:pt x="43200" y="9670"/>
                        <a:pt x="43200" y="21600"/>
                      </a:cubicBezTo>
                      <a:cubicBezTo>
                        <a:pt x="43200" y="33529"/>
                        <a:pt x="33529" y="43200"/>
                        <a:pt x="21600" y="43200"/>
                      </a:cubicBez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18915"/>
                        <a:pt x="500" y="16255"/>
                        <a:pt x="1475" y="13754"/>
                      </a:cubicBezTo>
                      <a:lnTo>
                        <a:pt x="2160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i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Arc 39"/>
                <p:cNvSpPr/>
                <p:nvPr/>
              </p:nvSpPr>
              <p:spPr>
                <a:xfrm rot="18375000">
                  <a:off x="2898000" y="2442600"/>
                  <a:ext cx="211320" cy="212760"/>
                </a:xfrm>
                <a:custGeom>
                  <a:avLst/>
                  <a:gdLst>
                    <a:gd name="textAreaLeft" fmla="*/ 0 w 211320"/>
                    <a:gd name="textAreaRight" fmla="*/ 211680 w 211320"/>
                    <a:gd name="textAreaTop" fmla="*/ 0 h 212760"/>
                    <a:gd name="textAreaBottom" fmla="*/ 213120 h 212760"/>
                  </a:gdLst>
                  <a:ahLst/>
                  <a:rect l="textAreaLeft" t="textAreaTop" r="textAreaRight" b="textAreaBottom"/>
                  <a:pathLst>
                    <a:path fill="none" w="43200" h="43190">
                      <a:moveTo>
                        <a:pt x="22256" y="-1"/>
                      </a:moveTo>
                      <a:cubicBezTo>
                        <a:pt x="33924" y="354"/>
                        <a:pt x="43200" y="9916"/>
                        <a:pt x="43200" y="21590"/>
                      </a:cubicBezTo>
                      <a:cubicBezTo>
                        <a:pt x="43200" y="33519"/>
                        <a:pt x="33529" y="43190"/>
                        <a:pt x="21600" y="43190"/>
                      </a:cubicBezTo>
                      <a:cubicBezTo>
                        <a:pt x="9670" y="43190"/>
                        <a:pt x="0" y="33519"/>
                        <a:pt x="0" y="21590"/>
                      </a:cubicBezTo>
                      <a:cubicBezTo>
                        <a:pt x="-1" y="19718"/>
                        <a:pt x="243" y="17854"/>
                        <a:pt x="723" y="16045"/>
                      </a:cubicBezTo>
                    </a:path>
                    <a:path stroke="0" w="43200" h="43190">
                      <a:moveTo>
                        <a:pt x="22256" y="-1"/>
                      </a:moveTo>
                      <a:cubicBezTo>
                        <a:pt x="33924" y="354"/>
                        <a:pt x="43200" y="9916"/>
                        <a:pt x="43200" y="21590"/>
                      </a:cubicBezTo>
                      <a:cubicBezTo>
                        <a:pt x="43200" y="33519"/>
                        <a:pt x="33529" y="43190"/>
                        <a:pt x="21600" y="43190"/>
                      </a:cubicBezTo>
                      <a:cubicBezTo>
                        <a:pt x="9670" y="43190"/>
                        <a:pt x="0" y="33519"/>
                        <a:pt x="0" y="21590"/>
                      </a:cubicBezTo>
                      <a:cubicBezTo>
                        <a:pt x="-1" y="19718"/>
                        <a:pt x="243" y="17854"/>
                        <a:pt x="723" y="16045"/>
                      </a:cubicBezTo>
                      <a:lnTo>
                        <a:pt x="21600" y="2159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i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Line 40"/>
                <p:cNvSpPr/>
                <p:nvPr/>
              </p:nvSpPr>
              <p:spPr>
                <a:xfrm flipH="1" flipV="1">
                  <a:off x="2921040" y="2194200"/>
                  <a:ext cx="1440" cy="164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Line 41"/>
                <p:cNvSpPr/>
                <p:nvPr/>
              </p:nvSpPr>
              <p:spPr>
                <a:xfrm flipH="1">
                  <a:off x="2924280" y="2863800"/>
                  <a:ext cx="2160" cy="18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3" name="Line 42"/>
              <p:cNvSpPr/>
              <p:nvPr/>
            </p:nvSpPr>
            <p:spPr>
              <a:xfrm>
                <a:off x="2932200" y="304812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Line 43"/>
              <p:cNvSpPr/>
              <p:nvPr/>
            </p:nvSpPr>
            <p:spPr>
              <a:xfrm>
                <a:off x="2932200" y="152388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5" name="Group 46"/>
          <p:cNvGrpSpPr/>
          <p:nvPr/>
        </p:nvGrpSpPr>
        <p:grpSpPr>
          <a:xfrm>
            <a:off x="4571640" y="1295280"/>
            <a:ext cx="3581640" cy="2438640"/>
            <a:chOff x="4571640" y="1295280"/>
            <a:chExt cx="3581640" cy="2438640"/>
          </a:xfrm>
        </p:grpSpPr>
        <p:grpSp>
          <p:nvGrpSpPr>
            <p:cNvPr id="406" name="Group 9"/>
            <p:cNvGrpSpPr/>
            <p:nvPr/>
          </p:nvGrpSpPr>
          <p:grpSpPr>
            <a:xfrm>
              <a:off x="4571640" y="1295280"/>
              <a:ext cx="3581640" cy="2438640"/>
              <a:chOff x="4571640" y="1295280"/>
              <a:chExt cx="3581640" cy="2438640"/>
            </a:xfrm>
          </p:grpSpPr>
          <p:grpSp>
            <p:nvGrpSpPr>
              <p:cNvPr id="407" name="Group 10"/>
              <p:cNvGrpSpPr/>
              <p:nvPr/>
            </p:nvGrpSpPr>
            <p:grpSpPr>
              <a:xfrm>
                <a:off x="4571640" y="1386000"/>
                <a:ext cx="895320" cy="1433520"/>
                <a:chOff x="4571640" y="1386000"/>
                <a:chExt cx="895320" cy="1433520"/>
              </a:xfrm>
            </p:grpSpPr>
            <p:sp>
              <p:nvSpPr>
                <p:cNvPr id="408" name="Text Box 11"/>
                <p:cNvSpPr/>
                <p:nvPr/>
              </p:nvSpPr>
              <p:spPr>
                <a:xfrm>
                  <a:off x="4573800" y="138600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8000"/>
                      </a:solidFill>
                      <a:latin typeface="Times New Roman"/>
                    </a:rPr>
                    <a:t>V</a:t>
                  </a:r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Arc 12"/>
                <p:cNvSpPr/>
                <p:nvPr/>
              </p:nvSpPr>
              <p:spPr>
                <a:xfrm flipH="1">
                  <a:off x="4571280" y="1766880"/>
                  <a:ext cx="895320" cy="1052640"/>
                </a:xfrm>
                <a:custGeom>
                  <a:avLst/>
                  <a:gdLst>
                    <a:gd name="textAreaLeft" fmla="*/ -360 w 895320"/>
                    <a:gd name="textAreaRight" fmla="*/ 895320 w 895320"/>
                    <a:gd name="textAreaTop" fmla="*/ 0 h 1052640"/>
                    <a:gd name="textAreaBottom" fmla="*/ 1053000 h 1052640"/>
                  </a:gdLst>
                  <a:ahLst/>
                  <a:rect l="textAreaLeft" t="textAreaTop" r="textAreaRight" b="textAreaBottom"/>
                  <a:pathLst>
                    <a:path fill="none" w="23222" h="21600">
                      <a:moveTo>
                        <a:pt x="0" y="18900"/>
                      </a:moveTo>
                      <a:cubicBezTo>
                        <a:pt x="1361" y="8100"/>
                        <a:pt x="10545" y="-1"/>
                        <a:pt x="21431" y="0"/>
                      </a:cubicBezTo>
                      <a:cubicBezTo>
                        <a:pt x="22028" y="0"/>
                        <a:pt x="22626" y="24"/>
                        <a:pt x="23221" y="74"/>
                      </a:cubicBezTo>
                    </a:path>
                    <a:path stroke="0" w="23222" h="21600">
                      <a:moveTo>
                        <a:pt x="0" y="18900"/>
                      </a:moveTo>
                      <a:cubicBezTo>
                        <a:pt x="1361" y="8100"/>
                        <a:pt x="10545" y="-1"/>
                        <a:pt x="21431" y="0"/>
                      </a:cubicBezTo>
                      <a:cubicBezTo>
                        <a:pt x="22028" y="0"/>
                        <a:pt x="22626" y="24"/>
                        <a:pt x="23221" y="74"/>
                      </a:cubicBezTo>
                      <a:lnTo>
                        <a:pt x="21431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33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i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" name="Group 13"/>
              <p:cNvGrpSpPr/>
              <p:nvPr/>
            </p:nvGrpSpPr>
            <p:grpSpPr>
              <a:xfrm>
                <a:off x="4572000" y="1660680"/>
                <a:ext cx="3581280" cy="2073240"/>
                <a:chOff x="4572000" y="1660680"/>
                <a:chExt cx="3581280" cy="2073240"/>
              </a:xfrm>
            </p:grpSpPr>
            <p:sp>
              <p:nvSpPr>
                <p:cNvPr id="411" name="Line 14"/>
                <p:cNvSpPr/>
                <p:nvPr/>
              </p:nvSpPr>
              <p:spPr>
                <a:xfrm>
                  <a:off x="4572000" y="2697120"/>
                  <a:ext cx="3581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Line 15"/>
                <p:cNvSpPr/>
                <p:nvPr/>
              </p:nvSpPr>
              <p:spPr>
                <a:xfrm>
                  <a:off x="4572000" y="1660680"/>
                  <a:ext cx="0" cy="207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3" name="Group 16"/>
              <p:cNvGrpSpPr/>
              <p:nvPr/>
            </p:nvGrpSpPr>
            <p:grpSpPr>
              <a:xfrm>
                <a:off x="4571640" y="1295280"/>
                <a:ext cx="1020960" cy="1495440"/>
                <a:chOff x="4571640" y="1295280"/>
                <a:chExt cx="1020960" cy="1495440"/>
              </a:xfrm>
            </p:grpSpPr>
            <p:sp>
              <p:nvSpPr>
                <p:cNvPr id="414" name="Text Box 17"/>
                <p:cNvSpPr/>
                <p:nvPr/>
              </p:nvSpPr>
              <p:spPr>
                <a:xfrm>
                  <a:off x="5293080" y="1295280"/>
                  <a:ext cx="299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cc0000"/>
                      </a:solidFill>
                      <a:latin typeface="Times New Roman"/>
                    </a:rPr>
                    <a:t>I</a:t>
                  </a:r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Arc 18"/>
                <p:cNvSpPr/>
                <p:nvPr/>
              </p:nvSpPr>
              <p:spPr>
                <a:xfrm flipH="1">
                  <a:off x="4571280" y="1738080"/>
                  <a:ext cx="871560" cy="1052640"/>
                </a:xfrm>
                <a:custGeom>
                  <a:avLst/>
                  <a:gdLst>
                    <a:gd name="textAreaLeft" fmla="*/ -360 w 871560"/>
                    <a:gd name="textAreaRight" fmla="*/ 871560 w 871560"/>
                    <a:gd name="textAreaTop" fmla="*/ 0 h 1052640"/>
                    <a:gd name="textAreaBottom" fmla="*/ 1053000 h 1052640"/>
                  </a:gdLst>
                  <a:ahLst/>
                  <a:rect l="textAreaLeft" t="textAreaTop" r="textAreaRight" b="textAreaBottom"/>
                  <a:pathLst>
                    <a:path fill="none" w="22586" h="21600">
                      <a:moveTo>
                        <a:pt x="0" y="28"/>
                      </a:moveTo>
                      <a:cubicBezTo>
                        <a:pt x="368" y="9"/>
                        <a:pt x="737" y="-1"/>
                        <a:pt x="1107" y="0"/>
                      </a:cubicBezTo>
                      <a:cubicBezTo>
                        <a:pt x="12152" y="0"/>
                        <a:pt x="21419" y="8333"/>
                        <a:pt x="22586" y="19317"/>
                      </a:cubicBezTo>
                    </a:path>
                    <a:path stroke="0" w="22586" h="21600">
                      <a:moveTo>
                        <a:pt x="0" y="28"/>
                      </a:moveTo>
                      <a:cubicBezTo>
                        <a:pt x="368" y="9"/>
                        <a:pt x="737" y="-1"/>
                        <a:pt x="1107" y="0"/>
                      </a:cubicBezTo>
                      <a:cubicBezTo>
                        <a:pt x="12152" y="0"/>
                        <a:pt x="21419" y="8333"/>
                        <a:pt x="22586" y="19317"/>
                      </a:cubicBezTo>
                      <a:lnTo>
                        <a:pt x="1107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i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16" name="Arc 44"/>
            <p:cNvSpPr/>
            <p:nvPr/>
          </p:nvSpPr>
          <p:spPr>
            <a:xfrm flipH="1" flipV="1">
              <a:off x="5479920" y="2568600"/>
              <a:ext cx="920880" cy="1052640"/>
            </a:xfrm>
            <a:custGeom>
              <a:avLst/>
              <a:gdLst>
                <a:gd name="textAreaLeft" fmla="*/ 360 w 920880"/>
                <a:gd name="textAreaRight" fmla="*/ 921600 w 920880"/>
                <a:gd name="textAreaTop" fmla="*/ 360 h 1052640"/>
                <a:gd name="textAreaBottom" fmla="*/ 1053360 h 1052640"/>
              </a:gdLst>
              <a:ahLst/>
              <a:rect l="textAreaLeft" t="textAreaTop" r="textAreaRight" b="textAreaBottom"/>
              <a:pathLst>
                <a:path fill="none" w="23790" h="21600">
                  <a:moveTo>
                    <a:pt x="-1" y="123"/>
                  </a:moveTo>
                  <a:cubicBezTo>
                    <a:pt x="767" y="41"/>
                    <a:pt x="1539" y="-1"/>
                    <a:pt x="2311" y="0"/>
                  </a:cubicBezTo>
                  <a:cubicBezTo>
                    <a:pt x="13356" y="0"/>
                    <a:pt x="22623" y="8333"/>
                    <a:pt x="23790" y="19317"/>
                  </a:cubicBezTo>
                </a:path>
                <a:path stroke="0" w="23790" h="21600">
                  <a:moveTo>
                    <a:pt x="-1" y="123"/>
                  </a:moveTo>
                  <a:cubicBezTo>
                    <a:pt x="767" y="41"/>
                    <a:pt x="1539" y="-1"/>
                    <a:pt x="2311" y="0"/>
                  </a:cubicBezTo>
                  <a:cubicBezTo>
                    <a:pt x="13356" y="0"/>
                    <a:pt x="22623" y="8333"/>
                    <a:pt x="23790" y="19317"/>
                  </a:cubicBezTo>
                  <a:lnTo>
                    <a:pt x="2311" y="21600"/>
                  </a:lnTo>
                  <a:close/>
                </a:path>
              </a:pathLst>
            </a:custGeom>
            <a:noFill/>
            <a:ln w="9360">
              <a:solidFill>
                <a:srgbClr val="33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Arc 45"/>
            <p:cNvSpPr/>
            <p:nvPr/>
          </p:nvSpPr>
          <p:spPr>
            <a:xfrm flipH="1">
              <a:off x="5428440" y="1752480"/>
              <a:ext cx="895320" cy="1052640"/>
            </a:xfrm>
            <a:custGeom>
              <a:avLst/>
              <a:gdLst>
                <a:gd name="textAreaLeft" fmla="*/ -360 w 895320"/>
                <a:gd name="textAreaRight" fmla="*/ 895320 w 895320"/>
                <a:gd name="textAreaTop" fmla="*/ 0 h 1052640"/>
                <a:gd name="textAreaBottom" fmla="*/ 1053000 h 1052640"/>
              </a:gdLst>
              <a:ahLst/>
              <a:rect l="textAreaLeft" t="textAreaTop" r="textAreaRight" b="textAreaBottom"/>
              <a:pathLst>
                <a:path fill="none" w="23222" h="21600">
                  <a:moveTo>
                    <a:pt x="0" y="18900"/>
                  </a:moveTo>
                  <a:cubicBezTo>
                    <a:pt x="1361" y="8100"/>
                    <a:pt x="10545" y="-1"/>
                    <a:pt x="21431" y="0"/>
                  </a:cubicBezTo>
                  <a:cubicBezTo>
                    <a:pt x="22028" y="0"/>
                    <a:pt x="22626" y="24"/>
                    <a:pt x="23221" y="74"/>
                  </a:cubicBezTo>
                </a:path>
                <a:path stroke="0" w="23222" h="21600">
                  <a:moveTo>
                    <a:pt x="0" y="18900"/>
                  </a:moveTo>
                  <a:cubicBezTo>
                    <a:pt x="1361" y="8100"/>
                    <a:pt x="10545" y="-1"/>
                    <a:pt x="21431" y="0"/>
                  </a:cubicBezTo>
                  <a:cubicBezTo>
                    <a:pt x="22028" y="0"/>
                    <a:pt x="22626" y="24"/>
                    <a:pt x="23221" y="74"/>
                  </a:cubicBezTo>
                  <a:lnTo>
                    <a:pt x="21431" y="21600"/>
                  </a:lnTo>
                  <a:close/>
                </a:path>
              </a:pathLst>
            </a:custGeom>
            <a:noFill/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8" name="Arc 47"/>
          <p:cNvSpPr/>
          <p:nvPr/>
        </p:nvSpPr>
        <p:spPr>
          <a:xfrm flipH="1" flipV="1">
            <a:off x="6324480" y="2606040"/>
            <a:ext cx="828720" cy="1050840"/>
          </a:xfrm>
          <a:custGeom>
            <a:avLst/>
            <a:gdLst>
              <a:gd name="textAreaLeft" fmla="*/ 360 w 828720"/>
              <a:gd name="textAreaRight" fmla="*/ 829440 w 828720"/>
              <a:gd name="textAreaTop" fmla="*/ 0 h 1050840"/>
              <a:gd name="textAreaBottom" fmla="*/ 1050840 h 1050840"/>
            </a:gdLst>
            <a:ahLst/>
            <a:rect l="textAreaLeft" t="textAreaTop" r="textAreaRight" b="textAreaBottom"/>
            <a:pathLst>
              <a:path fill="none" w="21479" h="21522">
                <a:moveTo>
                  <a:pt x="1837" y="0"/>
                </a:moveTo>
                <a:cubicBezTo>
                  <a:pt x="12148" y="880"/>
                  <a:pt x="20385" y="8949"/>
                  <a:pt x="21479" y="19239"/>
                </a:cubicBezTo>
              </a:path>
              <a:path stroke="0" w="21479" h="21522">
                <a:moveTo>
                  <a:pt x="1837" y="0"/>
                </a:moveTo>
                <a:cubicBezTo>
                  <a:pt x="12148" y="880"/>
                  <a:pt x="20385" y="8949"/>
                  <a:pt x="21479" y="19239"/>
                </a:cubicBezTo>
                <a:lnTo>
                  <a:pt x="0" y="21522"/>
                </a:lnTo>
                <a:close/>
              </a:path>
            </a:pathLst>
          </a:custGeom>
          <a:noFill/>
          <a:ln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Arc 48"/>
          <p:cNvSpPr/>
          <p:nvPr/>
        </p:nvSpPr>
        <p:spPr>
          <a:xfrm flipH="1" flipV="1">
            <a:off x="6266880" y="2568600"/>
            <a:ext cx="895320" cy="1052640"/>
          </a:xfrm>
          <a:custGeom>
            <a:avLst/>
            <a:gdLst>
              <a:gd name="textAreaLeft" fmla="*/ -360 w 895320"/>
              <a:gd name="textAreaRight" fmla="*/ 895320 w 895320"/>
              <a:gd name="textAreaTop" fmla="*/ 360 h 1052640"/>
              <a:gd name="textAreaBottom" fmla="*/ 1053360 h 1052640"/>
            </a:gdLst>
            <a:ahLst/>
            <a:rect l="textAreaLeft" t="textAreaTop" r="textAreaRight" b="textAreaBottom"/>
            <a:pathLst>
              <a:path fill="none" w="23222" h="21600">
                <a:moveTo>
                  <a:pt x="0" y="18900"/>
                </a:moveTo>
                <a:cubicBezTo>
                  <a:pt x="1361" y="8100"/>
                  <a:pt x="10545" y="-1"/>
                  <a:pt x="21431" y="0"/>
                </a:cubicBezTo>
                <a:cubicBezTo>
                  <a:pt x="22028" y="0"/>
                  <a:pt x="22626" y="24"/>
                  <a:pt x="23221" y="74"/>
                </a:cubicBezTo>
              </a:path>
              <a:path stroke="0" w="23222" h="21600">
                <a:moveTo>
                  <a:pt x="0" y="18900"/>
                </a:moveTo>
                <a:cubicBezTo>
                  <a:pt x="1361" y="8100"/>
                  <a:pt x="10545" y="-1"/>
                  <a:pt x="21431" y="0"/>
                </a:cubicBezTo>
                <a:cubicBezTo>
                  <a:pt x="22028" y="0"/>
                  <a:pt x="22626" y="24"/>
                  <a:pt x="23221" y="74"/>
                </a:cubicBezTo>
                <a:lnTo>
                  <a:pt x="21431" y="21600"/>
                </a:lnTo>
                <a:close/>
              </a:path>
            </a:pathLst>
          </a:custGeom>
          <a:noFill/>
          <a:ln w="38160">
            <a:solidFill>
              <a:srgbClr val="33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49"/>
          <p:cNvSpPr/>
          <p:nvPr/>
        </p:nvSpPr>
        <p:spPr>
          <a:xfrm>
            <a:off x="403560" y="4266000"/>
            <a:ext cx="430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During the third quarter-cycle,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50"/>
          <p:cNvSpPr/>
          <p:nvPr/>
        </p:nvSpPr>
        <p:spPr>
          <a:xfrm>
            <a:off x="4278240" y="426600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the source provides the energy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51"/>
          <p:cNvSpPr/>
          <p:nvPr/>
        </p:nvSpPr>
        <p:spPr>
          <a:xfrm>
            <a:off x="424800" y="4799520"/>
            <a:ext cx="61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needed to create the inductor’s flux and cemf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52"/>
          <p:cNvSpPr/>
          <p:nvPr/>
        </p:nvSpPr>
        <p:spPr>
          <a:xfrm>
            <a:off x="400320" y="5409000"/>
            <a:ext cx="654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Notice that the voltage has not changed polarity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53"/>
          <p:cNvSpPr/>
          <p:nvPr/>
        </p:nvSpPr>
        <p:spPr>
          <a:xfrm>
            <a:off x="376920" y="5942520"/>
            <a:ext cx="80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It is now decreasing while the reversed current is increasing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55"/>
          <p:cNvSpPr/>
          <p:nvPr/>
        </p:nvSpPr>
        <p:spPr>
          <a:xfrm>
            <a:off x="2590200" y="914400"/>
            <a:ext cx="27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Third quarter-cycle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Group 56"/>
          <p:cNvGrpSpPr/>
          <p:nvPr/>
        </p:nvGrpSpPr>
        <p:grpSpPr>
          <a:xfrm>
            <a:off x="1905120" y="1765440"/>
            <a:ext cx="756720" cy="1802880"/>
            <a:chOff x="1905120" y="1765440"/>
            <a:chExt cx="756720" cy="1802880"/>
          </a:xfrm>
        </p:grpSpPr>
        <p:sp>
          <p:nvSpPr>
            <p:cNvPr id="427" name="Line 57"/>
            <p:cNvSpPr/>
            <p:nvPr/>
          </p:nvSpPr>
          <p:spPr>
            <a:xfrm flipH="1">
              <a:off x="1905120" y="3568320"/>
              <a:ext cx="756720" cy="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58"/>
            <p:cNvSpPr/>
            <p:nvPr/>
          </p:nvSpPr>
          <p:spPr>
            <a:xfrm>
              <a:off x="1905120" y="1765440"/>
              <a:ext cx="756720" cy="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Slide Number Placeholder 57"/>
          <p:cNvSpPr/>
          <p:nvPr/>
        </p:nvSpPr>
        <p:spPr>
          <a:xfrm>
            <a:off x="-152280" y="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 - </a:t>
            </a:r>
            <a:fld id="{D308F27B-0C12-42FE-9921-F5446F539E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000"/>
                            </p:stCondLst>
                            <p:childTnLst>
                              <p:par>
                                <p:cTn id="4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500"/>
                            </p:stCondLst>
                            <p:childTnLst>
                              <p:par>
                                <p:cTn id="5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000"/>
                            </p:stCondLst>
                            <p:childTnLst>
                              <p:par>
                                <p:cTn id="5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500"/>
                            </p:stCondLst>
                            <p:childTnLst>
                              <p:par>
                                <p:cTn id="5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64"/>
          <p:cNvGrpSpPr/>
          <p:nvPr/>
        </p:nvGrpSpPr>
        <p:grpSpPr>
          <a:xfrm>
            <a:off x="2896920" y="1904040"/>
            <a:ext cx="429120" cy="1449360"/>
            <a:chOff x="2896920" y="1904040"/>
            <a:chExt cx="429120" cy="1449360"/>
          </a:xfrm>
        </p:grpSpPr>
        <p:sp>
          <p:nvSpPr>
            <p:cNvPr id="431" name="Text Box 3"/>
            <p:cNvSpPr/>
            <p:nvPr/>
          </p:nvSpPr>
          <p:spPr>
            <a:xfrm>
              <a:off x="2973600" y="271080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Text Box 4"/>
            <p:cNvSpPr/>
            <p:nvPr/>
          </p:nvSpPr>
          <p:spPr>
            <a:xfrm>
              <a:off x="2896920" y="1904040"/>
              <a:ext cx="42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</a:rPr>
                <a:t>+</a:t>
              </a:r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Group 5"/>
          <p:cNvGrpSpPr/>
          <p:nvPr/>
        </p:nvGrpSpPr>
        <p:grpSpPr>
          <a:xfrm>
            <a:off x="788760" y="1675080"/>
            <a:ext cx="429120" cy="1906920"/>
            <a:chOff x="788760" y="1675080"/>
            <a:chExt cx="429120" cy="1906920"/>
          </a:xfrm>
        </p:grpSpPr>
        <p:sp>
          <p:nvSpPr>
            <p:cNvPr id="434" name="Text Box 6"/>
            <p:cNvSpPr/>
            <p:nvPr/>
          </p:nvSpPr>
          <p:spPr>
            <a:xfrm>
              <a:off x="884520" y="293940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Text Box 7"/>
            <p:cNvSpPr/>
            <p:nvPr/>
          </p:nvSpPr>
          <p:spPr>
            <a:xfrm>
              <a:off x="788760" y="1675080"/>
              <a:ext cx="42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</a:rPr>
                <a:t>+</a:t>
              </a:r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" name="Text Box 8"/>
          <p:cNvSpPr/>
          <p:nvPr/>
        </p:nvSpPr>
        <p:spPr>
          <a:xfrm>
            <a:off x="104040" y="135720"/>
            <a:ext cx="891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Energy Transfer In An Inductor Circuit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Group 9"/>
          <p:cNvGrpSpPr/>
          <p:nvPr/>
        </p:nvGrpSpPr>
        <p:grpSpPr>
          <a:xfrm>
            <a:off x="685800" y="1523520"/>
            <a:ext cx="2473560" cy="2286720"/>
            <a:chOff x="685800" y="1523520"/>
            <a:chExt cx="2473560" cy="2286720"/>
          </a:xfrm>
        </p:grpSpPr>
        <p:sp>
          <p:nvSpPr>
            <p:cNvPr id="438" name="Line 10"/>
            <p:cNvSpPr/>
            <p:nvPr/>
          </p:nvSpPr>
          <p:spPr>
            <a:xfrm>
              <a:off x="1295280" y="152388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39" name="AutoShape 11"/>
            <p:cNvCxnSpPr/>
            <p:nvPr/>
          </p:nvCxnSpPr>
          <p:spPr>
            <a:xfrm>
              <a:off x="1294920" y="1523520"/>
              <a:ext cx="1639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440" name="Group 12"/>
            <p:cNvGrpSpPr/>
            <p:nvPr/>
          </p:nvGrpSpPr>
          <p:grpSpPr>
            <a:xfrm>
              <a:off x="685800" y="2004840"/>
              <a:ext cx="1261800" cy="1203120"/>
              <a:chOff x="685800" y="2004840"/>
              <a:chExt cx="1261800" cy="1203120"/>
            </a:xfrm>
          </p:grpSpPr>
          <p:sp>
            <p:nvSpPr>
              <p:cNvPr id="441" name="Oval 13"/>
              <p:cNvSpPr/>
              <p:nvPr/>
            </p:nvSpPr>
            <p:spPr>
              <a:xfrm>
                <a:off x="685800" y="2004840"/>
                <a:ext cx="1261800" cy="1203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2" name="Group 14"/>
              <p:cNvGrpSpPr/>
              <p:nvPr/>
            </p:nvGrpSpPr>
            <p:grpSpPr>
              <a:xfrm>
                <a:off x="937440" y="2245680"/>
                <a:ext cx="757080" cy="721800"/>
                <a:chOff x="937440" y="2245680"/>
                <a:chExt cx="757080" cy="721800"/>
              </a:xfrm>
            </p:grpSpPr>
            <p:sp>
              <p:nvSpPr>
                <p:cNvPr id="443" name="Arc 15"/>
                <p:cNvSpPr/>
                <p:nvPr/>
              </p:nvSpPr>
              <p:spPr>
                <a:xfrm flipH="1">
                  <a:off x="937080" y="2245680"/>
                  <a:ext cx="377640" cy="404640"/>
                </a:xfrm>
                <a:custGeom>
                  <a:avLst/>
                  <a:gdLst>
                    <a:gd name="textAreaLeft" fmla="*/ -360 w 377640"/>
                    <a:gd name="textAreaRight" fmla="*/ 377640 w 377640"/>
                    <a:gd name="textAreaTop" fmla="*/ 0 h 404640"/>
                    <a:gd name="textAreaBottom" fmla="*/ 405000 h 404640"/>
                  </a:gdLst>
                  <a:ahLst/>
                  <a:rect l="textAreaLeft" t="textAreaTop" r="textAreaRight" b="textAreaBottom"/>
                  <a:pathLst>
                    <a:path fill="none" w="42910" h="21600">
                      <a:moveTo>
                        <a:pt x="0" y="18900"/>
                      </a:moveTo>
                      <a:cubicBezTo>
                        <a:pt x="1361" y="8100"/>
                        <a:pt x="10545" y="-1"/>
                        <a:pt x="21431" y="0"/>
                      </a:cubicBezTo>
                      <a:cubicBezTo>
                        <a:pt x="32476" y="0"/>
                        <a:pt x="41743" y="8333"/>
                        <a:pt x="42910" y="19317"/>
                      </a:cubicBezTo>
                    </a:path>
                    <a:path stroke="0" w="42910" h="21600">
                      <a:moveTo>
                        <a:pt x="0" y="18900"/>
                      </a:moveTo>
                      <a:cubicBezTo>
                        <a:pt x="1361" y="8100"/>
                        <a:pt x="10545" y="-1"/>
                        <a:pt x="21431" y="0"/>
                      </a:cubicBezTo>
                      <a:cubicBezTo>
                        <a:pt x="32476" y="0"/>
                        <a:pt x="41743" y="8333"/>
                        <a:pt x="42910" y="19317"/>
                      </a:cubicBezTo>
                      <a:lnTo>
                        <a:pt x="21431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i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Arc 16"/>
                <p:cNvSpPr/>
                <p:nvPr/>
              </p:nvSpPr>
              <p:spPr>
                <a:xfrm flipH="1" flipV="1">
                  <a:off x="1316520" y="2562840"/>
                  <a:ext cx="377640" cy="404640"/>
                </a:xfrm>
                <a:custGeom>
                  <a:avLst/>
                  <a:gdLst>
                    <a:gd name="textAreaLeft" fmla="*/ -360 w 377640"/>
                    <a:gd name="textAreaRight" fmla="*/ 377640 w 377640"/>
                    <a:gd name="textAreaTop" fmla="*/ 360 h 404640"/>
                    <a:gd name="textAreaBottom" fmla="*/ 405360 h 404640"/>
                  </a:gdLst>
                  <a:ahLst/>
                  <a:rect l="textAreaLeft" t="textAreaTop" r="textAreaRight" b="textAreaBottom"/>
                  <a:pathLst>
                    <a:path fill="none" w="42910" h="21600">
                      <a:moveTo>
                        <a:pt x="0" y="18900"/>
                      </a:moveTo>
                      <a:cubicBezTo>
                        <a:pt x="1361" y="8100"/>
                        <a:pt x="10545" y="-1"/>
                        <a:pt x="21431" y="0"/>
                      </a:cubicBezTo>
                      <a:cubicBezTo>
                        <a:pt x="32476" y="0"/>
                        <a:pt x="41743" y="8333"/>
                        <a:pt x="42910" y="19317"/>
                      </a:cubicBezTo>
                    </a:path>
                    <a:path stroke="0" w="42910" h="21600">
                      <a:moveTo>
                        <a:pt x="0" y="18900"/>
                      </a:moveTo>
                      <a:cubicBezTo>
                        <a:pt x="1361" y="8100"/>
                        <a:pt x="10545" y="-1"/>
                        <a:pt x="21431" y="0"/>
                      </a:cubicBezTo>
                      <a:cubicBezTo>
                        <a:pt x="32476" y="0"/>
                        <a:pt x="41743" y="8333"/>
                        <a:pt x="42910" y="19317"/>
                      </a:cubicBezTo>
                      <a:lnTo>
                        <a:pt x="21431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i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45" name="Group 17"/>
            <p:cNvGrpSpPr/>
            <p:nvPr/>
          </p:nvGrpSpPr>
          <p:grpSpPr>
            <a:xfrm>
              <a:off x="1905120" y="1752480"/>
              <a:ext cx="756720" cy="1803240"/>
              <a:chOff x="1905120" y="1752480"/>
              <a:chExt cx="756720" cy="1803240"/>
            </a:xfrm>
          </p:grpSpPr>
          <p:sp>
            <p:nvSpPr>
              <p:cNvPr id="446" name="Line 18"/>
              <p:cNvSpPr/>
              <p:nvPr/>
            </p:nvSpPr>
            <p:spPr>
              <a:xfrm flipH="1">
                <a:off x="1905120" y="1752480"/>
                <a:ext cx="756720" cy="0"/>
              </a:xfrm>
              <a:prstGeom prst="line">
                <a:avLst/>
              </a:prstGeom>
              <a:ln w="936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Line 19"/>
              <p:cNvSpPr/>
              <p:nvPr/>
            </p:nvSpPr>
            <p:spPr>
              <a:xfrm>
                <a:off x="1905120" y="3555720"/>
                <a:ext cx="756720" cy="0"/>
              </a:xfrm>
              <a:prstGeom prst="line">
                <a:avLst/>
              </a:prstGeom>
              <a:ln w="936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8" name="Group 20"/>
            <p:cNvGrpSpPr/>
            <p:nvPr/>
          </p:nvGrpSpPr>
          <p:grpSpPr>
            <a:xfrm>
              <a:off x="1905120" y="1752480"/>
              <a:ext cx="756720" cy="1803240"/>
              <a:chOff x="1905120" y="1752480"/>
              <a:chExt cx="756720" cy="1803240"/>
            </a:xfrm>
          </p:grpSpPr>
          <p:sp>
            <p:nvSpPr>
              <p:cNvPr id="449" name="Line 21"/>
              <p:cNvSpPr/>
              <p:nvPr/>
            </p:nvSpPr>
            <p:spPr>
              <a:xfrm flipH="1">
                <a:off x="1905120" y="1752480"/>
                <a:ext cx="756720" cy="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Line 22"/>
              <p:cNvSpPr/>
              <p:nvPr/>
            </p:nvSpPr>
            <p:spPr>
              <a:xfrm>
                <a:off x="1905120" y="3555720"/>
                <a:ext cx="756720" cy="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451" name="AutoShape 23"/>
            <p:cNvCxnSpPr/>
            <p:nvPr/>
          </p:nvCxnSpPr>
          <p:spPr>
            <a:xfrm>
              <a:off x="1294920" y="3809520"/>
              <a:ext cx="1639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452" name="Group 24"/>
            <p:cNvGrpSpPr/>
            <p:nvPr/>
          </p:nvGrpSpPr>
          <p:grpSpPr>
            <a:xfrm>
              <a:off x="2855520" y="1523880"/>
              <a:ext cx="303840" cy="2286000"/>
              <a:chOff x="2855520" y="1523880"/>
              <a:chExt cx="303840" cy="2286000"/>
            </a:xfrm>
          </p:grpSpPr>
          <p:grpSp>
            <p:nvGrpSpPr>
              <p:cNvPr id="453" name="Group 25"/>
              <p:cNvGrpSpPr/>
              <p:nvPr/>
            </p:nvGrpSpPr>
            <p:grpSpPr>
              <a:xfrm>
                <a:off x="2855520" y="2194200"/>
                <a:ext cx="303840" cy="852840"/>
                <a:chOff x="2855520" y="2194200"/>
                <a:chExt cx="303840" cy="852840"/>
              </a:xfrm>
            </p:grpSpPr>
            <p:sp>
              <p:nvSpPr>
                <p:cNvPr id="454" name="Arc 26"/>
                <p:cNvSpPr/>
                <p:nvPr/>
              </p:nvSpPr>
              <p:spPr>
                <a:xfrm rot="18375000">
                  <a:off x="2904480" y="2567520"/>
                  <a:ext cx="211320" cy="212760"/>
                </a:xfrm>
                <a:custGeom>
                  <a:avLst/>
                  <a:gdLst>
                    <a:gd name="textAreaLeft" fmla="*/ 0 w 211320"/>
                    <a:gd name="textAreaRight" fmla="*/ 211680 w 211320"/>
                    <a:gd name="textAreaTop" fmla="*/ 0 h 212760"/>
                    <a:gd name="textAreaBottom" fmla="*/ 213120 h 212760"/>
                  </a:gdLst>
                  <a:ahLst/>
                  <a:rect l="textAreaLeft" t="textAreaTop" r="textAreaRight" b="textAreaBottom"/>
                  <a:pathLst>
                    <a:path fill="none" w="43200" h="43200">
                      <a:moveTo>
                        <a:pt x="20289" y="39"/>
                      </a:moveTo>
                      <a:cubicBezTo>
                        <a:pt x="20726" y="13"/>
                        <a:pt x="21163" y="-1"/>
                        <a:pt x="21600" y="0"/>
                      </a:cubicBezTo>
                      <a:cubicBezTo>
                        <a:pt x="33529" y="0"/>
                        <a:pt x="43200" y="9670"/>
                        <a:pt x="43200" y="21600"/>
                      </a:cubicBezTo>
                      <a:cubicBezTo>
                        <a:pt x="43200" y="33529"/>
                        <a:pt x="33529" y="43200"/>
                        <a:pt x="21600" y="43200"/>
                      </a:cubicBez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18915"/>
                        <a:pt x="500" y="16255"/>
                        <a:pt x="1475" y="13754"/>
                      </a:cubicBezTo>
                    </a:path>
                    <a:path stroke="0" w="43200" h="43200">
                      <a:moveTo>
                        <a:pt x="20289" y="39"/>
                      </a:moveTo>
                      <a:cubicBezTo>
                        <a:pt x="20726" y="13"/>
                        <a:pt x="21163" y="-1"/>
                        <a:pt x="21600" y="0"/>
                      </a:cubicBezTo>
                      <a:cubicBezTo>
                        <a:pt x="33529" y="0"/>
                        <a:pt x="43200" y="9670"/>
                        <a:pt x="43200" y="21600"/>
                      </a:cubicBezTo>
                      <a:cubicBezTo>
                        <a:pt x="43200" y="33529"/>
                        <a:pt x="33529" y="43200"/>
                        <a:pt x="21600" y="43200"/>
                      </a:cubicBez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18915"/>
                        <a:pt x="500" y="16255"/>
                        <a:pt x="1475" y="13754"/>
                      </a:cubicBezTo>
                      <a:lnTo>
                        <a:pt x="2160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i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Arc 27"/>
                <p:cNvSpPr/>
                <p:nvPr/>
              </p:nvSpPr>
              <p:spPr>
                <a:xfrm rot="18375000">
                  <a:off x="2905200" y="2688120"/>
                  <a:ext cx="211320" cy="212760"/>
                </a:xfrm>
                <a:custGeom>
                  <a:avLst/>
                  <a:gdLst>
                    <a:gd name="textAreaLeft" fmla="*/ 0 w 211320"/>
                    <a:gd name="textAreaRight" fmla="*/ 211680 w 211320"/>
                    <a:gd name="textAreaTop" fmla="*/ 0 h 212760"/>
                    <a:gd name="textAreaBottom" fmla="*/ 213120 h 212760"/>
                  </a:gdLst>
                  <a:ahLst/>
                  <a:rect l="textAreaLeft" t="textAreaTop" r="textAreaRight" b="textAreaBottom"/>
                  <a:pathLst>
                    <a:path fill="none" w="43200" h="43200">
                      <a:moveTo>
                        <a:pt x="21637" y="0"/>
                      </a:moveTo>
                      <a:cubicBezTo>
                        <a:pt x="33552" y="20"/>
                        <a:pt x="43200" y="9685"/>
                        <a:pt x="43200" y="21600"/>
                      </a:cubicBezTo>
                      <a:cubicBezTo>
                        <a:pt x="43200" y="33529"/>
                        <a:pt x="33529" y="43200"/>
                        <a:pt x="21600" y="43200"/>
                      </a:cubicBez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19451"/>
                        <a:pt x="320" y="17315"/>
                        <a:pt x="950" y="15261"/>
                      </a:cubicBezTo>
                    </a:path>
                    <a:path stroke="0" w="43200" h="43200">
                      <a:moveTo>
                        <a:pt x="21637" y="0"/>
                      </a:moveTo>
                      <a:cubicBezTo>
                        <a:pt x="33552" y="20"/>
                        <a:pt x="43200" y="9685"/>
                        <a:pt x="43200" y="21600"/>
                      </a:cubicBezTo>
                      <a:cubicBezTo>
                        <a:pt x="43200" y="33529"/>
                        <a:pt x="33529" y="43200"/>
                        <a:pt x="21600" y="43200"/>
                      </a:cubicBez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19451"/>
                        <a:pt x="320" y="17315"/>
                        <a:pt x="950" y="15261"/>
                      </a:cubicBezTo>
                      <a:lnTo>
                        <a:pt x="2160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i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Arc 28"/>
                <p:cNvSpPr/>
                <p:nvPr/>
              </p:nvSpPr>
              <p:spPr>
                <a:xfrm rot="18375000">
                  <a:off x="2902320" y="2315880"/>
                  <a:ext cx="211320" cy="212760"/>
                </a:xfrm>
                <a:custGeom>
                  <a:avLst/>
                  <a:gdLst>
                    <a:gd name="textAreaLeft" fmla="*/ 0 w 211320"/>
                    <a:gd name="textAreaRight" fmla="*/ 211680 w 211320"/>
                    <a:gd name="textAreaTop" fmla="*/ 0 h 212760"/>
                    <a:gd name="textAreaBottom" fmla="*/ 213120 h 212760"/>
                  </a:gdLst>
                  <a:ahLst/>
                  <a:rect l="textAreaLeft" t="textAreaTop" r="textAreaRight" b="textAreaBottom"/>
                  <a:pathLst>
                    <a:path fill="none" w="43200" h="43200">
                      <a:moveTo>
                        <a:pt x="21599" y="0"/>
                      </a:moveTo>
                      <a:cubicBezTo>
                        <a:pt x="33529" y="0"/>
                        <a:pt x="43200" y="9670"/>
                        <a:pt x="43200" y="21600"/>
                      </a:cubicBezTo>
                      <a:cubicBezTo>
                        <a:pt x="43200" y="33529"/>
                        <a:pt x="33529" y="43200"/>
                        <a:pt x="21600" y="43200"/>
                      </a:cubicBez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18915"/>
                        <a:pt x="500" y="16255"/>
                        <a:pt x="1475" y="13754"/>
                      </a:cubicBezTo>
                    </a:path>
                    <a:path stroke="0" w="43200" h="43200">
                      <a:moveTo>
                        <a:pt x="21599" y="0"/>
                      </a:moveTo>
                      <a:cubicBezTo>
                        <a:pt x="33529" y="0"/>
                        <a:pt x="43200" y="9670"/>
                        <a:pt x="43200" y="21600"/>
                      </a:cubicBezTo>
                      <a:cubicBezTo>
                        <a:pt x="43200" y="33529"/>
                        <a:pt x="33529" y="43200"/>
                        <a:pt x="21600" y="43200"/>
                      </a:cubicBez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18915"/>
                        <a:pt x="500" y="16255"/>
                        <a:pt x="1475" y="13754"/>
                      </a:cubicBezTo>
                      <a:lnTo>
                        <a:pt x="2160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i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Arc 29"/>
                <p:cNvSpPr/>
                <p:nvPr/>
              </p:nvSpPr>
              <p:spPr>
                <a:xfrm rot="18375000">
                  <a:off x="2898000" y="2442600"/>
                  <a:ext cx="211320" cy="212760"/>
                </a:xfrm>
                <a:custGeom>
                  <a:avLst/>
                  <a:gdLst>
                    <a:gd name="textAreaLeft" fmla="*/ 0 w 211320"/>
                    <a:gd name="textAreaRight" fmla="*/ 211680 w 211320"/>
                    <a:gd name="textAreaTop" fmla="*/ 0 h 212760"/>
                    <a:gd name="textAreaBottom" fmla="*/ 213120 h 212760"/>
                  </a:gdLst>
                  <a:ahLst/>
                  <a:rect l="textAreaLeft" t="textAreaTop" r="textAreaRight" b="textAreaBottom"/>
                  <a:pathLst>
                    <a:path fill="none" w="43200" h="43190">
                      <a:moveTo>
                        <a:pt x="22256" y="-1"/>
                      </a:moveTo>
                      <a:cubicBezTo>
                        <a:pt x="33924" y="354"/>
                        <a:pt x="43200" y="9916"/>
                        <a:pt x="43200" y="21590"/>
                      </a:cubicBezTo>
                      <a:cubicBezTo>
                        <a:pt x="43200" y="33519"/>
                        <a:pt x="33529" y="43190"/>
                        <a:pt x="21600" y="43190"/>
                      </a:cubicBezTo>
                      <a:cubicBezTo>
                        <a:pt x="9670" y="43190"/>
                        <a:pt x="0" y="33519"/>
                        <a:pt x="0" y="21590"/>
                      </a:cubicBezTo>
                      <a:cubicBezTo>
                        <a:pt x="-1" y="19718"/>
                        <a:pt x="243" y="17854"/>
                        <a:pt x="723" y="16045"/>
                      </a:cubicBezTo>
                    </a:path>
                    <a:path stroke="0" w="43200" h="43190">
                      <a:moveTo>
                        <a:pt x="22256" y="-1"/>
                      </a:moveTo>
                      <a:cubicBezTo>
                        <a:pt x="33924" y="354"/>
                        <a:pt x="43200" y="9916"/>
                        <a:pt x="43200" y="21590"/>
                      </a:cubicBezTo>
                      <a:cubicBezTo>
                        <a:pt x="43200" y="33519"/>
                        <a:pt x="33529" y="43190"/>
                        <a:pt x="21600" y="43190"/>
                      </a:cubicBezTo>
                      <a:cubicBezTo>
                        <a:pt x="9670" y="43190"/>
                        <a:pt x="0" y="33519"/>
                        <a:pt x="0" y="21590"/>
                      </a:cubicBezTo>
                      <a:cubicBezTo>
                        <a:pt x="-1" y="19718"/>
                        <a:pt x="243" y="17854"/>
                        <a:pt x="723" y="16045"/>
                      </a:cubicBezTo>
                      <a:lnTo>
                        <a:pt x="21600" y="2159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i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Line 30"/>
                <p:cNvSpPr/>
                <p:nvPr/>
              </p:nvSpPr>
              <p:spPr>
                <a:xfrm flipH="1" flipV="1">
                  <a:off x="2921040" y="2194200"/>
                  <a:ext cx="1440" cy="164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Line 31"/>
                <p:cNvSpPr/>
                <p:nvPr/>
              </p:nvSpPr>
              <p:spPr>
                <a:xfrm flipH="1">
                  <a:off x="2924280" y="2863800"/>
                  <a:ext cx="2160" cy="18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0" name="Line 32"/>
              <p:cNvSpPr/>
              <p:nvPr/>
            </p:nvSpPr>
            <p:spPr>
              <a:xfrm>
                <a:off x="2932200" y="304812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Line 33"/>
              <p:cNvSpPr/>
              <p:nvPr/>
            </p:nvSpPr>
            <p:spPr>
              <a:xfrm>
                <a:off x="2932200" y="152388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2" name="Group 34"/>
          <p:cNvGrpSpPr/>
          <p:nvPr/>
        </p:nvGrpSpPr>
        <p:grpSpPr>
          <a:xfrm>
            <a:off x="4571640" y="1295280"/>
            <a:ext cx="3581640" cy="2438640"/>
            <a:chOff x="4571640" y="1295280"/>
            <a:chExt cx="3581640" cy="2438640"/>
          </a:xfrm>
        </p:grpSpPr>
        <p:grpSp>
          <p:nvGrpSpPr>
            <p:cNvPr id="463" name="Group 35"/>
            <p:cNvGrpSpPr/>
            <p:nvPr/>
          </p:nvGrpSpPr>
          <p:grpSpPr>
            <a:xfrm>
              <a:off x="4571640" y="1295280"/>
              <a:ext cx="3581640" cy="2438640"/>
              <a:chOff x="4571640" y="1295280"/>
              <a:chExt cx="3581640" cy="2438640"/>
            </a:xfrm>
          </p:grpSpPr>
          <p:grpSp>
            <p:nvGrpSpPr>
              <p:cNvPr id="464" name="Group 36"/>
              <p:cNvGrpSpPr/>
              <p:nvPr/>
            </p:nvGrpSpPr>
            <p:grpSpPr>
              <a:xfrm>
                <a:off x="4571640" y="1295280"/>
                <a:ext cx="3581640" cy="2438640"/>
                <a:chOff x="4571640" y="1295280"/>
                <a:chExt cx="3581640" cy="2438640"/>
              </a:xfrm>
            </p:grpSpPr>
            <p:grpSp>
              <p:nvGrpSpPr>
                <p:cNvPr id="465" name="Group 37"/>
                <p:cNvGrpSpPr/>
                <p:nvPr/>
              </p:nvGrpSpPr>
              <p:grpSpPr>
                <a:xfrm>
                  <a:off x="4571640" y="1386000"/>
                  <a:ext cx="895320" cy="1433520"/>
                  <a:chOff x="4571640" y="1386000"/>
                  <a:chExt cx="895320" cy="1433520"/>
                </a:xfrm>
              </p:grpSpPr>
              <p:sp>
                <p:nvSpPr>
                  <p:cNvPr id="466" name="Text Box 38"/>
                  <p:cNvSpPr/>
                  <p:nvPr/>
                </p:nvSpPr>
                <p:spPr>
                  <a:xfrm>
                    <a:off x="4573800" y="1386000"/>
                    <a:ext cx="383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008000"/>
                        </a:solidFill>
                        <a:latin typeface="Times New Roman"/>
                      </a:rPr>
                      <a:t>V</a:t>
                    </a:r>
                    <a:endParaRPr b="1" i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Arc 39"/>
                  <p:cNvSpPr/>
                  <p:nvPr/>
                </p:nvSpPr>
                <p:spPr>
                  <a:xfrm flipH="1">
                    <a:off x="4571280" y="1766880"/>
                    <a:ext cx="895320" cy="1052640"/>
                  </a:xfrm>
                  <a:custGeom>
                    <a:avLst/>
                    <a:gdLst>
                      <a:gd name="textAreaLeft" fmla="*/ -360 w 895320"/>
                      <a:gd name="textAreaRight" fmla="*/ 895320 w 895320"/>
                      <a:gd name="textAreaTop" fmla="*/ 0 h 1052640"/>
                      <a:gd name="textAreaBottom" fmla="*/ 1053000 h 1052640"/>
                    </a:gdLst>
                    <a:ahLst/>
                    <a:rect l="textAreaLeft" t="textAreaTop" r="textAreaRight" b="textAreaBottom"/>
                    <a:pathLst>
                      <a:path fill="none" w="23222" h="21600">
                        <a:moveTo>
                          <a:pt x="0" y="18900"/>
                        </a:moveTo>
                        <a:cubicBezTo>
                          <a:pt x="1361" y="8100"/>
                          <a:pt x="10545" y="-1"/>
                          <a:pt x="21431" y="0"/>
                        </a:cubicBezTo>
                        <a:cubicBezTo>
                          <a:pt x="22028" y="0"/>
                          <a:pt x="22626" y="24"/>
                          <a:pt x="23221" y="74"/>
                        </a:cubicBezTo>
                      </a:path>
                      <a:path stroke="0" w="23222" h="21600">
                        <a:moveTo>
                          <a:pt x="0" y="18900"/>
                        </a:moveTo>
                        <a:cubicBezTo>
                          <a:pt x="1361" y="8100"/>
                          <a:pt x="10545" y="-1"/>
                          <a:pt x="21431" y="0"/>
                        </a:cubicBezTo>
                        <a:cubicBezTo>
                          <a:pt x="22028" y="0"/>
                          <a:pt x="22626" y="24"/>
                          <a:pt x="23221" y="74"/>
                        </a:cubicBezTo>
                        <a:lnTo>
                          <a:pt x="214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33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i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8" name="Group 40"/>
                <p:cNvGrpSpPr/>
                <p:nvPr/>
              </p:nvGrpSpPr>
              <p:grpSpPr>
                <a:xfrm>
                  <a:off x="4572000" y="1660680"/>
                  <a:ext cx="3581280" cy="2073240"/>
                  <a:chOff x="4572000" y="1660680"/>
                  <a:chExt cx="3581280" cy="2073240"/>
                </a:xfrm>
              </p:grpSpPr>
              <p:sp>
                <p:nvSpPr>
                  <p:cNvPr id="469" name="Line 41"/>
                  <p:cNvSpPr/>
                  <p:nvPr/>
                </p:nvSpPr>
                <p:spPr>
                  <a:xfrm>
                    <a:off x="4572000" y="2697120"/>
                    <a:ext cx="3581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i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Line 42"/>
                  <p:cNvSpPr/>
                  <p:nvPr/>
                </p:nvSpPr>
                <p:spPr>
                  <a:xfrm>
                    <a:off x="4572000" y="1660680"/>
                    <a:ext cx="0" cy="2073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i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1" name="Group 43"/>
                <p:cNvGrpSpPr/>
                <p:nvPr/>
              </p:nvGrpSpPr>
              <p:grpSpPr>
                <a:xfrm>
                  <a:off x="4571640" y="1295280"/>
                  <a:ext cx="1020960" cy="1495440"/>
                  <a:chOff x="4571640" y="1295280"/>
                  <a:chExt cx="1020960" cy="1495440"/>
                </a:xfrm>
              </p:grpSpPr>
              <p:sp>
                <p:nvSpPr>
                  <p:cNvPr id="472" name="Text Box 44"/>
                  <p:cNvSpPr/>
                  <p:nvPr/>
                </p:nvSpPr>
                <p:spPr>
                  <a:xfrm>
                    <a:off x="5293080" y="1295280"/>
                    <a:ext cx="2995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cc0000"/>
                        </a:solidFill>
                        <a:latin typeface="Times New Roman"/>
                      </a:rPr>
                      <a:t>I</a:t>
                    </a:r>
                    <a:endParaRPr b="1" i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Arc 45"/>
                  <p:cNvSpPr/>
                  <p:nvPr/>
                </p:nvSpPr>
                <p:spPr>
                  <a:xfrm flipH="1">
                    <a:off x="4571280" y="1738080"/>
                    <a:ext cx="871560" cy="1052640"/>
                  </a:xfrm>
                  <a:custGeom>
                    <a:avLst/>
                    <a:gdLst>
                      <a:gd name="textAreaLeft" fmla="*/ -360 w 871560"/>
                      <a:gd name="textAreaRight" fmla="*/ 871560 w 871560"/>
                      <a:gd name="textAreaTop" fmla="*/ 0 h 1052640"/>
                      <a:gd name="textAreaBottom" fmla="*/ 1053000 h 1052640"/>
                    </a:gdLst>
                    <a:ahLst/>
                    <a:rect l="textAreaLeft" t="textAreaTop" r="textAreaRight" b="textAreaBottom"/>
                    <a:pathLst>
                      <a:path fill="none" w="22586" h="21600">
                        <a:moveTo>
                          <a:pt x="0" y="28"/>
                        </a:moveTo>
                        <a:cubicBezTo>
                          <a:pt x="368" y="9"/>
                          <a:pt x="737" y="-1"/>
                          <a:pt x="1107" y="0"/>
                        </a:cubicBezTo>
                        <a:cubicBezTo>
                          <a:pt x="12152" y="0"/>
                          <a:pt x="21419" y="8333"/>
                          <a:pt x="22586" y="19317"/>
                        </a:cubicBezTo>
                      </a:path>
                      <a:path stroke="0" w="22586" h="21600">
                        <a:moveTo>
                          <a:pt x="0" y="28"/>
                        </a:moveTo>
                        <a:cubicBezTo>
                          <a:pt x="368" y="9"/>
                          <a:pt x="737" y="-1"/>
                          <a:pt x="1107" y="0"/>
                        </a:cubicBezTo>
                        <a:cubicBezTo>
                          <a:pt x="12152" y="0"/>
                          <a:pt x="21419" y="8333"/>
                          <a:pt x="22586" y="19317"/>
                        </a:cubicBezTo>
                        <a:lnTo>
                          <a:pt x="1107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i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74" name="Arc 46"/>
              <p:cNvSpPr/>
              <p:nvPr/>
            </p:nvSpPr>
            <p:spPr>
              <a:xfrm flipH="1" flipV="1">
                <a:off x="5479920" y="2568600"/>
                <a:ext cx="920880" cy="1052640"/>
              </a:xfrm>
              <a:custGeom>
                <a:avLst/>
                <a:gdLst>
                  <a:gd name="textAreaLeft" fmla="*/ 360 w 920880"/>
                  <a:gd name="textAreaRight" fmla="*/ 921600 w 920880"/>
                  <a:gd name="textAreaTop" fmla="*/ 360 h 1052640"/>
                  <a:gd name="textAreaBottom" fmla="*/ 1053360 h 1052640"/>
                </a:gdLst>
                <a:ahLst/>
                <a:rect l="textAreaLeft" t="textAreaTop" r="textAreaRight" b="textAreaBottom"/>
                <a:pathLst>
                  <a:path fill="none" w="23790" h="21600">
                    <a:moveTo>
                      <a:pt x="-1" y="123"/>
                    </a:moveTo>
                    <a:cubicBezTo>
                      <a:pt x="767" y="41"/>
                      <a:pt x="1539" y="-1"/>
                      <a:pt x="2311" y="0"/>
                    </a:cubicBezTo>
                    <a:cubicBezTo>
                      <a:pt x="13356" y="0"/>
                      <a:pt x="22623" y="8333"/>
                      <a:pt x="23790" y="19317"/>
                    </a:cubicBezTo>
                  </a:path>
                  <a:path stroke="0" w="23790" h="21600">
                    <a:moveTo>
                      <a:pt x="-1" y="123"/>
                    </a:moveTo>
                    <a:cubicBezTo>
                      <a:pt x="767" y="41"/>
                      <a:pt x="1539" y="-1"/>
                      <a:pt x="2311" y="0"/>
                    </a:cubicBezTo>
                    <a:cubicBezTo>
                      <a:pt x="13356" y="0"/>
                      <a:pt x="22623" y="8333"/>
                      <a:pt x="23790" y="19317"/>
                    </a:cubicBezTo>
                    <a:lnTo>
                      <a:pt x="231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33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Arc 47"/>
              <p:cNvSpPr/>
              <p:nvPr/>
            </p:nvSpPr>
            <p:spPr>
              <a:xfrm flipH="1">
                <a:off x="5428440" y="1752480"/>
                <a:ext cx="895320" cy="1052640"/>
              </a:xfrm>
              <a:custGeom>
                <a:avLst/>
                <a:gdLst>
                  <a:gd name="textAreaLeft" fmla="*/ -360 w 895320"/>
                  <a:gd name="textAreaRight" fmla="*/ 895320 w 895320"/>
                  <a:gd name="textAreaTop" fmla="*/ 0 h 1052640"/>
                  <a:gd name="textAreaBottom" fmla="*/ 1053000 h 1052640"/>
                </a:gdLst>
                <a:ahLst/>
                <a:rect l="textAreaLeft" t="textAreaTop" r="textAreaRight" b="textAreaBottom"/>
                <a:pathLst>
                  <a:path fill="none" w="23222" h="21600">
                    <a:moveTo>
                      <a:pt x="0" y="18900"/>
                    </a:moveTo>
                    <a:cubicBezTo>
                      <a:pt x="1361" y="8100"/>
                      <a:pt x="10545" y="-1"/>
                      <a:pt x="21431" y="0"/>
                    </a:cubicBezTo>
                    <a:cubicBezTo>
                      <a:pt x="22028" y="0"/>
                      <a:pt x="22626" y="24"/>
                      <a:pt x="23221" y="74"/>
                    </a:cubicBezTo>
                  </a:path>
                  <a:path stroke="0" w="23222" h="21600">
                    <a:moveTo>
                      <a:pt x="0" y="18900"/>
                    </a:moveTo>
                    <a:cubicBezTo>
                      <a:pt x="1361" y="8100"/>
                      <a:pt x="10545" y="-1"/>
                      <a:pt x="21431" y="0"/>
                    </a:cubicBezTo>
                    <a:cubicBezTo>
                      <a:pt x="22028" y="0"/>
                      <a:pt x="22626" y="24"/>
                      <a:pt x="23221" y="74"/>
                    </a:cubicBezTo>
                    <a:lnTo>
                      <a:pt x="214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6" name="Arc 48"/>
            <p:cNvSpPr/>
            <p:nvPr/>
          </p:nvSpPr>
          <p:spPr>
            <a:xfrm flipH="1" flipV="1">
              <a:off x="6324480" y="2606040"/>
              <a:ext cx="828720" cy="1050840"/>
            </a:xfrm>
            <a:custGeom>
              <a:avLst/>
              <a:gdLst>
                <a:gd name="textAreaLeft" fmla="*/ 360 w 828720"/>
                <a:gd name="textAreaRight" fmla="*/ 829440 w 828720"/>
                <a:gd name="textAreaTop" fmla="*/ 0 h 1050840"/>
                <a:gd name="textAreaBottom" fmla="*/ 1050840 h 1050840"/>
              </a:gdLst>
              <a:ahLst/>
              <a:rect l="textAreaLeft" t="textAreaTop" r="textAreaRight" b="textAreaBottom"/>
              <a:pathLst>
                <a:path fill="none" w="21479" h="21522">
                  <a:moveTo>
                    <a:pt x="1837" y="0"/>
                  </a:moveTo>
                  <a:cubicBezTo>
                    <a:pt x="12148" y="880"/>
                    <a:pt x="20385" y="8949"/>
                    <a:pt x="21479" y="19239"/>
                  </a:cubicBezTo>
                </a:path>
                <a:path stroke="0" w="21479" h="21522">
                  <a:moveTo>
                    <a:pt x="1837" y="0"/>
                  </a:moveTo>
                  <a:cubicBezTo>
                    <a:pt x="12148" y="880"/>
                    <a:pt x="20385" y="8949"/>
                    <a:pt x="21479" y="19239"/>
                  </a:cubicBezTo>
                  <a:lnTo>
                    <a:pt x="0" y="21522"/>
                  </a:lnTo>
                  <a:close/>
                </a:path>
              </a:pathLst>
            </a:custGeom>
            <a:noFill/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Arc 49"/>
            <p:cNvSpPr/>
            <p:nvPr/>
          </p:nvSpPr>
          <p:spPr>
            <a:xfrm flipH="1" flipV="1">
              <a:off x="6266880" y="2568600"/>
              <a:ext cx="895320" cy="1052640"/>
            </a:xfrm>
            <a:custGeom>
              <a:avLst/>
              <a:gdLst>
                <a:gd name="textAreaLeft" fmla="*/ -360 w 895320"/>
                <a:gd name="textAreaRight" fmla="*/ 895320 w 895320"/>
                <a:gd name="textAreaTop" fmla="*/ 360 h 1052640"/>
                <a:gd name="textAreaBottom" fmla="*/ 1053360 h 1052640"/>
              </a:gdLst>
              <a:ahLst/>
              <a:rect l="textAreaLeft" t="textAreaTop" r="textAreaRight" b="textAreaBottom"/>
              <a:pathLst>
                <a:path fill="none" w="23222" h="21600">
                  <a:moveTo>
                    <a:pt x="0" y="18900"/>
                  </a:moveTo>
                  <a:cubicBezTo>
                    <a:pt x="1361" y="8100"/>
                    <a:pt x="10545" y="-1"/>
                    <a:pt x="21431" y="0"/>
                  </a:cubicBezTo>
                  <a:cubicBezTo>
                    <a:pt x="22028" y="0"/>
                    <a:pt x="22626" y="24"/>
                    <a:pt x="23221" y="74"/>
                  </a:cubicBezTo>
                </a:path>
                <a:path stroke="0" w="23222" h="21600">
                  <a:moveTo>
                    <a:pt x="0" y="18900"/>
                  </a:moveTo>
                  <a:cubicBezTo>
                    <a:pt x="1361" y="8100"/>
                    <a:pt x="10545" y="-1"/>
                    <a:pt x="21431" y="0"/>
                  </a:cubicBezTo>
                  <a:cubicBezTo>
                    <a:pt x="22028" y="0"/>
                    <a:pt x="22626" y="24"/>
                    <a:pt x="23221" y="74"/>
                  </a:cubicBezTo>
                  <a:lnTo>
                    <a:pt x="21431" y="21600"/>
                  </a:lnTo>
                  <a:close/>
                </a:path>
              </a:pathLst>
            </a:custGeom>
            <a:noFill/>
            <a:ln w="9360">
              <a:solidFill>
                <a:srgbClr val="33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Text Box 56"/>
          <p:cNvSpPr/>
          <p:nvPr/>
        </p:nvSpPr>
        <p:spPr>
          <a:xfrm>
            <a:off x="304200" y="4418640"/>
            <a:ext cx="46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During the fourth quarter-cycle,  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57"/>
          <p:cNvSpPr/>
          <p:nvPr/>
        </p:nvSpPr>
        <p:spPr>
          <a:xfrm>
            <a:off x="568800" y="4951800"/>
            <a:ext cx="19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to the source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58"/>
          <p:cNvSpPr/>
          <p:nvPr/>
        </p:nvSpPr>
        <p:spPr>
          <a:xfrm>
            <a:off x="2438280" y="492984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Notice that the voltage has changed polarity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59"/>
          <p:cNvSpPr/>
          <p:nvPr/>
        </p:nvSpPr>
        <p:spPr>
          <a:xfrm>
            <a:off x="704160" y="5561640"/>
            <a:ext cx="74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Also notice that the current  is now decreasing while the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60"/>
          <p:cNvSpPr/>
          <p:nvPr/>
        </p:nvSpPr>
        <p:spPr>
          <a:xfrm>
            <a:off x="970200" y="6094800"/>
            <a:ext cx="28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voltage is increasing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61"/>
          <p:cNvSpPr/>
          <p:nvPr/>
        </p:nvSpPr>
        <p:spPr>
          <a:xfrm>
            <a:off x="4335480" y="4418640"/>
            <a:ext cx="480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the inductor returns its energy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Arc 62"/>
          <p:cNvSpPr/>
          <p:nvPr/>
        </p:nvSpPr>
        <p:spPr>
          <a:xfrm flipV="1">
            <a:off x="7116840" y="2590920"/>
            <a:ext cx="874800" cy="1054080"/>
          </a:xfrm>
          <a:custGeom>
            <a:avLst/>
            <a:gdLst>
              <a:gd name="textAreaLeft" fmla="*/ 0 w 874800"/>
              <a:gd name="textAreaRight" fmla="*/ 875160 w 874800"/>
              <a:gd name="textAreaTop" fmla="*/ 360 h 1054080"/>
              <a:gd name="textAreaBottom" fmla="*/ 1054800 h 1054080"/>
            </a:gdLst>
            <a:ahLst/>
            <a:rect l="textAreaLeft" t="textAreaTop" r="textAreaRight" b="textAreaBottom"/>
            <a:pathLst>
              <a:path fill="none" w="22675" h="21600">
                <a:moveTo>
                  <a:pt x="0" y="33"/>
                </a:moveTo>
                <a:cubicBezTo>
                  <a:pt x="398" y="11"/>
                  <a:pt x="797" y="-1"/>
                  <a:pt x="1196" y="0"/>
                </a:cubicBezTo>
                <a:cubicBezTo>
                  <a:pt x="12241" y="0"/>
                  <a:pt x="21508" y="8333"/>
                  <a:pt x="22675" y="19317"/>
                </a:cubicBezTo>
              </a:path>
              <a:path stroke="0" w="22675" h="21600">
                <a:moveTo>
                  <a:pt x="0" y="33"/>
                </a:moveTo>
                <a:cubicBezTo>
                  <a:pt x="398" y="11"/>
                  <a:pt x="797" y="-1"/>
                  <a:pt x="1196" y="0"/>
                </a:cubicBezTo>
                <a:cubicBezTo>
                  <a:pt x="12241" y="0"/>
                  <a:pt x="21508" y="8333"/>
                  <a:pt x="22675" y="19317"/>
                </a:cubicBezTo>
                <a:lnTo>
                  <a:pt x="1196" y="21600"/>
                </a:lnTo>
                <a:close/>
              </a:path>
            </a:pathLst>
          </a:custGeom>
          <a:noFill/>
          <a:ln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Arc 63"/>
          <p:cNvSpPr/>
          <p:nvPr/>
        </p:nvSpPr>
        <p:spPr>
          <a:xfrm flipH="1">
            <a:off x="7156440" y="1752480"/>
            <a:ext cx="920880" cy="1052640"/>
          </a:xfrm>
          <a:custGeom>
            <a:avLst/>
            <a:gdLst>
              <a:gd name="textAreaLeft" fmla="*/ 360 w 920880"/>
              <a:gd name="textAreaRight" fmla="*/ 921600 w 920880"/>
              <a:gd name="textAreaTop" fmla="*/ 0 h 1052640"/>
              <a:gd name="textAreaBottom" fmla="*/ 1053000 h 1052640"/>
            </a:gdLst>
            <a:ahLst/>
            <a:rect l="textAreaLeft" t="textAreaTop" r="textAreaRight" b="textAreaBottom"/>
            <a:pathLst>
              <a:path fill="none" w="23790" h="21600">
                <a:moveTo>
                  <a:pt x="-1" y="123"/>
                </a:moveTo>
                <a:cubicBezTo>
                  <a:pt x="767" y="41"/>
                  <a:pt x="1539" y="-1"/>
                  <a:pt x="2311" y="0"/>
                </a:cubicBezTo>
                <a:cubicBezTo>
                  <a:pt x="13356" y="0"/>
                  <a:pt x="22623" y="8333"/>
                  <a:pt x="23790" y="19317"/>
                </a:cubicBezTo>
              </a:path>
              <a:path stroke="0" w="23790" h="21600">
                <a:moveTo>
                  <a:pt x="-1" y="123"/>
                </a:moveTo>
                <a:cubicBezTo>
                  <a:pt x="767" y="41"/>
                  <a:pt x="1539" y="-1"/>
                  <a:pt x="2311" y="0"/>
                </a:cubicBezTo>
                <a:cubicBezTo>
                  <a:pt x="13356" y="0"/>
                  <a:pt x="22623" y="8333"/>
                  <a:pt x="23790" y="19317"/>
                </a:cubicBezTo>
                <a:lnTo>
                  <a:pt x="2311" y="21600"/>
                </a:lnTo>
                <a:close/>
              </a:path>
            </a:pathLst>
          </a:custGeom>
          <a:noFill/>
          <a:ln w="38160">
            <a:solidFill>
              <a:srgbClr val="33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65"/>
          <p:cNvSpPr/>
          <p:nvPr/>
        </p:nvSpPr>
        <p:spPr>
          <a:xfrm>
            <a:off x="2666160" y="9144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urth quarter-cycle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Group 66"/>
          <p:cNvGrpSpPr/>
          <p:nvPr/>
        </p:nvGrpSpPr>
        <p:grpSpPr>
          <a:xfrm>
            <a:off x="1905120" y="1765440"/>
            <a:ext cx="756720" cy="1802880"/>
            <a:chOff x="1905120" y="1765440"/>
            <a:chExt cx="756720" cy="1802880"/>
          </a:xfrm>
        </p:grpSpPr>
        <p:sp>
          <p:nvSpPr>
            <p:cNvPr id="488" name="Line 67"/>
            <p:cNvSpPr/>
            <p:nvPr/>
          </p:nvSpPr>
          <p:spPr>
            <a:xfrm flipH="1">
              <a:off x="1905120" y="3568320"/>
              <a:ext cx="756720" cy="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68"/>
            <p:cNvSpPr/>
            <p:nvPr/>
          </p:nvSpPr>
          <p:spPr>
            <a:xfrm>
              <a:off x="1905120" y="1765440"/>
              <a:ext cx="756720" cy="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0" name="Slide Number Placeholder 61"/>
          <p:cNvSpPr/>
          <p:nvPr/>
        </p:nvSpPr>
        <p:spPr>
          <a:xfrm>
            <a:off x="-152280" y="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 - </a:t>
            </a:r>
            <a:fld id="{D7F74B04-3F5D-4D90-B658-DC56E0AA14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00"/>
                            </p:stCondLst>
                            <p:childTnLst>
                              <p:par>
                                <p:cTn id="5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000"/>
                            </p:stCondLst>
                            <p:childTnLst>
                              <p:par>
                                <p:cTn id="5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500"/>
                            </p:stCondLst>
                            <p:childTnLst>
                              <p:par>
                                <p:cTn id="5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Text Box 4"/>
          <p:cNvSpPr/>
          <p:nvPr/>
        </p:nvSpPr>
        <p:spPr>
          <a:xfrm>
            <a:off x="1518840" y="142920"/>
            <a:ext cx="697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Variable Inductance </a:t>
            </a:r>
            <a:r>
              <a:rPr b="1" lang="en-US" sz="1800" spc="-1" strike="noStrike">
                <a:solidFill>
                  <a:srgbClr val="2d2db9"/>
                </a:solidFill>
                <a:latin typeface="Times New Roman"/>
              </a:rPr>
              <a:t>(Page 288) 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2" name="Object 5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867280" cy="3809880"/>
          </a:xfrm>
          <a:prstGeom prst="rect">
            <a:avLst/>
          </a:prstGeom>
          <a:ln w="0">
            <a:noFill/>
          </a:ln>
        </p:spPr>
      </p:pic>
      <p:sp>
        <p:nvSpPr>
          <p:cNvPr id="493" name="Text Box 6"/>
          <p:cNvSpPr/>
          <p:nvPr/>
        </p:nvSpPr>
        <p:spPr>
          <a:xfrm>
            <a:off x="432360" y="5045040"/>
            <a:ext cx="793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mp and the inductor are in series with an ac supply.  The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uctance does not allow enough current to light the lamp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7"/>
          <p:cNvSpPr/>
          <p:nvPr/>
        </p:nvSpPr>
        <p:spPr>
          <a:xfrm>
            <a:off x="425520" y="5883120"/>
            <a:ext cx="814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xt slide shows that removing the I laminate decrease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ductance so that the lamp operates at almost full brilliance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7A65D-15F5-4475-AE55-FF72A8B4B1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Slide Number Placeholder 61"/>
          <p:cNvSpPr/>
          <p:nvPr/>
        </p:nvSpPr>
        <p:spPr>
          <a:xfrm>
            <a:off x="-152280" y="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 - </a:t>
            </a:r>
            <a:fld id="{AB393504-380C-449E-B9D1-2DB4807983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0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500"/>
                            </p:stCondLst>
                            <p:childTnLst>
                              <p:par>
                                <p:cTn id="6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1000"/>
                            </p:stCondLst>
                            <p:childTnLst>
                              <p:par>
                                <p:cTn id="61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 Box 5"/>
          <p:cNvSpPr/>
          <p:nvPr/>
        </p:nvSpPr>
        <p:spPr>
          <a:xfrm>
            <a:off x="1271880" y="76320"/>
            <a:ext cx="59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lease wait for the image to load and display.)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6"/>
          <p:cNvSpPr/>
          <p:nvPr/>
        </p:nvSpPr>
        <p:spPr>
          <a:xfrm>
            <a:off x="2510280" y="5181480"/>
            <a:ext cx="40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play to rerun the display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Slide Number Placeholder 61"/>
          <p:cNvSpPr/>
          <p:nvPr/>
        </p:nvSpPr>
        <p:spPr>
          <a:xfrm>
            <a:off x="-152280" y="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 - </a:t>
            </a:r>
            <a:fld id="{7A38C9E5-F110-4631-BFB9-C0388E62F8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0" name="WindowsMediaPlayer1"/>
          <p:cNvGraphicFramePr/>
          <p:nvPr/>
        </p:nvGraphicFramePr>
        <p:xfrm>
          <a:off x="1981080" y="1143000"/>
          <a:ext cx="507708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WindowsMediaPlayer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143000"/>
                    <a:ext cx="50770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2"/>
          <p:cNvSpPr/>
          <p:nvPr/>
        </p:nvSpPr>
        <p:spPr>
          <a:xfrm>
            <a:off x="2138040" y="212760"/>
            <a:ext cx="487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Inductor-Action Quiz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3"/>
          <p:cNvSpPr/>
          <p:nvPr/>
        </p:nvSpPr>
        <p:spPr>
          <a:xfrm>
            <a:off x="379800" y="1219320"/>
            <a:ext cx="563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The self-induced voltage of an inductor is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called ____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4"/>
          <p:cNvSpPr/>
          <p:nvPr/>
        </p:nvSpPr>
        <p:spPr>
          <a:xfrm>
            <a:off x="378720" y="2414520"/>
            <a:ext cx="578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The cemf ____ a decreasing source voltage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5"/>
          <p:cNvSpPr/>
          <p:nvPr/>
        </p:nvSpPr>
        <p:spPr>
          <a:xfrm>
            <a:off x="379440" y="3246480"/>
            <a:ext cx="68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During the second quarter-cycle, the ____ provide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the energy in an inductor circuit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6"/>
          <p:cNvSpPr/>
          <p:nvPr/>
        </p:nvSpPr>
        <p:spPr>
          <a:xfrm>
            <a:off x="380520" y="4441680"/>
            <a:ext cx="677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Current and voltage are ____ degrees out-of-phase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in an inductor circuit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7"/>
          <p:cNvSpPr/>
          <p:nvPr/>
        </p:nvSpPr>
        <p:spPr>
          <a:xfrm>
            <a:off x="378360" y="5638680"/>
            <a:ext cx="59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Current ____ voltage in an inductive circuit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8"/>
          <p:cNvSpPr/>
          <p:nvPr/>
        </p:nvSpPr>
        <p:spPr>
          <a:xfrm>
            <a:off x="7461720" y="1219320"/>
            <a:ext cx="80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cemf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9"/>
          <p:cNvSpPr/>
          <p:nvPr/>
        </p:nvSpPr>
        <p:spPr>
          <a:xfrm>
            <a:off x="7462800" y="241452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aid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10"/>
          <p:cNvSpPr/>
          <p:nvPr/>
        </p:nvSpPr>
        <p:spPr>
          <a:xfrm>
            <a:off x="7462440" y="3246480"/>
            <a:ext cx="12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inductor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 Box 11"/>
          <p:cNvSpPr/>
          <p:nvPr/>
        </p:nvSpPr>
        <p:spPr>
          <a:xfrm>
            <a:off x="7462800" y="4441680"/>
            <a:ext cx="48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90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12"/>
          <p:cNvSpPr/>
          <p:nvPr/>
        </p:nvSpPr>
        <p:spPr>
          <a:xfrm>
            <a:off x="7462440" y="56386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lag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Slide Number Placeholder 12"/>
          <p:cNvSpPr/>
          <p:nvPr/>
        </p:nvSpPr>
        <p:spPr>
          <a:xfrm>
            <a:off x="-152280" y="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 - </a:t>
            </a:r>
            <a:fld id="{0A076E57-51A0-449F-9A2E-B92A1CCAAD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00"/>
                            </p:stCondLst>
                            <p:childTnLst>
                              <p:par>
                                <p:cTn id="6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 Box 2"/>
          <p:cNvSpPr/>
          <p:nvPr/>
        </p:nvSpPr>
        <p:spPr>
          <a:xfrm>
            <a:off x="1662480" y="76320"/>
            <a:ext cx="5450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Concept Review</a:t>
            </a: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AutoShape 3">
            <a:hlinkClick r:id="rId1" action="ppaction://hlinksldjump"/>
          </p:cNvPr>
          <p:cNvSpPr/>
          <p:nvPr/>
        </p:nvSpPr>
        <p:spPr>
          <a:xfrm>
            <a:off x="768240" y="5873760"/>
            <a:ext cx="2644920" cy="635040"/>
          </a:xfrm>
          <a:custGeom>
            <a:avLst/>
            <a:gdLst>
              <a:gd name="textAreaLeft" fmla="*/ 41040 w 2644920"/>
              <a:gd name="textAreaRight" fmla="*/ 2603880 w 2644920"/>
              <a:gd name="textAreaTop" fmla="*/ 41040 h 635040"/>
              <a:gd name="textAreaBottom" fmla="*/ 594000 h 635040"/>
            </a:gdLst>
            <a:ahLst/>
            <a:rect l="textAreaLeft" t="textAreaTop" r="textAreaRight" b="textAreaBottom"/>
            <a:pathLst>
              <a:path w="89925" h="21600">
                <a:moveTo>
                  <a:pt x="0" y="0"/>
                </a:moveTo>
                <a:lnTo>
                  <a:pt x="89925" y="0"/>
                </a:lnTo>
                <a:lnTo>
                  <a:pt x="89925" y="21600"/>
                </a:lnTo>
                <a:lnTo>
                  <a:pt x="0" y="21600"/>
                </a:lnTo>
                <a:close/>
              </a:path>
              <a:path fill="lightenLess" w="89925" h="21600">
                <a:moveTo>
                  <a:pt x="0" y="0"/>
                </a:moveTo>
                <a:lnTo>
                  <a:pt x="89925" y="0"/>
                </a:lnTo>
                <a:lnTo>
                  <a:pt x="88525" y="1400"/>
                </a:lnTo>
                <a:lnTo>
                  <a:pt x="1400" y="1400"/>
                </a:lnTo>
                <a:close/>
              </a:path>
              <a:path fill="darken" w="89925" h="21600">
                <a:moveTo>
                  <a:pt x="89925" y="0"/>
                </a:moveTo>
                <a:lnTo>
                  <a:pt x="89925" y="21600"/>
                </a:lnTo>
                <a:lnTo>
                  <a:pt x="88525" y="20200"/>
                </a:lnTo>
                <a:lnTo>
                  <a:pt x="88525" y="1400"/>
                </a:lnTo>
                <a:close/>
              </a:path>
              <a:path fill="darkenLess" w="89925" h="21600">
                <a:moveTo>
                  <a:pt x="899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525" y="20200"/>
                </a:lnTo>
                <a:close/>
              </a:path>
              <a:path fill="lighten" w="899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9925" h="21600">
                <a:moveTo>
                  <a:pt x="37956" y="10800"/>
                </a:moveTo>
                <a:lnTo>
                  <a:pt x="51969" y="3794"/>
                </a:lnTo>
                <a:lnTo>
                  <a:pt x="51969" y="17806"/>
                </a:lnTo>
                <a:close/>
              </a:path>
            </a:pathLst>
          </a:custGeom>
          <a:solidFill>
            <a:srgbClr val="d2d2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4"/>
          <p:cNvSpPr/>
          <p:nvPr/>
        </p:nvSpPr>
        <p:spPr>
          <a:xfrm>
            <a:off x="3480840" y="597384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peat Segment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7" name="Group 5"/>
          <p:cNvGrpSpPr/>
          <p:nvPr/>
        </p:nvGrpSpPr>
        <p:grpSpPr>
          <a:xfrm>
            <a:off x="559440" y="1155600"/>
            <a:ext cx="8506080" cy="1099800"/>
            <a:chOff x="559440" y="1155600"/>
            <a:chExt cx="8506080" cy="1099800"/>
          </a:xfrm>
        </p:grpSpPr>
        <p:sp>
          <p:nvSpPr>
            <p:cNvPr id="518" name="Text Box 6"/>
            <p:cNvSpPr/>
            <p:nvPr/>
          </p:nvSpPr>
          <p:spPr>
            <a:xfrm>
              <a:off x="559440" y="1155600"/>
              <a:ext cx="8506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Inductance takes energy from the source</a:t>
              </a:r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Text Box 7"/>
            <p:cNvSpPr/>
            <p:nvPr/>
          </p:nvSpPr>
          <p:spPr>
            <a:xfrm>
              <a:off x="954720" y="1612800"/>
              <a:ext cx="47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while its flux builds up.</a:t>
              </a:r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Group 8"/>
          <p:cNvGrpSpPr/>
          <p:nvPr/>
        </p:nvGrpSpPr>
        <p:grpSpPr>
          <a:xfrm>
            <a:off x="559440" y="2406600"/>
            <a:ext cx="8353800" cy="1099800"/>
            <a:chOff x="559440" y="2406600"/>
            <a:chExt cx="8353800" cy="1099800"/>
          </a:xfrm>
        </p:grpSpPr>
        <p:sp>
          <p:nvSpPr>
            <p:cNvPr id="521" name="Text Box 9"/>
            <p:cNvSpPr/>
            <p:nvPr/>
          </p:nvSpPr>
          <p:spPr>
            <a:xfrm>
              <a:off x="559440" y="2406600"/>
              <a:ext cx="835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Inductance returns energy to the source</a:t>
              </a:r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Text Box 10"/>
            <p:cNvSpPr/>
            <p:nvPr/>
          </p:nvSpPr>
          <p:spPr>
            <a:xfrm>
              <a:off x="862920" y="2863800"/>
              <a:ext cx="419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when its flux decays.</a:t>
              </a:r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3" name="Text Box 11"/>
          <p:cNvSpPr/>
          <p:nvPr/>
        </p:nvSpPr>
        <p:spPr>
          <a:xfrm>
            <a:off x="586800" y="3701880"/>
            <a:ext cx="783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ags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by 90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in an inductive circuit.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Group 12"/>
          <p:cNvGrpSpPr/>
          <p:nvPr/>
        </p:nvGrpSpPr>
        <p:grpSpPr>
          <a:xfrm>
            <a:off x="572400" y="4464000"/>
            <a:ext cx="7197120" cy="1099800"/>
            <a:chOff x="572400" y="4464000"/>
            <a:chExt cx="7197120" cy="1099800"/>
          </a:xfrm>
        </p:grpSpPr>
        <p:sp>
          <p:nvSpPr>
            <p:cNvPr id="525" name="Text Box 13"/>
            <p:cNvSpPr/>
            <p:nvPr/>
          </p:nvSpPr>
          <p:spPr>
            <a:xfrm>
              <a:off x="572400" y="4464000"/>
              <a:ext cx="7197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In an inductive circuit,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increases</a:t>
              </a:r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Text Box 14"/>
            <p:cNvSpPr/>
            <p:nvPr/>
          </p:nvSpPr>
          <p:spPr>
            <a:xfrm>
              <a:off x="952920" y="4921200"/>
              <a:ext cx="4370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while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is decreasing.</a:t>
              </a:r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Slide Number Placeholder 14"/>
          <p:cNvSpPr/>
          <p:nvPr/>
        </p:nvSpPr>
        <p:spPr>
          <a:xfrm>
            <a:off x="-152280" y="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 - </a:t>
            </a:r>
            <a:fld id="{411529EB-A06A-4684-86FD-75B80093EC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0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2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500"/>
                            </p:stCondLst>
                            <p:childTnLst>
                              <p:par>
                                <p:cTn id="7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1000"/>
                            </p:stCondLst>
                            <p:childTnLst>
                              <p:par>
                                <p:cTn id="7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1500"/>
                            </p:stCondLst>
                            <p:childTnLst>
                              <p:par>
                                <p:cTn id="7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2000"/>
                            </p:stCondLst>
                            <p:childTnLst>
                              <p:par>
                                <p:cTn id="7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2500"/>
                            </p:stCondLst>
                            <p:childTnLst>
                              <p:par>
                                <p:cTn id="7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3000"/>
                            </p:stCondLst>
                            <p:childTnLst>
                              <p:par>
                                <p:cTn id="7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3"/>
          <p:cNvSpPr/>
          <p:nvPr/>
        </p:nvSpPr>
        <p:spPr>
          <a:xfrm>
            <a:off x="1368000" y="365040"/>
            <a:ext cx="6020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INTRODUCTION</a:t>
            </a: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62120" y="1812960"/>
            <a:ext cx="8076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Polarity of Induced Voltage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Inductive Reactance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Series and Parallel Inductors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Skin Effect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Mutual Inductance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Group 6"/>
          <p:cNvGrpSpPr/>
          <p:nvPr/>
        </p:nvGrpSpPr>
        <p:grpSpPr>
          <a:xfrm>
            <a:off x="1752480" y="5762520"/>
            <a:ext cx="4305600" cy="173160"/>
            <a:chOff x="1752480" y="5762520"/>
            <a:chExt cx="4305600" cy="173160"/>
          </a:xfrm>
        </p:grpSpPr>
        <p:sp>
          <p:nvSpPr>
            <p:cNvPr id="101" name="Line 7"/>
            <p:cNvSpPr/>
            <p:nvPr/>
          </p:nvSpPr>
          <p:spPr>
            <a:xfrm>
              <a:off x="1752480" y="5762520"/>
              <a:ext cx="430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Line 8"/>
            <p:cNvSpPr/>
            <p:nvPr/>
          </p:nvSpPr>
          <p:spPr>
            <a:xfrm>
              <a:off x="1754640" y="5823000"/>
              <a:ext cx="430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9"/>
            <p:cNvSpPr/>
            <p:nvPr/>
          </p:nvSpPr>
          <p:spPr>
            <a:xfrm>
              <a:off x="1754640" y="5879880"/>
              <a:ext cx="430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Line 10"/>
            <p:cNvSpPr/>
            <p:nvPr/>
          </p:nvSpPr>
          <p:spPr>
            <a:xfrm>
              <a:off x="1754640" y="5935680"/>
              <a:ext cx="430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Slide Number Placeholder 8"/>
          <p:cNvSpPr/>
          <p:nvPr/>
        </p:nvSpPr>
        <p:spPr>
          <a:xfrm>
            <a:off x="-152280" y="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 - </a:t>
            </a:r>
            <a:fld id="{9F3838F5-59E1-43D1-B048-73026A8FAA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 Box 2"/>
          <p:cNvSpPr/>
          <p:nvPr/>
        </p:nvSpPr>
        <p:spPr>
          <a:xfrm>
            <a:off x="1662120" y="136440"/>
            <a:ext cx="5703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Concept Preview</a:t>
            </a: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3"/>
          <p:cNvSpPr/>
          <p:nvPr/>
        </p:nvSpPr>
        <p:spPr>
          <a:xfrm>
            <a:off x="638640" y="1263600"/>
            <a:ext cx="80967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is directly proportional to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Page 295) 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4"/>
          <p:cNvSpPr/>
          <p:nvPr/>
        </p:nvSpPr>
        <p:spPr>
          <a:xfrm>
            <a:off x="636840" y="2057400"/>
            <a:ext cx="78559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is directly proportional to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Page 295) 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Group 7"/>
          <p:cNvGrpSpPr/>
          <p:nvPr/>
        </p:nvGrpSpPr>
        <p:grpSpPr>
          <a:xfrm>
            <a:off x="596520" y="2908440"/>
            <a:ext cx="6980760" cy="1207080"/>
            <a:chOff x="596520" y="2908440"/>
            <a:chExt cx="6980760" cy="1207080"/>
          </a:xfrm>
        </p:grpSpPr>
        <p:sp>
          <p:nvSpPr>
            <p:cNvPr id="532" name="Text Box 5"/>
            <p:cNvSpPr/>
            <p:nvPr/>
          </p:nvSpPr>
          <p:spPr>
            <a:xfrm>
              <a:off x="596520" y="2908440"/>
              <a:ext cx="698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Ohm’s law for inductive circuits </a:t>
              </a:r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Text Box 6"/>
            <p:cNvSpPr/>
            <p:nvPr/>
          </p:nvSpPr>
          <p:spPr>
            <a:xfrm>
              <a:off x="1082160" y="3397320"/>
              <a:ext cx="40474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/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.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(Page 296) </a:t>
              </a: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" name="Group 10"/>
          <p:cNvGrpSpPr/>
          <p:nvPr/>
        </p:nvGrpSpPr>
        <p:grpSpPr>
          <a:xfrm>
            <a:off x="612360" y="4159080"/>
            <a:ext cx="8276040" cy="1091880"/>
            <a:chOff x="612360" y="4159080"/>
            <a:chExt cx="8276040" cy="1091880"/>
          </a:xfrm>
        </p:grpSpPr>
        <p:sp>
          <p:nvSpPr>
            <p:cNvPr id="535" name="Text Box 8"/>
            <p:cNvSpPr/>
            <p:nvPr/>
          </p:nvSpPr>
          <p:spPr>
            <a:xfrm>
              <a:off x="612360" y="4159080"/>
              <a:ext cx="8276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In an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RL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circuit, current has essentially</a:t>
              </a:r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Text Box 9"/>
            <p:cNvSpPr/>
            <p:nvPr/>
          </p:nvSpPr>
          <p:spPr>
            <a:xfrm>
              <a:off x="1017360" y="4608360"/>
              <a:ext cx="7229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reached its final value in 5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.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(Page 302) </a:t>
              </a: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Slide Number Placeholder 10"/>
          <p:cNvSpPr/>
          <p:nvPr/>
        </p:nvSpPr>
        <p:spPr>
          <a:xfrm>
            <a:off x="-152280" y="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 - </a:t>
            </a:r>
            <a:fld id="{4357F528-A512-4A4D-9D05-9160D7DA9C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0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9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ext Box 2"/>
          <p:cNvSpPr/>
          <p:nvPr/>
        </p:nvSpPr>
        <p:spPr>
          <a:xfrm>
            <a:off x="357480" y="117720"/>
            <a:ext cx="883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Inductive Reactance And Inductance   </a:t>
            </a:r>
            <a:r>
              <a:rPr b="1" lang="en-US" sz="1800" spc="-1" strike="noStrike">
                <a:solidFill>
                  <a:srgbClr val="2d2db9"/>
                </a:solidFill>
                <a:latin typeface="Times New Roman"/>
              </a:rPr>
              <a:t>(Page 295) 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9" name="Group 3"/>
          <p:cNvGrpSpPr/>
          <p:nvPr/>
        </p:nvGrpSpPr>
        <p:grpSpPr>
          <a:xfrm>
            <a:off x="4724280" y="640800"/>
            <a:ext cx="3047760" cy="1904760"/>
            <a:chOff x="4724280" y="640800"/>
            <a:chExt cx="3047760" cy="1904760"/>
          </a:xfrm>
        </p:grpSpPr>
        <p:grpSp>
          <p:nvGrpSpPr>
            <p:cNvPr id="540" name="Group 4"/>
            <p:cNvGrpSpPr/>
            <p:nvPr/>
          </p:nvGrpSpPr>
          <p:grpSpPr>
            <a:xfrm>
              <a:off x="4952880" y="1402920"/>
              <a:ext cx="1981080" cy="756720"/>
              <a:chOff x="4952880" y="1402920"/>
              <a:chExt cx="1981080" cy="756720"/>
            </a:xfrm>
          </p:grpSpPr>
          <p:sp>
            <p:nvSpPr>
              <p:cNvPr id="541" name="Rectangle 5"/>
              <p:cNvSpPr/>
              <p:nvPr/>
            </p:nvSpPr>
            <p:spPr>
              <a:xfrm>
                <a:off x="4952880" y="1471320"/>
                <a:ext cx="56880" cy="2617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Rectangle 6"/>
              <p:cNvSpPr/>
              <p:nvPr/>
            </p:nvSpPr>
            <p:spPr>
              <a:xfrm>
                <a:off x="4952880" y="1815480"/>
                <a:ext cx="56880" cy="261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Rectangle 7"/>
              <p:cNvSpPr/>
              <p:nvPr/>
            </p:nvSpPr>
            <p:spPr>
              <a:xfrm rot="16200000">
                <a:off x="5124960" y="1298520"/>
                <a:ext cx="53640" cy="2620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Rectangle 8"/>
              <p:cNvSpPr/>
              <p:nvPr/>
            </p:nvSpPr>
            <p:spPr>
              <a:xfrm>
                <a:off x="5295600" y="1471320"/>
                <a:ext cx="57240" cy="2617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Rectangle 9"/>
              <p:cNvSpPr/>
              <p:nvPr/>
            </p:nvSpPr>
            <p:spPr>
              <a:xfrm>
                <a:off x="5295600" y="1815480"/>
                <a:ext cx="57240" cy="261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Rectangle 10"/>
              <p:cNvSpPr/>
              <p:nvPr/>
            </p:nvSpPr>
            <p:spPr>
              <a:xfrm rot="16200000">
                <a:off x="5124240" y="1987560"/>
                <a:ext cx="55080" cy="2620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Rectangle 11"/>
              <p:cNvSpPr/>
              <p:nvPr/>
            </p:nvSpPr>
            <p:spPr>
              <a:xfrm rot="16200000">
                <a:off x="5126040" y="1644120"/>
                <a:ext cx="51840" cy="2620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Rectangle 12"/>
              <p:cNvSpPr/>
              <p:nvPr/>
            </p:nvSpPr>
            <p:spPr>
              <a:xfrm>
                <a:off x="5360760" y="2055240"/>
                <a:ext cx="82440" cy="10440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Rectangle 13"/>
              <p:cNvSpPr/>
              <p:nvPr/>
            </p:nvSpPr>
            <p:spPr>
              <a:xfrm>
                <a:off x="5479920" y="1471320"/>
                <a:ext cx="54000" cy="2617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Rectangle 14"/>
              <p:cNvSpPr/>
              <p:nvPr/>
            </p:nvSpPr>
            <p:spPr>
              <a:xfrm>
                <a:off x="5479920" y="1815480"/>
                <a:ext cx="54000" cy="261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Rectangle 15"/>
              <p:cNvSpPr/>
              <p:nvPr/>
            </p:nvSpPr>
            <p:spPr>
              <a:xfrm rot="16200000">
                <a:off x="5653800" y="1298880"/>
                <a:ext cx="53640" cy="2617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Rectangle 16"/>
              <p:cNvSpPr/>
              <p:nvPr/>
            </p:nvSpPr>
            <p:spPr>
              <a:xfrm>
                <a:off x="5822640" y="1471320"/>
                <a:ext cx="55800" cy="2617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Rectangle 17"/>
              <p:cNvSpPr/>
              <p:nvPr/>
            </p:nvSpPr>
            <p:spPr>
              <a:xfrm>
                <a:off x="5822640" y="1815480"/>
                <a:ext cx="55800" cy="261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Rectangle 18"/>
              <p:cNvSpPr/>
              <p:nvPr/>
            </p:nvSpPr>
            <p:spPr>
              <a:xfrm rot="16200000">
                <a:off x="5653080" y="1987920"/>
                <a:ext cx="55080" cy="2617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Rectangle 19"/>
              <p:cNvSpPr/>
              <p:nvPr/>
            </p:nvSpPr>
            <p:spPr>
              <a:xfrm rot="16200000">
                <a:off x="5654520" y="1644120"/>
                <a:ext cx="51840" cy="2617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Rectangle 20"/>
              <p:cNvSpPr/>
              <p:nvPr/>
            </p:nvSpPr>
            <p:spPr>
              <a:xfrm>
                <a:off x="6003720" y="1471320"/>
                <a:ext cx="54000" cy="2617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Rectangle 21"/>
              <p:cNvSpPr/>
              <p:nvPr/>
            </p:nvSpPr>
            <p:spPr>
              <a:xfrm>
                <a:off x="6003720" y="1815480"/>
                <a:ext cx="54000" cy="261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Rectangle 22"/>
              <p:cNvSpPr/>
              <p:nvPr/>
            </p:nvSpPr>
            <p:spPr>
              <a:xfrm rot="16200000">
                <a:off x="6176160" y="1300320"/>
                <a:ext cx="53640" cy="2588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Rectangle 23"/>
              <p:cNvSpPr/>
              <p:nvPr/>
            </p:nvSpPr>
            <p:spPr>
              <a:xfrm>
                <a:off x="6346440" y="1471320"/>
                <a:ext cx="59040" cy="2617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Rectangle 24"/>
              <p:cNvSpPr/>
              <p:nvPr/>
            </p:nvSpPr>
            <p:spPr>
              <a:xfrm>
                <a:off x="6346440" y="1815480"/>
                <a:ext cx="59040" cy="261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Rectangle 25"/>
              <p:cNvSpPr/>
              <p:nvPr/>
            </p:nvSpPr>
            <p:spPr>
              <a:xfrm rot="16200000">
                <a:off x="6175440" y="1989360"/>
                <a:ext cx="55080" cy="2588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Rectangle 26"/>
              <p:cNvSpPr/>
              <p:nvPr/>
            </p:nvSpPr>
            <p:spPr>
              <a:xfrm rot="16200000">
                <a:off x="6176880" y="1645560"/>
                <a:ext cx="51840" cy="2588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Rectangle 27"/>
              <p:cNvSpPr/>
              <p:nvPr/>
            </p:nvSpPr>
            <p:spPr>
              <a:xfrm>
                <a:off x="6532200" y="1471320"/>
                <a:ext cx="54000" cy="2617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Rectangle 28"/>
              <p:cNvSpPr/>
              <p:nvPr/>
            </p:nvSpPr>
            <p:spPr>
              <a:xfrm>
                <a:off x="6532200" y="1815480"/>
                <a:ext cx="54000" cy="261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Rectangle 29"/>
              <p:cNvSpPr/>
              <p:nvPr/>
            </p:nvSpPr>
            <p:spPr>
              <a:xfrm rot="16200000">
                <a:off x="6704640" y="1298520"/>
                <a:ext cx="53640" cy="2620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Rectangle 30"/>
              <p:cNvSpPr/>
              <p:nvPr/>
            </p:nvSpPr>
            <p:spPr>
              <a:xfrm>
                <a:off x="6876720" y="1471320"/>
                <a:ext cx="57240" cy="2617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Rectangle 31"/>
              <p:cNvSpPr/>
              <p:nvPr/>
            </p:nvSpPr>
            <p:spPr>
              <a:xfrm>
                <a:off x="6876720" y="1815480"/>
                <a:ext cx="57240" cy="261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Rectangle 32"/>
              <p:cNvSpPr/>
              <p:nvPr/>
            </p:nvSpPr>
            <p:spPr>
              <a:xfrm rot="16200000">
                <a:off x="6703920" y="1987560"/>
                <a:ext cx="55080" cy="2620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Rectangle 33"/>
              <p:cNvSpPr/>
              <p:nvPr/>
            </p:nvSpPr>
            <p:spPr>
              <a:xfrm rot="16200000">
                <a:off x="6705720" y="1644120"/>
                <a:ext cx="51840" cy="2620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Rectangle 34"/>
              <p:cNvSpPr/>
              <p:nvPr/>
            </p:nvSpPr>
            <p:spPr>
              <a:xfrm>
                <a:off x="5892480" y="2058480"/>
                <a:ext cx="81000" cy="101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Rectangle 35"/>
              <p:cNvSpPr/>
              <p:nvPr/>
            </p:nvSpPr>
            <p:spPr>
              <a:xfrm>
                <a:off x="6402240" y="2058480"/>
                <a:ext cx="82440" cy="101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2" name="Group 36"/>
            <p:cNvGrpSpPr/>
            <p:nvPr/>
          </p:nvGrpSpPr>
          <p:grpSpPr>
            <a:xfrm>
              <a:off x="4724280" y="640800"/>
              <a:ext cx="3047760" cy="1904760"/>
              <a:chOff x="4724280" y="640800"/>
              <a:chExt cx="3047760" cy="1904760"/>
            </a:xfrm>
          </p:grpSpPr>
          <p:sp>
            <p:nvSpPr>
              <p:cNvPr id="573" name="Rectangle 37"/>
              <p:cNvSpPr/>
              <p:nvPr/>
            </p:nvSpPr>
            <p:spPr>
              <a:xfrm>
                <a:off x="4800600" y="1098360"/>
                <a:ext cx="2209680" cy="1371240"/>
              </a:xfrm>
              <a:prstGeom prst="rect">
                <a:avLst/>
              </a:prstGeom>
              <a:noFill/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4" name="Group 38"/>
              <p:cNvGrpSpPr/>
              <p:nvPr/>
            </p:nvGrpSpPr>
            <p:grpSpPr>
              <a:xfrm>
                <a:off x="4876920" y="1174680"/>
                <a:ext cx="2031840" cy="185400"/>
                <a:chOff x="4876920" y="1174680"/>
                <a:chExt cx="2031840" cy="185400"/>
              </a:xfrm>
            </p:grpSpPr>
            <p:sp>
              <p:nvSpPr>
                <p:cNvPr id="575" name="Rectangle 39"/>
                <p:cNvSpPr/>
                <p:nvPr/>
              </p:nvSpPr>
              <p:spPr>
                <a:xfrm>
                  <a:off x="6650280" y="1174680"/>
                  <a:ext cx="258480" cy="1854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k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 </a:t>
                  </a:r>
                  <a:endParaRPr b="1" i="1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Rectangle 40"/>
                <p:cNvSpPr/>
                <p:nvPr/>
              </p:nvSpPr>
              <p:spPr>
                <a:xfrm>
                  <a:off x="6280200" y="1174680"/>
                  <a:ext cx="297000" cy="1854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 </a:t>
                  </a:r>
                  <a:endParaRPr b="1" i="1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Rectangle 41"/>
                <p:cNvSpPr/>
                <p:nvPr/>
              </p:nvSpPr>
              <p:spPr>
                <a:xfrm>
                  <a:off x="5615280" y="1174680"/>
                  <a:ext cx="258480" cy="1854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cc0000"/>
                      </a:solidFill>
                      <a:latin typeface="Times New Roman"/>
                    </a:rPr>
                    <a:t>mA</a:t>
                  </a:r>
                  <a:endParaRPr b="1" i="1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Rectangle 42"/>
                <p:cNvSpPr/>
                <p:nvPr/>
              </p:nvSpPr>
              <p:spPr>
                <a:xfrm>
                  <a:off x="4876920" y="1174680"/>
                  <a:ext cx="258840" cy="1854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mV</a:t>
                  </a:r>
                  <a:endParaRPr b="1" i="1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Rectangle 43"/>
                <p:cNvSpPr/>
                <p:nvPr/>
              </p:nvSpPr>
              <p:spPr>
                <a:xfrm>
                  <a:off x="5227920" y="1174680"/>
                  <a:ext cx="258480" cy="1854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V</a:t>
                  </a:r>
                  <a:endParaRPr b="1" i="1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Rectangle 44"/>
                <p:cNvSpPr/>
                <p:nvPr/>
              </p:nvSpPr>
              <p:spPr>
                <a:xfrm>
                  <a:off x="5943600" y="1174680"/>
                  <a:ext cx="258840" cy="1854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A</a:t>
                  </a:r>
                  <a:endParaRPr b="1" i="1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1" name="Group 45"/>
              <p:cNvGrpSpPr/>
              <p:nvPr/>
            </p:nvGrpSpPr>
            <p:grpSpPr>
              <a:xfrm>
                <a:off x="5943600" y="2089080"/>
                <a:ext cx="811440" cy="398880"/>
                <a:chOff x="5943600" y="2089080"/>
                <a:chExt cx="811440" cy="398880"/>
              </a:xfrm>
            </p:grpSpPr>
            <p:sp>
              <p:nvSpPr>
                <p:cNvPr id="582" name="Oval 46"/>
                <p:cNvSpPr/>
                <p:nvPr/>
              </p:nvSpPr>
              <p:spPr>
                <a:xfrm>
                  <a:off x="5943600" y="2277720"/>
                  <a:ext cx="109800" cy="109080"/>
                </a:xfrm>
                <a:prstGeom prst="ellipse">
                  <a:avLst/>
                </a:prstGeom>
                <a:solidFill>
                  <a:srgbClr val="cc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Oval 47"/>
                <p:cNvSpPr/>
                <p:nvPr/>
              </p:nvSpPr>
              <p:spPr>
                <a:xfrm>
                  <a:off x="5970600" y="2305800"/>
                  <a:ext cx="54000" cy="53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1" i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Text Box 48"/>
                <p:cNvSpPr/>
                <p:nvPr/>
              </p:nvSpPr>
              <p:spPr>
                <a:xfrm>
                  <a:off x="6054480" y="2089080"/>
                  <a:ext cx="700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V A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1" i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5" name="Group 49"/>
              <p:cNvGrpSpPr/>
              <p:nvPr/>
            </p:nvGrpSpPr>
            <p:grpSpPr>
              <a:xfrm>
                <a:off x="4724280" y="640800"/>
                <a:ext cx="3047760" cy="1904760"/>
                <a:chOff x="4724280" y="640800"/>
                <a:chExt cx="3047760" cy="1904760"/>
              </a:xfrm>
            </p:grpSpPr>
            <p:sp>
              <p:nvSpPr>
                <p:cNvPr id="586" name="AutoShape 50"/>
                <p:cNvSpPr/>
                <p:nvPr/>
              </p:nvSpPr>
              <p:spPr>
                <a:xfrm>
                  <a:off x="4724280" y="641520"/>
                  <a:ext cx="3047760" cy="475920"/>
                </a:xfrm>
                <a:prstGeom prst="parallelogram">
                  <a:avLst>
                    <a:gd name="adj" fmla="val 160098"/>
                  </a:avLst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i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AutoShape 51"/>
                <p:cNvSpPr/>
                <p:nvPr/>
              </p:nvSpPr>
              <p:spPr>
                <a:xfrm flipV="1" rot="5400000">
                  <a:off x="6432120" y="1205280"/>
                  <a:ext cx="1904760" cy="774720"/>
                </a:xfrm>
                <a:prstGeom prst="parallelogram">
                  <a:avLst>
                    <a:gd name="adj" fmla="val 61466"/>
                  </a:avLst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i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8" name="Group 52"/>
              <p:cNvGrpSpPr/>
              <p:nvPr/>
            </p:nvGrpSpPr>
            <p:grpSpPr>
              <a:xfrm>
                <a:off x="4923000" y="2133360"/>
                <a:ext cx="2011320" cy="337320"/>
                <a:chOff x="4923000" y="2133360"/>
                <a:chExt cx="2011320" cy="337320"/>
              </a:xfrm>
            </p:grpSpPr>
            <p:grpSp>
              <p:nvGrpSpPr>
                <p:cNvPr id="589" name="Group 53"/>
                <p:cNvGrpSpPr/>
                <p:nvPr/>
              </p:nvGrpSpPr>
              <p:grpSpPr>
                <a:xfrm>
                  <a:off x="5181840" y="2133360"/>
                  <a:ext cx="685800" cy="337320"/>
                  <a:chOff x="5181840" y="2133360"/>
                  <a:chExt cx="685800" cy="337320"/>
                </a:xfrm>
              </p:grpSpPr>
              <p:sp>
                <p:nvSpPr>
                  <p:cNvPr id="590" name="Oval 54"/>
                  <p:cNvSpPr/>
                  <p:nvPr/>
                </p:nvSpPr>
                <p:spPr>
                  <a:xfrm>
                    <a:off x="5745600" y="2271240"/>
                    <a:ext cx="122040" cy="110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1320" bIns="313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" name="Oval 55"/>
                  <p:cNvSpPr/>
                  <p:nvPr/>
                </p:nvSpPr>
                <p:spPr>
                  <a:xfrm>
                    <a:off x="5775840" y="2298240"/>
                    <a:ext cx="61920" cy="56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1" i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" name="Text Box 56"/>
                  <p:cNvSpPr/>
                  <p:nvPr/>
                </p:nvSpPr>
                <p:spPr>
                  <a:xfrm>
                    <a:off x="5181840" y="2133360"/>
                    <a:ext cx="609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M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-</a:t>
                    </a:r>
                    <a:endParaRPr b="1" i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93" name="Rectangle 57"/>
                <p:cNvSpPr/>
                <p:nvPr/>
              </p:nvSpPr>
              <p:spPr>
                <a:xfrm>
                  <a:off x="4923000" y="2207520"/>
                  <a:ext cx="258840" cy="1854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d c</a:t>
                  </a:r>
                  <a:endParaRPr b="1" i="1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Rectangle 58"/>
                <p:cNvSpPr/>
                <p:nvPr/>
              </p:nvSpPr>
              <p:spPr>
                <a:xfrm>
                  <a:off x="6675480" y="2207520"/>
                  <a:ext cx="258840" cy="1854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a c</a:t>
                  </a:r>
                  <a:endParaRPr b="1" i="1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95" name="Group 234"/>
          <p:cNvGrpSpPr/>
          <p:nvPr/>
        </p:nvGrpSpPr>
        <p:grpSpPr>
          <a:xfrm>
            <a:off x="4952880" y="1371600"/>
            <a:ext cx="1981440" cy="837360"/>
            <a:chOff x="4952880" y="1371600"/>
            <a:chExt cx="1981440" cy="837360"/>
          </a:xfrm>
        </p:grpSpPr>
        <p:sp>
          <p:nvSpPr>
            <p:cNvPr id="596" name="Rectangle 60"/>
            <p:cNvSpPr/>
            <p:nvPr/>
          </p:nvSpPr>
          <p:spPr>
            <a:xfrm>
              <a:off x="4952880" y="1444680"/>
              <a:ext cx="57240" cy="2804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Rectangle 61"/>
            <p:cNvSpPr/>
            <p:nvPr/>
          </p:nvSpPr>
          <p:spPr>
            <a:xfrm>
              <a:off x="4952880" y="1813680"/>
              <a:ext cx="57240" cy="28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Rectangle 62"/>
            <p:cNvSpPr/>
            <p:nvPr/>
          </p:nvSpPr>
          <p:spPr>
            <a:xfrm rot="16200000">
              <a:off x="5123520" y="1269360"/>
              <a:ext cx="57600" cy="26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Rectangle 63"/>
            <p:cNvSpPr/>
            <p:nvPr/>
          </p:nvSpPr>
          <p:spPr>
            <a:xfrm>
              <a:off x="5295960" y="1444680"/>
              <a:ext cx="57240" cy="2804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Rectangle 64"/>
            <p:cNvSpPr/>
            <p:nvPr/>
          </p:nvSpPr>
          <p:spPr>
            <a:xfrm>
              <a:off x="5295960" y="1813680"/>
              <a:ext cx="57240" cy="2800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Rectangle 65"/>
            <p:cNvSpPr/>
            <p:nvPr/>
          </p:nvSpPr>
          <p:spPr>
            <a:xfrm rot="16200000">
              <a:off x="5122800" y="2007720"/>
              <a:ext cx="59040" cy="26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Rectangle 66"/>
            <p:cNvSpPr/>
            <p:nvPr/>
          </p:nvSpPr>
          <p:spPr>
            <a:xfrm rot="16200000">
              <a:off x="5124240" y="1638720"/>
              <a:ext cx="55800" cy="2620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Rectangle 67"/>
            <p:cNvSpPr/>
            <p:nvPr/>
          </p:nvSpPr>
          <p:spPr>
            <a:xfrm>
              <a:off x="5361120" y="2070360"/>
              <a:ext cx="82440" cy="11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Rectangle 68"/>
            <p:cNvSpPr/>
            <p:nvPr/>
          </p:nvSpPr>
          <p:spPr>
            <a:xfrm>
              <a:off x="5479920" y="1444680"/>
              <a:ext cx="54000" cy="28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Rectangle 69"/>
            <p:cNvSpPr/>
            <p:nvPr/>
          </p:nvSpPr>
          <p:spPr>
            <a:xfrm>
              <a:off x="5479920" y="1813680"/>
              <a:ext cx="54000" cy="28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70"/>
            <p:cNvSpPr/>
            <p:nvPr/>
          </p:nvSpPr>
          <p:spPr>
            <a:xfrm rot="16200000">
              <a:off x="5652000" y="1269360"/>
              <a:ext cx="57600" cy="2620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Rectangle 71"/>
            <p:cNvSpPr/>
            <p:nvPr/>
          </p:nvSpPr>
          <p:spPr>
            <a:xfrm>
              <a:off x="5823000" y="1444680"/>
              <a:ext cx="55440" cy="2804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Rectangle 72"/>
            <p:cNvSpPr/>
            <p:nvPr/>
          </p:nvSpPr>
          <p:spPr>
            <a:xfrm>
              <a:off x="5823000" y="1813680"/>
              <a:ext cx="55440" cy="2800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Rectangle 73"/>
            <p:cNvSpPr/>
            <p:nvPr/>
          </p:nvSpPr>
          <p:spPr>
            <a:xfrm rot="16200000">
              <a:off x="5651280" y="2007720"/>
              <a:ext cx="59040" cy="26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Rectangle 74"/>
            <p:cNvSpPr/>
            <p:nvPr/>
          </p:nvSpPr>
          <p:spPr>
            <a:xfrm rot="16200000">
              <a:off x="5652720" y="1638720"/>
              <a:ext cx="55800" cy="26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Rectangle 75"/>
            <p:cNvSpPr/>
            <p:nvPr/>
          </p:nvSpPr>
          <p:spPr>
            <a:xfrm>
              <a:off x="6004080" y="1444680"/>
              <a:ext cx="54000" cy="28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Rectangle 76"/>
            <p:cNvSpPr/>
            <p:nvPr/>
          </p:nvSpPr>
          <p:spPr>
            <a:xfrm>
              <a:off x="6004080" y="1813680"/>
              <a:ext cx="54000" cy="28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Rectangle 77"/>
            <p:cNvSpPr/>
            <p:nvPr/>
          </p:nvSpPr>
          <p:spPr>
            <a:xfrm rot="16200000">
              <a:off x="6174360" y="1271160"/>
              <a:ext cx="57600" cy="258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Rectangle 78"/>
            <p:cNvSpPr/>
            <p:nvPr/>
          </p:nvSpPr>
          <p:spPr>
            <a:xfrm>
              <a:off x="6346800" y="1444680"/>
              <a:ext cx="58680" cy="2804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Rectangle 79"/>
            <p:cNvSpPr/>
            <p:nvPr/>
          </p:nvSpPr>
          <p:spPr>
            <a:xfrm>
              <a:off x="6346800" y="1813680"/>
              <a:ext cx="58680" cy="2800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Rectangle 80"/>
            <p:cNvSpPr/>
            <p:nvPr/>
          </p:nvSpPr>
          <p:spPr>
            <a:xfrm rot="16200000">
              <a:off x="6173640" y="2009520"/>
              <a:ext cx="59040" cy="25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Rectangle 81"/>
            <p:cNvSpPr/>
            <p:nvPr/>
          </p:nvSpPr>
          <p:spPr>
            <a:xfrm rot="16200000">
              <a:off x="6175080" y="1640520"/>
              <a:ext cx="55800" cy="25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Rectangle 82"/>
            <p:cNvSpPr/>
            <p:nvPr/>
          </p:nvSpPr>
          <p:spPr>
            <a:xfrm>
              <a:off x="6532560" y="1444680"/>
              <a:ext cx="54000" cy="28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Rectangle 83"/>
            <p:cNvSpPr/>
            <p:nvPr/>
          </p:nvSpPr>
          <p:spPr>
            <a:xfrm>
              <a:off x="6532560" y="1813680"/>
              <a:ext cx="54000" cy="28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Rectangle 84"/>
            <p:cNvSpPr/>
            <p:nvPr/>
          </p:nvSpPr>
          <p:spPr>
            <a:xfrm rot="16200000">
              <a:off x="6702840" y="1269360"/>
              <a:ext cx="57600" cy="2617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Rectangle 85"/>
            <p:cNvSpPr/>
            <p:nvPr/>
          </p:nvSpPr>
          <p:spPr>
            <a:xfrm>
              <a:off x="6877080" y="1444680"/>
              <a:ext cx="57240" cy="2804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Rectangle 86"/>
            <p:cNvSpPr/>
            <p:nvPr/>
          </p:nvSpPr>
          <p:spPr>
            <a:xfrm>
              <a:off x="6877080" y="1813680"/>
              <a:ext cx="57240" cy="2800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Rectangle 87"/>
            <p:cNvSpPr/>
            <p:nvPr/>
          </p:nvSpPr>
          <p:spPr>
            <a:xfrm rot="16200000">
              <a:off x="6702120" y="2007720"/>
              <a:ext cx="59040" cy="26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Rectangle 88"/>
            <p:cNvSpPr/>
            <p:nvPr/>
          </p:nvSpPr>
          <p:spPr>
            <a:xfrm rot="16200000">
              <a:off x="6703920" y="1639080"/>
              <a:ext cx="55800" cy="26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Rectangle 89"/>
            <p:cNvSpPr/>
            <p:nvPr/>
          </p:nvSpPr>
          <p:spPr>
            <a:xfrm>
              <a:off x="5892840" y="2073960"/>
              <a:ext cx="81000" cy="1083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Rectangle 90"/>
            <p:cNvSpPr/>
            <p:nvPr/>
          </p:nvSpPr>
          <p:spPr>
            <a:xfrm>
              <a:off x="6396120" y="2100600"/>
              <a:ext cx="82440" cy="10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Group 233"/>
          <p:cNvGrpSpPr/>
          <p:nvPr/>
        </p:nvGrpSpPr>
        <p:grpSpPr>
          <a:xfrm>
            <a:off x="4952880" y="1371600"/>
            <a:ext cx="1981440" cy="837720"/>
            <a:chOff x="4952880" y="1371600"/>
            <a:chExt cx="1981440" cy="837720"/>
          </a:xfrm>
        </p:grpSpPr>
        <p:sp>
          <p:nvSpPr>
            <p:cNvPr id="628" name="Rectangle 129"/>
            <p:cNvSpPr/>
            <p:nvPr/>
          </p:nvSpPr>
          <p:spPr>
            <a:xfrm>
              <a:off x="4952880" y="1445040"/>
              <a:ext cx="57240" cy="27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Rectangle 130"/>
            <p:cNvSpPr/>
            <p:nvPr/>
          </p:nvSpPr>
          <p:spPr>
            <a:xfrm>
              <a:off x="4952880" y="1813320"/>
              <a:ext cx="57240" cy="2808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Rectangle 131"/>
            <p:cNvSpPr/>
            <p:nvPr/>
          </p:nvSpPr>
          <p:spPr>
            <a:xfrm rot="16200000">
              <a:off x="5123520" y="1269360"/>
              <a:ext cx="57600" cy="2620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Rectangle 132"/>
            <p:cNvSpPr/>
            <p:nvPr/>
          </p:nvSpPr>
          <p:spPr>
            <a:xfrm>
              <a:off x="5295960" y="1445040"/>
              <a:ext cx="57240" cy="2790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Rectangle 133"/>
            <p:cNvSpPr/>
            <p:nvPr/>
          </p:nvSpPr>
          <p:spPr>
            <a:xfrm>
              <a:off x="5295960" y="1813320"/>
              <a:ext cx="57240" cy="28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Rectangle 134"/>
            <p:cNvSpPr/>
            <p:nvPr/>
          </p:nvSpPr>
          <p:spPr>
            <a:xfrm rot="16200000">
              <a:off x="5121720" y="2007720"/>
              <a:ext cx="61200" cy="2620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Rectangle 135"/>
            <p:cNvSpPr/>
            <p:nvPr/>
          </p:nvSpPr>
          <p:spPr>
            <a:xfrm rot="16200000">
              <a:off x="5123520" y="1639440"/>
              <a:ext cx="57600" cy="2620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Rectangle 136"/>
            <p:cNvSpPr/>
            <p:nvPr/>
          </p:nvSpPr>
          <p:spPr>
            <a:xfrm>
              <a:off x="5361120" y="2069640"/>
              <a:ext cx="82440" cy="11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Rectangle 137"/>
            <p:cNvSpPr/>
            <p:nvPr/>
          </p:nvSpPr>
          <p:spPr>
            <a:xfrm>
              <a:off x="5479920" y="1445040"/>
              <a:ext cx="54000" cy="27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Rectangle 138"/>
            <p:cNvSpPr/>
            <p:nvPr/>
          </p:nvSpPr>
          <p:spPr>
            <a:xfrm>
              <a:off x="5479920" y="1813320"/>
              <a:ext cx="54000" cy="28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Rectangle 139"/>
            <p:cNvSpPr/>
            <p:nvPr/>
          </p:nvSpPr>
          <p:spPr>
            <a:xfrm rot="16200000">
              <a:off x="5652000" y="1269360"/>
              <a:ext cx="57600" cy="2620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Rectangle 140"/>
            <p:cNvSpPr/>
            <p:nvPr/>
          </p:nvSpPr>
          <p:spPr>
            <a:xfrm>
              <a:off x="5823000" y="1445040"/>
              <a:ext cx="55440" cy="2790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Rectangle 141"/>
            <p:cNvSpPr/>
            <p:nvPr/>
          </p:nvSpPr>
          <p:spPr>
            <a:xfrm>
              <a:off x="5823000" y="1813320"/>
              <a:ext cx="55440" cy="2808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Rectangle 142"/>
            <p:cNvSpPr/>
            <p:nvPr/>
          </p:nvSpPr>
          <p:spPr>
            <a:xfrm rot="16200000">
              <a:off x="5650200" y="2007720"/>
              <a:ext cx="61200" cy="2620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Rectangle 143"/>
            <p:cNvSpPr/>
            <p:nvPr/>
          </p:nvSpPr>
          <p:spPr>
            <a:xfrm rot="16200000">
              <a:off x="5652000" y="1639440"/>
              <a:ext cx="57600" cy="2620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Rectangle 144"/>
            <p:cNvSpPr/>
            <p:nvPr/>
          </p:nvSpPr>
          <p:spPr>
            <a:xfrm>
              <a:off x="6004080" y="1445040"/>
              <a:ext cx="54000" cy="2790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Rectangle 145"/>
            <p:cNvSpPr/>
            <p:nvPr/>
          </p:nvSpPr>
          <p:spPr>
            <a:xfrm>
              <a:off x="6004080" y="1813320"/>
              <a:ext cx="54000" cy="2808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Rectangle 146"/>
            <p:cNvSpPr/>
            <p:nvPr/>
          </p:nvSpPr>
          <p:spPr>
            <a:xfrm rot="16200000">
              <a:off x="6174360" y="1271160"/>
              <a:ext cx="57600" cy="258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Rectangle 147"/>
            <p:cNvSpPr/>
            <p:nvPr/>
          </p:nvSpPr>
          <p:spPr>
            <a:xfrm>
              <a:off x="6346800" y="1445040"/>
              <a:ext cx="58680" cy="2790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Rectangle 148"/>
            <p:cNvSpPr/>
            <p:nvPr/>
          </p:nvSpPr>
          <p:spPr>
            <a:xfrm>
              <a:off x="6346800" y="1813320"/>
              <a:ext cx="58680" cy="2808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Rectangle 149"/>
            <p:cNvSpPr/>
            <p:nvPr/>
          </p:nvSpPr>
          <p:spPr>
            <a:xfrm rot="16200000">
              <a:off x="6172560" y="2009520"/>
              <a:ext cx="61200" cy="258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Rectangle 150"/>
            <p:cNvSpPr/>
            <p:nvPr/>
          </p:nvSpPr>
          <p:spPr>
            <a:xfrm rot="16200000">
              <a:off x="6174360" y="1641240"/>
              <a:ext cx="57600" cy="258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Rectangle 151"/>
            <p:cNvSpPr/>
            <p:nvPr/>
          </p:nvSpPr>
          <p:spPr>
            <a:xfrm>
              <a:off x="6532560" y="1445040"/>
              <a:ext cx="54000" cy="2790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Rectangle 152"/>
            <p:cNvSpPr/>
            <p:nvPr/>
          </p:nvSpPr>
          <p:spPr>
            <a:xfrm>
              <a:off x="6532560" y="1813320"/>
              <a:ext cx="54000" cy="28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Rectangle 153"/>
            <p:cNvSpPr/>
            <p:nvPr/>
          </p:nvSpPr>
          <p:spPr>
            <a:xfrm rot="16200000">
              <a:off x="6702840" y="1269360"/>
              <a:ext cx="57600" cy="2617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Rectangle 154"/>
            <p:cNvSpPr/>
            <p:nvPr/>
          </p:nvSpPr>
          <p:spPr>
            <a:xfrm>
              <a:off x="6877080" y="1445040"/>
              <a:ext cx="57240" cy="2790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Rectangle 155"/>
            <p:cNvSpPr/>
            <p:nvPr/>
          </p:nvSpPr>
          <p:spPr>
            <a:xfrm>
              <a:off x="6877080" y="1813320"/>
              <a:ext cx="57240" cy="2808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Rectangle 156"/>
            <p:cNvSpPr/>
            <p:nvPr/>
          </p:nvSpPr>
          <p:spPr>
            <a:xfrm rot="16200000">
              <a:off x="6701040" y="2007720"/>
              <a:ext cx="61200" cy="2617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Rectangle 157"/>
            <p:cNvSpPr/>
            <p:nvPr/>
          </p:nvSpPr>
          <p:spPr>
            <a:xfrm rot="16200000">
              <a:off x="6702840" y="1639440"/>
              <a:ext cx="57600" cy="2617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Rectangle 158"/>
            <p:cNvSpPr/>
            <p:nvPr/>
          </p:nvSpPr>
          <p:spPr>
            <a:xfrm>
              <a:off x="5892840" y="2073240"/>
              <a:ext cx="81000" cy="109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Rectangle 159"/>
            <p:cNvSpPr/>
            <p:nvPr/>
          </p:nvSpPr>
          <p:spPr>
            <a:xfrm>
              <a:off x="6396120" y="2101320"/>
              <a:ext cx="82440" cy="10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9" name="Freeform 160"/>
          <p:cNvSpPr/>
          <p:nvPr/>
        </p:nvSpPr>
        <p:spPr>
          <a:xfrm>
            <a:off x="2971800" y="1700280"/>
            <a:ext cx="2819520" cy="99216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992160"/>
              <a:gd name="textAreaBottom" fmla="*/ 992520 h 992160"/>
            </a:gdLst>
            <a:ahLst/>
            <a:rect l="textAreaLeft" t="textAreaTop" r="textAreaRight" b="textAreaBottom"/>
            <a:pathLst>
              <a:path w="1776" h="625">
                <a:moveTo>
                  <a:pt x="1776" y="389"/>
                </a:moveTo>
                <a:cubicBezTo>
                  <a:pt x="1752" y="445"/>
                  <a:pt x="1724" y="497"/>
                  <a:pt x="1680" y="533"/>
                </a:cubicBezTo>
                <a:cubicBezTo>
                  <a:pt x="1636" y="569"/>
                  <a:pt x="1567" y="588"/>
                  <a:pt x="1509" y="603"/>
                </a:cubicBezTo>
                <a:cubicBezTo>
                  <a:pt x="1451" y="618"/>
                  <a:pt x="1411" y="625"/>
                  <a:pt x="1328" y="621"/>
                </a:cubicBezTo>
                <a:cubicBezTo>
                  <a:pt x="1245" y="617"/>
                  <a:pt x="1101" y="620"/>
                  <a:pt x="1008" y="581"/>
                </a:cubicBezTo>
                <a:cubicBezTo>
                  <a:pt x="915" y="542"/>
                  <a:pt x="830" y="461"/>
                  <a:pt x="768" y="389"/>
                </a:cubicBezTo>
                <a:cubicBezTo>
                  <a:pt x="706" y="317"/>
                  <a:pt x="693" y="205"/>
                  <a:pt x="637" y="149"/>
                </a:cubicBezTo>
                <a:cubicBezTo>
                  <a:pt x="581" y="93"/>
                  <a:pt x="486" y="74"/>
                  <a:pt x="432" y="53"/>
                </a:cubicBezTo>
                <a:cubicBezTo>
                  <a:pt x="378" y="32"/>
                  <a:pt x="352" y="29"/>
                  <a:pt x="310" y="21"/>
                </a:cubicBezTo>
                <a:cubicBezTo>
                  <a:pt x="268" y="13"/>
                  <a:pt x="234" y="6"/>
                  <a:pt x="182" y="3"/>
                </a:cubicBezTo>
                <a:cubicBezTo>
                  <a:pt x="130" y="0"/>
                  <a:pt x="38" y="5"/>
                  <a:pt x="0" y="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Freeform 161"/>
          <p:cNvSpPr/>
          <p:nvPr/>
        </p:nvSpPr>
        <p:spPr>
          <a:xfrm>
            <a:off x="2971800" y="2241720"/>
            <a:ext cx="3048120" cy="699840"/>
          </a:xfrm>
          <a:custGeom>
            <a:avLst/>
            <a:gdLst>
              <a:gd name="textAreaLeft" fmla="*/ 0 w 3048120"/>
              <a:gd name="textAreaRight" fmla="*/ 3048480 w 3048120"/>
              <a:gd name="textAreaTop" fmla="*/ 0 h 699840"/>
              <a:gd name="textAreaBottom" fmla="*/ 700200 h 699840"/>
            </a:gdLst>
            <a:ahLst/>
            <a:rect l="textAreaLeft" t="textAreaTop" r="textAreaRight" b="textAreaBottom"/>
            <a:pathLst>
              <a:path w="1920" h="441">
                <a:moveTo>
                  <a:pt x="1920" y="48"/>
                </a:moveTo>
                <a:cubicBezTo>
                  <a:pt x="1872" y="164"/>
                  <a:pt x="1784" y="273"/>
                  <a:pt x="1728" y="336"/>
                </a:cubicBezTo>
                <a:cubicBezTo>
                  <a:pt x="1672" y="399"/>
                  <a:pt x="1646" y="411"/>
                  <a:pt x="1582" y="426"/>
                </a:cubicBezTo>
                <a:cubicBezTo>
                  <a:pt x="1518" y="441"/>
                  <a:pt x="1442" y="433"/>
                  <a:pt x="1346" y="426"/>
                </a:cubicBezTo>
                <a:cubicBezTo>
                  <a:pt x="1250" y="419"/>
                  <a:pt x="1120" y="423"/>
                  <a:pt x="1008" y="384"/>
                </a:cubicBezTo>
                <a:cubicBezTo>
                  <a:pt x="896" y="345"/>
                  <a:pt x="776" y="248"/>
                  <a:pt x="672" y="192"/>
                </a:cubicBezTo>
                <a:cubicBezTo>
                  <a:pt x="568" y="136"/>
                  <a:pt x="496" y="80"/>
                  <a:pt x="384" y="48"/>
                </a:cubicBezTo>
                <a:cubicBezTo>
                  <a:pt x="272" y="16"/>
                  <a:pt x="136" y="8"/>
                  <a:pt x="0" y="0"/>
                </a:cubicBezTo>
              </a:path>
            </a:pathLst>
          </a:custGeom>
          <a:noFill/>
          <a:ln w="38160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162"/>
          <p:cNvSpPr/>
          <p:nvPr/>
        </p:nvSpPr>
        <p:spPr>
          <a:xfrm>
            <a:off x="618840" y="4298040"/>
            <a:ext cx="47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Measure the current when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is 1 H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 Box 163"/>
          <p:cNvSpPr/>
          <p:nvPr/>
        </p:nvSpPr>
        <p:spPr>
          <a:xfrm>
            <a:off x="5405040" y="4272840"/>
            <a:ext cx="255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Next, calculate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8000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 Box 164"/>
          <p:cNvSpPr/>
          <p:nvPr/>
        </p:nvSpPr>
        <p:spPr>
          <a:xfrm>
            <a:off x="1410480" y="4806000"/>
            <a:ext cx="574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8000"/>
                </a:solidFill>
                <a:latin typeface="Times New Roman"/>
              </a:rPr>
              <a:t>L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V</a:t>
            </a:r>
            <a:r>
              <a:rPr b="1" i="1" lang="en-US" sz="2400" spc="-1" strike="noStrike" baseline="-25000">
                <a:solidFill>
                  <a:srgbClr val="008000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I</a:t>
            </a:r>
            <a:r>
              <a:rPr b="1" i="1" lang="en-US" sz="2400" spc="-1" strike="noStrike" baseline="-25000">
                <a:solidFill>
                  <a:srgbClr val="008000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30 V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 47.77 mA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 628 </a:t>
            </a:r>
            <a:r>
              <a:rPr b="1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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165"/>
          <p:cNvSpPr/>
          <p:nvPr/>
        </p:nvSpPr>
        <p:spPr>
          <a:xfrm>
            <a:off x="618840" y="5288400"/>
            <a:ext cx="47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Measure the current when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is 2 H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166"/>
          <p:cNvSpPr/>
          <p:nvPr/>
        </p:nvSpPr>
        <p:spPr>
          <a:xfrm>
            <a:off x="5365800" y="5263200"/>
            <a:ext cx="262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Then, calculate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cc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 Box 167"/>
          <p:cNvSpPr/>
          <p:nvPr/>
        </p:nvSpPr>
        <p:spPr>
          <a:xfrm>
            <a:off x="1991160" y="5720400"/>
            <a:ext cx="4639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cc"/>
                </a:solidFill>
                <a:latin typeface="Times New Roman"/>
              </a:rPr>
              <a:t>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  30 V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 23.89 mA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 1256 </a:t>
            </a:r>
            <a:r>
              <a:rPr b="1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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Freeform 168"/>
          <p:cNvSpPr/>
          <p:nvPr/>
        </p:nvSpPr>
        <p:spPr>
          <a:xfrm>
            <a:off x="2819520" y="1600200"/>
            <a:ext cx="4122720" cy="1744560"/>
          </a:xfrm>
          <a:custGeom>
            <a:avLst/>
            <a:gdLst>
              <a:gd name="textAreaLeft" fmla="*/ 0 w 4122720"/>
              <a:gd name="textAreaRight" fmla="*/ 4123080 w 4122720"/>
              <a:gd name="textAreaTop" fmla="*/ 0 h 1744560"/>
              <a:gd name="textAreaBottom" fmla="*/ 1744920 h 1744560"/>
            </a:gdLst>
            <a:ahLst/>
            <a:rect l="textAreaLeft" t="textAreaTop" r="textAreaRight" b="textAreaBottom"/>
            <a:pathLst>
              <a:path w="2597" h="1099">
                <a:moveTo>
                  <a:pt x="1053" y="323"/>
                </a:moveTo>
                <a:cubicBezTo>
                  <a:pt x="1123" y="411"/>
                  <a:pt x="1017" y="561"/>
                  <a:pt x="1057" y="608"/>
                </a:cubicBezTo>
                <a:cubicBezTo>
                  <a:pt x="1097" y="655"/>
                  <a:pt x="1145" y="608"/>
                  <a:pt x="1293" y="608"/>
                </a:cubicBezTo>
                <a:cubicBezTo>
                  <a:pt x="1441" y="608"/>
                  <a:pt x="1764" y="607"/>
                  <a:pt x="1948" y="608"/>
                </a:cubicBezTo>
                <a:cubicBezTo>
                  <a:pt x="2132" y="609"/>
                  <a:pt x="2290" y="603"/>
                  <a:pt x="2397" y="611"/>
                </a:cubicBezTo>
                <a:cubicBezTo>
                  <a:pt x="2504" y="619"/>
                  <a:pt x="2581" y="627"/>
                  <a:pt x="2589" y="659"/>
                </a:cubicBezTo>
                <a:cubicBezTo>
                  <a:pt x="2597" y="691"/>
                  <a:pt x="2509" y="763"/>
                  <a:pt x="2445" y="803"/>
                </a:cubicBezTo>
                <a:cubicBezTo>
                  <a:pt x="2381" y="843"/>
                  <a:pt x="2325" y="851"/>
                  <a:pt x="2205" y="899"/>
                </a:cubicBezTo>
                <a:cubicBezTo>
                  <a:pt x="2085" y="947"/>
                  <a:pt x="1933" y="1083"/>
                  <a:pt x="1725" y="1091"/>
                </a:cubicBezTo>
                <a:cubicBezTo>
                  <a:pt x="1517" y="1099"/>
                  <a:pt x="1150" y="1012"/>
                  <a:pt x="957" y="947"/>
                </a:cubicBezTo>
                <a:cubicBezTo>
                  <a:pt x="764" y="882"/>
                  <a:pt x="698" y="749"/>
                  <a:pt x="566" y="699"/>
                </a:cubicBezTo>
                <a:cubicBezTo>
                  <a:pt x="434" y="649"/>
                  <a:pt x="245" y="715"/>
                  <a:pt x="166" y="645"/>
                </a:cubicBezTo>
                <a:cubicBezTo>
                  <a:pt x="87" y="575"/>
                  <a:pt x="109" y="366"/>
                  <a:pt x="94" y="281"/>
                </a:cubicBezTo>
                <a:cubicBezTo>
                  <a:pt x="79" y="196"/>
                  <a:pt x="75" y="181"/>
                  <a:pt x="75" y="136"/>
                </a:cubicBezTo>
                <a:cubicBezTo>
                  <a:pt x="75" y="91"/>
                  <a:pt x="0" y="18"/>
                  <a:pt x="94" y="9"/>
                </a:cubicBezTo>
                <a:cubicBezTo>
                  <a:pt x="188" y="0"/>
                  <a:pt x="479" y="29"/>
                  <a:pt x="639" y="81"/>
                </a:cubicBezTo>
                <a:cubicBezTo>
                  <a:pt x="799" y="133"/>
                  <a:pt x="967" y="273"/>
                  <a:pt x="1053" y="323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Freeform 169"/>
          <p:cNvSpPr/>
          <p:nvPr/>
        </p:nvSpPr>
        <p:spPr>
          <a:xfrm>
            <a:off x="2971800" y="2340000"/>
            <a:ext cx="2857680" cy="1273320"/>
          </a:xfrm>
          <a:custGeom>
            <a:avLst/>
            <a:gdLst>
              <a:gd name="textAreaLeft" fmla="*/ 0 w 2857680"/>
              <a:gd name="textAreaRight" fmla="*/ 2858040 w 2857680"/>
              <a:gd name="textAreaTop" fmla="*/ 0 h 1273320"/>
              <a:gd name="textAreaBottom" fmla="*/ 1273680 h 1273320"/>
            </a:gdLst>
            <a:ahLst/>
            <a:rect l="textAreaLeft" t="textAreaTop" r="textAreaRight" b="textAreaBottom"/>
            <a:pathLst>
              <a:path w="1800" h="802">
                <a:moveTo>
                  <a:pt x="1800" y="0"/>
                </a:moveTo>
                <a:cubicBezTo>
                  <a:pt x="1767" y="30"/>
                  <a:pt x="1676" y="118"/>
                  <a:pt x="1600" y="182"/>
                </a:cubicBezTo>
                <a:cubicBezTo>
                  <a:pt x="1524" y="246"/>
                  <a:pt x="1413" y="328"/>
                  <a:pt x="1346" y="382"/>
                </a:cubicBezTo>
                <a:cubicBezTo>
                  <a:pt x="1279" y="436"/>
                  <a:pt x="1282" y="464"/>
                  <a:pt x="1200" y="509"/>
                </a:cubicBezTo>
                <a:cubicBezTo>
                  <a:pt x="1118" y="554"/>
                  <a:pt x="985" y="612"/>
                  <a:pt x="855" y="654"/>
                </a:cubicBezTo>
                <a:cubicBezTo>
                  <a:pt x="725" y="696"/>
                  <a:pt x="561" y="739"/>
                  <a:pt x="419" y="764"/>
                </a:cubicBezTo>
                <a:cubicBezTo>
                  <a:pt x="277" y="789"/>
                  <a:pt x="87" y="794"/>
                  <a:pt x="0" y="802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Freeform 170"/>
          <p:cNvSpPr/>
          <p:nvPr/>
        </p:nvSpPr>
        <p:spPr>
          <a:xfrm>
            <a:off x="2971800" y="2311560"/>
            <a:ext cx="3060720" cy="1765080"/>
          </a:xfrm>
          <a:custGeom>
            <a:avLst/>
            <a:gdLst>
              <a:gd name="textAreaLeft" fmla="*/ 0 w 3060720"/>
              <a:gd name="textAreaRight" fmla="*/ 3061080 w 3060720"/>
              <a:gd name="textAreaTop" fmla="*/ 0 h 1765080"/>
              <a:gd name="textAreaBottom" fmla="*/ 1765440 h 1765080"/>
            </a:gdLst>
            <a:ahLst/>
            <a:rect l="textAreaLeft" t="textAreaTop" r="textAreaRight" b="textAreaBottom"/>
            <a:pathLst>
              <a:path w="1928" h="1112">
                <a:moveTo>
                  <a:pt x="1928" y="0"/>
                </a:moveTo>
                <a:cubicBezTo>
                  <a:pt x="1864" y="82"/>
                  <a:pt x="1688" y="349"/>
                  <a:pt x="1546" y="491"/>
                </a:cubicBezTo>
                <a:cubicBezTo>
                  <a:pt x="1404" y="633"/>
                  <a:pt x="1200" y="772"/>
                  <a:pt x="1073" y="854"/>
                </a:cubicBezTo>
                <a:cubicBezTo>
                  <a:pt x="946" y="936"/>
                  <a:pt x="879" y="949"/>
                  <a:pt x="782" y="982"/>
                </a:cubicBezTo>
                <a:cubicBezTo>
                  <a:pt x="685" y="1015"/>
                  <a:pt x="576" y="1036"/>
                  <a:pt x="491" y="1054"/>
                </a:cubicBezTo>
                <a:cubicBezTo>
                  <a:pt x="406" y="1072"/>
                  <a:pt x="324" y="1082"/>
                  <a:pt x="273" y="1091"/>
                </a:cubicBezTo>
                <a:cubicBezTo>
                  <a:pt x="222" y="1100"/>
                  <a:pt x="227" y="1106"/>
                  <a:pt x="182" y="1109"/>
                </a:cubicBezTo>
                <a:cubicBezTo>
                  <a:pt x="137" y="1112"/>
                  <a:pt x="38" y="1108"/>
                  <a:pt x="0" y="1108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171"/>
          <p:cNvSpPr/>
          <p:nvPr/>
        </p:nvSpPr>
        <p:spPr>
          <a:xfrm>
            <a:off x="1382400" y="6145920"/>
            <a:ext cx="599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Notice that 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cc0000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 is directly proportional to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L.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1" name="Group 231"/>
          <p:cNvGrpSpPr/>
          <p:nvPr/>
        </p:nvGrpSpPr>
        <p:grpSpPr>
          <a:xfrm>
            <a:off x="1110240" y="991080"/>
            <a:ext cx="2396520" cy="1294920"/>
            <a:chOff x="1110240" y="991080"/>
            <a:chExt cx="2396520" cy="1294920"/>
          </a:xfrm>
        </p:grpSpPr>
        <p:grpSp>
          <p:nvGrpSpPr>
            <p:cNvPr id="672" name="Group 224"/>
            <p:cNvGrpSpPr/>
            <p:nvPr/>
          </p:nvGrpSpPr>
          <p:grpSpPr>
            <a:xfrm>
              <a:off x="1110240" y="991080"/>
              <a:ext cx="1949760" cy="1294920"/>
              <a:chOff x="1110240" y="991080"/>
              <a:chExt cx="1949760" cy="1294920"/>
            </a:xfrm>
          </p:grpSpPr>
          <p:sp>
            <p:nvSpPr>
              <p:cNvPr id="673" name="Line 94"/>
              <p:cNvSpPr/>
              <p:nvPr/>
            </p:nvSpPr>
            <p:spPr>
              <a:xfrm>
                <a:off x="2111400" y="1036800"/>
                <a:ext cx="0" cy="117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4" name="Group 101"/>
              <p:cNvGrpSpPr/>
              <p:nvPr/>
            </p:nvGrpSpPr>
            <p:grpSpPr>
              <a:xfrm>
                <a:off x="1801800" y="1284120"/>
                <a:ext cx="628560" cy="617760"/>
                <a:chOff x="1801800" y="1284120"/>
                <a:chExt cx="628560" cy="617760"/>
              </a:xfrm>
            </p:grpSpPr>
            <p:sp>
              <p:nvSpPr>
                <p:cNvPr id="675" name="Oval 102"/>
                <p:cNvSpPr/>
                <p:nvPr/>
              </p:nvSpPr>
              <p:spPr>
                <a:xfrm>
                  <a:off x="1801800" y="1284120"/>
                  <a:ext cx="628560" cy="61776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i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76" name="Group 103"/>
                <p:cNvGrpSpPr/>
                <p:nvPr/>
              </p:nvGrpSpPr>
              <p:grpSpPr>
                <a:xfrm>
                  <a:off x="1927080" y="1407600"/>
                  <a:ext cx="377280" cy="370080"/>
                  <a:chOff x="1927080" y="1407600"/>
                  <a:chExt cx="377280" cy="370080"/>
                </a:xfrm>
              </p:grpSpPr>
              <p:sp>
                <p:nvSpPr>
                  <p:cNvPr id="677" name="Arc 104"/>
                  <p:cNvSpPr/>
                  <p:nvPr/>
                </p:nvSpPr>
                <p:spPr>
                  <a:xfrm flipH="1">
                    <a:off x="1926720" y="1407600"/>
                    <a:ext cx="188280" cy="207720"/>
                  </a:xfrm>
                  <a:custGeom>
                    <a:avLst/>
                    <a:gdLst>
                      <a:gd name="textAreaLeft" fmla="*/ -360 w 188280"/>
                      <a:gd name="textAreaRight" fmla="*/ 188280 w 188280"/>
                      <a:gd name="textAreaTop" fmla="*/ 0 h 207720"/>
                      <a:gd name="textAreaBottom" fmla="*/ 208080 h 207720"/>
                    </a:gdLst>
                    <a:ahLst/>
                    <a:rect l="textAreaLeft" t="textAreaTop" r="textAreaRight" b="textAreaBottom"/>
                    <a:pathLst>
                      <a:path fill="none" w="42910" h="21600">
                        <a:moveTo>
                          <a:pt x="0" y="18900"/>
                        </a:moveTo>
                        <a:cubicBezTo>
                          <a:pt x="1361" y="8100"/>
                          <a:pt x="10545" y="-1"/>
                          <a:pt x="21431" y="0"/>
                        </a:cubicBezTo>
                        <a:cubicBezTo>
                          <a:pt x="32476" y="0"/>
                          <a:pt x="41743" y="8333"/>
                          <a:pt x="42910" y="19317"/>
                        </a:cubicBezTo>
                      </a:path>
                      <a:path stroke="0" w="42910" h="21600">
                        <a:moveTo>
                          <a:pt x="0" y="18900"/>
                        </a:moveTo>
                        <a:cubicBezTo>
                          <a:pt x="1361" y="8100"/>
                          <a:pt x="10545" y="-1"/>
                          <a:pt x="21431" y="0"/>
                        </a:cubicBezTo>
                        <a:cubicBezTo>
                          <a:pt x="32476" y="0"/>
                          <a:pt x="41743" y="8333"/>
                          <a:pt x="42910" y="19317"/>
                        </a:cubicBezTo>
                        <a:lnTo>
                          <a:pt x="21431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2844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i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8" name="Arc 105"/>
                  <p:cNvSpPr/>
                  <p:nvPr/>
                </p:nvSpPr>
                <p:spPr>
                  <a:xfrm flipH="1" flipV="1">
                    <a:off x="2115720" y="1569600"/>
                    <a:ext cx="188280" cy="207720"/>
                  </a:xfrm>
                  <a:custGeom>
                    <a:avLst/>
                    <a:gdLst>
                      <a:gd name="textAreaLeft" fmla="*/ -360 w 188280"/>
                      <a:gd name="textAreaRight" fmla="*/ 188280 w 188280"/>
                      <a:gd name="textAreaTop" fmla="*/ -360 h 207720"/>
                      <a:gd name="textAreaBottom" fmla="*/ 207720 h 207720"/>
                    </a:gdLst>
                    <a:ahLst/>
                    <a:rect l="textAreaLeft" t="textAreaTop" r="textAreaRight" b="textAreaBottom"/>
                    <a:pathLst>
                      <a:path fill="none" w="42910" h="21600">
                        <a:moveTo>
                          <a:pt x="0" y="18900"/>
                        </a:moveTo>
                        <a:cubicBezTo>
                          <a:pt x="1361" y="8100"/>
                          <a:pt x="10545" y="-1"/>
                          <a:pt x="21431" y="0"/>
                        </a:cubicBezTo>
                        <a:cubicBezTo>
                          <a:pt x="32476" y="0"/>
                          <a:pt x="41743" y="8333"/>
                          <a:pt x="42910" y="19317"/>
                        </a:cubicBezTo>
                      </a:path>
                      <a:path stroke="0" w="42910" h="21600">
                        <a:moveTo>
                          <a:pt x="0" y="18900"/>
                        </a:moveTo>
                        <a:cubicBezTo>
                          <a:pt x="1361" y="8100"/>
                          <a:pt x="10545" y="-1"/>
                          <a:pt x="21431" y="0"/>
                        </a:cubicBezTo>
                        <a:cubicBezTo>
                          <a:pt x="32476" y="0"/>
                          <a:pt x="41743" y="8333"/>
                          <a:pt x="42910" y="19317"/>
                        </a:cubicBezTo>
                        <a:lnTo>
                          <a:pt x="21431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2844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i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79" name="Text Box 106"/>
              <p:cNvSpPr/>
              <p:nvPr/>
            </p:nvSpPr>
            <p:spPr>
              <a:xfrm>
                <a:off x="1339560" y="1098000"/>
                <a:ext cx="619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9933"/>
                    </a:solidFill>
                    <a:latin typeface="Times New Roman"/>
                  </a:rPr>
                  <a:t>30 </a:t>
                </a:r>
                <a:r>
                  <a:rPr b="1" i="1" lang="en-US" sz="1800" spc="-1" strike="noStrike">
                    <a:solidFill>
                      <a:srgbClr val="339933"/>
                    </a:solidFill>
                    <a:latin typeface="Times New Roman"/>
                  </a:rPr>
                  <a:t>V</a:t>
                </a:r>
                <a:endParaRPr b="1" i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Text Box 107"/>
              <p:cNvSpPr/>
              <p:nvPr/>
            </p:nvSpPr>
            <p:spPr>
              <a:xfrm>
                <a:off x="1110240" y="1874160"/>
                <a:ext cx="861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0000"/>
                    </a:solidFill>
                    <a:latin typeface="Times New Roman"/>
                  </a:rPr>
                  <a:t>100 Hz</a:t>
                </a:r>
                <a:endParaRPr b="1" i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81" name="AutoShape 189"/>
              <p:cNvCxnSpPr/>
              <p:nvPr/>
            </p:nvCxnSpPr>
            <p:spPr>
              <a:xfrm flipH="1" flipV="1" rot="5400000">
                <a:off x="2552400" y="581760"/>
                <a:ext cx="43560" cy="92628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sp>
            <p:nvSpPr>
              <p:cNvPr id="682" name="Line 195"/>
              <p:cNvSpPr/>
              <p:nvPr/>
            </p:nvSpPr>
            <p:spPr>
              <a:xfrm flipH="1">
                <a:off x="2106720" y="2286000"/>
                <a:ext cx="914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96"/>
              <p:cNvSpPr/>
              <p:nvPr/>
            </p:nvSpPr>
            <p:spPr>
              <a:xfrm>
                <a:off x="2111400" y="1981080"/>
                <a:ext cx="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4" name="Group 199"/>
              <p:cNvGrpSpPr/>
              <p:nvPr/>
            </p:nvGrpSpPr>
            <p:grpSpPr>
              <a:xfrm>
                <a:off x="2749320" y="991080"/>
                <a:ext cx="310680" cy="1294560"/>
                <a:chOff x="2749320" y="991080"/>
                <a:chExt cx="310680" cy="1294560"/>
              </a:xfrm>
            </p:grpSpPr>
            <p:grpSp>
              <p:nvGrpSpPr>
                <p:cNvPr id="685" name="Group 198"/>
                <p:cNvGrpSpPr/>
                <p:nvPr/>
              </p:nvGrpSpPr>
              <p:grpSpPr>
                <a:xfrm>
                  <a:off x="2749320" y="991080"/>
                  <a:ext cx="310680" cy="852120"/>
                  <a:chOff x="2749320" y="991080"/>
                  <a:chExt cx="310680" cy="852120"/>
                </a:xfrm>
              </p:grpSpPr>
              <p:sp>
                <p:nvSpPr>
                  <p:cNvPr id="686" name="Arc 181"/>
                  <p:cNvSpPr/>
                  <p:nvPr/>
                </p:nvSpPr>
                <p:spPr>
                  <a:xfrm rot="7723800">
                    <a:off x="2800440" y="1252800"/>
                    <a:ext cx="211320" cy="212760"/>
                  </a:xfrm>
                  <a:custGeom>
                    <a:avLst/>
                    <a:gdLst>
                      <a:gd name="textAreaLeft" fmla="*/ 0 w 211320"/>
                      <a:gd name="textAreaRight" fmla="*/ 211680 w 211320"/>
                      <a:gd name="textAreaTop" fmla="*/ 0 h 212760"/>
                      <a:gd name="textAreaBottom" fmla="*/ 213120 h 212760"/>
                    </a:gdLst>
                    <a:ahLst/>
                    <a:rect l="textAreaLeft" t="textAreaTop" r="textAreaRight" b="textAreaBottom"/>
                    <a:pathLst>
                      <a:path fill="none" w="43200" h="43200">
                        <a:moveTo>
                          <a:pt x="20289" y="39"/>
                        </a:moveTo>
                        <a:cubicBezTo>
                          <a:pt x="20726" y="13"/>
                          <a:pt x="21163" y="-1"/>
                          <a:pt x="21600" y="0"/>
                        </a:cubicBezTo>
                        <a:cubicBezTo>
                          <a:pt x="33529" y="0"/>
                          <a:pt x="43200" y="9670"/>
                          <a:pt x="43200" y="21600"/>
                        </a:cubicBezTo>
                        <a:cubicBezTo>
                          <a:pt x="43200" y="33529"/>
                          <a:pt x="33529" y="43200"/>
                          <a:pt x="21600" y="43200"/>
                        </a:cubicBezTo>
                        <a:cubicBezTo>
                          <a:pt x="9670" y="43200"/>
                          <a:pt x="0" y="33529"/>
                          <a:pt x="0" y="21600"/>
                        </a:cubicBezTo>
                        <a:cubicBezTo>
                          <a:pt x="-1" y="18915"/>
                          <a:pt x="500" y="16255"/>
                          <a:pt x="1475" y="13754"/>
                        </a:cubicBezTo>
                      </a:path>
                      <a:path stroke="0" w="43200" h="43200">
                        <a:moveTo>
                          <a:pt x="20289" y="39"/>
                        </a:moveTo>
                        <a:cubicBezTo>
                          <a:pt x="20726" y="13"/>
                          <a:pt x="21163" y="-1"/>
                          <a:pt x="21600" y="0"/>
                        </a:cubicBezTo>
                        <a:cubicBezTo>
                          <a:pt x="33529" y="0"/>
                          <a:pt x="43200" y="9670"/>
                          <a:pt x="43200" y="21600"/>
                        </a:cubicBezTo>
                        <a:cubicBezTo>
                          <a:pt x="43200" y="33529"/>
                          <a:pt x="33529" y="43200"/>
                          <a:pt x="21600" y="43200"/>
                        </a:cubicBezTo>
                        <a:cubicBezTo>
                          <a:pt x="9670" y="43200"/>
                          <a:pt x="0" y="33529"/>
                          <a:pt x="0" y="21600"/>
                        </a:cubicBezTo>
                        <a:cubicBezTo>
                          <a:pt x="-1" y="18915"/>
                          <a:pt x="500" y="16255"/>
                          <a:pt x="1475" y="13754"/>
                        </a:cubicBezTo>
                        <a:lnTo>
                          <a:pt x="21600" y="21600"/>
                        </a:lnTo>
                        <a:close/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i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7" name="Arc 182"/>
                  <p:cNvSpPr/>
                  <p:nvPr/>
                </p:nvSpPr>
                <p:spPr>
                  <a:xfrm rot="7723800">
                    <a:off x="2805480" y="1132200"/>
                    <a:ext cx="210960" cy="212760"/>
                  </a:xfrm>
                  <a:custGeom>
                    <a:avLst/>
                    <a:gdLst>
                      <a:gd name="textAreaLeft" fmla="*/ 0 w 210960"/>
                      <a:gd name="textAreaRight" fmla="*/ 211320 w 210960"/>
                      <a:gd name="textAreaTop" fmla="*/ 0 h 212760"/>
                      <a:gd name="textAreaBottom" fmla="*/ 213120 h 212760"/>
                    </a:gdLst>
                    <a:ahLst/>
                    <a:rect l="textAreaLeft" t="textAreaTop" r="textAreaRight" b="textAreaBottom"/>
                    <a:pathLst>
                      <a:path fill="none" w="43200" h="43200">
                        <a:moveTo>
                          <a:pt x="21637" y="0"/>
                        </a:moveTo>
                        <a:cubicBezTo>
                          <a:pt x="33552" y="20"/>
                          <a:pt x="43200" y="9685"/>
                          <a:pt x="43200" y="21600"/>
                        </a:cubicBezTo>
                        <a:cubicBezTo>
                          <a:pt x="43200" y="33529"/>
                          <a:pt x="33529" y="43200"/>
                          <a:pt x="21600" y="43200"/>
                        </a:cubicBezTo>
                        <a:cubicBezTo>
                          <a:pt x="9670" y="43200"/>
                          <a:pt x="0" y="33529"/>
                          <a:pt x="0" y="21600"/>
                        </a:cubicBezTo>
                        <a:cubicBezTo>
                          <a:pt x="-1" y="19451"/>
                          <a:pt x="320" y="17315"/>
                          <a:pt x="950" y="15261"/>
                        </a:cubicBezTo>
                      </a:path>
                      <a:path stroke="0" w="43200" h="43200">
                        <a:moveTo>
                          <a:pt x="21637" y="0"/>
                        </a:moveTo>
                        <a:cubicBezTo>
                          <a:pt x="33552" y="20"/>
                          <a:pt x="43200" y="9685"/>
                          <a:pt x="43200" y="21600"/>
                        </a:cubicBezTo>
                        <a:cubicBezTo>
                          <a:pt x="43200" y="33529"/>
                          <a:pt x="33529" y="43200"/>
                          <a:pt x="21600" y="43200"/>
                        </a:cubicBezTo>
                        <a:cubicBezTo>
                          <a:pt x="9670" y="43200"/>
                          <a:pt x="0" y="33529"/>
                          <a:pt x="0" y="21600"/>
                        </a:cubicBezTo>
                        <a:cubicBezTo>
                          <a:pt x="-1" y="19451"/>
                          <a:pt x="320" y="17315"/>
                          <a:pt x="950" y="15261"/>
                        </a:cubicBezTo>
                        <a:lnTo>
                          <a:pt x="21600" y="21600"/>
                        </a:lnTo>
                        <a:close/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i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8" name="Arc 183"/>
                  <p:cNvSpPr/>
                  <p:nvPr/>
                </p:nvSpPr>
                <p:spPr>
                  <a:xfrm rot="7723800">
                    <a:off x="2792520" y="1505160"/>
                    <a:ext cx="211320" cy="212760"/>
                  </a:xfrm>
                  <a:custGeom>
                    <a:avLst/>
                    <a:gdLst>
                      <a:gd name="textAreaLeft" fmla="*/ 0 w 211320"/>
                      <a:gd name="textAreaRight" fmla="*/ 211680 w 211320"/>
                      <a:gd name="textAreaTop" fmla="*/ 0 h 212760"/>
                      <a:gd name="textAreaBottom" fmla="*/ 213120 h 212760"/>
                    </a:gdLst>
                    <a:ahLst/>
                    <a:rect l="textAreaLeft" t="textAreaTop" r="textAreaRight" b="textAreaBottom"/>
                    <a:pathLst>
                      <a:path fill="none" w="43200" h="43200">
                        <a:moveTo>
                          <a:pt x="21599" y="0"/>
                        </a:moveTo>
                        <a:cubicBezTo>
                          <a:pt x="33529" y="0"/>
                          <a:pt x="43200" y="9670"/>
                          <a:pt x="43200" y="21600"/>
                        </a:cubicBezTo>
                        <a:cubicBezTo>
                          <a:pt x="43200" y="33529"/>
                          <a:pt x="33529" y="43200"/>
                          <a:pt x="21600" y="43200"/>
                        </a:cubicBezTo>
                        <a:cubicBezTo>
                          <a:pt x="9670" y="43200"/>
                          <a:pt x="0" y="33529"/>
                          <a:pt x="0" y="21600"/>
                        </a:cubicBezTo>
                        <a:cubicBezTo>
                          <a:pt x="-1" y="18915"/>
                          <a:pt x="500" y="16255"/>
                          <a:pt x="1475" y="13754"/>
                        </a:cubicBezTo>
                      </a:path>
                      <a:path stroke="0" w="43200" h="43200">
                        <a:moveTo>
                          <a:pt x="21599" y="0"/>
                        </a:moveTo>
                        <a:cubicBezTo>
                          <a:pt x="33529" y="0"/>
                          <a:pt x="43200" y="9670"/>
                          <a:pt x="43200" y="21600"/>
                        </a:cubicBezTo>
                        <a:cubicBezTo>
                          <a:pt x="43200" y="33529"/>
                          <a:pt x="33529" y="43200"/>
                          <a:pt x="21600" y="43200"/>
                        </a:cubicBezTo>
                        <a:cubicBezTo>
                          <a:pt x="9670" y="43200"/>
                          <a:pt x="0" y="33529"/>
                          <a:pt x="0" y="21600"/>
                        </a:cubicBezTo>
                        <a:cubicBezTo>
                          <a:pt x="-1" y="18915"/>
                          <a:pt x="500" y="16255"/>
                          <a:pt x="1475" y="13754"/>
                        </a:cubicBezTo>
                        <a:lnTo>
                          <a:pt x="21600" y="21600"/>
                        </a:lnTo>
                        <a:close/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i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9" name="Arc 184"/>
                  <p:cNvSpPr/>
                  <p:nvPr/>
                </p:nvSpPr>
                <p:spPr>
                  <a:xfrm rot="7723800">
                    <a:off x="2801880" y="1378080"/>
                    <a:ext cx="211320" cy="212760"/>
                  </a:xfrm>
                  <a:custGeom>
                    <a:avLst/>
                    <a:gdLst>
                      <a:gd name="textAreaLeft" fmla="*/ 0 w 211320"/>
                      <a:gd name="textAreaRight" fmla="*/ 211680 w 211320"/>
                      <a:gd name="textAreaTop" fmla="*/ 0 h 212760"/>
                      <a:gd name="textAreaBottom" fmla="*/ 213120 h 212760"/>
                    </a:gdLst>
                    <a:ahLst/>
                    <a:rect l="textAreaLeft" t="textAreaTop" r="textAreaRight" b="textAreaBottom"/>
                    <a:pathLst>
                      <a:path fill="none" w="43200" h="43190">
                        <a:moveTo>
                          <a:pt x="22256" y="-1"/>
                        </a:moveTo>
                        <a:cubicBezTo>
                          <a:pt x="33924" y="354"/>
                          <a:pt x="43200" y="9916"/>
                          <a:pt x="43200" y="21590"/>
                        </a:cubicBezTo>
                        <a:cubicBezTo>
                          <a:pt x="43200" y="33519"/>
                          <a:pt x="33529" y="43190"/>
                          <a:pt x="21600" y="43190"/>
                        </a:cubicBezTo>
                        <a:cubicBezTo>
                          <a:pt x="9670" y="43190"/>
                          <a:pt x="0" y="33519"/>
                          <a:pt x="0" y="21590"/>
                        </a:cubicBezTo>
                        <a:cubicBezTo>
                          <a:pt x="-1" y="19718"/>
                          <a:pt x="243" y="17854"/>
                          <a:pt x="723" y="16045"/>
                        </a:cubicBezTo>
                      </a:path>
                      <a:path stroke="0" w="43200" h="43190">
                        <a:moveTo>
                          <a:pt x="22256" y="-1"/>
                        </a:moveTo>
                        <a:cubicBezTo>
                          <a:pt x="33924" y="354"/>
                          <a:pt x="43200" y="9916"/>
                          <a:pt x="43200" y="21590"/>
                        </a:cubicBezTo>
                        <a:cubicBezTo>
                          <a:pt x="43200" y="33519"/>
                          <a:pt x="33529" y="43190"/>
                          <a:pt x="21600" y="43190"/>
                        </a:cubicBezTo>
                        <a:cubicBezTo>
                          <a:pt x="9670" y="43190"/>
                          <a:pt x="0" y="33519"/>
                          <a:pt x="0" y="21590"/>
                        </a:cubicBezTo>
                        <a:cubicBezTo>
                          <a:pt x="-1" y="19718"/>
                          <a:pt x="243" y="17854"/>
                          <a:pt x="723" y="16045"/>
                        </a:cubicBezTo>
                        <a:lnTo>
                          <a:pt x="21600" y="21590"/>
                        </a:lnTo>
                        <a:close/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i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0" name="Line 185"/>
                  <p:cNvSpPr/>
                  <p:nvPr/>
                </p:nvSpPr>
                <p:spPr>
                  <a:xfrm flipH="1">
                    <a:off x="2991240" y="1679040"/>
                    <a:ext cx="5760" cy="164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i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1" name="Line 186"/>
                  <p:cNvSpPr/>
                  <p:nvPr/>
                </p:nvSpPr>
                <p:spPr>
                  <a:xfrm flipV="1">
                    <a:off x="2989440" y="991080"/>
                    <a:ext cx="10440" cy="1825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i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92" name="Line 197"/>
                <p:cNvSpPr/>
                <p:nvPr/>
              </p:nvSpPr>
              <p:spPr>
                <a:xfrm>
                  <a:off x="2994120" y="1752480"/>
                  <a:ext cx="0" cy="533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93" name="Text Box 226"/>
            <p:cNvSpPr/>
            <p:nvPr/>
          </p:nvSpPr>
          <p:spPr>
            <a:xfrm>
              <a:off x="3033360" y="1181160"/>
              <a:ext cx="47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Times New Roman"/>
                </a:rPr>
                <a:t>1H</a:t>
              </a: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4" name="Group 230"/>
          <p:cNvGrpSpPr/>
          <p:nvPr/>
        </p:nvGrpSpPr>
        <p:grpSpPr>
          <a:xfrm>
            <a:off x="1110240" y="2819880"/>
            <a:ext cx="2412720" cy="1294560"/>
            <a:chOff x="1110240" y="2819880"/>
            <a:chExt cx="2412720" cy="1294560"/>
          </a:xfrm>
        </p:grpSpPr>
        <p:grpSp>
          <p:nvGrpSpPr>
            <p:cNvPr id="695" name="Group 201"/>
            <p:cNvGrpSpPr/>
            <p:nvPr/>
          </p:nvGrpSpPr>
          <p:grpSpPr>
            <a:xfrm>
              <a:off x="1110240" y="2819880"/>
              <a:ext cx="1949400" cy="1294560"/>
              <a:chOff x="1110240" y="2819880"/>
              <a:chExt cx="1949400" cy="1294560"/>
            </a:xfrm>
          </p:grpSpPr>
          <p:sp>
            <p:nvSpPr>
              <p:cNvPr id="696" name="Line 202"/>
              <p:cNvSpPr/>
              <p:nvPr/>
            </p:nvSpPr>
            <p:spPr>
              <a:xfrm>
                <a:off x="2111400" y="2865240"/>
                <a:ext cx="0" cy="117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7" name="Group 203"/>
              <p:cNvGrpSpPr/>
              <p:nvPr/>
            </p:nvGrpSpPr>
            <p:grpSpPr>
              <a:xfrm>
                <a:off x="1801800" y="3112920"/>
                <a:ext cx="628560" cy="617400"/>
                <a:chOff x="1801800" y="3112920"/>
                <a:chExt cx="628560" cy="617400"/>
              </a:xfrm>
            </p:grpSpPr>
            <p:sp>
              <p:nvSpPr>
                <p:cNvPr id="698" name="Oval 204"/>
                <p:cNvSpPr/>
                <p:nvPr/>
              </p:nvSpPr>
              <p:spPr>
                <a:xfrm>
                  <a:off x="1801800" y="3112920"/>
                  <a:ext cx="628560" cy="61740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i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9" name="Group 205"/>
                <p:cNvGrpSpPr/>
                <p:nvPr/>
              </p:nvGrpSpPr>
              <p:grpSpPr>
                <a:xfrm>
                  <a:off x="1927080" y="3236400"/>
                  <a:ext cx="377280" cy="369720"/>
                  <a:chOff x="1927080" y="3236400"/>
                  <a:chExt cx="377280" cy="369720"/>
                </a:xfrm>
              </p:grpSpPr>
              <p:sp>
                <p:nvSpPr>
                  <p:cNvPr id="700" name="Arc 206"/>
                  <p:cNvSpPr/>
                  <p:nvPr/>
                </p:nvSpPr>
                <p:spPr>
                  <a:xfrm flipH="1">
                    <a:off x="1926720" y="3236400"/>
                    <a:ext cx="188280" cy="207360"/>
                  </a:xfrm>
                  <a:custGeom>
                    <a:avLst/>
                    <a:gdLst>
                      <a:gd name="textAreaLeft" fmla="*/ -360 w 188280"/>
                      <a:gd name="textAreaRight" fmla="*/ 188280 w 188280"/>
                      <a:gd name="textAreaTop" fmla="*/ 0 h 207360"/>
                      <a:gd name="textAreaBottom" fmla="*/ 207720 h 207360"/>
                    </a:gdLst>
                    <a:ahLst/>
                    <a:rect l="textAreaLeft" t="textAreaTop" r="textAreaRight" b="textAreaBottom"/>
                    <a:pathLst>
                      <a:path fill="none" w="42910" h="21600">
                        <a:moveTo>
                          <a:pt x="0" y="18900"/>
                        </a:moveTo>
                        <a:cubicBezTo>
                          <a:pt x="1361" y="8100"/>
                          <a:pt x="10545" y="-1"/>
                          <a:pt x="21431" y="0"/>
                        </a:cubicBezTo>
                        <a:cubicBezTo>
                          <a:pt x="32476" y="0"/>
                          <a:pt x="41743" y="8333"/>
                          <a:pt x="42910" y="19317"/>
                        </a:cubicBezTo>
                      </a:path>
                      <a:path stroke="0" w="42910" h="21600">
                        <a:moveTo>
                          <a:pt x="0" y="18900"/>
                        </a:moveTo>
                        <a:cubicBezTo>
                          <a:pt x="1361" y="8100"/>
                          <a:pt x="10545" y="-1"/>
                          <a:pt x="21431" y="0"/>
                        </a:cubicBezTo>
                        <a:cubicBezTo>
                          <a:pt x="32476" y="0"/>
                          <a:pt x="41743" y="8333"/>
                          <a:pt x="42910" y="19317"/>
                        </a:cubicBezTo>
                        <a:lnTo>
                          <a:pt x="21431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2844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i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Arc 207"/>
                  <p:cNvSpPr/>
                  <p:nvPr/>
                </p:nvSpPr>
                <p:spPr>
                  <a:xfrm flipH="1" flipV="1">
                    <a:off x="2115720" y="3398760"/>
                    <a:ext cx="188280" cy="207360"/>
                  </a:xfrm>
                  <a:custGeom>
                    <a:avLst/>
                    <a:gdLst>
                      <a:gd name="textAreaLeft" fmla="*/ -360 w 188280"/>
                      <a:gd name="textAreaRight" fmla="*/ 188280 w 188280"/>
                      <a:gd name="textAreaTop" fmla="*/ 360 h 207360"/>
                      <a:gd name="textAreaBottom" fmla="*/ 208080 h 207360"/>
                    </a:gdLst>
                    <a:ahLst/>
                    <a:rect l="textAreaLeft" t="textAreaTop" r="textAreaRight" b="textAreaBottom"/>
                    <a:pathLst>
                      <a:path fill="none" w="42910" h="21600">
                        <a:moveTo>
                          <a:pt x="0" y="18900"/>
                        </a:moveTo>
                        <a:cubicBezTo>
                          <a:pt x="1361" y="8100"/>
                          <a:pt x="10545" y="-1"/>
                          <a:pt x="21431" y="0"/>
                        </a:cubicBezTo>
                        <a:cubicBezTo>
                          <a:pt x="32476" y="0"/>
                          <a:pt x="41743" y="8333"/>
                          <a:pt x="42910" y="19317"/>
                        </a:cubicBezTo>
                      </a:path>
                      <a:path stroke="0" w="42910" h="21600">
                        <a:moveTo>
                          <a:pt x="0" y="18900"/>
                        </a:moveTo>
                        <a:cubicBezTo>
                          <a:pt x="1361" y="8100"/>
                          <a:pt x="10545" y="-1"/>
                          <a:pt x="21431" y="0"/>
                        </a:cubicBezTo>
                        <a:cubicBezTo>
                          <a:pt x="32476" y="0"/>
                          <a:pt x="41743" y="8333"/>
                          <a:pt x="42910" y="19317"/>
                        </a:cubicBezTo>
                        <a:lnTo>
                          <a:pt x="21431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2844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i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02" name="Text Box 208"/>
              <p:cNvSpPr/>
              <p:nvPr/>
            </p:nvSpPr>
            <p:spPr>
              <a:xfrm>
                <a:off x="1339560" y="2926440"/>
                <a:ext cx="619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9933"/>
                    </a:solidFill>
                    <a:latin typeface="Times New Roman"/>
                  </a:rPr>
                  <a:t>30 </a:t>
                </a:r>
                <a:r>
                  <a:rPr b="1" i="1" lang="en-US" sz="1800" spc="-1" strike="noStrike">
                    <a:solidFill>
                      <a:srgbClr val="339933"/>
                    </a:solidFill>
                    <a:latin typeface="Times New Roman"/>
                  </a:rPr>
                  <a:t>V</a:t>
                </a:r>
                <a:endParaRPr b="1" i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Text Box 209"/>
              <p:cNvSpPr/>
              <p:nvPr/>
            </p:nvSpPr>
            <p:spPr>
              <a:xfrm>
                <a:off x="1110240" y="3702600"/>
                <a:ext cx="861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0000"/>
                    </a:solidFill>
                    <a:latin typeface="Times New Roman"/>
                  </a:rPr>
                  <a:t>100 Hz</a:t>
                </a:r>
                <a:endParaRPr b="1" i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704" name="AutoShape 210"/>
              <p:cNvCxnSpPr/>
              <p:nvPr/>
            </p:nvCxnSpPr>
            <p:spPr>
              <a:xfrm flipH="1" flipV="1" rot="5400000">
                <a:off x="2552400" y="2410920"/>
                <a:ext cx="43560" cy="925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sp>
            <p:nvSpPr>
              <p:cNvPr id="705" name="Line 211"/>
              <p:cNvSpPr/>
              <p:nvPr/>
            </p:nvSpPr>
            <p:spPr>
              <a:xfrm flipH="1">
                <a:off x="2106360" y="4114440"/>
                <a:ext cx="914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212"/>
              <p:cNvSpPr/>
              <p:nvPr/>
            </p:nvSpPr>
            <p:spPr>
              <a:xfrm>
                <a:off x="2111400" y="3809880"/>
                <a:ext cx="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7" name="Group 213"/>
              <p:cNvGrpSpPr/>
              <p:nvPr/>
            </p:nvGrpSpPr>
            <p:grpSpPr>
              <a:xfrm>
                <a:off x="2748960" y="2819880"/>
                <a:ext cx="310680" cy="1294560"/>
                <a:chOff x="2748960" y="2819880"/>
                <a:chExt cx="310680" cy="1294560"/>
              </a:xfrm>
            </p:grpSpPr>
            <p:grpSp>
              <p:nvGrpSpPr>
                <p:cNvPr id="708" name="Group 214"/>
                <p:cNvGrpSpPr/>
                <p:nvPr/>
              </p:nvGrpSpPr>
              <p:grpSpPr>
                <a:xfrm>
                  <a:off x="2748960" y="2819880"/>
                  <a:ext cx="310680" cy="852120"/>
                  <a:chOff x="2748960" y="2819880"/>
                  <a:chExt cx="310680" cy="852120"/>
                </a:xfrm>
              </p:grpSpPr>
              <p:sp>
                <p:nvSpPr>
                  <p:cNvPr id="709" name="Arc 215"/>
                  <p:cNvSpPr/>
                  <p:nvPr/>
                </p:nvSpPr>
                <p:spPr>
                  <a:xfrm rot="7723800">
                    <a:off x="2800080" y="3081600"/>
                    <a:ext cx="211320" cy="212760"/>
                  </a:xfrm>
                  <a:custGeom>
                    <a:avLst/>
                    <a:gdLst>
                      <a:gd name="textAreaLeft" fmla="*/ 0 w 211320"/>
                      <a:gd name="textAreaRight" fmla="*/ 211680 w 211320"/>
                      <a:gd name="textAreaTop" fmla="*/ 0 h 212760"/>
                      <a:gd name="textAreaBottom" fmla="*/ 213120 h 212760"/>
                    </a:gdLst>
                    <a:ahLst/>
                    <a:rect l="textAreaLeft" t="textAreaTop" r="textAreaRight" b="textAreaBottom"/>
                    <a:pathLst>
                      <a:path fill="none" w="43200" h="43200">
                        <a:moveTo>
                          <a:pt x="20289" y="39"/>
                        </a:moveTo>
                        <a:cubicBezTo>
                          <a:pt x="20726" y="13"/>
                          <a:pt x="21163" y="-1"/>
                          <a:pt x="21600" y="0"/>
                        </a:cubicBezTo>
                        <a:cubicBezTo>
                          <a:pt x="33529" y="0"/>
                          <a:pt x="43200" y="9670"/>
                          <a:pt x="43200" y="21600"/>
                        </a:cubicBezTo>
                        <a:cubicBezTo>
                          <a:pt x="43200" y="33529"/>
                          <a:pt x="33529" y="43200"/>
                          <a:pt x="21600" y="43200"/>
                        </a:cubicBezTo>
                        <a:cubicBezTo>
                          <a:pt x="9670" y="43200"/>
                          <a:pt x="0" y="33529"/>
                          <a:pt x="0" y="21600"/>
                        </a:cubicBezTo>
                        <a:cubicBezTo>
                          <a:pt x="-1" y="18915"/>
                          <a:pt x="500" y="16255"/>
                          <a:pt x="1475" y="13754"/>
                        </a:cubicBezTo>
                      </a:path>
                      <a:path stroke="0" w="43200" h="43200">
                        <a:moveTo>
                          <a:pt x="20289" y="39"/>
                        </a:moveTo>
                        <a:cubicBezTo>
                          <a:pt x="20726" y="13"/>
                          <a:pt x="21163" y="-1"/>
                          <a:pt x="21600" y="0"/>
                        </a:cubicBezTo>
                        <a:cubicBezTo>
                          <a:pt x="33529" y="0"/>
                          <a:pt x="43200" y="9670"/>
                          <a:pt x="43200" y="21600"/>
                        </a:cubicBezTo>
                        <a:cubicBezTo>
                          <a:pt x="43200" y="33529"/>
                          <a:pt x="33529" y="43200"/>
                          <a:pt x="21600" y="43200"/>
                        </a:cubicBezTo>
                        <a:cubicBezTo>
                          <a:pt x="9670" y="43200"/>
                          <a:pt x="0" y="33529"/>
                          <a:pt x="0" y="21600"/>
                        </a:cubicBezTo>
                        <a:cubicBezTo>
                          <a:pt x="-1" y="18915"/>
                          <a:pt x="500" y="16255"/>
                          <a:pt x="1475" y="13754"/>
                        </a:cubicBezTo>
                        <a:lnTo>
                          <a:pt x="21600" y="21600"/>
                        </a:lnTo>
                        <a:close/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i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0" name="Arc 216"/>
                  <p:cNvSpPr/>
                  <p:nvPr/>
                </p:nvSpPr>
                <p:spPr>
                  <a:xfrm rot="7723800">
                    <a:off x="2805120" y="2961000"/>
                    <a:ext cx="210960" cy="212760"/>
                  </a:xfrm>
                  <a:custGeom>
                    <a:avLst/>
                    <a:gdLst>
                      <a:gd name="textAreaLeft" fmla="*/ 0 w 210960"/>
                      <a:gd name="textAreaRight" fmla="*/ 211320 w 210960"/>
                      <a:gd name="textAreaTop" fmla="*/ 0 h 212760"/>
                      <a:gd name="textAreaBottom" fmla="*/ 213120 h 212760"/>
                    </a:gdLst>
                    <a:ahLst/>
                    <a:rect l="textAreaLeft" t="textAreaTop" r="textAreaRight" b="textAreaBottom"/>
                    <a:pathLst>
                      <a:path fill="none" w="43200" h="43200">
                        <a:moveTo>
                          <a:pt x="21637" y="0"/>
                        </a:moveTo>
                        <a:cubicBezTo>
                          <a:pt x="33552" y="20"/>
                          <a:pt x="43200" y="9685"/>
                          <a:pt x="43200" y="21600"/>
                        </a:cubicBezTo>
                        <a:cubicBezTo>
                          <a:pt x="43200" y="33529"/>
                          <a:pt x="33529" y="43200"/>
                          <a:pt x="21600" y="43200"/>
                        </a:cubicBezTo>
                        <a:cubicBezTo>
                          <a:pt x="9670" y="43200"/>
                          <a:pt x="0" y="33529"/>
                          <a:pt x="0" y="21600"/>
                        </a:cubicBezTo>
                        <a:cubicBezTo>
                          <a:pt x="-1" y="19451"/>
                          <a:pt x="320" y="17315"/>
                          <a:pt x="950" y="15261"/>
                        </a:cubicBezTo>
                      </a:path>
                      <a:path stroke="0" w="43200" h="43200">
                        <a:moveTo>
                          <a:pt x="21637" y="0"/>
                        </a:moveTo>
                        <a:cubicBezTo>
                          <a:pt x="33552" y="20"/>
                          <a:pt x="43200" y="9685"/>
                          <a:pt x="43200" y="21600"/>
                        </a:cubicBezTo>
                        <a:cubicBezTo>
                          <a:pt x="43200" y="33529"/>
                          <a:pt x="33529" y="43200"/>
                          <a:pt x="21600" y="43200"/>
                        </a:cubicBezTo>
                        <a:cubicBezTo>
                          <a:pt x="9670" y="43200"/>
                          <a:pt x="0" y="33529"/>
                          <a:pt x="0" y="21600"/>
                        </a:cubicBezTo>
                        <a:cubicBezTo>
                          <a:pt x="-1" y="19451"/>
                          <a:pt x="320" y="17315"/>
                          <a:pt x="950" y="15261"/>
                        </a:cubicBezTo>
                        <a:lnTo>
                          <a:pt x="21600" y="21600"/>
                        </a:lnTo>
                        <a:close/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i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1" name="Arc 217"/>
                  <p:cNvSpPr/>
                  <p:nvPr/>
                </p:nvSpPr>
                <p:spPr>
                  <a:xfrm rot="7723800">
                    <a:off x="2792160" y="3333960"/>
                    <a:ext cx="211320" cy="212760"/>
                  </a:xfrm>
                  <a:custGeom>
                    <a:avLst/>
                    <a:gdLst>
                      <a:gd name="textAreaLeft" fmla="*/ 0 w 211320"/>
                      <a:gd name="textAreaRight" fmla="*/ 211680 w 211320"/>
                      <a:gd name="textAreaTop" fmla="*/ 0 h 212760"/>
                      <a:gd name="textAreaBottom" fmla="*/ 213120 h 212760"/>
                    </a:gdLst>
                    <a:ahLst/>
                    <a:rect l="textAreaLeft" t="textAreaTop" r="textAreaRight" b="textAreaBottom"/>
                    <a:pathLst>
                      <a:path fill="none" w="43200" h="43200">
                        <a:moveTo>
                          <a:pt x="21599" y="0"/>
                        </a:moveTo>
                        <a:cubicBezTo>
                          <a:pt x="33529" y="0"/>
                          <a:pt x="43200" y="9670"/>
                          <a:pt x="43200" y="21600"/>
                        </a:cubicBezTo>
                        <a:cubicBezTo>
                          <a:pt x="43200" y="33529"/>
                          <a:pt x="33529" y="43200"/>
                          <a:pt x="21600" y="43200"/>
                        </a:cubicBezTo>
                        <a:cubicBezTo>
                          <a:pt x="9670" y="43200"/>
                          <a:pt x="0" y="33529"/>
                          <a:pt x="0" y="21600"/>
                        </a:cubicBezTo>
                        <a:cubicBezTo>
                          <a:pt x="-1" y="18915"/>
                          <a:pt x="500" y="16255"/>
                          <a:pt x="1475" y="13754"/>
                        </a:cubicBezTo>
                      </a:path>
                      <a:path stroke="0" w="43200" h="43200">
                        <a:moveTo>
                          <a:pt x="21599" y="0"/>
                        </a:moveTo>
                        <a:cubicBezTo>
                          <a:pt x="33529" y="0"/>
                          <a:pt x="43200" y="9670"/>
                          <a:pt x="43200" y="21600"/>
                        </a:cubicBezTo>
                        <a:cubicBezTo>
                          <a:pt x="43200" y="33529"/>
                          <a:pt x="33529" y="43200"/>
                          <a:pt x="21600" y="43200"/>
                        </a:cubicBezTo>
                        <a:cubicBezTo>
                          <a:pt x="9670" y="43200"/>
                          <a:pt x="0" y="33529"/>
                          <a:pt x="0" y="21600"/>
                        </a:cubicBezTo>
                        <a:cubicBezTo>
                          <a:pt x="-1" y="18915"/>
                          <a:pt x="500" y="16255"/>
                          <a:pt x="1475" y="13754"/>
                        </a:cubicBezTo>
                        <a:lnTo>
                          <a:pt x="21600" y="21600"/>
                        </a:lnTo>
                        <a:close/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i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2" name="Arc 218"/>
                  <p:cNvSpPr/>
                  <p:nvPr/>
                </p:nvSpPr>
                <p:spPr>
                  <a:xfrm rot="7723800">
                    <a:off x="2801520" y="3206880"/>
                    <a:ext cx="211320" cy="212760"/>
                  </a:xfrm>
                  <a:custGeom>
                    <a:avLst/>
                    <a:gdLst>
                      <a:gd name="textAreaLeft" fmla="*/ 0 w 211320"/>
                      <a:gd name="textAreaRight" fmla="*/ 211680 w 211320"/>
                      <a:gd name="textAreaTop" fmla="*/ 0 h 212760"/>
                      <a:gd name="textAreaBottom" fmla="*/ 213120 h 212760"/>
                    </a:gdLst>
                    <a:ahLst/>
                    <a:rect l="textAreaLeft" t="textAreaTop" r="textAreaRight" b="textAreaBottom"/>
                    <a:pathLst>
                      <a:path fill="none" w="43200" h="43190">
                        <a:moveTo>
                          <a:pt x="22256" y="-1"/>
                        </a:moveTo>
                        <a:cubicBezTo>
                          <a:pt x="33924" y="354"/>
                          <a:pt x="43200" y="9916"/>
                          <a:pt x="43200" y="21590"/>
                        </a:cubicBezTo>
                        <a:cubicBezTo>
                          <a:pt x="43200" y="33519"/>
                          <a:pt x="33529" y="43190"/>
                          <a:pt x="21600" y="43190"/>
                        </a:cubicBezTo>
                        <a:cubicBezTo>
                          <a:pt x="9670" y="43190"/>
                          <a:pt x="0" y="33519"/>
                          <a:pt x="0" y="21590"/>
                        </a:cubicBezTo>
                        <a:cubicBezTo>
                          <a:pt x="-1" y="19718"/>
                          <a:pt x="243" y="17854"/>
                          <a:pt x="723" y="16045"/>
                        </a:cubicBezTo>
                      </a:path>
                      <a:path stroke="0" w="43200" h="43190">
                        <a:moveTo>
                          <a:pt x="22256" y="-1"/>
                        </a:moveTo>
                        <a:cubicBezTo>
                          <a:pt x="33924" y="354"/>
                          <a:pt x="43200" y="9916"/>
                          <a:pt x="43200" y="21590"/>
                        </a:cubicBezTo>
                        <a:cubicBezTo>
                          <a:pt x="43200" y="33519"/>
                          <a:pt x="33529" y="43190"/>
                          <a:pt x="21600" y="43190"/>
                        </a:cubicBezTo>
                        <a:cubicBezTo>
                          <a:pt x="9670" y="43190"/>
                          <a:pt x="0" y="33519"/>
                          <a:pt x="0" y="21590"/>
                        </a:cubicBezTo>
                        <a:cubicBezTo>
                          <a:pt x="-1" y="19718"/>
                          <a:pt x="243" y="17854"/>
                          <a:pt x="723" y="16045"/>
                        </a:cubicBezTo>
                        <a:lnTo>
                          <a:pt x="21600" y="21590"/>
                        </a:lnTo>
                        <a:close/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i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3" name="Line 219"/>
                  <p:cNvSpPr/>
                  <p:nvPr/>
                </p:nvSpPr>
                <p:spPr>
                  <a:xfrm flipH="1">
                    <a:off x="2990880" y="3507840"/>
                    <a:ext cx="5760" cy="164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i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4" name="Line 220"/>
                  <p:cNvSpPr/>
                  <p:nvPr/>
                </p:nvSpPr>
                <p:spPr>
                  <a:xfrm flipV="1">
                    <a:off x="2989080" y="2819880"/>
                    <a:ext cx="10440" cy="1825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i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15" name="Line 221"/>
                <p:cNvSpPr/>
                <p:nvPr/>
              </p:nvSpPr>
              <p:spPr>
                <a:xfrm>
                  <a:off x="2993760" y="3581280"/>
                  <a:ext cx="0" cy="533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16" name="Text Box 227"/>
            <p:cNvSpPr/>
            <p:nvPr/>
          </p:nvSpPr>
          <p:spPr>
            <a:xfrm>
              <a:off x="3049560" y="2986200"/>
              <a:ext cx="47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Times New Roman"/>
                </a:rPr>
                <a:t>2H</a:t>
              </a: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Rectangle 222"/>
          <p:cNvSpPr/>
          <p:nvPr/>
        </p:nvSpPr>
        <p:spPr>
          <a:xfrm>
            <a:off x="2819520" y="18288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Line 223"/>
          <p:cNvSpPr/>
          <p:nvPr/>
        </p:nvSpPr>
        <p:spPr>
          <a:xfrm>
            <a:off x="2971800" y="1676520"/>
            <a:ext cx="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Rectangle 127"/>
          <p:cNvSpPr/>
          <p:nvPr/>
        </p:nvSpPr>
        <p:spPr>
          <a:xfrm>
            <a:off x="2743200" y="3733920"/>
            <a:ext cx="533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Slide Number Placeholder 183"/>
          <p:cNvSpPr/>
          <p:nvPr/>
        </p:nvSpPr>
        <p:spPr>
          <a:xfrm>
            <a:off x="-152280" y="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 - </a:t>
            </a:r>
            <a:fld id="{0E4A1EAC-1E91-41CC-9563-E418DB19BC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0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500"/>
                            </p:stCondLst>
                            <p:childTnLst>
                              <p:par>
                                <p:cTn id="7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1500"/>
                            </p:stCondLst>
                            <p:childTnLst>
                              <p:par>
                                <p:cTn id="8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3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3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500"/>
                            </p:stCondLst>
                            <p:childTnLst>
                              <p:par>
                                <p:cTn id="8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1000"/>
                            </p:stCondLst>
                            <p:childTnLst>
                              <p:par>
                                <p:cTn id="8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1500"/>
                            </p:stCondLst>
                            <p:childTnLst>
                              <p:par>
                                <p:cTn id="8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2000"/>
                            </p:stCondLst>
                            <p:childTnLst>
                              <p:par>
                                <p:cTn id="8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2500"/>
                            </p:stCondLst>
                            <p:childTnLst>
                              <p:par>
                                <p:cTn id="8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3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Text Box 2"/>
          <p:cNvSpPr/>
          <p:nvPr/>
        </p:nvSpPr>
        <p:spPr>
          <a:xfrm>
            <a:off x="617760" y="1800"/>
            <a:ext cx="850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Inductive Reactance And Frequenc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2d2db9"/>
                </a:solidFill>
                <a:latin typeface="Times New Roman"/>
              </a:rPr>
              <a:t>(Page 295) 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2" name="Group 3"/>
          <p:cNvGrpSpPr/>
          <p:nvPr/>
        </p:nvGrpSpPr>
        <p:grpSpPr>
          <a:xfrm>
            <a:off x="4724280" y="609480"/>
            <a:ext cx="3047760" cy="1905120"/>
            <a:chOff x="4724280" y="609480"/>
            <a:chExt cx="3047760" cy="1905120"/>
          </a:xfrm>
        </p:grpSpPr>
        <p:grpSp>
          <p:nvGrpSpPr>
            <p:cNvPr id="723" name="Group 4"/>
            <p:cNvGrpSpPr/>
            <p:nvPr/>
          </p:nvGrpSpPr>
          <p:grpSpPr>
            <a:xfrm>
              <a:off x="4952880" y="1371240"/>
              <a:ext cx="1981080" cy="757080"/>
              <a:chOff x="4952880" y="1371240"/>
              <a:chExt cx="1981080" cy="757080"/>
            </a:xfrm>
          </p:grpSpPr>
          <p:sp>
            <p:nvSpPr>
              <p:cNvPr id="724" name="Rectangle 5"/>
              <p:cNvSpPr/>
              <p:nvPr/>
            </p:nvSpPr>
            <p:spPr>
              <a:xfrm>
                <a:off x="4952880" y="1439640"/>
                <a:ext cx="56880" cy="2617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Rectangle 6"/>
              <p:cNvSpPr/>
              <p:nvPr/>
            </p:nvSpPr>
            <p:spPr>
              <a:xfrm>
                <a:off x="4952880" y="1784160"/>
                <a:ext cx="56880" cy="261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Rectangle 7"/>
              <p:cNvSpPr/>
              <p:nvPr/>
            </p:nvSpPr>
            <p:spPr>
              <a:xfrm rot="16200000">
                <a:off x="5124960" y="1266840"/>
                <a:ext cx="53640" cy="2620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Rectangle 8"/>
              <p:cNvSpPr/>
              <p:nvPr/>
            </p:nvSpPr>
            <p:spPr>
              <a:xfrm>
                <a:off x="5295600" y="1439640"/>
                <a:ext cx="57240" cy="2617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Rectangle 9"/>
              <p:cNvSpPr/>
              <p:nvPr/>
            </p:nvSpPr>
            <p:spPr>
              <a:xfrm>
                <a:off x="5295600" y="1784160"/>
                <a:ext cx="57240" cy="261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Rectangle 10"/>
              <p:cNvSpPr/>
              <p:nvPr/>
            </p:nvSpPr>
            <p:spPr>
              <a:xfrm rot="16200000">
                <a:off x="5124240" y="1956240"/>
                <a:ext cx="55080" cy="2620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Rectangle 11"/>
              <p:cNvSpPr/>
              <p:nvPr/>
            </p:nvSpPr>
            <p:spPr>
              <a:xfrm rot="16200000">
                <a:off x="5126040" y="1612440"/>
                <a:ext cx="51840" cy="2620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Rectangle 12"/>
              <p:cNvSpPr/>
              <p:nvPr/>
            </p:nvSpPr>
            <p:spPr>
              <a:xfrm>
                <a:off x="5360760" y="2023920"/>
                <a:ext cx="82440" cy="10440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Rectangle 13"/>
              <p:cNvSpPr/>
              <p:nvPr/>
            </p:nvSpPr>
            <p:spPr>
              <a:xfrm>
                <a:off x="5479920" y="1439640"/>
                <a:ext cx="54000" cy="2617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Rectangle 14"/>
              <p:cNvSpPr/>
              <p:nvPr/>
            </p:nvSpPr>
            <p:spPr>
              <a:xfrm>
                <a:off x="5479920" y="1784160"/>
                <a:ext cx="54000" cy="261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Rectangle 15"/>
              <p:cNvSpPr/>
              <p:nvPr/>
            </p:nvSpPr>
            <p:spPr>
              <a:xfrm rot="16200000">
                <a:off x="5653800" y="1267200"/>
                <a:ext cx="53640" cy="2617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Rectangle 16"/>
              <p:cNvSpPr/>
              <p:nvPr/>
            </p:nvSpPr>
            <p:spPr>
              <a:xfrm>
                <a:off x="5822640" y="1439640"/>
                <a:ext cx="55800" cy="2617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Rectangle 17"/>
              <p:cNvSpPr/>
              <p:nvPr/>
            </p:nvSpPr>
            <p:spPr>
              <a:xfrm>
                <a:off x="5822640" y="1784160"/>
                <a:ext cx="55800" cy="261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Rectangle 18"/>
              <p:cNvSpPr/>
              <p:nvPr/>
            </p:nvSpPr>
            <p:spPr>
              <a:xfrm rot="16200000">
                <a:off x="5653080" y="1956600"/>
                <a:ext cx="55080" cy="2617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Rectangle 19"/>
              <p:cNvSpPr/>
              <p:nvPr/>
            </p:nvSpPr>
            <p:spPr>
              <a:xfrm rot="16200000">
                <a:off x="5654520" y="1612440"/>
                <a:ext cx="51840" cy="2617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Rectangle 20"/>
              <p:cNvSpPr/>
              <p:nvPr/>
            </p:nvSpPr>
            <p:spPr>
              <a:xfrm>
                <a:off x="6003720" y="1439640"/>
                <a:ext cx="54000" cy="2617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Rectangle 21"/>
              <p:cNvSpPr/>
              <p:nvPr/>
            </p:nvSpPr>
            <p:spPr>
              <a:xfrm>
                <a:off x="6003720" y="1784160"/>
                <a:ext cx="54000" cy="261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Rectangle 22"/>
              <p:cNvSpPr/>
              <p:nvPr/>
            </p:nvSpPr>
            <p:spPr>
              <a:xfrm rot="16200000">
                <a:off x="6176160" y="1268640"/>
                <a:ext cx="53640" cy="2588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Rectangle 23"/>
              <p:cNvSpPr/>
              <p:nvPr/>
            </p:nvSpPr>
            <p:spPr>
              <a:xfrm>
                <a:off x="6346440" y="1439640"/>
                <a:ext cx="59040" cy="2617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Rectangle 24"/>
              <p:cNvSpPr/>
              <p:nvPr/>
            </p:nvSpPr>
            <p:spPr>
              <a:xfrm>
                <a:off x="6346440" y="1784160"/>
                <a:ext cx="59040" cy="261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Rectangle 25"/>
              <p:cNvSpPr/>
              <p:nvPr/>
            </p:nvSpPr>
            <p:spPr>
              <a:xfrm rot="16200000">
                <a:off x="6175440" y="1958040"/>
                <a:ext cx="55080" cy="2588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Rectangle 26"/>
              <p:cNvSpPr/>
              <p:nvPr/>
            </p:nvSpPr>
            <p:spPr>
              <a:xfrm rot="16200000">
                <a:off x="6176880" y="1613880"/>
                <a:ext cx="51840" cy="2588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Rectangle 27"/>
              <p:cNvSpPr/>
              <p:nvPr/>
            </p:nvSpPr>
            <p:spPr>
              <a:xfrm>
                <a:off x="6532200" y="1439640"/>
                <a:ext cx="54000" cy="2617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Rectangle 28"/>
              <p:cNvSpPr/>
              <p:nvPr/>
            </p:nvSpPr>
            <p:spPr>
              <a:xfrm>
                <a:off x="6532200" y="1784160"/>
                <a:ext cx="54000" cy="261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Rectangle 29"/>
              <p:cNvSpPr/>
              <p:nvPr/>
            </p:nvSpPr>
            <p:spPr>
              <a:xfrm rot="16200000">
                <a:off x="6704640" y="1266840"/>
                <a:ext cx="53640" cy="2620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Rectangle 30"/>
              <p:cNvSpPr/>
              <p:nvPr/>
            </p:nvSpPr>
            <p:spPr>
              <a:xfrm>
                <a:off x="6876720" y="1439640"/>
                <a:ext cx="57240" cy="2617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Rectangle 31"/>
              <p:cNvSpPr/>
              <p:nvPr/>
            </p:nvSpPr>
            <p:spPr>
              <a:xfrm>
                <a:off x="6876720" y="1784160"/>
                <a:ext cx="57240" cy="261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Rectangle 32"/>
              <p:cNvSpPr/>
              <p:nvPr/>
            </p:nvSpPr>
            <p:spPr>
              <a:xfrm rot="16200000">
                <a:off x="6703920" y="1956240"/>
                <a:ext cx="55080" cy="2620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Rectangle 33"/>
              <p:cNvSpPr/>
              <p:nvPr/>
            </p:nvSpPr>
            <p:spPr>
              <a:xfrm rot="16200000">
                <a:off x="6705720" y="1612440"/>
                <a:ext cx="51840" cy="2620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Rectangle 34"/>
              <p:cNvSpPr/>
              <p:nvPr/>
            </p:nvSpPr>
            <p:spPr>
              <a:xfrm>
                <a:off x="5892480" y="2027160"/>
                <a:ext cx="81000" cy="101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Rectangle 35"/>
              <p:cNvSpPr/>
              <p:nvPr/>
            </p:nvSpPr>
            <p:spPr>
              <a:xfrm>
                <a:off x="6402240" y="2027160"/>
                <a:ext cx="82440" cy="101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5" name="Group 36"/>
            <p:cNvGrpSpPr/>
            <p:nvPr/>
          </p:nvGrpSpPr>
          <p:grpSpPr>
            <a:xfrm>
              <a:off x="4724280" y="609480"/>
              <a:ext cx="3047760" cy="1905120"/>
              <a:chOff x="4724280" y="609480"/>
              <a:chExt cx="3047760" cy="1905120"/>
            </a:xfrm>
          </p:grpSpPr>
          <p:sp>
            <p:nvSpPr>
              <p:cNvPr id="756" name="Rectangle 37"/>
              <p:cNvSpPr/>
              <p:nvPr/>
            </p:nvSpPr>
            <p:spPr>
              <a:xfrm>
                <a:off x="4800600" y="1066680"/>
                <a:ext cx="2209680" cy="1371600"/>
              </a:xfrm>
              <a:prstGeom prst="rect">
                <a:avLst/>
              </a:prstGeom>
              <a:noFill/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7" name="Group 38"/>
              <p:cNvGrpSpPr/>
              <p:nvPr/>
            </p:nvGrpSpPr>
            <p:grpSpPr>
              <a:xfrm>
                <a:off x="4876920" y="1143000"/>
                <a:ext cx="2031840" cy="185760"/>
                <a:chOff x="4876920" y="1143000"/>
                <a:chExt cx="2031840" cy="185760"/>
              </a:xfrm>
            </p:grpSpPr>
            <p:sp>
              <p:nvSpPr>
                <p:cNvPr id="758" name="Rectangle 39"/>
                <p:cNvSpPr/>
                <p:nvPr/>
              </p:nvSpPr>
              <p:spPr>
                <a:xfrm>
                  <a:off x="6650280" y="1143000"/>
                  <a:ext cx="258480" cy="185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k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 </a:t>
                  </a:r>
                  <a:endParaRPr b="1" i="1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Rectangle 40"/>
                <p:cNvSpPr/>
                <p:nvPr/>
              </p:nvSpPr>
              <p:spPr>
                <a:xfrm>
                  <a:off x="6280200" y="1143000"/>
                  <a:ext cx="297000" cy="185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 </a:t>
                  </a:r>
                  <a:endParaRPr b="1" i="1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Rectangle 41"/>
                <p:cNvSpPr/>
                <p:nvPr/>
              </p:nvSpPr>
              <p:spPr>
                <a:xfrm>
                  <a:off x="5615280" y="1143000"/>
                  <a:ext cx="258480" cy="185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cc0000"/>
                      </a:solidFill>
                      <a:latin typeface="Times New Roman"/>
                    </a:rPr>
                    <a:t>mA</a:t>
                  </a:r>
                  <a:endParaRPr b="1" i="1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Rectangle 42"/>
                <p:cNvSpPr/>
                <p:nvPr/>
              </p:nvSpPr>
              <p:spPr>
                <a:xfrm>
                  <a:off x="4876920" y="1143000"/>
                  <a:ext cx="258840" cy="185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mV</a:t>
                  </a:r>
                  <a:endParaRPr b="1" i="1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Rectangle 43"/>
                <p:cNvSpPr/>
                <p:nvPr/>
              </p:nvSpPr>
              <p:spPr>
                <a:xfrm>
                  <a:off x="5227920" y="1143000"/>
                  <a:ext cx="258480" cy="185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V</a:t>
                  </a:r>
                  <a:endParaRPr b="1" i="1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Rectangle 44"/>
                <p:cNvSpPr/>
                <p:nvPr/>
              </p:nvSpPr>
              <p:spPr>
                <a:xfrm>
                  <a:off x="5943600" y="1143000"/>
                  <a:ext cx="258840" cy="185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A</a:t>
                  </a:r>
                  <a:endParaRPr b="1" i="1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4" name="Group 45"/>
              <p:cNvGrpSpPr/>
              <p:nvPr/>
            </p:nvGrpSpPr>
            <p:grpSpPr>
              <a:xfrm>
                <a:off x="5943600" y="2057400"/>
                <a:ext cx="811440" cy="398880"/>
                <a:chOff x="5943600" y="2057400"/>
                <a:chExt cx="811440" cy="398880"/>
              </a:xfrm>
            </p:grpSpPr>
            <p:sp>
              <p:nvSpPr>
                <p:cNvPr id="765" name="Oval 46"/>
                <p:cNvSpPr/>
                <p:nvPr/>
              </p:nvSpPr>
              <p:spPr>
                <a:xfrm>
                  <a:off x="5943600" y="2246040"/>
                  <a:ext cx="109800" cy="109080"/>
                </a:xfrm>
                <a:prstGeom prst="ellipse">
                  <a:avLst/>
                </a:prstGeom>
                <a:solidFill>
                  <a:srgbClr val="cc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Oval 47"/>
                <p:cNvSpPr/>
                <p:nvPr/>
              </p:nvSpPr>
              <p:spPr>
                <a:xfrm>
                  <a:off x="5970600" y="2274480"/>
                  <a:ext cx="54000" cy="53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1" i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Text Box 48"/>
                <p:cNvSpPr/>
                <p:nvPr/>
              </p:nvSpPr>
              <p:spPr>
                <a:xfrm>
                  <a:off x="6054480" y="2057400"/>
                  <a:ext cx="700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V A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1" i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8" name="Group 49"/>
              <p:cNvGrpSpPr/>
              <p:nvPr/>
            </p:nvGrpSpPr>
            <p:grpSpPr>
              <a:xfrm>
                <a:off x="4724280" y="609480"/>
                <a:ext cx="3047760" cy="1905120"/>
                <a:chOff x="4724280" y="609480"/>
                <a:chExt cx="3047760" cy="1905120"/>
              </a:xfrm>
            </p:grpSpPr>
            <p:sp>
              <p:nvSpPr>
                <p:cNvPr id="769" name="AutoShape 50"/>
                <p:cNvSpPr/>
                <p:nvPr/>
              </p:nvSpPr>
              <p:spPr>
                <a:xfrm>
                  <a:off x="4724280" y="609480"/>
                  <a:ext cx="3047760" cy="476280"/>
                </a:xfrm>
                <a:prstGeom prst="parallelogram">
                  <a:avLst>
                    <a:gd name="adj" fmla="val 159977"/>
                  </a:avLst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i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AutoShape 51"/>
                <p:cNvSpPr/>
                <p:nvPr/>
              </p:nvSpPr>
              <p:spPr>
                <a:xfrm flipV="1" rot="5400000">
                  <a:off x="6432120" y="1174680"/>
                  <a:ext cx="1905120" cy="774720"/>
                </a:xfrm>
                <a:prstGeom prst="parallelogram">
                  <a:avLst>
                    <a:gd name="adj" fmla="val 61478"/>
                  </a:avLst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i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1" name="Group 52"/>
              <p:cNvGrpSpPr/>
              <p:nvPr/>
            </p:nvGrpSpPr>
            <p:grpSpPr>
              <a:xfrm>
                <a:off x="4923000" y="2101680"/>
                <a:ext cx="2011320" cy="337320"/>
                <a:chOff x="4923000" y="2101680"/>
                <a:chExt cx="2011320" cy="337320"/>
              </a:xfrm>
            </p:grpSpPr>
            <p:grpSp>
              <p:nvGrpSpPr>
                <p:cNvPr id="772" name="Group 53"/>
                <p:cNvGrpSpPr/>
                <p:nvPr/>
              </p:nvGrpSpPr>
              <p:grpSpPr>
                <a:xfrm>
                  <a:off x="5181840" y="2101680"/>
                  <a:ext cx="685800" cy="337320"/>
                  <a:chOff x="5181840" y="2101680"/>
                  <a:chExt cx="685800" cy="337320"/>
                </a:xfrm>
              </p:grpSpPr>
              <p:sp>
                <p:nvSpPr>
                  <p:cNvPr id="773" name="Oval 54"/>
                  <p:cNvSpPr/>
                  <p:nvPr/>
                </p:nvSpPr>
                <p:spPr>
                  <a:xfrm>
                    <a:off x="5745600" y="2239920"/>
                    <a:ext cx="122040" cy="1108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1680" bIns="316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4" name="Oval 55"/>
                  <p:cNvSpPr/>
                  <p:nvPr/>
                </p:nvSpPr>
                <p:spPr>
                  <a:xfrm>
                    <a:off x="5775840" y="2266920"/>
                    <a:ext cx="61920" cy="56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480" bIns="-6480" anchor="ctr">
                    <a:noAutofit/>
                  </a:bodyPr>
                  <a:p>
                    <a:endParaRPr b="1" i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5" name="Text Box 56"/>
                  <p:cNvSpPr/>
                  <p:nvPr/>
                </p:nvSpPr>
                <p:spPr>
                  <a:xfrm>
                    <a:off x="5181840" y="2101680"/>
                    <a:ext cx="609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M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-</a:t>
                    </a:r>
                    <a:endParaRPr b="1" i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76" name="Rectangle 57"/>
                <p:cNvSpPr/>
                <p:nvPr/>
              </p:nvSpPr>
              <p:spPr>
                <a:xfrm>
                  <a:off x="4923000" y="2176200"/>
                  <a:ext cx="258840" cy="185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d c</a:t>
                  </a:r>
                  <a:endParaRPr b="1" i="1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Rectangle 58"/>
                <p:cNvSpPr/>
                <p:nvPr/>
              </p:nvSpPr>
              <p:spPr>
                <a:xfrm>
                  <a:off x="6675480" y="2176200"/>
                  <a:ext cx="258840" cy="185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a c</a:t>
                  </a:r>
                  <a:endParaRPr b="1" i="1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78" name="Group 59"/>
          <p:cNvGrpSpPr/>
          <p:nvPr/>
        </p:nvGrpSpPr>
        <p:grpSpPr>
          <a:xfrm>
            <a:off x="4952880" y="1371600"/>
            <a:ext cx="1981440" cy="837360"/>
            <a:chOff x="4952880" y="1371600"/>
            <a:chExt cx="1981440" cy="837360"/>
          </a:xfrm>
        </p:grpSpPr>
        <p:sp>
          <p:nvSpPr>
            <p:cNvPr id="779" name="Rectangle 60"/>
            <p:cNvSpPr/>
            <p:nvPr/>
          </p:nvSpPr>
          <p:spPr>
            <a:xfrm>
              <a:off x="4952880" y="1444680"/>
              <a:ext cx="57240" cy="2804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Rectangle 61"/>
            <p:cNvSpPr/>
            <p:nvPr/>
          </p:nvSpPr>
          <p:spPr>
            <a:xfrm>
              <a:off x="4952880" y="1813680"/>
              <a:ext cx="57240" cy="28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Rectangle 62"/>
            <p:cNvSpPr/>
            <p:nvPr/>
          </p:nvSpPr>
          <p:spPr>
            <a:xfrm rot="16200000">
              <a:off x="5123520" y="1269360"/>
              <a:ext cx="57600" cy="26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Rectangle 63"/>
            <p:cNvSpPr/>
            <p:nvPr/>
          </p:nvSpPr>
          <p:spPr>
            <a:xfrm>
              <a:off x="5295960" y="1444680"/>
              <a:ext cx="57240" cy="2804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Rectangle 64"/>
            <p:cNvSpPr/>
            <p:nvPr/>
          </p:nvSpPr>
          <p:spPr>
            <a:xfrm>
              <a:off x="5295960" y="1813680"/>
              <a:ext cx="57240" cy="2800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Rectangle 65"/>
            <p:cNvSpPr/>
            <p:nvPr/>
          </p:nvSpPr>
          <p:spPr>
            <a:xfrm rot="16200000">
              <a:off x="5122800" y="2007720"/>
              <a:ext cx="59040" cy="26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Rectangle 66"/>
            <p:cNvSpPr/>
            <p:nvPr/>
          </p:nvSpPr>
          <p:spPr>
            <a:xfrm rot="16200000">
              <a:off x="5124240" y="1638720"/>
              <a:ext cx="55800" cy="2620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Rectangle 67"/>
            <p:cNvSpPr/>
            <p:nvPr/>
          </p:nvSpPr>
          <p:spPr>
            <a:xfrm>
              <a:off x="5361120" y="2070360"/>
              <a:ext cx="82440" cy="11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Rectangle 68"/>
            <p:cNvSpPr/>
            <p:nvPr/>
          </p:nvSpPr>
          <p:spPr>
            <a:xfrm>
              <a:off x="5479920" y="1444680"/>
              <a:ext cx="54000" cy="28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Rectangle 69"/>
            <p:cNvSpPr/>
            <p:nvPr/>
          </p:nvSpPr>
          <p:spPr>
            <a:xfrm>
              <a:off x="5479920" y="1813680"/>
              <a:ext cx="54000" cy="28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Rectangle 70"/>
            <p:cNvSpPr/>
            <p:nvPr/>
          </p:nvSpPr>
          <p:spPr>
            <a:xfrm rot="16200000">
              <a:off x="5652000" y="1269360"/>
              <a:ext cx="57600" cy="2620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Rectangle 71"/>
            <p:cNvSpPr/>
            <p:nvPr/>
          </p:nvSpPr>
          <p:spPr>
            <a:xfrm>
              <a:off x="5823000" y="1444680"/>
              <a:ext cx="55440" cy="2804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Rectangle 72"/>
            <p:cNvSpPr/>
            <p:nvPr/>
          </p:nvSpPr>
          <p:spPr>
            <a:xfrm>
              <a:off x="5823000" y="1813680"/>
              <a:ext cx="55440" cy="2800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Rectangle 73"/>
            <p:cNvSpPr/>
            <p:nvPr/>
          </p:nvSpPr>
          <p:spPr>
            <a:xfrm rot="16200000">
              <a:off x="5651280" y="2007720"/>
              <a:ext cx="59040" cy="26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Rectangle 74"/>
            <p:cNvSpPr/>
            <p:nvPr/>
          </p:nvSpPr>
          <p:spPr>
            <a:xfrm rot="16200000">
              <a:off x="5652720" y="1638720"/>
              <a:ext cx="55800" cy="26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Rectangle 75"/>
            <p:cNvSpPr/>
            <p:nvPr/>
          </p:nvSpPr>
          <p:spPr>
            <a:xfrm>
              <a:off x="6004080" y="1444680"/>
              <a:ext cx="54000" cy="28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Rectangle 76"/>
            <p:cNvSpPr/>
            <p:nvPr/>
          </p:nvSpPr>
          <p:spPr>
            <a:xfrm>
              <a:off x="6004080" y="1813680"/>
              <a:ext cx="54000" cy="28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Rectangle 77"/>
            <p:cNvSpPr/>
            <p:nvPr/>
          </p:nvSpPr>
          <p:spPr>
            <a:xfrm rot="16200000">
              <a:off x="6174360" y="1271160"/>
              <a:ext cx="57600" cy="258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Rectangle 78"/>
            <p:cNvSpPr/>
            <p:nvPr/>
          </p:nvSpPr>
          <p:spPr>
            <a:xfrm>
              <a:off x="6346800" y="1444680"/>
              <a:ext cx="58680" cy="2804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Rectangle 79"/>
            <p:cNvSpPr/>
            <p:nvPr/>
          </p:nvSpPr>
          <p:spPr>
            <a:xfrm>
              <a:off x="6346800" y="1813680"/>
              <a:ext cx="58680" cy="2800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Rectangle 80"/>
            <p:cNvSpPr/>
            <p:nvPr/>
          </p:nvSpPr>
          <p:spPr>
            <a:xfrm rot="16200000">
              <a:off x="6173640" y="2009520"/>
              <a:ext cx="59040" cy="25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Rectangle 81"/>
            <p:cNvSpPr/>
            <p:nvPr/>
          </p:nvSpPr>
          <p:spPr>
            <a:xfrm rot="16200000">
              <a:off x="6175080" y="1640520"/>
              <a:ext cx="55800" cy="25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Rectangle 82"/>
            <p:cNvSpPr/>
            <p:nvPr/>
          </p:nvSpPr>
          <p:spPr>
            <a:xfrm>
              <a:off x="6532560" y="1444680"/>
              <a:ext cx="54000" cy="28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Rectangle 83"/>
            <p:cNvSpPr/>
            <p:nvPr/>
          </p:nvSpPr>
          <p:spPr>
            <a:xfrm>
              <a:off x="6532560" y="1813680"/>
              <a:ext cx="54000" cy="28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Rectangle 84"/>
            <p:cNvSpPr/>
            <p:nvPr/>
          </p:nvSpPr>
          <p:spPr>
            <a:xfrm rot="16200000">
              <a:off x="6702840" y="1269360"/>
              <a:ext cx="57600" cy="2617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Rectangle 85"/>
            <p:cNvSpPr/>
            <p:nvPr/>
          </p:nvSpPr>
          <p:spPr>
            <a:xfrm>
              <a:off x="6877080" y="1444680"/>
              <a:ext cx="57240" cy="2804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Rectangle 86"/>
            <p:cNvSpPr/>
            <p:nvPr/>
          </p:nvSpPr>
          <p:spPr>
            <a:xfrm>
              <a:off x="6877080" y="1813680"/>
              <a:ext cx="57240" cy="2800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Rectangle 87"/>
            <p:cNvSpPr/>
            <p:nvPr/>
          </p:nvSpPr>
          <p:spPr>
            <a:xfrm rot="16200000">
              <a:off x="6702120" y="2007720"/>
              <a:ext cx="59040" cy="26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Rectangle 88"/>
            <p:cNvSpPr/>
            <p:nvPr/>
          </p:nvSpPr>
          <p:spPr>
            <a:xfrm rot="16200000">
              <a:off x="6703920" y="1639080"/>
              <a:ext cx="55800" cy="26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Rectangle 89"/>
            <p:cNvSpPr/>
            <p:nvPr/>
          </p:nvSpPr>
          <p:spPr>
            <a:xfrm>
              <a:off x="5892840" y="2073960"/>
              <a:ext cx="81000" cy="1083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Rectangle 90"/>
            <p:cNvSpPr/>
            <p:nvPr/>
          </p:nvSpPr>
          <p:spPr>
            <a:xfrm>
              <a:off x="6396120" y="2100600"/>
              <a:ext cx="82440" cy="10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0" name="Group 91"/>
          <p:cNvGrpSpPr/>
          <p:nvPr/>
        </p:nvGrpSpPr>
        <p:grpSpPr>
          <a:xfrm>
            <a:off x="4952880" y="1371600"/>
            <a:ext cx="1981440" cy="837720"/>
            <a:chOff x="4952880" y="1371600"/>
            <a:chExt cx="1981440" cy="837720"/>
          </a:xfrm>
        </p:grpSpPr>
        <p:sp>
          <p:nvSpPr>
            <p:cNvPr id="811" name="Rectangle 92"/>
            <p:cNvSpPr/>
            <p:nvPr/>
          </p:nvSpPr>
          <p:spPr>
            <a:xfrm>
              <a:off x="4952880" y="1445040"/>
              <a:ext cx="57240" cy="27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Rectangle 93"/>
            <p:cNvSpPr/>
            <p:nvPr/>
          </p:nvSpPr>
          <p:spPr>
            <a:xfrm>
              <a:off x="4952880" y="1813320"/>
              <a:ext cx="57240" cy="2808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Rectangle 94"/>
            <p:cNvSpPr/>
            <p:nvPr/>
          </p:nvSpPr>
          <p:spPr>
            <a:xfrm rot="16200000">
              <a:off x="5123520" y="1269360"/>
              <a:ext cx="57600" cy="2620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Rectangle 95"/>
            <p:cNvSpPr/>
            <p:nvPr/>
          </p:nvSpPr>
          <p:spPr>
            <a:xfrm>
              <a:off x="5295960" y="1445040"/>
              <a:ext cx="57240" cy="2790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Rectangle 96"/>
            <p:cNvSpPr/>
            <p:nvPr/>
          </p:nvSpPr>
          <p:spPr>
            <a:xfrm>
              <a:off x="5295960" y="1813320"/>
              <a:ext cx="57240" cy="28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Rectangle 97"/>
            <p:cNvSpPr/>
            <p:nvPr/>
          </p:nvSpPr>
          <p:spPr>
            <a:xfrm rot="16200000">
              <a:off x="5121720" y="2007720"/>
              <a:ext cx="61200" cy="2620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Rectangle 98"/>
            <p:cNvSpPr/>
            <p:nvPr/>
          </p:nvSpPr>
          <p:spPr>
            <a:xfrm rot="16200000">
              <a:off x="5123520" y="1639440"/>
              <a:ext cx="57600" cy="2620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Rectangle 99"/>
            <p:cNvSpPr/>
            <p:nvPr/>
          </p:nvSpPr>
          <p:spPr>
            <a:xfrm>
              <a:off x="5361120" y="2069640"/>
              <a:ext cx="82440" cy="11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Rectangle 100"/>
            <p:cNvSpPr/>
            <p:nvPr/>
          </p:nvSpPr>
          <p:spPr>
            <a:xfrm>
              <a:off x="5479920" y="1445040"/>
              <a:ext cx="54000" cy="27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Rectangle 101"/>
            <p:cNvSpPr/>
            <p:nvPr/>
          </p:nvSpPr>
          <p:spPr>
            <a:xfrm>
              <a:off x="5479920" y="1813320"/>
              <a:ext cx="54000" cy="28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Rectangle 102"/>
            <p:cNvSpPr/>
            <p:nvPr/>
          </p:nvSpPr>
          <p:spPr>
            <a:xfrm rot="16200000">
              <a:off x="5652000" y="1269360"/>
              <a:ext cx="57600" cy="2620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Rectangle 103"/>
            <p:cNvSpPr/>
            <p:nvPr/>
          </p:nvSpPr>
          <p:spPr>
            <a:xfrm>
              <a:off x="5823000" y="1445040"/>
              <a:ext cx="55440" cy="2790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Rectangle 104"/>
            <p:cNvSpPr/>
            <p:nvPr/>
          </p:nvSpPr>
          <p:spPr>
            <a:xfrm>
              <a:off x="5823000" y="1813320"/>
              <a:ext cx="55440" cy="2808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Rectangle 105"/>
            <p:cNvSpPr/>
            <p:nvPr/>
          </p:nvSpPr>
          <p:spPr>
            <a:xfrm rot="16200000">
              <a:off x="5650200" y="2007720"/>
              <a:ext cx="61200" cy="2620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Rectangle 106"/>
            <p:cNvSpPr/>
            <p:nvPr/>
          </p:nvSpPr>
          <p:spPr>
            <a:xfrm rot="16200000">
              <a:off x="5652000" y="1639440"/>
              <a:ext cx="57600" cy="2620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Rectangle 107"/>
            <p:cNvSpPr/>
            <p:nvPr/>
          </p:nvSpPr>
          <p:spPr>
            <a:xfrm>
              <a:off x="6004080" y="1445040"/>
              <a:ext cx="54000" cy="2790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Rectangle 108"/>
            <p:cNvSpPr/>
            <p:nvPr/>
          </p:nvSpPr>
          <p:spPr>
            <a:xfrm>
              <a:off x="6004080" y="1813320"/>
              <a:ext cx="54000" cy="2808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Rectangle 109"/>
            <p:cNvSpPr/>
            <p:nvPr/>
          </p:nvSpPr>
          <p:spPr>
            <a:xfrm rot="16200000">
              <a:off x="6174360" y="1271160"/>
              <a:ext cx="57600" cy="258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Rectangle 110"/>
            <p:cNvSpPr/>
            <p:nvPr/>
          </p:nvSpPr>
          <p:spPr>
            <a:xfrm>
              <a:off x="6346800" y="1445040"/>
              <a:ext cx="58680" cy="2790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Rectangle 111"/>
            <p:cNvSpPr/>
            <p:nvPr/>
          </p:nvSpPr>
          <p:spPr>
            <a:xfrm>
              <a:off x="6346800" y="1813320"/>
              <a:ext cx="58680" cy="2808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Rectangle 112"/>
            <p:cNvSpPr/>
            <p:nvPr/>
          </p:nvSpPr>
          <p:spPr>
            <a:xfrm rot="16200000">
              <a:off x="6172560" y="2009520"/>
              <a:ext cx="61200" cy="258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Rectangle 113"/>
            <p:cNvSpPr/>
            <p:nvPr/>
          </p:nvSpPr>
          <p:spPr>
            <a:xfrm rot="16200000">
              <a:off x="6174360" y="1641240"/>
              <a:ext cx="57600" cy="258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Rectangle 114"/>
            <p:cNvSpPr/>
            <p:nvPr/>
          </p:nvSpPr>
          <p:spPr>
            <a:xfrm>
              <a:off x="6532560" y="1445040"/>
              <a:ext cx="54000" cy="2790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Rectangle 115"/>
            <p:cNvSpPr/>
            <p:nvPr/>
          </p:nvSpPr>
          <p:spPr>
            <a:xfrm>
              <a:off x="6532560" y="1813320"/>
              <a:ext cx="54000" cy="28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Rectangle 116"/>
            <p:cNvSpPr/>
            <p:nvPr/>
          </p:nvSpPr>
          <p:spPr>
            <a:xfrm rot="16200000">
              <a:off x="6702840" y="1269360"/>
              <a:ext cx="57600" cy="2617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Rectangle 117"/>
            <p:cNvSpPr/>
            <p:nvPr/>
          </p:nvSpPr>
          <p:spPr>
            <a:xfrm>
              <a:off x="6877080" y="1445040"/>
              <a:ext cx="57240" cy="2790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Rectangle 118"/>
            <p:cNvSpPr/>
            <p:nvPr/>
          </p:nvSpPr>
          <p:spPr>
            <a:xfrm>
              <a:off x="6877080" y="1813320"/>
              <a:ext cx="57240" cy="2808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Rectangle 119"/>
            <p:cNvSpPr/>
            <p:nvPr/>
          </p:nvSpPr>
          <p:spPr>
            <a:xfrm rot="16200000">
              <a:off x="6701040" y="2007720"/>
              <a:ext cx="61200" cy="2617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Rectangle 120"/>
            <p:cNvSpPr/>
            <p:nvPr/>
          </p:nvSpPr>
          <p:spPr>
            <a:xfrm rot="16200000">
              <a:off x="6702840" y="1639440"/>
              <a:ext cx="57600" cy="2617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Rectangle 121"/>
            <p:cNvSpPr/>
            <p:nvPr/>
          </p:nvSpPr>
          <p:spPr>
            <a:xfrm>
              <a:off x="5892840" y="2073240"/>
              <a:ext cx="81000" cy="109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Rectangle 122"/>
            <p:cNvSpPr/>
            <p:nvPr/>
          </p:nvSpPr>
          <p:spPr>
            <a:xfrm>
              <a:off x="6396120" y="2101320"/>
              <a:ext cx="82440" cy="10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2" name="Freeform 123"/>
          <p:cNvSpPr/>
          <p:nvPr/>
        </p:nvSpPr>
        <p:spPr>
          <a:xfrm>
            <a:off x="2971800" y="1700280"/>
            <a:ext cx="2819520" cy="99216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992160"/>
              <a:gd name="textAreaBottom" fmla="*/ 992520 h 992160"/>
            </a:gdLst>
            <a:ahLst/>
            <a:rect l="textAreaLeft" t="textAreaTop" r="textAreaRight" b="textAreaBottom"/>
            <a:pathLst>
              <a:path w="1776" h="625">
                <a:moveTo>
                  <a:pt x="1776" y="389"/>
                </a:moveTo>
                <a:cubicBezTo>
                  <a:pt x="1752" y="445"/>
                  <a:pt x="1724" y="497"/>
                  <a:pt x="1680" y="533"/>
                </a:cubicBezTo>
                <a:cubicBezTo>
                  <a:pt x="1636" y="569"/>
                  <a:pt x="1567" y="588"/>
                  <a:pt x="1509" y="603"/>
                </a:cubicBezTo>
                <a:cubicBezTo>
                  <a:pt x="1451" y="618"/>
                  <a:pt x="1411" y="625"/>
                  <a:pt x="1328" y="621"/>
                </a:cubicBezTo>
                <a:cubicBezTo>
                  <a:pt x="1245" y="617"/>
                  <a:pt x="1101" y="620"/>
                  <a:pt x="1008" y="581"/>
                </a:cubicBezTo>
                <a:cubicBezTo>
                  <a:pt x="915" y="542"/>
                  <a:pt x="830" y="461"/>
                  <a:pt x="768" y="389"/>
                </a:cubicBezTo>
                <a:cubicBezTo>
                  <a:pt x="706" y="317"/>
                  <a:pt x="693" y="205"/>
                  <a:pt x="637" y="149"/>
                </a:cubicBezTo>
                <a:cubicBezTo>
                  <a:pt x="581" y="93"/>
                  <a:pt x="486" y="74"/>
                  <a:pt x="432" y="53"/>
                </a:cubicBezTo>
                <a:cubicBezTo>
                  <a:pt x="378" y="32"/>
                  <a:pt x="352" y="29"/>
                  <a:pt x="310" y="21"/>
                </a:cubicBezTo>
                <a:cubicBezTo>
                  <a:pt x="268" y="13"/>
                  <a:pt x="234" y="6"/>
                  <a:pt x="182" y="3"/>
                </a:cubicBezTo>
                <a:cubicBezTo>
                  <a:pt x="130" y="0"/>
                  <a:pt x="38" y="5"/>
                  <a:pt x="0" y="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Freeform 124"/>
          <p:cNvSpPr/>
          <p:nvPr/>
        </p:nvSpPr>
        <p:spPr>
          <a:xfrm>
            <a:off x="2971800" y="2241720"/>
            <a:ext cx="3048120" cy="699840"/>
          </a:xfrm>
          <a:custGeom>
            <a:avLst/>
            <a:gdLst>
              <a:gd name="textAreaLeft" fmla="*/ 0 w 3048120"/>
              <a:gd name="textAreaRight" fmla="*/ 3048480 w 3048120"/>
              <a:gd name="textAreaTop" fmla="*/ 0 h 699840"/>
              <a:gd name="textAreaBottom" fmla="*/ 700200 h 699840"/>
            </a:gdLst>
            <a:ahLst/>
            <a:rect l="textAreaLeft" t="textAreaTop" r="textAreaRight" b="textAreaBottom"/>
            <a:pathLst>
              <a:path w="1920" h="441">
                <a:moveTo>
                  <a:pt x="1920" y="48"/>
                </a:moveTo>
                <a:cubicBezTo>
                  <a:pt x="1872" y="164"/>
                  <a:pt x="1784" y="273"/>
                  <a:pt x="1728" y="336"/>
                </a:cubicBezTo>
                <a:cubicBezTo>
                  <a:pt x="1672" y="399"/>
                  <a:pt x="1646" y="411"/>
                  <a:pt x="1582" y="426"/>
                </a:cubicBezTo>
                <a:cubicBezTo>
                  <a:pt x="1518" y="441"/>
                  <a:pt x="1442" y="433"/>
                  <a:pt x="1346" y="426"/>
                </a:cubicBezTo>
                <a:cubicBezTo>
                  <a:pt x="1250" y="419"/>
                  <a:pt x="1120" y="423"/>
                  <a:pt x="1008" y="384"/>
                </a:cubicBezTo>
                <a:cubicBezTo>
                  <a:pt x="896" y="345"/>
                  <a:pt x="776" y="248"/>
                  <a:pt x="672" y="192"/>
                </a:cubicBezTo>
                <a:cubicBezTo>
                  <a:pt x="568" y="136"/>
                  <a:pt x="496" y="80"/>
                  <a:pt x="384" y="48"/>
                </a:cubicBezTo>
                <a:cubicBezTo>
                  <a:pt x="272" y="16"/>
                  <a:pt x="136" y="8"/>
                  <a:pt x="0" y="0"/>
                </a:cubicBezTo>
              </a:path>
            </a:pathLst>
          </a:custGeom>
          <a:noFill/>
          <a:ln w="38160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Text Box 125"/>
          <p:cNvSpPr/>
          <p:nvPr/>
        </p:nvSpPr>
        <p:spPr>
          <a:xfrm>
            <a:off x="605520" y="4298040"/>
            <a:ext cx="514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easure the current when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is 100 Hz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Text Box 126"/>
          <p:cNvSpPr/>
          <p:nvPr/>
        </p:nvSpPr>
        <p:spPr>
          <a:xfrm>
            <a:off x="5738400" y="4272840"/>
            <a:ext cx="278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Next, calculate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cc0000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.  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Text Box 127"/>
          <p:cNvSpPr/>
          <p:nvPr/>
        </p:nvSpPr>
        <p:spPr>
          <a:xfrm>
            <a:off x="1573560" y="4806000"/>
            <a:ext cx="574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cc0000"/>
                </a:solidFill>
                <a:latin typeface="Times New Roman"/>
              </a:rPr>
              <a:t>L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V</a:t>
            </a:r>
            <a:r>
              <a:rPr b="1" i="1" lang="en-US" sz="2400" spc="-1" strike="noStrike" baseline="-25000">
                <a:solidFill>
                  <a:srgbClr val="cc0000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i="1" lang="en-US" sz="2400" spc="-1" strike="noStrike" baseline="-25000">
                <a:solidFill>
                  <a:srgbClr val="cc0000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30 V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47.77 mA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 628 </a:t>
            </a:r>
            <a:r>
              <a:rPr b="1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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Text Box 128"/>
          <p:cNvSpPr/>
          <p:nvPr/>
        </p:nvSpPr>
        <p:spPr>
          <a:xfrm>
            <a:off x="528840" y="5288400"/>
            <a:ext cx="514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Measure the current when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is 200 Hz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Text Box 129"/>
          <p:cNvSpPr/>
          <p:nvPr/>
        </p:nvSpPr>
        <p:spPr>
          <a:xfrm>
            <a:off x="5594400" y="5263200"/>
            <a:ext cx="262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Then, calculate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8000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Text Box 130"/>
          <p:cNvSpPr/>
          <p:nvPr/>
        </p:nvSpPr>
        <p:spPr>
          <a:xfrm>
            <a:off x="2078280" y="5720400"/>
            <a:ext cx="4639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8000"/>
                </a:solidFill>
                <a:latin typeface="Times New Roman"/>
              </a:rPr>
              <a:t>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  30 V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23.89 m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 1256 </a:t>
            </a:r>
            <a:r>
              <a:rPr b="1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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Freeform 131"/>
          <p:cNvSpPr/>
          <p:nvPr/>
        </p:nvSpPr>
        <p:spPr>
          <a:xfrm>
            <a:off x="2819520" y="1600200"/>
            <a:ext cx="4122720" cy="1744560"/>
          </a:xfrm>
          <a:custGeom>
            <a:avLst/>
            <a:gdLst>
              <a:gd name="textAreaLeft" fmla="*/ 0 w 4122720"/>
              <a:gd name="textAreaRight" fmla="*/ 4123080 w 4122720"/>
              <a:gd name="textAreaTop" fmla="*/ 0 h 1744560"/>
              <a:gd name="textAreaBottom" fmla="*/ 1744920 h 1744560"/>
            </a:gdLst>
            <a:ahLst/>
            <a:rect l="textAreaLeft" t="textAreaTop" r="textAreaRight" b="textAreaBottom"/>
            <a:pathLst>
              <a:path w="2597" h="1099">
                <a:moveTo>
                  <a:pt x="1053" y="323"/>
                </a:moveTo>
                <a:cubicBezTo>
                  <a:pt x="1123" y="411"/>
                  <a:pt x="1017" y="561"/>
                  <a:pt x="1057" y="608"/>
                </a:cubicBezTo>
                <a:cubicBezTo>
                  <a:pt x="1097" y="655"/>
                  <a:pt x="1145" y="608"/>
                  <a:pt x="1293" y="608"/>
                </a:cubicBezTo>
                <a:cubicBezTo>
                  <a:pt x="1441" y="608"/>
                  <a:pt x="1764" y="607"/>
                  <a:pt x="1948" y="608"/>
                </a:cubicBezTo>
                <a:cubicBezTo>
                  <a:pt x="2132" y="609"/>
                  <a:pt x="2290" y="603"/>
                  <a:pt x="2397" y="611"/>
                </a:cubicBezTo>
                <a:cubicBezTo>
                  <a:pt x="2504" y="619"/>
                  <a:pt x="2581" y="627"/>
                  <a:pt x="2589" y="659"/>
                </a:cubicBezTo>
                <a:cubicBezTo>
                  <a:pt x="2597" y="691"/>
                  <a:pt x="2509" y="763"/>
                  <a:pt x="2445" y="803"/>
                </a:cubicBezTo>
                <a:cubicBezTo>
                  <a:pt x="2381" y="843"/>
                  <a:pt x="2325" y="851"/>
                  <a:pt x="2205" y="899"/>
                </a:cubicBezTo>
                <a:cubicBezTo>
                  <a:pt x="2085" y="947"/>
                  <a:pt x="1933" y="1083"/>
                  <a:pt x="1725" y="1091"/>
                </a:cubicBezTo>
                <a:cubicBezTo>
                  <a:pt x="1517" y="1099"/>
                  <a:pt x="1150" y="1012"/>
                  <a:pt x="957" y="947"/>
                </a:cubicBezTo>
                <a:cubicBezTo>
                  <a:pt x="764" y="882"/>
                  <a:pt x="698" y="749"/>
                  <a:pt x="566" y="699"/>
                </a:cubicBezTo>
                <a:cubicBezTo>
                  <a:pt x="434" y="649"/>
                  <a:pt x="245" y="715"/>
                  <a:pt x="166" y="645"/>
                </a:cubicBezTo>
                <a:cubicBezTo>
                  <a:pt x="87" y="575"/>
                  <a:pt x="109" y="366"/>
                  <a:pt x="94" y="281"/>
                </a:cubicBezTo>
                <a:cubicBezTo>
                  <a:pt x="79" y="196"/>
                  <a:pt x="75" y="181"/>
                  <a:pt x="75" y="136"/>
                </a:cubicBezTo>
                <a:cubicBezTo>
                  <a:pt x="75" y="91"/>
                  <a:pt x="0" y="18"/>
                  <a:pt x="94" y="9"/>
                </a:cubicBezTo>
                <a:cubicBezTo>
                  <a:pt x="188" y="0"/>
                  <a:pt x="479" y="29"/>
                  <a:pt x="639" y="81"/>
                </a:cubicBezTo>
                <a:cubicBezTo>
                  <a:pt x="799" y="133"/>
                  <a:pt x="967" y="273"/>
                  <a:pt x="1053" y="323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Freeform 132"/>
          <p:cNvSpPr/>
          <p:nvPr/>
        </p:nvSpPr>
        <p:spPr>
          <a:xfrm>
            <a:off x="2971800" y="2340000"/>
            <a:ext cx="2857680" cy="1273320"/>
          </a:xfrm>
          <a:custGeom>
            <a:avLst/>
            <a:gdLst>
              <a:gd name="textAreaLeft" fmla="*/ 0 w 2857680"/>
              <a:gd name="textAreaRight" fmla="*/ 2858040 w 2857680"/>
              <a:gd name="textAreaTop" fmla="*/ 0 h 1273320"/>
              <a:gd name="textAreaBottom" fmla="*/ 1273680 h 1273320"/>
            </a:gdLst>
            <a:ahLst/>
            <a:rect l="textAreaLeft" t="textAreaTop" r="textAreaRight" b="textAreaBottom"/>
            <a:pathLst>
              <a:path w="1800" h="802">
                <a:moveTo>
                  <a:pt x="1800" y="0"/>
                </a:moveTo>
                <a:cubicBezTo>
                  <a:pt x="1767" y="30"/>
                  <a:pt x="1676" y="118"/>
                  <a:pt x="1600" y="182"/>
                </a:cubicBezTo>
                <a:cubicBezTo>
                  <a:pt x="1524" y="246"/>
                  <a:pt x="1413" y="328"/>
                  <a:pt x="1346" y="382"/>
                </a:cubicBezTo>
                <a:cubicBezTo>
                  <a:pt x="1279" y="436"/>
                  <a:pt x="1282" y="464"/>
                  <a:pt x="1200" y="509"/>
                </a:cubicBezTo>
                <a:cubicBezTo>
                  <a:pt x="1118" y="554"/>
                  <a:pt x="985" y="612"/>
                  <a:pt x="855" y="654"/>
                </a:cubicBezTo>
                <a:cubicBezTo>
                  <a:pt x="725" y="696"/>
                  <a:pt x="561" y="739"/>
                  <a:pt x="419" y="764"/>
                </a:cubicBezTo>
                <a:cubicBezTo>
                  <a:pt x="277" y="789"/>
                  <a:pt x="87" y="794"/>
                  <a:pt x="0" y="802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Freeform 133"/>
          <p:cNvSpPr/>
          <p:nvPr/>
        </p:nvSpPr>
        <p:spPr>
          <a:xfrm>
            <a:off x="2971800" y="2311560"/>
            <a:ext cx="3060720" cy="1765080"/>
          </a:xfrm>
          <a:custGeom>
            <a:avLst/>
            <a:gdLst>
              <a:gd name="textAreaLeft" fmla="*/ 0 w 3060720"/>
              <a:gd name="textAreaRight" fmla="*/ 3061080 w 3060720"/>
              <a:gd name="textAreaTop" fmla="*/ 0 h 1765080"/>
              <a:gd name="textAreaBottom" fmla="*/ 1765440 h 1765080"/>
            </a:gdLst>
            <a:ahLst/>
            <a:rect l="textAreaLeft" t="textAreaTop" r="textAreaRight" b="textAreaBottom"/>
            <a:pathLst>
              <a:path w="1928" h="1112">
                <a:moveTo>
                  <a:pt x="1928" y="0"/>
                </a:moveTo>
                <a:cubicBezTo>
                  <a:pt x="1864" y="82"/>
                  <a:pt x="1688" y="349"/>
                  <a:pt x="1546" y="491"/>
                </a:cubicBezTo>
                <a:cubicBezTo>
                  <a:pt x="1404" y="633"/>
                  <a:pt x="1200" y="772"/>
                  <a:pt x="1073" y="854"/>
                </a:cubicBezTo>
                <a:cubicBezTo>
                  <a:pt x="946" y="936"/>
                  <a:pt x="879" y="949"/>
                  <a:pt x="782" y="982"/>
                </a:cubicBezTo>
                <a:cubicBezTo>
                  <a:pt x="685" y="1015"/>
                  <a:pt x="576" y="1036"/>
                  <a:pt x="491" y="1054"/>
                </a:cubicBezTo>
                <a:cubicBezTo>
                  <a:pt x="406" y="1072"/>
                  <a:pt x="324" y="1082"/>
                  <a:pt x="273" y="1091"/>
                </a:cubicBezTo>
                <a:cubicBezTo>
                  <a:pt x="222" y="1100"/>
                  <a:pt x="227" y="1106"/>
                  <a:pt x="182" y="1109"/>
                </a:cubicBezTo>
                <a:cubicBezTo>
                  <a:pt x="137" y="1112"/>
                  <a:pt x="38" y="1108"/>
                  <a:pt x="0" y="1108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Text Box 134"/>
          <p:cNvSpPr/>
          <p:nvPr/>
        </p:nvSpPr>
        <p:spPr>
          <a:xfrm>
            <a:off x="1424880" y="6253920"/>
            <a:ext cx="590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Notice that 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cc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 is directly proportional to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.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4" name="Group 135"/>
          <p:cNvGrpSpPr/>
          <p:nvPr/>
        </p:nvGrpSpPr>
        <p:grpSpPr>
          <a:xfrm>
            <a:off x="1110240" y="991080"/>
            <a:ext cx="2396520" cy="1294920"/>
            <a:chOff x="1110240" y="991080"/>
            <a:chExt cx="2396520" cy="1294920"/>
          </a:xfrm>
        </p:grpSpPr>
        <p:grpSp>
          <p:nvGrpSpPr>
            <p:cNvPr id="855" name="Group 136"/>
            <p:cNvGrpSpPr/>
            <p:nvPr/>
          </p:nvGrpSpPr>
          <p:grpSpPr>
            <a:xfrm>
              <a:off x="1110240" y="991080"/>
              <a:ext cx="1949760" cy="1294920"/>
              <a:chOff x="1110240" y="991080"/>
              <a:chExt cx="1949760" cy="1294920"/>
            </a:xfrm>
          </p:grpSpPr>
          <p:sp>
            <p:nvSpPr>
              <p:cNvPr id="856" name="Line 137"/>
              <p:cNvSpPr/>
              <p:nvPr/>
            </p:nvSpPr>
            <p:spPr>
              <a:xfrm>
                <a:off x="2111400" y="1036800"/>
                <a:ext cx="0" cy="117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7" name="Group 138"/>
              <p:cNvGrpSpPr/>
              <p:nvPr/>
            </p:nvGrpSpPr>
            <p:grpSpPr>
              <a:xfrm>
                <a:off x="1801800" y="1284120"/>
                <a:ext cx="628560" cy="617760"/>
                <a:chOff x="1801800" y="1284120"/>
                <a:chExt cx="628560" cy="617760"/>
              </a:xfrm>
            </p:grpSpPr>
            <p:sp>
              <p:nvSpPr>
                <p:cNvPr id="858" name="Oval 139"/>
                <p:cNvSpPr/>
                <p:nvPr/>
              </p:nvSpPr>
              <p:spPr>
                <a:xfrm>
                  <a:off x="1801800" y="1284120"/>
                  <a:ext cx="628560" cy="61776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i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59" name="Group 140"/>
                <p:cNvGrpSpPr/>
                <p:nvPr/>
              </p:nvGrpSpPr>
              <p:grpSpPr>
                <a:xfrm>
                  <a:off x="1927080" y="1407600"/>
                  <a:ext cx="377280" cy="370080"/>
                  <a:chOff x="1927080" y="1407600"/>
                  <a:chExt cx="377280" cy="370080"/>
                </a:xfrm>
              </p:grpSpPr>
              <p:sp>
                <p:nvSpPr>
                  <p:cNvPr id="860" name="Arc 141"/>
                  <p:cNvSpPr/>
                  <p:nvPr/>
                </p:nvSpPr>
                <p:spPr>
                  <a:xfrm flipH="1">
                    <a:off x="1926720" y="1407600"/>
                    <a:ext cx="188280" cy="207720"/>
                  </a:xfrm>
                  <a:custGeom>
                    <a:avLst/>
                    <a:gdLst>
                      <a:gd name="textAreaLeft" fmla="*/ -360 w 188280"/>
                      <a:gd name="textAreaRight" fmla="*/ 188280 w 188280"/>
                      <a:gd name="textAreaTop" fmla="*/ 0 h 207720"/>
                      <a:gd name="textAreaBottom" fmla="*/ 208080 h 207720"/>
                    </a:gdLst>
                    <a:ahLst/>
                    <a:rect l="textAreaLeft" t="textAreaTop" r="textAreaRight" b="textAreaBottom"/>
                    <a:pathLst>
                      <a:path fill="none" w="42910" h="21600">
                        <a:moveTo>
                          <a:pt x="0" y="18900"/>
                        </a:moveTo>
                        <a:cubicBezTo>
                          <a:pt x="1361" y="8100"/>
                          <a:pt x="10545" y="-1"/>
                          <a:pt x="21431" y="0"/>
                        </a:cubicBezTo>
                        <a:cubicBezTo>
                          <a:pt x="32476" y="0"/>
                          <a:pt x="41743" y="8333"/>
                          <a:pt x="42910" y="19317"/>
                        </a:cubicBezTo>
                      </a:path>
                      <a:path stroke="0" w="42910" h="21600">
                        <a:moveTo>
                          <a:pt x="0" y="18900"/>
                        </a:moveTo>
                        <a:cubicBezTo>
                          <a:pt x="1361" y="8100"/>
                          <a:pt x="10545" y="-1"/>
                          <a:pt x="21431" y="0"/>
                        </a:cubicBezTo>
                        <a:cubicBezTo>
                          <a:pt x="32476" y="0"/>
                          <a:pt x="41743" y="8333"/>
                          <a:pt x="42910" y="19317"/>
                        </a:cubicBezTo>
                        <a:lnTo>
                          <a:pt x="21431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2844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i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1" name="Arc 142"/>
                  <p:cNvSpPr/>
                  <p:nvPr/>
                </p:nvSpPr>
                <p:spPr>
                  <a:xfrm flipH="1" flipV="1">
                    <a:off x="2115720" y="1569600"/>
                    <a:ext cx="188280" cy="207720"/>
                  </a:xfrm>
                  <a:custGeom>
                    <a:avLst/>
                    <a:gdLst>
                      <a:gd name="textAreaLeft" fmla="*/ -360 w 188280"/>
                      <a:gd name="textAreaRight" fmla="*/ 188280 w 188280"/>
                      <a:gd name="textAreaTop" fmla="*/ -360 h 207720"/>
                      <a:gd name="textAreaBottom" fmla="*/ 207720 h 207720"/>
                    </a:gdLst>
                    <a:ahLst/>
                    <a:rect l="textAreaLeft" t="textAreaTop" r="textAreaRight" b="textAreaBottom"/>
                    <a:pathLst>
                      <a:path fill="none" w="42910" h="21600">
                        <a:moveTo>
                          <a:pt x="0" y="18900"/>
                        </a:moveTo>
                        <a:cubicBezTo>
                          <a:pt x="1361" y="8100"/>
                          <a:pt x="10545" y="-1"/>
                          <a:pt x="21431" y="0"/>
                        </a:cubicBezTo>
                        <a:cubicBezTo>
                          <a:pt x="32476" y="0"/>
                          <a:pt x="41743" y="8333"/>
                          <a:pt x="42910" y="19317"/>
                        </a:cubicBezTo>
                      </a:path>
                      <a:path stroke="0" w="42910" h="21600">
                        <a:moveTo>
                          <a:pt x="0" y="18900"/>
                        </a:moveTo>
                        <a:cubicBezTo>
                          <a:pt x="1361" y="8100"/>
                          <a:pt x="10545" y="-1"/>
                          <a:pt x="21431" y="0"/>
                        </a:cubicBezTo>
                        <a:cubicBezTo>
                          <a:pt x="32476" y="0"/>
                          <a:pt x="41743" y="8333"/>
                          <a:pt x="42910" y="19317"/>
                        </a:cubicBezTo>
                        <a:lnTo>
                          <a:pt x="21431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2844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i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862" name="Text Box 143"/>
              <p:cNvSpPr/>
              <p:nvPr/>
            </p:nvSpPr>
            <p:spPr>
              <a:xfrm>
                <a:off x="1339560" y="1098000"/>
                <a:ext cx="619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9933"/>
                    </a:solidFill>
                    <a:latin typeface="Times New Roman"/>
                  </a:rPr>
                  <a:t>30 </a:t>
                </a:r>
                <a:r>
                  <a:rPr b="1" i="1" lang="en-US" sz="1800" spc="-1" strike="noStrike">
                    <a:solidFill>
                      <a:srgbClr val="339933"/>
                    </a:solidFill>
                    <a:latin typeface="Times New Roman"/>
                  </a:rPr>
                  <a:t>V</a:t>
                </a:r>
                <a:endParaRPr b="1" i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Text Box 144"/>
              <p:cNvSpPr/>
              <p:nvPr/>
            </p:nvSpPr>
            <p:spPr>
              <a:xfrm>
                <a:off x="1110240" y="1874160"/>
                <a:ext cx="861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0000"/>
                    </a:solidFill>
                    <a:latin typeface="Times New Roman"/>
                  </a:rPr>
                  <a:t>100 Hz</a:t>
                </a:r>
                <a:endParaRPr b="1" i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864" name="AutoShape 145"/>
              <p:cNvCxnSpPr/>
              <p:nvPr/>
            </p:nvCxnSpPr>
            <p:spPr>
              <a:xfrm flipH="1" flipV="1" rot="5400000">
                <a:off x="2552400" y="581760"/>
                <a:ext cx="43560" cy="92628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sp>
            <p:nvSpPr>
              <p:cNvPr id="865" name="Line 146"/>
              <p:cNvSpPr/>
              <p:nvPr/>
            </p:nvSpPr>
            <p:spPr>
              <a:xfrm flipH="1">
                <a:off x="2106720" y="2286000"/>
                <a:ext cx="914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Line 147"/>
              <p:cNvSpPr/>
              <p:nvPr/>
            </p:nvSpPr>
            <p:spPr>
              <a:xfrm>
                <a:off x="2111400" y="1981080"/>
                <a:ext cx="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7" name="Group 148"/>
              <p:cNvGrpSpPr/>
              <p:nvPr/>
            </p:nvGrpSpPr>
            <p:grpSpPr>
              <a:xfrm>
                <a:off x="2749320" y="991080"/>
                <a:ext cx="310680" cy="1294560"/>
                <a:chOff x="2749320" y="991080"/>
                <a:chExt cx="310680" cy="1294560"/>
              </a:xfrm>
            </p:grpSpPr>
            <p:grpSp>
              <p:nvGrpSpPr>
                <p:cNvPr id="868" name="Group 149"/>
                <p:cNvGrpSpPr/>
                <p:nvPr/>
              </p:nvGrpSpPr>
              <p:grpSpPr>
                <a:xfrm>
                  <a:off x="2749320" y="991080"/>
                  <a:ext cx="310680" cy="852120"/>
                  <a:chOff x="2749320" y="991080"/>
                  <a:chExt cx="310680" cy="852120"/>
                </a:xfrm>
              </p:grpSpPr>
              <p:sp>
                <p:nvSpPr>
                  <p:cNvPr id="869" name="Arc 150"/>
                  <p:cNvSpPr/>
                  <p:nvPr/>
                </p:nvSpPr>
                <p:spPr>
                  <a:xfrm rot="7723800">
                    <a:off x="2800440" y="1252800"/>
                    <a:ext cx="211320" cy="212760"/>
                  </a:xfrm>
                  <a:custGeom>
                    <a:avLst/>
                    <a:gdLst>
                      <a:gd name="textAreaLeft" fmla="*/ 0 w 211320"/>
                      <a:gd name="textAreaRight" fmla="*/ 211680 w 211320"/>
                      <a:gd name="textAreaTop" fmla="*/ 0 h 212760"/>
                      <a:gd name="textAreaBottom" fmla="*/ 213120 h 212760"/>
                    </a:gdLst>
                    <a:ahLst/>
                    <a:rect l="textAreaLeft" t="textAreaTop" r="textAreaRight" b="textAreaBottom"/>
                    <a:pathLst>
                      <a:path fill="none" w="43200" h="43200">
                        <a:moveTo>
                          <a:pt x="20289" y="39"/>
                        </a:moveTo>
                        <a:cubicBezTo>
                          <a:pt x="20726" y="13"/>
                          <a:pt x="21163" y="-1"/>
                          <a:pt x="21600" y="0"/>
                        </a:cubicBezTo>
                        <a:cubicBezTo>
                          <a:pt x="33529" y="0"/>
                          <a:pt x="43200" y="9670"/>
                          <a:pt x="43200" y="21600"/>
                        </a:cubicBezTo>
                        <a:cubicBezTo>
                          <a:pt x="43200" y="33529"/>
                          <a:pt x="33529" y="43200"/>
                          <a:pt x="21600" y="43200"/>
                        </a:cubicBezTo>
                        <a:cubicBezTo>
                          <a:pt x="9670" y="43200"/>
                          <a:pt x="0" y="33529"/>
                          <a:pt x="0" y="21600"/>
                        </a:cubicBezTo>
                        <a:cubicBezTo>
                          <a:pt x="-1" y="18915"/>
                          <a:pt x="500" y="16255"/>
                          <a:pt x="1475" y="13754"/>
                        </a:cubicBezTo>
                      </a:path>
                      <a:path stroke="0" w="43200" h="43200">
                        <a:moveTo>
                          <a:pt x="20289" y="39"/>
                        </a:moveTo>
                        <a:cubicBezTo>
                          <a:pt x="20726" y="13"/>
                          <a:pt x="21163" y="-1"/>
                          <a:pt x="21600" y="0"/>
                        </a:cubicBezTo>
                        <a:cubicBezTo>
                          <a:pt x="33529" y="0"/>
                          <a:pt x="43200" y="9670"/>
                          <a:pt x="43200" y="21600"/>
                        </a:cubicBezTo>
                        <a:cubicBezTo>
                          <a:pt x="43200" y="33529"/>
                          <a:pt x="33529" y="43200"/>
                          <a:pt x="21600" y="43200"/>
                        </a:cubicBezTo>
                        <a:cubicBezTo>
                          <a:pt x="9670" y="43200"/>
                          <a:pt x="0" y="33529"/>
                          <a:pt x="0" y="21600"/>
                        </a:cubicBezTo>
                        <a:cubicBezTo>
                          <a:pt x="-1" y="18915"/>
                          <a:pt x="500" y="16255"/>
                          <a:pt x="1475" y="13754"/>
                        </a:cubicBezTo>
                        <a:lnTo>
                          <a:pt x="21600" y="21600"/>
                        </a:lnTo>
                        <a:close/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i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0" name="Arc 151"/>
                  <p:cNvSpPr/>
                  <p:nvPr/>
                </p:nvSpPr>
                <p:spPr>
                  <a:xfrm rot="7723800">
                    <a:off x="2805480" y="1132200"/>
                    <a:ext cx="210960" cy="212760"/>
                  </a:xfrm>
                  <a:custGeom>
                    <a:avLst/>
                    <a:gdLst>
                      <a:gd name="textAreaLeft" fmla="*/ 0 w 210960"/>
                      <a:gd name="textAreaRight" fmla="*/ 211320 w 210960"/>
                      <a:gd name="textAreaTop" fmla="*/ 0 h 212760"/>
                      <a:gd name="textAreaBottom" fmla="*/ 213120 h 212760"/>
                    </a:gdLst>
                    <a:ahLst/>
                    <a:rect l="textAreaLeft" t="textAreaTop" r="textAreaRight" b="textAreaBottom"/>
                    <a:pathLst>
                      <a:path fill="none" w="43200" h="43200">
                        <a:moveTo>
                          <a:pt x="21637" y="0"/>
                        </a:moveTo>
                        <a:cubicBezTo>
                          <a:pt x="33552" y="20"/>
                          <a:pt x="43200" y="9685"/>
                          <a:pt x="43200" y="21600"/>
                        </a:cubicBezTo>
                        <a:cubicBezTo>
                          <a:pt x="43200" y="33529"/>
                          <a:pt x="33529" y="43200"/>
                          <a:pt x="21600" y="43200"/>
                        </a:cubicBezTo>
                        <a:cubicBezTo>
                          <a:pt x="9670" y="43200"/>
                          <a:pt x="0" y="33529"/>
                          <a:pt x="0" y="21600"/>
                        </a:cubicBezTo>
                        <a:cubicBezTo>
                          <a:pt x="-1" y="19451"/>
                          <a:pt x="320" y="17315"/>
                          <a:pt x="950" y="15261"/>
                        </a:cubicBezTo>
                      </a:path>
                      <a:path stroke="0" w="43200" h="43200">
                        <a:moveTo>
                          <a:pt x="21637" y="0"/>
                        </a:moveTo>
                        <a:cubicBezTo>
                          <a:pt x="33552" y="20"/>
                          <a:pt x="43200" y="9685"/>
                          <a:pt x="43200" y="21600"/>
                        </a:cubicBezTo>
                        <a:cubicBezTo>
                          <a:pt x="43200" y="33529"/>
                          <a:pt x="33529" y="43200"/>
                          <a:pt x="21600" y="43200"/>
                        </a:cubicBezTo>
                        <a:cubicBezTo>
                          <a:pt x="9670" y="43200"/>
                          <a:pt x="0" y="33529"/>
                          <a:pt x="0" y="21600"/>
                        </a:cubicBezTo>
                        <a:cubicBezTo>
                          <a:pt x="-1" y="19451"/>
                          <a:pt x="320" y="17315"/>
                          <a:pt x="950" y="15261"/>
                        </a:cubicBezTo>
                        <a:lnTo>
                          <a:pt x="21600" y="21600"/>
                        </a:lnTo>
                        <a:close/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i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1" name="Arc 152"/>
                  <p:cNvSpPr/>
                  <p:nvPr/>
                </p:nvSpPr>
                <p:spPr>
                  <a:xfrm rot="7723800">
                    <a:off x="2792520" y="1505160"/>
                    <a:ext cx="211320" cy="212760"/>
                  </a:xfrm>
                  <a:custGeom>
                    <a:avLst/>
                    <a:gdLst>
                      <a:gd name="textAreaLeft" fmla="*/ 0 w 211320"/>
                      <a:gd name="textAreaRight" fmla="*/ 211680 w 211320"/>
                      <a:gd name="textAreaTop" fmla="*/ 0 h 212760"/>
                      <a:gd name="textAreaBottom" fmla="*/ 213120 h 212760"/>
                    </a:gdLst>
                    <a:ahLst/>
                    <a:rect l="textAreaLeft" t="textAreaTop" r="textAreaRight" b="textAreaBottom"/>
                    <a:pathLst>
                      <a:path fill="none" w="43200" h="43200">
                        <a:moveTo>
                          <a:pt x="21599" y="0"/>
                        </a:moveTo>
                        <a:cubicBezTo>
                          <a:pt x="33529" y="0"/>
                          <a:pt x="43200" y="9670"/>
                          <a:pt x="43200" y="21600"/>
                        </a:cubicBezTo>
                        <a:cubicBezTo>
                          <a:pt x="43200" y="33529"/>
                          <a:pt x="33529" y="43200"/>
                          <a:pt x="21600" y="43200"/>
                        </a:cubicBezTo>
                        <a:cubicBezTo>
                          <a:pt x="9670" y="43200"/>
                          <a:pt x="0" y="33529"/>
                          <a:pt x="0" y="21600"/>
                        </a:cubicBezTo>
                        <a:cubicBezTo>
                          <a:pt x="-1" y="18915"/>
                          <a:pt x="500" y="16255"/>
                          <a:pt x="1475" y="13754"/>
                        </a:cubicBezTo>
                      </a:path>
                      <a:path stroke="0" w="43200" h="43200">
                        <a:moveTo>
                          <a:pt x="21599" y="0"/>
                        </a:moveTo>
                        <a:cubicBezTo>
                          <a:pt x="33529" y="0"/>
                          <a:pt x="43200" y="9670"/>
                          <a:pt x="43200" y="21600"/>
                        </a:cubicBezTo>
                        <a:cubicBezTo>
                          <a:pt x="43200" y="33529"/>
                          <a:pt x="33529" y="43200"/>
                          <a:pt x="21600" y="43200"/>
                        </a:cubicBezTo>
                        <a:cubicBezTo>
                          <a:pt x="9670" y="43200"/>
                          <a:pt x="0" y="33529"/>
                          <a:pt x="0" y="21600"/>
                        </a:cubicBezTo>
                        <a:cubicBezTo>
                          <a:pt x="-1" y="18915"/>
                          <a:pt x="500" y="16255"/>
                          <a:pt x="1475" y="13754"/>
                        </a:cubicBezTo>
                        <a:lnTo>
                          <a:pt x="21600" y="21600"/>
                        </a:lnTo>
                        <a:close/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i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2" name="Arc 153"/>
                  <p:cNvSpPr/>
                  <p:nvPr/>
                </p:nvSpPr>
                <p:spPr>
                  <a:xfrm rot="7723800">
                    <a:off x="2801880" y="1378080"/>
                    <a:ext cx="211320" cy="212760"/>
                  </a:xfrm>
                  <a:custGeom>
                    <a:avLst/>
                    <a:gdLst>
                      <a:gd name="textAreaLeft" fmla="*/ 0 w 211320"/>
                      <a:gd name="textAreaRight" fmla="*/ 211680 w 211320"/>
                      <a:gd name="textAreaTop" fmla="*/ 0 h 212760"/>
                      <a:gd name="textAreaBottom" fmla="*/ 213120 h 212760"/>
                    </a:gdLst>
                    <a:ahLst/>
                    <a:rect l="textAreaLeft" t="textAreaTop" r="textAreaRight" b="textAreaBottom"/>
                    <a:pathLst>
                      <a:path fill="none" w="43200" h="43190">
                        <a:moveTo>
                          <a:pt x="22256" y="-1"/>
                        </a:moveTo>
                        <a:cubicBezTo>
                          <a:pt x="33924" y="354"/>
                          <a:pt x="43200" y="9916"/>
                          <a:pt x="43200" y="21590"/>
                        </a:cubicBezTo>
                        <a:cubicBezTo>
                          <a:pt x="43200" y="33519"/>
                          <a:pt x="33529" y="43190"/>
                          <a:pt x="21600" y="43190"/>
                        </a:cubicBezTo>
                        <a:cubicBezTo>
                          <a:pt x="9670" y="43190"/>
                          <a:pt x="0" y="33519"/>
                          <a:pt x="0" y="21590"/>
                        </a:cubicBezTo>
                        <a:cubicBezTo>
                          <a:pt x="-1" y="19718"/>
                          <a:pt x="243" y="17854"/>
                          <a:pt x="723" y="16045"/>
                        </a:cubicBezTo>
                      </a:path>
                      <a:path stroke="0" w="43200" h="43190">
                        <a:moveTo>
                          <a:pt x="22256" y="-1"/>
                        </a:moveTo>
                        <a:cubicBezTo>
                          <a:pt x="33924" y="354"/>
                          <a:pt x="43200" y="9916"/>
                          <a:pt x="43200" y="21590"/>
                        </a:cubicBezTo>
                        <a:cubicBezTo>
                          <a:pt x="43200" y="33519"/>
                          <a:pt x="33529" y="43190"/>
                          <a:pt x="21600" y="43190"/>
                        </a:cubicBezTo>
                        <a:cubicBezTo>
                          <a:pt x="9670" y="43190"/>
                          <a:pt x="0" y="33519"/>
                          <a:pt x="0" y="21590"/>
                        </a:cubicBezTo>
                        <a:cubicBezTo>
                          <a:pt x="-1" y="19718"/>
                          <a:pt x="243" y="17854"/>
                          <a:pt x="723" y="16045"/>
                        </a:cubicBezTo>
                        <a:lnTo>
                          <a:pt x="21600" y="21590"/>
                        </a:lnTo>
                        <a:close/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i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3" name="Line 154"/>
                  <p:cNvSpPr/>
                  <p:nvPr/>
                </p:nvSpPr>
                <p:spPr>
                  <a:xfrm flipH="1">
                    <a:off x="2991240" y="1679040"/>
                    <a:ext cx="5760" cy="164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i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4" name="Line 155"/>
                  <p:cNvSpPr/>
                  <p:nvPr/>
                </p:nvSpPr>
                <p:spPr>
                  <a:xfrm flipV="1">
                    <a:off x="2989440" y="991080"/>
                    <a:ext cx="10440" cy="1825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i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75" name="Line 156"/>
                <p:cNvSpPr/>
                <p:nvPr/>
              </p:nvSpPr>
              <p:spPr>
                <a:xfrm>
                  <a:off x="2994120" y="1752480"/>
                  <a:ext cx="0" cy="533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76" name="Text Box 157"/>
            <p:cNvSpPr/>
            <p:nvPr/>
          </p:nvSpPr>
          <p:spPr>
            <a:xfrm>
              <a:off x="3033360" y="1181160"/>
              <a:ext cx="47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Times New Roman"/>
                </a:rPr>
                <a:t>1H</a:t>
              </a: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7" name="Group 158"/>
          <p:cNvGrpSpPr/>
          <p:nvPr/>
        </p:nvGrpSpPr>
        <p:grpSpPr>
          <a:xfrm>
            <a:off x="1111320" y="2819880"/>
            <a:ext cx="2411640" cy="1294560"/>
            <a:chOff x="1111320" y="2819880"/>
            <a:chExt cx="2411640" cy="1294560"/>
          </a:xfrm>
        </p:grpSpPr>
        <p:grpSp>
          <p:nvGrpSpPr>
            <p:cNvPr id="878" name="Group 159"/>
            <p:cNvGrpSpPr/>
            <p:nvPr/>
          </p:nvGrpSpPr>
          <p:grpSpPr>
            <a:xfrm>
              <a:off x="1111320" y="2819880"/>
              <a:ext cx="1948680" cy="1294560"/>
              <a:chOff x="1111320" y="2819880"/>
              <a:chExt cx="1948680" cy="1294560"/>
            </a:xfrm>
          </p:grpSpPr>
          <p:sp>
            <p:nvSpPr>
              <p:cNvPr id="879" name="Line 160"/>
              <p:cNvSpPr/>
              <p:nvPr/>
            </p:nvSpPr>
            <p:spPr>
              <a:xfrm>
                <a:off x="2111760" y="2865240"/>
                <a:ext cx="0" cy="117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0" name="Group 161"/>
              <p:cNvGrpSpPr/>
              <p:nvPr/>
            </p:nvGrpSpPr>
            <p:grpSpPr>
              <a:xfrm>
                <a:off x="1802160" y="3112920"/>
                <a:ext cx="628560" cy="617400"/>
                <a:chOff x="1802160" y="3112920"/>
                <a:chExt cx="628560" cy="617400"/>
              </a:xfrm>
            </p:grpSpPr>
            <p:sp>
              <p:nvSpPr>
                <p:cNvPr id="881" name="Oval 162"/>
                <p:cNvSpPr/>
                <p:nvPr/>
              </p:nvSpPr>
              <p:spPr>
                <a:xfrm>
                  <a:off x="1802160" y="3112920"/>
                  <a:ext cx="628560" cy="61740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i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82" name="Group 163"/>
                <p:cNvGrpSpPr/>
                <p:nvPr/>
              </p:nvGrpSpPr>
              <p:grpSpPr>
                <a:xfrm>
                  <a:off x="1927440" y="3236400"/>
                  <a:ext cx="377280" cy="369720"/>
                  <a:chOff x="1927440" y="3236400"/>
                  <a:chExt cx="377280" cy="369720"/>
                </a:xfrm>
              </p:grpSpPr>
              <p:sp>
                <p:nvSpPr>
                  <p:cNvPr id="883" name="Arc 164"/>
                  <p:cNvSpPr/>
                  <p:nvPr/>
                </p:nvSpPr>
                <p:spPr>
                  <a:xfrm flipH="1">
                    <a:off x="1927080" y="3236400"/>
                    <a:ext cx="188280" cy="207360"/>
                  </a:xfrm>
                  <a:custGeom>
                    <a:avLst/>
                    <a:gdLst>
                      <a:gd name="textAreaLeft" fmla="*/ -360 w 188280"/>
                      <a:gd name="textAreaRight" fmla="*/ 188280 w 188280"/>
                      <a:gd name="textAreaTop" fmla="*/ 0 h 207360"/>
                      <a:gd name="textAreaBottom" fmla="*/ 207720 h 207360"/>
                    </a:gdLst>
                    <a:ahLst/>
                    <a:rect l="textAreaLeft" t="textAreaTop" r="textAreaRight" b="textAreaBottom"/>
                    <a:pathLst>
                      <a:path fill="none" w="42910" h="21600">
                        <a:moveTo>
                          <a:pt x="0" y="18900"/>
                        </a:moveTo>
                        <a:cubicBezTo>
                          <a:pt x="1361" y="8100"/>
                          <a:pt x="10545" y="-1"/>
                          <a:pt x="21431" y="0"/>
                        </a:cubicBezTo>
                        <a:cubicBezTo>
                          <a:pt x="32476" y="0"/>
                          <a:pt x="41743" y="8333"/>
                          <a:pt x="42910" y="19317"/>
                        </a:cubicBezTo>
                      </a:path>
                      <a:path stroke="0" w="42910" h="21600">
                        <a:moveTo>
                          <a:pt x="0" y="18900"/>
                        </a:moveTo>
                        <a:cubicBezTo>
                          <a:pt x="1361" y="8100"/>
                          <a:pt x="10545" y="-1"/>
                          <a:pt x="21431" y="0"/>
                        </a:cubicBezTo>
                        <a:cubicBezTo>
                          <a:pt x="32476" y="0"/>
                          <a:pt x="41743" y="8333"/>
                          <a:pt x="42910" y="19317"/>
                        </a:cubicBezTo>
                        <a:lnTo>
                          <a:pt x="21431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2844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i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4" name="Arc 165"/>
                  <p:cNvSpPr/>
                  <p:nvPr/>
                </p:nvSpPr>
                <p:spPr>
                  <a:xfrm flipH="1" flipV="1">
                    <a:off x="2116080" y="3398760"/>
                    <a:ext cx="188280" cy="207360"/>
                  </a:xfrm>
                  <a:custGeom>
                    <a:avLst/>
                    <a:gdLst>
                      <a:gd name="textAreaLeft" fmla="*/ -360 w 188280"/>
                      <a:gd name="textAreaRight" fmla="*/ 188280 w 188280"/>
                      <a:gd name="textAreaTop" fmla="*/ 360 h 207360"/>
                      <a:gd name="textAreaBottom" fmla="*/ 208080 h 207360"/>
                    </a:gdLst>
                    <a:ahLst/>
                    <a:rect l="textAreaLeft" t="textAreaTop" r="textAreaRight" b="textAreaBottom"/>
                    <a:pathLst>
                      <a:path fill="none" w="42910" h="21600">
                        <a:moveTo>
                          <a:pt x="0" y="18900"/>
                        </a:moveTo>
                        <a:cubicBezTo>
                          <a:pt x="1361" y="8100"/>
                          <a:pt x="10545" y="-1"/>
                          <a:pt x="21431" y="0"/>
                        </a:cubicBezTo>
                        <a:cubicBezTo>
                          <a:pt x="32476" y="0"/>
                          <a:pt x="41743" y="8333"/>
                          <a:pt x="42910" y="19317"/>
                        </a:cubicBezTo>
                      </a:path>
                      <a:path stroke="0" w="42910" h="21600">
                        <a:moveTo>
                          <a:pt x="0" y="18900"/>
                        </a:moveTo>
                        <a:cubicBezTo>
                          <a:pt x="1361" y="8100"/>
                          <a:pt x="10545" y="-1"/>
                          <a:pt x="21431" y="0"/>
                        </a:cubicBezTo>
                        <a:cubicBezTo>
                          <a:pt x="32476" y="0"/>
                          <a:pt x="41743" y="8333"/>
                          <a:pt x="42910" y="19317"/>
                        </a:cubicBezTo>
                        <a:lnTo>
                          <a:pt x="21431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2844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i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885" name="Text Box 166"/>
              <p:cNvSpPr/>
              <p:nvPr/>
            </p:nvSpPr>
            <p:spPr>
              <a:xfrm>
                <a:off x="1339920" y="2926440"/>
                <a:ext cx="619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9933"/>
                    </a:solidFill>
                    <a:latin typeface="Times New Roman"/>
                  </a:rPr>
                  <a:t>30 </a:t>
                </a:r>
                <a:r>
                  <a:rPr b="1" i="1" lang="en-US" sz="1800" spc="-1" strike="noStrike">
                    <a:solidFill>
                      <a:srgbClr val="339933"/>
                    </a:solidFill>
                    <a:latin typeface="Times New Roman"/>
                  </a:rPr>
                  <a:t>V</a:t>
                </a:r>
                <a:endParaRPr b="1" i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Text Box 167"/>
              <p:cNvSpPr/>
              <p:nvPr/>
            </p:nvSpPr>
            <p:spPr>
              <a:xfrm>
                <a:off x="1111320" y="3702600"/>
                <a:ext cx="861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0000"/>
                    </a:solidFill>
                    <a:latin typeface="Times New Roman"/>
                  </a:rPr>
                  <a:t>200 Hz</a:t>
                </a:r>
                <a:endParaRPr b="1" i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887" name="AutoShape 168"/>
              <p:cNvCxnSpPr/>
              <p:nvPr/>
            </p:nvCxnSpPr>
            <p:spPr>
              <a:xfrm flipH="1" flipV="1" rot="5400000">
                <a:off x="2552760" y="2410920"/>
                <a:ext cx="43560" cy="925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sp>
            <p:nvSpPr>
              <p:cNvPr id="888" name="Line 169"/>
              <p:cNvSpPr/>
              <p:nvPr/>
            </p:nvSpPr>
            <p:spPr>
              <a:xfrm flipH="1">
                <a:off x="2106720" y="4114440"/>
                <a:ext cx="914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Line 170"/>
              <p:cNvSpPr/>
              <p:nvPr/>
            </p:nvSpPr>
            <p:spPr>
              <a:xfrm>
                <a:off x="2111760" y="3809880"/>
                <a:ext cx="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90" name="Group 171"/>
              <p:cNvGrpSpPr/>
              <p:nvPr/>
            </p:nvGrpSpPr>
            <p:grpSpPr>
              <a:xfrm>
                <a:off x="2749320" y="2819880"/>
                <a:ext cx="310680" cy="1294560"/>
                <a:chOff x="2749320" y="2819880"/>
                <a:chExt cx="310680" cy="1294560"/>
              </a:xfrm>
            </p:grpSpPr>
            <p:grpSp>
              <p:nvGrpSpPr>
                <p:cNvPr id="891" name="Group 172"/>
                <p:cNvGrpSpPr/>
                <p:nvPr/>
              </p:nvGrpSpPr>
              <p:grpSpPr>
                <a:xfrm>
                  <a:off x="2749320" y="2819880"/>
                  <a:ext cx="310680" cy="852120"/>
                  <a:chOff x="2749320" y="2819880"/>
                  <a:chExt cx="310680" cy="852120"/>
                </a:xfrm>
              </p:grpSpPr>
              <p:sp>
                <p:nvSpPr>
                  <p:cNvPr id="892" name="Arc 173"/>
                  <p:cNvSpPr/>
                  <p:nvPr/>
                </p:nvSpPr>
                <p:spPr>
                  <a:xfrm rot="7723800">
                    <a:off x="2800440" y="3081600"/>
                    <a:ext cx="211320" cy="212760"/>
                  </a:xfrm>
                  <a:custGeom>
                    <a:avLst/>
                    <a:gdLst>
                      <a:gd name="textAreaLeft" fmla="*/ 0 w 211320"/>
                      <a:gd name="textAreaRight" fmla="*/ 211680 w 211320"/>
                      <a:gd name="textAreaTop" fmla="*/ 0 h 212760"/>
                      <a:gd name="textAreaBottom" fmla="*/ 213120 h 212760"/>
                    </a:gdLst>
                    <a:ahLst/>
                    <a:rect l="textAreaLeft" t="textAreaTop" r="textAreaRight" b="textAreaBottom"/>
                    <a:pathLst>
                      <a:path fill="none" w="43200" h="43200">
                        <a:moveTo>
                          <a:pt x="20289" y="39"/>
                        </a:moveTo>
                        <a:cubicBezTo>
                          <a:pt x="20726" y="13"/>
                          <a:pt x="21163" y="-1"/>
                          <a:pt x="21600" y="0"/>
                        </a:cubicBezTo>
                        <a:cubicBezTo>
                          <a:pt x="33529" y="0"/>
                          <a:pt x="43200" y="9670"/>
                          <a:pt x="43200" y="21600"/>
                        </a:cubicBezTo>
                        <a:cubicBezTo>
                          <a:pt x="43200" y="33529"/>
                          <a:pt x="33529" y="43200"/>
                          <a:pt x="21600" y="43200"/>
                        </a:cubicBezTo>
                        <a:cubicBezTo>
                          <a:pt x="9670" y="43200"/>
                          <a:pt x="0" y="33529"/>
                          <a:pt x="0" y="21600"/>
                        </a:cubicBezTo>
                        <a:cubicBezTo>
                          <a:pt x="-1" y="18915"/>
                          <a:pt x="500" y="16255"/>
                          <a:pt x="1475" y="13754"/>
                        </a:cubicBezTo>
                      </a:path>
                      <a:path stroke="0" w="43200" h="43200">
                        <a:moveTo>
                          <a:pt x="20289" y="39"/>
                        </a:moveTo>
                        <a:cubicBezTo>
                          <a:pt x="20726" y="13"/>
                          <a:pt x="21163" y="-1"/>
                          <a:pt x="21600" y="0"/>
                        </a:cubicBezTo>
                        <a:cubicBezTo>
                          <a:pt x="33529" y="0"/>
                          <a:pt x="43200" y="9670"/>
                          <a:pt x="43200" y="21600"/>
                        </a:cubicBezTo>
                        <a:cubicBezTo>
                          <a:pt x="43200" y="33529"/>
                          <a:pt x="33529" y="43200"/>
                          <a:pt x="21600" y="43200"/>
                        </a:cubicBezTo>
                        <a:cubicBezTo>
                          <a:pt x="9670" y="43200"/>
                          <a:pt x="0" y="33529"/>
                          <a:pt x="0" y="21600"/>
                        </a:cubicBezTo>
                        <a:cubicBezTo>
                          <a:pt x="-1" y="18915"/>
                          <a:pt x="500" y="16255"/>
                          <a:pt x="1475" y="13754"/>
                        </a:cubicBezTo>
                        <a:lnTo>
                          <a:pt x="21600" y="21600"/>
                        </a:lnTo>
                        <a:close/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i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3" name="Arc 174"/>
                  <p:cNvSpPr/>
                  <p:nvPr/>
                </p:nvSpPr>
                <p:spPr>
                  <a:xfrm rot="7723800">
                    <a:off x="2805480" y="2961000"/>
                    <a:ext cx="210960" cy="212760"/>
                  </a:xfrm>
                  <a:custGeom>
                    <a:avLst/>
                    <a:gdLst>
                      <a:gd name="textAreaLeft" fmla="*/ 0 w 210960"/>
                      <a:gd name="textAreaRight" fmla="*/ 211320 w 210960"/>
                      <a:gd name="textAreaTop" fmla="*/ 0 h 212760"/>
                      <a:gd name="textAreaBottom" fmla="*/ 213120 h 212760"/>
                    </a:gdLst>
                    <a:ahLst/>
                    <a:rect l="textAreaLeft" t="textAreaTop" r="textAreaRight" b="textAreaBottom"/>
                    <a:pathLst>
                      <a:path fill="none" w="43200" h="43200">
                        <a:moveTo>
                          <a:pt x="21637" y="0"/>
                        </a:moveTo>
                        <a:cubicBezTo>
                          <a:pt x="33552" y="20"/>
                          <a:pt x="43200" y="9685"/>
                          <a:pt x="43200" y="21600"/>
                        </a:cubicBezTo>
                        <a:cubicBezTo>
                          <a:pt x="43200" y="33529"/>
                          <a:pt x="33529" y="43200"/>
                          <a:pt x="21600" y="43200"/>
                        </a:cubicBezTo>
                        <a:cubicBezTo>
                          <a:pt x="9670" y="43200"/>
                          <a:pt x="0" y="33529"/>
                          <a:pt x="0" y="21600"/>
                        </a:cubicBezTo>
                        <a:cubicBezTo>
                          <a:pt x="-1" y="19451"/>
                          <a:pt x="320" y="17315"/>
                          <a:pt x="950" y="15261"/>
                        </a:cubicBezTo>
                      </a:path>
                      <a:path stroke="0" w="43200" h="43200">
                        <a:moveTo>
                          <a:pt x="21637" y="0"/>
                        </a:moveTo>
                        <a:cubicBezTo>
                          <a:pt x="33552" y="20"/>
                          <a:pt x="43200" y="9685"/>
                          <a:pt x="43200" y="21600"/>
                        </a:cubicBezTo>
                        <a:cubicBezTo>
                          <a:pt x="43200" y="33529"/>
                          <a:pt x="33529" y="43200"/>
                          <a:pt x="21600" y="43200"/>
                        </a:cubicBezTo>
                        <a:cubicBezTo>
                          <a:pt x="9670" y="43200"/>
                          <a:pt x="0" y="33529"/>
                          <a:pt x="0" y="21600"/>
                        </a:cubicBezTo>
                        <a:cubicBezTo>
                          <a:pt x="-1" y="19451"/>
                          <a:pt x="320" y="17315"/>
                          <a:pt x="950" y="15261"/>
                        </a:cubicBezTo>
                        <a:lnTo>
                          <a:pt x="21600" y="21600"/>
                        </a:lnTo>
                        <a:close/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i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4" name="Arc 175"/>
                  <p:cNvSpPr/>
                  <p:nvPr/>
                </p:nvSpPr>
                <p:spPr>
                  <a:xfrm rot="7723800">
                    <a:off x="2792520" y="3333960"/>
                    <a:ext cx="211320" cy="212760"/>
                  </a:xfrm>
                  <a:custGeom>
                    <a:avLst/>
                    <a:gdLst>
                      <a:gd name="textAreaLeft" fmla="*/ 0 w 211320"/>
                      <a:gd name="textAreaRight" fmla="*/ 211680 w 211320"/>
                      <a:gd name="textAreaTop" fmla="*/ 0 h 212760"/>
                      <a:gd name="textAreaBottom" fmla="*/ 213120 h 212760"/>
                    </a:gdLst>
                    <a:ahLst/>
                    <a:rect l="textAreaLeft" t="textAreaTop" r="textAreaRight" b="textAreaBottom"/>
                    <a:pathLst>
                      <a:path fill="none" w="43200" h="43200">
                        <a:moveTo>
                          <a:pt x="21599" y="0"/>
                        </a:moveTo>
                        <a:cubicBezTo>
                          <a:pt x="33529" y="0"/>
                          <a:pt x="43200" y="9670"/>
                          <a:pt x="43200" y="21600"/>
                        </a:cubicBezTo>
                        <a:cubicBezTo>
                          <a:pt x="43200" y="33529"/>
                          <a:pt x="33529" y="43200"/>
                          <a:pt x="21600" y="43200"/>
                        </a:cubicBezTo>
                        <a:cubicBezTo>
                          <a:pt x="9670" y="43200"/>
                          <a:pt x="0" y="33529"/>
                          <a:pt x="0" y="21600"/>
                        </a:cubicBezTo>
                        <a:cubicBezTo>
                          <a:pt x="-1" y="18915"/>
                          <a:pt x="500" y="16255"/>
                          <a:pt x="1475" y="13754"/>
                        </a:cubicBezTo>
                      </a:path>
                      <a:path stroke="0" w="43200" h="43200">
                        <a:moveTo>
                          <a:pt x="21599" y="0"/>
                        </a:moveTo>
                        <a:cubicBezTo>
                          <a:pt x="33529" y="0"/>
                          <a:pt x="43200" y="9670"/>
                          <a:pt x="43200" y="21600"/>
                        </a:cubicBezTo>
                        <a:cubicBezTo>
                          <a:pt x="43200" y="33529"/>
                          <a:pt x="33529" y="43200"/>
                          <a:pt x="21600" y="43200"/>
                        </a:cubicBezTo>
                        <a:cubicBezTo>
                          <a:pt x="9670" y="43200"/>
                          <a:pt x="0" y="33529"/>
                          <a:pt x="0" y="21600"/>
                        </a:cubicBezTo>
                        <a:cubicBezTo>
                          <a:pt x="-1" y="18915"/>
                          <a:pt x="500" y="16255"/>
                          <a:pt x="1475" y="13754"/>
                        </a:cubicBezTo>
                        <a:lnTo>
                          <a:pt x="21600" y="21600"/>
                        </a:lnTo>
                        <a:close/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i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5" name="Arc 176"/>
                  <p:cNvSpPr/>
                  <p:nvPr/>
                </p:nvSpPr>
                <p:spPr>
                  <a:xfrm rot="7723800">
                    <a:off x="2801880" y="3206880"/>
                    <a:ext cx="211320" cy="212760"/>
                  </a:xfrm>
                  <a:custGeom>
                    <a:avLst/>
                    <a:gdLst>
                      <a:gd name="textAreaLeft" fmla="*/ 0 w 211320"/>
                      <a:gd name="textAreaRight" fmla="*/ 211680 w 211320"/>
                      <a:gd name="textAreaTop" fmla="*/ 0 h 212760"/>
                      <a:gd name="textAreaBottom" fmla="*/ 213120 h 212760"/>
                    </a:gdLst>
                    <a:ahLst/>
                    <a:rect l="textAreaLeft" t="textAreaTop" r="textAreaRight" b="textAreaBottom"/>
                    <a:pathLst>
                      <a:path fill="none" w="43200" h="43190">
                        <a:moveTo>
                          <a:pt x="22256" y="-1"/>
                        </a:moveTo>
                        <a:cubicBezTo>
                          <a:pt x="33924" y="354"/>
                          <a:pt x="43200" y="9916"/>
                          <a:pt x="43200" y="21590"/>
                        </a:cubicBezTo>
                        <a:cubicBezTo>
                          <a:pt x="43200" y="33519"/>
                          <a:pt x="33529" y="43190"/>
                          <a:pt x="21600" y="43190"/>
                        </a:cubicBezTo>
                        <a:cubicBezTo>
                          <a:pt x="9670" y="43190"/>
                          <a:pt x="0" y="33519"/>
                          <a:pt x="0" y="21590"/>
                        </a:cubicBezTo>
                        <a:cubicBezTo>
                          <a:pt x="-1" y="19718"/>
                          <a:pt x="243" y="17854"/>
                          <a:pt x="723" y="16045"/>
                        </a:cubicBezTo>
                      </a:path>
                      <a:path stroke="0" w="43200" h="43190">
                        <a:moveTo>
                          <a:pt x="22256" y="-1"/>
                        </a:moveTo>
                        <a:cubicBezTo>
                          <a:pt x="33924" y="354"/>
                          <a:pt x="43200" y="9916"/>
                          <a:pt x="43200" y="21590"/>
                        </a:cubicBezTo>
                        <a:cubicBezTo>
                          <a:pt x="43200" y="33519"/>
                          <a:pt x="33529" y="43190"/>
                          <a:pt x="21600" y="43190"/>
                        </a:cubicBezTo>
                        <a:cubicBezTo>
                          <a:pt x="9670" y="43190"/>
                          <a:pt x="0" y="33519"/>
                          <a:pt x="0" y="21590"/>
                        </a:cubicBezTo>
                        <a:cubicBezTo>
                          <a:pt x="-1" y="19718"/>
                          <a:pt x="243" y="17854"/>
                          <a:pt x="723" y="16045"/>
                        </a:cubicBezTo>
                        <a:lnTo>
                          <a:pt x="21600" y="21590"/>
                        </a:lnTo>
                        <a:close/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i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6" name="Line 177"/>
                  <p:cNvSpPr/>
                  <p:nvPr/>
                </p:nvSpPr>
                <p:spPr>
                  <a:xfrm flipH="1">
                    <a:off x="2991240" y="3507840"/>
                    <a:ext cx="5760" cy="164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i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7" name="Line 178"/>
                  <p:cNvSpPr/>
                  <p:nvPr/>
                </p:nvSpPr>
                <p:spPr>
                  <a:xfrm flipV="1">
                    <a:off x="2989440" y="2819880"/>
                    <a:ext cx="10440" cy="1825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i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98" name="Line 179"/>
                <p:cNvSpPr/>
                <p:nvPr/>
              </p:nvSpPr>
              <p:spPr>
                <a:xfrm>
                  <a:off x="2994120" y="3581280"/>
                  <a:ext cx="0" cy="533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99" name="Text Box 180"/>
            <p:cNvSpPr/>
            <p:nvPr/>
          </p:nvSpPr>
          <p:spPr>
            <a:xfrm>
              <a:off x="3049560" y="2986200"/>
              <a:ext cx="47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Times New Roman"/>
                </a:rPr>
                <a:t>1H</a:t>
              </a: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0" name="Rectangle 181"/>
          <p:cNvSpPr/>
          <p:nvPr/>
        </p:nvSpPr>
        <p:spPr>
          <a:xfrm>
            <a:off x="2819520" y="18288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Line 182"/>
          <p:cNvSpPr/>
          <p:nvPr/>
        </p:nvSpPr>
        <p:spPr>
          <a:xfrm>
            <a:off x="2971800" y="1676520"/>
            <a:ext cx="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183"/>
          <p:cNvSpPr/>
          <p:nvPr/>
        </p:nvSpPr>
        <p:spPr>
          <a:xfrm>
            <a:off x="2743200" y="3733920"/>
            <a:ext cx="533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Slide Number Placeholder 183"/>
          <p:cNvSpPr/>
          <p:nvPr/>
        </p:nvSpPr>
        <p:spPr>
          <a:xfrm>
            <a:off x="-152280" y="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 - </a:t>
            </a:r>
            <a:fld id="{32887721-7FE0-4817-815A-1DE233912C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0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9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500"/>
                            </p:stCondLst>
                            <p:childTnLst>
                              <p:par>
                                <p:cTn id="9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1000"/>
                            </p:stCondLst>
                            <p:childTnLst>
                              <p:par>
                                <p:cTn id="9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1500"/>
                            </p:stCondLst>
                            <p:childTnLst>
                              <p:par>
                                <p:cTn id="9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3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3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500"/>
                            </p:stCondLst>
                            <p:childTnLst>
                              <p:par>
                                <p:cTn id="9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1000"/>
                            </p:stCondLst>
                            <p:childTnLst>
                              <p:par>
                                <p:cTn id="9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1500"/>
                            </p:stCondLst>
                            <p:childTnLst>
                              <p:par>
                                <p:cTn id="9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2000"/>
                            </p:stCondLst>
                            <p:childTnLst>
                              <p:par>
                                <p:cTn id="9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2500"/>
                            </p:stCondLst>
                            <p:childTnLst>
                              <p:par>
                                <p:cTn id="9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3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Text Box 2"/>
          <p:cNvSpPr/>
          <p:nvPr/>
        </p:nvSpPr>
        <p:spPr>
          <a:xfrm>
            <a:off x="681480" y="119520"/>
            <a:ext cx="781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L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Time Constant -- Rising </a:t>
            </a: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I  </a:t>
            </a:r>
            <a:r>
              <a:rPr b="1" lang="en-US" sz="1800" spc="-1" strike="noStrike">
                <a:solidFill>
                  <a:srgbClr val="2d2db9"/>
                </a:solidFill>
                <a:latin typeface="Times New Roman"/>
              </a:rPr>
              <a:t>(Page 302) 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5" name="AutoShape 3"/>
          <p:cNvCxnSpPr/>
          <p:nvPr/>
        </p:nvCxnSpPr>
        <p:spPr>
          <a:xfrm flipH="1" flipV="1" rot="10800000">
            <a:off x="1142640" y="1066320"/>
            <a:ext cx="7239600" cy="3048840"/>
          </a:xfrm>
          <a:prstGeom prst="bentConnector3">
            <a:avLst>
              <a:gd name="adj1" fmla="val -23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06" name="Freeform 4"/>
          <p:cNvSpPr/>
          <p:nvPr/>
        </p:nvSpPr>
        <p:spPr>
          <a:xfrm>
            <a:off x="1143000" y="1143000"/>
            <a:ext cx="7010280" cy="2984400"/>
          </a:xfrm>
          <a:custGeom>
            <a:avLst/>
            <a:gdLst>
              <a:gd name="textAreaLeft" fmla="*/ 0 w 7010280"/>
              <a:gd name="textAreaRight" fmla="*/ 7010640 w 7010280"/>
              <a:gd name="textAreaTop" fmla="*/ 0 h 2984400"/>
              <a:gd name="textAreaBottom" fmla="*/ 2984760 h 2984400"/>
            </a:gdLst>
            <a:ahLst/>
            <a:rect l="textAreaLeft" t="textAreaTop" r="textAreaRight" b="textAreaBottom"/>
            <a:pathLst>
              <a:path w="4416" h="1880">
                <a:moveTo>
                  <a:pt x="0" y="1880"/>
                </a:moveTo>
                <a:cubicBezTo>
                  <a:pt x="128" y="1592"/>
                  <a:pt x="256" y="1304"/>
                  <a:pt x="384" y="1112"/>
                </a:cubicBezTo>
                <a:cubicBezTo>
                  <a:pt x="512" y="920"/>
                  <a:pt x="616" y="848"/>
                  <a:pt x="768" y="728"/>
                </a:cubicBezTo>
                <a:cubicBezTo>
                  <a:pt x="920" y="608"/>
                  <a:pt x="1112" y="480"/>
                  <a:pt x="1296" y="392"/>
                </a:cubicBezTo>
                <a:cubicBezTo>
                  <a:pt x="1480" y="304"/>
                  <a:pt x="1659" y="249"/>
                  <a:pt x="1872" y="200"/>
                </a:cubicBezTo>
                <a:cubicBezTo>
                  <a:pt x="2085" y="151"/>
                  <a:pt x="2355" y="123"/>
                  <a:pt x="2571" y="99"/>
                </a:cubicBezTo>
                <a:cubicBezTo>
                  <a:pt x="2787" y="75"/>
                  <a:pt x="2949" y="71"/>
                  <a:pt x="3168" y="56"/>
                </a:cubicBezTo>
                <a:cubicBezTo>
                  <a:pt x="3387" y="41"/>
                  <a:pt x="3680" y="16"/>
                  <a:pt x="3888" y="8"/>
                </a:cubicBezTo>
                <a:cubicBezTo>
                  <a:pt x="4096" y="0"/>
                  <a:pt x="4312" y="8"/>
                  <a:pt x="4416" y="8"/>
                </a:cubicBezTo>
              </a:path>
            </a:pathLst>
          </a:custGeom>
          <a:noFill/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7" name="AutoShape 5"/>
          <p:cNvCxnSpPr/>
          <p:nvPr/>
        </p:nvCxnSpPr>
        <p:spPr>
          <a:xfrm flipH="1" rot="16200000">
            <a:off x="799920" y="2476080"/>
            <a:ext cx="1905840" cy="1372320"/>
          </a:xfrm>
          <a:prstGeom prst="bentConnector3">
            <a:avLst>
              <a:gd name="adj1" fmla="val 1228"/>
            </a:avLst>
          </a:prstGeom>
          <a:ln w="9360">
            <a:solidFill>
              <a:srgbClr val="000000"/>
            </a:solidFill>
            <a:prstDash val="sysDot"/>
            <a:miter/>
          </a:ln>
        </p:spPr>
      </p:cxnSp>
      <p:cxnSp>
        <p:nvCxnSpPr>
          <p:cNvPr id="908" name="AutoShape 6"/>
          <p:cNvCxnSpPr/>
          <p:nvPr/>
        </p:nvCxnSpPr>
        <p:spPr>
          <a:xfrm>
            <a:off x="1143000" y="1523520"/>
            <a:ext cx="2743920" cy="2591640"/>
          </a:xfrm>
          <a:prstGeom prst="bentConnector3">
            <a:avLst>
              <a:gd name="adj1" fmla="val 96286"/>
            </a:avLst>
          </a:prstGeom>
          <a:ln w="9360">
            <a:solidFill>
              <a:srgbClr val="000000"/>
            </a:solidFill>
            <a:prstDash val="sysDot"/>
            <a:miter/>
          </a:ln>
        </p:spPr>
      </p:cxnSp>
      <p:sp>
        <p:nvSpPr>
          <p:cNvPr id="909" name="Rectangle 7"/>
          <p:cNvSpPr/>
          <p:nvPr/>
        </p:nvSpPr>
        <p:spPr>
          <a:xfrm>
            <a:off x="990720" y="2133720"/>
            <a:ext cx="75960" cy="2286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0" name="AutoShape 8"/>
          <p:cNvCxnSpPr/>
          <p:nvPr/>
        </p:nvCxnSpPr>
        <p:spPr>
          <a:xfrm flipH="1" flipV="1">
            <a:off x="1065960" y="1294920"/>
            <a:ext cx="4039560" cy="2820240"/>
          </a:xfrm>
          <a:prstGeom prst="bentConnector3">
            <a:avLst>
              <a:gd name="adj1" fmla="val -748"/>
            </a:avLst>
          </a:prstGeom>
          <a:ln w="9360">
            <a:solidFill>
              <a:srgbClr val="000000"/>
            </a:solidFill>
            <a:prstDash val="sysDot"/>
            <a:miter/>
          </a:ln>
        </p:spPr>
      </p:cxnSp>
      <p:sp>
        <p:nvSpPr>
          <p:cNvPr id="911" name="Line 9"/>
          <p:cNvSpPr/>
          <p:nvPr/>
        </p:nvSpPr>
        <p:spPr>
          <a:xfrm flipV="1">
            <a:off x="6477120" y="121896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Line 10"/>
          <p:cNvSpPr/>
          <p:nvPr/>
        </p:nvSpPr>
        <p:spPr>
          <a:xfrm flipV="1">
            <a:off x="7848720" y="114264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Line 11"/>
          <p:cNvSpPr/>
          <p:nvPr/>
        </p:nvSpPr>
        <p:spPr>
          <a:xfrm flipH="1">
            <a:off x="1142640" y="121932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Text Box 12"/>
          <p:cNvSpPr/>
          <p:nvPr/>
        </p:nvSpPr>
        <p:spPr>
          <a:xfrm>
            <a:off x="577800" y="8373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100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Text Box 13"/>
          <p:cNvSpPr/>
          <p:nvPr/>
        </p:nvSpPr>
        <p:spPr>
          <a:xfrm>
            <a:off x="763200" y="3945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0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Text Box 14"/>
          <p:cNvSpPr/>
          <p:nvPr/>
        </p:nvSpPr>
        <p:spPr>
          <a:xfrm rot="16200000">
            <a:off x="-193320" y="2414520"/>
            <a:ext cx="215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% of final current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15"/>
          <p:cNvSpPr/>
          <p:nvPr/>
        </p:nvSpPr>
        <p:spPr>
          <a:xfrm>
            <a:off x="990720" y="1295280"/>
            <a:ext cx="75960" cy="38124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Text Box 16"/>
          <p:cNvSpPr/>
          <p:nvPr/>
        </p:nvSpPr>
        <p:spPr>
          <a:xfrm>
            <a:off x="3554280" y="434232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Time constants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Text Box 17"/>
          <p:cNvSpPr/>
          <p:nvPr/>
        </p:nvSpPr>
        <p:spPr>
          <a:xfrm>
            <a:off x="985320" y="4097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Text Box 18"/>
          <p:cNvSpPr/>
          <p:nvPr/>
        </p:nvSpPr>
        <p:spPr>
          <a:xfrm>
            <a:off x="2280600" y="4097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Text Box 19"/>
          <p:cNvSpPr/>
          <p:nvPr/>
        </p:nvSpPr>
        <p:spPr>
          <a:xfrm>
            <a:off x="3658680" y="4097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Text Box 20"/>
          <p:cNvSpPr/>
          <p:nvPr/>
        </p:nvSpPr>
        <p:spPr>
          <a:xfrm>
            <a:off x="5023800" y="4113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ext Box 21"/>
          <p:cNvSpPr/>
          <p:nvPr/>
        </p:nvSpPr>
        <p:spPr>
          <a:xfrm>
            <a:off x="6325560" y="4113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22"/>
          <p:cNvSpPr/>
          <p:nvPr/>
        </p:nvSpPr>
        <p:spPr>
          <a:xfrm>
            <a:off x="7691040" y="4097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Text Box 23"/>
          <p:cNvSpPr/>
          <p:nvPr/>
        </p:nvSpPr>
        <p:spPr>
          <a:xfrm>
            <a:off x="875160" y="4647240"/>
            <a:ext cx="644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Times New Roman"/>
              </a:rPr>
              <a:t>After 1 </a:t>
            </a:r>
            <a:r>
              <a:rPr b="1" i="1" lang="en-US" sz="2000" spc="-1" strike="noStrike">
                <a:solidFill>
                  <a:srgbClr val="cc6600"/>
                </a:solidFill>
                <a:latin typeface="Times New Roman"/>
              </a:rPr>
              <a:t>T,  </a:t>
            </a:r>
            <a:r>
              <a:rPr b="1" lang="en-US" sz="2000" spc="-1" strike="noStrike">
                <a:solidFill>
                  <a:srgbClr val="cc6600"/>
                </a:solidFill>
                <a:latin typeface="Times New Roman"/>
              </a:rPr>
              <a:t>the inductor’s current is 63.2 % of final value.</a:t>
            </a:r>
            <a:r>
              <a:rPr b="1" i="1" lang="en-US" sz="20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 Box 24"/>
          <p:cNvSpPr/>
          <p:nvPr/>
        </p:nvSpPr>
        <p:spPr>
          <a:xfrm>
            <a:off x="1215000" y="4952160"/>
            <a:ext cx="644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After 2 </a:t>
            </a:r>
            <a:r>
              <a:rPr b="1" i="1" lang="en-US" sz="2000" spc="-1" strike="noStrike">
                <a:solidFill>
                  <a:srgbClr val="336600"/>
                </a:solidFill>
                <a:latin typeface="Times New Roman"/>
              </a:rPr>
              <a:t>T,  </a:t>
            </a: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the inductor’s current is 86.5 % of final value.</a:t>
            </a:r>
            <a:r>
              <a:rPr b="1" i="1" lang="en-US" sz="20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 Box 25"/>
          <p:cNvSpPr/>
          <p:nvPr/>
        </p:nvSpPr>
        <p:spPr>
          <a:xfrm>
            <a:off x="1472400" y="5317200"/>
            <a:ext cx="638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After 3 </a:t>
            </a:r>
            <a:r>
              <a:rPr b="1" i="1" lang="en-US" sz="2000" spc="-1" strike="noStrike">
                <a:solidFill>
                  <a:srgbClr val="cc0000"/>
                </a:solidFill>
                <a:latin typeface="Times New Roman"/>
              </a:rPr>
              <a:t>T, 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the inductor’s current is 95.0 % of final value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Text Box 26"/>
          <p:cNvSpPr/>
          <p:nvPr/>
        </p:nvSpPr>
        <p:spPr>
          <a:xfrm>
            <a:off x="1732680" y="5637960"/>
            <a:ext cx="638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After 4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T, 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the inductor’s current is 98.2 % of final value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Text Box 27"/>
          <p:cNvSpPr/>
          <p:nvPr/>
        </p:nvSpPr>
        <p:spPr>
          <a:xfrm>
            <a:off x="2005920" y="5942520"/>
            <a:ext cx="638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After 5 </a:t>
            </a:r>
            <a:r>
              <a:rPr b="1" i="1" lang="en-US" sz="2000" spc="-1" strike="noStrike">
                <a:solidFill>
                  <a:srgbClr val="ff9900"/>
                </a:solidFill>
                <a:latin typeface="Times New Roman"/>
              </a:rPr>
              <a:t>T,  </a:t>
            </a: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the inductor’s current is 99.3 % of final value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28"/>
          <p:cNvSpPr/>
          <p:nvPr/>
        </p:nvSpPr>
        <p:spPr>
          <a:xfrm>
            <a:off x="-2160" y="6247800"/>
            <a:ext cx="915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 current has essentially reached its final value after 5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Line 29"/>
          <p:cNvSpPr/>
          <p:nvPr/>
        </p:nvSpPr>
        <p:spPr>
          <a:xfrm flipH="1">
            <a:off x="1142640" y="11430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Slide Number Placeholder 29"/>
          <p:cNvSpPr/>
          <p:nvPr/>
        </p:nvSpPr>
        <p:spPr>
          <a:xfrm>
            <a:off x="-152280" y="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 - </a:t>
            </a:r>
            <a:fld id="{C73E3A89-C181-42BC-86DD-54E511F24F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fill="hold">
                      <p:stCondLst>
                        <p:cond delay="0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8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500"/>
                            </p:stCondLst>
                            <p:childTnLst>
                              <p:par>
                                <p:cTn id="9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500"/>
                            </p:stCondLst>
                            <p:childTnLst>
                              <p:par>
                                <p:cTn id="10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500"/>
                            </p:stCondLst>
                            <p:childTnLst>
                              <p:par>
                                <p:cTn id="10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500"/>
                            </p:stCondLst>
                            <p:childTnLst>
                              <p:par>
                                <p:cTn id="10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500"/>
                            </p:stCondLst>
                            <p:childTnLst>
                              <p:par>
                                <p:cTn id="10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500"/>
                            </p:stCondLst>
                            <p:childTnLst>
                              <p:par>
                                <p:cTn id="10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933" name="AutoShape 2"/>
          <p:cNvCxnSpPr/>
          <p:nvPr/>
        </p:nvCxnSpPr>
        <p:spPr>
          <a:xfrm rot="10800000">
            <a:off x="1065960" y="700920"/>
            <a:ext cx="7544520" cy="3277440"/>
          </a:xfrm>
          <a:prstGeom prst="bentConnector3">
            <a:avLst>
              <a:gd name="adj1" fmla="val 9971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34" name="Freeform 3"/>
          <p:cNvSpPr/>
          <p:nvPr/>
        </p:nvSpPr>
        <p:spPr>
          <a:xfrm flipV="1">
            <a:off x="1143000" y="929880"/>
            <a:ext cx="7010280" cy="2984400"/>
          </a:xfrm>
          <a:custGeom>
            <a:avLst/>
            <a:gdLst>
              <a:gd name="textAreaLeft" fmla="*/ 0 w 7010280"/>
              <a:gd name="textAreaRight" fmla="*/ 7010640 w 7010280"/>
              <a:gd name="textAreaTop" fmla="*/ 360 h 2984400"/>
              <a:gd name="textAreaBottom" fmla="*/ 2985120 h 2984400"/>
            </a:gdLst>
            <a:ahLst/>
            <a:rect l="textAreaLeft" t="textAreaTop" r="textAreaRight" b="textAreaBottom"/>
            <a:pathLst>
              <a:path w="4416" h="1880">
                <a:moveTo>
                  <a:pt x="0" y="1880"/>
                </a:moveTo>
                <a:cubicBezTo>
                  <a:pt x="128" y="1592"/>
                  <a:pt x="256" y="1304"/>
                  <a:pt x="384" y="1112"/>
                </a:cubicBezTo>
                <a:cubicBezTo>
                  <a:pt x="512" y="920"/>
                  <a:pt x="616" y="848"/>
                  <a:pt x="768" y="728"/>
                </a:cubicBezTo>
                <a:cubicBezTo>
                  <a:pt x="920" y="608"/>
                  <a:pt x="1112" y="480"/>
                  <a:pt x="1296" y="392"/>
                </a:cubicBezTo>
                <a:cubicBezTo>
                  <a:pt x="1480" y="304"/>
                  <a:pt x="1656" y="248"/>
                  <a:pt x="1872" y="200"/>
                </a:cubicBezTo>
                <a:cubicBezTo>
                  <a:pt x="2088" y="152"/>
                  <a:pt x="2376" y="128"/>
                  <a:pt x="2592" y="104"/>
                </a:cubicBezTo>
                <a:cubicBezTo>
                  <a:pt x="2808" y="80"/>
                  <a:pt x="2952" y="72"/>
                  <a:pt x="3168" y="56"/>
                </a:cubicBezTo>
                <a:cubicBezTo>
                  <a:pt x="3384" y="40"/>
                  <a:pt x="3680" y="16"/>
                  <a:pt x="3888" y="8"/>
                </a:cubicBezTo>
                <a:cubicBezTo>
                  <a:pt x="4096" y="0"/>
                  <a:pt x="4312" y="8"/>
                  <a:pt x="4416" y="8"/>
                </a:cubicBezTo>
              </a:path>
            </a:pathLst>
          </a:custGeom>
          <a:noFill/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Text Box 4"/>
          <p:cNvSpPr/>
          <p:nvPr/>
        </p:nvSpPr>
        <p:spPr>
          <a:xfrm>
            <a:off x="722520" y="4663080"/>
            <a:ext cx="505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Times New Roman"/>
              </a:rPr>
              <a:t>After 1 </a:t>
            </a:r>
            <a:r>
              <a:rPr b="1" i="1" lang="en-US" sz="2000" spc="-1" strike="noStrike">
                <a:solidFill>
                  <a:srgbClr val="cc6600"/>
                </a:solidFill>
                <a:latin typeface="Times New Roman"/>
              </a:rPr>
              <a:t>T,  </a:t>
            </a:r>
            <a:r>
              <a:rPr b="1" lang="en-US" sz="2000" spc="-1" strike="noStrike">
                <a:solidFill>
                  <a:srgbClr val="cc6600"/>
                </a:solidFill>
                <a:latin typeface="Times New Roman"/>
              </a:rPr>
              <a:t>the current is reduced by 63.2 % 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Text Box 5"/>
          <p:cNvSpPr/>
          <p:nvPr/>
        </p:nvSpPr>
        <p:spPr>
          <a:xfrm>
            <a:off x="1177920" y="4968000"/>
            <a:ext cx="505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After 2 </a:t>
            </a:r>
            <a:r>
              <a:rPr b="1" i="1" lang="en-US" sz="2000" spc="-1" strike="noStrike">
                <a:solidFill>
                  <a:srgbClr val="ff0066"/>
                </a:solidFill>
                <a:latin typeface="Times New Roman"/>
              </a:rPr>
              <a:t>T, 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the current is reduced by 86.5 % 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Text Box 6"/>
          <p:cNvSpPr/>
          <p:nvPr/>
        </p:nvSpPr>
        <p:spPr>
          <a:xfrm>
            <a:off x="1621080" y="5333040"/>
            <a:ext cx="505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After 3 </a:t>
            </a:r>
            <a:r>
              <a:rPr b="1" i="1" lang="en-US" sz="2000" spc="-1" strike="noStrike">
                <a:solidFill>
                  <a:srgbClr val="990099"/>
                </a:solidFill>
                <a:latin typeface="Times New Roman"/>
              </a:rPr>
              <a:t>T,  </a:t>
            </a: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the current is reduced by 95.0 %</a:t>
            </a:r>
            <a:r>
              <a:rPr b="1" lang="en-US" sz="2000" spc="-1" strike="noStrike">
                <a:solidFill>
                  <a:srgbClr val="00cc99"/>
                </a:solidFill>
                <a:latin typeface="Times New Roman"/>
              </a:rPr>
              <a:t> 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Text Box 7"/>
          <p:cNvSpPr/>
          <p:nvPr/>
        </p:nvSpPr>
        <p:spPr>
          <a:xfrm>
            <a:off x="2086200" y="5653800"/>
            <a:ext cx="505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After 4 </a:t>
            </a: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T,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the current is reduced by 98.2 % 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Text Box 8"/>
          <p:cNvSpPr/>
          <p:nvPr/>
        </p:nvSpPr>
        <p:spPr>
          <a:xfrm>
            <a:off x="2467080" y="5958720"/>
            <a:ext cx="505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After 5 </a:t>
            </a: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T, 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the current is reduced by 99.3 % 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Text Box 9"/>
          <p:cNvSpPr/>
          <p:nvPr/>
        </p:nvSpPr>
        <p:spPr>
          <a:xfrm>
            <a:off x="1573200" y="6263640"/>
            <a:ext cx="619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 current is essentially zero after 5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.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 Box 10"/>
          <p:cNvSpPr/>
          <p:nvPr/>
        </p:nvSpPr>
        <p:spPr>
          <a:xfrm>
            <a:off x="3554280" y="422172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Time constants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Text Box 11"/>
          <p:cNvSpPr/>
          <p:nvPr/>
        </p:nvSpPr>
        <p:spPr>
          <a:xfrm>
            <a:off x="985320" y="3945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Text Box 12"/>
          <p:cNvSpPr/>
          <p:nvPr/>
        </p:nvSpPr>
        <p:spPr>
          <a:xfrm>
            <a:off x="2280600" y="3945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13"/>
          <p:cNvSpPr/>
          <p:nvPr/>
        </p:nvSpPr>
        <p:spPr>
          <a:xfrm>
            <a:off x="3658680" y="3945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Text Box 14"/>
          <p:cNvSpPr/>
          <p:nvPr/>
        </p:nvSpPr>
        <p:spPr>
          <a:xfrm>
            <a:off x="5023800" y="3961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15"/>
          <p:cNvSpPr/>
          <p:nvPr/>
        </p:nvSpPr>
        <p:spPr>
          <a:xfrm>
            <a:off x="6325560" y="3961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Text Box 16"/>
          <p:cNvSpPr/>
          <p:nvPr/>
        </p:nvSpPr>
        <p:spPr>
          <a:xfrm>
            <a:off x="7691040" y="3945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17"/>
          <p:cNvSpPr/>
          <p:nvPr/>
        </p:nvSpPr>
        <p:spPr>
          <a:xfrm>
            <a:off x="533520" y="70092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100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Text Box 18"/>
          <p:cNvSpPr/>
          <p:nvPr/>
        </p:nvSpPr>
        <p:spPr>
          <a:xfrm>
            <a:off x="718560" y="38091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0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Text Box 19"/>
          <p:cNvSpPr/>
          <p:nvPr/>
        </p:nvSpPr>
        <p:spPr>
          <a:xfrm rot="16200000">
            <a:off x="-387000" y="2241720"/>
            <a:ext cx="251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% of starting current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1" name="AutoShape 20"/>
          <p:cNvCxnSpPr>
            <a:stCxn id="943" idx="0"/>
          </p:cNvCxnSpPr>
          <p:nvPr/>
        </p:nvCxnSpPr>
        <p:spPr>
          <a:xfrm flipV="1" rot="16200000">
            <a:off x="1194840" y="2705760"/>
            <a:ext cx="1112040" cy="1369440"/>
          </a:xfrm>
          <a:prstGeom prst="bentConnector2">
            <a:avLst/>
          </a:prstGeom>
          <a:ln w="9360">
            <a:solidFill>
              <a:srgbClr val="000000"/>
            </a:solidFill>
            <a:prstDash val="sysDot"/>
            <a:miter/>
          </a:ln>
        </p:spPr>
      </p:cxnSp>
      <p:sp>
        <p:nvSpPr>
          <p:cNvPr id="952" name="Line 21"/>
          <p:cNvSpPr/>
          <p:nvPr/>
        </p:nvSpPr>
        <p:spPr>
          <a:xfrm>
            <a:off x="5105520" y="38257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Line 22"/>
          <p:cNvSpPr/>
          <p:nvPr/>
        </p:nvSpPr>
        <p:spPr>
          <a:xfrm flipH="1">
            <a:off x="1066320" y="3749760"/>
            <a:ext cx="40388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Line 23"/>
          <p:cNvSpPr/>
          <p:nvPr/>
        </p:nvSpPr>
        <p:spPr>
          <a:xfrm flipV="1">
            <a:off x="3809880" y="34448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Line 24"/>
          <p:cNvSpPr/>
          <p:nvPr/>
        </p:nvSpPr>
        <p:spPr>
          <a:xfrm flipH="1">
            <a:off x="1066680" y="352116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Line 25"/>
          <p:cNvSpPr/>
          <p:nvPr/>
        </p:nvSpPr>
        <p:spPr>
          <a:xfrm>
            <a:off x="6400800" y="38257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Line 26"/>
          <p:cNvSpPr/>
          <p:nvPr/>
        </p:nvSpPr>
        <p:spPr>
          <a:xfrm flipV="1">
            <a:off x="7848720" y="390204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27"/>
          <p:cNvSpPr/>
          <p:nvPr/>
        </p:nvSpPr>
        <p:spPr>
          <a:xfrm>
            <a:off x="2603160" y="268056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Times New Roman"/>
              </a:rPr>
              <a:t>36.8%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28"/>
          <p:cNvSpPr/>
          <p:nvPr/>
        </p:nvSpPr>
        <p:spPr>
          <a:xfrm>
            <a:off x="3931920" y="329184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13.5%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 Box 29"/>
          <p:cNvSpPr/>
          <p:nvPr/>
        </p:nvSpPr>
        <p:spPr>
          <a:xfrm>
            <a:off x="5113080" y="345852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Times New Roman"/>
              </a:rPr>
              <a:t>5.0%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Text Box 30"/>
          <p:cNvSpPr/>
          <p:nvPr/>
        </p:nvSpPr>
        <p:spPr>
          <a:xfrm>
            <a:off x="6382800" y="353448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1.8%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Text Box 31"/>
          <p:cNvSpPr/>
          <p:nvPr/>
        </p:nvSpPr>
        <p:spPr>
          <a:xfrm>
            <a:off x="7856280" y="359640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0.7%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Text Box 32"/>
          <p:cNvSpPr/>
          <p:nvPr/>
        </p:nvSpPr>
        <p:spPr>
          <a:xfrm>
            <a:off x="1021320" y="77760"/>
            <a:ext cx="740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</a:rPr>
              <a:t>RL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 Time Constant -- Falling 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</a:rPr>
              <a:t>I   </a:t>
            </a:r>
            <a:r>
              <a:rPr b="1" lang="en-US" sz="1800" spc="-1" strike="noStrike">
                <a:solidFill>
                  <a:srgbClr val="2d2db9"/>
                </a:solidFill>
                <a:latin typeface="Times New Roman"/>
              </a:rPr>
              <a:t>(Page 302) 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lide Number Placeholder 32"/>
          <p:cNvSpPr/>
          <p:nvPr/>
        </p:nvSpPr>
        <p:spPr>
          <a:xfrm>
            <a:off x="-152280" y="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 - </a:t>
            </a:r>
            <a:fld id="{82CA509D-3D33-416F-862C-14D73EAB71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2" dur="indefinite" restart="never" nodeType="tmRoot">
          <p:childTnLst>
            <p:seq>
              <p:cTn id="1093" dur="indefinite" nodeType="mainSeq">
                <p:childTnLst>
                  <p:par>
                    <p:cTn id="1094" fill="hold">
                      <p:stCondLst>
                        <p:cond delay="0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8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500"/>
                            </p:stCondLst>
                            <p:childTnLst>
                              <p:par>
                                <p:cTn id="1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Text Box 2"/>
          <p:cNvSpPr/>
          <p:nvPr/>
        </p:nvSpPr>
        <p:spPr>
          <a:xfrm>
            <a:off x="915840" y="196920"/>
            <a:ext cx="715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Reactance and Time-Constant Quiz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Text Box 4"/>
          <p:cNvSpPr/>
          <p:nvPr/>
        </p:nvSpPr>
        <p:spPr>
          <a:xfrm>
            <a:off x="456840" y="1235160"/>
            <a:ext cx="606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When the frequency is doubled, the inductive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reactance ____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Text Box 6"/>
          <p:cNvSpPr/>
          <p:nvPr/>
        </p:nvSpPr>
        <p:spPr>
          <a:xfrm>
            <a:off x="455760" y="2320920"/>
            <a:ext cx="642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When the inductance is decreased, the inductive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reactance ____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Text Box 7"/>
          <p:cNvSpPr/>
          <p:nvPr/>
        </p:nvSpPr>
        <p:spPr>
          <a:xfrm>
            <a:off x="456480" y="3406680"/>
            <a:ext cx="616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The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in an inductor circuit will be unchanged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when the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is halved and the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L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is ____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Text Box 8"/>
          <p:cNvSpPr/>
          <p:nvPr/>
        </p:nvSpPr>
        <p:spPr>
          <a:xfrm>
            <a:off x="453240" y="4492800"/>
            <a:ext cx="588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The current in an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L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circuit will be 99.3 %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of its final value after ____ time constant(s)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Text Box 10"/>
          <p:cNvSpPr/>
          <p:nvPr/>
        </p:nvSpPr>
        <p:spPr>
          <a:xfrm>
            <a:off x="454320" y="5578560"/>
            <a:ext cx="646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The current in an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L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circuit decays to 36.8 %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of its maximum value in _____ time constant(s)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Text Box 11"/>
          <p:cNvSpPr/>
          <p:nvPr/>
        </p:nvSpPr>
        <p:spPr>
          <a:xfrm>
            <a:off x="7269480" y="123516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double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Text Box 12"/>
          <p:cNvSpPr/>
          <p:nvPr/>
        </p:nvSpPr>
        <p:spPr>
          <a:xfrm>
            <a:off x="7268040" y="2320920"/>
            <a:ext cx="141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decrease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Text Box 13"/>
          <p:cNvSpPr/>
          <p:nvPr/>
        </p:nvSpPr>
        <p:spPr>
          <a:xfrm>
            <a:off x="7269480" y="3406680"/>
            <a:ext cx="123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doubled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Text Box 14"/>
          <p:cNvSpPr/>
          <p:nvPr/>
        </p:nvSpPr>
        <p:spPr>
          <a:xfrm>
            <a:off x="7268040" y="4492800"/>
            <a:ext cx="65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ive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Text Box 15"/>
          <p:cNvSpPr/>
          <p:nvPr/>
        </p:nvSpPr>
        <p:spPr>
          <a:xfrm>
            <a:off x="7269120" y="5578560"/>
            <a:ext cx="63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one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Slide Number Placeholder 12"/>
          <p:cNvSpPr/>
          <p:nvPr/>
        </p:nvSpPr>
        <p:spPr>
          <a:xfrm>
            <a:off x="-152280" y="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 - </a:t>
            </a:r>
            <a:fld id="{5107F96B-EFC2-4362-A47C-4421BAC818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7" dur="indefinite" restart="never" nodeType="tmRoot">
          <p:childTnLst>
            <p:seq>
              <p:cTn id="1218" dur="indefinite" nodeType="mainSeq">
                <p:childTnLst>
                  <p:par>
                    <p:cTn id="1219" fill="hold">
                      <p:stCondLst>
                        <p:cond delay="0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Text Box 2"/>
          <p:cNvSpPr/>
          <p:nvPr/>
        </p:nvSpPr>
        <p:spPr>
          <a:xfrm>
            <a:off x="1662480" y="136440"/>
            <a:ext cx="5450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Concept Review</a:t>
            </a: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AutoShape 3">
            <a:hlinkClick r:id="rId1" action="ppaction://hlinksldjump"/>
          </p:cNvPr>
          <p:cNvSpPr/>
          <p:nvPr/>
        </p:nvSpPr>
        <p:spPr>
          <a:xfrm>
            <a:off x="768240" y="5873760"/>
            <a:ext cx="2644920" cy="635040"/>
          </a:xfrm>
          <a:custGeom>
            <a:avLst/>
            <a:gdLst>
              <a:gd name="textAreaLeft" fmla="*/ 41040 w 2644920"/>
              <a:gd name="textAreaRight" fmla="*/ 2603880 w 2644920"/>
              <a:gd name="textAreaTop" fmla="*/ 41040 h 635040"/>
              <a:gd name="textAreaBottom" fmla="*/ 594000 h 635040"/>
            </a:gdLst>
            <a:ahLst/>
            <a:rect l="textAreaLeft" t="textAreaTop" r="textAreaRight" b="textAreaBottom"/>
            <a:pathLst>
              <a:path w="89925" h="21600">
                <a:moveTo>
                  <a:pt x="0" y="0"/>
                </a:moveTo>
                <a:lnTo>
                  <a:pt x="89925" y="0"/>
                </a:lnTo>
                <a:lnTo>
                  <a:pt x="89925" y="21600"/>
                </a:lnTo>
                <a:lnTo>
                  <a:pt x="0" y="21600"/>
                </a:lnTo>
                <a:close/>
              </a:path>
              <a:path fill="lightenLess" w="89925" h="21600">
                <a:moveTo>
                  <a:pt x="0" y="0"/>
                </a:moveTo>
                <a:lnTo>
                  <a:pt x="89925" y="0"/>
                </a:lnTo>
                <a:lnTo>
                  <a:pt x="88525" y="1400"/>
                </a:lnTo>
                <a:lnTo>
                  <a:pt x="1400" y="1400"/>
                </a:lnTo>
                <a:close/>
              </a:path>
              <a:path fill="darken" w="89925" h="21600">
                <a:moveTo>
                  <a:pt x="89925" y="0"/>
                </a:moveTo>
                <a:lnTo>
                  <a:pt x="89925" y="21600"/>
                </a:lnTo>
                <a:lnTo>
                  <a:pt x="88525" y="20200"/>
                </a:lnTo>
                <a:lnTo>
                  <a:pt x="88525" y="1400"/>
                </a:lnTo>
                <a:close/>
              </a:path>
              <a:path fill="darkenLess" w="89925" h="21600">
                <a:moveTo>
                  <a:pt x="899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525" y="20200"/>
                </a:lnTo>
                <a:close/>
              </a:path>
              <a:path fill="lighten" w="899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9925" h="21600">
                <a:moveTo>
                  <a:pt x="37956" y="10800"/>
                </a:moveTo>
                <a:lnTo>
                  <a:pt x="51969" y="3794"/>
                </a:lnTo>
                <a:lnTo>
                  <a:pt x="5196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Text Box 4"/>
          <p:cNvSpPr/>
          <p:nvPr/>
        </p:nvSpPr>
        <p:spPr>
          <a:xfrm>
            <a:off x="3480840" y="597384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peat Segment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Text Box 5"/>
          <p:cNvSpPr/>
          <p:nvPr/>
        </p:nvSpPr>
        <p:spPr>
          <a:xfrm>
            <a:off x="608760" y="1263600"/>
            <a:ext cx="66718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is directly proportional to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Text Box 6"/>
          <p:cNvSpPr/>
          <p:nvPr/>
        </p:nvSpPr>
        <p:spPr>
          <a:xfrm>
            <a:off x="608760" y="2057400"/>
            <a:ext cx="6431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is directly proportional to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2" name="Group 7"/>
          <p:cNvGrpSpPr/>
          <p:nvPr/>
        </p:nvGrpSpPr>
        <p:grpSpPr>
          <a:xfrm>
            <a:off x="596520" y="2908440"/>
            <a:ext cx="6980760" cy="1206720"/>
            <a:chOff x="596520" y="2908440"/>
            <a:chExt cx="6980760" cy="1206720"/>
          </a:xfrm>
        </p:grpSpPr>
        <p:sp>
          <p:nvSpPr>
            <p:cNvPr id="983" name="Text Box 8"/>
            <p:cNvSpPr/>
            <p:nvPr/>
          </p:nvSpPr>
          <p:spPr>
            <a:xfrm>
              <a:off x="596520" y="2908440"/>
              <a:ext cx="698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Ohm’s law for inductive circuits </a:t>
              </a:r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Text Box 9"/>
            <p:cNvSpPr/>
            <p:nvPr/>
          </p:nvSpPr>
          <p:spPr>
            <a:xfrm>
              <a:off x="1088640" y="3396960"/>
              <a:ext cx="29455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/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 X</a:t>
              </a:r>
              <a:r>
                <a:rPr b="1" i="1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.</a:t>
              </a:r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5" name="Group 10"/>
          <p:cNvGrpSpPr/>
          <p:nvPr/>
        </p:nvGrpSpPr>
        <p:grpSpPr>
          <a:xfrm>
            <a:off x="612360" y="4159080"/>
            <a:ext cx="8276040" cy="1091880"/>
            <a:chOff x="612360" y="4159080"/>
            <a:chExt cx="8276040" cy="1091880"/>
          </a:xfrm>
        </p:grpSpPr>
        <p:sp>
          <p:nvSpPr>
            <p:cNvPr id="986" name="Text Box 11"/>
            <p:cNvSpPr/>
            <p:nvPr/>
          </p:nvSpPr>
          <p:spPr>
            <a:xfrm>
              <a:off x="612360" y="4159080"/>
              <a:ext cx="8276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In an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RL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circuit, current has essentially</a:t>
              </a:r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Text Box 12"/>
            <p:cNvSpPr/>
            <p:nvPr/>
          </p:nvSpPr>
          <p:spPr>
            <a:xfrm>
              <a:off x="1024920" y="4608360"/>
              <a:ext cx="5918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reached its final value in 5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8" name="Slide Number Placeholder 12"/>
          <p:cNvSpPr/>
          <p:nvPr/>
        </p:nvSpPr>
        <p:spPr>
          <a:xfrm>
            <a:off x="-152280" y="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 - </a:t>
            </a:r>
            <a:fld id="{07291F70-1950-4A96-98F1-6AFDF89A1E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4" dur="indefinite" restart="never" nodeType="tmRoot">
          <p:childTnLst>
            <p:seq>
              <p:cTn id="1285" dur="indefinite" nodeType="mainSeq">
                <p:childTnLst>
                  <p:par>
                    <p:cTn id="1286" fill="hold">
                      <p:stCondLst>
                        <p:cond delay="0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90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fill="hold">
                            <p:stCondLst>
                              <p:cond delay="500"/>
                            </p:stCondLst>
                            <p:childTnLst>
                              <p:par>
                                <p:cTn id="13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Text Box 2"/>
          <p:cNvSpPr/>
          <p:nvPr/>
        </p:nvSpPr>
        <p:spPr>
          <a:xfrm>
            <a:off x="1662120" y="0"/>
            <a:ext cx="5703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Concept Preview</a:t>
            </a: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0" name="Group 7"/>
          <p:cNvGrpSpPr/>
          <p:nvPr/>
        </p:nvGrpSpPr>
        <p:grpSpPr>
          <a:xfrm>
            <a:off x="596160" y="958680"/>
            <a:ext cx="7451640" cy="1099800"/>
            <a:chOff x="596160" y="958680"/>
            <a:chExt cx="7451640" cy="1099800"/>
          </a:xfrm>
        </p:grpSpPr>
        <p:sp>
          <p:nvSpPr>
            <p:cNvPr id="991" name="Text Box 3"/>
            <p:cNvSpPr/>
            <p:nvPr/>
          </p:nvSpPr>
          <p:spPr>
            <a:xfrm>
              <a:off x="596160" y="958680"/>
              <a:ext cx="745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The largest series inductance drops</a:t>
              </a:r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Text Box 4"/>
            <p:cNvSpPr/>
            <p:nvPr/>
          </p:nvSpPr>
          <p:spPr>
            <a:xfrm>
              <a:off x="1074600" y="1415880"/>
              <a:ext cx="489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the most voltage.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(Page 300) </a:t>
              </a: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3" name="Group 8"/>
          <p:cNvGrpSpPr/>
          <p:nvPr/>
        </p:nvGrpSpPr>
        <p:grpSpPr>
          <a:xfrm>
            <a:off x="596880" y="2025720"/>
            <a:ext cx="6993000" cy="1099800"/>
            <a:chOff x="596880" y="2025720"/>
            <a:chExt cx="6993000" cy="1099800"/>
          </a:xfrm>
        </p:grpSpPr>
        <p:sp>
          <p:nvSpPr>
            <p:cNvPr id="994" name="Text Box 5"/>
            <p:cNvSpPr/>
            <p:nvPr/>
          </p:nvSpPr>
          <p:spPr>
            <a:xfrm>
              <a:off x="596880" y="2025720"/>
              <a:ext cx="699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The smallest parallel inductance </a:t>
              </a:r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Text Box 6"/>
            <p:cNvSpPr/>
            <p:nvPr/>
          </p:nvSpPr>
          <p:spPr>
            <a:xfrm>
              <a:off x="940680" y="2482920"/>
              <a:ext cx="6394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draws the most current.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(Page 301) </a:t>
              </a: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6" name="Group 11"/>
          <p:cNvGrpSpPr/>
          <p:nvPr/>
        </p:nvGrpSpPr>
        <p:grpSpPr>
          <a:xfrm>
            <a:off x="596160" y="3244680"/>
            <a:ext cx="7565760" cy="1099800"/>
            <a:chOff x="596160" y="3244680"/>
            <a:chExt cx="7565760" cy="1099800"/>
          </a:xfrm>
        </p:grpSpPr>
        <p:sp>
          <p:nvSpPr>
            <p:cNvPr id="997" name="Text Box 9"/>
            <p:cNvSpPr/>
            <p:nvPr/>
          </p:nvSpPr>
          <p:spPr>
            <a:xfrm>
              <a:off x="596160" y="3244680"/>
              <a:ext cx="7565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The skin effect increases the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of an</a:t>
              </a:r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Text Box 10"/>
            <p:cNvSpPr/>
            <p:nvPr/>
          </p:nvSpPr>
          <p:spPr>
            <a:xfrm>
              <a:off x="1076040" y="3701880"/>
              <a:ext cx="6799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inductor as the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increases.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(Page 298) </a:t>
              </a: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9" name="Group 14"/>
          <p:cNvGrpSpPr/>
          <p:nvPr/>
        </p:nvGrpSpPr>
        <p:grpSpPr>
          <a:xfrm>
            <a:off x="596520" y="4464000"/>
            <a:ext cx="8078040" cy="1099800"/>
            <a:chOff x="596520" y="4464000"/>
            <a:chExt cx="8078040" cy="1099800"/>
          </a:xfrm>
        </p:grpSpPr>
        <p:sp>
          <p:nvSpPr>
            <p:cNvPr id="1000" name="Text Box 12"/>
            <p:cNvSpPr/>
            <p:nvPr/>
          </p:nvSpPr>
          <p:spPr>
            <a:xfrm>
              <a:off x="596520" y="4464000"/>
              <a:ext cx="7730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Mutual inductance can be controlled</a:t>
              </a:r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Text Box 13"/>
            <p:cNvSpPr/>
            <p:nvPr/>
          </p:nvSpPr>
          <p:spPr>
            <a:xfrm>
              <a:off x="1088640" y="4921200"/>
              <a:ext cx="758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by shielding, orientation, and spacing.</a:t>
              </a:r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2" name="Rectangle 14"/>
          <p:cNvSpPr/>
          <p:nvPr/>
        </p:nvSpPr>
        <p:spPr>
          <a:xfrm>
            <a:off x="7168680" y="5421240"/>
            <a:ext cx="12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Page 303) 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Slide Number Placeholder 15"/>
          <p:cNvSpPr/>
          <p:nvPr/>
        </p:nvSpPr>
        <p:spPr>
          <a:xfrm>
            <a:off x="-152280" y="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 - </a:t>
            </a:r>
            <a:fld id="{B32A7BC4-881D-4ACD-9BCC-273CE028F2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5" dur="indefinite" restart="never" nodeType="tmRoot">
          <p:childTnLst>
            <p:seq>
              <p:cTn id="1326" dur="indefinite" nodeType="mainSeq">
                <p:childTnLst>
                  <p:par>
                    <p:cTn id="1327" fill="hold">
                      <p:stCondLst>
                        <p:cond delay="0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31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8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4" name="Group 174"/>
          <p:cNvGrpSpPr/>
          <p:nvPr/>
        </p:nvGrpSpPr>
        <p:grpSpPr>
          <a:xfrm>
            <a:off x="5632200" y="1675440"/>
            <a:ext cx="762840" cy="1998720"/>
            <a:chOff x="5632200" y="1675440"/>
            <a:chExt cx="762840" cy="1998720"/>
          </a:xfrm>
        </p:grpSpPr>
        <p:sp>
          <p:nvSpPr>
            <p:cNvPr id="1005" name="Text Box 51"/>
            <p:cNvSpPr/>
            <p:nvPr/>
          </p:nvSpPr>
          <p:spPr>
            <a:xfrm>
              <a:off x="5632200" y="1675440"/>
              <a:ext cx="76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.1 H</a:t>
              </a:r>
              <a:endParaRPr b="1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Text Box 54"/>
            <p:cNvSpPr/>
            <p:nvPr/>
          </p:nvSpPr>
          <p:spPr>
            <a:xfrm>
              <a:off x="5632200" y="3275280"/>
              <a:ext cx="76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.3 H</a:t>
              </a:r>
              <a:endParaRPr b="1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7" name="Group 175"/>
          <p:cNvGrpSpPr/>
          <p:nvPr/>
        </p:nvGrpSpPr>
        <p:grpSpPr>
          <a:xfrm>
            <a:off x="5633280" y="2056320"/>
            <a:ext cx="669960" cy="1983240"/>
            <a:chOff x="5633280" y="2056320"/>
            <a:chExt cx="669960" cy="1983240"/>
          </a:xfrm>
        </p:grpSpPr>
        <p:sp>
          <p:nvSpPr>
            <p:cNvPr id="1008" name="Text Box 52"/>
            <p:cNvSpPr/>
            <p:nvPr/>
          </p:nvSpPr>
          <p:spPr>
            <a:xfrm>
              <a:off x="5633280" y="2056320"/>
              <a:ext cx="66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15 </a:t>
              </a:r>
              <a:r>
                <a:rPr b="1" i="1" lang="en-US" sz="2000" spc="-1" strike="noStrike">
                  <a:solidFill>
                    <a:srgbClr val="008000"/>
                  </a:solidFill>
                  <a:latin typeface="Times New Roman"/>
                </a:rPr>
                <a:t>V</a:t>
              </a:r>
              <a:endParaRPr b="1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Text Box 55"/>
            <p:cNvSpPr/>
            <p:nvPr/>
          </p:nvSpPr>
          <p:spPr>
            <a:xfrm>
              <a:off x="5633280" y="3640680"/>
              <a:ext cx="66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45 </a:t>
              </a:r>
              <a:r>
                <a:rPr b="1" i="1" lang="en-US" sz="2000" spc="-1" strike="noStrike">
                  <a:solidFill>
                    <a:srgbClr val="008000"/>
                  </a:solidFill>
                  <a:latin typeface="Times New Roman"/>
                </a:rPr>
                <a:t>V</a:t>
              </a:r>
              <a:endParaRPr b="1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0" name="Text Box 65"/>
          <p:cNvSpPr/>
          <p:nvPr/>
        </p:nvSpPr>
        <p:spPr>
          <a:xfrm>
            <a:off x="931680" y="4874040"/>
            <a:ext cx="36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In a series inductor circuit,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Text Box 66"/>
          <p:cNvSpPr/>
          <p:nvPr/>
        </p:nvSpPr>
        <p:spPr>
          <a:xfrm>
            <a:off x="4571640" y="487404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the largest inductor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Text Box 67"/>
          <p:cNvSpPr/>
          <p:nvPr/>
        </p:nvSpPr>
        <p:spPr>
          <a:xfrm>
            <a:off x="926640" y="5483880"/>
            <a:ext cx="357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develops the most voltage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68"/>
          <p:cNvSpPr/>
          <p:nvPr/>
        </p:nvSpPr>
        <p:spPr>
          <a:xfrm>
            <a:off x="4507920" y="5483880"/>
            <a:ext cx="34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The voltage distributes in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69"/>
          <p:cNvSpPr/>
          <p:nvPr/>
        </p:nvSpPr>
        <p:spPr>
          <a:xfrm>
            <a:off x="1016280" y="6092280"/>
            <a:ext cx="51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direct  proportion to the inductance.  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5" name="Group 177"/>
          <p:cNvGrpSpPr/>
          <p:nvPr/>
        </p:nvGrpSpPr>
        <p:grpSpPr>
          <a:xfrm>
            <a:off x="2133360" y="1219320"/>
            <a:ext cx="3423600" cy="3352680"/>
            <a:chOff x="2133360" y="1219320"/>
            <a:chExt cx="3423600" cy="3352680"/>
          </a:xfrm>
        </p:grpSpPr>
        <p:sp>
          <p:nvSpPr>
            <p:cNvPr id="1016" name="Text Box 39"/>
            <p:cNvSpPr/>
            <p:nvPr/>
          </p:nvSpPr>
          <p:spPr>
            <a:xfrm>
              <a:off x="2192400" y="1964520"/>
              <a:ext cx="66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60 </a:t>
              </a:r>
              <a:r>
                <a:rPr b="1" i="1" lang="en-US" sz="2000" spc="-1" strike="noStrike">
                  <a:solidFill>
                    <a:srgbClr val="008000"/>
                  </a:solidFill>
                  <a:latin typeface="Times New Roman"/>
                </a:rPr>
                <a:t>V</a:t>
              </a:r>
              <a:endParaRPr b="1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Text Box 110"/>
            <p:cNvSpPr/>
            <p:nvPr/>
          </p:nvSpPr>
          <p:spPr>
            <a:xfrm>
              <a:off x="2133360" y="3489480"/>
              <a:ext cx="81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Times New Roman"/>
                </a:rPr>
                <a:t>50 Hz</a:t>
              </a:r>
              <a:endParaRPr b="1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8" name="Group 176"/>
            <p:cNvGrpSpPr/>
            <p:nvPr/>
          </p:nvGrpSpPr>
          <p:grpSpPr>
            <a:xfrm>
              <a:off x="2246040" y="1219320"/>
              <a:ext cx="3310920" cy="3352680"/>
              <a:chOff x="2246040" y="1219320"/>
              <a:chExt cx="3310920" cy="3352680"/>
            </a:xfrm>
          </p:grpSpPr>
          <p:grpSp>
            <p:nvGrpSpPr>
              <p:cNvPr id="1019" name="Group 148"/>
              <p:cNvGrpSpPr/>
              <p:nvPr/>
            </p:nvGrpSpPr>
            <p:grpSpPr>
              <a:xfrm>
                <a:off x="5050800" y="1219320"/>
                <a:ext cx="506160" cy="1752480"/>
                <a:chOff x="5050800" y="1219320"/>
                <a:chExt cx="506160" cy="1752480"/>
              </a:xfrm>
            </p:grpSpPr>
            <p:grpSp>
              <p:nvGrpSpPr>
                <p:cNvPr id="1020" name="Group 149"/>
                <p:cNvGrpSpPr/>
                <p:nvPr/>
              </p:nvGrpSpPr>
              <p:grpSpPr>
                <a:xfrm>
                  <a:off x="5050800" y="1523880"/>
                  <a:ext cx="506160" cy="1159200"/>
                  <a:chOff x="5050800" y="1523880"/>
                  <a:chExt cx="506160" cy="1159200"/>
                </a:xfrm>
              </p:grpSpPr>
              <p:sp>
                <p:nvSpPr>
                  <p:cNvPr id="1021" name="Freeform 150"/>
                  <p:cNvSpPr/>
                  <p:nvPr/>
                </p:nvSpPr>
                <p:spPr>
                  <a:xfrm rot="274800">
                    <a:off x="5079240" y="2014200"/>
                    <a:ext cx="461880" cy="411120"/>
                  </a:xfrm>
                  <a:custGeom>
                    <a:avLst/>
                    <a:gdLst>
                      <a:gd name="textAreaLeft" fmla="*/ 0 w 461880"/>
                      <a:gd name="textAreaRight" fmla="*/ 462240 w 461880"/>
                      <a:gd name="textAreaTop" fmla="*/ 0 h 411120"/>
                      <a:gd name="textAreaBottom" fmla="*/ 411480 h 411120"/>
                    </a:gdLst>
                    <a:ahLst/>
                    <a:rect l="textAreaLeft" t="textAreaTop" r="textAreaRight" b="textAreaBottom"/>
                    <a:pathLst>
                      <a:path w="307" h="322">
                        <a:moveTo>
                          <a:pt x="0" y="63"/>
                        </a:moveTo>
                        <a:cubicBezTo>
                          <a:pt x="12" y="53"/>
                          <a:pt x="62" y="26"/>
                          <a:pt x="97" y="19"/>
                        </a:cubicBezTo>
                        <a:cubicBezTo>
                          <a:pt x="132" y="12"/>
                          <a:pt x="176" y="0"/>
                          <a:pt x="210" y="19"/>
                        </a:cubicBezTo>
                        <a:cubicBezTo>
                          <a:pt x="244" y="38"/>
                          <a:pt x="293" y="94"/>
                          <a:pt x="300" y="135"/>
                        </a:cubicBezTo>
                        <a:cubicBezTo>
                          <a:pt x="307" y="176"/>
                          <a:pt x="277" y="234"/>
                          <a:pt x="250" y="265"/>
                        </a:cubicBezTo>
                        <a:cubicBezTo>
                          <a:pt x="223" y="296"/>
                          <a:pt x="176" y="320"/>
                          <a:pt x="138" y="321"/>
                        </a:cubicBezTo>
                        <a:cubicBezTo>
                          <a:pt x="100" y="322"/>
                          <a:pt x="44" y="280"/>
                          <a:pt x="19" y="269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i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2" name="Freeform 151"/>
                  <p:cNvSpPr/>
                  <p:nvPr/>
                </p:nvSpPr>
                <p:spPr>
                  <a:xfrm rot="274800">
                    <a:off x="5069520" y="2257200"/>
                    <a:ext cx="423720" cy="409680"/>
                  </a:xfrm>
                  <a:custGeom>
                    <a:avLst/>
                    <a:gdLst>
                      <a:gd name="textAreaLeft" fmla="*/ 0 w 423720"/>
                      <a:gd name="textAreaRight" fmla="*/ 424080 w 423720"/>
                      <a:gd name="textAreaTop" fmla="*/ 0 h 409680"/>
                      <a:gd name="textAreaBottom" fmla="*/ 410040 h 409680"/>
                    </a:gdLst>
                    <a:ahLst/>
                    <a:rect l="textAreaLeft" t="textAreaTop" r="textAreaRight" b="textAreaBottom"/>
                    <a:pathLst>
                      <a:path w="282" h="321">
                        <a:moveTo>
                          <a:pt x="0" y="77"/>
                        </a:moveTo>
                        <a:cubicBezTo>
                          <a:pt x="12" y="64"/>
                          <a:pt x="41" y="29"/>
                          <a:pt x="72" y="19"/>
                        </a:cubicBezTo>
                        <a:cubicBezTo>
                          <a:pt x="103" y="9"/>
                          <a:pt x="151" y="0"/>
                          <a:pt x="185" y="19"/>
                        </a:cubicBezTo>
                        <a:cubicBezTo>
                          <a:pt x="219" y="38"/>
                          <a:pt x="268" y="94"/>
                          <a:pt x="275" y="135"/>
                        </a:cubicBezTo>
                        <a:cubicBezTo>
                          <a:pt x="282" y="176"/>
                          <a:pt x="252" y="234"/>
                          <a:pt x="225" y="265"/>
                        </a:cubicBezTo>
                        <a:cubicBezTo>
                          <a:pt x="198" y="296"/>
                          <a:pt x="147" y="321"/>
                          <a:pt x="113" y="321"/>
                        </a:cubicBezTo>
                        <a:cubicBezTo>
                          <a:pt x="79" y="321"/>
                          <a:pt x="39" y="277"/>
                          <a:pt x="19" y="265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i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3" name="Freeform 152"/>
                  <p:cNvSpPr/>
                  <p:nvPr/>
                </p:nvSpPr>
                <p:spPr>
                  <a:xfrm>
                    <a:off x="5065200" y="1523880"/>
                    <a:ext cx="441000" cy="404640"/>
                  </a:xfrm>
                  <a:custGeom>
                    <a:avLst/>
                    <a:gdLst>
                      <a:gd name="textAreaLeft" fmla="*/ 0 w 441000"/>
                      <a:gd name="textAreaRight" fmla="*/ 441360 w 441000"/>
                      <a:gd name="textAreaTop" fmla="*/ 0 h 404640"/>
                      <a:gd name="textAreaBottom" fmla="*/ 405000 h 404640"/>
                    </a:gdLst>
                    <a:ahLst/>
                    <a:rect l="textAreaLeft" t="textAreaTop" r="textAreaRight" b="textAreaBottom"/>
                    <a:pathLst>
                      <a:path w="278" h="255">
                        <a:moveTo>
                          <a:pt x="10" y="32"/>
                        </a:moveTo>
                        <a:cubicBezTo>
                          <a:pt x="17" y="28"/>
                          <a:pt x="59" y="12"/>
                          <a:pt x="90" y="9"/>
                        </a:cubicBezTo>
                        <a:cubicBezTo>
                          <a:pt x="121" y="6"/>
                          <a:pt x="166" y="0"/>
                          <a:pt x="196" y="17"/>
                        </a:cubicBezTo>
                        <a:cubicBezTo>
                          <a:pt x="227" y="35"/>
                          <a:pt x="270" y="83"/>
                          <a:pt x="274" y="117"/>
                        </a:cubicBezTo>
                        <a:cubicBezTo>
                          <a:pt x="278" y="150"/>
                          <a:pt x="246" y="194"/>
                          <a:pt x="219" y="217"/>
                        </a:cubicBezTo>
                        <a:cubicBezTo>
                          <a:pt x="191" y="239"/>
                          <a:pt x="145" y="255"/>
                          <a:pt x="109" y="253"/>
                        </a:cubicBezTo>
                        <a:cubicBezTo>
                          <a:pt x="73" y="251"/>
                          <a:pt x="23" y="213"/>
                          <a:pt x="0" y="203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i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4" name="Freeform 153"/>
                  <p:cNvSpPr/>
                  <p:nvPr/>
                </p:nvSpPr>
                <p:spPr>
                  <a:xfrm rot="274800">
                    <a:off x="5066280" y="1766520"/>
                    <a:ext cx="423720" cy="409680"/>
                  </a:xfrm>
                  <a:custGeom>
                    <a:avLst/>
                    <a:gdLst>
                      <a:gd name="textAreaLeft" fmla="*/ 0 w 423720"/>
                      <a:gd name="textAreaRight" fmla="*/ 424080 w 423720"/>
                      <a:gd name="textAreaTop" fmla="*/ 0 h 409680"/>
                      <a:gd name="textAreaBottom" fmla="*/ 410040 h 409680"/>
                    </a:gdLst>
                    <a:ahLst/>
                    <a:rect l="textAreaLeft" t="textAreaTop" r="textAreaRight" b="textAreaBottom"/>
                    <a:pathLst>
                      <a:path w="282" h="321">
                        <a:moveTo>
                          <a:pt x="0" y="77"/>
                        </a:moveTo>
                        <a:cubicBezTo>
                          <a:pt x="12" y="64"/>
                          <a:pt x="41" y="29"/>
                          <a:pt x="72" y="19"/>
                        </a:cubicBezTo>
                        <a:cubicBezTo>
                          <a:pt x="103" y="9"/>
                          <a:pt x="151" y="0"/>
                          <a:pt x="185" y="19"/>
                        </a:cubicBezTo>
                        <a:cubicBezTo>
                          <a:pt x="219" y="38"/>
                          <a:pt x="268" y="94"/>
                          <a:pt x="275" y="135"/>
                        </a:cubicBezTo>
                        <a:cubicBezTo>
                          <a:pt x="282" y="176"/>
                          <a:pt x="252" y="234"/>
                          <a:pt x="225" y="265"/>
                        </a:cubicBezTo>
                        <a:cubicBezTo>
                          <a:pt x="198" y="296"/>
                          <a:pt x="147" y="321"/>
                          <a:pt x="113" y="321"/>
                        </a:cubicBezTo>
                        <a:cubicBezTo>
                          <a:pt x="79" y="321"/>
                          <a:pt x="39" y="277"/>
                          <a:pt x="19" y="265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i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25" name="Line 154"/>
                <p:cNvSpPr/>
                <p:nvPr/>
              </p:nvSpPr>
              <p:spPr>
                <a:xfrm>
                  <a:off x="5083920" y="1219320"/>
                  <a:ext cx="0" cy="380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Line 155"/>
                <p:cNvSpPr/>
                <p:nvPr/>
              </p:nvSpPr>
              <p:spPr>
                <a:xfrm>
                  <a:off x="5083920" y="2590920"/>
                  <a:ext cx="0" cy="380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7" name="Line 156"/>
              <p:cNvSpPr/>
              <p:nvPr/>
            </p:nvSpPr>
            <p:spPr>
              <a:xfrm flipH="1">
                <a:off x="2931480" y="1219320"/>
                <a:ext cx="2133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Line 157"/>
              <p:cNvSpPr/>
              <p:nvPr/>
            </p:nvSpPr>
            <p:spPr>
              <a:xfrm flipH="1">
                <a:off x="2931480" y="4572000"/>
                <a:ext cx="2133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Line 158"/>
              <p:cNvSpPr/>
              <p:nvPr/>
            </p:nvSpPr>
            <p:spPr>
              <a:xfrm>
                <a:off x="2931480" y="1219320"/>
                <a:ext cx="0" cy="3352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0" name="Group 159"/>
              <p:cNvGrpSpPr/>
              <p:nvPr/>
            </p:nvGrpSpPr>
            <p:grpSpPr>
              <a:xfrm>
                <a:off x="2246040" y="2286000"/>
                <a:ext cx="1261440" cy="1203120"/>
                <a:chOff x="2246040" y="2286000"/>
                <a:chExt cx="1261440" cy="1203120"/>
              </a:xfrm>
            </p:grpSpPr>
            <p:sp>
              <p:nvSpPr>
                <p:cNvPr id="1031" name="Oval 160"/>
                <p:cNvSpPr/>
                <p:nvPr/>
              </p:nvSpPr>
              <p:spPr>
                <a:xfrm>
                  <a:off x="2246040" y="2286000"/>
                  <a:ext cx="1261440" cy="120312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i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32" name="Group 161"/>
                <p:cNvGrpSpPr/>
                <p:nvPr/>
              </p:nvGrpSpPr>
              <p:grpSpPr>
                <a:xfrm>
                  <a:off x="2497680" y="2526840"/>
                  <a:ext cx="757080" cy="721800"/>
                  <a:chOff x="2497680" y="2526840"/>
                  <a:chExt cx="757080" cy="721800"/>
                </a:xfrm>
              </p:grpSpPr>
              <p:sp>
                <p:nvSpPr>
                  <p:cNvPr id="1033" name="Arc 162"/>
                  <p:cNvSpPr/>
                  <p:nvPr/>
                </p:nvSpPr>
                <p:spPr>
                  <a:xfrm flipH="1">
                    <a:off x="2497320" y="2526840"/>
                    <a:ext cx="377640" cy="404640"/>
                  </a:xfrm>
                  <a:custGeom>
                    <a:avLst/>
                    <a:gdLst>
                      <a:gd name="textAreaLeft" fmla="*/ -360 w 377640"/>
                      <a:gd name="textAreaRight" fmla="*/ 377640 w 377640"/>
                      <a:gd name="textAreaTop" fmla="*/ 0 h 404640"/>
                      <a:gd name="textAreaBottom" fmla="*/ 405000 h 404640"/>
                    </a:gdLst>
                    <a:ahLst/>
                    <a:rect l="textAreaLeft" t="textAreaTop" r="textAreaRight" b="textAreaBottom"/>
                    <a:pathLst>
                      <a:path fill="none" w="42910" h="21600">
                        <a:moveTo>
                          <a:pt x="0" y="18900"/>
                        </a:moveTo>
                        <a:cubicBezTo>
                          <a:pt x="1361" y="8100"/>
                          <a:pt x="10545" y="-1"/>
                          <a:pt x="21431" y="0"/>
                        </a:cubicBezTo>
                        <a:cubicBezTo>
                          <a:pt x="32476" y="0"/>
                          <a:pt x="41743" y="8333"/>
                          <a:pt x="42910" y="19317"/>
                        </a:cubicBezTo>
                      </a:path>
                      <a:path stroke="0" w="42910" h="21600">
                        <a:moveTo>
                          <a:pt x="0" y="18900"/>
                        </a:moveTo>
                        <a:cubicBezTo>
                          <a:pt x="1361" y="8100"/>
                          <a:pt x="10545" y="-1"/>
                          <a:pt x="21431" y="0"/>
                        </a:cubicBezTo>
                        <a:cubicBezTo>
                          <a:pt x="32476" y="0"/>
                          <a:pt x="41743" y="8333"/>
                          <a:pt x="42910" y="19317"/>
                        </a:cubicBezTo>
                        <a:lnTo>
                          <a:pt x="21431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2844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i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4" name="Arc 163"/>
                  <p:cNvSpPr/>
                  <p:nvPr/>
                </p:nvSpPr>
                <p:spPr>
                  <a:xfrm flipH="1" flipV="1">
                    <a:off x="2876760" y="2844000"/>
                    <a:ext cx="377640" cy="404640"/>
                  </a:xfrm>
                  <a:custGeom>
                    <a:avLst/>
                    <a:gdLst>
                      <a:gd name="textAreaLeft" fmla="*/ -360 w 377640"/>
                      <a:gd name="textAreaRight" fmla="*/ 377640 w 377640"/>
                      <a:gd name="textAreaTop" fmla="*/ 360 h 404640"/>
                      <a:gd name="textAreaBottom" fmla="*/ 405360 h 404640"/>
                    </a:gdLst>
                    <a:ahLst/>
                    <a:rect l="textAreaLeft" t="textAreaTop" r="textAreaRight" b="textAreaBottom"/>
                    <a:pathLst>
                      <a:path fill="none" w="42910" h="21600">
                        <a:moveTo>
                          <a:pt x="0" y="18900"/>
                        </a:moveTo>
                        <a:cubicBezTo>
                          <a:pt x="1361" y="8100"/>
                          <a:pt x="10545" y="-1"/>
                          <a:pt x="21431" y="0"/>
                        </a:cubicBezTo>
                        <a:cubicBezTo>
                          <a:pt x="32476" y="0"/>
                          <a:pt x="41743" y="8333"/>
                          <a:pt x="42910" y="19317"/>
                        </a:cubicBezTo>
                      </a:path>
                      <a:path stroke="0" w="42910" h="21600">
                        <a:moveTo>
                          <a:pt x="0" y="18900"/>
                        </a:moveTo>
                        <a:cubicBezTo>
                          <a:pt x="1361" y="8100"/>
                          <a:pt x="10545" y="-1"/>
                          <a:pt x="21431" y="0"/>
                        </a:cubicBezTo>
                        <a:cubicBezTo>
                          <a:pt x="32476" y="0"/>
                          <a:pt x="41743" y="8333"/>
                          <a:pt x="42910" y="19317"/>
                        </a:cubicBezTo>
                        <a:lnTo>
                          <a:pt x="21431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2844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i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35" name="Group 164"/>
              <p:cNvGrpSpPr/>
              <p:nvPr/>
            </p:nvGrpSpPr>
            <p:grpSpPr>
              <a:xfrm>
                <a:off x="5050800" y="2819520"/>
                <a:ext cx="506160" cy="1752480"/>
                <a:chOff x="5050800" y="2819520"/>
                <a:chExt cx="506160" cy="1752480"/>
              </a:xfrm>
            </p:grpSpPr>
            <p:grpSp>
              <p:nvGrpSpPr>
                <p:cNvPr id="1036" name="Group 165"/>
                <p:cNvGrpSpPr/>
                <p:nvPr/>
              </p:nvGrpSpPr>
              <p:grpSpPr>
                <a:xfrm>
                  <a:off x="5050800" y="3124080"/>
                  <a:ext cx="506160" cy="1159200"/>
                  <a:chOff x="5050800" y="3124080"/>
                  <a:chExt cx="506160" cy="1159200"/>
                </a:xfrm>
              </p:grpSpPr>
              <p:sp>
                <p:nvSpPr>
                  <p:cNvPr id="1037" name="Freeform 166"/>
                  <p:cNvSpPr/>
                  <p:nvPr/>
                </p:nvSpPr>
                <p:spPr>
                  <a:xfrm rot="274800">
                    <a:off x="5079240" y="3614400"/>
                    <a:ext cx="461880" cy="411120"/>
                  </a:xfrm>
                  <a:custGeom>
                    <a:avLst/>
                    <a:gdLst>
                      <a:gd name="textAreaLeft" fmla="*/ 0 w 461880"/>
                      <a:gd name="textAreaRight" fmla="*/ 462240 w 461880"/>
                      <a:gd name="textAreaTop" fmla="*/ 0 h 411120"/>
                      <a:gd name="textAreaBottom" fmla="*/ 411480 h 411120"/>
                    </a:gdLst>
                    <a:ahLst/>
                    <a:rect l="textAreaLeft" t="textAreaTop" r="textAreaRight" b="textAreaBottom"/>
                    <a:pathLst>
                      <a:path w="307" h="322">
                        <a:moveTo>
                          <a:pt x="0" y="63"/>
                        </a:moveTo>
                        <a:cubicBezTo>
                          <a:pt x="12" y="53"/>
                          <a:pt x="62" y="26"/>
                          <a:pt x="97" y="19"/>
                        </a:cubicBezTo>
                        <a:cubicBezTo>
                          <a:pt x="132" y="12"/>
                          <a:pt x="176" y="0"/>
                          <a:pt x="210" y="19"/>
                        </a:cubicBezTo>
                        <a:cubicBezTo>
                          <a:pt x="244" y="38"/>
                          <a:pt x="293" y="94"/>
                          <a:pt x="300" y="135"/>
                        </a:cubicBezTo>
                        <a:cubicBezTo>
                          <a:pt x="307" y="176"/>
                          <a:pt x="277" y="234"/>
                          <a:pt x="250" y="265"/>
                        </a:cubicBezTo>
                        <a:cubicBezTo>
                          <a:pt x="223" y="296"/>
                          <a:pt x="176" y="320"/>
                          <a:pt x="138" y="321"/>
                        </a:cubicBezTo>
                        <a:cubicBezTo>
                          <a:pt x="100" y="322"/>
                          <a:pt x="44" y="280"/>
                          <a:pt x="19" y="269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i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8" name="Freeform 167"/>
                  <p:cNvSpPr/>
                  <p:nvPr/>
                </p:nvSpPr>
                <p:spPr>
                  <a:xfrm rot="274800">
                    <a:off x="5069520" y="3857400"/>
                    <a:ext cx="423720" cy="409680"/>
                  </a:xfrm>
                  <a:custGeom>
                    <a:avLst/>
                    <a:gdLst>
                      <a:gd name="textAreaLeft" fmla="*/ 0 w 423720"/>
                      <a:gd name="textAreaRight" fmla="*/ 424080 w 423720"/>
                      <a:gd name="textAreaTop" fmla="*/ 0 h 409680"/>
                      <a:gd name="textAreaBottom" fmla="*/ 410040 h 409680"/>
                    </a:gdLst>
                    <a:ahLst/>
                    <a:rect l="textAreaLeft" t="textAreaTop" r="textAreaRight" b="textAreaBottom"/>
                    <a:pathLst>
                      <a:path w="282" h="321">
                        <a:moveTo>
                          <a:pt x="0" y="77"/>
                        </a:moveTo>
                        <a:cubicBezTo>
                          <a:pt x="12" y="64"/>
                          <a:pt x="41" y="29"/>
                          <a:pt x="72" y="19"/>
                        </a:cubicBezTo>
                        <a:cubicBezTo>
                          <a:pt x="103" y="9"/>
                          <a:pt x="151" y="0"/>
                          <a:pt x="185" y="19"/>
                        </a:cubicBezTo>
                        <a:cubicBezTo>
                          <a:pt x="219" y="38"/>
                          <a:pt x="268" y="94"/>
                          <a:pt x="275" y="135"/>
                        </a:cubicBezTo>
                        <a:cubicBezTo>
                          <a:pt x="282" y="176"/>
                          <a:pt x="252" y="234"/>
                          <a:pt x="225" y="265"/>
                        </a:cubicBezTo>
                        <a:cubicBezTo>
                          <a:pt x="198" y="296"/>
                          <a:pt x="147" y="321"/>
                          <a:pt x="113" y="321"/>
                        </a:cubicBezTo>
                        <a:cubicBezTo>
                          <a:pt x="79" y="321"/>
                          <a:pt x="39" y="277"/>
                          <a:pt x="19" y="265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i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9" name="Freeform 168"/>
                  <p:cNvSpPr/>
                  <p:nvPr/>
                </p:nvSpPr>
                <p:spPr>
                  <a:xfrm>
                    <a:off x="5065200" y="3124080"/>
                    <a:ext cx="441000" cy="404640"/>
                  </a:xfrm>
                  <a:custGeom>
                    <a:avLst/>
                    <a:gdLst>
                      <a:gd name="textAreaLeft" fmla="*/ 0 w 441000"/>
                      <a:gd name="textAreaRight" fmla="*/ 441360 w 441000"/>
                      <a:gd name="textAreaTop" fmla="*/ 0 h 404640"/>
                      <a:gd name="textAreaBottom" fmla="*/ 405000 h 404640"/>
                    </a:gdLst>
                    <a:ahLst/>
                    <a:rect l="textAreaLeft" t="textAreaTop" r="textAreaRight" b="textAreaBottom"/>
                    <a:pathLst>
                      <a:path w="278" h="255">
                        <a:moveTo>
                          <a:pt x="10" y="32"/>
                        </a:moveTo>
                        <a:cubicBezTo>
                          <a:pt x="17" y="28"/>
                          <a:pt x="59" y="12"/>
                          <a:pt x="90" y="9"/>
                        </a:cubicBezTo>
                        <a:cubicBezTo>
                          <a:pt x="121" y="6"/>
                          <a:pt x="166" y="0"/>
                          <a:pt x="196" y="17"/>
                        </a:cubicBezTo>
                        <a:cubicBezTo>
                          <a:pt x="227" y="35"/>
                          <a:pt x="270" y="83"/>
                          <a:pt x="274" y="117"/>
                        </a:cubicBezTo>
                        <a:cubicBezTo>
                          <a:pt x="278" y="150"/>
                          <a:pt x="246" y="194"/>
                          <a:pt x="219" y="217"/>
                        </a:cubicBezTo>
                        <a:cubicBezTo>
                          <a:pt x="191" y="239"/>
                          <a:pt x="145" y="255"/>
                          <a:pt x="109" y="253"/>
                        </a:cubicBezTo>
                        <a:cubicBezTo>
                          <a:pt x="73" y="251"/>
                          <a:pt x="23" y="213"/>
                          <a:pt x="0" y="203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i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0" name="Freeform 169"/>
                  <p:cNvSpPr/>
                  <p:nvPr/>
                </p:nvSpPr>
                <p:spPr>
                  <a:xfrm rot="274800">
                    <a:off x="5066280" y="3366720"/>
                    <a:ext cx="423720" cy="409680"/>
                  </a:xfrm>
                  <a:custGeom>
                    <a:avLst/>
                    <a:gdLst>
                      <a:gd name="textAreaLeft" fmla="*/ 0 w 423720"/>
                      <a:gd name="textAreaRight" fmla="*/ 424080 w 423720"/>
                      <a:gd name="textAreaTop" fmla="*/ 0 h 409680"/>
                      <a:gd name="textAreaBottom" fmla="*/ 410040 h 409680"/>
                    </a:gdLst>
                    <a:ahLst/>
                    <a:rect l="textAreaLeft" t="textAreaTop" r="textAreaRight" b="textAreaBottom"/>
                    <a:pathLst>
                      <a:path w="282" h="321">
                        <a:moveTo>
                          <a:pt x="0" y="77"/>
                        </a:moveTo>
                        <a:cubicBezTo>
                          <a:pt x="12" y="64"/>
                          <a:pt x="41" y="29"/>
                          <a:pt x="72" y="19"/>
                        </a:cubicBezTo>
                        <a:cubicBezTo>
                          <a:pt x="103" y="9"/>
                          <a:pt x="151" y="0"/>
                          <a:pt x="185" y="19"/>
                        </a:cubicBezTo>
                        <a:cubicBezTo>
                          <a:pt x="219" y="38"/>
                          <a:pt x="268" y="94"/>
                          <a:pt x="275" y="135"/>
                        </a:cubicBezTo>
                        <a:cubicBezTo>
                          <a:pt x="282" y="176"/>
                          <a:pt x="252" y="234"/>
                          <a:pt x="225" y="265"/>
                        </a:cubicBezTo>
                        <a:cubicBezTo>
                          <a:pt x="198" y="296"/>
                          <a:pt x="147" y="321"/>
                          <a:pt x="113" y="321"/>
                        </a:cubicBezTo>
                        <a:cubicBezTo>
                          <a:pt x="79" y="321"/>
                          <a:pt x="39" y="277"/>
                          <a:pt x="19" y="265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i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41" name="Line 170"/>
                <p:cNvSpPr/>
                <p:nvPr/>
              </p:nvSpPr>
              <p:spPr>
                <a:xfrm>
                  <a:off x="5083920" y="2819520"/>
                  <a:ext cx="0" cy="380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Line 171"/>
                <p:cNvSpPr/>
                <p:nvPr/>
              </p:nvSpPr>
              <p:spPr>
                <a:xfrm>
                  <a:off x="5083920" y="4191120"/>
                  <a:ext cx="0" cy="380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043" name="Rectangle 43"/>
          <p:cNvSpPr/>
          <p:nvPr/>
        </p:nvSpPr>
        <p:spPr>
          <a:xfrm>
            <a:off x="152280" y="233280"/>
            <a:ext cx="90680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Voltage Distribution In Series Inductors </a:t>
            </a:r>
            <a:r>
              <a:rPr b="1" lang="en-US" sz="1800" spc="-1" strike="noStrike">
                <a:solidFill>
                  <a:srgbClr val="2d2db9"/>
                </a:solidFill>
                <a:latin typeface="Times New Roman"/>
              </a:rPr>
              <a:t>(Page 290) 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Slide Number Placeholder 41"/>
          <p:cNvSpPr/>
          <p:nvPr/>
        </p:nvSpPr>
        <p:spPr>
          <a:xfrm>
            <a:off x="-152280" y="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 - </a:t>
            </a:r>
            <a:fld id="{0EC29F2A-4A89-42F1-972B-D9A87C4A54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0" dur="indefinite" restart="never" nodeType="tmRoot">
          <p:childTnLst>
            <p:seq>
              <p:cTn id="1361" dur="indefinite" nodeType="mainSeq">
                <p:childTnLst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fill="hold">
                            <p:stCondLst>
                              <p:cond delay="500"/>
                            </p:stCondLst>
                            <p:childTnLst>
                              <p:par>
                                <p:cTn id="13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9" fill="hold">
                            <p:stCondLst>
                              <p:cond delay="500"/>
                            </p:stCondLst>
                            <p:childTnLst>
                              <p:par>
                                <p:cTn id="13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2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fill="hold">
                            <p:stCondLst>
                              <p:cond delay="500"/>
                            </p:stCondLst>
                            <p:childTnLst>
                              <p:par>
                                <p:cTn id="13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4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" fill="hold">
                            <p:stCondLst>
                              <p:cond delay="500"/>
                            </p:stCondLst>
                            <p:childTnLst>
                              <p:par>
                                <p:cTn id="14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Text Box 15"/>
          <p:cNvSpPr/>
          <p:nvPr/>
        </p:nvSpPr>
        <p:spPr>
          <a:xfrm>
            <a:off x="230040" y="483840"/>
            <a:ext cx="870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Current Distribution In Parallel Inductors 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(Page 291)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Text Box 17"/>
          <p:cNvSpPr/>
          <p:nvPr/>
        </p:nvSpPr>
        <p:spPr>
          <a:xfrm>
            <a:off x="1315080" y="4418640"/>
            <a:ext cx="397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In a parallel inductor circuit,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Text Box 18"/>
          <p:cNvSpPr/>
          <p:nvPr/>
        </p:nvSpPr>
        <p:spPr>
          <a:xfrm>
            <a:off x="5242680" y="4418640"/>
            <a:ext cx="291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the smallest inductor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Text Box 19"/>
          <p:cNvSpPr/>
          <p:nvPr/>
        </p:nvSpPr>
        <p:spPr>
          <a:xfrm>
            <a:off x="1348560" y="5028120"/>
            <a:ext cx="32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draws the most current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Text Box 20"/>
          <p:cNvSpPr/>
          <p:nvPr/>
        </p:nvSpPr>
        <p:spPr>
          <a:xfrm>
            <a:off x="4608000" y="5028120"/>
            <a:ext cx="354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The current distributes in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Text Box 21"/>
          <p:cNvSpPr/>
          <p:nvPr/>
        </p:nvSpPr>
        <p:spPr>
          <a:xfrm>
            <a:off x="1367640" y="5637600"/>
            <a:ext cx="50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inverse proportion to the inductance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1" name="Group 100"/>
          <p:cNvGrpSpPr/>
          <p:nvPr/>
        </p:nvGrpSpPr>
        <p:grpSpPr>
          <a:xfrm>
            <a:off x="1040760" y="1687680"/>
            <a:ext cx="5832720" cy="1819440"/>
            <a:chOff x="1040760" y="1687680"/>
            <a:chExt cx="5832720" cy="1819440"/>
          </a:xfrm>
        </p:grpSpPr>
        <p:grpSp>
          <p:nvGrpSpPr>
            <p:cNvPr id="1052" name="Group 99"/>
            <p:cNvGrpSpPr/>
            <p:nvPr/>
          </p:nvGrpSpPr>
          <p:grpSpPr>
            <a:xfrm>
              <a:off x="4309920" y="1687680"/>
              <a:ext cx="506160" cy="1752480"/>
              <a:chOff x="4309920" y="1687680"/>
              <a:chExt cx="506160" cy="1752480"/>
            </a:xfrm>
          </p:grpSpPr>
          <p:grpSp>
            <p:nvGrpSpPr>
              <p:cNvPr id="1053" name="Group 81"/>
              <p:cNvGrpSpPr/>
              <p:nvPr/>
            </p:nvGrpSpPr>
            <p:grpSpPr>
              <a:xfrm>
                <a:off x="4309920" y="1992240"/>
                <a:ext cx="506160" cy="1159200"/>
                <a:chOff x="4309920" y="1992240"/>
                <a:chExt cx="506160" cy="1159200"/>
              </a:xfrm>
            </p:grpSpPr>
            <p:sp>
              <p:nvSpPr>
                <p:cNvPr id="1054" name="Freeform 72"/>
                <p:cNvSpPr/>
                <p:nvPr/>
              </p:nvSpPr>
              <p:spPr>
                <a:xfrm rot="274800">
                  <a:off x="4338360" y="2482560"/>
                  <a:ext cx="461880" cy="411120"/>
                </a:xfrm>
                <a:custGeom>
                  <a:avLst/>
                  <a:gdLst>
                    <a:gd name="textAreaLeft" fmla="*/ 0 w 461880"/>
                    <a:gd name="textAreaRight" fmla="*/ 462240 w 461880"/>
                    <a:gd name="textAreaTop" fmla="*/ 0 h 411120"/>
                    <a:gd name="textAreaBottom" fmla="*/ 411480 h 411120"/>
                  </a:gdLst>
                  <a:ahLst/>
                  <a:rect l="textAreaLeft" t="textAreaTop" r="textAreaRight" b="textAreaBottom"/>
                  <a:pathLst>
                    <a:path w="307" h="322">
                      <a:moveTo>
                        <a:pt x="0" y="63"/>
                      </a:moveTo>
                      <a:cubicBezTo>
                        <a:pt x="12" y="53"/>
                        <a:pt x="62" y="26"/>
                        <a:pt x="97" y="19"/>
                      </a:cubicBezTo>
                      <a:cubicBezTo>
                        <a:pt x="132" y="12"/>
                        <a:pt x="176" y="0"/>
                        <a:pt x="210" y="19"/>
                      </a:cubicBezTo>
                      <a:cubicBezTo>
                        <a:pt x="244" y="38"/>
                        <a:pt x="293" y="94"/>
                        <a:pt x="300" y="135"/>
                      </a:cubicBezTo>
                      <a:cubicBezTo>
                        <a:pt x="307" y="176"/>
                        <a:pt x="277" y="234"/>
                        <a:pt x="250" y="265"/>
                      </a:cubicBezTo>
                      <a:cubicBezTo>
                        <a:pt x="223" y="296"/>
                        <a:pt x="176" y="320"/>
                        <a:pt x="138" y="321"/>
                      </a:cubicBezTo>
                      <a:cubicBezTo>
                        <a:pt x="100" y="322"/>
                        <a:pt x="44" y="280"/>
                        <a:pt x="19" y="269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i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Freeform 75"/>
                <p:cNvSpPr/>
                <p:nvPr/>
              </p:nvSpPr>
              <p:spPr>
                <a:xfrm rot="274800">
                  <a:off x="4328640" y="2725560"/>
                  <a:ext cx="423720" cy="409680"/>
                </a:xfrm>
                <a:custGeom>
                  <a:avLst/>
                  <a:gdLst>
                    <a:gd name="textAreaLeft" fmla="*/ 0 w 423720"/>
                    <a:gd name="textAreaRight" fmla="*/ 424080 w 423720"/>
                    <a:gd name="textAreaTop" fmla="*/ 0 h 409680"/>
                    <a:gd name="textAreaBottom" fmla="*/ 410040 h 409680"/>
                  </a:gdLst>
                  <a:ahLst/>
                  <a:rect l="textAreaLeft" t="textAreaTop" r="textAreaRight" b="textAreaBottom"/>
                  <a:pathLst>
                    <a:path w="282" h="321">
                      <a:moveTo>
                        <a:pt x="0" y="77"/>
                      </a:moveTo>
                      <a:cubicBezTo>
                        <a:pt x="12" y="64"/>
                        <a:pt x="41" y="29"/>
                        <a:pt x="72" y="19"/>
                      </a:cubicBezTo>
                      <a:cubicBezTo>
                        <a:pt x="103" y="9"/>
                        <a:pt x="151" y="0"/>
                        <a:pt x="185" y="19"/>
                      </a:cubicBezTo>
                      <a:cubicBezTo>
                        <a:pt x="219" y="38"/>
                        <a:pt x="268" y="94"/>
                        <a:pt x="275" y="135"/>
                      </a:cubicBezTo>
                      <a:cubicBezTo>
                        <a:pt x="282" y="176"/>
                        <a:pt x="252" y="234"/>
                        <a:pt x="225" y="265"/>
                      </a:cubicBezTo>
                      <a:cubicBezTo>
                        <a:pt x="198" y="296"/>
                        <a:pt x="147" y="321"/>
                        <a:pt x="113" y="321"/>
                      </a:cubicBezTo>
                      <a:cubicBezTo>
                        <a:pt x="79" y="321"/>
                        <a:pt x="39" y="277"/>
                        <a:pt x="19" y="265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i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Freeform 77"/>
                <p:cNvSpPr/>
                <p:nvPr/>
              </p:nvSpPr>
              <p:spPr>
                <a:xfrm>
                  <a:off x="4324320" y="1992240"/>
                  <a:ext cx="441000" cy="404640"/>
                </a:xfrm>
                <a:custGeom>
                  <a:avLst/>
                  <a:gdLst>
                    <a:gd name="textAreaLeft" fmla="*/ 0 w 441000"/>
                    <a:gd name="textAreaRight" fmla="*/ 441360 w 441000"/>
                    <a:gd name="textAreaTop" fmla="*/ 0 h 404640"/>
                    <a:gd name="textAreaBottom" fmla="*/ 405000 h 404640"/>
                  </a:gdLst>
                  <a:ahLst/>
                  <a:rect l="textAreaLeft" t="textAreaTop" r="textAreaRight" b="textAreaBottom"/>
                  <a:pathLst>
                    <a:path w="278" h="255">
                      <a:moveTo>
                        <a:pt x="10" y="32"/>
                      </a:moveTo>
                      <a:cubicBezTo>
                        <a:pt x="17" y="28"/>
                        <a:pt x="59" y="12"/>
                        <a:pt x="90" y="9"/>
                      </a:cubicBezTo>
                      <a:cubicBezTo>
                        <a:pt x="121" y="6"/>
                        <a:pt x="166" y="0"/>
                        <a:pt x="196" y="17"/>
                      </a:cubicBezTo>
                      <a:cubicBezTo>
                        <a:pt x="227" y="35"/>
                        <a:pt x="270" y="83"/>
                        <a:pt x="274" y="117"/>
                      </a:cubicBezTo>
                      <a:cubicBezTo>
                        <a:pt x="278" y="150"/>
                        <a:pt x="246" y="194"/>
                        <a:pt x="219" y="217"/>
                      </a:cubicBezTo>
                      <a:cubicBezTo>
                        <a:pt x="191" y="239"/>
                        <a:pt x="145" y="255"/>
                        <a:pt x="109" y="253"/>
                      </a:cubicBezTo>
                      <a:cubicBezTo>
                        <a:pt x="73" y="251"/>
                        <a:pt x="23" y="213"/>
                        <a:pt x="0" y="203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i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Freeform 78"/>
                <p:cNvSpPr/>
                <p:nvPr/>
              </p:nvSpPr>
              <p:spPr>
                <a:xfrm rot="274800">
                  <a:off x="4325400" y="2234880"/>
                  <a:ext cx="423720" cy="409680"/>
                </a:xfrm>
                <a:custGeom>
                  <a:avLst/>
                  <a:gdLst>
                    <a:gd name="textAreaLeft" fmla="*/ 0 w 423720"/>
                    <a:gd name="textAreaRight" fmla="*/ 424080 w 423720"/>
                    <a:gd name="textAreaTop" fmla="*/ 0 h 409680"/>
                    <a:gd name="textAreaBottom" fmla="*/ 410040 h 409680"/>
                  </a:gdLst>
                  <a:ahLst/>
                  <a:rect l="textAreaLeft" t="textAreaTop" r="textAreaRight" b="textAreaBottom"/>
                  <a:pathLst>
                    <a:path w="282" h="321">
                      <a:moveTo>
                        <a:pt x="0" y="77"/>
                      </a:moveTo>
                      <a:cubicBezTo>
                        <a:pt x="12" y="64"/>
                        <a:pt x="41" y="29"/>
                        <a:pt x="72" y="19"/>
                      </a:cubicBezTo>
                      <a:cubicBezTo>
                        <a:pt x="103" y="9"/>
                        <a:pt x="151" y="0"/>
                        <a:pt x="185" y="19"/>
                      </a:cubicBezTo>
                      <a:cubicBezTo>
                        <a:pt x="219" y="38"/>
                        <a:pt x="268" y="94"/>
                        <a:pt x="275" y="135"/>
                      </a:cubicBezTo>
                      <a:cubicBezTo>
                        <a:pt x="282" y="176"/>
                        <a:pt x="252" y="234"/>
                        <a:pt x="225" y="265"/>
                      </a:cubicBezTo>
                      <a:cubicBezTo>
                        <a:pt x="198" y="296"/>
                        <a:pt x="147" y="321"/>
                        <a:pt x="113" y="321"/>
                      </a:cubicBezTo>
                      <a:cubicBezTo>
                        <a:pt x="79" y="321"/>
                        <a:pt x="39" y="277"/>
                        <a:pt x="19" y="265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i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8" name="Line 80"/>
              <p:cNvSpPr/>
              <p:nvPr/>
            </p:nvSpPr>
            <p:spPr>
              <a:xfrm>
                <a:off x="4354560" y="1687680"/>
                <a:ext cx="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Line 82"/>
              <p:cNvSpPr/>
              <p:nvPr/>
            </p:nvSpPr>
            <p:spPr>
              <a:xfrm>
                <a:off x="4354560" y="3059280"/>
                <a:ext cx="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0" name="Group 98"/>
            <p:cNvGrpSpPr/>
            <p:nvPr/>
          </p:nvGrpSpPr>
          <p:grpSpPr>
            <a:xfrm>
              <a:off x="6367320" y="1687680"/>
              <a:ext cx="506160" cy="1752480"/>
              <a:chOff x="6367320" y="1687680"/>
              <a:chExt cx="506160" cy="1752480"/>
            </a:xfrm>
          </p:grpSpPr>
          <p:grpSp>
            <p:nvGrpSpPr>
              <p:cNvPr id="1061" name="Group 86"/>
              <p:cNvGrpSpPr/>
              <p:nvPr/>
            </p:nvGrpSpPr>
            <p:grpSpPr>
              <a:xfrm>
                <a:off x="6367320" y="1992240"/>
                <a:ext cx="506160" cy="1159200"/>
                <a:chOff x="6367320" y="1992240"/>
                <a:chExt cx="506160" cy="1159200"/>
              </a:xfrm>
            </p:grpSpPr>
            <p:sp>
              <p:nvSpPr>
                <p:cNvPr id="1062" name="Freeform 87"/>
                <p:cNvSpPr/>
                <p:nvPr/>
              </p:nvSpPr>
              <p:spPr>
                <a:xfrm rot="274800">
                  <a:off x="6395760" y="2482560"/>
                  <a:ext cx="461880" cy="411120"/>
                </a:xfrm>
                <a:custGeom>
                  <a:avLst/>
                  <a:gdLst>
                    <a:gd name="textAreaLeft" fmla="*/ 0 w 461880"/>
                    <a:gd name="textAreaRight" fmla="*/ 462240 w 461880"/>
                    <a:gd name="textAreaTop" fmla="*/ 0 h 411120"/>
                    <a:gd name="textAreaBottom" fmla="*/ 411480 h 411120"/>
                  </a:gdLst>
                  <a:ahLst/>
                  <a:rect l="textAreaLeft" t="textAreaTop" r="textAreaRight" b="textAreaBottom"/>
                  <a:pathLst>
                    <a:path w="307" h="322">
                      <a:moveTo>
                        <a:pt x="0" y="63"/>
                      </a:moveTo>
                      <a:cubicBezTo>
                        <a:pt x="12" y="53"/>
                        <a:pt x="62" y="26"/>
                        <a:pt x="97" y="19"/>
                      </a:cubicBezTo>
                      <a:cubicBezTo>
                        <a:pt x="132" y="12"/>
                        <a:pt x="176" y="0"/>
                        <a:pt x="210" y="19"/>
                      </a:cubicBezTo>
                      <a:cubicBezTo>
                        <a:pt x="244" y="38"/>
                        <a:pt x="293" y="94"/>
                        <a:pt x="300" y="135"/>
                      </a:cubicBezTo>
                      <a:cubicBezTo>
                        <a:pt x="307" y="176"/>
                        <a:pt x="277" y="234"/>
                        <a:pt x="250" y="265"/>
                      </a:cubicBezTo>
                      <a:cubicBezTo>
                        <a:pt x="223" y="296"/>
                        <a:pt x="176" y="320"/>
                        <a:pt x="138" y="321"/>
                      </a:cubicBezTo>
                      <a:cubicBezTo>
                        <a:pt x="100" y="322"/>
                        <a:pt x="44" y="280"/>
                        <a:pt x="19" y="269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i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Freeform 88"/>
                <p:cNvSpPr/>
                <p:nvPr/>
              </p:nvSpPr>
              <p:spPr>
                <a:xfrm rot="274800">
                  <a:off x="6386040" y="2725560"/>
                  <a:ext cx="423720" cy="409680"/>
                </a:xfrm>
                <a:custGeom>
                  <a:avLst/>
                  <a:gdLst>
                    <a:gd name="textAreaLeft" fmla="*/ 0 w 423720"/>
                    <a:gd name="textAreaRight" fmla="*/ 424080 w 423720"/>
                    <a:gd name="textAreaTop" fmla="*/ 0 h 409680"/>
                    <a:gd name="textAreaBottom" fmla="*/ 410040 h 409680"/>
                  </a:gdLst>
                  <a:ahLst/>
                  <a:rect l="textAreaLeft" t="textAreaTop" r="textAreaRight" b="textAreaBottom"/>
                  <a:pathLst>
                    <a:path w="282" h="321">
                      <a:moveTo>
                        <a:pt x="0" y="77"/>
                      </a:moveTo>
                      <a:cubicBezTo>
                        <a:pt x="12" y="64"/>
                        <a:pt x="41" y="29"/>
                        <a:pt x="72" y="19"/>
                      </a:cubicBezTo>
                      <a:cubicBezTo>
                        <a:pt x="103" y="9"/>
                        <a:pt x="151" y="0"/>
                        <a:pt x="185" y="19"/>
                      </a:cubicBezTo>
                      <a:cubicBezTo>
                        <a:pt x="219" y="38"/>
                        <a:pt x="268" y="94"/>
                        <a:pt x="275" y="135"/>
                      </a:cubicBezTo>
                      <a:cubicBezTo>
                        <a:pt x="282" y="176"/>
                        <a:pt x="252" y="234"/>
                        <a:pt x="225" y="265"/>
                      </a:cubicBezTo>
                      <a:cubicBezTo>
                        <a:pt x="198" y="296"/>
                        <a:pt x="147" y="321"/>
                        <a:pt x="113" y="321"/>
                      </a:cubicBezTo>
                      <a:cubicBezTo>
                        <a:pt x="79" y="321"/>
                        <a:pt x="39" y="277"/>
                        <a:pt x="19" y="265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i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Freeform 89"/>
                <p:cNvSpPr/>
                <p:nvPr/>
              </p:nvSpPr>
              <p:spPr>
                <a:xfrm>
                  <a:off x="6381720" y="1992240"/>
                  <a:ext cx="441000" cy="404640"/>
                </a:xfrm>
                <a:custGeom>
                  <a:avLst/>
                  <a:gdLst>
                    <a:gd name="textAreaLeft" fmla="*/ 0 w 441000"/>
                    <a:gd name="textAreaRight" fmla="*/ 441360 w 441000"/>
                    <a:gd name="textAreaTop" fmla="*/ 0 h 404640"/>
                    <a:gd name="textAreaBottom" fmla="*/ 405000 h 404640"/>
                  </a:gdLst>
                  <a:ahLst/>
                  <a:rect l="textAreaLeft" t="textAreaTop" r="textAreaRight" b="textAreaBottom"/>
                  <a:pathLst>
                    <a:path w="278" h="255">
                      <a:moveTo>
                        <a:pt x="10" y="32"/>
                      </a:moveTo>
                      <a:cubicBezTo>
                        <a:pt x="17" y="28"/>
                        <a:pt x="59" y="12"/>
                        <a:pt x="90" y="9"/>
                      </a:cubicBezTo>
                      <a:cubicBezTo>
                        <a:pt x="121" y="6"/>
                        <a:pt x="166" y="0"/>
                        <a:pt x="196" y="17"/>
                      </a:cubicBezTo>
                      <a:cubicBezTo>
                        <a:pt x="227" y="35"/>
                        <a:pt x="270" y="83"/>
                        <a:pt x="274" y="117"/>
                      </a:cubicBezTo>
                      <a:cubicBezTo>
                        <a:pt x="278" y="150"/>
                        <a:pt x="246" y="194"/>
                        <a:pt x="219" y="217"/>
                      </a:cubicBezTo>
                      <a:cubicBezTo>
                        <a:pt x="191" y="239"/>
                        <a:pt x="145" y="255"/>
                        <a:pt x="109" y="253"/>
                      </a:cubicBezTo>
                      <a:cubicBezTo>
                        <a:pt x="73" y="251"/>
                        <a:pt x="23" y="213"/>
                        <a:pt x="0" y="203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i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Freeform 90"/>
                <p:cNvSpPr/>
                <p:nvPr/>
              </p:nvSpPr>
              <p:spPr>
                <a:xfrm rot="274800">
                  <a:off x="6382800" y="2234880"/>
                  <a:ext cx="423720" cy="409680"/>
                </a:xfrm>
                <a:custGeom>
                  <a:avLst/>
                  <a:gdLst>
                    <a:gd name="textAreaLeft" fmla="*/ 0 w 423720"/>
                    <a:gd name="textAreaRight" fmla="*/ 424080 w 423720"/>
                    <a:gd name="textAreaTop" fmla="*/ 0 h 409680"/>
                    <a:gd name="textAreaBottom" fmla="*/ 410040 h 409680"/>
                  </a:gdLst>
                  <a:ahLst/>
                  <a:rect l="textAreaLeft" t="textAreaTop" r="textAreaRight" b="textAreaBottom"/>
                  <a:pathLst>
                    <a:path w="282" h="321">
                      <a:moveTo>
                        <a:pt x="0" y="77"/>
                      </a:moveTo>
                      <a:cubicBezTo>
                        <a:pt x="12" y="64"/>
                        <a:pt x="41" y="29"/>
                        <a:pt x="72" y="19"/>
                      </a:cubicBezTo>
                      <a:cubicBezTo>
                        <a:pt x="103" y="9"/>
                        <a:pt x="151" y="0"/>
                        <a:pt x="185" y="19"/>
                      </a:cubicBezTo>
                      <a:cubicBezTo>
                        <a:pt x="219" y="38"/>
                        <a:pt x="268" y="94"/>
                        <a:pt x="275" y="135"/>
                      </a:cubicBezTo>
                      <a:cubicBezTo>
                        <a:pt x="282" y="176"/>
                        <a:pt x="252" y="234"/>
                        <a:pt x="225" y="265"/>
                      </a:cubicBezTo>
                      <a:cubicBezTo>
                        <a:pt x="198" y="296"/>
                        <a:pt x="147" y="321"/>
                        <a:pt x="113" y="321"/>
                      </a:cubicBezTo>
                      <a:cubicBezTo>
                        <a:pt x="79" y="321"/>
                        <a:pt x="39" y="277"/>
                        <a:pt x="19" y="265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i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6" name="Line 91"/>
              <p:cNvSpPr/>
              <p:nvPr/>
            </p:nvSpPr>
            <p:spPr>
              <a:xfrm>
                <a:off x="6400800" y="1687680"/>
                <a:ext cx="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Line 92"/>
              <p:cNvSpPr/>
              <p:nvPr/>
            </p:nvSpPr>
            <p:spPr>
              <a:xfrm>
                <a:off x="6400800" y="3059280"/>
                <a:ext cx="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8" name="Line 93"/>
            <p:cNvSpPr/>
            <p:nvPr/>
          </p:nvSpPr>
          <p:spPr>
            <a:xfrm flipH="1">
              <a:off x="2114280" y="3440160"/>
              <a:ext cx="4267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Line 94"/>
            <p:cNvSpPr/>
            <p:nvPr/>
          </p:nvSpPr>
          <p:spPr>
            <a:xfrm flipH="1">
              <a:off x="2114280" y="1687680"/>
              <a:ext cx="4267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Line 95"/>
            <p:cNvSpPr/>
            <p:nvPr/>
          </p:nvSpPr>
          <p:spPr>
            <a:xfrm>
              <a:off x="2114640" y="1687680"/>
              <a:ext cx="0" cy="175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1" name="Group 60"/>
            <p:cNvGrpSpPr/>
            <p:nvPr/>
          </p:nvGrpSpPr>
          <p:grpSpPr>
            <a:xfrm>
              <a:off x="1461960" y="1932120"/>
              <a:ext cx="1261800" cy="1202760"/>
              <a:chOff x="1461960" y="1932120"/>
              <a:chExt cx="1261800" cy="1202760"/>
            </a:xfrm>
          </p:grpSpPr>
          <p:sp>
            <p:nvSpPr>
              <p:cNvPr id="1072" name="Oval 61"/>
              <p:cNvSpPr/>
              <p:nvPr/>
            </p:nvSpPr>
            <p:spPr>
              <a:xfrm>
                <a:off x="1461960" y="1932120"/>
                <a:ext cx="1261800" cy="12027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73" name="Group 62"/>
              <p:cNvGrpSpPr/>
              <p:nvPr/>
            </p:nvGrpSpPr>
            <p:grpSpPr>
              <a:xfrm>
                <a:off x="1713600" y="2172960"/>
                <a:ext cx="757080" cy="721440"/>
                <a:chOff x="1713600" y="2172960"/>
                <a:chExt cx="757080" cy="721440"/>
              </a:xfrm>
            </p:grpSpPr>
            <p:sp>
              <p:nvSpPr>
                <p:cNvPr id="1074" name="Arc 63"/>
                <p:cNvSpPr/>
                <p:nvPr/>
              </p:nvSpPr>
              <p:spPr>
                <a:xfrm flipH="1">
                  <a:off x="1713240" y="2172960"/>
                  <a:ext cx="377640" cy="404640"/>
                </a:xfrm>
                <a:custGeom>
                  <a:avLst/>
                  <a:gdLst>
                    <a:gd name="textAreaLeft" fmla="*/ -360 w 377640"/>
                    <a:gd name="textAreaRight" fmla="*/ 377640 w 377640"/>
                    <a:gd name="textAreaTop" fmla="*/ 0 h 404640"/>
                    <a:gd name="textAreaBottom" fmla="*/ 405000 h 404640"/>
                  </a:gdLst>
                  <a:ahLst/>
                  <a:rect l="textAreaLeft" t="textAreaTop" r="textAreaRight" b="textAreaBottom"/>
                  <a:pathLst>
                    <a:path fill="none" w="42910" h="21600">
                      <a:moveTo>
                        <a:pt x="0" y="18900"/>
                      </a:moveTo>
                      <a:cubicBezTo>
                        <a:pt x="1361" y="8100"/>
                        <a:pt x="10545" y="-1"/>
                        <a:pt x="21431" y="0"/>
                      </a:cubicBezTo>
                      <a:cubicBezTo>
                        <a:pt x="32476" y="0"/>
                        <a:pt x="41743" y="8333"/>
                        <a:pt x="42910" y="19317"/>
                      </a:cubicBezTo>
                    </a:path>
                    <a:path stroke="0" w="42910" h="21600">
                      <a:moveTo>
                        <a:pt x="0" y="18900"/>
                      </a:moveTo>
                      <a:cubicBezTo>
                        <a:pt x="1361" y="8100"/>
                        <a:pt x="10545" y="-1"/>
                        <a:pt x="21431" y="0"/>
                      </a:cubicBezTo>
                      <a:cubicBezTo>
                        <a:pt x="32476" y="0"/>
                        <a:pt x="41743" y="8333"/>
                        <a:pt x="42910" y="19317"/>
                      </a:cubicBezTo>
                      <a:lnTo>
                        <a:pt x="21431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i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Arc 64"/>
                <p:cNvSpPr/>
                <p:nvPr/>
              </p:nvSpPr>
              <p:spPr>
                <a:xfrm flipH="1" flipV="1">
                  <a:off x="2092680" y="2489760"/>
                  <a:ext cx="377640" cy="404640"/>
                </a:xfrm>
                <a:custGeom>
                  <a:avLst/>
                  <a:gdLst>
                    <a:gd name="textAreaLeft" fmla="*/ -360 w 377640"/>
                    <a:gd name="textAreaRight" fmla="*/ 377640 w 377640"/>
                    <a:gd name="textAreaTop" fmla="*/ 360 h 404640"/>
                    <a:gd name="textAreaBottom" fmla="*/ 405360 h 404640"/>
                  </a:gdLst>
                  <a:ahLst/>
                  <a:rect l="textAreaLeft" t="textAreaTop" r="textAreaRight" b="textAreaBottom"/>
                  <a:pathLst>
                    <a:path fill="none" w="42910" h="21600">
                      <a:moveTo>
                        <a:pt x="0" y="18900"/>
                      </a:moveTo>
                      <a:cubicBezTo>
                        <a:pt x="1361" y="8100"/>
                        <a:pt x="10545" y="-1"/>
                        <a:pt x="21431" y="0"/>
                      </a:cubicBezTo>
                      <a:cubicBezTo>
                        <a:pt x="32476" y="0"/>
                        <a:pt x="41743" y="8333"/>
                        <a:pt x="42910" y="19317"/>
                      </a:cubicBezTo>
                    </a:path>
                    <a:path stroke="0" w="42910" h="21600">
                      <a:moveTo>
                        <a:pt x="0" y="18900"/>
                      </a:moveTo>
                      <a:cubicBezTo>
                        <a:pt x="1361" y="8100"/>
                        <a:pt x="10545" y="-1"/>
                        <a:pt x="21431" y="0"/>
                      </a:cubicBezTo>
                      <a:cubicBezTo>
                        <a:pt x="32476" y="0"/>
                        <a:pt x="41743" y="8333"/>
                        <a:pt x="42910" y="19317"/>
                      </a:cubicBezTo>
                      <a:lnTo>
                        <a:pt x="21431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i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76" name="Text Box 65"/>
            <p:cNvSpPr/>
            <p:nvPr/>
          </p:nvSpPr>
          <p:spPr>
            <a:xfrm>
              <a:off x="1162800" y="1708920"/>
              <a:ext cx="66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20 </a:t>
              </a:r>
              <a:r>
                <a:rPr b="1" i="1" lang="en-US" sz="2000" spc="-1" strike="noStrike">
                  <a:solidFill>
                    <a:srgbClr val="008000"/>
                  </a:solidFill>
                  <a:latin typeface="Times New Roman"/>
                </a:rPr>
                <a:t>V</a:t>
              </a:r>
              <a:endParaRPr b="1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Text Box 96"/>
            <p:cNvSpPr/>
            <p:nvPr/>
          </p:nvSpPr>
          <p:spPr>
            <a:xfrm>
              <a:off x="1040760" y="3108240"/>
              <a:ext cx="93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Times New Roman"/>
                </a:rPr>
                <a:t>200 Hz</a:t>
              </a:r>
              <a:endParaRPr b="1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8" name="Group 103"/>
          <p:cNvGrpSpPr/>
          <p:nvPr/>
        </p:nvGrpSpPr>
        <p:grpSpPr>
          <a:xfrm>
            <a:off x="4801680" y="1946160"/>
            <a:ext cx="2925000" cy="459720"/>
            <a:chOff x="4801680" y="1946160"/>
            <a:chExt cx="2925000" cy="459720"/>
          </a:xfrm>
        </p:grpSpPr>
        <p:sp>
          <p:nvSpPr>
            <p:cNvPr id="1079" name="Text Box 101"/>
            <p:cNvSpPr/>
            <p:nvPr/>
          </p:nvSpPr>
          <p:spPr>
            <a:xfrm>
              <a:off x="4801680" y="194616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.2 H</a:t>
              </a:r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Text Box 102"/>
            <p:cNvSpPr/>
            <p:nvPr/>
          </p:nvSpPr>
          <p:spPr>
            <a:xfrm>
              <a:off x="6851160" y="194616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.6 H</a:t>
              </a:r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1" name="Group 106"/>
          <p:cNvGrpSpPr/>
          <p:nvPr/>
        </p:nvGrpSpPr>
        <p:grpSpPr>
          <a:xfrm>
            <a:off x="4802400" y="2514600"/>
            <a:ext cx="3321720" cy="501120"/>
            <a:chOff x="4802400" y="2514600"/>
            <a:chExt cx="3321720" cy="501120"/>
          </a:xfrm>
        </p:grpSpPr>
        <p:sp>
          <p:nvSpPr>
            <p:cNvPr id="1082" name="Text Box 104"/>
            <p:cNvSpPr/>
            <p:nvPr/>
          </p:nvSpPr>
          <p:spPr>
            <a:xfrm>
              <a:off x="4802400" y="2556000"/>
              <a:ext cx="126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79.5 mA</a:t>
              </a:r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Text Box 105"/>
            <p:cNvSpPr/>
            <p:nvPr/>
          </p:nvSpPr>
          <p:spPr>
            <a:xfrm>
              <a:off x="6859800" y="2514600"/>
              <a:ext cx="126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26.5 mA</a:t>
              </a:r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4" name="Slide Number Placeholder 40"/>
          <p:cNvSpPr/>
          <p:nvPr/>
        </p:nvSpPr>
        <p:spPr>
          <a:xfrm>
            <a:off x="-152280" y="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 - </a:t>
            </a:r>
            <a:fld id="{AF9A9CD6-2FFA-4017-8660-0302BDF496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6" dur="indefinite" restart="never" nodeType="tmRoot">
          <p:childTnLst>
            <p:seq>
              <p:cTn id="1407" dur="indefinite" nodeType="mainSeq">
                <p:childTnLst>
                  <p:par>
                    <p:cTn id="1408" fill="hold">
                      <p:stCondLst>
                        <p:cond delay="0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2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0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1" fill="hold">
                            <p:stCondLst>
                              <p:cond delay="500"/>
                            </p:stCondLst>
                            <p:childTnLst>
                              <p:par>
                                <p:cTn id="14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2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3" fill="hold">
                            <p:stCondLst>
                              <p:cond delay="500"/>
                            </p:stCondLst>
                            <p:childTnLst>
                              <p:par>
                                <p:cTn id="14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495360" y="1374840"/>
            <a:ext cx="8134200" cy="31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641880" y="1415880"/>
            <a:ext cx="7882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ear Student: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is presentation is arranged in segments.  Each segment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s preceded by a Concep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Preview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slide and is followed by a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ncep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Review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slide.  When you reach a Concept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Review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lide, you can return to the beginning of that segment by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licking on the Repeat Segment button.  This will allow you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o view that segment again, if you want to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-152280" y="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 - </a:t>
            </a:r>
            <a:fld id="{83718F89-3DCA-40DE-B115-73D7666B17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AutoShape 2"/>
          <p:cNvSpPr/>
          <p:nvPr/>
        </p:nvSpPr>
        <p:spPr>
          <a:xfrm rot="16200000">
            <a:off x="4019400" y="1504800"/>
            <a:ext cx="1828800" cy="6591240"/>
          </a:xfrm>
          <a:prstGeom prst="ca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AutoShape 4"/>
          <p:cNvSpPr/>
          <p:nvPr/>
        </p:nvSpPr>
        <p:spPr>
          <a:xfrm rot="16200000">
            <a:off x="3752640" y="-1390320"/>
            <a:ext cx="1828800" cy="6591240"/>
          </a:xfrm>
          <a:prstGeom prst="ca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Text Box 5"/>
          <p:cNvSpPr/>
          <p:nvPr/>
        </p:nvSpPr>
        <p:spPr>
          <a:xfrm>
            <a:off x="2579040" y="76320"/>
            <a:ext cx="41997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Skin Effect  </a:t>
            </a:r>
            <a:r>
              <a:rPr b="1" lang="en-US" sz="1800" spc="-1" strike="noStrike">
                <a:solidFill>
                  <a:srgbClr val="2d2db9"/>
                </a:solidFill>
                <a:latin typeface="Times New Roman"/>
              </a:rPr>
              <a:t>(Page 298) 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8" name="Group 24"/>
          <p:cNvGrpSpPr/>
          <p:nvPr/>
        </p:nvGrpSpPr>
        <p:grpSpPr>
          <a:xfrm>
            <a:off x="1752480" y="4038480"/>
            <a:ext cx="1371600" cy="1524240"/>
            <a:chOff x="1752480" y="4038480"/>
            <a:chExt cx="1371600" cy="1524240"/>
          </a:xfrm>
        </p:grpSpPr>
        <p:sp>
          <p:nvSpPr>
            <p:cNvPr id="1089" name="Oval 14"/>
            <p:cNvSpPr/>
            <p:nvPr/>
          </p:nvSpPr>
          <p:spPr>
            <a:xfrm>
              <a:off x="2209680" y="403848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Oval 15"/>
            <p:cNvSpPr/>
            <p:nvPr/>
          </p:nvSpPr>
          <p:spPr>
            <a:xfrm>
              <a:off x="1905120" y="426708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Oval 16"/>
            <p:cNvSpPr/>
            <p:nvPr/>
          </p:nvSpPr>
          <p:spPr>
            <a:xfrm>
              <a:off x="1752480" y="45720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Oval 17"/>
            <p:cNvSpPr/>
            <p:nvPr/>
          </p:nvSpPr>
          <p:spPr>
            <a:xfrm>
              <a:off x="2590920" y="403848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Oval 18"/>
            <p:cNvSpPr/>
            <p:nvPr/>
          </p:nvSpPr>
          <p:spPr>
            <a:xfrm>
              <a:off x="1828800" y="495288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Oval 19"/>
            <p:cNvSpPr/>
            <p:nvPr/>
          </p:nvSpPr>
          <p:spPr>
            <a:xfrm>
              <a:off x="2057400" y="52578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Oval 20"/>
            <p:cNvSpPr/>
            <p:nvPr/>
          </p:nvSpPr>
          <p:spPr>
            <a:xfrm>
              <a:off x="2819520" y="426708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Oval 21"/>
            <p:cNvSpPr/>
            <p:nvPr/>
          </p:nvSpPr>
          <p:spPr>
            <a:xfrm>
              <a:off x="2895480" y="46483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Oval 22"/>
            <p:cNvSpPr/>
            <p:nvPr/>
          </p:nvSpPr>
          <p:spPr>
            <a:xfrm>
              <a:off x="2514600" y="53341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Oval 23"/>
            <p:cNvSpPr/>
            <p:nvPr/>
          </p:nvSpPr>
          <p:spPr>
            <a:xfrm>
              <a:off x="2819520" y="50292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9" name="Group 29"/>
          <p:cNvGrpSpPr/>
          <p:nvPr/>
        </p:nvGrpSpPr>
        <p:grpSpPr>
          <a:xfrm>
            <a:off x="1562040" y="1143000"/>
            <a:ext cx="1295280" cy="1371600"/>
            <a:chOff x="1562040" y="1143000"/>
            <a:chExt cx="1295280" cy="1371600"/>
          </a:xfrm>
        </p:grpSpPr>
        <p:sp>
          <p:nvSpPr>
            <p:cNvPr id="1100" name="Oval 6"/>
            <p:cNvSpPr/>
            <p:nvPr/>
          </p:nvSpPr>
          <p:spPr>
            <a:xfrm>
              <a:off x="2171520" y="22860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Oval 8"/>
            <p:cNvSpPr/>
            <p:nvPr/>
          </p:nvSpPr>
          <p:spPr>
            <a:xfrm>
              <a:off x="1790640" y="11430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Oval 9"/>
            <p:cNvSpPr/>
            <p:nvPr/>
          </p:nvSpPr>
          <p:spPr>
            <a:xfrm>
              <a:off x="2171520" y="12956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Oval 10"/>
            <p:cNvSpPr/>
            <p:nvPr/>
          </p:nvSpPr>
          <p:spPr>
            <a:xfrm>
              <a:off x="1942920" y="16002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Oval 11"/>
            <p:cNvSpPr/>
            <p:nvPr/>
          </p:nvSpPr>
          <p:spPr>
            <a:xfrm>
              <a:off x="2323800" y="19051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Oval 12"/>
            <p:cNvSpPr/>
            <p:nvPr/>
          </p:nvSpPr>
          <p:spPr>
            <a:xfrm>
              <a:off x="1562040" y="17528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Oval 13"/>
            <p:cNvSpPr/>
            <p:nvPr/>
          </p:nvSpPr>
          <p:spPr>
            <a:xfrm>
              <a:off x="1866600" y="20574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Oval 26"/>
            <p:cNvSpPr/>
            <p:nvPr/>
          </p:nvSpPr>
          <p:spPr>
            <a:xfrm>
              <a:off x="1638000" y="22860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Oval 27"/>
            <p:cNvSpPr/>
            <p:nvPr/>
          </p:nvSpPr>
          <p:spPr>
            <a:xfrm>
              <a:off x="2552400" y="14479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Oval 28"/>
            <p:cNvSpPr/>
            <p:nvPr/>
          </p:nvSpPr>
          <p:spPr>
            <a:xfrm>
              <a:off x="2628720" y="20574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0" name="Text Box 31"/>
          <p:cNvSpPr/>
          <p:nvPr/>
        </p:nvSpPr>
        <p:spPr>
          <a:xfrm>
            <a:off x="4167360" y="1549440"/>
            <a:ext cx="258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id conductor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Text Box 32"/>
          <p:cNvSpPr/>
          <p:nvPr/>
        </p:nvSpPr>
        <p:spPr>
          <a:xfrm>
            <a:off x="4573440" y="4444920"/>
            <a:ext cx="258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id conductor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Text Box 33"/>
          <p:cNvSpPr/>
          <p:nvPr/>
        </p:nvSpPr>
        <p:spPr>
          <a:xfrm>
            <a:off x="2285640" y="2833560"/>
            <a:ext cx="510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t low frequencies, the electrons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Text Box 34"/>
          <p:cNvSpPr/>
          <p:nvPr/>
        </p:nvSpPr>
        <p:spPr>
          <a:xfrm>
            <a:off x="2297880" y="5791320"/>
            <a:ext cx="524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At high frequencies, the electrons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Text Box 35"/>
          <p:cNvSpPr/>
          <p:nvPr/>
        </p:nvSpPr>
        <p:spPr>
          <a:xfrm>
            <a:off x="3119760" y="3200400"/>
            <a:ext cx="350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re randomly located.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Text Box 36"/>
          <p:cNvSpPr/>
          <p:nvPr/>
        </p:nvSpPr>
        <p:spPr>
          <a:xfrm>
            <a:off x="2898720" y="6186600"/>
            <a:ext cx="418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concentrate at the surface.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Slide Number Placeholder 32"/>
          <p:cNvSpPr/>
          <p:nvPr/>
        </p:nvSpPr>
        <p:spPr>
          <a:xfrm>
            <a:off x="-152280" y="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 - </a:t>
            </a:r>
            <a:fld id="{84D8F3B2-87E6-45E3-BBAD-BE4F2CA6BC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8" dur="indefinite" restart="never" nodeType="tmRoot">
          <p:childTnLst>
            <p:seq>
              <p:cTn id="1459" dur="indefinite" nodeType="mainSeq">
                <p:childTnLst>
                  <p:par>
                    <p:cTn id="1460" fill="hold">
                      <p:stCondLst>
                        <p:cond delay="0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4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1" fill="hold">
                            <p:stCondLst>
                              <p:cond delay="500"/>
                            </p:stCondLst>
                            <p:childTnLst>
                              <p:par>
                                <p:cTn id="14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1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6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7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3" dur="5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0" fill="hold">
                            <p:stCondLst>
                              <p:cond delay="500"/>
                            </p:stCondLst>
                            <p:childTnLst>
                              <p:par>
                                <p:cTn id="15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9" dur="5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5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Text Box 54"/>
          <p:cNvSpPr/>
          <p:nvPr/>
        </p:nvSpPr>
        <p:spPr>
          <a:xfrm>
            <a:off x="504000" y="201600"/>
            <a:ext cx="81896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Controlling Mutual Inductance </a:t>
            </a:r>
            <a:r>
              <a:rPr b="1" lang="en-US" sz="1800" spc="-1" strike="noStrike">
                <a:solidFill>
                  <a:srgbClr val="2d2db9"/>
                </a:solidFill>
                <a:latin typeface="Times New Roman"/>
              </a:rPr>
              <a:t>(Page 303) 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8" name="Group 175"/>
          <p:cNvGrpSpPr/>
          <p:nvPr/>
        </p:nvGrpSpPr>
        <p:grpSpPr>
          <a:xfrm>
            <a:off x="838080" y="1523880"/>
            <a:ext cx="990000" cy="3048120"/>
            <a:chOff x="838080" y="1523880"/>
            <a:chExt cx="990000" cy="3048120"/>
          </a:xfrm>
        </p:grpSpPr>
        <p:grpSp>
          <p:nvGrpSpPr>
            <p:cNvPr id="1119" name="Group 4"/>
            <p:cNvGrpSpPr/>
            <p:nvPr/>
          </p:nvGrpSpPr>
          <p:grpSpPr>
            <a:xfrm>
              <a:off x="838080" y="1523880"/>
              <a:ext cx="990000" cy="1523880"/>
              <a:chOff x="838080" y="1523880"/>
              <a:chExt cx="990000" cy="1523880"/>
            </a:xfrm>
          </p:grpSpPr>
          <p:sp>
            <p:nvSpPr>
              <p:cNvPr id="1120" name="Line 5"/>
              <p:cNvSpPr/>
              <p:nvPr/>
            </p:nvSpPr>
            <p:spPr>
              <a:xfrm>
                <a:off x="990000" y="2285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Line 6"/>
              <p:cNvSpPr/>
              <p:nvPr/>
            </p:nvSpPr>
            <p:spPr>
              <a:xfrm>
                <a:off x="990000" y="259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Line 7"/>
              <p:cNvSpPr/>
              <p:nvPr/>
            </p:nvSpPr>
            <p:spPr>
              <a:xfrm>
                <a:off x="920880" y="1631880"/>
                <a:ext cx="290520" cy="9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Line 8"/>
              <p:cNvSpPr/>
              <p:nvPr/>
            </p:nvSpPr>
            <p:spPr>
              <a:xfrm>
                <a:off x="990000" y="198108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Rectangle 9"/>
              <p:cNvSpPr/>
              <p:nvPr/>
            </p:nvSpPr>
            <p:spPr>
              <a:xfrm>
                <a:off x="1066320" y="1523880"/>
                <a:ext cx="609120" cy="15238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Freeform 10"/>
              <p:cNvSpPr/>
              <p:nvPr/>
            </p:nvSpPr>
            <p:spPr>
              <a:xfrm>
                <a:off x="914040" y="2057040"/>
                <a:ext cx="901080" cy="228600"/>
              </a:xfrm>
              <a:custGeom>
                <a:avLst/>
                <a:gdLst>
                  <a:gd name="textAreaLeft" fmla="*/ 0 w 901080"/>
                  <a:gd name="textAreaRight" fmla="*/ 901440 w 9010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1408" h="288">
                    <a:moveTo>
                      <a:pt x="136" y="288"/>
                    </a:moveTo>
                    <a:cubicBezTo>
                      <a:pt x="68" y="256"/>
                      <a:pt x="0" y="224"/>
                      <a:pt x="184" y="192"/>
                    </a:cubicBezTo>
                    <a:cubicBezTo>
                      <a:pt x="368" y="160"/>
                      <a:pt x="1072" y="128"/>
                      <a:pt x="1240" y="96"/>
                    </a:cubicBezTo>
                    <a:cubicBezTo>
                      <a:pt x="1408" y="64"/>
                      <a:pt x="1300" y="32"/>
                      <a:pt x="119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Freeform 11"/>
              <p:cNvSpPr/>
              <p:nvPr/>
            </p:nvSpPr>
            <p:spPr>
              <a:xfrm>
                <a:off x="914040" y="2361960"/>
                <a:ext cx="901080" cy="228600"/>
              </a:xfrm>
              <a:custGeom>
                <a:avLst/>
                <a:gdLst>
                  <a:gd name="textAreaLeft" fmla="*/ 0 w 901080"/>
                  <a:gd name="textAreaRight" fmla="*/ 901440 w 9010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1408" h="288">
                    <a:moveTo>
                      <a:pt x="136" y="288"/>
                    </a:moveTo>
                    <a:cubicBezTo>
                      <a:pt x="68" y="256"/>
                      <a:pt x="0" y="224"/>
                      <a:pt x="184" y="192"/>
                    </a:cubicBezTo>
                    <a:cubicBezTo>
                      <a:pt x="368" y="160"/>
                      <a:pt x="1072" y="128"/>
                      <a:pt x="1240" y="96"/>
                    </a:cubicBezTo>
                    <a:cubicBezTo>
                      <a:pt x="1408" y="64"/>
                      <a:pt x="1300" y="32"/>
                      <a:pt x="119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Freeform 12"/>
              <p:cNvSpPr/>
              <p:nvPr/>
            </p:nvSpPr>
            <p:spPr>
              <a:xfrm>
                <a:off x="914040" y="2666880"/>
                <a:ext cx="901080" cy="228600"/>
              </a:xfrm>
              <a:custGeom>
                <a:avLst/>
                <a:gdLst>
                  <a:gd name="textAreaLeft" fmla="*/ 0 w 901080"/>
                  <a:gd name="textAreaRight" fmla="*/ 901440 w 9010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1408" h="288">
                    <a:moveTo>
                      <a:pt x="136" y="288"/>
                    </a:moveTo>
                    <a:cubicBezTo>
                      <a:pt x="68" y="256"/>
                      <a:pt x="0" y="224"/>
                      <a:pt x="184" y="192"/>
                    </a:cubicBezTo>
                    <a:cubicBezTo>
                      <a:pt x="368" y="160"/>
                      <a:pt x="1072" y="128"/>
                      <a:pt x="1240" y="96"/>
                    </a:cubicBezTo>
                    <a:cubicBezTo>
                      <a:pt x="1408" y="64"/>
                      <a:pt x="1300" y="32"/>
                      <a:pt x="119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Freeform 13"/>
              <p:cNvSpPr/>
              <p:nvPr/>
            </p:nvSpPr>
            <p:spPr>
              <a:xfrm>
                <a:off x="926640" y="1752480"/>
                <a:ext cx="901440" cy="228600"/>
              </a:xfrm>
              <a:custGeom>
                <a:avLst/>
                <a:gdLst>
                  <a:gd name="textAreaLeft" fmla="*/ 0 w 901440"/>
                  <a:gd name="textAreaRight" fmla="*/ 901800 w 9014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1408" h="288">
                    <a:moveTo>
                      <a:pt x="136" y="288"/>
                    </a:moveTo>
                    <a:cubicBezTo>
                      <a:pt x="68" y="256"/>
                      <a:pt x="0" y="224"/>
                      <a:pt x="184" y="192"/>
                    </a:cubicBezTo>
                    <a:cubicBezTo>
                      <a:pt x="368" y="160"/>
                      <a:pt x="1072" y="128"/>
                      <a:pt x="1240" y="96"/>
                    </a:cubicBezTo>
                    <a:cubicBezTo>
                      <a:pt x="1408" y="64"/>
                      <a:pt x="1300" y="32"/>
                      <a:pt x="119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Oval 14"/>
              <p:cNvSpPr/>
              <p:nvPr/>
            </p:nvSpPr>
            <p:spPr>
              <a:xfrm>
                <a:off x="838080" y="2819160"/>
                <a:ext cx="15192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Oval 15"/>
              <p:cNvSpPr/>
              <p:nvPr/>
            </p:nvSpPr>
            <p:spPr>
              <a:xfrm>
                <a:off x="914040" y="2819160"/>
                <a:ext cx="7560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Oval 16"/>
              <p:cNvSpPr/>
              <p:nvPr/>
            </p:nvSpPr>
            <p:spPr>
              <a:xfrm>
                <a:off x="838080" y="1599840"/>
                <a:ext cx="15192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2" name="Group 75"/>
            <p:cNvGrpSpPr/>
            <p:nvPr/>
          </p:nvGrpSpPr>
          <p:grpSpPr>
            <a:xfrm>
              <a:off x="838080" y="3048120"/>
              <a:ext cx="990000" cy="1523880"/>
              <a:chOff x="838080" y="3048120"/>
              <a:chExt cx="990000" cy="1523880"/>
            </a:xfrm>
          </p:grpSpPr>
          <p:sp>
            <p:nvSpPr>
              <p:cNvPr id="1133" name="Line 76"/>
              <p:cNvSpPr/>
              <p:nvPr/>
            </p:nvSpPr>
            <p:spPr>
              <a:xfrm>
                <a:off x="990000" y="380988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Line 77"/>
              <p:cNvSpPr/>
              <p:nvPr/>
            </p:nvSpPr>
            <p:spPr>
              <a:xfrm>
                <a:off x="990000" y="411480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Line 78"/>
              <p:cNvSpPr/>
              <p:nvPr/>
            </p:nvSpPr>
            <p:spPr>
              <a:xfrm>
                <a:off x="920880" y="3156120"/>
                <a:ext cx="290520" cy="9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Line 79"/>
              <p:cNvSpPr/>
              <p:nvPr/>
            </p:nvSpPr>
            <p:spPr>
              <a:xfrm>
                <a:off x="990000" y="350532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Rectangle 80"/>
              <p:cNvSpPr/>
              <p:nvPr/>
            </p:nvSpPr>
            <p:spPr>
              <a:xfrm>
                <a:off x="1066320" y="3048120"/>
                <a:ext cx="609120" cy="15238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Freeform 81"/>
              <p:cNvSpPr/>
              <p:nvPr/>
            </p:nvSpPr>
            <p:spPr>
              <a:xfrm>
                <a:off x="914040" y="3581280"/>
                <a:ext cx="901080" cy="228600"/>
              </a:xfrm>
              <a:custGeom>
                <a:avLst/>
                <a:gdLst>
                  <a:gd name="textAreaLeft" fmla="*/ 0 w 901080"/>
                  <a:gd name="textAreaRight" fmla="*/ 901440 w 9010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1408" h="288">
                    <a:moveTo>
                      <a:pt x="136" y="288"/>
                    </a:moveTo>
                    <a:cubicBezTo>
                      <a:pt x="68" y="256"/>
                      <a:pt x="0" y="224"/>
                      <a:pt x="184" y="192"/>
                    </a:cubicBezTo>
                    <a:cubicBezTo>
                      <a:pt x="368" y="160"/>
                      <a:pt x="1072" y="128"/>
                      <a:pt x="1240" y="96"/>
                    </a:cubicBezTo>
                    <a:cubicBezTo>
                      <a:pt x="1408" y="64"/>
                      <a:pt x="1300" y="32"/>
                      <a:pt x="119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Freeform 82"/>
              <p:cNvSpPr/>
              <p:nvPr/>
            </p:nvSpPr>
            <p:spPr>
              <a:xfrm>
                <a:off x="914040" y="3886200"/>
                <a:ext cx="901080" cy="228600"/>
              </a:xfrm>
              <a:custGeom>
                <a:avLst/>
                <a:gdLst>
                  <a:gd name="textAreaLeft" fmla="*/ 0 w 901080"/>
                  <a:gd name="textAreaRight" fmla="*/ 901440 w 9010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1408" h="288">
                    <a:moveTo>
                      <a:pt x="136" y="288"/>
                    </a:moveTo>
                    <a:cubicBezTo>
                      <a:pt x="68" y="256"/>
                      <a:pt x="0" y="224"/>
                      <a:pt x="184" y="192"/>
                    </a:cubicBezTo>
                    <a:cubicBezTo>
                      <a:pt x="368" y="160"/>
                      <a:pt x="1072" y="128"/>
                      <a:pt x="1240" y="96"/>
                    </a:cubicBezTo>
                    <a:cubicBezTo>
                      <a:pt x="1408" y="64"/>
                      <a:pt x="1300" y="32"/>
                      <a:pt x="119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Freeform 83"/>
              <p:cNvSpPr/>
              <p:nvPr/>
            </p:nvSpPr>
            <p:spPr>
              <a:xfrm>
                <a:off x="914040" y="4191120"/>
                <a:ext cx="901080" cy="228600"/>
              </a:xfrm>
              <a:custGeom>
                <a:avLst/>
                <a:gdLst>
                  <a:gd name="textAreaLeft" fmla="*/ 0 w 901080"/>
                  <a:gd name="textAreaRight" fmla="*/ 901440 w 9010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1408" h="288">
                    <a:moveTo>
                      <a:pt x="136" y="288"/>
                    </a:moveTo>
                    <a:cubicBezTo>
                      <a:pt x="68" y="256"/>
                      <a:pt x="0" y="224"/>
                      <a:pt x="184" y="192"/>
                    </a:cubicBezTo>
                    <a:cubicBezTo>
                      <a:pt x="368" y="160"/>
                      <a:pt x="1072" y="128"/>
                      <a:pt x="1240" y="96"/>
                    </a:cubicBezTo>
                    <a:cubicBezTo>
                      <a:pt x="1408" y="64"/>
                      <a:pt x="1300" y="32"/>
                      <a:pt x="119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Freeform 84"/>
              <p:cNvSpPr/>
              <p:nvPr/>
            </p:nvSpPr>
            <p:spPr>
              <a:xfrm>
                <a:off x="926640" y="3276720"/>
                <a:ext cx="901440" cy="228600"/>
              </a:xfrm>
              <a:custGeom>
                <a:avLst/>
                <a:gdLst>
                  <a:gd name="textAreaLeft" fmla="*/ 0 w 901440"/>
                  <a:gd name="textAreaRight" fmla="*/ 901800 w 9014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1408" h="288">
                    <a:moveTo>
                      <a:pt x="136" y="288"/>
                    </a:moveTo>
                    <a:cubicBezTo>
                      <a:pt x="68" y="256"/>
                      <a:pt x="0" y="224"/>
                      <a:pt x="184" y="192"/>
                    </a:cubicBezTo>
                    <a:cubicBezTo>
                      <a:pt x="368" y="160"/>
                      <a:pt x="1072" y="128"/>
                      <a:pt x="1240" y="96"/>
                    </a:cubicBezTo>
                    <a:cubicBezTo>
                      <a:pt x="1408" y="64"/>
                      <a:pt x="1300" y="32"/>
                      <a:pt x="119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Oval 85"/>
              <p:cNvSpPr/>
              <p:nvPr/>
            </p:nvSpPr>
            <p:spPr>
              <a:xfrm>
                <a:off x="838080" y="4343400"/>
                <a:ext cx="15192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Oval 86"/>
              <p:cNvSpPr/>
              <p:nvPr/>
            </p:nvSpPr>
            <p:spPr>
              <a:xfrm>
                <a:off x="914040" y="4343400"/>
                <a:ext cx="7560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Oval 87"/>
              <p:cNvSpPr/>
              <p:nvPr/>
            </p:nvSpPr>
            <p:spPr>
              <a:xfrm>
                <a:off x="838080" y="3124080"/>
                <a:ext cx="15192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45" name="Group 115"/>
          <p:cNvGrpSpPr/>
          <p:nvPr/>
        </p:nvGrpSpPr>
        <p:grpSpPr>
          <a:xfrm>
            <a:off x="4724280" y="1371600"/>
            <a:ext cx="1523880" cy="2514240"/>
            <a:chOff x="4724280" y="1371600"/>
            <a:chExt cx="1523880" cy="2514240"/>
          </a:xfrm>
        </p:grpSpPr>
        <p:grpSp>
          <p:nvGrpSpPr>
            <p:cNvPr id="1146" name="Group 89"/>
            <p:cNvGrpSpPr/>
            <p:nvPr/>
          </p:nvGrpSpPr>
          <p:grpSpPr>
            <a:xfrm>
              <a:off x="4952880" y="1371600"/>
              <a:ext cx="990000" cy="1523880"/>
              <a:chOff x="4952880" y="1371600"/>
              <a:chExt cx="990000" cy="1523880"/>
            </a:xfrm>
          </p:grpSpPr>
          <p:sp>
            <p:nvSpPr>
              <p:cNvPr id="1147" name="Line 90"/>
              <p:cNvSpPr/>
              <p:nvPr/>
            </p:nvSpPr>
            <p:spPr>
              <a:xfrm>
                <a:off x="5104800" y="2133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Line 91"/>
              <p:cNvSpPr/>
              <p:nvPr/>
            </p:nvSpPr>
            <p:spPr>
              <a:xfrm>
                <a:off x="5104800" y="243828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Line 92"/>
              <p:cNvSpPr/>
              <p:nvPr/>
            </p:nvSpPr>
            <p:spPr>
              <a:xfrm>
                <a:off x="5035680" y="1479600"/>
                <a:ext cx="290520" cy="9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Line 93"/>
              <p:cNvSpPr/>
              <p:nvPr/>
            </p:nvSpPr>
            <p:spPr>
              <a:xfrm>
                <a:off x="5104800" y="182880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Rectangle 94"/>
              <p:cNvSpPr/>
              <p:nvPr/>
            </p:nvSpPr>
            <p:spPr>
              <a:xfrm>
                <a:off x="5181120" y="1371600"/>
                <a:ext cx="609120" cy="15238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Freeform 95"/>
              <p:cNvSpPr/>
              <p:nvPr/>
            </p:nvSpPr>
            <p:spPr>
              <a:xfrm>
                <a:off x="5028840" y="1904760"/>
                <a:ext cx="901080" cy="228600"/>
              </a:xfrm>
              <a:custGeom>
                <a:avLst/>
                <a:gdLst>
                  <a:gd name="textAreaLeft" fmla="*/ 0 w 901080"/>
                  <a:gd name="textAreaRight" fmla="*/ 901440 w 9010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1408" h="288">
                    <a:moveTo>
                      <a:pt x="136" y="288"/>
                    </a:moveTo>
                    <a:cubicBezTo>
                      <a:pt x="68" y="256"/>
                      <a:pt x="0" y="224"/>
                      <a:pt x="184" y="192"/>
                    </a:cubicBezTo>
                    <a:cubicBezTo>
                      <a:pt x="368" y="160"/>
                      <a:pt x="1072" y="128"/>
                      <a:pt x="1240" y="96"/>
                    </a:cubicBezTo>
                    <a:cubicBezTo>
                      <a:pt x="1408" y="64"/>
                      <a:pt x="1300" y="32"/>
                      <a:pt x="119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Freeform 96"/>
              <p:cNvSpPr/>
              <p:nvPr/>
            </p:nvSpPr>
            <p:spPr>
              <a:xfrm>
                <a:off x="5028840" y="2209680"/>
                <a:ext cx="901080" cy="228600"/>
              </a:xfrm>
              <a:custGeom>
                <a:avLst/>
                <a:gdLst>
                  <a:gd name="textAreaLeft" fmla="*/ 0 w 901080"/>
                  <a:gd name="textAreaRight" fmla="*/ 901440 w 9010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1408" h="288">
                    <a:moveTo>
                      <a:pt x="136" y="288"/>
                    </a:moveTo>
                    <a:cubicBezTo>
                      <a:pt x="68" y="256"/>
                      <a:pt x="0" y="224"/>
                      <a:pt x="184" y="192"/>
                    </a:cubicBezTo>
                    <a:cubicBezTo>
                      <a:pt x="368" y="160"/>
                      <a:pt x="1072" y="128"/>
                      <a:pt x="1240" y="96"/>
                    </a:cubicBezTo>
                    <a:cubicBezTo>
                      <a:pt x="1408" y="64"/>
                      <a:pt x="1300" y="32"/>
                      <a:pt x="119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Freeform 97"/>
              <p:cNvSpPr/>
              <p:nvPr/>
            </p:nvSpPr>
            <p:spPr>
              <a:xfrm>
                <a:off x="5028840" y="2514600"/>
                <a:ext cx="901080" cy="228600"/>
              </a:xfrm>
              <a:custGeom>
                <a:avLst/>
                <a:gdLst>
                  <a:gd name="textAreaLeft" fmla="*/ 0 w 901080"/>
                  <a:gd name="textAreaRight" fmla="*/ 901440 w 9010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1408" h="288">
                    <a:moveTo>
                      <a:pt x="136" y="288"/>
                    </a:moveTo>
                    <a:cubicBezTo>
                      <a:pt x="68" y="256"/>
                      <a:pt x="0" y="224"/>
                      <a:pt x="184" y="192"/>
                    </a:cubicBezTo>
                    <a:cubicBezTo>
                      <a:pt x="368" y="160"/>
                      <a:pt x="1072" y="128"/>
                      <a:pt x="1240" y="96"/>
                    </a:cubicBezTo>
                    <a:cubicBezTo>
                      <a:pt x="1408" y="64"/>
                      <a:pt x="1300" y="32"/>
                      <a:pt x="119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Freeform 98"/>
              <p:cNvSpPr/>
              <p:nvPr/>
            </p:nvSpPr>
            <p:spPr>
              <a:xfrm>
                <a:off x="5041440" y="1600200"/>
                <a:ext cx="901440" cy="228600"/>
              </a:xfrm>
              <a:custGeom>
                <a:avLst/>
                <a:gdLst>
                  <a:gd name="textAreaLeft" fmla="*/ 0 w 901440"/>
                  <a:gd name="textAreaRight" fmla="*/ 901800 w 9014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1408" h="288">
                    <a:moveTo>
                      <a:pt x="136" y="288"/>
                    </a:moveTo>
                    <a:cubicBezTo>
                      <a:pt x="68" y="256"/>
                      <a:pt x="0" y="224"/>
                      <a:pt x="184" y="192"/>
                    </a:cubicBezTo>
                    <a:cubicBezTo>
                      <a:pt x="368" y="160"/>
                      <a:pt x="1072" y="128"/>
                      <a:pt x="1240" y="96"/>
                    </a:cubicBezTo>
                    <a:cubicBezTo>
                      <a:pt x="1408" y="64"/>
                      <a:pt x="1300" y="32"/>
                      <a:pt x="119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Oval 99"/>
              <p:cNvSpPr/>
              <p:nvPr/>
            </p:nvSpPr>
            <p:spPr>
              <a:xfrm>
                <a:off x="4952880" y="2666880"/>
                <a:ext cx="15192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Oval 100"/>
              <p:cNvSpPr/>
              <p:nvPr/>
            </p:nvSpPr>
            <p:spPr>
              <a:xfrm>
                <a:off x="5028840" y="2666880"/>
                <a:ext cx="7560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Oval 101"/>
              <p:cNvSpPr/>
              <p:nvPr/>
            </p:nvSpPr>
            <p:spPr>
              <a:xfrm>
                <a:off x="4952880" y="1447560"/>
                <a:ext cx="15192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9" name="Group 102"/>
            <p:cNvGrpSpPr/>
            <p:nvPr/>
          </p:nvGrpSpPr>
          <p:grpSpPr>
            <a:xfrm>
              <a:off x="4724280" y="2895840"/>
              <a:ext cx="1523880" cy="990000"/>
              <a:chOff x="4724280" y="2895840"/>
              <a:chExt cx="1523880" cy="990000"/>
            </a:xfrm>
          </p:grpSpPr>
          <p:sp>
            <p:nvSpPr>
              <p:cNvPr id="1160" name="Line 103"/>
              <p:cNvSpPr/>
              <p:nvPr/>
            </p:nvSpPr>
            <p:spPr>
              <a:xfrm flipV="1">
                <a:off x="5486040" y="342936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Line 104"/>
              <p:cNvSpPr/>
              <p:nvPr/>
            </p:nvSpPr>
            <p:spPr>
              <a:xfrm flipV="1">
                <a:off x="5790960" y="342936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Line 105"/>
              <p:cNvSpPr/>
              <p:nvPr/>
            </p:nvSpPr>
            <p:spPr>
              <a:xfrm flipV="1">
                <a:off x="4832280" y="3512520"/>
                <a:ext cx="90000" cy="29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Line 106"/>
              <p:cNvSpPr/>
              <p:nvPr/>
            </p:nvSpPr>
            <p:spPr>
              <a:xfrm flipV="1">
                <a:off x="5181480" y="342936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Rectangle 107"/>
              <p:cNvSpPr/>
              <p:nvPr/>
            </p:nvSpPr>
            <p:spPr>
              <a:xfrm rot="16200000">
                <a:off x="5181480" y="2590920"/>
                <a:ext cx="609120" cy="15238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Freeform 108"/>
              <p:cNvSpPr/>
              <p:nvPr/>
            </p:nvSpPr>
            <p:spPr>
              <a:xfrm rot="16200000">
                <a:off x="4921200" y="3245040"/>
                <a:ext cx="901080" cy="228600"/>
              </a:xfrm>
              <a:custGeom>
                <a:avLst/>
                <a:gdLst>
                  <a:gd name="textAreaLeft" fmla="*/ 0 w 901080"/>
                  <a:gd name="textAreaRight" fmla="*/ 901440 w 9010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1408" h="288">
                    <a:moveTo>
                      <a:pt x="136" y="288"/>
                    </a:moveTo>
                    <a:cubicBezTo>
                      <a:pt x="68" y="256"/>
                      <a:pt x="0" y="224"/>
                      <a:pt x="184" y="192"/>
                    </a:cubicBezTo>
                    <a:cubicBezTo>
                      <a:pt x="368" y="160"/>
                      <a:pt x="1072" y="128"/>
                      <a:pt x="1240" y="96"/>
                    </a:cubicBezTo>
                    <a:cubicBezTo>
                      <a:pt x="1408" y="64"/>
                      <a:pt x="1300" y="32"/>
                      <a:pt x="119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Freeform 109"/>
              <p:cNvSpPr/>
              <p:nvPr/>
            </p:nvSpPr>
            <p:spPr>
              <a:xfrm rot="16200000">
                <a:off x="5226120" y="3245040"/>
                <a:ext cx="901080" cy="228600"/>
              </a:xfrm>
              <a:custGeom>
                <a:avLst/>
                <a:gdLst>
                  <a:gd name="textAreaLeft" fmla="*/ 0 w 901080"/>
                  <a:gd name="textAreaRight" fmla="*/ 901440 w 9010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1408" h="288">
                    <a:moveTo>
                      <a:pt x="136" y="288"/>
                    </a:moveTo>
                    <a:cubicBezTo>
                      <a:pt x="68" y="256"/>
                      <a:pt x="0" y="224"/>
                      <a:pt x="184" y="192"/>
                    </a:cubicBezTo>
                    <a:cubicBezTo>
                      <a:pt x="368" y="160"/>
                      <a:pt x="1072" y="128"/>
                      <a:pt x="1240" y="96"/>
                    </a:cubicBezTo>
                    <a:cubicBezTo>
                      <a:pt x="1408" y="64"/>
                      <a:pt x="1300" y="32"/>
                      <a:pt x="119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Freeform 110"/>
              <p:cNvSpPr/>
              <p:nvPr/>
            </p:nvSpPr>
            <p:spPr>
              <a:xfrm rot="16200000">
                <a:off x="5531040" y="3245040"/>
                <a:ext cx="901080" cy="228600"/>
              </a:xfrm>
              <a:custGeom>
                <a:avLst/>
                <a:gdLst>
                  <a:gd name="textAreaLeft" fmla="*/ 0 w 901080"/>
                  <a:gd name="textAreaRight" fmla="*/ 901440 w 9010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1408" h="288">
                    <a:moveTo>
                      <a:pt x="136" y="288"/>
                    </a:moveTo>
                    <a:cubicBezTo>
                      <a:pt x="68" y="256"/>
                      <a:pt x="0" y="224"/>
                      <a:pt x="184" y="192"/>
                    </a:cubicBezTo>
                    <a:cubicBezTo>
                      <a:pt x="368" y="160"/>
                      <a:pt x="1072" y="128"/>
                      <a:pt x="1240" y="96"/>
                    </a:cubicBezTo>
                    <a:cubicBezTo>
                      <a:pt x="1408" y="64"/>
                      <a:pt x="1300" y="32"/>
                      <a:pt x="119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Freeform 111"/>
              <p:cNvSpPr/>
              <p:nvPr/>
            </p:nvSpPr>
            <p:spPr>
              <a:xfrm rot="16200000">
                <a:off x="4616280" y="3232080"/>
                <a:ext cx="901440" cy="228600"/>
              </a:xfrm>
              <a:custGeom>
                <a:avLst/>
                <a:gdLst>
                  <a:gd name="textAreaLeft" fmla="*/ 0 w 901440"/>
                  <a:gd name="textAreaRight" fmla="*/ 901800 w 9014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1408" h="288">
                    <a:moveTo>
                      <a:pt x="136" y="288"/>
                    </a:moveTo>
                    <a:cubicBezTo>
                      <a:pt x="68" y="256"/>
                      <a:pt x="0" y="224"/>
                      <a:pt x="184" y="192"/>
                    </a:cubicBezTo>
                    <a:cubicBezTo>
                      <a:pt x="368" y="160"/>
                      <a:pt x="1072" y="128"/>
                      <a:pt x="1240" y="96"/>
                    </a:cubicBezTo>
                    <a:cubicBezTo>
                      <a:pt x="1408" y="64"/>
                      <a:pt x="1300" y="32"/>
                      <a:pt x="119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Oval 112"/>
              <p:cNvSpPr/>
              <p:nvPr/>
            </p:nvSpPr>
            <p:spPr>
              <a:xfrm rot="16200000">
                <a:off x="6019560" y="3733560"/>
                <a:ext cx="15192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Oval 113"/>
              <p:cNvSpPr/>
              <p:nvPr/>
            </p:nvSpPr>
            <p:spPr>
              <a:xfrm rot="16200000">
                <a:off x="6019920" y="3733920"/>
                <a:ext cx="7560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Oval 114"/>
              <p:cNvSpPr/>
              <p:nvPr/>
            </p:nvSpPr>
            <p:spPr>
              <a:xfrm rot="16200000">
                <a:off x="4800600" y="3733560"/>
                <a:ext cx="15192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2" name="Group 185"/>
          <p:cNvGrpSpPr/>
          <p:nvPr/>
        </p:nvGrpSpPr>
        <p:grpSpPr>
          <a:xfrm>
            <a:off x="2819520" y="1066680"/>
            <a:ext cx="990000" cy="4267080"/>
            <a:chOff x="2819520" y="1066680"/>
            <a:chExt cx="990000" cy="4267080"/>
          </a:xfrm>
        </p:grpSpPr>
        <p:grpSp>
          <p:nvGrpSpPr>
            <p:cNvPr id="1173" name="Group 117"/>
            <p:cNvGrpSpPr/>
            <p:nvPr/>
          </p:nvGrpSpPr>
          <p:grpSpPr>
            <a:xfrm>
              <a:off x="2819520" y="1066680"/>
              <a:ext cx="990000" cy="1523880"/>
              <a:chOff x="2819520" y="1066680"/>
              <a:chExt cx="990000" cy="1523880"/>
            </a:xfrm>
          </p:grpSpPr>
          <p:sp>
            <p:nvSpPr>
              <p:cNvPr id="1174" name="Line 118"/>
              <p:cNvSpPr/>
              <p:nvPr/>
            </p:nvSpPr>
            <p:spPr>
              <a:xfrm>
                <a:off x="2971440" y="18284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Line 119"/>
              <p:cNvSpPr/>
              <p:nvPr/>
            </p:nvSpPr>
            <p:spPr>
              <a:xfrm>
                <a:off x="2971440" y="2133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Line 120"/>
              <p:cNvSpPr/>
              <p:nvPr/>
            </p:nvSpPr>
            <p:spPr>
              <a:xfrm>
                <a:off x="2902320" y="1174680"/>
                <a:ext cx="290520" cy="9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Line 121"/>
              <p:cNvSpPr/>
              <p:nvPr/>
            </p:nvSpPr>
            <p:spPr>
              <a:xfrm>
                <a:off x="2971440" y="152388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Rectangle 122"/>
              <p:cNvSpPr/>
              <p:nvPr/>
            </p:nvSpPr>
            <p:spPr>
              <a:xfrm>
                <a:off x="3047760" y="1066680"/>
                <a:ext cx="609120" cy="15238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Freeform 123"/>
              <p:cNvSpPr/>
              <p:nvPr/>
            </p:nvSpPr>
            <p:spPr>
              <a:xfrm>
                <a:off x="2895480" y="1599840"/>
                <a:ext cx="901080" cy="228600"/>
              </a:xfrm>
              <a:custGeom>
                <a:avLst/>
                <a:gdLst>
                  <a:gd name="textAreaLeft" fmla="*/ 0 w 901080"/>
                  <a:gd name="textAreaRight" fmla="*/ 901440 w 9010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1408" h="288">
                    <a:moveTo>
                      <a:pt x="136" y="288"/>
                    </a:moveTo>
                    <a:cubicBezTo>
                      <a:pt x="68" y="256"/>
                      <a:pt x="0" y="224"/>
                      <a:pt x="184" y="192"/>
                    </a:cubicBezTo>
                    <a:cubicBezTo>
                      <a:pt x="368" y="160"/>
                      <a:pt x="1072" y="128"/>
                      <a:pt x="1240" y="96"/>
                    </a:cubicBezTo>
                    <a:cubicBezTo>
                      <a:pt x="1408" y="64"/>
                      <a:pt x="1300" y="32"/>
                      <a:pt x="119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Freeform 124"/>
              <p:cNvSpPr/>
              <p:nvPr/>
            </p:nvSpPr>
            <p:spPr>
              <a:xfrm>
                <a:off x="2895480" y="1904760"/>
                <a:ext cx="901080" cy="228600"/>
              </a:xfrm>
              <a:custGeom>
                <a:avLst/>
                <a:gdLst>
                  <a:gd name="textAreaLeft" fmla="*/ 0 w 901080"/>
                  <a:gd name="textAreaRight" fmla="*/ 901440 w 9010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1408" h="288">
                    <a:moveTo>
                      <a:pt x="136" y="288"/>
                    </a:moveTo>
                    <a:cubicBezTo>
                      <a:pt x="68" y="256"/>
                      <a:pt x="0" y="224"/>
                      <a:pt x="184" y="192"/>
                    </a:cubicBezTo>
                    <a:cubicBezTo>
                      <a:pt x="368" y="160"/>
                      <a:pt x="1072" y="128"/>
                      <a:pt x="1240" y="96"/>
                    </a:cubicBezTo>
                    <a:cubicBezTo>
                      <a:pt x="1408" y="64"/>
                      <a:pt x="1300" y="32"/>
                      <a:pt x="119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Freeform 125"/>
              <p:cNvSpPr/>
              <p:nvPr/>
            </p:nvSpPr>
            <p:spPr>
              <a:xfrm>
                <a:off x="2895480" y="2209680"/>
                <a:ext cx="901080" cy="228600"/>
              </a:xfrm>
              <a:custGeom>
                <a:avLst/>
                <a:gdLst>
                  <a:gd name="textAreaLeft" fmla="*/ 0 w 901080"/>
                  <a:gd name="textAreaRight" fmla="*/ 901440 w 9010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1408" h="288">
                    <a:moveTo>
                      <a:pt x="136" y="288"/>
                    </a:moveTo>
                    <a:cubicBezTo>
                      <a:pt x="68" y="256"/>
                      <a:pt x="0" y="224"/>
                      <a:pt x="184" y="192"/>
                    </a:cubicBezTo>
                    <a:cubicBezTo>
                      <a:pt x="368" y="160"/>
                      <a:pt x="1072" y="128"/>
                      <a:pt x="1240" y="96"/>
                    </a:cubicBezTo>
                    <a:cubicBezTo>
                      <a:pt x="1408" y="64"/>
                      <a:pt x="1300" y="32"/>
                      <a:pt x="119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Freeform 126"/>
              <p:cNvSpPr/>
              <p:nvPr/>
            </p:nvSpPr>
            <p:spPr>
              <a:xfrm>
                <a:off x="2908080" y="1295280"/>
                <a:ext cx="901440" cy="228600"/>
              </a:xfrm>
              <a:custGeom>
                <a:avLst/>
                <a:gdLst>
                  <a:gd name="textAreaLeft" fmla="*/ 0 w 901440"/>
                  <a:gd name="textAreaRight" fmla="*/ 901800 w 9014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1408" h="288">
                    <a:moveTo>
                      <a:pt x="136" y="288"/>
                    </a:moveTo>
                    <a:cubicBezTo>
                      <a:pt x="68" y="256"/>
                      <a:pt x="0" y="224"/>
                      <a:pt x="184" y="192"/>
                    </a:cubicBezTo>
                    <a:cubicBezTo>
                      <a:pt x="368" y="160"/>
                      <a:pt x="1072" y="128"/>
                      <a:pt x="1240" y="96"/>
                    </a:cubicBezTo>
                    <a:cubicBezTo>
                      <a:pt x="1408" y="64"/>
                      <a:pt x="1300" y="32"/>
                      <a:pt x="119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Oval 127"/>
              <p:cNvSpPr/>
              <p:nvPr/>
            </p:nvSpPr>
            <p:spPr>
              <a:xfrm>
                <a:off x="2819520" y="2361960"/>
                <a:ext cx="15192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Oval 128"/>
              <p:cNvSpPr/>
              <p:nvPr/>
            </p:nvSpPr>
            <p:spPr>
              <a:xfrm>
                <a:off x="2895480" y="2361960"/>
                <a:ext cx="7560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Oval 129"/>
              <p:cNvSpPr/>
              <p:nvPr/>
            </p:nvSpPr>
            <p:spPr>
              <a:xfrm>
                <a:off x="2819520" y="1142640"/>
                <a:ext cx="15192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6" name="Group 130"/>
            <p:cNvGrpSpPr/>
            <p:nvPr/>
          </p:nvGrpSpPr>
          <p:grpSpPr>
            <a:xfrm>
              <a:off x="2819520" y="3809880"/>
              <a:ext cx="990000" cy="1523880"/>
              <a:chOff x="2819520" y="3809880"/>
              <a:chExt cx="990000" cy="1523880"/>
            </a:xfrm>
          </p:grpSpPr>
          <p:sp>
            <p:nvSpPr>
              <p:cNvPr id="1187" name="Line 131"/>
              <p:cNvSpPr/>
              <p:nvPr/>
            </p:nvSpPr>
            <p:spPr>
              <a:xfrm>
                <a:off x="2971440" y="4571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Line 132"/>
              <p:cNvSpPr/>
              <p:nvPr/>
            </p:nvSpPr>
            <p:spPr>
              <a:xfrm>
                <a:off x="2971440" y="4876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Line 133"/>
              <p:cNvSpPr/>
              <p:nvPr/>
            </p:nvSpPr>
            <p:spPr>
              <a:xfrm>
                <a:off x="2902320" y="3917880"/>
                <a:ext cx="290520" cy="9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Line 134"/>
              <p:cNvSpPr/>
              <p:nvPr/>
            </p:nvSpPr>
            <p:spPr>
              <a:xfrm>
                <a:off x="2971440" y="426708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Rectangle 135"/>
              <p:cNvSpPr/>
              <p:nvPr/>
            </p:nvSpPr>
            <p:spPr>
              <a:xfrm>
                <a:off x="3047760" y="3809880"/>
                <a:ext cx="609120" cy="15238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Freeform 136"/>
              <p:cNvSpPr/>
              <p:nvPr/>
            </p:nvSpPr>
            <p:spPr>
              <a:xfrm>
                <a:off x="2895480" y="4343040"/>
                <a:ext cx="901080" cy="228600"/>
              </a:xfrm>
              <a:custGeom>
                <a:avLst/>
                <a:gdLst>
                  <a:gd name="textAreaLeft" fmla="*/ 0 w 901080"/>
                  <a:gd name="textAreaRight" fmla="*/ 901440 w 9010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1408" h="288">
                    <a:moveTo>
                      <a:pt x="136" y="288"/>
                    </a:moveTo>
                    <a:cubicBezTo>
                      <a:pt x="68" y="256"/>
                      <a:pt x="0" y="224"/>
                      <a:pt x="184" y="192"/>
                    </a:cubicBezTo>
                    <a:cubicBezTo>
                      <a:pt x="368" y="160"/>
                      <a:pt x="1072" y="128"/>
                      <a:pt x="1240" y="96"/>
                    </a:cubicBezTo>
                    <a:cubicBezTo>
                      <a:pt x="1408" y="64"/>
                      <a:pt x="1300" y="32"/>
                      <a:pt x="119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Freeform 137"/>
              <p:cNvSpPr/>
              <p:nvPr/>
            </p:nvSpPr>
            <p:spPr>
              <a:xfrm>
                <a:off x="2895480" y="4647960"/>
                <a:ext cx="901080" cy="228600"/>
              </a:xfrm>
              <a:custGeom>
                <a:avLst/>
                <a:gdLst>
                  <a:gd name="textAreaLeft" fmla="*/ 0 w 901080"/>
                  <a:gd name="textAreaRight" fmla="*/ 901440 w 9010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1408" h="288">
                    <a:moveTo>
                      <a:pt x="136" y="288"/>
                    </a:moveTo>
                    <a:cubicBezTo>
                      <a:pt x="68" y="256"/>
                      <a:pt x="0" y="224"/>
                      <a:pt x="184" y="192"/>
                    </a:cubicBezTo>
                    <a:cubicBezTo>
                      <a:pt x="368" y="160"/>
                      <a:pt x="1072" y="128"/>
                      <a:pt x="1240" y="96"/>
                    </a:cubicBezTo>
                    <a:cubicBezTo>
                      <a:pt x="1408" y="64"/>
                      <a:pt x="1300" y="32"/>
                      <a:pt x="119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Freeform 138"/>
              <p:cNvSpPr/>
              <p:nvPr/>
            </p:nvSpPr>
            <p:spPr>
              <a:xfrm>
                <a:off x="2895480" y="4952880"/>
                <a:ext cx="901080" cy="228600"/>
              </a:xfrm>
              <a:custGeom>
                <a:avLst/>
                <a:gdLst>
                  <a:gd name="textAreaLeft" fmla="*/ 0 w 901080"/>
                  <a:gd name="textAreaRight" fmla="*/ 901440 w 9010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1408" h="288">
                    <a:moveTo>
                      <a:pt x="136" y="288"/>
                    </a:moveTo>
                    <a:cubicBezTo>
                      <a:pt x="68" y="256"/>
                      <a:pt x="0" y="224"/>
                      <a:pt x="184" y="192"/>
                    </a:cubicBezTo>
                    <a:cubicBezTo>
                      <a:pt x="368" y="160"/>
                      <a:pt x="1072" y="128"/>
                      <a:pt x="1240" y="96"/>
                    </a:cubicBezTo>
                    <a:cubicBezTo>
                      <a:pt x="1408" y="64"/>
                      <a:pt x="1300" y="32"/>
                      <a:pt x="119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Freeform 139"/>
              <p:cNvSpPr/>
              <p:nvPr/>
            </p:nvSpPr>
            <p:spPr>
              <a:xfrm>
                <a:off x="2908080" y="4038480"/>
                <a:ext cx="901440" cy="228600"/>
              </a:xfrm>
              <a:custGeom>
                <a:avLst/>
                <a:gdLst>
                  <a:gd name="textAreaLeft" fmla="*/ 0 w 901440"/>
                  <a:gd name="textAreaRight" fmla="*/ 901800 w 9014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1408" h="288">
                    <a:moveTo>
                      <a:pt x="136" y="288"/>
                    </a:moveTo>
                    <a:cubicBezTo>
                      <a:pt x="68" y="256"/>
                      <a:pt x="0" y="224"/>
                      <a:pt x="184" y="192"/>
                    </a:cubicBezTo>
                    <a:cubicBezTo>
                      <a:pt x="368" y="160"/>
                      <a:pt x="1072" y="128"/>
                      <a:pt x="1240" y="96"/>
                    </a:cubicBezTo>
                    <a:cubicBezTo>
                      <a:pt x="1408" y="64"/>
                      <a:pt x="1300" y="32"/>
                      <a:pt x="119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Oval 140"/>
              <p:cNvSpPr/>
              <p:nvPr/>
            </p:nvSpPr>
            <p:spPr>
              <a:xfrm>
                <a:off x="2819520" y="5105160"/>
                <a:ext cx="15192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Oval 141"/>
              <p:cNvSpPr/>
              <p:nvPr/>
            </p:nvSpPr>
            <p:spPr>
              <a:xfrm>
                <a:off x="2895480" y="5105160"/>
                <a:ext cx="7560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Oval 142"/>
              <p:cNvSpPr/>
              <p:nvPr/>
            </p:nvSpPr>
            <p:spPr>
              <a:xfrm>
                <a:off x="2819520" y="3885840"/>
                <a:ext cx="15192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99" name="Group 193"/>
          <p:cNvGrpSpPr/>
          <p:nvPr/>
        </p:nvGrpSpPr>
        <p:grpSpPr>
          <a:xfrm>
            <a:off x="7198920" y="1219320"/>
            <a:ext cx="1523880" cy="3617280"/>
            <a:chOff x="7198920" y="1219320"/>
            <a:chExt cx="1523880" cy="3617280"/>
          </a:xfrm>
        </p:grpSpPr>
        <p:grpSp>
          <p:nvGrpSpPr>
            <p:cNvPr id="1200" name="Group 177"/>
            <p:cNvGrpSpPr/>
            <p:nvPr/>
          </p:nvGrpSpPr>
          <p:grpSpPr>
            <a:xfrm>
              <a:off x="7198920" y="3846600"/>
              <a:ext cx="1523880" cy="990000"/>
              <a:chOff x="7198920" y="3846600"/>
              <a:chExt cx="1523880" cy="990000"/>
            </a:xfrm>
          </p:grpSpPr>
          <p:sp>
            <p:nvSpPr>
              <p:cNvPr id="1201" name="Line 146"/>
              <p:cNvSpPr/>
              <p:nvPr/>
            </p:nvSpPr>
            <p:spPr>
              <a:xfrm>
                <a:off x="7961400" y="3998880"/>
                <a:ext cx="0" cy="30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Line 147"/>
              <p:cNvSpPr/>
              <p:nvPr/>
            </p:nvSpPr>
            <p:spPr>
              <a:xfrm>
                <a:off x="7656480" y="3998880"/>
                <a:ext cx="0" cy="30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Line 148"/>
              <p:cNvSpPr/>
              <p:nvPr/>
            </p:nvSpPr>
            <p:spPr>
              <a:xfrm flipH="1">
                <a:off x="8523000" y="3929400"/>
                <a:ext cx="90360" cy="29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Line 149"/>
              <p:cNvSpPr/>
              <p:nvPr/>
            </p:nvSpPr>
            <p:spPr>
              <a:xfrm>
                <a:off x="8265960" y="3998880"/>
                <a:ext cx="0" cy="30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Rectangle 150"/>
              <p:cNvSpPr/>
              <p:nvPr/>
            </p:nvSpPr>
            <p:spPr>
              <a:xfrm rot="5400000">
                <a:off x="7656120" y="3617640"/>
                <a:ext cx="609480" cy="15238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Freeform 151"/>
              <p:cNvSpPr/>
              <p:nvPr/>
            </p:nvSpPr>
            <p:spPr>
              <a:xfrm rot="5400000">
                <a:off x="7624440" y="4258800"/>
                <a:ext cx="901440" cy="228600"/>
              </a:xfrm>
              <a:custGeom>
                <a:avLst/>
                <a:gdLst>
                  <a:gd name="textAreaLeft" fmla="*/ 0 w 901440"/>
                  <a:gd name="textAreaRight" fmla="*/ 901800 w 9014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1408" h="288">
                    <a:moveTo>
                      <a:pt x="136" y="288"/>
                    </a:moveTo>
                    <a:cubicBezTo>
                      <a:pt x="68" y="256"/>
                      <a:pt x="0" y="224"/>
                      <a:pt x="184" y="192"/>
                    </a:cubicBezTo>
                    <a:cubicBezTo>
                      <a:pt x="368" y="160"/>
                      <a:pt x="1072" y="128"/>
                      <a:pt x="1240" y="96"/>
                    </a:cubicBezTo>
                    <a:cubicBezTo>
                      <a:pt x="1408" y="64"/>
                      <a:pt x="1300" y="32"/>
                      <a:pt x="119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Freeform 152"/>
              <p:cNvSpPr/>
              <p:nvPr/>
            </p:nvSpPr>
            <p:spPr>
              <a:xfrm rot="5400000">
                <a:off x="7319520" y="4258800"/>
                <a:ext cx="901440" cy="228600"/>
              </a:xfrm>
              <a:custGeom>
                <a:avLst/>
                <a:gdLst>
                  <a:gd name="textAreaLeft" fmla="*/ 0 w 901440"/>
                  <a:gd name="textAreaRight" fmla="*/ 901800 w 9014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1408" h="288">
                    <a:moveTo>
                      <a:pt x="136" y="288"/>
                    </a:moveTo>
                    <a:cubicBezTo>
                      <a:pt x="68" y="256"/>
                      <a:pt x="0" y="224"/>
                      <a:pt x="184" y="192"/>
                    </a:cubicBezTo>
                    <a:cubicBezTo>
                      <a:pt x="368" y="160"/>
                      <a:pt x="1072" y="128"/>
                      <a:pt x="1240" y="96"/>
                    </a:cubicBezTo>
                    <a:cubicBezTo>
                      <a:pt x="1408" y="64"/>
                      <a:pt x="1300" y="32"/>
                      <a:pt x="119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Freeform 153"/>
              <p:cNvSpPr/>
              <p:nvPr/>
            </p:nvSpPr>
            <p:spPr>
              <a:xfrm rot="5400000">
                <a:off x="7014600" y="4258800"/>
                <a:ext cx="901440" cy="228600"/>
              </a:xfrm>
              <a:custGeom>
                <a:avLst/>
                <a:gdLst>
                  <a:gd name="textAreaLeft" fmla="*/ 0 w 901440"/>
                  <a:gd name="textAreaRight" fmla="*/ 901800 w 9014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1408" h="288">
                    <a:moveTo>
                      <a:pt x="136" y="288"/>
                    </a:moveTo>
                    <a:cubicBezTo>
                      <a:pt x="68" y="256"/>
                      <a:pt x="0" y="224"/>
                      <a:pt x="184" y="192"/>
                    </a:cubicBezTo>
                    <a:cubicBezTo>
                      <a:pt x="368" y="160"/>
                      <a:pt x="1072" y="128"/>
                      <a:pt x="1240" y="96"/>
                    </a:cubicBezTo>
                    <a:cubicBezTo>
                      <a:pt x="1408" y="64"/>
                      <a:pt x="1300" y="32"/>
                      <a:pt x="119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Freeform 154"/>
              <p:cNvSpPr/>
              <p:nvPr/>
            </p:nvSpPr>
            <p:spPr>
              <a:xfrm rot="5400000">
                <a:off x="7929000" y="4271400"/>
                <a:ext cx="901440" cy="228600"/>
              </a:xfrm>
              <a:custGeom>
                <a:avLst/>
                <a:gdLst>
                  <a:gd name="textAreaLeft" fmla="*/ 0 w 901440"/>
                  <a:gd name="textAreaRight" fmla="*/ 901800 w 9014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1408" h="288">
                    <a:moveTo>
                      <a:pt x="136" y="288"/>
                    </a:moveTo>
                    <a:cubicBezTo>
                      <a:pt x="68" y="256"/>
                      <a:pt x="0" y="224"/>
                      <a:pt x="184" y="192"/>
                    </a:cubicBezTo>
                    <a:cubicBezTo>
                      <a:pt x="368" y="160"/>
                      <a:pt x="1072" y="128"/>
                      <a:pt x="1240" y="96"/>
                    </a:cubicBezTo>
                    <a:cubicBezTo>
                      <a:pt x="1408" y="64"/>
                      <a:pt x="1300" y="32"/>
                      <a:pt x="119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Oval 155"/>
              <p:cNvSpPr/>
              <p:nvPr/>
            </p:nvSpPr>
            <p:spPr>
              <a:xfrm rot="5400000">
                <a:off x="7275240" y="384660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Oval 156"/>
              <p:cNvSpPr/>
              <p:nvPr/>
            </p:nvSpPr>
            <p:spPr>
              <a:xfrm rot="5400000">
                <a:off x="7351560" y="39222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Oval 157"/>
              <p:cNvSpPr/>
              <p:nvPr/>
            </p:nvSpPr>
            <p:spPr>
              <a:xfrm rot="5400000">
                <a:off x="8494560" y="3846240"/>
                <a:ext cx="15228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3" name="Group 176"/>
            <p:cNvGrpSpPr/>
            <p:nvPr/>
          </p:nvGrpSpPr>
          <p:grpSpPr>
            <a:xfrm>
              <a:off x="7467480" y="1219320"/>
              <a:ext cx="990720" cy="1523880"/>
              <a:chOff x="7467480" y="1219320"/>
              <a:chExt cx="990720" cy="1523880"/>
            </a:xfrm>
          </p:grpSpPr>
          <p:sp>
            <p:nvSpPr>
              <p:cNvPr id="1214" name="Line 159"/>
              <p:cNvSpPr/>
              <p:nvPr/>
            </p:nvSpPr>
            <p:spPr>
              <a:xfrm>
                <a:off x="7619760" y="198108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Line 160"/>
              <p:cNvSpPr/>
              <p:nvPr/>
            </p:nvSpPr>
            <p:spPr>
              <a:xfrm>
                <a:off x="7619760" y="228600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Line 161"/>
              <p:cNvSpPr/>
              <p:nvPr/>
            </p:nvSpPr>
            <p:spPr>
              <a:xfrm>
                <a:off x="7550640" y="1327320"/>
                <a:ext cx="290880" cy="9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Line 162"/>
              <p:cNvSpPr/>
              <p:nvPr/>
            </p:nvSpPr>
            <p:spPr>
              <a:xfrm>
                <a:off x="7619760" y="167652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Rectangle 163"/>
              <p:cNvSpPr/>
              <p:nvPr/>
            </p:nvSpPr>
            <p:spPr>
              <a:xfrm>
                <a:off x="7696080" y="1219320"/>
                <a:ext cx="609480" cy="15238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Freeform 164"/>
              <p:cNvSpPr/>
              <p:nvPr/>
            </p:nvSpPr>
            <p:spPr>
              <a:xfrm>
                <a:off x="7543800" y="1752480"/>
                <a:ext cx="901440" cy="228600"/>
              </a:xfrm>
              <a:custGeom>
                <a:avLst/>
                <a:gdLst>
                  <a:gd name="textAreaLeft" fmla="*/ 0 w 901440"/>
                  <a:gd name="textAreaRight" fmla="*/ 901800 w 9014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1408" h="288">
                    <a:moveTo>
                      <a:pt x="136" y="288"/>
                    </a:moveTo>
                    <a:cubicBezTo>
                      <a:pt x="68" y="256"/>
                      <a:pt x="0" y="224"/>
                      <a:pt x="184" y="192"/>
                    </a:cubicBezTo>
                    <a:cubicBezTo>
                      <a:pt x="368" y="160"/>
                      <a:pt x="1072" y="128"/>
                      <a:pt x="1240" y="96"/>
                    </a:cubicBezTo>
                    <a:cubicBezTo>
                      <a:pt x="1408" y="64"/>
                      <a:pt x="1300" y="32"/>
                      <a:pt x="119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Freeform 165"/>
              <p:cNvSpPr/>
              <p:nvPr/>
            </p:nvSpPr>
            <p:spPr>
              <a:xfrm>
                <a:off x="7543800" y="2057400"/>
                <a:ext cx="901440" cy="228600"/>
              </a:xfrm>
              <a:custGeom>
                <a:avLst/>
                <a:gdLst>
                  <a:gd name="textAreaLeft" fmla="*/ 0 w 901440"/>
                  <a:gd name="textAreaRight" fmla="*/ 901800 w 9014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1408" h="288">
                    <a:moveTo>
                      <a:pt x="136" y="288"/>
                    </a:moveTo>
                    <a:cubicBezTo>
                      <a:pt x="68" y="256"/>
                      <a:pt x="0" y="224"/>
                      <a:pt x="184" y="192"/>
                    </a:cubicBezTo>
                    <a:cubicBezTo>
                      <a:pt x="368" y="160"/>
                      <a:pt x="1072" y="128"/>
                      <a:pt x="1240" y="96"/>
                    </a:cubicBezTo>
                    <a:cubicBezTo>
                      <a:pt x="1408" y="64"/>
                      <a:pt x="1300" y="32"/>
                      <a:pt x="119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Freeform 166"/>
              <p:cNvSpPr/>
              <p:nvPr/>
            </p:nvSpPr>
            <p:spPr>
              <a:xfrm>
                <a:off x="7543800" y="2362320"/>
                <a:ext cx="901440" cy="228600"/>
              </a:xfrm>
              <a:custGeom>
                <a:avLst/>
                <a:gdLst>
                  <a:gd name="textAreaLeft" fmla="*/ 0 w 901440"/>
                  <a:gd name="textAreaRight" fmla="*/ 901800 w 9014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1408" h="288">
                    <a:moveTo>
                      <a:pt x="136" y="288"/>
                    </a:moveTo>
                    <a:cubicBezTo>
                      <a:pt x="68" y="256"/>
                      <a:pt x="0" y="224"/>
                      <a:pt x="184" y="192"/>
                    </a:cubicBezTo>
                    <a:cubicBezTo>
                      <a:pt x="368" y="160"/>
                      <a:pt x="1072" y="128"/>
                      <a:pt x="1240" y="96"/>
                    </a:cubicBezTo>
                    <a:cubicBezTo>
                      <a:pt x="1408" y="64"/>
                      <a:pt x="1300" y="32"/>
                      <a:pt x="119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Freeform 167"/>
              <p:cNvSpPr/>
              <p:nvPr/>
            </p:nvSpPr>
            <p:spPr>
              <a:xfrm>
                <a:off x="7556400" y="1447920"/>
                <a:ext cx="901800" cy="228600"/>
              </a:xfrm>
              <a:custGeom>
                <a:avLst/>
                <a:gdLst>
                  <a:gd name="textAreaLeft" fmla="*/ 0 w 901800"/>
                  <a:gd name="textAreaRight" fmla="*/ 902160 w 9018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1408" h="288">
                    <a:moveTo>
                      <a:pt x="136" y="288"/>
                    </a:moveTo>
                    <a:cubicBezTo>
                      <a:pt x="68" y="256"/>
                      <a:pt x="0" y="224"/>
                      <a:pt x="184" y="192"/>
                    </a:cubicBezTo>
                    <a:cubicBezTo>
                      <a:pt x="368" y="160"/>
                      <a:pt x="1072" y="128"/>
                      <a:pt x="1240" y="96"/>
                    </a:cubicBezTo>
                    <a:cubicBezTo>
                      <a:pt x="1408" y="64"/>
                      <a:pt x="1300" y="32"/>
                      <a:pt x="119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Oval 168"/>
              <p:cNvSpPr/>
              <p:nvPr/>
            </p:nvSpPr>
            <p:spPr>
              <a:xfrm>
                <a:off x="7467480" y="251460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Oval 169"/>
              <p:cNvSpPr/>
              <p:nvPr/>
            </p:nvSpPr>
            <p:spPr>
              <a:xfrm>
                <a:off x="7543800" y="25146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Oval 170"/>
              <p:cNvSpPr/>
              <p:nvPr/>
            </p:nvSpPr>
            <p:spPr>
              <a:xfrm>
                <a:off x="7467480" y="1295280"/>
                <a:ext cx="15228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26" name="Group 195"/>
          <p:cNvGrpSpPr/>
          <p:nvPr/>
        </p:nvGrpSpPr>
        <p:grpSpPr>
          <a:xfrm>
            <a:off x="7086600" y="1066680"/>
            <a:ext cx="1828800" cy="3886200"/>
            <a:chOff x="7086600" y="1066680"/>
            <a:chExt cx="1828800" cy="3886200"/>
          </a:xfrm>
        </p:grpSpPr>
        <p:sp>
          <p:nvSpPr>
            <p:cNvPr id="1227" name="Rectangle 172"/>
            <p:cNvSpPr/>
            <p:nvPr/>
          </p:nvSpPr>
          <p:spPr>
            <a:xfrm>
              <a:off x="7315200" y="1066680"/>
              <a:ext cx="1219320" cy="1828800"/>
            </a:xfrm>
            <a:prstGeom prst="rect">
              <a:avLst/>
            </a:prstGeom>
            <a:noFill/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Rectangle 173"/>
            <p:cNvSpPr/>
            <p:nvPr/>
          </p:nvSpPr>
          <p:spPr>
            <a:xfrm rot="5400000">
              <a:off x="7391520" y="3429000"/>
              <a:ext cx="1218960" cy="1828800"/>
            </a:xfrm>
            <a:prstGeom prst="rect">
              <a:avLst/>
            </a:prstGeom>
            <a:noFill/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9" name="Text Box 180"/>
          <p:cNvSpPr/>
          <p:nvPr/>
        </p:nvSpPr>
        <p:spPr>
          <a:xfrm>
            <a:off x="289800" y="468936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Times New Roman"/>
              </a:rPr>
              <a:t>Axis aligned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Text Box 181"/>
          <p:cNvSpPr/>
          <p:nvPr/>
        </p:nvSpPr>
        <p:spPr>
          <a:xfrm>
            <a:off x="282600" y="507060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Cores touching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Text Box 182"/>
          <p:cNvSpPr/>
          <p:nvPr/>
        </p:nvSpPr>
        <p:spPr>
          <a:xfrm>
            <a:off x="317160" y="5486400"/>
            <a:ext cx="1259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Max.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m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Text Box 183"/>
          <p:cNvSpPr/>
          <p:nvPr/>
        </p:nvSpPr>
        <p:spPr>
          <a:xfrm>
            <a:off x="2439360" y="545148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Times New Roman"/>
              </a:rPr>
              <a:t>Cores separated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Text Box 184"/>
          <p:cNvSpPr/>
          <p:nvPr/>
        </p:nvSpPr>
        <p:spPr>
          <a:xfrm>
            <a:off x="2527920" y="5867280"/>
            <a:ext cx="180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Reduced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Text Box 186"/>
          <p:cNvSpPr/>
          <p:nvPr/>
        </p:nvSpPr>
        <p:spPr>
          <a:xfrm>
            <a:off x="4267440" y="4156200"/>
            <a:ext cx="268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Times New Roman"/>
              </a:rPr>
              <a:t>Axis perpendicular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Text Box 187"/>
          <p:cNvSpPr/>
          <p:nvPr/>
        </p:nvSpPr>
        <p:spPr>
          <a:xfrm>
            <a:off x="4664880" y="4648320"/>
            <a:ext cx="1785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Even less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m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Text Box 189"/>
          <p:cNvSpPr/>
          <p:nvPr/>
        </p:nvSpPr>
        <p:spPr>
          <a:xfrm>
            <a:off x="7011720" y="502920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Times New Roman"/>
              </a:rPr>
              <a:t>Separated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Text Box 190"/>
          <p:cNvSpPr/>
          <p:nvPr/>
        </p:nvSpPr>
        <p:spPr>
          <a:xfrm>
            <a:off x="7011360" y="579132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hielded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Text Box 191"/>
          <p:cNvSpPr/>
          <p:nvPr/>
        </p:nvSpPr>
        <p:spPr>
          <a:xfrm>
            <a:off x="7022520" y="6172200"/>
            <a:ext cx="120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Min.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m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Text Box 192"/>
          <p:cNvSpPr/>
          <p:nvPr/>
        </p:nvSpPr>
        <p:spPr>
          <a:xfrm>
            <a:off x="7010280" y="541008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Perpendicular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Slide Number Placeholder 124"/>
          <p:cNvSpPr/>
          <p:nvPr/>
        </p:nvSpPr>
        <p:spPr>
          <a:xfrm>
            <a:off x="-152280" y="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 - </a:t>
            </a:r>
            <a:fld id="{41B5959D-127B-4514-B4C4-CC38730D0C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3" dur="indefinite" restart="never" nodeType="tmRoot">
          <p:childTnLst>
            <p:seq>
              <p:cTn id="1524" dur="indefinite" nodeType="mainSeq">
                <p:childTnLst>
                  <p:par>
                    <p:cTn id="1525" fill="hold">
                      <p:stCondLst>
                        <p:cond delay="0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9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fill="hold">
                      <p:stCondLst>
                        <p:cond delay="indefinite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fill="hold">
                      <p:stCondLst>
                        <p:cond delay="indefinite"/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7" dur="5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3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4" fill="hold">
                      <p:stCondLst>
                        <p:cond delay="indefinite"/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8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9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fill="hold">
                      <p:stCondLst>
                        <p:cond delay="indefinite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4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5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fill="hold">
                      <p:stCondLst>
                        <p:cond delay="indefinite"/>
                      </p:stCondLst>
                      <p:childTnLst>
                        <p:par>
                          <p:cTn id="1567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0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1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6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7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fill="hold">
                      <p:stCondLst>
                        <p:cond delay="indefinite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2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3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fill="hold">
                      <p:stCondLst>
                        <p:cond delay="indefinite"/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8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9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0" fill="hold">
                      <p:stCondLst>
                        <p:cond delay="indefinite"/>
                      </p:stCondLst>
                      <p:childTnLst>
                        <p:par>
                          <p:cTn id="1591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4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5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0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1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2" fill="hold">
                      <p:stCondLst>
                        <p:cond delay="indefinite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6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7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8" fill="hold">
                      <p:stCondLst>
                        <p:cond delay="indefinite"/>
                      </p:stCondLst>
                      <p:childTnLst>
                        <p:par>
                          <p:cTn id="1609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2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3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4" fill="hold">
                            <p:stCondLst>
                              <p:cond delay="500"/>
                            </p:stCondLst>
                            <p:childTnLst>
                              <p:par>
                                <p:cTn id="16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8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4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1" name="Picture 4" descr="COUPLING"/>
          <p:cNvPicPr/>
          <p:nvPr/>
        </p:nvPicPr>
        <p:blipFill>
          <a:blip r:embed="rId1"/>
          <a:stretch/>
        </p:blipFill>
        <p:spPr>
          <a:xfrm>
            <a:off x="1981080" y="990720"/>
            <a:ext cx="5029200" cy="3429000"/>
          </a:xfrm>
          <a:prstGeom prst="rect">
            <a:avLst/>
          </a:prstGeom>
          <a:ln w="0">
            <a:noFill/>
          </a:ln>
        </p:spPr>
      </p:pic>
      <p:sp>
        <p:nvSpPr>
          <p:cNvPr id="1242" name="Text Box 5"/>
          <p:cNvSpPr/>
          <p:nvPr/>
        </p:nvSpPr>
        <p:spPr>
          <a:xfrm>
            <a:off x="1503360" y="-76320"/>
            <a:ext cx="677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Mutual Inductance  </a:t>
            </a:r>
            <a:r>
              <a:rPr b="1" lang="en-US" sz="1800" spc="-1" strike="noStrike">
                <a:solidFill>
                  <a:srgbClr val="2d2db9"/>
                </a:solidFill>
                <a:latin typeface="Times New Roman"/>
              </a:rPr>
              <a:t>(Page 303) 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Text Box 6"/>
          <p:cNvSpPr/>
          <p:nvPr/>
        </p:nvSpPr>
        <p:spPr>
          <a:xfrm>
            <a:off x="531720" y="4616280"/>
            <a:ext cx="823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errite-core inductor is positioned so that maximum 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ux from the iron-core inductor is coupled to it.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Text Box 7"/>
          <p:cNvSpPr/>
          <p:nvPr/>
        </p:nvSpPr>
        <p:spPr>
          <a:xfrm>
            <a:off x="608760" y="5454720"/>
            <a:ext cx="832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next slide, observe what happens to the induced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ltage as the ferrite-core inductor is pulled away.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Slide Number Placeholder 61"/>
          <p:cNvSpPr/>
          <p:nvPr/>
        </p:nvSpPr>
        <p:spPr>
          <a:xfrm>
            <a:off x="-152280" y="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 - </a:t>
            </a:r>
            <a:fld id="{A84B840D-EE7B-43DD-AC5A-A728462DA2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5" dur="indefinite" restart="never" nodeType="tmRoot">
          <p:childTnLst>
            <p:seq>
              <p:cTn id="1626" dur="indefinite" nodeType="mainSeq">
                <p:childTnLst>
                  <p:par>
                    <p:cTn id="1627" fill="hold">
                      <p:stCondLst>
                        <p:cond delay="0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31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5" fill="hold">
                      <p:stCondLst>
                        <p:cond delay="indefinite"/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39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fill="hold">
                      <p:stCondLst>
                        <p:cond delay="indefinite"/>
                      </p:stCondLst>
                      <p:childTnLst>
                        <p:par>
                          <p:cTn id="1641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5" dur="5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Text Box 5"/>
          <p:cNvSpPr/>
          <p:nvPr/>
        </p:nvSpPr>
        <p:spPr>
          <a:xfrm>
            <a:off x="752040" y="206280"/>
            <a:ext cx="787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lease wait for the image to load and display.)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Text Box 6"/>
          <p:cNvSpPr/>
          <p:nvPr/>
        </p:nvSpPr>
        <p:spPr>
          <a:xfrm>
            <a:off x="1821960" y="5486400"/>
            <a:ext cx="533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play to rerun the display. 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Slide Number Placeholder 61"/>
          <p:cNvSpPr/>
          <p:nvPr/>
        </p:nvSpPr>
        <p:spPr>
          <a:xfrm>
            <a:off x="-152280" y="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 - </a:t>
            </a:r>
            <a:fld id="{58766383-FC51-4CB7-8A7E-0925E23175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9" name="WindowsMediaPlayer1"/>
          <p:cNvGraphicFramePr/>
          <p:nvPr/>
        </p:nvGraphicFramePr>
        <p:xfrm>
          <a:off x="1981080" y="1371600"/>
          <a:ext cx="507996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0" name="WindowsMediaPlayer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371600"/>
                    <a:ext cx="5079960" cy="38098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6" dur="indefinite" restart="never" nodeType="tmRoot">
          <p:childTnLst>
            <p:seq>
              <p:cTn id="1647" dur="indefinite" nodeType="mainSeq">
                <p:childTnLst>
                  <p:par>
                    <p:cTn id="1648" fill="hold">
                      <p:stCondLst>
                        <p:cond delay="0"/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2" fill="hold">
                            <p:stCondLst>
                              <p:cond delay="500"/>
                            </p:stCondLst>
                            <p:childTnLst>
                              <p:par>
                                <p:cTn id="16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5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Text Box 2"/>
          <p:cNvSpPr/>
          <p:nvPr/>
        </p:nvSpPr>
        <p:spPr>
          <a:xfrm>
            <a:off x="1221480" y="149400"/>
            <a:ext cx="669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Miscellaneous-Concepts Quiz 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Text Box 3"/>
          <p:cNvSpPr/>
          <p:nvPr/>
        </p:nvSpPr>
        <p:spPr>
          <a:xfrm>
            <a:off x="599400" y="1216080"/>
            <a:ext cx="595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The ____ inductor develops the most voltage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in a series ac circuit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Text Box 5"/>
          <p:cNvSpPr/>
          <p:nvPr/>
        </p:nvSpPr>
        <p:spPr>
          <a:xfrm>
            <a:off x="600480" y="2252520"/>
            <a:ext cx="568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The ____ inductor draws the most current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in a parallel ac circuit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7"/>
          <p:cNvSpPr/>
          <p:nvPr/>
        </p:nvSpPr>
        <p:spPr>
          <a:xfrm>
            <a:off x="599760" y="3290760"/>
            <a:ext cx="62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A conductor’s resistance ____ as the frequency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of the current increases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Text Box 8"/>
          <p:cNvSpPr/>
          <p:nvPr/>
        </p:nvSpPr>
        <p:spPr>
          <a:xfrm>
            <a:off x="599040" y="4327560"/>
            <a:ext cx="50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At ____ frequencies, electrons tend to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leave the center of the conductor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Text Box 9"/>
          <p:cNvSpPr/>
          <p:nvPr/>
        </p:nvSpPr>
        <p:spPr>
          <a:xfrm>
            <a:off x="601200" y="5365800"/>
            <a:ext cx="641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Two inductors positioned end-to-end have ____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mutual inductance than when they are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positioned at a right angle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Text Box 10"/>
          <p:cNvSpPr/>
          <p:nvPr/>
        </p:nvSpPr>
        <p:spPr>
          <a:xfrm>
            <a:off x="7310520" y="1174680"/>
            <a:ext cx="106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largest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Text Box 11"/>
          <p:cNvSpPr/>
          <p:nvPr/>
        </p:nvSpPr>
        <p:spPr>
          <a:xfrm>
            <a:off x="7310520" y="2212920"/>
            <a:ext cx="12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mallest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 Box 12"/>
          <p:cNvSpPr/>
          <p:nvPr/>
        </p:nvSpPr>
        <p:spPr>
          <a:xfrm>
            <a:off x="7310520" y="3252960"/>
            <a:ext cx="136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increase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Text Box 13"/>
          <p:cNvSpPr/>
          <p:nvPr/>
        </p:nvSpPr>
        <p:spPr>
          <a:xfrm>
            <a:off x="7312320" y="4290840"/>
            <a:ext cx="7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high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Text Box 14"/>
          <p:cNvSpPr/>
          <p:nvPr/>
        </p:nvSpPr>
        <p:spPr>
          <a:xfrm>
            <a:off x="7311240" y="5330880"/>
            <a:ext cx="85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ore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Slide Number Placeholder 12"/>
          <p:cNvSpPr/>
          <p:nvPr/>
        </p:nvSpPr>
        <p:spPr>
          <a:xfrm>
            <a:off x="-152280" y="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 - </a:t>
            </a:r>
            <a:fld id="{EDA37D3E-1EF9-4FF3-8008-11DCEBA0EF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6" dur="indefinite" restart="never" nodeType="tmRoot">
          <p:childTnLst>
            <p:seq>
              <p:cTn id="1657" dur="indefinite" nodeType="mainSeq">
                <p:childTnLst>
                  <p:par>
                    <p:cTn id="1658" fill="hold">
                      <p:stCondLst>
                        <p:cond delay="0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3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fill="hold">
                      <p:stCondLst>
                        <p:cond delay="indefinite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6" dur="5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1" dur="5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2" dur="5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8" dur="5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3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4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9" dur="5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0" dur="5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5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6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1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2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Text Box 2"/>
          <p:cNvSpPr/>
          <p:nvPr/>
        </p:nvSpPr>
        <p:spPr>
          <a:xfrm>
            <a:off x="1662480" y="0"/>
            <a:ext cx="5450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Concept Review</a:t>
            </a: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AutoShape 3">
            <a:hlinkClick r:id="rId1" action="ppaction://hlinksldjump"/>
          </p:cNvPr>
          <p:cNvSpPr/>
          <p:nvPr/>
        </p:nvSpPr>
        <p:spPr>
          <a:xfrm>
            <a:off x="768240" y="5873760"/>
            <a:ext cx="2644920" cy="635040"/>
          </a:xfrm>
          <a:custGeom>
            <a:avLst/>
            <a:gdLst>
              <a:gd name="textAreaLeft" fmla="*/ 41040 w 2644920"/>
              <a:gd name="textAreaRight" fmla="*/ 2603880 w 2644920"/>
              <a:gd name="textAreaTop" fmla="*/ 41040 h 635040"/>
              <a:gd name="textAreaBottom" fmla="*/ 594000 h 635040"/>
            </a:gdLst>
            <a:ahLst/>
            <a:rect l="textAreaLeft" t="textAreaTop" r="textAreaRight" b="textAreaBottom"/>
            <a:pathLst>
              <a:path w="89925" h="21600">
                <a:moveTo>
                  <a:pt x="0" y="0"/>
                </a:moveTo>
                <a:lnTo>
                  <a:pt x="89925" y="0"/>
                </a:lnTo>
                <a:lnTo>
                  <a:pt x="89925" y="21600"/>
                </a:lnTo>
                <a:lnTo>
                  <a:pt x="0" y="21600"/>
                </a:lnTo>
                <a:close/>
              </a:path>
              <a:path fill="lightenLess" w="89925" h="21600">
                <a:moveTo>
                  <a:pt x="0" y="0"/>
                </a:moveTo>
                <a:lnTo>
                  <a:pt x="89925" y="0"/>
                </a:lnTo>
                <a:lnTo>
                  <a:pt x="88525" y="1400"/>
                </a:lnTo>
                <a:lnTo>
                  <a:pt x="1400" y="1400"/>
                </a:lnTo>
                <a:close/>
              </a:path>
              <a:path fill="darken" w="89925" h="21600">
                <a:moveTo>
                  <a:pt x="89925" y="0"/>
                </a:moveTo>
                <a:lnTo>
                  <a:pt x="89925" y="21600"/>
                </a:lnTo>
                <a:lnTo>
                  <a:pt x="88525" y="20200"/>
                </a:lnTo>
                <a:lnTo>
                  <a:pt x="88525" y="1400"/>
                </a:lnTo>
                <a:close/>
              </a:path>
              <a:path fill="darkenLess" w="89925" h="21600">
                <a:moveTo>
                  <a:pt x="899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525" y="20200"/>
                </a:lnTo>
                <a:close/>
              </a:path>
              <a:path fill="lighten" w="899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9925" h="21600">
                <a:moveTo>
                  <a:pt x="37956" y="10800"/>
                </a:moveTo>
                <a:lnTo>
                  <a:pt x="51969" y="3794"/>
                </a:lnTo>
                <a:lnTo>
                  <a:pt x="5196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4"/>
          <p:cNvSpPr/>
          <p:nvPr/>
        </p:nvSpPr>
        <p:spPr>
          <a:xfrm>
            <a:off x="3480840" y="597384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peat Segment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6" name="Group 5"/>
          <p:cNvGrpSpPr/>
          <p:nvPr/>
        </p:nvGrpSpPr>
        <p:grpSpPr>
          <a:xfrm>
            <a:off x="596160" y="958680"/>
            <a:ext cx="7451640" cy="1099800"/>
            <a:chOff x="596160" y="958680"/>
            <a:chExt cx="7451640" cy="1099800"/>
          </a:xfrm>
        </p:grpSpPr>
        <p:sp>
          <p:nvSpPr>
            <p:cNvPr id="1267" name="Text Box 6"/>
            <p:cNvSpPr/>
            <p:nvPr/>
          </p:nvSpPr>
          <p:spPr>
            <a:xfrm>
              <a:off x="596160" y="958680"/>
              <a:ext cx="745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The largest series inductance drops</a:t>
              </a:r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Text Box 7"/>
            <p:cNvSpPr/>
            <p:nvPr/>
          </p:nvSpPr>
          <p:spPr>
            <a:xfrm>
              <a:off x="1052640" y="1415880"/>
              <a:ext cx="3469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the most voltage.</a:t>
              </a:r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9" name="Group 8"/>
          <p:cNvGrpSpPr/>
          <p:nvPr/>
        </p:nvGrpSpPr>
        <p:grpSpPr>
          <a:xfrm>
            <a:off x="596880" y="2025720"/>
            <a:ext cx="6993000" cy="1099440"/>
            <a:chOff x="596880" y="2025720"/>
            <a:chExt cx="6993000" cy="1099440"/>
          </a:xfrm>
        </p:grpSpPr>
        <p:sp>
          <p:nvSpPr>
            <p:cNvPr id="1270" name="Text Box 9"/>
            <p:cNvSpPr/>
            <p:nvPr/>
          </p:nvSpPr>
          <p:spPr>
            <a:xfrm>
              <a:off x="596880" y="2025720"/>
              <a:ext cx="699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The smallest parallel inductance </a:t>
              </a:r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Text Box 10"/>
            <p:cNvSpPr/>
            <p:nvPr/>
          </p:nvSpPr>
          <p:spPr>
            <a:xfrm>
              <a:off x="915480" y="2482560"/>
              <a:ext cx="4969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draws the most current.</a:t>
              </a:r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2" name="Group 11"/>
          <p:cNvGrpSpPr/>
          <p:nvPr/>
        </p:nvGrpSpPr>
        <p:grpSpPr>
          <a:xfrm>
            <a:off x="596160" y="3244680"/>
            <a:ext cx="7565760" cy="1099800"/>
            <a:chOff x="596160" y="3244680"/>
            <a:chExt cx="7565760" cy="1099800"/>
          </a:xfrm>
        </p:grpSpPr>
        <p:sp>
          <p:nvSpPr>
            <p:cNvPr id="1273" name="Text Box 12"/>
            <p:cNvSpPr/>
            <p:nvPr/>
          </p:nvSpPr>
          <p:spPr>
            <a:xfrm>
              <a:off x="596160" y="3244680"/>
              <a:ext cx="7565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The skin effect increases the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of an</a:t>
              </a:r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Text Box 13"/>
            <p:cNvSpPr/>
            <p:nvPr/>
          </p:nvSpPr>
          <p:spPr>
            <a:xfrm>
              <a:off x="1052640" y="3701880"/>
              <a:ext cx="5374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inductor as the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increases.</a:t>
              </a:r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5" name="Group 14"/>
          <p:cNvGrpSpPr/>
          <p:nvPr/>
        </p:nvGrpSpPr>
        <p:grpSpPr>
          <a:xfrm>
            <a:off x="596520" y="4464000"/>
            <a:ext cx="8041320" cy="1099800"/>
            <a:chOff x="596520" y="4464000"/>
            <a:chExt cx="8041320" cy="1099800"/>
          </a:xfrm>
        </p:grpSpPr>
        <p:sp>
          <p:nvSpPr>
            <p:cNvPr id="1276" name="Text Box 15"/>
            <p:cNvSpPr/>
            <p:nvPr/>
          </p:nvSpPr>
          <p:spPr>
            <a:xfrm>
              <a:off x="596520" y="4464000"/>
              <a:ext cx="7730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Mutual inductance can be controlled</a:t>
              </a:r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Text Box 16"/>
            <p:cNvSpPr/>
            <p:nvPr/>
          </p:nvSpPr>
          <p:spPr>
            <a:xfrm>
              <a:off x="1051920" y="4921200"/>
              <a:ext cx="758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by shielding, orientation, and spacing.</a:t>
              </a:r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8" name="Slide Number Placeholder 16"/>
          <p:cNvSpPr/>
          <p:nvPr/>
        </p:nvSpPr>
        <p:spPr>
          <a:xfrm>
            <a:off x="-152280" y="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 - </a:t>
            </a:r>
            <a:fld id="{092D64A1-B574-4B92-A9F0-7860DBB1BD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3" dur="indefinite" restart="never" nodeType="tmRoot">
          <p:childTnLst>
            <p:seq>
              <p:cTn id="1724" dur="indefinite" nodeType="mainSeq">
                <p:childTnLst>
                  <p:par>
                    <p:cTn id="1725" fill="hold">
                      <p:stCondLst>
                        <p:cond delay="0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29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0" fill="hold">
                            <p:stCondLst>
                              <p:cond delay="500"/>
                            </p:stCondLst>
                            <p:childTnLst>
                              <p:par>
                                <p:cTn id="17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3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4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8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9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3" dur="5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4" dur="5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9" dur="5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0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4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8" dur="5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Text Box 3"/>
          <p:cNvSpPr/>
          <p:nvPr/>
        </p:nvSpPr>
        <p:spPr>
          <a:xfrm>
            <a:off x="2985120" y="365040"/>
            <a:ext cx="318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REVIEW</a:t>
            </a: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Text Box 4"/>
          <p:cNvSpPr/>
          <p:nvPr/>
        </p:nvSpPr>
        <p:spPr>
          <a:xfrm>
            <a:off x="838080" y="1828800"/>
            <a:ext cx="80773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Polarity of Induced Voltage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Inductive Reactance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Series and Parallel Inductors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Skin Effect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Mutual Inductance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1" name="Group 6"/>
          <p:cNvGrpSpPr/>
          <p:nvPr/>
        </p:nvGrpSpPr>
        <p:grpSpPr>
          <a:xfrm>
            <a:off x="2171880" y="5533920"/>
            <a:ext cx="4305240" cy="173160"/>
            <a:chOff x="2171880" y="5533920"/>
            <a:chExt cx="4305240" cy="173160"/>
          </a:xfrm>
        </p:grpSpPr>
        <p:sp>
          <p:nvSpPr>
            <p:cNvPr id="1282" name="Line 7"/>
            <p:cNvSpPr/>
            <p:nvPr/>
          </p:nvSpPr>
          <p:spPr>
            <a:xfrm>
              <a:off x="2171880" y="5533920"/>
              <a:ext cx="430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Line 8"/>
            <p:cNvSpPr/>
            <p:nvPr/>
          </p:nvSpPr>
          <p:spPr>
            <a:xfrm>
              <a:off x="2174040" y="5594400"/>
              <a:ext cx="430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Line 9"/>
            <p:cNvSpPr/>
            <p:nvPr/>
          </p:nvSpPr>
          <p:spPr>
            <a:xfrm>
              <a:off x="2174040" y="5651280"/>
              <a:ext cx="430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Line 10"/>
            <p:cNvSpPr/>
            <p:nvPr/>
          </p:nvSpPr>
          <p:spPr>
            <a:xfrm>
              <a:off x="2174040" y="5707080"/>
              <a:ext cx="430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6" name="Slide Number Placeholder 8"/>
          <p:cNvSpPr/>
          <p:nvPr/>
        </p:nvSpPr>
        <p:spPr>
          <a:xfrm>
            <a:off x="-152280" y="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 - </a:t>
            </a:r>
            <a:fld id="{8BD3DBF5-27FA-4F4C-A0A4-A41217F9CE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1662120" y="0"/>
            <a:ext cx="5703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Concept Preview</a:t>
            </a: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-47520" y="1035000"/>
            <a:ext cx="898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emf opposes the sourc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ncreases.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Page 283) 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-50040" y="1720800"/>
            <a:ext cx="829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emf aids the sourc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decreases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Page 284) 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-40320" y="2406600"/>
            <a:ext cx="93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eady state dc is unopposed by inductance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Page 293) 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Group 8"/>
          <p:cNvGrpSpPr/>
          <p:nvPr/>
        </p:nvGrpSpPr>
        <p:grpSpPr>
          <a:xfrm>
            <a:off x="-74520" y="3168720"/>
            <a:ext cx="8189280" cy="1099800"/>
            <a:chOff x="-74520" y="3168720"/>
            <a:chExt cx="8189280" cy="1099800"/>
          </a:xfrm>
        </p:grpSpPr>
        <p:sp>
          <p:nvSpPr>
            <p:cNvPr id="114" name="Text Box 6"/>
            <p:cNvSpPr/>
            <p:nvPr/>
          </p:nvSpPr>
          <p:spPr>
            <a:xfrm>
              <a:off x="-74520" y="3168720"/>
              <a:ext cx="8189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Inductance controls the rate at which a</a:t>
              </a:r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 Box 7"/>
            <p:cNvSpPr/>
            <p:nvPr/>
          </p:nvSpPr>
          <p:spPr>
            <a:xfrm>
              <a:off x="455040" y="3625920"/>
              <a:ext cx="7252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direct current can rise or fall.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(Page 293) </a:t>
              </a: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Group 11"/>
          <p:cNvGrpSpPr/>
          <p:nvPr/>
        </p:nvGrpSpPr>
        <p:grpSpPr>
          <a:xfrm>
            <a:off x="193320" y="4464000"/>
            <a:ext cx="8843400" cy="1099800"/>
            <a:chOff x="193320" y="4464000"/>
            <a:chExt cx="8843400" cy="1099800"/>
          </a:xfrm>
        </p:grpSpPr>
        <p:sp>
          <p:nvSpPr>
            <p:cNvPr id="117" name="Text Box 9"/>
            <p:cNvSpPr/>
            <p:nvPr/>
          </p:nvSpPr>
          <p:spPr>
            <a:xfrm>
              <a:off x="193320" y="4464000"/>
              <a:ext cx="7919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The current in a dc inductor circuit is</a:t>
              </a:r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Text Box 10"/>
            <p:cNvSpPr/>
            <p:nvPr/>
          </p:nvSpPr>
          <p:spPr>
            <a:xfrm>
              <a:off x="446400" y="4921200"/>
              <a:ext cx="859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determined by the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of the inductor.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(Page 293) </a:t>
              </a: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Slide Number Placeholder 11"/>
          <p:cNvSpPr/>
          <p:nvPr/>
        </p:nvSpPr>
        <p:spPr>
          <a:xfrm>
            <a:off x="-152280" y="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 - </a:t>
            </a:r>
            <a:fld id="{421F1853-AAC8-4A49-A849-44EC2156B4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2021040" y="60480"/>
            <a:ext cx="506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Facts About Inductors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378360" y="685800"/>
            <a:ext cx="41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agnetic fields store energy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80880" y="1306440"/>
            <a:ext cx="526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An inductor provides self-inductance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76560" y="1927080"/>
            <a:ext cx="60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elf-induced voltage is called cemf or bemf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380880" y="2548080"/>
            <a:ext cx="645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When an inductor induces a voltage in another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inductor it is called mutual inductance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379080" y="3535200"/>
            <a:ext cx="84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Lenz’s law shows that a cemf opposes the force that created it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379800" y="4156200"/>
            <a:ext cx="66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The base unit of inductance (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) is the henry (H)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87360" y="4776840"/>
            <a:ext cx="608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Inductance (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) has inductive reactance (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cc0000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)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389880" y="5397480"/>
            <a:ext cx="189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cc0000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=  6.28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fL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79080" y="6019920"/>
            <a:ext cx="76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Inductance causes voltage to lead current by 90 degrees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Slide Number Placeholder 11"/>
          <p:cNvSpPr/>
          <p:nvPr/>
        </p:nvSpPr>
        <p:spPr>
          <a:xfrm>
            <a:off x="-152280" y="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 - </a:t>
            </a:r>
            <a:fld id="{8E4E9C4D-E4A7-4866-A733-8404C87DF0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2"/>
          <p:cNvSpPr/>
          <p:nvPr/>
        </p:nvSpPr>
        <p:spPr>
          <a:xfrm rot="14966400">
            <a:off x="5534640" y="2257920"/>
            <a:ext cx="237960" cy="1646280"/>
          </a:xfrm>
          <a:prstGeom prst="can">
            <a:avLst>
              <a:gd name="adj" fmla="val 11361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Group 3"/>
          <p:cNvGrpSpPr/>
          <p:nvPr/>
        </p:nvGrpSpPr>
        <p:grpSpPr>
          <a:xfrm>
            <a:off x="4915800" y="2590920"/>
            <a:ext cx="912960" cy="1025280"/>
            <a:chOff x="4915800" y="2590920"/>
            <a:chExt cx="912960" cy="1025280"/>
          </a:xfrm>
        </p:grpSpPr>
        <p:sp>
          <p:nvSpPr>
            <p:cNvPr id="133" name="Oval 4"/>
            <p:cNvSpPr/>
            <p:nvPr/>
          </p:nvSpPr>
          <p:spPr>
            <a:xfrm rot="20126400">
              <a:off x="5029200" y="2809440"/>
              <a:ext cx="685800" cy="695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5"/>
            <p:cNvSpPr/>
            <p:nvPr/>
          </p:nvSpPr>
          <p:spPr>
            <a:xfrm>
              <a:off x="5182560" y="259092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</a:t>
              </a:r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Group 6"/>
          <p:cNvGrpSpPr/>
          <p:nvPr/>
        </p:nvGrpSpPr>
        <p:grpSpPr>
          <a:xfrm>
            <a:off x="4800600" y="2362320"/>
            <a:ext cx="1143000" cy="1371600"/>
            <a:chOff x="4800600" y="2362320"/>
            <a:chExt cx="1143000" cy="1371600"/>
          </a:xfrm>
        </p:grpSpPr>
        <p:sp>
          <p:nvSpPr>
            <p:cNvPr id="136" name="Oval 7"/>
            <p:cNvSpPr/>
            <p:nvPr/>
          </p:nvSpPr>
          <p:spPr>
            <a:xfrm>
              <a:off x="4800600" y="2590920"/>
              <a:ext cx="1143000" cy="1143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Rectangle 8"/>
            <p:cNvSpPr/>
            <p:nvPr/>
          </p:nvSpPr>
          <p:spPr>
            <a:xfrm>
              <a:off x="5182560" y="236232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</a:t>
              </a:r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AutoShape 9"/>
          <p:cNvSpPr/>
          <p:nvPr/>
        </p:nvSpPr>
        <p:spPr>
          <a:xfrm rot="14966400">
            <a:off x="4513680" y="2648520"/>
            <a:ext cx="238320" cy="1646280"/>
          </a:xfrm>
          <a:prstGeom prst="can">
            <a:avLst>
              <a:gd name="adj" fmla="val 11361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10"/>
          <p:cNvSpPr/>
          <p:nvPr/>
        </p:nvSpPr>
        <p:spPr>
          <a:xfrm rot="14966400">
            <a:off x="3934440" y="2867400"/>
            <a:ext cx="237960" cy="1646280"/>
          </a:xfrm>
          <a:prstGeom prst="can">
            <a:avLst>
              <a:gd name="adj" fmla="val 11361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11"/>
          <p:cNvGrpSpPr/>
          <p:nvPr/>
        </p:nvGrpSpPr>
        <p:grpSpPr>
          <a:xfrm>
            <a:off x="3315600" y="3200400"/>
            <a:ext cx="912600" cy="1025280"/>
            <a:chOff x="3315600" y="3200400"/>
            <a:chExt cx="912600" cy="1025280"/>
          </a:xfrm>
        </p:grpSpPr>
        <p:sp>
          <p:nvSpPr>
            <p:cNvPr id="141" name="Oval 12"/>
            <p:cNvSpPr/>
            <p:nvPr/>
          </p:nvSpPr>
          <p:spPr>
            <a:xfrm rot="20126400">
              <a:off x="3429000" y="3419280"/>
              <a:ext cx="685800" cy="695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13"/>
            <p:cNvSpPr/>
            <p:nvPr/>
          </p:nvSpPr>
          <p:spPr>
            <a:xfrm>
              <a:off x="3582360" y="320040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</a:t>
              </a:r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Group 39"/>
          <p:cNvGrpSpPr/>
          <p:nvPr/>
        </p:nvGrpSpPr>
        <p:grpSpPr>
          <a:xfrm>
            <a:off x="3200400" y="2971800"/>
            <a:ext cx="1143000" cy="1371600"/>
            <a:chOff x="3200400" y="2971800"/>
            <a:chExt cx="1143000" cy="1371600"/>
          </a:xfrm>
        </p:grpSpPr>
        <p:sp>
          <p:nvSpPr>
            <p:cNvPr id="144" name="Oval 15"/>
            <p:cNvSpPr/>
            <p:nvPr/>
          </p:nvSpPr>
          <p:spPr>
            <a:xfrm>
              <a:off x="3200400" y="3200400"/>
              <a:ext cx="1143000" cy="1143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16"/>
            <p:cNvSpPr/>
            <p:nvPr/>
          </p:nvSpPr>
          <p:spPr>
            <a:xfrm>
              <a:off x="3582360" y="297180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</a:t>
              </a:r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AutoShape 17"/>
          <p:cNvSpPr/>
          <p:nvPr/>
        </p:nvSpPr>
        <p:spPr>
          <a:xfrm rot="14966400">
            <a:off x="2913480" y="3258000"/>
            <a:ext cx="237960" cy="1646280"/>
          </a:xfrm>
          <a:prstGeom prst="can">
            <a:avLst>
              <a:gd name="adj" fmla="val 11361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8"/>
          <p:cNvSpPr/>
          <p:nvPr/>
        </p:nvSpPr>
        <p:spPr>
          <a:xfrm>
            <a:off x="1153080" y="49320"/>
            <a:ext cx="752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Polarity Of Induced Voltage </a:t>
            </a:r>
            <a:r>
              <a:rPr b="1" lang="en-US" sz="1800" spc="-1" strike="noStrike">
                <a:solidFill>
                  <a:srgbClr val="2d2db9"/>
                </a:solidFill>
                <a:latin typeface="Times New Roman"/>
              </a:rPr>
              <a:t>(Page 285) 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40"/>
          <p:cNvGrpSpPr/>
          <p:nvPr/>
        </p:nvGrpSpPr>
        <p:grpSpPr>
          <a:xfrm>
            <a:off x="891720" y="3728880"/>
            <a:ext cx="1837440" cy="1674360"/>
            <a:chOff x="891720" y="3728880"/>
            <a:chExt cx="1837440" cy="1674360"/>
          </a:xfrm>
        </p:grpSpPr>
        <p:grpSp>
          <p:nvGrpSpPr>
            <p:cNvPr id="149" name="Group 19"/>
            <p:cNvGrpSpPr/>
            <p:nvPr/>
          </p:nvGrpSpPr>
          <p:grpSpPr>
            <a:xfrm>
              <a:off x="891720" y="3728880"/>
              <a:ext cx="1837440" cy="1674360"/>
              <a:chOff x="891720" y="3728880"/>
              <a:chExt cx="1837440" cy="1674360"/>
            </a:xfrm>
          </p:grpSpPr>
          <p:sp>
            <p:nvSpPr>
              <p:cNvPr id="150" name="Text Box 20"/>
              <p:cNvSpPr/>
              <p:nvPr/>
            </p:nvSpPr>
            <p:spPr>
              <a:xfrm rot="20242800">
                <a:off x="1063080" y="3970440"/>
                <a:ext cx="14943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Direction</a:t>
                </a:r>
                <a:endParaRPr b="1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of current</a:t>
                </a:r>
                <a:endParaRPr b="1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Line 21"/>
              <p:cNvSpPr/>
              <p:nvPr/>
            </p:nvSpPr>
            <p:spPr>
              <a:xfrm flipV="1">
                <a:off x="1484280" y="4410360"/>
                <a:ext cx="689040" cy="32472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Line 22"/>
            <p:cNvSpPr/>
            <p:nvPr/>
          </p:nvSpPr>
          <p:spPr>
            <a:xfrm flipV="1">
              <a:off x="1484280" y="4410360"/>
              <a:ext cx="689040" cy="32472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Text Box 23"/>
          <p:cNvSpPr/>
          <p:nvPr/>
        </p:nvSpPr>
        <p:spPr>
          <a:xfrm>
            <a:off x="7142760" y="3429000"/>
            <a:ext cx="16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ductor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24"/>
          <p:cNvSpPr/>
          <p:nvPr/>
        </p:nvSpPr>
        <p:spPr>
          <a:xfrm flipH="1" flipV="1">
            <a:off x="6324120" y="2971800"/>
            <a:ext cx="838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30"/>
          <p:cNvSpPr/>
          <p:nvPr/>
        </p:nvSpPr>
        <p:spPr>
          <a:xfrm>
            <a:off x="381240" y="803160"/>
            <a:ext cx="57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When current increases and flux expands,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32"/>
          <p:cNvSpPr/>
          <p:nvPr/>
        </p:nvSpPr>
        <p:spPr>
          <a:xfrm>
            <a:off x="6019560" y="803160"/>
            <a:ext cx="25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the polarity of the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33"/>
          <p:cNvSpPr/>
          <p:nvPr/>
        </p:nvSpPr>
        <p:spPr>
          <a:xfrm>
            <a:off x="374760" y="1260360"/>
            <a:ext cx="84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elf-induced voltage (cemf) is negative where the current enters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34"/>
          <p:cNvSpPr/>
          <p:nvPr/>
        </p:nvSpPr>
        <p:spPr>
          <a:xfrm>
            <a:off x="376920" y="5603760"/>
            <a:ext cx="832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Notice that the cemf opposes the increasing source voltage that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is causing the current to increase and the flux to expand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Group 38"/>
          <p:cNvGrpSpPr/>
          <p:nvPr/>
        </p:nvGrpSpPr>
        <p:grpSpPr>
          <a:xfrm>
            <a:off x="2133720" y="1262520"/>
            <a:ext cx="4321080" cy="2242080"/>
            <a:chOff x="2133720" y="1262520"/>
            <a:chExt cx="4321080" cy="2242080"/>
          </a:xfrm>
        </p:grpSpPr>
        <p:sp>
          <p:nvSpPr>
            <p:cNvPr id="160" name="Text Box 35"/>
            <p:cNvSpPr/>
            <p:nvPr/>
          </p:nvSpPr>
          <p:spPr>
            <a:xfrm rot="20364600">
              <a:off x="5487840" y="1353960"/>
              <a:ext cx="7599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cc3300"/>
                  </a:solidFill>
                  <a:latin typeface="Times New Roman"/>
                </a:rPr>
                <a:t>+</a:t>
              </a:r>
              <a:endParaRPr b="1" i="1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36"/>
            <p:cNvSpPr/>
            <p:nvPr/>
          </p:nvSpPr>
          <p:spPr>
            <a:xfrm flipV="1">
              <a:off x="2133720" y="3276000"/>
              <a:ext cx="53316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Text Box 37"/>
            <p:cNvSpPr/>
            <p:nvPr/>
          </p:nvSpPr>
          <p:spPr>
            <a:xfrm rot="20326800">
              <a:off x="3032640" y="2418840"/>
              <a:ext cx="225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olarity of cemf</a:t>
              </a:r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Slide Number Placeholder 33"/>
          <p:cNvSpPr/>
          <p:nvPr/>
        </p:nvSpPr>
        <p:spPr>
          <a:xfrm>
            <a:off x="-152280" y="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 - </a:t>
            </a:r>
            <a:fld id="{C4AED20E-81D5-4748-A8F8-93144E953A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2"/>
          <p:cNvSpPr/>
          <p:nvPr/>
        </p:nvSpPr>
        <p:spPr>
          <a:xfrm rot="14966400">
            <a:off x="5534640" y="2257920"/>
            <a:ext cx="237960" cy="1646280"/>
          </a:xfrm>
          <a:prstGeom prst="can">
            <a:avLst>
              <a:gd name="adj" fmla="val 11361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4915800" y="2590920"/>
            <a:ext cx="912960" cy="1025280"/>
            <a:chOff x="4915800" y="2590920"/>
            <a:chExt cx="912960" cy="1025280"/>
          </a:xfrm>
        </p:grpSpPr>
        <p:sp>
          <p:nvSpPr>
            <p:cNvPr id="166" name="Oval 4"/>
            <p:cNvSpPr/>
            <p:nvPr/>
          </p:nvSpPr>
          <p:spPr>
            <a:xfrm rot="20126400">
              <a:off x="5029200" y="2809440"/>
              <a:ext cx="685800" cy="695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5"/>
            <p:cNvSpPr/>
            <p:nvPr/>
          </p:nvSpPr>
          <p:spPr>
            <a:xfrm>
              <a:off x="5182560" y="259092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</a:t>
              </a:r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Group 6"/>
          <p:cNvGrpSpPr/>
          <p:nvPr/>
        </p:nvGrpSpPr>
        <p:grpSpPr>
          <a:xfrm>
            <a:off x="4800600" y="2362320"/>
            <a:ext cx="1143000" cy="1371600"/>
            <a:chOff x="4800600" y="2362320"/>
            <a:chExt cx="1143000" cy="1371600"/>
          </a:xfrm>
        </p:grpSpPr>
        <p:sp>
          <p:nvSpPr>
            <p:cNvPr id="169" name="Oval 7"/>
            <p:cNvSpPr/>
            <p:nvPr/>
          </p:nvSpPr>
          <p:spPr>
            <a:xfrm>
              <a:off x="4800600" y="2590920"/>
              <a:ext cx="1143000" cy="1143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Rectangle 8"/>
            <p:cNvSpPr/>
            <p:nvPr/>
          </p:nvSpPr>
          <p:spPr>
            <a:xfrm>
              <a:off x="5182560" y="236232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</a:t>
              </a:r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AutoShape 9"/>
          <p:cNvSpPr/>
          <p:nvPr/>
        </p:nvSpPr>
        <p:spPr>
          <a:xfrm rot="14966400">
            <a:off x="4513680" y="2648520"/>
            <a:ext cx="238320" cy="1646280"/>
          </a:xfrm>
          <a:prstGeom prst="can">
            <a:avLst>
              <a:gd name="adj" fmla="val 11361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10"/>
          <p:cNvSpPr/>
          <p:nvPr/>
        </p:nvSpPr>
        <p:spPr>
          <a:xfrm rot="14966400">
            <a:off x="3934440" y="2867400"/>
            <a:ext cx="237960" cy="1646280"/>
          </a:xfrm>
          <a:prstGeom prst="can">
            <a:avLst>
              <a:gd name="adj" fmla="val 11361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924480" y="49320"/>
            <a:ext cx="752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Polarity Of Induced Voltage </a:t>
            </a:r>
            <a:r>
              <a:rPr b="1" lang="en-US" sz="1800" spc="-1" strike="noStrike">
                <a:solidFill>
                  <a:srgbClr val="2d2db9"/>
                </a:solidFill>
                <a:latin typeface="Times New Roman"/>
              </a:rPr>
              <a:t>(Page 285) 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7"/>
          <p:cNvSpPr/>
          <p:nvPr/>
        </p:nvSpPr>
        <p:spPr>
          <a:xfrm>
            <a:off x="7142760" y="3429000"/>
            <a:ext cx="16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ductor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18"/>
          <p:cNvSpPr/>
          <p:nvPr/>
        </p:nvSpPr>
        <p:spPr>
          <a:xfrm flipH="1" flipV="1">
            <a:off x="6324120" y="2971800"/>
            <a:ext cx="838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9"/>
          <p:cNvSpPr/>
          <p:nvPr/>
        </p:nvSpPr>
        <p:spPr>
          <a:xfrm>
            <a:off x="744840" y="803160"/>
            <a:ext cx="58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When current decreases and flux collapses,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Group 26"/>
          <p:cNvGrpSpPr/>
          <p:nvPr/>
        </p:nvGrpSpPr>
        <p:grpSpPr>
          <a:xfrm>
            <a:off x="3200400" y="2971800"/>
            <a:ext cx="1143000" cy="1371600"/>
            <a:chOff x="3200400" y="2971800"/>
            <a:chExt cx="1143000" cy="1371600"/>
          </a:xfrm>
        </p:grpSpPr>
        <p:sp>
          <p:nvSpPr>
            <p:cNvPr id="178" name="Oval 27"/>
            <p:cNvSpPr/>
            <p:nvPr/>
          </p:nvSpPr>
          <p:spPr>
            <a:xfrm>
              <a:off x="3200400" y="3200400"/>
              <a:ext cx="1143000" cy="1143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Rectangle 28"/>
            <p:cNvSpPr/>
            <p:nvPr/>
          </p:nvSpPr>
          <p:spPr>
            <a:xfrm>
              <a:off x="3582360" y="297180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</a:t>
              </a:r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Group 29"/>
          <p:cNvGrpSpPr/>
          <p:nvPr/>
        </p:nvGrpSpPr>
        <p:grpSpPr>
          <a:xfrm>
            <a:off x="3315600" y="3200400"/>
            <a:ext cx="912600" cy="1025280"/>
            <a:chOff x="3315600" y="3200400"/>
            <a:chExt cx="912600" cy="1025280"/>
          </a:xfrm>
        </p:grpSpPr>
        <p:sp>
          <p:nvSpPr>
            <p:cNvPr id="181" name="Oval 30"/>
            <p:cNvSpPr/>
            <p:nvPr/>
          </p:nvSpPr>
          <p:spPr>
            <a:xfrm rot="20126400">
              <a:off x="3429000" y="3419280"/>
              <a:ext cx="685800" cy="695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31"/>
            <p:cNvSpPr/>
            <p:nvPr/>
          </p:nvSpPr>
          <p:spPr>
            <a:xfrm>
              <a:off x="3582360" y="320040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</a:t>
              </a:r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AutoShape 32"/>
          <p:cNvSpPr/>
          <p:nvPr/>
        </p:nvSpPr>
        <p:spPr>
          <a:xfrm rot="14966400">
            <a:off x="2913480" y="3258000"/>
            <a:ext cx="237960" cy="1646280"/>
          </a:xfrm>
          <a:prstGeom prst="can">
            <a:avLst>
              <a:gd name="adj" fmla="val 11361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Slide Number Placeholder 21"/>
          <p:cNvSpPr/>
          <p:nvPr/>
        </p:nvSpPr>
        <p:spPr>
          <a:xfrm>
            <a:off x="-152280" y="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 - </a:t>
            </a:r>
            <a:fld id="{32B3F60E-93AF-442D-BD83-D7DA868C0C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AutoShape 2"/>
          <p:cNvSpPr/>
          <p:nvPr/>
        </p:nvSpPr>
        <p:spPr>
          <a:xfrm rot="14966400">
            <a:off x="5534640" y="2257920"/>
            <a:ext cx="237960" cy="1646280"/>
          </a:xfrm>
          <a:prstGeom prst="can">
            <a:avLst>
              <a:gd name="adj" fmla="val 11361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Group 3"/>
          <p:cNvGrpSpPr/>
          <p:nvPr/>
        </p:nvGrpSpPr>
        <p:grpSpPr>
          <a:xfrm>
            <a:off x="4915800" y="2590920"/>
            <a:ext cx="912960" cy="1025280"/>
            <a:chOff x="4915800" y="2590920"/>
            <a:chExt cx="912960" cy="1025280"/>
          </a:xfrm>
        </p:grpSpPr>
        <p:sp>
          <p:nvSpPr>
            <p:cNvPr id="187" name="Oval 4"/>
            <p:cNvSpPr/>
            <p:nvPr/>
          </p:nvSpPr>
          <p:spPr>
            <a:xfrm rot="20126400">
              <a:off x="5029200" y="2809440"/>
              <a:ext cx="685800" cy="695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5"/>
            <p:cNvSpPr/>
            <p:nvPr/>
          </p:nvSpPr>
          <p:spPr>
            <a:xfrm>
              <a:off x="5182560" y="259092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</a:t>
              </a:r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AutoShape 9"/>
          <p:cNvSpPr/>
          <p:nvPr/>
        </p:nvSpPr>
        <p:spPr>
          <a:xfrm rot="14966400">
            <a:off x="4513680" y="2648520"/>
            <a:ext cx="238320" cy="1646280"/>
          </a:xfrm>
          <a:prstGeom prst="can">
            <a:avLst>
              <a:gd name="adj" fmla="val 11361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10"/>
          <p:cNvSpPr/>
          <p:nvPr/>
        </p:nvSpPr>
        <p:spPr>
          <a:xfrm rot="14966400">
            <a:off x="3934440" y="2867400"/>
            <a:ext cx="237960" cy="1646280"/>
          </a:xfrm>
          <a:prstGeom prst="can">
            <a:avLst>
              <a:gd name="adj" fmla="val 11361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1374840" y="49320"/>
            <a:ext cx="631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Polarity Of Induced Voltage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Group 19"/>
          <p:cNvGrpSpPr/>
          <p:nvPr/>
        </p:nvGrpSpPr>
        <p:grpSpPr>
          <a:xfrm>
            <a:off x="891720" y="3728880"/>
            <a:ext cx="1837440" cy="1674360"/>
            <a:chOff x="891720" y="3728880"/>
            <a:chExt cx="1837440" cy="1674360"/>
          </a:xfrm>
        </p:grpSpPr>
        <p:grpSp>
          <p:nvGrpSpPr>
            <p:cNvPr id="193" name="Group 20"/>
            <p:cNvGrpSpPr/>
            <p:nvPr/>
          </p:nvGrpSpPr>
          <p:grpSpPr>
            <a:xfrm>
              <a:off x="891720" y="3728880"/>
              <a:ext cx="1837440" cy="1674360"/>
              <a:chOff x="891720" y="3728880"/>
              <a:chExt cx="1837440" cy="1674360"/>
            </a:xfrm>
          </p:grpSpPr>
          <p:sp>
            <p:nvSpPr>
              <p:cNvPr id="194" name="Text Box 21"/>
              <p:cNvSpPr/>
              <p:nvPr/>
            </p:nvSpPr>
            <p:spPr>
              <a:xfrm rot="20242800">
                <a:off x="1063080" y="3970440"/>
                <a:ext cx="14943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Direction</a:t>
                </a:r>
                <a:endParaRPr b="1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of current</a:t>
                </a:r>
                <a:endParaRPr b="1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Line 22"/>
              <p:cNvSpPr/>
              <p:nvPr/>
            </p:nvSpPr>
            <p:spPr>
              <a:xfrm flipV="1">
                <a:off x="1484280" y="4410360"/>
                <a:ext cx="689040" cy="32472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6" name="Line 23"/>
            <p:cNvSpPr/>
            <p:nvPr/>
          </p:nvSpPr>
          <p:spPr>
            <a:xfrm flipV="1">
              <a:off x="1484280" y="4410360"/>
              <a:ext cx="689040" cy="32472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Text Box 24"/>
          <p:cNvSpPr/>
          <p:nvPr/>
        </p:nvSpPr>
        <p:spPr>
          <a:xfrm>
            <a:off x="7142760" y="3429000"/>
            <a:ext cx="16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duc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25"/>
          <p:cNvSpPr/>
          <p:nvPr/>
        </p:nvSpPr>
        <p:spPr>
          <a:xfrm flipH="1" flipV="1">
            <a:off x="6324120" y="2971800"/>
            <a:ext cx="838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26"/>
          <p:cNvSpPr/>
          <p:nvPr/>
        </p:nvSpPr>
        <p:spPr>
          <a:xfrm>
            <a:off x="456120" y="803160"/>
            <a:ext cx="594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When current decreases and  flux collapses,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27"/>
          <p:cNvSpPr/>
          <p:nvPr/>
        </p:nvSpPr>
        <p:spPr>
          <a:xfrm>
            <a:off x="380880" y="80316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                                                                            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the  polarity of the self-induced voltage (cemf) is positive where the current enters.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29"/>
          <p:cNvSpPr/>
          <p:nvPr/>
        </p:nvSpPr>
        <p:spPr>
          <a:xfrm>
            <a:off x="738720" y="5603760"/>
            <a:ext cx="788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Notice that the cemf aids the decreasing source voltage that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is causing the current to decrease and the flux  to collapse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Group 34"/>
          <p:cNvGrpSpPr/>
          <p:nvPr/>
        </p:nvGrpSpPr>
        <p:grpSpPr>
          <a:xfrm>
            <a:off x="1700640" y="2057040"/>
            <a:ext cx="4242960" cy="2225160"/>
            <a:chOff x="1700640" y="2057040"/>
            <a:chExt cx="4242960" cy="2225160"/>
          </a:xfrm>
        </p:grpSpPr>
        <p:sp>
          <p:nvSpPr>
            <p:cNvPr id="203" name="Text Box 31"/>
            <p:cNvSpPr/>
            <p:nvPr/>
          </p:nvSpPr>
          <p:spPr>
            <a:xfrm rot="20364600">
              <a:off x="1906920" y="2877480"/>
              <a:ext cx="7599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cc3300"/>
                  </a:solidFill>
                  <a:latin typeface="Times New Roman"/>
                </a:rPr>
                <a:t>+</a:t>
              </a:r>
              <a:endParaRPr b="1" i="1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Line 32"/>
            <p:cNvSpPr/>
            <p:nvPr/>
          </p:nvSpPr>
          <p:spPr>
            <a:xfrm flipV="1">
              <a:off x="5410440" y="2057040"/>
              <a:ext cx="53316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Text Box 33"/>
            <p:cNvSpPr/>
            <p:nvPr/>
          </p:nvSpPr>
          <p:spPr>
            <a:xfrm rot="20326800">
              <a:off x="2880720" y="2571120"/>
              <a:ext cx="225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olarity of cemf</a:t>
              </a:r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Group 11"/>
          <p:cNvGrpSpPr/>
          <p:nvPr/>
        </p:nvGrpSpPr>
        <p:grpSpPr>
          <a:xfrm>
            <a:off x="3315600" y="3200400"/>
            <a:ext cx="912600" cy="1025280"/>
            <a:chOff x="3315600" y="3200400"/>
            <a:chExt cx="912600" cy="1025280"/>
          </a:xfrm>
        </p:grpSpPr>
        <p:sp>
          <p:nvSpPr>
            <p:cNvPr id="207" name="Oval 12"/>
            <p:cNvSpPr/>
            <p:nvPr/>
          </p:nvSpPr>
          <p:spPr>
            <a:xfrm rot="20126400">
              <a:off x="3429000" y="3419280"/>
              <a:ext cx="685800" cy="695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Rectangle 13"/>
            <p:cNvSpPr/>
            <p:nvPr/>
          </p:nvSpPr>
          <p:spPr>
            <a:xfrm>
              <a:off x="3582360" y="320040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</a:t>
              </a:r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AutoShape 17"/>
          <p:cNvSpPr/>
          <p:nvPr/>
        </p:nvSpPr>
        <p:spPr>
          <a:xfrm rot="14966400">
            <a:off x="2913480" y="3258000"/>
            <a:ext cx="237960" cy="1646280"/>
          </a:xfrm>
          <a:prstGeom prst="can">
            <a:avLst>
              <a:gd name="adj" fmla="val 11361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lide Number Placeholder 26"/>
          <p:cNvSpPr/>
          <p:nvPr/>
        </p:nvSpPr>
        <p:spPr>
          <a:xfrm>
            <a:off x="-152280" y="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 - </a:t>
            </a:r>
            <a:fld id="{E724B395-8F4E-452B-8130-71B97DEEA1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573840" y="0"/>
            <a:ext cx="836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imes New Roman"/>
              </a:rPr>
              <a:t>Inductive Current in a DC Circuit  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</a:rPr>
              <a:t>(Page 293) 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3" descr=""/>
          <p:cNvPicPr/>
          <p:nvPr/>
        </p:nvPicPr>
        <p:blipFill>
          <a:blip r:embed="rId1"/>
          <a:stretch/>
        </p:blipFill>
        <p:spPr>
          <a:xfrm>
            <a:off x="914400" y="58752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4"/>
          <p:cNvSpPr/>
          <p:nvPr/>
        </p:nvSpPr>
        <p:spPr>
          <a:xfrm>
            <a:off x="1371600" y="2416320"/>
            <a:ext cx="762120" cy="9144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5"/>
          <p:cNvSpPr/>
          <p:nvPr/>
        </p:nvSpPr>
        <p:spPr>
          <a:xfrm>
            <a:off x="1371600" y="2263680"/>
            <a:ext cx="0" cy="9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6"/>
          <p:cNvSpPr/>
          <p:nvPr/>
        </p:nvSpPr>
        <p:spPr>
          <a:xfrm>
            <a:off x="1371600" y="32544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7"/>
          <p:cNvSpPr/>
          <p:nvPr/>
        </p:nvSpPr>
        <p:spPr>
          <a:xfrm flipV="1">
            <a:off x="1752480" y="2922120"/>
            <a:ext cx="53352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8"/>
          <p:cNvSpPr/>
          <p:nvPr/>
        </p:nvSpPr>
        <p:spPr>
          <a:xfrm flipV="1">
            <a:off x="1695600" y="2835000"/>
            <a:ext cx="755640" cy="415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9"/>
          <p:cNvSpPr/>
          <p:nvPr/>
        </p:nvSpPr>
        <p:spPr>
          <a:xfrm flipV="1">
            <a:off x="1751040" y="3162240"/>
            <a:ext cx="60948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0"/>
          <p:cNvSpPr/>
          <p:nvPr/>
        </p:nvSpPr>
        <p:spPr>
          <a:xfrm flipV="1">
            <a:off x="1706400" y="3141720"/>
            <a:ext cx="749520" cy="1029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Oval 11"/>
          <p:cNvSpPr/>
          <p:nvPr/>
        </p:nvSpPr>
        <p:spPr>
          <a:xfrm>
            <a:off x="2133720" y="31780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Oval 12"/>
          <p:cNvSpPr/>
          <p:nvPr/>
        </p:nvSpPr>
        <p:spPr>
          <a:xfrm>
            <a:off x="1600200" y="3178080"/>
            <a:ext cx="152280" cy="152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3"/>
          <p:cNvSpPr/>
          <p:nvPr/>
        </p:nvSpPr>
        <p:spPr>
          <a:xfrm flipV="1">
            <a:off x="1762200" y="2916360"/>
            <a:ext cx="53316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Freeform 14"/>
          <p:cNvSpPr/>
          <p:nvPr/>
        </p:nvSpPr>
        <p:spPr>
          <a:xfrm>
            <a:off x="4314960" y="1714680"/>
            <a:ext cx="952200" cy="1539720"/>
          </a:xfrm>
          <a:custGeom>
            <a:avLst/>
            <a:gdLst>
              <a:gd name="textAreaLeft" fmla="*/ 0 w 952200"/>
              <a:gd name="textAreaRight" fmla="*/ 952560 w 952200"/>
              <a:gd name="textAreaTop" fmla="*/ 0 h 1539720"/>
              <a:gd name="textAreaBottom" fmla="*/ 1540080 h 1539720"/>
            </a:gdLst>
            <a:ahLst/>
            <a:rect l="textAreaLeft" t="textAreaTop" r="textAreaRight" b="textAreaBottom"/>
            <a:pathLst>
              <a:path w="600" h="970">
                <a:moveTo>
                  <a:pt x="0" y="970"/>
                </a:moveTo>
                <a:cubicBezTo>
                  <a:pt x="18" y="908"/>
                  <a:pt x="77" y="700"/>
                  <a:pt x="106" y="600"/>
                </a:cubicBezTo>
                <a:cubicBezTo>
                  <a:pt x="135" y="500"/>
                  <a:pt x="148" y="435"/>
                  <a:pt x="177" y="370"/>
                </a:cubicBezTo>
                <a:cubicBezTo>
                  <a:pt x="206" y="305"/>
                  <a:pt x="248" y="259"/>
                  <a:pt x="283" y="212"/>
                </a:cubicBezTo>
                <a:cubicBezTo>
                  <a:pt x="318" y="165"/>
                  <a:pt x="351" y="120"/>
                  <a:pt x="389" y="88"/>
                </a:cubicBezTo>
                <a:cubicBezTo>
                  <a:pt x="427" y="56"/>
                  <a:pt x="477" y="33"/>
                  <a:pt x="512" y="18"/>
                </a:cubicBezTo>
                <a:cubicBezTo>
                  <a:pt x="547" y="3"/>
                  <a:pt x="582" y="4"/>
                  <a:pt x="600" y="0"/>
                </a:cubicBezTo>
              </a:path>
            </a:pathLst>
          </a:custGeom>
          <a:noFill/>
          <a:ln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Freeform 15"/>
          <p:cNvSpPr/>
          <p:nvPr/>
        </p:nvSpPr>
        <p:spPr>
          <a:xfrm>
            <a:off x="6939000" y="1712880"/>
            <a:ext cx="965160" cy="1523880"/>
          </a:xfrm>
          <a:custGeom>
            <a:avLst/>
            <a:gdLst>
              <a:gd name="textAreaLeft" fmla="*/ 0 w 965160"/>
              <a:gd name="textAreaRight" fmla="*/ 965520 w 96516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608" h="960">
                <a:moveTo>
                  <a:pt x="0" y="0"/>
                </a:moveTo>
                <a:cubicBezTo>
                  <a:pt x="3" y="15"/>
                  <a:pt x="12" y="71"/>
                  <a:pt x="18" y="106"/>
                </a:cubicBezTo>
                <a:cubicBezTo>
                  <a:pt x="24" y="141"/>
                  <a:pt x="29" y="183"/>
                  <a:pt x="35" y="212"/>
                </a:cubicBezTo>
                <a:cubicBezTo>
                  <a:pt x="41" y="241"/>
                  <a:pt x="44" y="247"/>
                  <a:pt x="53" y="282"/>
                </a:cubicBezTo>
                <a:cubicBezTo>
                  <a:pt x="62" y="317"/>
                  <a:pt x="73" y="379"/>
                  <a:pt x="88" y="423"/>
                </a:cubicBezTo>
                <a:cubicBezTo>
                  <a:pt x="103" y="467"/>
                  <a:pt x="120" y="506"/>
                  <a:pt x="141" y="547"/>
                </a:cubicBezTo>
                <a:cubicBezTo>
                  <a:pt x="162" y="588"/>
                  <a:pt x="187" y="636"/>
                  <a:pt x="212" y="670"/>
                </a:cubicBezTo>
                <a:cubicBezTo>
                  <a:pt x="237" y="704"/>
                  <a:pt x="260" y="714"/>
                  <a:pt x="291" y="748"/>
                </a:cubicBezTo>
                <a:cubicBezTo>
                  <a:pt x="322" y="782"/>
                  <a:pt x="359" y="840"/>
                  <a:pt x="397" y="872"/>
                </a:cubicBezTo>
                <a:cubicBezTo>
                  <a:pt x="435" y="904"/>
                  <a:pt x="485" y="927"/>
                  <a:pt x="520" y="942"/>
                </a:cubicBezTo>
                <a:cubicBezTo>
                  <a:pt x="555" y="957"/>
                  <a:pt x="590" y="956"/>
                  <a:pt x="608" y="960"/>
                </a:cubicBezTo>
              </a:path>
            </a:pathLst>
          </a:custGeom>
          <a:noFill/>
          <a:ln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16"/>
          <p:cNvSpPr/>
          <p:nvPr/>
        </p:nvSpPr>
        <p:spPr>
          <a:xfrm>
            <a:off x="5267160" y="1712880"/>
            <a:ext cx="168120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Group 17"/>
          <p:cNvGrpSpPr/>
          <p:nvPr/>
        </p:nvGrpSpPr>
        <p:grpSpPr>
          <a:xfrm>
            <a:off x="3998880" y="1376280"/>
            <a:ext cx="4602240" cy="2463840"/>
            <a:chOff x="3998880" y="1376280"/>
            <a:chExt cx="4602240" cy="2463840"/>
          </a:xfrm>
        </p:grpSpPr>
        <p:grpSp>
          <p:nvGrpSpPr>
            <p:cNvPr id="227" name="Group 18"/>
            <p:cNvGrpSpPr/>
            <p:nvPr/>
          </p:nvGrpSpPr>
          <p:grpSpPr>
            <a:xfrm>
              <a:off x="4305240" y="1376280"/>
              <a:ext cx="4295880" cy="1904760"/>
              <a:chOff x="4305240" y="1376280"/>
              <a:chExt cx="4295880" cy="1904760"/>
            </a:xfrm>
          </p:grpSpPr>
          <p:sp>
            <p:nvSpPr>
              <p:cNvPr id="228" name="Line 19"/>
              <p:cNvSpPr/>
              <p:nvPr/>
            </p:nvSpPr>
            <p:spPr>
              <a:xfrm>
                <a:off x="4305240" y="1376280"/>
                <a:ext cx="0" cy="190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Line 20"/>
              <p:cNvSpPr/>
              <p:nvPr/>
            </p:nvSpPr>
            <p:spPr>
              <a:xfrm>
                <a:off x="4305240" y="3281040"/>
                <a:ext cx="4295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" name="Text Box 21"/>
            <p:cNvSpPr/>
            <p:nvPr/>
          </p:nvSpPr>
          <p:spPr>
            <a:xfrm>
              <a:off x="3998880" y="2008080"/>
              <a:ext cx="358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3300"/>
                  </a:solidFill>
                  <a:latin typeface="Times New Roman"/>
                </a:rPr>
                <a:t>I</a:t>
              </a:r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Text Box 22"/>
            <p:cNvSpPr/>
            <p:nvPr/>
          </p:nvSpPr>
          <p:spPr>
            <a:xfrm>
              <a:off x="5653080" y="3136680"/>
              <a:ext cx="322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Text Box 23"/>
            <p:cNvSpPr/>
            <p:nvPr/>
          </p:nvSpPr>
          <p:spPr>
            <a:xfrm>
              <a:off x="4029120" y="3082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Text Box 24"/>
          <p:cNvSpPr/>
          <p:nvPr/>
        </p:nvSpPr>
        <p:spPr>
          <a:xfrm>
            <a:off x="743760" y="400860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n the switch is closed,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25"/>
          <p:cNvSpPr/>
          <p:nvPr/>
        </p:nvSpPr>
        <p:spPr>
          <a:xfrm>
            <a:off x="825480" y="439740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ate at witch the current can rise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26"/>
          <p:cNvSpPr/>
          <p:nvPr/>
        </p:nvSpPr>
        <p:spPr>
          <a:xfrm>
            <a:off x="4157640" y="4008600"/>
            <a:ext cx="28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inductor limits the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27"/>
          <p:cNvSpPr/>
          <p:nvPr/>
        </p:nvSpPr>
        <p:spPr>
          <a:xfrm>
            <a:off x="794880" y="4878360"/>
            <a:ext cx="76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While the switch remains closed, the current is steady at a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value determined by the applied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V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and the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of the inductor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28"/>
          <p:cNvSpPr/>
          <p:nvPr/>
        </p:nvSpPr>
        <p:spPr>
          <a:xfrm>
            <a:off x="858600" y="5832360"/>
            <a:ext cx="36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When the switch is opened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29"/>
          <p:cNvSpPr/>
          <p:nvPr/>
        </p:nvSpPr>
        <p:spPr>
          <a:xfrm>
            <a:off x="880200" y="619128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the rate at which the current can fall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30"/>
          <p:cNvSpPr/>
          <p:nvPr/>
        </p:nvSpPr>
        <p:spPr>
          <a:xfrm>
            <a:off x="4325400" y="5832360"/>
            <a:ext cx="24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the inductor limit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Slide Number Placeholder 30"/>
          <p:cNvSpPr/>
          <p:nvPr/>
        </p:nvSpPr>
        <p:spPr>
          <a:xfrm>
            <a:off x="-152280" y="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 - </a:t>
            </a:r>
            <a:fld id="{29CA67E6-E71B-4122-B183-ED48535C71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25T16:03:36Z</dcterms:created>
  <dc:creator>R. J. Fowler</dc:creator>
  <dc:description/>
  <dc:language>en-US</dc:language>
  <cp:lastModifiedBy>Cathy L Tepper</cp:lastModifiedBy>
  <cp:lastPrinted>1998-08-14T14:39:47Z</cp:lastPrinted>
  <dcterms:modified xsi:type="dcterms:W3CDTF">2012-04-24T21:39:17Z</dcterms:modified>
  <cp:revision>105</cp:revision>
  <dc:subject/>
  <dc:title>No Slide Title</dc:title>
</cp:coreProperties>
</file>