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0DB0-7A96-40E8-8687-31488590E4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23C9-D1CC-4934-A64A-FBD18DDA41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A51B-89F7-41ED-AF52-F312F04332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0AD0-DED0-4EB5-938B-1CC47AB1CC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4964-A7CB-445C-A9D1-97AA4B13DB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39240"/>
            <a:ext cx="22860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000C-2B3D-4A9F-A22C-21CF6ECD20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F764-EEB6-496C-8617-7EEAE368B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FC7B-0C9E-4813-9AFA-B5C152CC42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E34C-9A00-4703-B8F5-FA97FC7F54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3ED5-A9CF-4CCF-BFFA-1A92ED3A46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A299-5C86-47F3-95AE-E93D07E4E2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168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336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168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336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92C1-677D-4184-BC88-E7A69E12B1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39240"/>
            <a:ext cx="22860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838152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CD17-C85D-4E75-83CD-4FE49C1D8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6760" y="2678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6603840"/>
            <a:ext cx="9144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6320" y="2346480"/>
            <a:ext cx="3754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pter 1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ages for Stud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onnectbrandinglogo"/>
          <p:cNvPicPr/>
          <p:nvPr/>
        </p:nvPicPr>
        <p:blipFill>
          <a:blip r:embed="rId1"/>
          <a:stretch/>
        </p:blipFill>
        <p:spPr>
          <a:xfrm>
            <a:off x="76320" y="0"/>
            <a:ext cx="2286000" cy="113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007352252X"/>
          <p:cNvPicPr/>
          <p:nvPr/>
        </p:nvPicPr>
        <p:blipFill>
          <a:blip r:embed="rId2"/>
          <a:stretch/>
        </p:blipFill>
        <p:spPr>
          <a:xfrm>
            <a:off x="3830760" y="76320"/>
            <a:ext cx="52369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ow2252X_17_10"/>
          <p:cNvPicPr/>
          <p:nvPr/>
        </p:nvPicPr>
        <p:blipFill>
          <a:blip r:embed="rId1"/>
          <a:stretch/>
        </p:blipFill>
        <p:spPr>
          <a:xfrm>
            <a:off x="782640" y="385920"/>
            <a:ext cx="7578720" cy="60861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7BBA-1719-4C88-ACA0-7B837ADF1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ow2252X_17_13"/>
          <p:cNvPicPr/>
          <p:nvPr/>
        </p:nvPicPr>
        <p:blipFill>
          <a:blip r:embed="rId1"/>
          <a:stretch/>
        </p:blipFill>
        <p:spPr>
          <a:xfrm>
            <a:off x="539640" y="547560"/>
            <a:ext cx="8016840" cy="577548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A49E-7020-4680-929C-6EFD0EC5A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ow2252X_ta17_02"/>
          <p:cNvPicPr/>
          <p:nvPr/>
        </p:nvPicPr>
        <p:blipFill>
          <a:blip r:embed="rId1"/>
          <a:stretch/>
        </p:blipFill>
        <p:spPr>
          <a:xfrm>
            <a:off x="347760" y="1230480"/>
            <a:ext cx="8448480" cy="439704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4636-0E18-4BE7-94DC-923EEBDC8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ow2252X_17_01"/>
          <p:cNvPicPr/>
          <p:nvPr/>
        </p:nvPicPr>
        <p:blipFill>
          <a:blip r:embed="rId1"/>
          <a:stretch/>
        </p:blipFill>
        <p:spPr>
          <a:xfrm>
            <a:off x="1028880" y="177840"/>
            <a:ext cx="7088040" cy="651492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C732-3B9F-418E-8E0D-0BA16943A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ow2252X_17_02"/>
          <p:cNvPicPr/>
          <p:nvPr/>
        </p:nvPicPr>
        <p:blipFill>
          <a:blip r:embed="rId1"/>
          <a:stretch/>
        </p:blipFill>
        <p:spPr>
          <a:xfrm>
            <a:off x="1409760" y="177840"/>
            <a:ext cx="6334200" cy="651492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74E3-A474-4E79-9593-A402FFD43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ow2252X_17_03"/>
          <p:cNvPicPr/>
          <p:nvPr/>
        </p:nvPicPr>
        <p:blipFill>
          <a:blip r:embed="rId1"/>
          <a:stretch/>
        </p:blipFill>
        <p:spPr>
          <a:xfrm>
            <a:off x="2133720" y="177840"/>
            <a:ext cx="4884480" cy="651492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AE27-61B6-43C2-B3D8-F27849DBA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ow2252X_ta17_01"/>
          <p:cNvPicPr/>
          <p:nvPr/>
        </p:nvPicPr>
        <p:blipFill>
          <a:blip r:embed="rId1"/>
          <a:stretch/>
        </p:blipFill>
        <p:spPr>
          <a:xfrm>
            <a:off x="347760" y="2108160"/>
            <a:ext cx="8448480" cy="264168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41BA-0780-4734-BA60-41F91B97E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ow2252X_17_06"/>
          <p:cNvPicPr/>
          <p:nvPr/>
        </p:nvPicPr>
        <p:blipFill>
          <a:blip r:embed="rId1"/>
          <a:stretch/>
        </p:blipFill>
        <p:spPr>
          <a:xfrm>
            <a:off x="1587600" y="177840"/>
            <a:ext cx="5959440" cy="651492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A2A3-98FE-41E3-A4FE-2559E16B8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ow2252X_17_08"/>
          <p:cNvPicPr/>
          <p:nvPr/>
        </p:nvPicPr>
        <p:blipFill>
          <a:blip r:embed="rId1"/>
          <a:stretch/>
        </p:blipFill>
        <p:spPr>
          <a:xfrm>
            <a:off x="395280" y="442800"/>
            <a:ext cx="8362800" cy="598500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01BC-D1AC-43EE-B791-6668C2CB9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ow2252X_bx17_02"/>
          <p:cNvPicPr/>
          <p:nvPr/>
        </p:nvPicPr>
        <p:blipFill>
          <a:blip r:embed="rId1"/>
          <a:stretch/>
        </p:blipFill>
        <p:spPr>
          <a:xfrm>
            <a:off x="770040" y="552600"/>
            <a:ext cx="7603920" cy="575280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079F-FFFD-43B9-93C6-1FB2D6185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cow2252X_17_09"/>
          <p:cNvPicPr/>
          <p:nvPr/>
        </p:nvPicPr>
        <p:blipFill>
          <a:blip r:embed="rId1"/>
          <a:stretch/>
        </p:blipFill>
        <p:spPr>
          <a:xfrm>
            <a:off x="228600" y="1397160"/>
            <a:ext cx="8686800" cy="406548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CF50-6A23-4222-A4C0-FCA688F64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09:57:34Z</dcterms:created>
  <dc:creator>laser</dc:creator>
  <dc:description/>
  <dc:language>en-US</dc:language>
  <cp:lastModifiedBy>Laser</cp:lastModifiedBy>
  <dcterms:modified xsi:type="dcterms:W3CDTF">2010-12-23T15:17:18Z</dcterms:modified>
  <cp:revision>38</cp:revision>
  <dc:subject/>
  <dc:title>Slide 1</dc:title>
</cp:coreProperties>
</file>