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5518-2F9F-4B09-856E-92AA8C4A05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E092-02CB-4F21-8270-F39360A228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619A-A1DE-43B4-AAD8-7806B1BEEB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8313-73B9-4C65-AB23-28E61F36BC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FEC03-2C5B-41A1-8F03-BEB88A584D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39240"/>
            <a:ext cx="22860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6647-E26C-4B6A-BE5B-8FEFE50919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A83E-572E-468D-830F-3780BB9CE3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29C0F-5A95-4B48-8536-0E2B371B7A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8DBD-7484-4BE2-949C-D6F8769E5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5DE7-DB71-4A73-A4D8-613D2EF426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4BFE-6D7C-4254-BAD7-45CE601A85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168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83360" y="25704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168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183360" y="3705120"/>
            <a:ext cx="294408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83B3-902C-41EA-BD6C-709B01B6F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39240"/>
            <a:ext cx="22860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70512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16560"/>
            <a:ext cx="228600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257040"/>
            <a:ext cx="44622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705120"/>
            <a:ext cx="9144000" cy="314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0" y="257040"/>
            <a:ext cx="914400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38152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08F7-1823-4B9B-8DAF-596609E37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6760" y="2678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6603840"/>
            <a:ext cx="91440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76320" y="2346480"/>
            <a:ext cx="3754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17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mages for Stud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onnectbrandinglogo"/>
          <p:cNvPicPr/>
          <p:nvPr/>
        </p:nvPicPr>
        <p:blipFill>
          <a:blip r:embed="rId1"/>
          <a:stretch/>
        </p:blipFill>
        <p:spPr>
          <a:xfrm>
            <a:off x="76320" y="0"/>
            <a:ext cx="2286000" cy="113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007352252X"/>
          <p:cNvPicPr/>
          <p:nvPr/>
        </p:nvPicPr>
        <p:blipFill>
          <a:blip r:embed="rId2"/>
          <a:stretch/>
        </p:blipFill>
        <p:spPr>
          <a:xfrm>
            <a:off x="3830760" y="76320"/>
            <a:ext cx="52369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ow2252X_17_10"/>
          <p:cNvPicPr/>
          <p:nvPr/>
        </p:nvPicPr>
        <p:blipFill>
          <a:blip r:embed="rId1"/>
          <a:stretch/>
        </p:blipFill>
        <p:spPr>
          <a:xfrm>
            <a:off x="782640" y="385920"/>
            <a:ext cx="7578720" cy="60861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B3B2-1722-4AA7-8D97-076B16BCE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ow2252X_17_13"/>
          <p:cNvPicPr/>
          <p:nvPr/>
        </p:nvPicPr>
        <p:blipFill>
          <a:blip r:embed="rId1"/>
          <a:stretch/>
        </p:blipFill>
        <p:spPr>
          <a:xfrm>
            <a:off x="539640" y="547560"/>
            <a:ext cx="8016840" cy="5775480"/>
          </a:xfrm>
          <a:prstGeom prst="rect">
            <a:avLst/>
          </a:prstGeom>
          <a:ln w="0">
            <a:noFill/>
          </a:ln>
        </p:spPr>
      </p:pic>
      <p:sp>
        <p:nvSpPr>
          <p:cNvPr id="111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9E27-DFE3-4A7B-8069-A58A49FD4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cow2252X_ta17_02"/>
          <p:cNvPicPr/>
          <p:nvPr/>
        </p:nvPicPr>
        <p:blipFill>
          <a:blip r:embed="rId1"/>
          <a:stretch/>
        </p:blipFill>
        <p:spPr>
          <a:xfrm>
            <a:off x="347760" y="1230480"/>
            <a:ext cx="8448480" cy="4397040"/>
          </a:xfrm>
          <a:prstGeom prst="rect">
            <a:avLst/>
          </a:prstGeom>
          <a:ln w="0">
            <a:noFill/>
          </a:ln>
        </p:spPr>
      </p:pic>
      <p:sp>
        <p:nvSpPr>
          <p:cNvPr id="114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A247-D373-4B4E-82CB-1BCB65847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ow2252X_17_01"/>
          <p:cNvPicPr/>
          <p:nvPr/>
        </p:nvPicPr>
        <p:blipFill>
          <a:blip r:embed="rId1"/>
          <a:stretch/>
        </p:blipFill>
        <p:spPr>
          <a:xfrm>
            <a:off x="1028880" y="177840"/>
            <a:ext cx="7088040" cy="651492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1243-0543-4806-9D53-737743619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ow2252X_17_02"/>
          <p:cNvPicPr/>
          <p:nvPr/>
        </p:nvPicPr>
        <p:blipFill>
          <a:blip r:embed="rId1"/>
          <a:stretch/>
        </p:blipFill>
        <p:spPr>
          <a:xfrm>
            <a:off x="1409760" y="177840"/>
            <a:ext cx="6334200" cy="651492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D7C2-EAC4-47BC-9743-D3CA7DEC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cow2252X_17_03"/>
          <p:cNvPicPr/>
          <p:nvPr/>
        </p:nvPicPr>
        <p:blipFill>
          <a:blip r:embed="rId1"/>
          <a:stretch/>
        </p:blipFill>
        <p:spPr>
          <a:xfrm>
            <a:off x="2133720" y="177840"/>
            <a:ext cx="4884480" cy="6514920"/>
          </a:xfrm>
          <a:prstGeom prst="rect">
            <a:avLst/>
          </a:prstGeom>
          <a:ln w="0">
            <a:noFill/>
          </a:ln>
        </p:spPr>
      </p:pic>
      <p:sp>
        <p:nvSpPr>
          <p:cNvPr id="90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429A-295E-4311-9417-293C3CFAA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cow2252X_ta17_01"/>
          <p:cNvPicPr/>
          <p:nvPr/>
        </p:nvPicPr>
        <p:blipFill>
          <a:blip r:embed="rId1"/>
          <a:stretch/>
        </p:blipFill>
        <p:spPr>
          <a:xfrm>
            <a:off x="347760" y="2108160"/>
            <a:ext cx="8448480" cy="2641680"/>
          </a:xfrm>
          <a:prstGeom prst="rect">
            <a:avLst/>
          </a:prstGeom>
          <a:ln w="0">
            <a:noFill/>
          </a:ln>
        </p:spPr>
      </p:pic>
      <p:sp>
        <p:nvSpPr>
          <p:cNvPr id="93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443F-FF82-4D20-9146-466391D3F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cow2252X_17_06"/>
          <p:cNvPicPr/>
          <p:nvPr/>
        </p:nvPicPr>
        <p:blipFill>
          <a:blip r:embed="rId1"/>
          <a:stretch/>
        </p:blipFill>
        <p:spPr>
          <a:xfrm>
            <a:off x="1587600" y="177840"/>
            <a:ext cx="5959440" cy="65149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ADB5-739C-4258-9403-5FF429F13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ow2252X_17_08"/>
          <p:cNvPicPr/>
          <p:nvPr/>
        </p:nvPicPr>
        <p:blipFill>
          <a:blip r:embed="rId1"/>
          <a:stretch/>
        </p:blipFill>
        <p:spPr>
          <a:xfrm>
            <a:off x="395280" y="442800"/>
            <a:ext cx="8362800" cy="598500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D4C7-DF00-4782-B3B8-FCE86DB3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ow2252X_bx17_02"/>
          <p:cNvPicPr/>
          <p:nvPr/>
        </p:nvPicPr>
        <p:blipFill>
          <a:blip r:embed="rId1"/>
          <a:stretch/>
        </p:blipFill>
        <p:spPr>
          <a:xfrm>
            <a:off x="770040" y="552600"/>
            <a:ext cx="7603920" cy="5752800"/>
          </a:xfrm>
          <a:prstGeom prst="rect">
            <a:avLst/>
          </a:prstGeom>
          <a:ln w="0">
            <a:noFill/>
          </a:ln>
        </p:spPr>
      </p:pic>
      <p:sp>
        <p:nvSpPr>
          <p:cNvPr id="102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3BCD-C972-4029-AAF8-D06283020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92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17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cow2252X_17_09"/>
          <p:cNvPicPr/>
          <p:nvPr/>
        </p:nvPicPr>
        <p:blipFill>
          <a:blip r:embed="rId1"/>
          <a:stretch/>
        </p:blipFill>
        <p:spPr>
          <a:xfrm>
            <a:off x="228600" y="1397160"/>
            <a:ext cx="8686800" cy="40654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8381880" y="647712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1C4-A1F4-4667-AED7-75982048C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09:57:34Z</dcterms:created>
  <dc:creator>laser</dc:creator>
  <dc:description/>
  <dc:language>en-US</dc:language>
  <cp:lastModifiedBy>Laser</cp:lastModifiedBy>
  <dcterms:modified xsi:type="dcterms:W3CDTF">2010-12-23T15:17:18Z</dcterms:modified>
  <cp:revision>38</cp:revision>
  <dc:subject/>
  <dc:title>Slide 1</dc:title>
</cp:coreProperties>
</file>