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B59-2A48-496C-B91B-5308F81E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635-8AC3-4343-AC10-79864BC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B1C-D518-401C-8200-B8082028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3C5-256D-4002-8EC3-A6656796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C4C-417C-473A-A9CF-133D4845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570-A3F9-403D-BD04-366841A2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CC6-75AE-41B9-9C29-CA1B6C9F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E3B-E6FD-4774-8B69-4CEA596F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689-36C9-40D3-B6C0-AE0A1485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223-E1BA-4059-A1EC-B293137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AA0-F4EC-4C49-930B-D0958C4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A1F-5DA8-4C6D-9BF3-64F5954D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B745-FE8B-4255-A1A6-D761DAA67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property of a material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pecific he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Heat capa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eat of fu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eat of combus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represents the largest transfer of hea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600 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 B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7 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200 ft *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liquid freezes, 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volves hea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bsorbs hea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ecreases in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sublim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given substance, which of the following processes transfers the largest amount of thermal energy per unit of ma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u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apor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reez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Subli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9810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 Btu is based on the pound, its magnitude depends on the acceleration due to grav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tu is a larger unit of heat than the kilocalori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cific heat of any material is the same numerically in either the metric or British system of un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t mass of water will absorb a larger quantity of heat per degree change in temperature than any other common sub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emperature is a measure of the average kinetic energy per molecule, the absorption or emission of thermal energy is always accompanied by a change in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than 5 times the thermal energy is required to vaporize 1 g of water than is required to melt 1 g of i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bjects that have the same heat capacity must be made of the same materi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eat lost is equal to the heat gained unless a change of phase occu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03:03Z</dcterms:created>
  <dc:creator>User</dc:creator>
  <dc:description/>
  <dc:language>en-US</dc:language>
  <cp:lastModifiedBy>cynthia_ecklor</cp:lastModifiedBy>
  <dcterms:modified xsi:type="dcterms:W3CDTF">2005-12-14T19:24:06Z</dcterms:modified>
  <cp:revision>2</cp:revision>
  <dc:subject/>
  <dc:title>Tippens Physics 7th Edition   Chapter 17</dc:title>
</cp:coreProperties>
</file>