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9972-403F-4762-BC74-E9673F996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6EDF-B946-411C-85D7-533DB900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86B2-94D8-4AE2-8354-5E654B3EC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D66D-A1B8-448F-8124-C71CDB095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F0DA-8D47-4998-8444-170BC0AF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4009-97DB-4D50-9F9D-43856427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1934-28F3-4DC7-A198-16CD102E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DF40-1FD9-4FAD-B1D4-6CC32A2B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90DF-405B-41D3-9E9E-10BE7A5D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FA7D-68C8-4438-8F09-7A6B94DE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6E1E-E2EE-4A6C-9B2E-73BB72C2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13C6-0855-4167-80EE-5D7D989D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FE4A-7C3D-49A9-A422-F2A2773B5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urface of any conductor is an equipotential surfa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a negative charge is moved from a point of low potential to a point of high potential, its potential energ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increas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decreas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stays the sam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increases and then decreas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otential energy at a given point is independent of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work required to bring a charge to that poi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electric fiel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path taken to reach that poi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magnitude of a charge at that poi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vicinity of a negative charge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he potential is always negativ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the potential energy is always negativ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the potential energy is always positiv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the potential is always positiv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 following represents a unit of energy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V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N/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J/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eV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illikan oil-drop experiment was used primarily to determine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mass of an electr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charge of an electr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electron charge to mass rati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density of oi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1981080"/>
            <a:ext cx="2895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lectric potential energy is positive in the vicinity of a positive charge and negative in the vicinity of a negative charg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ic potential at a point is a property of the space, whereas electric potential energy cannot exist unless a charge is placed at that poi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ever a negative charge is moved from a point of high potential to a point of low potential, its potential energy is increas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lectric potential in the vicinity of a number of charges is equal to the algebraic sum of the potentials due to each charg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negative potential means that the electric field will hold on to positive charge, and work must be done by an external agent to remove i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potential is zero at a point, the electric field also must be zero at that poi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lectric field between two oppositely charged plates is equal to the product of the voltage and the plate separ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lectronvolt is a unit of potential differe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20:01:26Z</dcterms:created>
  <dc:creator>User</dc:creator>
  <dc:description/>
  <dc:language>en-US</dc:language>
  <cp:lastModifiedBy>cynthia_ecklor</cp:lastModifiedBy>
  <dcterms:modified xsi:type="dcterms:W3CDTF">2005-12-14T19:28:42Z</dcterms:modified>
  <cp:revision>2</cp:revision>
  <dc:subject/>
  <dc:title>Tippens Physics 7th Edition   Chapter 25</dc:title>
</cp:coreProperties>
</file>