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C632F2-A91D-48ED-9CBF-B55594F075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89DEB-4388-4A47-8174-F7FA7F933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E76DCC-2C8C-4B15-BCB8-A54CF04CBA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ACD79E-D85C-4E42-9A4F-D105B6D3B1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02C01-5BDD-4436-BB89-1A511FD4C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33FA9-D81E-48CD-80D0-64BBC2133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50FD9-04EC-413F-B1A8-458137071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E587B-F4CE-4962-9CCA-EA3121D09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CBAFC-153B-4261-9179-53290EFDE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52982-A4F9-4DE4-A18E-733D69666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6B993-F3EB-4852-8550-CB2801AE8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5F414-337C-4CE1-A58D-C414E58805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title text format</a:t>
            </a:r>
            <a:endParaRPr b="0" lang="en-US" sz="2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343080" indent="-343080">
              <a:spcBef>
                <a:spcPts val="499"/>
              </a:spcBef>
              <a:spcAft>
                <a:spcPts val="4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343080" indent="-343080">
              <a:spcBef>
                <a:spcPts val="499"/>
              </a:spcBef>
              <a:spcAft>
                <a:spcPts val="4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343080" indent="-343080">
              <a:spcBef>
                <a:spcPts val="499"/>
              </a:spcBef>
              <a:spcAft>
                <a:spcPts val="4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343080" indent="-343080">
              <a:spcBef>
                <a:spcPts val="499"/>
              </a:spcBef>
              <a:spcAft>
                <a:spcPts val="4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343080" indent="-343080">
              <a:spcBef>
                <a:spcPts val="499"/>
              </a:spcBef>
              <a:spcAft>
                <a:spcPts val="4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343080" indent="-343080">
              <a:spcBef>
                <a:spcPts val="499"/>
              </a:spcBef>
              <a:spcAft>
                <a:spcPts val="4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DF075-33E0-4D6F-BABC-504A866DA0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525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Pr>
              <a:t>Tippens</a:t>
            </a:r>
            <a:br>
              <a:rPr sz="4800"/>
            </a:br>
            <a:r>
              <a:rPr b="0" lang="en-US" sz="2800" spc="-1" strike="noStrike">
                <a:solidFill>
                  <a:srgbClr val="000000"/>
                </a:solidFill>
                <a:latin typeface="Times New Roman"/>
                <a:ea typeface="Times New Roman"/>
              </a:rPr>
              <a:t>Physics</a:t>
            </a:r>
            <a:br>
              <a:rPr sz="2800"/>
            </a:br>
            <a:r>
              <a:rPr b="0" lang="en-US" sz="2800" spc="-1" strike="noStrike">
                <a:solidFill>
                  <a:srgbClr val="000000"/>
                </a:solidFill>
                <a:latin typeface="Times New Roman"/>
                <a:ea typeface="Times New Roman"/>
              </a:rPr>
              <a:t>7th Edition</a:t>
            </a:r>
            <a:br>
              <a:rPr sz="2800"/>
            </a:br>
            <a:r>
              <a:rPr b="0" lang="en-US" sz="2800" spc="-1" strike="noStrike">
                <a:solidFill>
                  <a:srgbClr val="000000"/>
                </a:solidFill>
                <a:latin typeface="Times New Roman"/>
                <a:ea typeface="Times New Roman"/>
              </a:rPr>
              <a:t> </a:t>
            </a:r>
            <a:br>
              <a:rPr sz="2800"/>
            </a:br>
            <a:r>
              <a:rPr b="0" lang="en-US" sz="2400" spc="-1" strike="noStrike">
                <a:solidFill>
                  <a:srgbClr val="000000"/>
                </a:solidFill>
                <a:latin typeface="Times New Roman"/>
                <a:ea typeface="Times New Roman"/>
              </a:rPr>
              <a:t>Chapter 35</a:t>
            </a:r>
            <a:endParaRPr b="0" lang="en-US" sz="2400" spc="-1" strike="noStrike">
              <a:solidFill>
                <a:srgbClr val="000000"/>
              </a:solidFill>
              <a:latin typeface="Times New Roman"/>
            </a:endParaRPr>
          </a:p>
        </p:txBody>
      </p:sp>
      <p:sp>
        <p:nvSpPr>
          <p:cNvPr id="42" name=""/>
          <p:cNvSpPr/>
          <p:nvPr/>
        </p:nvSpPr>
        <p:spPr>
          <a:xfrm>
            <a:off x="1828800" y="6527880"/>
            <a:ext cx="5656320" cy="255600"/>
          </a:xfrm>
          <a:prstGeom prst="rect">
            <a:avLst/>
          </a:prstGeom>
          <a:noFill/>
          <a:ln w="0">
            <a:noFill/>
          </a:ln>
        </p:spPr>
        <p:style>
          <a:lnRef idx="0"/>
          <a:fillRef idx="0"/>
          <a:effectRef idx="0"/>
          <a:fontRef idx="minor"/>
        </p:style>
        <p:txBody>
          <a:bodyPr lIns="102960" rIns="102960" tIns="51480" bIns="51480" anchor="t">
            <a:spAutoFit/>
          </a:bodyPr>
          <a:p>
            <a:pPr>
              <a:lnSpc>
                <a:spcPct val="100000"/>
              </a:lnSpc>
              <a:spcBef>
                <a:spcPts val="624"/>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Copyright </a:t>
            </a:r>
            <a:r>
              <a:rPr b="0" lang="en-US" sz="1000" spc="-1" strike="noStrike">
                <a:solidFill>
                  <a:srgbClr val="000000"/>
                </a:solidFill>
                <a:latin typeface="Arial"/>
                <a:ea typeface="Times New Roman"/>
              </a:rPr>
              <a:t>© </a:t>
            </a:r>
            <a:r>
              <a:rPr b="0" lang="en-US" sz="1000" spc="-1" strike="noStrike">
                <a:solidFill>
                  <a:srgbClr val="000000"/>
                </a:solidFill>
                <a:latin typeface="Arial"/>
              </a:rPr>
              <a:t>The McGraw-Hill Companies, Inc. Permission required for reproduction or display.</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9</a:t>
            </a:r>
            <a:endParaRPr b="0" lang="en-US" sz="28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index of refraction for a substance is</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constant.</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constant for a given wavelength.</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variable with the speed of light.</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 never constan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10</a:t>
            </a:r>
            <a:endParaRPr b="0" lang="en-US" sz="28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ochromatic green light has a wavelength of 520 nm. The wavelength of this light inside glass of refractive index 1.5 is approximately</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300 nm.</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340 nm.</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520 nm.</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 780 nm.</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11</a:t>
            </a:r>
            <a:endParaRPr b="0" lang="en-US" sz="28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ish is located 2 m from the surface of a small pond. The apparent depth is</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1.0 m.</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1.5 m.</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2.0 m.</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 2.66 m.</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swer Key</a:t>
            </a:r>
            <a:endParaRPr b="0" lang="en-US" sz="4000" spc="-1" strike="noStrike">
              <a:solidFill>
                <a:srgbClr val="000000"/>
              </a:solidFill>
              <a:latin typeface="Times New Roman"/>
            </a:endParaRPr>
          </a:p>
        </p:txBody>
      </p:sp>
      <p:sp>
        <p:nvSpPr>
          <p:cNvPr id="66" name=""/>
          <p:cNvSpPr/>
          <p:nvPr/>
        </p:nvSpPr>
        <p:spPr>
          <a:xfrm>
            <a:off x="914400" y="1981080"/>
            <a:ext cx="36576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B</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 B</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8.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9. B</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0. B</a:t>
            </a:r>
            <a:endParaRPr b="0" lang="en-US" sz="2800" spc="-1" strike="noStrike">
              <a:solidFill>
                <a:srgbClr val="000000"/>
              </a:solidFill>
              <a:latin typeface="Times New Roman"/>
            </a:endParaRPr>
          </a:p>
        </p:txBody>
      </p:sp>
      <p:sp>
        <p:nvSpPr>
          <p:cNvPr id="67" name=""/>
          <p:cNvSpPr/>
          <p:nvPr/>
        </p:nvSpPr>
        <p:spPr>
          <a:xfrm>
            <a:off x="5181480" y="1981080"/>
            <a:ext cx="2895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1. 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1</a:t>
            </a:r>
            <a:endParaRPr b="0" lang="en-US" sz="28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en light enters from a medium of lower refractive index into a medium of larger refractive index, the path of the light bends toward the normal.</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2</a:t>
            </a:r>
            <a:endParaRPr b="0" lang="en-US" sz="28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jects of higher optical density have greater critical angles.</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3</a:t>
            </a:r>
            <a:endParaRPr b="0" lang="en-US" sz="28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en white light is dispersed by a prism, the smaller-wavelength components are deviated the most.</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4</a:t>
            </a:r>
            <a:endParaRPr b="0" lang="en-US" sz="28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total internal reflection, the angle of incidence is equal to the angle of reflection.</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5</a:t>
            </a:r>
            <a:endParaRPr b="0" lang="en-US" sz="28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en an object in air is viewed from a position under water, the object appears to be farther away than it actually is.</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6</a:t>
            </a:r>
            <a:endParaRPr b="0" lang="en-US" sz="28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enever light enters a denser medium, both the velocity and frequency of the light are reduced.</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7</a:t>
            </a:r>
            <a:endParaRPr b="0" lang="en-US" sz="28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enever light passes through any number of parallel media and finally returns to the original medium, the angle of incidence in the original medium is equal to the angle of emergenc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8</a:t>
            </a:r>
            <a:endParaRPr b="0" lang="en-US" sz="28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laterial displacement of light as it passes through a pane of glass is greater when the optical density of the glass is larg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8T21:26:51Z</dcterms:created>
  <dc:creator>User</dc:creator>
  <dc:description/>
  <dc:language>en-US</dc:language>
  <cp:lastModifiedBy>cynthia_ecklor</cp:lastModifiedBy>
  <dcterms:modified xsi:type="dcterms:W3CDTF">2005-12-14T19:33:49Z</dcterms:modified>
  <cp:revision>2</cp:revision>
  <dc:subject/>
  <dc:title>Tippens Physics 7th Edition   Chapter 35</dc:title>
</cp:coreProperties>
</file>