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A49-F3CC-455A-B31F-AB304A65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C9E6-D010-4DB3-BA79-507EFB93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552-A0BE-4038-821C-5BCE36A8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BCFE-83C9-4A6B-B5D4-7FD60960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E48-398B-4DC7-AC16-5448E10B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11E-217C-4103-9450-5FCD7CB3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791-70F4-4465-B36A-81A1FD9D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041-48D5-4C9E-B5DA-283B2D38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264-6CF3-46E8-A205-00BF9985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F325-71CC-456F-B6B4-D21585B9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03A0-071F-4458-AE86-A0E43AC8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091-60A0-4811-9219-455FBF89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56C1-AB13-4C96-A3F0-7D7380F5F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possible for ice to be in thermal equilibrium with boiling wa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ame mass of any ideal gas will occupy the same volume at standard temperature and press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yle's law states that, when other parameters are held constant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pressure varies directly with volu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pressure varies directly with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pressure varies inversely with volu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volume varies directly with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mount of water contained in the air of a given room is described most accurately by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bsolute humid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relative humid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vapor press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ew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possible for a substance to coexist in all three of its phases in equilibrium when the substance is at i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critical press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ritical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riple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ew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a temperature of 273 K and a pressure of 1 atm, 1 mol of any gas will occupy a volu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of 1 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of 22.4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equal to its molecular ma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of 22.4 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198108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d that the mass and temperature of an ideal gas are maintained constant, the volume of a gas is directly proportional to its absolute press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mass and volume of a gas remain constant, doubling the pressure will also double the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ss of a single molecule of a substance is known as its molecular ma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a temperature of 273 K and a pressure of 1 atm, 1 mol of any gas will occupy a volume of 22.4 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absolute temperatures and absolute pressures can be used in applying the general gas law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relative humidities inside and outside the house are the same, the dew points must also be the s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aturated vapor pressure for a substance is greater at higher temperatur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forms of vaporization are cooling proces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9:19:06Z</dcterms:created>
  <dc:creator>User</dc:creator>
  <dc:description/>
  <dc:language>en-US</dc:language>
  <cp:lastModifiedBy>cynthia_ecklor</cp:lastModifiedBy>
  <dcterms:modified xsi:type="dcterms:W3CDTF">2005-12-14T19:25:24Z</dcterms:modified>
  <cp:revision>2</cp:revision>
  <dc:subject/>
  <dc:title>Tippens Physics 7th Edition   Chapter 19</dc:title>
</cp:coreProperties>
</file>