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A869-6D16-46B2-A557-CE5419DB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649-579A-4699-A287-45AB8AD4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6C4E-5FD5-437B-8F7A-E90861D0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5828-F28A-40C2-8FA0-E1B1CA79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DCC-85DB-4A4C-89DF-F34D619F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0BBA-EBF8-40C9-8816-691984B6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62F-D64B-4283-976F-C7E65DEA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6F1C-6E1E-465E-8D8A-4B5F0EC6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D7BD-0269-4715-A905-A4346668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94F5-9149-4A9D-85BD-49FB16C0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659-03F0-4787-A43D-E653BE50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AFAD-149F-480B-A317-746FFD83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FE6D-6FB0-485F-97E9-541047AB0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unction of the moderator in a nuclear reactor is to slow down the nuclear fission process and thereby control the release of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otopes are atoms that have the sa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number of neutr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tomic numb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number of nucle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tomic ma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ocess by which a nucleus with a large mass number splits into lighter nuclei is call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fi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u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lpha deca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beta deca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wo light nuclei are fused in a nuclear reaction, the average energy per nucle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n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remains the sa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de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cannot be determin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nuclear reactor, which of the following is used to slow down the fast neutrons released in the fission proces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Modera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Control r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Radiation shield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Heat exchang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198108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iameter of an atom is approximately 10,000 times the diameter of its nucleu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ifference between the mass number of an isotope and its atomic number is equal to the number of nucleons in the nucleu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lement may have more than one mass number, but the mass number for a stable isotope is fix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adioactive half-life of a substance is one-half of the time required for all the unstable atoms in that substance to deca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lpha decay, the mass number of an unstable isotope is reduced by 4 and the atomic number is reduced by 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inding energy of an element is equivalent to the product of the mass defect and the square of the velocity 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balanced nuclear equation, the sum of the atomic numbers and the sum of the mass numbers must be the same on both sides of the nuclear equ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nuclear fission energy is emitted, whereas in nuclear fusion energy is absorb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1:32:38Z</dcterms:created>
  <dc:creator>User</dc:creator>
  <dc:description/>
  <dc:language>en-US</dc:language>
  <cp:lastModifiedBy>cynthia_ecklor</cp:lastModifiedBy>
  <dcterms:modified xsi:type="dcterms:W3CDTF">2005-12-14T19:35:37Z</dcterms:modified>
  <cp:revision>2</cp:revision>
  <dc:subject/>
  <dc:title>Tippens Physics 7th Edition   Chapter 39</dc:title>
</cp:coreProperties>
</file>