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C06B-12E5-4B6E-9AF4-ABF15AD2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049E-BD05-4643-A5EE-EF82ABF8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42B-AC32-4B16-9955-5E93CB8E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189A-62C1-43D4-A049-21FB4E02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59CD-D6BE-4835-B646-04FE6EFC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1CD-3BE2-4682-A40A-6358B069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A0A-B609-459A-86A4-3DE15D87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D1D-60F8-485A-ABC9-8B9174B7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B75-EA04-42C1-91B0-3DA01EDC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7260-EB7E-49AA-B890-28F24C0A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F75-699E-49A7-A912-E8498FE6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F06-D7D6-4E88-A1DE-87015C2C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B070-4C77-4616-B78D-35CE3949A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ing the angular speed of a rotating body will not cause an increase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rotational kinetic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ngular moment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he momentum of inerti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linear spe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would not necessarily cause angular acceleration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Change in frequen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hange in angular displace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Change in angular veloc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Change in linear spe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oint on the edge of a rotating disk of radius 8 m moves through an angle of 2 rad. The length of the arc described by the point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0.25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6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4 ra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frequency is 2 rev/s, the angular speed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 p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 p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p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4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lywheel increases its angular speed from 4 to 12 rad/s in 4 s. Its angular acceleration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3 rad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2 rad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 rad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 rad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ircular disk has a moment of inertia of 2 kg * m? and a rotational kinetic energy of 400 J. The angular speed must be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00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40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00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0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objects has the largest moment of inertia, assuming they all have the same mass and the same radiu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A solid sphe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 solid dis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 circular hoo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 solid cylin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ircular grinding disk of radius 0.5 ft has a moment of inertia of 16 slug * ft? and is rotating at 600 rpm. The frictional force applied to the edge of the disk, to stop the wheel in 10 s,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01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0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02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32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wheel with angular momentum of 10 kg * m/s has a moment of inertia equal to 0.5 kg * m. Its angular velocity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0 rad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0 rad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5 rad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5 rad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1981080"/>
            <a:ext cx="289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sum of the external torques acting on a body or system of bodies is zero, the angular momentum is also zer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ular frequency and angular velocity are representations of the same physical qua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angular acceleration and tangential acceleration represent a rate of change in angular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otational kinetic energy of an object on a rotating platform decreases as the object moves toward the center of rot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rque is the rotational analog of linear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sultant torque will produce an angular acceleration directly proportional to the applied torque and inversely proportional to the total mass of the obj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gular impulse is equal to a change in rotational kinetic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rotating rigid body, the ratio of linear speed to angular speed is equal to the radius of revolu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50:43Z</dcterms:created>
  <dc:creator>User</dc:creator>
  <dc:description/>
  <dc:language>en-US</dc:language>
  <cp:lastModifiedBy>cynthia_ecklor</cp:lastModifiedBy>
  <dcterms:modified xsi:type="dcterms:W3CDTF">2005-12-14T19:20:53Z</dcterms:modified>
  <cp:revision>2</cp:revision>
  <dc:subject/>
  <dc:title>Tippens Physics 7th Edition   Chapter 11</dc:title>
</cp:coreProperties>
</file>