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262-FC18-41EB-921D-0CFAB0EC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58A-2D47-4BEE-BBDE-F1DE33E1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EE2-7658-4EED-930F-27E30428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20C-2CE3-4BA2-B064-3DA230C3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19F-5A25-4423-B99B-4F81F829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FD6-4350-421F-8796-679745B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9F5-3A10-4C05-96F5-28C5D42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1EE-EA11-40D7-ACE7-B661BC9A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E27-7790-4F50-8095-06401D1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EED-3891-4C43-8C36-4101DD3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B60-371A-4352-B00D-A2FDB75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A1E-28C5-4028-9095-DE139EE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4F7A-B434-44B7-B564-F8985EC3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ust be a high-resistance instrume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olt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m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o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Galvano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nimum range of a given ammeter is determined by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alue of the shunt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alue of the multiplie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load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esistance and spring tension in the galvanometer el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nge of a dc voltmeter can be increased b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ing the circuit load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creasing the multiplie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creasing the multiplie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lacing a shunt resistance across the voltmeter termin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1981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nsitivity of a galvanometer is determined entirely by its electric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orizontal current loop that is parallel with a magnetic field directed from right to left will experience a counterclockwise torque if the loop current is counterclockwise when viewed from the t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al magnetic field for galvanometer helps to ensure that the pointer deflection will be directly proportional to the current in the coi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ing a low-resistance wire across the terminals of an ammeter will decrease the range of currents that can be measu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the multiplier resistance for a voltmeter will increase the range of the volt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tmeters must be connected in parallel because of the low multiplier resistance that would short-circuit the circuit if it were placed in ser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per insertion of an ammeter or a voltmeter into a circuit will alter the current in that circuit slightly, introducing some err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rque output by a simple dc motor is not unifo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7:18Z</dcterms:created>
  <dc:creator>User</dc:creator>
  <dc:description/>
  <dc:language>en-US</dc:language>
  <cp:lastModifiedBy>cynthia_ecklor</cp:lastModifiedBy>
  <dcterms:modified xsi:type="dcterms:W3CDTF">2005-12-14T19:31:17Z</dcterms:modified>
  <cp:revision>2</cp:revision>
  <dc:subject/>
  <dc:title>Tippens Physics 7th Edition   Chapter 30</dc:title>
</cp:coreProperties>
</file>