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501-EB91-4A50-9942-D0A72B5A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414-B817-417C-95D3-430546D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464-B3C1-4E27-89F9-5280E870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22E-2156-4904-B725-2C390894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F58-0687-41E5-AF56-DDE0092E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311-F2F3-4232-AD68-52E78AD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365-4E23-4D32-9513-58B940A9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D61-C67C-4ABB-9D1A-84A25754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B12-F784-42D3-8F55-BBC1CF40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B19-D5DF-4B1D-9027-85D0339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9D5-F3FE-4A08-BA30-B5CF3C19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C1D-8AA7-4DA9-B4CB-59772FFC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2E9C-7829-4823-91C2-356C7149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convention, negative work means that the direction of the work is downward or to the le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necessary for work to be don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n applied fo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force component along the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constant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unit of work or energ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ewton-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Jo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ot-pound per seco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Kilowatt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rgest unit of power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kilowat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wat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ot-pound per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rsepow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rce of 20 N moves a 10-kg block through a distance of 400 cm. The work done by the 20-N for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0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80,0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N *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-kg block is lifted 20 m above the ground in a gravitational field. The work done by the fiel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osi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qual to the final potenti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vector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Question 15, the gravitational potential energy of the block after it has been lifted 20 m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96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96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196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-hp motor will lift a 200-lb block to what height in 2 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01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727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0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.5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-kg ball has a potential energy of 6400 J at a point A above the ground. What will its velocity be when it strikes the ground after being released from point 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0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8.3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400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ullet whose initial kinetic energy is 400 J strikes a block where an 8000-N resistive force brings it to a stop. The depth of penetration into the wood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unknown for lack of inform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2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bsence of friction, air resistance, or other dissipative forces, the total kinetic energy remain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1981080"/>
            <a:ext cx="2895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tal energy of a system of bodies in isolation may be defined as the sum of the individual kinetic and potential energ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moving bodies possess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k of a resultant force on a body is equal to the change in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a body falls, its potential energy increases with its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-hp engine will do work at a faster rate than a 1-kW engi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watthour is a unit of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consider friction, the potential energy at the top of an inclined plane is less than it would be in the absence of fri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4:53Z</dcterms:created>
  <dc:creator>User</dc:creator>
  <dc:description/>
  <dc:language>en-US</dc:language>
  <cp:lastModifiedBy>cynthia_ecklor</cp:lastModifiedBy>
  <dcterms:modified xsi:type="dcterms:W3CDTF">2005-12-14T19:16:13Z</dcterms:modified>
  <cp:revision>2</cp:revision>
  <dc:subject/>
  <dc:title>Tippens Physics 7th Edition   Chapter 8</dc:title>
</cp:coreProperties>
</file>