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90E-2600-4235-AF8A-6A1574F2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A4B-0455-4B43-B502-1A3E8731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E8F-ACE6-4673-9FA5-2285E324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723-A1D0-4BC9-8640-11329218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D8A-E3CB-4BCF-B80F-FA7FF2FA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ED6-13B4-4975-A6D9-92C5C13A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9E6-94F8-4ACD-8B80-CCE6CE83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150-CF00-4161-A371-F93B0A96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680-6962-4995-A665-D2030712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51E-CAA0-4207-957A-2D811AB2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BB2-A4D5-4A2C-98FB-A9070D31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EC3-D244-4FAC-B56F-2322DD2B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5BE4-12FC-4D5D-B0B9-B270B1111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hermodynamic state of a gas refers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ts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ts volu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ts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ll of the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ngine that operates with 100 percent effici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s a Carnot engin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violates the first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as an Otto cy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violates the second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heat engine absorbs heat at 600 K and rejects heat at 200 K, its efficiency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3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50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67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Carnot cycle, 1600 cal is absorbed at 600 K, and 400 cal is exhausted to a cold reservoir. The temperature of the cold reservoir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50 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00 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50 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0 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adiabatic process is one in whi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temperature is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e pressure is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volume is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o heat enters or leaves the syste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adiabatic constant is 1.4 and the compression ratio is 6, a gasoline engine has an efficiency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5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51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6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64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typical refrigerator, heat is extracted from the interior by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compress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evapora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condens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hrottling val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981080"/>
            <a:ext cx="289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absence of friction, heat engines are 100 percent effici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first law of thermodynamics is satisfied, the second law will also be satisfi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every thermodynamic process, the heat absorbed by a system must equal the sum of the work done by the system and its change in internal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an isothermal expansion, all the absorbed thermal energy is converted to useful wo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Carnot engines are perfect engines and, therefore, operate at 100 percent efficienc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 the difference between the input and output temperatures of a steam engine, the greater the efficiency of the engin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high compression ratio of an internal combustion engine means a higher operating efficienc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efficient of performance for a refrigerator is a measure of cooling efficiency and is expressed as a percen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48:06Z</dcterms:created>
  <dc:creator>User</dc:creator>
  <dc:description/>
  <dc:language>en-US</dc:language>
  <cp:lastModifiedBy>cynthia_ecklor</cp:lastModifiedBy>
  <dcterms:modified xsi:type="dcterms:W3CDTF">2005-12-14T19:26:16Z</dcterms:modified>
  <cp:revision>2</cp:revision>
  <dc:subject/>
  <dc:title>Tippens Physics 7th Edition   Chapter 20</dc:title>
</cp:coreProperties>
</file>