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D52-D1C3-42E2-86C7-0DF7E4E5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F8F-93A9-4952-80B6-6103088B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601-AD35-4007-8C97-A96C16F0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5E1-21F2-4F57-A56B-2DF1CDDA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F33-F21D-4577-A1E6-041EE770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2C6-220C-4E3A-9ABC-94FD54A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1CC-94B7-4DF3-8288-BD4B240B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C9B-B84B-4E5C-87A5-D49B5890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50B-F63C-4E6B-B7CD-649E6B33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4EE-1790-4E6B-9B4C-E1EC950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6AA-7CDF-4A0C-A097-14DC761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198-FB62-451E-9741-B064873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026-1FAD-4664-9272-48ED42E4F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locity of a harmonic oscillator depends on the frequency of vibration but is independent of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does not change in simple harmonic motion, the acceleration of a mass is directly proportional to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velocity at any instant is not a direct func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requ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radius of the reference circle corresponds most closely with the actu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of a pendulum is determined by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aximum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dy vibrating with simple harmonic motion experiences its maximum restoring force when it is at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quilibrium posi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greatest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owest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-kg steel ball is attached to the end of a flat strip of metal that is clamped at its base. If the spring constant is 8 N/m, the frequency of vibration will be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08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16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32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64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98108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n object is vibrating with simple harmonic motion, its acceleration is a minimum when it passes through its equilibrium posi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harmonic motion is realized only in the absence of fri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velocity is greatest when the oscillating body reaches its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 the period of vibration, the greater the maximum acceleration of a body vibrating with simple harmonic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acceleration is quadrupled when the frequency is increased by a factor of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 acceleration due to gravity is less at higher elevations, the length of a pendulum in a pendulum clock should be shorten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torsion pendulum, increasing the moment of inertia of the vibrating disk will increase the frequency of vib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celeration of a harmonic oscillator is a function of displacement but independent of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8:12Z</dcterms:created>
  <dc:creator>User</dc:creator>
  <dc:description/>
  <dc:language>en-US</dc:language>
  <cp:lastModifiedBy>cynthia_ecklor</cp:lastModifiedBy>
  <dcterms:modified xsi:type="dcterms:W3CDTF">2005-12-14T19:23:10Z</dcterms:modified>
  <cp:revision>2</cp:revision>
  <dc:subject/>
  <dc:title>Tippens Physics 7th Edition   Chapter 14</dc:title>
</cp:coreProperties>
</file>