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EF1-AEA7-4F70-9E59-9E3F42F2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233-6A98-42F7-9088-B422608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157-03C8-4C9C-AFB7-6D5136CA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CE4-2013-4731-BBB2-61416858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EB3-D010-4DDB-A5F4-FFEF4C9C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4B5-FC6E-4D84-AF98-CD55D69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122-EA04-44A3-87D3-FC262D0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C05-9054-42E3-AC3F-BA3C36C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498-047D-4DCA-92A7-51B950A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2BF-6CA4-4042-B814-7C12C1C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7F4-C03E-4906-ADE1-A8D041A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E28-86FC-4FBF-A90E-BA97C81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C2C4-891E-4BDA-B46A-246E60B3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pen-tube manometer is a device used to measure absolute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e of flow is defined as the speed with which a fluid passes a certain cross s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fluid is considered incompressible, and if we neglect internal friction, the rate of flow through a pipe remains constant, even when the cross-sectional area chan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ing the diameter of a pipe by one-half will cause the velocity of a fluid through the pipe to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crease in fluid velocity results in an increased pressure at the constriction in a venturi 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noulli's equation applies for fluids at rest as well as for fluid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everal holes are cut in the side of a container filled with water, the discharge velocity increases with depth below the surface; however, the range is a maximum at the mid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consider a fluid to be incompressible and neglect the effects of friction, the change in velocity as a fluid goes through the constriction in a horizontal venturi tube does not depend on the density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ther weight density or mass density might be used in Bernoulli's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rricelli's theorem might be thought of as a special case of the more general Bernoulli's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luid pressure at the bottom of a container depends on the area of the bottom as well as the height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independent of the density of a liqui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otal force at the bottom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ressure at the surface of the liqu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pressure at the bottom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ressure at the sides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aulic press operates primarily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rchimedes' princip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ascal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oyle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wton's law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pressure is independent of the shape or size of the contain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particular depth in a liquid, the fluid pressure is the same in all directions except the upward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cal's law states that the buoyant force will always be equal to the weight of the displaced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weight of the overlying fluid in a container is proportional to its density, the pressure at any depth is also proportional to the density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oyant force is equal to the resultant force acting on a submerged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oyant force on a weather balloon does not depend directly on the density of the gas inside the ballo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maller the area of the input cylinder of a hydraulic press in comparison with the area of the output cylinder, the larger the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9:43Z</dcterms:created>
  <dc:creator>User</dc:creator>
  <dc:description/>
  <dc:language>en-US</dc:language>
  <cp:lastModifiedBy>cynthia_ecklor</cp:lastModifiedBy>
  <dcterms:modified xsi:type="dcterms:W3CDTF">2005-12-14T19:23:25Z</dcterms:modified>
  <cp:revision>2</cp:revision>
  <dc:subject/>
  <dc:title>Tippens Physics 7th Edition   Chapter 15</dc:title>
</cp:coreProperties>
</file>