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50F-A65C-4FF7-BB5F-CEADD302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F6D-674B-468E-AEFB-B5C5063C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BA5-48A1-422A-9154-0CEC83A6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71E-741B-4AF6-90E5-340105AC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EDA-4C50-40E4-AE35-BB75FC37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226-B3D6-4AC9-B07C-AFDFF3FB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756-B382-4FF5-83A3-88155D77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869-3E39-4669-8D94-80675307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689-33B7-4BEF-9A44-F38C0E70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0FC-1AE6-4AB4-A5AD-6FAF3D81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3B8-FD70-4431-BC23-F67800EB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4F2-0587-47D0-ACEA-9621FA74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DAB6-BCD0-4689-8BF6-843089CB4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t of torque in the metric system is the newton-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t torque will be the same if a force is doubled but moved to a point halfway to the axis of rot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apply the second condition for equilibrium, the axis of ro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ust be at the center of the bod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must be at one e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may be chosen anywhe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ust be at the center of grav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compute torque, one must kn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force magn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moment 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both of the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either of the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ope is wrapped in a clockwise direction around a 12-in.-diameter axle. If a force of 20 lb is exerted on the rope, what is the resultant torqu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20 lb*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+20 lb*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-10 lb*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0 lb *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60-lb boy sits on the left end of a 12-ft seesaw, and a 40-lb boy sits on the right end. The resultant torque about the center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120 lb*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+20 lb *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+120 lb *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40 lb *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unit of torqu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ound-foo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Kilogram-newt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Newton-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ound-in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resultant of a set of concurrent forces is zero, the sum of the tor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s also zer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may or may not be zer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s not zer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pends on the axis of rot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20-lb uniform board is 16 ft long and is supported at a point 6 ft from the right end. The upward force that must be exerted at the left end to balance the system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3.6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5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ope is wrapped around a 16-in.-diameter drum in a counterclockwise direction. What force must be exerted on the rope to give a torque of 120 lb f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90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75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00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80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considering only concurrent forces, we do not need to calculate torq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irl and a boy carry a sack weighing 40 N on a pole between them. If the pole is 6 m long and the load is 2 m from the girl, what force does the boy exer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3.3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6.7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0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oom in Fig. 5-3 is 2 m long and weighs 100 N. If the 800-N load is suspended 50 cm from the end, the cable tension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1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52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24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512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1981080"/>
            <a:ext cx="2895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object is suspended from the ceiling by a rope attached to its center of gravity, the system will attain equilibri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ment arm is the distance from the point of application of a force to the axis of rot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force tends to cause clockwise rotation, it produces a positive torque by conven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pplying the second condition for equilibrium, the axis of rotation may be chosen for conveni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enter of gravity of a body is always at the geometrical center of the bod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pplying the second condition for equilibrium, it is acceptable to equate the clockwise torques about any axis to the counterclockwise torques about the same ax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omputing the resultant torque, the axis of rotation may be chosen for conveni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34:37Z</dcterms:created>
  <dc:creator>User</dc:creator>
  <dc:description/>
  <dc:language>en-US</dc:language>
  <cp:lastModifiedBy>cynthia_ecklor</cp:lastModifiedBy>
  <dcterms:modified xsi:type="dcterms:W3CDTF">2005-12-14T21:08:55Z</dcterms:modified>
  <cp:revision>3</cp:revision>
  <dc:subject/>
  <dc:title>Tippens Physics 7th Edition   Chapter 5</dc:title>
</cp:coreProperties>
</file>