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A23-303A-4D64-B278-2EEC250E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CBB-3DA0-4713-9580-3A593C7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ACB-A542-46FB-A9C5-828B474E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8FD-D147-4B59-962C-7A72A28F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81F-E042-4B4D-80AA-F6704B48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A3F-3443-4E28-A20D-A4E16B8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26E-21F7-468F-A3EF-366E6E90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117-1A74-4778-85C4-7386BE6F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EA6-2844-4F2B-84CA-9182027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B47-A28B-4A65-8DE8-36189D1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1DE-A3E3-4696-B224-D6AE1DC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0D6-8A98-44F0-A370-8E4F6F6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64FF-EDC6-4D9B-B3DA-E723799E0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point twice as far away from a certain charge, the field intensity will be reduced by one-four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field intensity i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idway between two equal charges of like sig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midway between two charges of unlike sig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t any point equal distances from two identical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between two equal but oppositely charged pl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rection of the electric field intensit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way from all negative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oward all negative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same as the direction of an electric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pendent on the nature of a charge placed at the point in ques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acing of electric field lines between two identical point charges of opposite sig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ot dependent on the magnitude of the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n indication of the field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n indication of the field str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arge when the charges are l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Gauss's law, the number of electric field lines crossing any closed surfa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umerically equal to the enclosed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qual to the enclosed positive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qual to the electric field inside the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qual to the charge density on the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mittivity of a medi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s a measure of its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s equal to unity for air or a vacu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s dependent on the charge density of the med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termines the magnitude of an electric field that can be established by the med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8-degree C charge is 12 cm to the right of a -5-degree C charge. The magnitude of the electric field at a point 9 cm above the 8-degree C charg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.72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.4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7.85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98108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necessary that a charge be placed at a point to have an electric field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field lines never inters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uss's law represents a statement of equality, but it will not withstand unit 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eld in the vicinity of a number of charges is equal to the algebraic sum of the fields due to the individual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acing of electric field lines is such that they are close together when the field is strong and far apart when the field is wea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uss's law demonstrates that all the charge lies on the surface of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of the way in which an electric field is defined, the direction of the electric field and the force on a test positive charge will always b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field intensity at the midpoint of a line joining identical charges will always be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59:18Z</dcterms:created>
  <dc:creator>User</dc:creator>
  <dc:description/>
  <dc:language>en-US</dc:language>
  <cp:lastModifiedBy>cynthia_ecklor</cp:lastModifiedBy>
  <dcterms:modified xsi:type="dcterms:W3CDTF">2005-12-14T19:28:23Z</dcterms:modified>
  <cp:revision>2</cp:revision>
  <dc:subject/>
  <dc:title>Tippens Physics 7th Edition   Chapter 24</dc:title>
</cp:coreProperties>
</file>