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41D-C776-4F8D-93B7-37ACAB83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511-8F2F-4057-8AB6-2E966EEA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38D-996B-4E55-8CC9-3F084C3A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FC0-DB3B-48B5-9065-F26BC576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674-BA5E-4116-BBA4-78CD2031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0CE-455C-47D5-B7AB-892750E3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FEC-9885-4E4F-BB8C-92920E6C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62F-1AA0-4174-8098-BF4D4732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C52-C4B3-4030-80FA-E10421ED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8A3-8C5F-41D1-BAD3-5E3B8C9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B16-750C-4DB6-8D09-CC340FDE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240-31CE-4A58-B7BF-E8D3856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A114-3EBF-4E30-97F2-998E989D4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ually the shearing strain can be approximated by the tangent of the shearing ang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's modulus applies for compressive stresses as well as tensile stre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hearing stress acting on a body changes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volu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re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t for strain i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ound per square inc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newton per centi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radi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olume strain for a constant applied force increases directly with an increase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urface are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ompressibi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volu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bulk modul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ulus of rigidity is another name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ompressibi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bulk modul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shear modul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Young's modul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force of 20 N produces an elongation of 0.4 cm, the spring constan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5 N/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0 N/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8 N * 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02 cm/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ross-sectional area of a 20-in. copper wire is 0.001 in. A force of 400 lb causes a stress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x 10^5 lb/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4 lb/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0 lb/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50 lb/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981080"/>
            <a:ext cx="289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terial having a large spring constant will experience a greater change in length for a given applied force than a material with a small spring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ss is the relative change in the dimensions or shape of a body as the result of an applied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ltimate strength of a material is the greatest stress it can withstand without ruptur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maller the bulk modulus of a material, the higher its compressibi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dian may be a unit of stra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ulus of elasticity has the same units as stre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's modulus is constant for a particular material but varies with the length and cross-sectional area of a wi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has a greater compressibility than stee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56:37Z</dcterms:created>
  <dc:creator>User</dc:creator>
  <dc:description/>
  <dc:language>en-US</dc:language>
  <cp:lastModifiedBy>cynthia_ecklor</cp:lastModifiedBy>
  <dcterms:modified xsi:type="dcterms:W3CDTF">2005-12-14T19:22:26Z</dcterms:modified>
  <cp:revision>2</cp:revision>
  <dc:subject/>
  <dc:title>Tippens Physics 7th Edition   Chapter 13</dc:title>
</cp:coreProperties>
</file>