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25E-B1F0-47D5-A934-82FAF4BD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412-4C91-4699-AB79-5D93F281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12F-3F8A-4EF5-B004-91474067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E71-4118-4B5F-8FDD-34189AFF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203-13A5-490A-9C3D-77EF7933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E2D-A573-4F44-9970-CFD853A1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315-D567-43BB-B13C-B005CFAC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E10-121B-4379-A5FA-A337FB60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D4F-3457-4EBC-9F30-01A9B67B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264-FE2A-4428-A3A7-8DE4115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8DB-123C-4175-BC5F-FEE43F4B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10C-6C2C-407F-A719-DCDFBDFD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B20F-8EA9-4176-A134-3A43039B2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rchhoff's laws apply only for current loops that contain at least one source of em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wo identical resistors are connected in parallel, the voltage drop across each is one-half of the terminal potential difference at the source of em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ariance of terminal potential difference, as compared with emf, is due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circuit lo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internal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Kirchhoff's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urrent delive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using the Wheatstone bridge, the quantity that is balanced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urr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em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9810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ules for computing equivalent resistance are the same as those for computing equivalent capaci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rrent is the same in all parts of a parallel circu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ivalent resistance of two resistors in parallel is equal to their product divided by their s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mf is essentially equal to the open-circuit potential dif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rrent supplied to an electric circuit is equal to the net emf divided by the total resistance of the circuit if we neglect internal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rchhoff's second law applies for each current loop in a complex circuit and not just for the total circu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pplying Kirchhoff's laws, the tracing direction must be the same as the current dir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Wheatstone bridge is balanced, the voltage between the galvanometer and either terminal of the source of emf will be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12:49Z</dcterms:created>
  <dc:creator>User</dc:creator>
  <dc:description/>
  <dc:language>en-US</dc:language>
  <cp:lastModifiedBy>cynthia_ecklor</cp:lastModifiedBy>
  <dcterms:modified xsi:type="dcterms:W3CDTF">2005-12-14T19:30:25Z</dcterms:modified>
  <cp:revision>2</cp:revision>
  <dc:subject/>
  <dc:title>Tippens Physics 7th Edition   Chapter 28</dc:title>
</cp:coreProperties>
</file>