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3492-AA49-469F-A70A-FDEEE9E2C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347A-69BC-44FA-94AE-0AEC8B547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94FA-03BC-483E-9071-C0D888218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D94E-48F4-4689-966C-B869CB845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2B79-EF5B-4E36-A480-949CCC800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FCE4-C943-4814-A533-DDF10C5D2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28A7-9599-4F3D-8257-467E146D3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1130-9E02-47D3-9790-AB273F0E1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390B-0111-4C47-995C-8E8390C6C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3E28-0363-48B9-AEA6-4DFB52ADB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2B7E-2C03-407D-AF7A-79E993E6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AF4B-1684-46FB-AFC5-2A6681BD5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FD7E1-29CE-4D3D-8BD7-23A15EA2B9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ppens</a:t>
            </a:r>
            <a:br>
              <a:rPr sz="4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th Edi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pter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6527880"/>
            <a:ext cx="56563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McGraw-Hill Companies, Inc. Permission required for reproduction or displa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a screw jack, a larger pitch results in a smaller mechanical advantag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ich of the following machines is not an application of the lever principle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Screw jack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Wheelbarrow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Wheel and axl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Pli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 80-hp motor has an efficiency of 60 percent. The output power is approximatel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133 hp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75 hp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60 hp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48 hp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 iron pipe 10 ft long is used to lift a 400-lb weight. If the fulcrum is placed 2 ft from the weight, the force that must be exerted at the end of the pipe is approximatel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200 lb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100 lb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40 lb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80 lb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ideal mechanical advantage of a belt drive is 4.0. If the angular speed of the input pulley is 8 rad/s, the angular speed of the output pulley 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2 rad/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32 rad/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0.5 rad/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4 rad/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100-lb box is pushed up a 200-ft ramp to a height of 20 ft. The ideal mechanical advantage is approximatel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4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10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5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0.1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ider a belt drive in which the diameter of the driving pulley is 8 cm and the diameter of the driven pulley is 24 cm. If the efficiency is 50 percent, what is the actual mechanical advantage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15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6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1.5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the operation of a screw jack of pitch 0.1 in., the input force of 4 lb turns through a circle of radius 2 ft, lifting an 80-lb weight. The efficiency is approximatel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48 perce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14.4 perce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20 perce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1.3 perce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swer Ke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4400" y="1981080"/>
            <a:ext cx="3657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181480" y="1981080"/>
            <a:ext cx="28958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efficiency of a machine is defined as the ratio of the work input to the work outpu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ctual mechanical advantage of a machine can never be less than unit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wheel and axle is an application of the principle of the leve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single fixed pulley offers no mechanical advantage; it changes only the direction of an input for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a pulley system with a speed ratio greater than 1, the output torque is less than the input torqu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a machine using two gears in which the number of teeth on the input gear is greater than the number of teeth on the output gear, there will be a reduction in the output torqu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a belt drive, maximum efficiency is obtained for minimum belt tens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an inclined plane, the actual mechanical advantage is the ratio of the slope distance to the height of the plan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8:52:23Z</dcterms:created>
  <dc:creator>User</dc:creator>
  <dc:description/>
  <dc:language>en-US</dc:language>
  <cp:lastModifiedBy>cynthia_ecklor</cp:lastModifiedBy>
  <dcterms:modified xsi:type="dcterms:W3CDTF">2005-12-14T19:21:43Z</dcterms:modified>
  <cp:revision>2</cp:revision>
  <dc:subject/>
  <dc:title>Tippens Physics 7th Edition   Chapter 12</dc:title>
</cp:coreProperties>
</file>