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40C-61DF-4ACC-B105-4F0ED28C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AEC-ED05-43C0-AC5A-DE2387B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6C3-2E8A-48D5-A409-ABFE89FE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AC4-E8A1-4C04-8118-33AED897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3F4-A3B5-4D2D-8F0F-4B5E79EB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617-6933-463C-B4B1-33ECED1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72C-DD54-4332-B12B-2231A64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36A-7987-4331-8E07-2AEA1081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4A4-63A1-418D-8520-545E7AA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3D5-93A5-4237-9D6A-95284C3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7A5-94B6-479A-8D33-2889203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703-2267-453D-94E3-0606721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384-587C-4A6B-B6CE-B9271785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fundamental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Leng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ant of 10 and 15 lb acting in opposite directions on an objec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 scalar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elo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3 N acts perpendicularly to a force of 4 N. Their resultant has a magnitud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 vector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u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i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walks 9 km east and then 12 km north. The magnitude of his resultant displaceme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1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3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amental unit for length is the mi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 is equivalent to a mass of 1000 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vectors having the same dimensions may be add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two vectors is obtained by adding one vector to the negative of the 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der in which two or more vectors are added does not affect their resul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phical methods of vector addition are not as accurate as the mathematical meth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tor addition can be performed only for concurrent vec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boat travels upstream with a speed of 8 km/h in a current whose speed is 3 km/h, the boat's speed relative to the shore is 5 km/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1:15Z</dcterms:created>
  <dc:creator>User</dc:creator>
  <dc:description/>
  <dc:language>en-US</dc:language>
  <cp:lastModifiedBy>cynthia_ecklor</cp:lastModifiedBy>
  <dcterms:modified xsi:type="dcterms:W3CDTF">2005-12-14T19:13:27Z</dcterms:modified>
  <cp:revision>2</cp:revision>
  <dc:subject/>
  <dc:title>Tippens Physics 7th Edition   Chapter 3</dc:title>
</cp:coreProperties>
</file>