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1F7-D815-4D68-BD05-56C058A7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2EF-334B-48E1-AEE1-8AC0A4C7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4DC-A5EC-4CB1-BE5B-37188F81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125-E56B-4D2E-AB78-E57973E6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1A1-0053-4B0A-B098-F437E5DE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0F2-065B-4676-97EC-D27C4976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EF9-659B-41BE-A4FF-D2F18D8F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56F-D95D-4F84-B105-894E2AC5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7B2-3026-4664-B589-081A9891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A1C-044E-43B8-A36C-6CF5A1CB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6E8-8A82-4DB6-AFF2-ED20954B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B1A-FD30-4690-8551-A0EA5BA3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B1EA-3926-4045-81AA-07F7215AC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lternating voltage has a maximum value of 30 V. The effective valu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5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1.2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30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2.9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the capacitance in an ac circuit increases, the resonant frequ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de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remains the s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pproaches ze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tio of the pure resistance in an ac circuit to the impedance is known a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ower fac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hase ang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resonant frequ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et reac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circuit containing pure capacitance, during a period of one time constant,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harge decays to 63 percent of its initial 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harge increases to 37 percent of its initial 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current decays to 37 percent of its initial 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capacitor is completely charg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n ac circuit containing a coil with an inductance of 0.3 H, the voltage is 120 V at 60 Hz. If we neglect resistance, the effective current in the coil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27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53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.06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.12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ircuit contains a 12-degree F capacitor, a 40-ohm resistor, a switch, and a 20-V dc battery connected in series. After the switch is closed, the capacitor can be considered fully charged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00048 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0012 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0024 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0048 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capacitive circuit, the current delivered to a capacitor will rise to 63 percent of its maximum value after charging for a period of one time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n inductive circuit, the current decays to 37 percent of its initial value in a period of one time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apacitor with a breakdown voltage of 150 V would be safe to use in an ac circuit if the ac voltage were only 120 V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tive reactance and inductive reactance increase with an increase in frequency of an alternating curr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wer factor in an ac circuit is the ratio of its resistance to its imped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a condition of resonance in an ac circuit, the current will be in phase with the vol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ance, impedance, and resistance are all measured in the same physical unit (ohms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gative phase angle occurs when the current leads the voltage in an ac circu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20:00Z</dcterms:created>
  <dc:creator>User</dc:creator>
  <dc:description/>
  <dc:language>en-US</dc:language>
  <cp:lastModifiedBy>cynthia_ecklor</cp:lastModifiedBy>
  <dcterms:modified xsi:type="dcterms:W3CDTF">2005-12-14T21:14:55Z</dcterms:modified>
  <cp:revision>2</cp:revision>
  <dc:subject/>
  <dc:title>Tippens Physics 7th Edition   Chapter 32</dc:title>
</cp:coreProperties>
</file>