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60F-9603-4BC1-8FE4-63C656A8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929-49FC-4C24-8199-5BA64407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B20-43D0-4A31-A6BA-5113098C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8AF-7E5B-4440-AB6F-8A15D533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5B4-D5E0-4510-81A3-B867A238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334-039A-4CAA-B8E6-FFF59680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E42-9C02-43E2-928A-3F6879B0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B49-B547-40AE-85B1-85387384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362B-73D7-49E2-95DE-6F832153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E0F-036A-4152-8E17-3A8C3F61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148-E2DF-4D83-86D4-9446A5C8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E92-14B7-4541-8D21-86907C5C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40AF-D415-44DA-B622-233D1C7C3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wer loss in a wire is quadrupled if the current is doubl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heostat is a meter that indicates the electric resistance in a circu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t of electromotive force is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jo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newt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vol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wat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one were to use a water analogy to study electric current, voltage would be most similar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press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rate of flo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ens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tential difference between the terminals of a small heater is 60 V. If the resistance of the heater is 30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current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0.5 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 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800 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3 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120-V heater has a resistance of 600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The heat energy generated in 1 min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4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2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20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44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198108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lectromotive force is a force exerted on an electric charge to keep it mov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rection of conventional current for a conductor is opposite to the direction of electron flo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c current is also a measure of the average speed with which electrons move in a conduc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rding to Ohm's law, the electric current is inversely proportional to the applied vol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c resistance increases with an increase in the cross-sectional area of a conduc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sistivity of a wire is independent of the length of the wi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wire with a diameter of 0.002 in. has a cross-sectional area of 4 cmi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emperature coefficient of resistance is equal to the change in resistance per degree change in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09:31Z</dcterms:created>
  <dc:creator>User</dc:creator>
  <dc:description/>
  <dc:language>en-US</dc:language>
  <cp:lastModifiedBy>cynthia_ecklor</cp:lastModifiedBy>
  <dcterms:modified xsi:type="dcterms:W3CDTF">2005-12-14T19:29:46Z</dcterms:modified>
  <cp:revision>2</cp:revision>
  <dc:subject/>
  <dc:title>Tippens Physics 7th Edition   Chapter 27</dc:title>
</cp:coreProperties>
</file>