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7AE-ED43-444C-88BB-C12555D0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BC8-DCE7-4765-8122-BAC2640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096-FACD-47FE-AA32-2610DECA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305-1A66-4E36-AD87-65C9F37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361-09B1-46A9-BF25-06C9008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8F5-61A4-44E5-801E-F34E868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FF3-526A-48E7-94F9-6547D648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24C-FFCD-4ABC-852C-138F70D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505-E0C8-4084-B5CE-94D63117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DCD-CD6B-47E3-B4BD-383D0D2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296-495A-4C39-AB4A-BF59A4C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061-DCE7-4BC5-89DC-E050D20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D59A-D817-49A3-B5DF-AA5907ED8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ay parallel to the mirror axis passes through the center of curvature after reflection from a converging mi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us of curvature is equal to twice the focal length for both concave and convex mirr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cal point of a convex spherical mirror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wice the radi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 front of the mi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urce of light 12 cm high is placed 50 cm from a concave mirror of focal length 100 cm. The image distan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10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10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+5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5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-ft person stands 20 ft from a plane mirror. The shortest mirror required to view the entire im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9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2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what distance must an object be placed to form an image on a screen 30 cm from the vertex of a mirror whose radius is 20 c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ification of a mirror is -1/3. What is the image distance when an object is placed 24 cm from this mirro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8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12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bject distance for a concave shaving mirror of radius 3.2 m to form an erect image twice as large as the objec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.6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.4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.2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magnification results whenever the image is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irtual image cannot be formed on a scre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formed by convex spherical mirrors are always virtual, erect, and enlarg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concave spherical mirrors, the magnification is always greater than 1 when the object is located between the center of curvature and the focal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ne mirror forms real im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moving closer and closer to the vertex of a convex mirror form smaller and smaller im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oncave shaving mirror, greater magnification is achieved when the object is closer to the focal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virtual images formed by spherical mirrors are erect and diminish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20:41Z</dcterms:created>
  <dc:creator>User</dc:creator>
  <dc:description/>
  <dc:language>en-US</dc:language>
  <cp:lastModifiedBy>cynthia_ecklor</cp:lastModifiedBy>
  <dcterms:modified xsi:type="dcterms:W3CDTF">2005-12-14T19:33:26Z</dcterms:modified>
  <cp:revision>2</cp:revision>
  <dc:subject/>
  <dc:title>Tippens Physics 7th Edition   Chapter 34</dc:title>
</cp:coreProperties>
</file>