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C19-76A7-4E9A-BF4A-0C10A04B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6F7-CC78-43F6-A13F-CC4D40F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545-C81B-48EA-8A82-9F2508FF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BDF-CE85-4DF7-B743-8F4E17D2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149-9E01-48EA-A4FA-7B1F846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8A3-CFB7-41BD-B0A1-3112FB77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E0C-21B2-4F2B-BE60-71809DB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F4F-6655-4433-B2B8-A07F7D97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AA2-A097-4CD8-B947-13551DE8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C9D-45DD-4679-ABB1-044B8C7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B0F-E4FF-4072-ACDA-96CFC1A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555-2F6E-4D25-956E-BCD6A0B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8F21-D80E-4973-B7B0-96A37C64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body whose mass is 1 slug is equal to approximately 3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9.8-kg body is 1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n 80-lb sl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5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.5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6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10-kg block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9.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9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cceleration will a force of 40 N impart to a mass of 5 k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 c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sultant force will give a 64-lb object an acceleration of 6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84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.7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 slu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2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1-N force acts on a 1-kg body, the body rece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n acceleration of 9.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peed of 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n acceleration of 98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n acceleration of 1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20 N gives an object an acceleration of 5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What force will give the same object an acceleration of 16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4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2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6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kg mass is suspended by a rope. What is the acceleration if the tension in the rope is 118 N while the mass is in mo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1.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5-lb body is suspended by a rope and accelerated upward with an acceleration of 8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he tension in the rop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6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6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1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 is the metric unit of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m in Fig. 7-2 required to give the system an acceleration of 6 m/s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1.0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1.6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2.6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1.9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30-kg girl steps to shore from a 60-kg boat, giving the boat an acceleration of 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If water resistance is neglected, the girl receives an acceleration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15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n object on the moon is the same as its mass on ear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ritish unit for mass is the slu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's second law of motion is strictly true only in the absence of friction for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 body is dependent on the acceleration due to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celeration an object receives is proportional to the applied force, the constant of proportionality being the reciprocal of its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n object is equal to the product of its mass and the gravitational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's second law of motion applies either to a system of bodies moved together as a whole or to any body that is a part of such a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3:03Z</dcterms:created>
  <dc:creator>User</dc:creator>
  <dc:description/>
  <dc:language>en-US</dc:language>
  <cp:lastModifiedBy>cynthia_ecklor</cp:lastModifiedBy>
  <dcterms:modified xsi:type="dcterms:W3CDTF">2005-12-14T21:11:54Z</dcterms:modified>
  <cp:revision>3</cp:revision>
  <dc:subject/>
  <dc:title>Tippens Physics 7th Edition   Chapter 7</dc:title>
</cp:coreProperties>
</file>