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4564F-8526-42CD-B9F8-B44E2A88A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CEBA1-645B-4E65-96D4-FAD0296D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F4650-8C36-4BAC-8F0E-0A1471C45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4766C-20C5-4940-9042-C7FD78680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F29B-3687-4D61-9A54-B9B638041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E52D-754C-417B-AA1E-7170D3A3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3138-3408-4004-9B21-AACD521AD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53D7-CA69-4DC9-AECC-82CC23C4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778C-DDF2-463F-9C50-67A2F4B1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4560-B1DC-4CFF-BF4A-52858026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C250-1073-41CA-A303-96CE80F0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2FC1-9702-4297-83D9-9D62CDF5A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8DE1-D783-4740-9FEF-BF37081AE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23</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egatively charged bod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has a deficiency of electr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as an excess of electr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is produced on glass by rubbing with silk.</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repels a positively charged bod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ging a single body by induction always leaves a residual charge that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greater than that of the charging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the same sign as that of the charging bod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opposite in sign to that of the charging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n excess of electron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wo suspended objects are seen to attract each other electrical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hey are both charg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one must be charg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either (a) or (b) is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either (a) nor (b) is tru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a positively charged rod is brought closer and closer to a positively charged electroscope, the gold lea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iver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ver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is neutraliz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is unaffect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68"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C</a:t>
            </a:r>
            <a:endParaRPr b="0" lang="en-US" sz="2800" spc="-1" strike="noStrike">
              <a:solidFill>
                <a:srgbClr val="000000"/>
              </a:solidFill>
              <a:latin typeface="Times New Roman"/>
            </a:endParaRPr>
          </a:p>
        </p:txBody>
      </p:sp>
      <p:sp>
        <p:nvSpPr>
          <p:cNvPr id="69" name=""/>
          <p:cNvSpPr/>
          <p:nvPr/>
        </p:nvSpPr>
        <p:spPr>
          <a:xfrm>
            <a:off x="5181480" y="1981080"/>
            <a:ext cx="2895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bbing a glass rod with a silk cloth leaves a negative charge on the cloth.</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inging a negatively charged rod closer and closer to a positively charged electroscope causes the leaf to conve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cess of charging an object by induction leaves a charge on the object that is opposite to that of the charging devi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of its large size, the coulomb is not a practical unit for static electricit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 Coulomb's law, the electric force will be doubled if they separation of two equal charges is cut in hal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wo or more charges are in the vicinity of another charge, the latter charge experiences an electric force equal to the algebraic sum of the forces due to each cha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lus and minus signs used to identify charge have significance primarily for determining direction when they are applied to Coulomb's law.</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coulomb is that quantity of charge that, when placed one meter away from an equal charge of the same sign, will experience a repulsive force of one newt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19:56:59Z</dcterms:created>
  <dc:creator>User</dc:creator>
  <dc:description/>
  <dc:language>en-US</dc:language>
  <cp:lastModifiedBy>cynthia_ecklor</cp:lastModifiedBy>
  <dcterms:modified xsi:type="dcterms:W3CDTF">2005-12-14T19:27:41Z</dcterms:modified>
  <cp:revision>2</cp:revision>
  <dc:subject/>
  <dc:title>Tippens Physics 7th Edition   Chapter 23</dc:title>
</cp:coreProperties>
</file>