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311-F84F-406E-9312-BF9FCE81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E04-B31C-4640-BE27-0441E84F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905-6C93-46C6-9097-27E1F3F2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B6C-B84C-40A4-927C-95640404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483-F391-4754-A8A8-C068A3D5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CA2-8B66-48F2-874B-9A4239FC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DE3-B69B-4E30-A83B-A3132A4C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EDC-313B-4F47-92D3-5749C7F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018-CBC0-4980-91F2-703870C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3FB-EB27-477F-ABD5-5901D20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593-9E0C-462E-A6CA-42FCA98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B62-DA3C-4879-ABB2-C204CF8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7F1-9DA8-4732-B292-77AB0CAB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shunt-wound motor, the output speed can be controlled by varying the input current to either the field windings or the armature windin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ies-wound motor is preferable if a large starting torque is desir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ire parallel to the paper moves downward into a flux density directed into the paper. The induced current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rected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zero because the motion is perpendicular to the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irected to the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pposite to the induced emf, according to Lenz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stantaneous emf produced by a simple ac generator is a maximum when the angular displacement of the loop i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tegral multiple of p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d multiple of p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ven multiple of 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dd multiple of 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former has 400 secondary turns and only 50 primary turns. If an ac voltage of 120 V is connected to the primary coil, the output volt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4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3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96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z's law is a consequence of the fact that energy must be conser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itude of an induced emf is directly proportional to the rate at which magnetic flux lines are cut by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enerator is a device that converts magnetic energy to electr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former can be used for alternating current on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ck emf in the armature of an electric motor is zero when the motor is started and rises as the motor's speed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armature of a generator is rotating with a constant angular velocity in a constant magnetic field, the induced emf will b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 ac generator, the maximum current occurs when the induced emf is a minim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motor is also a gener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9:19Z</dcterms:created>
  <dc:creator>User</dc:creator>
  <dc:description/>
  <dc:language>en-US</dc:language>
  <cp:lastModifiedBy>cynthia_ecklor</cp:lastModifiedBy>
  <dcterms:modified xsi:type="dcterms:W3CDTF">2005-12-14T19:31:44Z</dcterms:modified>
  <cp:revision>2</cp:revision>
  <dc:subject/>
  <dc:title>Tippens Physics 7th Edition   Chapter 31</dc:title>
</cp:coreProperties>
</file>