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0DA-A0C6-4876-93C0-F8448CFC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2AA-3548-42FE-A9C6-FD6EF51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78F-616A-4005-8701-DD3EE73D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542-7450-4898-B15D-AAB5E184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EB6-03CC-478A-B3CA-A930BBCA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1AD-6116-45C8-83B6-E94CC64C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E32-C73F-4061-B442-176A523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1CA-B4DF-47DC-9C44-65E4DF74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8A8-10D9-4E4A-9E8F-66D929F5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AA5-24D5-4082-AEB2-840DCA14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BF6-633F-43AA-B217-85D8FF4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708-FB23-4019-B545-DA09F07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6A5-5AFD-4C8A-ADAB-E0C65A07D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rmula for computing the banking angle also applies for the angle that the cord makes with the vertical for a conical pendul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masses are separated by twice the distance, they will experience one-half the gravitational attra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all is tied to a string and swung in a horizontal circle. When the string breaks, the ball will follow a path tha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ward the cen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way from the cen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t a tangent to its circular pa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one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rce exerted on the ball in Question 11 is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entrifug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entripet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gravitation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ctitious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dy traveling in a circular path at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has an outward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as inward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as constant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s not accelera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makes one complete revolution in 0.5 s. Its frequ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5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swings at the end of a string in uniform circular motion. Which of the following changes would not cause an increased centripetal forc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longer st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horter st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greater linear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larger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entripetal acceleration of a 2-kg mass swinging in a 0.4-m radius with a linear speed of 4 m/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-kg ball is swung in a horizontal circle by a cord of length 2 m. If the period is 0.5 s, the tension in the cord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64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0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27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rock is made to move in a circular path at the end of a string, an outward force is exerted on the ro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tring breaks in Question 1, centripetal acceleration will cause the rock to move i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ipetal and centrifugal forces have the same magnitudes but are opposite in directions; they don't cancel because they act on different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car moves in a horizontal circle on a level road, the centripetal force is exerted by the ti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ximum speed with which a car can negotiate a curve does not depend on the weight of the c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of revolution may be thought of as the number of complete revolutions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 as a resultant force is needed to change the speed of a body, a resultant force is necessary to change its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circular motion is motion in which the linear speed changes at a constant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8:38Z</dcterms:created>
  <dc:creator>User</dc:creator>
  <dc:description/>
  <dc:language>en-US</dc:language>
  <cp:lastModifiedBy>cynthia_ecklor</cp:lastModifiedBy>
  <dcterms:modified xsi:type="dcterms:W3CDTF">2005-12-14T21:12:49Z</dcterms:modified>
  <cp:revision>3</cp:revision>
  <dc:subject/>
  <dc:title>Tippens Physics 7th Edition   Chapter 10</dc:title>
</cp:coreProperties>
</file>