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BD9-D984-4E7B-84D9-1972F5E6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EDD-0BA2-4622-AB29-DFD8C70C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EA0-D5A3-494C-9B66-D622D887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200-BD9D-4936-BFF6-A63121A3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0E8-703B-43B2-A946-1BEF4538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762-112B-44E4-8429-8A5C73FC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D61-2F1C-41B5-91E2-F9550B1D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912-72CF-4F5A-8C6D-19F49A95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9CE-B069-4703-84F4-113330C6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2DC-B0FC-4EE1-A7FA-DFC89201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CBA7-1002-4207-8F08-80304E18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C454-EFE7-4A2F-A0C7-9A43239E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5456-EA46-4148-9FD2-6F809535A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mentum is conserved in all collisi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kilogram-meter per second is a larger unit of momentum than the slug-foot per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not a unit of impuls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ound-seco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Newton-seco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Pound-h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Newton-me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velocity of a body is doubled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ts kinetic energy is doubl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ts momentum is doubl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ts acceleration is doubl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its potential energy is doubl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100-kg astronaut releases 1 g of gas from a special pistol at a speed of 50 m/s. As a result, he moves in the opposite direction 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5 c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50 c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0.5 c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05 c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car is to gain momentum, it m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move rapid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cceler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lose inerti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lose we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ce of a golf club exerts an average force of 4000 N while it is in contact with the golf ball. If the impulse is 80 N * s, the time of contact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0.2 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0.02 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 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002 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ight steel balls are suspended from equal heights by threads so that they are all in contact. If two balls are pulled away to the left and released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ne ball will leave from the right with twice the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wo balls will leave from the right at approximately the same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either (a) or (b) might app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neither (a) nor (b) appli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40-kg cart moving at 3 m/s makes a head-on collision with a 20-kg cart at rest. If the collision is completely inelastic, the speed with which the carts leave the impact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6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0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2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collision in Question 18 is completely elastic, the speed of the 20-kg cart after collision will be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6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3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otal linear energy of colliding bodies before impact must always equal the total energy after imp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10-g bullet is fired into a 2-kg block of wood suspended from a cord. If the block and bullet rise to a height of 10 cm after impact, the initial velocity of the bullet wa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.8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81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35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8.1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981080"/>
            <a:ext cx="2895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igor with which a body restores itself to its original shape after deformation is a measure of its elasticity or restitu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efficient of restitution equal to 0.5 is an indication that the collision is inelast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its for impulse are equivalent to the units for moment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that has linear momentum also has kinetic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ot-pound per second is a unit of linear moment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bouncing against a floor with perfectly elastic collisions will continue to bounce at the same he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mentum is a scalar qua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46:54Z</dcterms:created>
  <dc:creator>User</dc:creator>
  <dc:description/>
  <dc:language>en-US</dc:language>
  <cp:lastModifiedBy>cynthia_ecklor</cp:lastModifiedBy>
  <dcterms:modified xsi:type="dcterms:W3CDTF">2005-12-14T21:12:23Z</dcterms:modified>
  <cp:revision>3</cp:revision>
  <dc:subject/>
  <dc:title>Tippens Physics 7th Edition   Chapter 9</dc:title>
</cp:coreProperties>
</file>