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2C129-2527-42A6-A83D-8A31D0AD3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42DB3-2DB9-4FA1-9FDE-F43C839C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4C82-5AEB-4377-A3CA-55D0725FD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FB114-BFA8-40BB-B39E-4AD83E8E4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10A51-6EE7-41F1-AAEF-595CF8D5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2DA3-3B78-457E-A7BB-D08A0100D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B4E9-CA98-4A9A-91D0-8914EDA0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45DB-24DD-4B77-AA70-6A7249CA5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FB6EB-D263-4199-8000-EF5D0D18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EEB7-C6EC-4677-B075-2F2B79FE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56399-6788-4F76-B14E-34D44088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FA78-1A24-480E-8FA0-79E198BF3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5D5A-B815-4A10-B4EE-B6666C2EB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37</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larizer can be used as an analyzer in studying polarized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olving power of an instrument is determined b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ific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ocal length of the objective le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ameter of the objective le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one of the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advantage of a grating over Young's apparatus is th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harpness of the bright lin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bsence of dark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bsence of bright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greater deviation of ligh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f the following demonstrates the transverse nature of light wav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Interfer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olariz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ffra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Refra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3</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ng's experiment, the slit separation in 0.02 mm, and the screen is 1 m away. If the slit is illuminated with light of wavelength 500 nm, the second bright fringe will be displaced from the central fringe by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4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6 c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4</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arallel beam of light illuminates a diffraction grating with 15,000 lines/in. The first-order image is located 16 cm from the central image of a screen 50 cm from the grating. The wavelength of the light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515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571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41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592 n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5</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0-in.-diameter optical telescope examines a large skylab orbiting 150 mi above the earth. The minimum separation of two points that can be resolved by the telescope, receiving light of average wavelength 500 nm,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0.56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0.634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0.75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2.67 f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74"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C</a:t>
            </a:r>
            <a:endParaRPr b="0" lang="en-US" sz="2800" spc="-1" strike="noStrike">
              <a:solidFill>
                <a:srgbClr val="000000"/>
              </a:solidFill>
              <a:latin typeface="Times New Roman"/>
            </a:endParaRPr>
          </a:p>
        </p:txBody>
      </p:sp>
      <p:sp>
        <p:nvSpPr>
          <p:cNvPr id="75" name=""/>
          <p:cNvSpPr/>
          <p:nvPr/>
        </p:nvSpPr>
        <p:spPr>
          <a:xfrm>
            <a:off x="5181480" y="1981080"/>
            <a:ext cx="2895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n interference pattern, the bright lines are due to constructive interference, and the dark lines are caused by destructive interfer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iffraction grating deviates red light more than blue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ng's experiment, decreasing the separation of the two slits will also decrease the separation of the interference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olving power of a telescope depends on the diameter of its objective lens and is not a function of the magnific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order images are bright lines, and second-order images are dark lin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mit of resolution for two objects occurs when the central maximum of the interference pattern of one object coincides with the first dark fringe of the interference pattern from the other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th transverse and longitudinal waves can be polarized by an appropriate choice of material for the polarizer.</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reater the number of lines per inch on a diffraction grating, the greater the angle of deviation for the diffracted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29:56Z</dcterms:created>
  <dc:creator>User</dc:creator>
  <dc:description/>
  <dc:language>en-US</dc:language>
  <cp:lastModifiedBy>cynthia_ecklor</cp:lastModifiedBy>
  <dcterms:modified xsi:type="dcterms:W3CDTF">2005-12-14T19:35:02Z</dcterms:modified>
  <cp:revision>2</cp:revision>
  <dc:subject/>
  <dc:title>Tippens Physics 7th Edition   Chapter 37</dc:title>
</cp:coreProperties>
</file>