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B874-DB7F-464C-8B8B-0AABC5CA9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633F-A185-440D-B1DF-C0D9FDE08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FA7C-DDE4-4495-B885-6A1451BA1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94EC-4E89-4328-82EA-2831F7FE3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D3D2-1079-4732-B3D2-4B1424816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25A8-F752-4387-B450-B05E78B48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9876-9B8E-4435-9F39-52B3D1AF0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380A-CB78-4BB8-B418-83C2E8549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8DDF-899B-40A8-9C76-0955FBE2E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7100-DA5A-4EF2-AED3-C62F1F238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08DD-BB1E-4185-B810-07CF9551C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5E0B-C95B-4613-BB1E-BD017C3C5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3E302-6C3C-447C-9B5A-4E9DC78747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ppens</a:t>
            </a:r>
            <a:br>
              <a:rPr sz="4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sic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th Edi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pter 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28800" y="6527880"/>
            <a:ext cx="565632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McGraw-Hill Companies, Inc. Permission required for reproduction or display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capacitance of a capacitor increases with a decrease i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dielectric constan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permittivit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plate are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plate separa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ich of the following is true for capacitors in series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he total capacitance is the sum of the individual capacitance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The total charge is the sum of the charges on each capacitor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The total voltage is the sum of the voltages across each capacitor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The available charge is shared between two or more capacitor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swer Ke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14400" y="1981080"/>
            <a:ext cx="36576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total capacitance of two capacitors connected in series is less than that of either capacitor alon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capacitance is dependent on the potential difference placed across its plate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a conductor has a capacitance of one farad, a transfer of one coulomb of charge to the conductor will increase its potential by one vol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capacitance of a given capacitor will be higher if the separation of the plates is reduced without changing the dielectric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sertion of a dielectric between the plates of a capacitor decreases the voltage across it and hence reduces the capacitanc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the charge on a capacitor is doubled, the potential energy will be quadrupled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 capacitors connected in parallel, the voltage across each capacitor is the same as that across the sourc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amount of charge that can be placed on a conductor does not depend 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he dielectric strengt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its capacitanc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its potentia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its size or shap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20:03:22Z</dcterms:created>
  <dc:creator>User</dc:creator>
  <dc:description/>
  <dc:language>en-US</dc:language>
  <cp:lastModifiedBy>User</cp:lastModifiedBy>
  <dcterms:modified xsi:type="dcterms:W3CDTF">2005-11-28T20:03:26Z</dcterms:modified>
  <cp:revision>1</cp:revision>
  <dc:subject/>
  <dc:title>Tippens Physics 7th Edition   Chapter 26</dc:title>
</cp:coreProperties>
</file>