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0BA8-6F67-4858-8A3A-C18CA403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F471-3625-4132-B98A-F7987B49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7623-5FB2-4D3E-9C17-E8EB1C14D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F241-5020-40BD-B269-344140A5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A540-A17C-4EF7-85C9-778452B6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1D54-8CF4-4B17-A633-7C29C33D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0C4F-AA08-4CAB-8FE1-6F4AD81D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D0BB-01F3-4BA9-A40C-DB2ADB90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6793-F442-4B52-B770-8FAF95AB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9982-0757-4901-B6CF-A5547502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B0B4-660C-44F2-B51F-0B2A9A90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9E03-0F17-4A36-A6D6-44D3183C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A842-76A9-4C0C-B515-F0E1257E9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ing waves are the result of constructive interfere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frequency of a wave is doubled and other parameters remain the same, the energy of the wave per unit of length will be quadrupl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longitudinal wave, the individual particles of the medium mov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in circl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in elips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parallel to wave propag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perpendicular to wave propag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vibrating string, the third overtone will be the same as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second harmoni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third harmoni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fourth harmoni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ifth harmoni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particles along a wave train are in phase if they have the sa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displace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spe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amplitud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energ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longitudinal wave traveling at 300 m/s has a wavelength of 2 m. Its frequency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100 H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150 H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167 H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600 H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120 waves strike a wall in 1 min and the distance between adjacent crests is 2 m, the speed of the waves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2 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4 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8 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30 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flexible cable 20 m long weighs 16 N and is stretched between two poles with a force of 450 N. The speed of a transverse wave through this medium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16 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23.7 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57.3 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74.2 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frequency of the fundamental for a vibrating string is 200 Hz, the second overtone has a frequency o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200 H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400 H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600 H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800 H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etal string of mass 250 g and length 25 cm is under a tension of 400 N. The fundamental frequency for this string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40 H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400 H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126 H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800 H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physical medium is necessary for the transmission of all kinds of wav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atio of the wavelength to the period is a measure o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frequenc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spe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perio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amplitud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1981080"/>
            <a:ext cx="2895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peed of a wave in a string is a function of the linear density of the string but is really independent of the actual length of the stri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longitudinal wave, the wavelength is equal to the distance between adjacent condensations or between adjacent rarefactio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ing the frequency of a wave results in a decrease in its wavelength if other parameters are held consta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standing wave, the distance between adjacent nodes or between adjacent antinodes is equal to the wavelengt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uperposition principle applies only for transverse wav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hird harmonic is equivalent to the second overtone when characteristic frequencies are described for a vibrating stri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ructive interference results in a wave of greater energy than the sum of the energies of its component wav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9:49:52Z</dcterms:created>
  <dc:creator>User</dc:creator>
  <dc:description/>
  <dc:language>en-US</dc:language>
  <cp:lastModifiedBy>cynthia_ecklor</cp:lastModifiedBy>
  <dcterms:modified xsi:type="dcterms:W3CDTF">2005-12-14T21:14:21Z</dcterms:modified>
  <cp:revision>2</cp:revision>
  <dc:subject/>
  <dc:title>Tippens Physics 7th Edition   Chapter 21</dc:title>
</cp:coreProperties>
</file>