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4C93-F5B5-4AAD-8333-6E1BFCF8B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9E20-1C5A-4D81-9806-8A12F322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2DD2-F080-4D8A-AD20-486DC79D0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5C3D-9CF6-4BAD-B0F0-335FF3EA1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043E-0688-4EA3-8CDF-AC94E7CD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250F-35E8-4613-A609-51176AC7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401C-CEB1-416A-A837-6ED3B9DE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053B-1F94-4F55-A3D4-5F82E26A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9E5C-BAD3-49F3-8781-9DA5F50D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E33E-6CD6-48AD-990F-E9B9D83D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DF62-980D-4E1B-A871-A58F4953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1E2A-FF91-4E9F-A97D-87015926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9072-38D1-4DBC-BA9B-686211D28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nature of light is no different fundamentally from the nature of heat radi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e lumen of red light does not represent the same luminous flux as one lumen of blue ligh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a person on the earth sees a quarter moon, that person must be within the penumbra of its shadow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distance between a surface and a source of light is increased by a factor of 3, the illumination will be one-ninth of its original valu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point source of light will produce only an umbra shadow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ce one candela is equal to one lumen per steradian, the units of intensity and illumination are the sam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luminous intensity is not dependent on the angle a surface makes with incident flux from a source of ligh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isotropic source of 1 cd emits a luminous flux of 4pl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units of flux and luminous intensity have the same physical dimensions, even though they do not represent the same physical quant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luminous intensity does not change as a surface is moved farther and farther from a light sour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though earlier scientists believed light was transmitted by particles, it is now established that light is a wave phenomen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an most responsible for explaining the photoelectric effect wa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Einstei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Planck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Huygen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Maxwel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radio frequency of 780 kHz has a wavelength of approximate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38 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385 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0.0026 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26 n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81480" y="1981080"/>
            <a:ext cx="2895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rared rays are more energetic than visible or ultraviolet ray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erence of light waves is explained more easily on the basis of the wave theory of ligh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ichelson-Morley experiment demonstrated that the velocity of light is a constant, independent of the motion of the sour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nanometer is 10 times as large as the angstr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nergy of light is directly proportional to the wavelengt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irst successful terrestrial measurement of the speed of light was made by Fizeau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hotoelectric effect occurs when light is emitted as a result of electron bombard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20:24:15Z</dcterms:created>
  <dc:creator>User</dc:creator>
  <dc:description/>
  <dc:language>en-US</dc:language>
  <cp:lastModifiedBy>cynthia_ecklor</cp:lastModifiedBy>
  <dcterms:modified xsi:type="dcterms:W3CDTF">2005-12-14T19:32:09Z</dcterms:modified>
  <cp:revision>2</cp:revision>
  <dc:subject/>
  <dc:title>Tippens Physics 7th Edition   Chapter 33</dc:title>
</cp:coreProperties>
</file>