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9C7-054D-4646-8C47-1F24B8C5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54B-B60B-482F-85DD-FAB1BE2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D54-9C9C-43D2-BDFA-8DA01A9B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8A2-3138-4F66-83D8-CFE6F74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6FB-7224-4508-ACBD-A41C4D68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196-BDC5-4A04-9EFF-EE0C03B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501-DCFA-41FF-98DD-6DE1F4D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CB2-AA64-4784-A563-9D3EA0D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B78-29D2-4024-9306-07ADD06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2CD-422F-4E77-B672-4FB8979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3C8-E610-4F07-8583-8F93895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A20-C5B7-4861-AFAD-9D28405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D18-1512-42B3-AB25-98DC5CB2C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ing the end of a closed pipe will double the frequency produc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n gases is larger for the gases with higher molecular ma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s greatest when the mediu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vacu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i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wa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e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sensory effect rather than a measurable physical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Qua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ten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Wave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closed pipe, the second overtone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econ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ir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ur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f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hysical property that is most responsible for resonan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wavefo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qua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t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amental frequency for a 20-cm closed pipe when the speed of sound is 340 m/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.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.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uning forks of 340 and 343 Hz are sounded together. The resulting beats per second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waves are longitudinal waves that require a medium for transmi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tree falls in a forest, there is no sound unless an ear can pick up the vibra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waves travel faster in air than in metals because the air is less den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s increased significantly with rising temper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quality of different sounds is demonstrated by the difference in tones when a C note is sounded on a flute, a violin, and a trump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und of intensity level 40 dB is twice as intense as a sound of 20 d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that fluctuates in intensity because of the simultaneous output of two sources is a consequence primarily of the Doppler eff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Doppler's equation, speeds are reckoned as positive for speeds of approach and negative for speeds of rec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54:51Z</dcterms:created>
  <dc:creator>User</dc:creator>
  <dc:description/>
  <dc:language>en-US</dc:language>
  <cp:lastModifiedBy>cynthia_ecklor</cp:lastModifiedBy>
  <dcterms:modified xsi:type="dcterms:W3CDTF">2005-12-14T21:14:43Z</dcterms:modified>
  <cp:revision>3</cp:revision>
  <dc:subject/>
  <dc:title>Tippens Physics 7th Edition   Chapter 22</dc:title>
</cp:coreProperties>
</file>