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46B-D96D-4F3E-A572-EE9E09D9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03C-AAE4-4BC8-BC77-FCBE415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32C-5F65-4B2C-9C4D-DDA78741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9DC-C191-4AC7-84BF-AFE15D03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606-7B25-412B-B1B8-930793B4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8A1-465A-485F-ABFB-51152883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90C-AFEF-481A-B698-9311B766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F6D-B00B-43BF-BDB0-F6D2AA6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3AF-78DE-4318-8BA3-3148C791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FA0-625F-4E5C-9894-E493092B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AF8-D2F7-48C6-9CE8-7E32A70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6A4-CA85-4FA0-8240-B258680E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91BA-DB80-4535-A609-5F29AA32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ion of a projectile fired at an angle is an example of uniformly accelerated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ant force acting on a projectile is its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rojectile fired horizontally will strike the ground in the same time as one dropped vertically from the same position if we neglect the effect of ai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rojectile launched into space at any angle will have a constant horizontal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rtical motion of a projectile is uniformly accelerated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nge of a projectile depends only on its initial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orizontally fired projectile will drop 32 ft during the first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apple drops from a tree at the same instant a projectile is fired toward it from the ground, they will still collide in the ai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falls freely from rest. Its position after 2 s is how far below the point of releas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2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4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96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8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lgebraic sign of acceleration depends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direction on the force of the accelerated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whether an object is speeding up or slowing dow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sign of the final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position of the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motion can have a constant velocity only if it moves in a straight pa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traveling initially at 24 ft/s slows to 12 ft/s in 3 s. Its acceleratio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-4 ft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4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8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falling freely from rest near the surface of the earth falls a distance of 32 ft by the end of the first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vacuum, all bodies fall with the same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object's velocity is decreasing constantly, it will always have a negative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thrown downward in a gravitational field has the same acceleration as one dropped from re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ball thrown vertically upward, its upward motion with respect to position and velocity is just the reverse of its downward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locity and position of a free-falling body after 2 s are numerically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bsence of friction, all bodies, large or small, heavy or light, fall to the earth with the same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9:02Z</dcterms:created>
  <dc:creator>User</dc:creator>
  <dc:description/>
  <dc:language>en-US</dc:language>
  <cp:lastModifiedBy>cynthia_ecklor</cp:lastModifiedBy>
  <dcterms:modified xsi:type="dcterms:W3CDTF">2005-12-14T19:15:27Z</dcterms:modified>
  <cp:revision>3</cp:revision>
  <dc:subject/>
  <dc:title>Tippens Physics 7th Edition   Chapter 6</dc:title>
</cp:coreProperties>
</file>