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D8D-49B1-4A5F-9953-B683B358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777-1B09-47C2-A15A-3AD084C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E55-647C-4E4E-BFCE-C46B5725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B29-0661-4BE0-81E0-3657F34F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80F-211D-4A9F-BE28-587FFF30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738-AA4B-4BFA-A62A-8DD359D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10C-1DC6-49BC-95C5-C3009509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882-A076-41D2-AFCF-9809C4B6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07E-03EB-44D5-BA5A-B6CCF38C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056-CDF7-4637-8FFF-AD2F41B4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DC2-35BF-4BE1-A8A4-C5EA2D0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C2D-200D-46C4-8484-F9306F2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A324-A479-4643-9D53-C21E4A0BA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arge hysteresis loop means a more efficient electromagnetic devi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materials having a high permeability will generally have a low retenti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fields have no effect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lectric charges at res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lectric charges in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ermanent magnets at res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ermanent magnets in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through a wire is directed into the page. If a magnetic field is directed from right to left, the force on the wire will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o the r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o the le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up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own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olenoid has 60 turns of wire and a length of 16 cm and supports a current of 10 A. The relative permeability of the core is 1200. The magnetic induction at the center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.4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.83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.65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1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198108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magnetic poles repel each other, whereas unlike magnetic poles attract each 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flux lines are drawn in such a way that the direction at any point is the same as the direction of the force exerted on a unit south pole placed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ber is a unit of magnetic flux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lectron projected from right to left through a magnetic field directed into the page will be deflected down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rea of a hysteresis loop is a measure of flux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ght-hand rule can be used to determine the direction of a magnetic field surrounding a current-carrying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urrent-carrying conductors placed near each other will experience a force of attraction if their currents are oppositely dir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gnetic field lines for a solenoid are the same shape as those for a bar mag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4:53Z</dcterms:created>
  <dc:creator>User</dc:creator>
  <dc:description/>
  <dc:language>en-US</dc:language>
  <cp:lastModifiedBy>cynthia_ecklor</cp:lastModifiedBy>
  <dcterms:modified xsi:type="dcterms:W3CDTF">2005-12-14T19:30:54Z</dcterms:modified>
  <cp:revision>2</cp:revision>
  <dc:subject/>
  <dc:title>Tippens Physics 7th Edition   Chapter 29</dc:title>
</cp:coreProperties>
</file>