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1F4-4671-452A-BBC7-5BE62583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E70-D355-4F5D-8DFD-EB017E8E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002-71AF-46E8-991B-4768EC21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CF0-1106-42A7-8951-B4731060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E55-326A-4AF0-8160-40C767A3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1EC-C1A9-4D8E-82EF-22D34D08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05D-FB5B-4D29-BA3A-1A4236B0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FB0-0046-4158-8321-D89EEF69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5FA-5A33-418B-A011-87A0E5EE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B02-BA4F-4C7C-8E8B-8972933C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4A9-CDD8-426A-9FA1-DD854FD1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703-E5B2-491D-9501-73FDE840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852F-3ED6-4A4C-B2D5-58414E431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therford's work with the scattering of alpha particles resulted in a nuclear theory of mat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rding to the modern theory of relativity, newtonian mechanics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otally incorr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pproximately correct for any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pproximately correct for speeds much less than the speed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correct for all velociti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rding to the Bohr theory of an atom, an electron may circle the nucleus indefinitely without radiating energy 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radius of its orbit is an integral multiple of the nuclear radi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ts orbital path is an integral number of de Broglie wavelength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ts orbit is an integral multiple of its angular moment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the coulomb force is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de Broglie wavelength of an electron when it is accelerated through a potential difference of 200 V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86.8 p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62.2 p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3.6 p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6.92 p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198108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instein's second postulate tells us that the velocity of light is always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kinetic energy of a particle traveling at relativistic speeds is equal to the difference between its total energy and its rest mass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photoelectric effect, a surface with a large work function is likely to produce photoelectrons with higher kinetic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Broglie wavelengths can be calculated only for charged particles such as protons and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avelengths from an emission spectrum of an element should not be expected to coincide with the wavelengths determined from an absorption spectrum of that ele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almer spectral series in an emission spectrum results from electrons in higher energy levels dropping to the ground state for the hydroge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able electron orbits are those that contain an integral number of de Broglie wavelength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nergy of an electron in the first excited states is 4 times its energy in the ground st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1:31:17Z</dcterms:created>
  <dc:creator>User</dc:creator>
  <dc:description/>
  <dc:language>en-US</dc:language>
  <cp:lastModifiedBy>cynthia_ecklor</cp:lastModifiedBy>
  <dcterms:modified xsi:type="dcterms:W3CDTF">2005-12-14T19:35:21Z</dcterms:modified>
  <cp:revision>3</cp:revision>
  <dc:subject/>
  <dc:title>Tippens Physics 7th Edition   Chapter 38</dc:title>
</cp:coreProperties>
</file>