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C29-89F1-498A-9763-32C3FEE0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D37-EB36-4180-99AD-2679A63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6BC-08D9-43C2-802B-6FFFB70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C39-FA01-41CB-B3DD-3FF95B5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4E0-5241-470C-8C68-470E6B0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FF2-578E-4E70-9B0E-FFE01C2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302-A36A-4975-93C9-F604157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3E2-27A5-4AEE-9F74-D84DE3DB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F75-2DB2-4ADA-BFFE-72041544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339-D2DF-41D1-8DA1-A0D295F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C74-E94F-444E-8F99-96C5672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83C-F13D-4F08-BD1B-986A998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34C-C11D-4722-8C9A-E6FA7493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dder base is 3 m away from a house, and the fully extended ladder is 7 m long when it leans against the house. How high does the ladder reach on the hou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8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bout 6.3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bout 7.6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5 minutes after the hour, a minute arm forms a 30 degree angle. At 15 minutes, it forms a 90 degree angle, and at 20 minutes it forms a 120 degree angle. What angle will it form at 30 minut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8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 deg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7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multiplying two exponents with the same base, add the ex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multiplying two exponents with the same base, multiply the ex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multiply two numbers in scientific notation, you must subtract the second exponent from the first expon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de of a right triangle opposite the right angle can be equal to one of the other sid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know the length of one side of a right triangle and the size of the right angle, you can find the other two sides and two ang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variables increase in proportion to one another, they are said to have an inverse relationsh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sitive number multiplied by an even number of negative numbers will always result in which type of numb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si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ga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xpon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r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and distance of a certain train are directly related. This means that when the speed increases, the distance does wha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mains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y increase or decr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29:37Z</dcterms:created>
  <dc:creator>User</dc:creator>
  <dc:description/>
  <dc:language>en-US</dc:language>
  <cp:lastModifiedBy>User</cp:lastModifiedBy>
  <dcterms:modified xsi:type="dcterms:W3CDTF">2005-11-28T18:29:40Z</dcterms:modified>
  <cp:revision>1</cp:revision>
  <dc:subject/>
  <dc:title>Tippens Physics 7th Edition   Chapter 2</dc:title>
</cp:coreProperties>
</file>