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75F-8FB3-4F3A-A294-177714B5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FAE-3377-4B76-9142-650AB3EA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66F-AEB2-4EC4-A384-9494B3EF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5FD-E9B0-45F4-888B-BAF1E73D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40D-AC5B-4AA8-BDE6-2AB6C6B0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DC4-1761-4A6F-8EC5-7AC0586B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63F-A8E7-4CC3-89FF-23A64629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753-91CA-4DFE-AF55-7AA63772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ECF-3105-4452-9BE1-28E26C9C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5C4-17C2-4D1C-BBE9-EC55DB74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9C0-36F1-4971-8050-B8C00DE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58A-5948-4DFE-B792-FBE080E6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1FEC-FB0E-4EB7-9A12-1F8148D8C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objects are in thermal equilibrium when they have the s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rmal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otential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efficient of linear expansion will vary only with a change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nitial 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rmal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ateri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flame is held to the bulb of a mercury-in-glass thermometer, the mercury level wi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ri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dro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rop and then ri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rise and then dro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1981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objects that have the same temperature also have the same thermal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objects are said to be in thermal equilibrium if and only if they are at the same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enty Celsius degrees represents the same temperature interval as twenty kelvi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temperature interval is converted from Rankine degrees to kelvins, the number of Rankine degrees should be multiplied by 5/9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specific temperature in degrees Fahrenheit is converted to the corresponding temperature in degrees Celsius, the number is multiplied by 9/5 and added to 3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given temperature interval, the same linear expansion coefficient may be used for the same material, regardless of the choice of units for 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solid disk with a hole in its center, the diameter of the disk and the diameter of the hole will increase in length per unit length at a rate given by its linear expansion coeffici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olume expansion coefficient for a solid is approximately equal to 3 times the linear expansion coefficient, but this does not represent a true equa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01:30Z</dcterms:created>
  <dc:creator>User</dc:creator>
  <dc:description/>
  <dc:language>en-US</dc:language>
  <cp:lastModifiedBy>cynthia_ecklor</cp:lastModifiedBy>
  <dcterms:modified xsi:type="dcterms:W3CDTF">2005-12-14T19:23:52Z</dcterms:modified>
  <cp:revision>2</cp:revision>
  <dc:subject/>
  <dc:title>Tippens Physics 7th Edition   Chapter 16</dc:title>
</cp:coreProperties>
</file>