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4ED-B8B7-4B17-9B8F-22A87A7A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842-7A39-4CFA-879B-22891F64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213-F003-449D-9D8B-FE7B8C91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D55-D761-4202-8183-0B2A996E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3E1-4C04-4E16-A049-C2DF98EF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4CF-6CE0-4CD9-9FD9-ABBADF1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9DE-EE4D-484C-90D9-14B31617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AF5-63FC-4801-BAA4-D6627A0C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161-4007-4D73-9D6B-06595A2D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F80-3F17-49B6-BEA2-BF8E344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7F9-5F8B-4CDA-B2E8-58FB34F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19C-A44B-4029-B9E4-671C427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4261-4ADE-476C-919E-85B6239AE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ood background in mathematics, though desirable, is not really helpful in understanding basic concep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physics learning takes place in the classro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better to wait until the weekend to study physics than to study dai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rning most often comes from working proble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9810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s is a field of science that is distinguished easily from other fields such as chemistry or biolo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hematics serves many purposes, but its main value is to provide a professional tool for the scientist or engine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quantities in physics should have specific, measurable defini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s is a branch of physics devoted to the study of objects at rest or in motion with constant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problem or definition discussed by an instructor is also in the text, it is better to jot down a reference rather than to take detailed no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s is a quantitative sci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some information in the text might be misunderstood, it is better to wait until after the lecture to read the materi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workable hypothesis fails only one time in many trials, it still may be incorporated into a scientific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25:49Z</dcterms:created>
  <dc:creator>User</dc:creator>
  <dc:description/>
  <dc:language>en-US</dc:language>
  <cp:lastModifiedBy>User</cp:lastModifiedBy>
  <dcterms:modified xsi:type="dcterms:W3CDTF">2005-11-28T18:26:06Z</dcterms:modified>
  <cp:revision>1</cp:revision>
  <dc:subject/>
  <dc:title>Tippens Physics 7th Edition   Chapter 1</dc:title>
</cp:coreProperties>
</file>