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868-BB55-4FBB-816B-DD3059AA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D2C-8C9E-4382-9BD6-ED8925D8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F8E-750E-442B-82D8-9A7BB275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F7C-E084-483D-A19F-AE27459C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3E1-ED53-4E10-8022-3D3D04DE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4FC-27DF-4DD6-B5E1-35D2572A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7A8-2EDB-46F7-A5DD-C8AF312B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1D5-E873-4D2F-AE4F-2773CB16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675-28E5-4D65-8CCC-D25031E4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7BC-1836-44E1-A531-386323C2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EF1B-DDC2-42C7-BD49-DB5E4193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BE1-5607-4606-BBA6-4075341E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6221-7B4C-4767-A23A-7D4C6FBA7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igher the coefficient of friction between two surfaces, the higher will be the angle of repose for those surfac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wo vertical ropes are used to support a 20-N weight, the tension in each rope must 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0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40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0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30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ope attached to a post in the ground is pulled horizontally with a force of 80 lb. The pole pulls back with a forc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8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0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6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cannot apply for a body in translational equilibrium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SFx =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onstant spe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ncreasing spe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SFy =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tension in the cable for the arrangement in Fig. 4-3. Neglect the weight of the boar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72.1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67.3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5.0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37.2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easier to pull a sled at an angle than it is to push a sled at an angle because of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lower normal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lower we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igher normal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echanical advan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198108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oving body cannot be in equilibri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equilibrium problems, the normal force will always equal the weight of a bod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rding to Newton's first law of motion, every action force has an equal but opposite reaction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and reaction forces do not neutralize each other because they act on different objec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 a condition of equilibrium, any one of the forces acting on an object is the equilibrant of the vector sum of all the other forc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c friction does not exist until motion is impen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ximum force of static friction is directly proportional to the weight of a bod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arallel force required to move an object over a surface at constant speed is equal to the magnitude of the force of kinetic fri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32:50Z</dcterms:created>
  <dc:creator>User</dc:creator>
  <dc:description/>
  <dc:language>en-US</dc:language>
  <cp:lastModifiedBy>cynthia_ecklor</cp:lastModifiedBy>
  <dcterms:modified xsi:type="dcterms:W3CDTF">2005-12-14T19:13:55Z</dcterms:modified>
  <cp:revision>2</cp:revision>
  <dc:subject/>
  <dc:title>Tippens Physics 7th Edition   Chapter 4</dc:title>
</cp:coreProperties>
</file>