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E4A7-254E-425D-818F-95290E6B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76CC-B147-4FB9-8DF1-DF8D73D8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F33E-219E-49CB-B194-61FCB90B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40C-488A-49BA-95A6-E25FBF1F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647C-1025-4E48-B22B-265881F6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9FD8-BFAE-40BF-BF5C-8A9331C4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3951-37A3-466E-B79A-3275146B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91E2-47E4-4428-8617-CE1109E9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05D6-9B9E-4489-9370-E53703B8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D0A-B679-4033-8FD9-DC7B8770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151-A1AF-466F-A1AF-E07B497A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EC7E-A72B-49CA-ADE5-E4EBCCDC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2B44-99F4-474F-8BF7-278E0CF70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eight of a body whose mass is 1 slug is equal to approximately 32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eight of a 9.8-kg body is 1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ss of an 80-lb sled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5 slug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.5 slug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2.5 k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56 slug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eight of a 10-kg block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98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9.8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0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0.98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cceleration will a force of 40 N impart to a mass of 5 k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8 m/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00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8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8 c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resultant force will give a 64-lb object an acceleration of 6 ft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384 l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0.7 l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2 slug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12 l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 1-N force acts on a 1-kg body, the body rece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an acceleration of 9.8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 speed of 1 m/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an acceleration of 980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an acceleration of 1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orce of 20 N gives an object an acceleration of 5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What force will give the same object an acceleration of 16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64 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32 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4 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56 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10-kg mass is suspended by a rope. What is the acceleration if the tension in the rope is 118 N while the mass is in motion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1.8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0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65-lb body is suspended by a rope and accelerated upward with an acceleration of 8 ft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The tension in the rope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96 l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6 l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81 l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48 l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kilogram is the metric unit of we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ss m in Fig. 7-2 required to give the system an acceleration of 6 m/s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31.0 k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31.6 k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32.6 k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41.9 k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30-kg girl steps to shore from a 60-kg boat, giving the boat an acceleration of 2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If water resistance is neglected, the girl receives an acceleration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-4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-15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-1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-8 m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1981080"/>
            <a:ext cx="2895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ss of an object on the moon is the same as its mass on ear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ritish unit for mass is the slu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ton's second law of motion is strictly true only in the absence of friction forc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ss of a body is dependent on the acceleration due to grav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cceleration an object receives is proportional to the applied force, the constant of proportionality being the reciprocal of its mas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eight of an object is equal to the product of its mass and the gravitational acceler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ton's second law of motion applies either to a system of bodies moved together as a whole or to any body that is a part of such a syste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43:03Z</dcterms:created>
  <dc:creator>User</dc:creator>
  <dc:description/>
  <dc:language>en-US</dc:language>
  <cp:lastModifiedBy>cynthia_ecklor</cp:lastModifiedBy>
  <dcterms:modified xsi:type="dcterms:W3CDTF">2005-12-14T21:11:54Z</dcterms:modified>
  <cp:revision>3</cp:revision>
  <dc:subject/>
  <dc:title>Tippens Physics 7th Edition   Chapter 7</dc:title>
</cp:coreProperties>
</file>