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17F-A6AC-4A60-A157-EEDE2404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E72-1064-4218-86CE-6562D1AE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304-AB91-4A97-A93C-25CA7017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051-0600-4EFC-8D98-F2430EB3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CF6-83F5-4BDE-AD8D-A989BAB1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B07-B823-4252-8AD0-EE8AA7E6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68D-F7DD-4183-8911-7D02E50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B60-81CE-4063-95B7-A5A73046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FB8-7D2C-4621-92BE-1C22D2BB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2F1-939A-41DD-9472-3626190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EB8-02F6-4105-8322-9B86D12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A4B-4239-4325-BB1D-B6060045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560A-ADF9-44C9-89A8-45F363E80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citance of a capacitor increases with a decreas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electric const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ermittiv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late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late sepa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 capacitors in ser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total capacitance is the sum of the individual capacitan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total charge is the sum of the charges on each capac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total voltage is the sum of the voltages across each capaci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available charge is shared between two or more capaci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tal capacitance of two capacitors connected in series is less than that of either capacitor alo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citance is dependent on the potential difference placed across its pl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conductor has a capacitance of one farad, a transfer of one coulomb of charge to the conductor will increase its potential by one vo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citance of a given capacitor will be higher if the separation of the plates is reduced without changing the dielectr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 of a dielectric between the plates of a capacitor decreases the voltage across it and hence reduces the capaci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charge on a capacitor is doubled, the potential energy will be quadrup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capacitors connected in parallel, the voltage across each capacitor is the same as that across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mount of charge that can be placed on a conductor does not depend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dielectric streng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capac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potent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ts size or shap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03:22Z</dcterms:created>
  <dc:creator>User</dc:creator>
  <dc:description/>
  <dc:language>en-US</dc:language>
  <cp:lastModifiedBy>User</cp:lastModifiedBy>
  <dcterms:modified xsi:type="dcterms:W3CDTF">2005-11-28T20:03:26Z</dcterms:modified>
  <cp:revision>1</cp:revision>
  <dc:subject/>
  <dc:title>Tippens Physics 7th Edition   Chapter 26</dc:title>
</cp:coreProperties>
</file>