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26F-E0E5-43F2-863B-FFBC0CBE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DC7-2434-481C-A13B-DC17527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2AB-0E78-41A4-8261-5EB1C4A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D44-D4E5-4C52-86E6-A9B0DE50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352-A8A4-4737-947C-E63FC699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45E-E0D1-4C98-9FDA-1970E215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496-D461-4C01-A243-C6DB5276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C7C-7546-49E3-829F-CC63B34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6CF-2337-42EC-BBD6-2780523C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DAF-D672-470B-AB25-12AE7B8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716-2C50-4D31-A551-F79805E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596-A52A-46B2-8A63-C3158BD6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A12D-3A4B-492E-9733-7188DFBA2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entum is conserved in all collis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gram-meter per second is a larger unit of momentum than the slug-foot per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unit of impuls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und-sec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ewton-sec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Pound-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wton-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velocity of a body is doubled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ts kinetic energy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its momentum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ts acceleration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its potential energy is doubl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0-kg astronaut releases 1 g of gas from a special pistol at a speed of 50 m/s. As a result, he moves in the opposite direction 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50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5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5 c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car is to gain momentum, it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ove rapid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ccele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lose inerti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lose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e of a golf club exerts an average force of 4000 N while it is in contact with the golf ball. If the impulse is 80 N * s, the time of contac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0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02 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ght steel balls are suspended from equal heights by threads so that they are all in contact. If two balls are pulled away to the left and released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ne ball will leave from the right with twice the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wo balls will leave from the right at approximately the same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ither (a) or (b) might app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ither (a) nor (b) appl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40-kg cart moving at 3 m/s makes a head-on collision with a 20-kg cart at rest. If the collision is completely inelastic, the speed with which the carts leave the impact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collision in Question 18 is completely elastic, the speed of the 20-kg cart after collision will be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6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tal linear energy of colliding bodies before impact must always equal the total energy after imp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-g bullet is fired into a 2-kg block of wood suspended from a cord. If the block and bullet rise to a height of 10 cm after impact, the initial velocity of the bullet wa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.8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81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35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8.1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igor with which a body restores itself to its original shape after deformation is a measure of its elasticity or restitu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efficient of restitution equal to 0.5 is an indication that the collision is inelasti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s for impulse are equivalent to the units fo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that has linear momentum also has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ot-pound per second is a unit of linear moment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bouncing against a floor with perfectly elastic collisions will continue to bounce at the same h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mentum is a scalar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6:54Z</dcterms:created>
  <dc:creator>User</dc:creator>
  <dc:description/>
  <dc:language>en-US</dc:language>
  <cp:lastModifiedBy>cynthia_ecklor</cp:lastModifiedBy>
  <dcterms:modified xsi:type="dcterms:W3CDTF">2005-12-14T21:12:23Z</dcterms:modified>
  <cp:revision>3</cp:revision>
  <dc:subject/>
  <dc:title>Tippens Physics 7th Edition   Chapter 9</dc:title>
</cp:coreProperties>
</file>