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D56-5B5D-417F-BE25-63AA0B2C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7BA-82B9-49EB-9D59-8F957525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B43-DF34-4177-A1EC-523E72EB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DB4-11AC-4D67-B868-E5408EF7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FB0-21B9-4020-A8F9-77A60E49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229-2C14-40C9-8069-20F3AA29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0D8-AC84-4265-9590-3DA6656B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81E-B040-4F44-AE6A-36358B19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528-EEA2-44B5-95F9-D6F6DD5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F47-B592-4DFA-82A9-87C09A94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089-630A-4A30-BBB1-E55AFD79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177-408E-43D1-A1B3-FF751D1C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8371-BE49-4088-A9D5-8320BD7E9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shunt-wound motor, the output speed can be controlled by varying the input current to either the field windings or the armature windin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ries-wound motor is preferable if a large starting torque is desir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ire parallel to the paper moves downward into a flux density directed into the paper. The induced current will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directed to the le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zero because the motion is perpendicular to the fie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irected to the r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opposite to the induced emf, according to Lenz's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stantaneous emf produced by a simple ac generator is a maximum when the angular displacement of the loop i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tegral multiple of p/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dd multiple of p/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ven multiple of 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odd multiple of 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ransformer has 400 secondary turns and only 50 primary turns. If an ac voltage of 120 V is connected to the primary coil, the output voltag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5 V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40 V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30 V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960 V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198108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z's law is a consequence of the fact that energy must be conserv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gnitude of an induced emf is directly proportional to the rate at which magnetic flux lines are cut by a conduc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enerator is a device that converts magnetic energy to electr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ransformer can be used for alternating current on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ack emf in the armature of an electric motor is zero when the motor is started and rises as the motor's speed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armature of a generator is rotating with a constant angular velocity in a constant magnetic field, the induced emf will be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 ac generator, the maximum current occurs when the induced emf is a minim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ry motor is also a genera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19:19Z</dcterms:created>
  <dc:creator>User</dc:creator>
  <dc:description/>
  <dc:language>en-US</dc:language>
  <cp:lastModifiedBy>cynthia_ecklor</cp:lastModifiedBy>
  <dcterms:modified xsi:type="dcterms:W3CDTF">2005-12-14T19:31:44Z</dcterms:modified>
  <cp:revision>2</cp:revision>
  <dc:subject/>
  <dc:title>Tippens Physics 7th Edition   Chapter 31</dc:title>
</cp:coreProperties>
</file>