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6E9-89C0-4FFC-BFD3-759AAD02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BAA-284E-4A98-9CE2-5F81F873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27D-2CAD-4E84-B8FD-23AAF11E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5C2-D2C1-47E3-8F25-DCA8B7F8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E9E-335B-469D-88FC-CEDEF4E8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493-468C-476C-964C-1056839B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BF4-5852-4F65-ACB5-35C2F346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192-F102-4DF8-BC48-A665A71A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F19-A19A-4EF2-8DFD-20BF2DC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4ED-166B-449C-B81C-6A29B01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94C-4C6C-4CDA-8051-E229847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2F9-D6B8-48EA-84FA-54B2A15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397C-F062-4B6D-9B18-C062E82E5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lternating voltage has a maximum value of 30 V. The effective valu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1.2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0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2.9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 capacitance in an ac circuit increases, the resonant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emains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pproache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tio of the pure resistance in an ac circuit to the impedance is known a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wer fa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hase ang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esonant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t reac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ircuit containing pure capacitance, during a period of one time constant,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harge decays to 63 percent of its initial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harge increases to 37 percent of its initial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urrent decays to 37 percent of its initial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apacitor is completely char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n ac circuit containing a coil with an inductance of 0.3 H, the voltage is 120 V at 60 Hz. If we neglect resistance, the effective current in the coil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27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53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.06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.12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rcuit contains a 12-degree F capacitor, a 40-ohm resistor, a switch, and a 20-V dc battery connected in series. After the switch is closed, the capacitor can be considered fully charged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00048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0012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0024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048 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apacitive circuit, the current delivered to a capacitor will rise to 63 percent of its maximum value after charging for a period of one time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n inductive circuit, the current decays to 37 percent of its initial value in a period of one time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apacitor with a breakdown voltage of 150 V would be safe to use in an ac circuit if the ac voltage were only 12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ive reactance and inductive reactance increase with an increase in frequency of an alternating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wer factor in an ac circuit is the ratio of its resistance to its imped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a condition of resonance in an ac circuit, the current will be in phase with the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ance, impedance, and resistance are all measured in the same physical unit (ohms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phase angle occurs when the current leads the voltage in an ac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20:00Z</dcterms:created>
  <dc:creator>User</dc:creator>
  <dc:description/>
  <dc:language>en-US</dc:language>
  <cp:lastModifiedBy>cynthia_ecklor</cp:lastModifiedBy>
  <dcterms:modified xsi:type="dcterms:W3CDTF">2005-12-14T21:14:55Z</dcterms:modified>
  <cp:revision>2</cp:revision>
  <dc:subject/>
  <dc:title>Tippens Physics 7th Edition   Chapter 32</dc:title>
</cp:coreProperties>
</file>