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508-C17F-4CAB-AEA2-EB1E0C8C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41A-9EAA-44CE-9753-E3BA62A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3FC-E727-48B8-B0E0-CEE7138A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B58-8467-47FE-867D-DC2C1EAE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5DA-B5F7-4E24-B71F-F24364B2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B71-6B6D-4E50-B4D4-D5B7191E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67D-B55E-4BC6-BC1D-C3BF4CC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E65-C501-4C02-A4D1-D49B7F5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EBB-4597-4901-9220-ADF4DAC4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1B9-2BFD-4A00-8402-A7F4A39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FC6-8D51-4E65-B57C-1E70F18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9B2-043D-4D75-9EDF-21AF3E8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A941-2645-4822-8211-F5B7C5C0D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pens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th Edi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6527880"/>
            <a:ext cx="56563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unction of the moderator in a nuclear reactor is to slow down the nuclear fission process and thereby control the release of ener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topes are atoms that have the s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number of neutr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atomic nu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number of nucle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atomic m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cess by which a nucleus with a large mass number splits into lighter nuclei is call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fi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u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alpha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beta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light nuclei are fused in a nuclear reaction, the average energy per nucle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remains the s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de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cannot be determin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nuclear reactor, which of the following is used to slow down the fast neutrons released in the fission proces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Moder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ntrol r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Radiation shie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eat exchang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 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81080"/>
            <a:ext cx="3657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198108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ameter of an atom is approximately 10,000 times the diameter of its nucle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ce between the mass number of an isotope and its atomic number is equal to the number of nucleons in the nucleu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lement may have more than one mass number, but the mass number for a stable isotope is fix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dioactive half-life of a substance is one-half of the time required for all the unstable atoms in that substance to dec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lpha decay, the mass number of an unstable isotope is reduced by 4 and the atomic number is reduced by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inding energy of an element is equivalent to the product of the mass defect and the square of the velocity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alanced nuclear equation, the sum of the atomic numbers and the sum of the mass numbers must be the same on both sides of the nuclear equ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nuclear fission energy is emitted, whereas in nuclear fusion energy is absorb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r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Fa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32:38Z</dcterms:created>
  <dc:creator>User</dc:creator>
  <dc:description/>
  <dc:language>en-US</dc:language>
  <cp:lastModifiedBy>cynthia_ecklor</cp:lastModifiedBy>
  <dcterms:modified xsi:type="dcterms:W3CDTF">2005-12-14T19:35:37Z</dcterms:modified>
  <cp:revision>2</cp:revision>
  <dc:subject/>
  <dc:title>Tippens Physics 7th Edition   Chapter 39</dc:title>
</cp:coreProperties>
</file>