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4632-970A-44D8-A38A-445DF1380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0649-2D7D-47BA-A349-05F2601DB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DAB7-3FE9-4DBF-8842-1005F75CC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702E-717C-4759-BF79-947AFCD63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0D51-5B7F-4716-94D2-AA0168B2F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860A-7220-4D8F-A1BA-5C35B484D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EEA2-DBBA-4A47-B039-9AA1D6217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21D4-3F3D-46A4-A3C7-AEEBACB29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1F8F-EE45-42D1-A5CB-B512E6726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3DA9-104F-42AD-B623-2AA3A32C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A121-DB7E-41FF-BBA8-A36CFCE4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8D63-B901-47B0-814B-C14AFC6D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26017-95F2-45E0-952E-AD3EBDA222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pens</a:t>
            </a: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th Edi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6527880"/>
            <a:ext cx="56563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cGraw-Hill Companies, Inc. Permission required for reproduction or displa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of the following is not a property of a material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Specific he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Heat capac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Heat of fus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Heat of combus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of the following represents the largest transfer of heat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600 ca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3 Bt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0.7 kca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2200 ft * l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 a liquid freezes, i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evolves hea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absorbs hea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decreases in temperatur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sublim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a given substance, which of the following processes transfers the largest amount of thermal energy per unit of mass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Fus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Vaporiz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Freez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Sublim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swer K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14400" y="1981080"/>
            <a:ext cx="3657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81480" y="1981080"/>
            <a:ext cx="289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nce the Btu is based on the pound, its magnitude depends on the acceleration due to gravit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Btu is a larger unit of heat than the kilocalori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pecific heat of any material is the same numerically in either the metric or British system of unit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unit mass of water will absorb a larger quantity of heat per degree change in temperature than any other common substan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nce temperature is a measure of the average kinetic energy per molecule, the absorption or emission of thermal energy is always accompanied by a change in temperatur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than 5 times the thermal energy is required to vaporize 1 g of water than is required to melt 1 g of i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wo objects that have the same heat capacity must be made of the same material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heat lost is equal to the heat gained unless a change of phase occur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9:03:03Z</dcterms:created>
  <dc:creator>User</dc:creator>
  <dc:description/>
  <dc:language>en-US</dc:language>
  <cp:lastModifiedBy>cynthia_ecklor</cp:lastModifiedBy>
  <dcterms:modified xsi:type="dcterms:W3CDTF">2005-12-14T19:24:06Z</dcterms:modified>
  <cp:revision>2</cp:revision>
  <dc:subject/>
  <dc:title>Tippens Physics 7th Edition   Chapter 17</dc:title>
</cp:coreProperties>
</file>