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241-0C08-45B5-AD3C-9459DC8A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D91-ACFB-434F-8C23-17C8812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7A1-EF00-4103-A6E2-245E72B1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C0A-69CA-49DA-ABAB-E1404016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067-1288-4B90-A24F-57873A09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F24-2EF0-401D-BCBB-62F9CE70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673-908D-4DC5-9DB5-82D6225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743-355E-4F76-AD24-E0C8AA66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75F-ADB7-45B5-9F72-92D516B9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5B0-95F0-41AA-A971-63DA65DE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3CD-C5C7-4BB0-B5E3-ECC182EA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4C2-AC41-47C2-BB8B-72A6FF2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5888-F421-4703-B336-2FA2661F5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possible for ice to be in thermal equilibrium with boiling wa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ame mass of any ideal gas will occupy the same volume at standard temperature and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yle's law states that, when other parameters are held constant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ressure varies directly with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ressure varies directly with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ressure varies inversely with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volume varies directly with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mount of water contained in the air of a given room is described most accurately by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bsolute humid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relative humid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apor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w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possible for a substance to coexist in all three of its phases in equilibrium when the substance is at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ritical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ritical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riple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w 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temperature of 273 K and a pressure of 1 atm, 1 mol of any gas will occupy a volu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f 1 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f 22.4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qual to its molecular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of 22.4 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d that the mass and temperature of an ideal gas are maintained constant, the volume of a gas is directly proportional to its absolute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mass and volume of a gas remain constant, doubling the pressure will also double the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of a single molecule of a substance is known as its molecular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temperature of 273 K and a pressure of 1 atm, 1 mol of any gas will occupy a volume of 22.4 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absolute temperatures and absolute pressures can be used in applying the general gas law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relative humidities inside and outside the house are the same, the dew points must also be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aturated vapor pressure for a substance is greater at higher temperatur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forms of vaporization are cooling proce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19:06Z</dcterms:created>
  <dc:creator>User</dc:creator>
  <dc:description/>
  <dc:language>en-US</dc:language>
  <cp:lastModifiedBy>cynthia_ecklor</cp:lastModifiedBy>
  <dcterms:modified xsi:type="dcterms:W3CDTF">2005-12-14T19:25:24Z</dcterms:modified>
  <cp:revision>2</cp:revision>
  <dc:subject/>
  <dc:title>Tippens Physics 7th Edition   Chapter 19</dc:title>
</cp:coreProperties>
</file>