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F58-55E6-4697-BBB6-46F1F32C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8A6-ECDF-447F-97D3-8BFB9C90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31B-6AA5-4894-8EA6-48FB250B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DB4-4CE8-4017-B9D3-BA51B1A7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689-D379-43BD-BD28-6E33BDE3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2BE-BDA4-476A-A624-CAA70508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A3D-A8F8-4790-83D9-FDB17B39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34C-5EB2-4A31-90E4-0F1F35DB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92F-758D-4151-AFE4-19BE6CD3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B48-8161-402D-AF42-FEFA1478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36AC-57F1-47CA-8BFA-998FC57C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06D-1257-4D42-8C55-4E23DA98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D98B-46A3-4BDC-A225-542D3105F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simple microscope, the greatest magnification occurs as the object gets closer and closer to the lens surf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ever the object is beyond the focal point of a converging lens, the magnification will always be nega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es formed from real objects by diverging lenses are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irtu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enlarg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nver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re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iverging lens may not ha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 negative focal 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 positive focal 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one plane surf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one convex surf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compound microscope, the image formed by the eyepiec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re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nver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r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iminish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gative magnification always means that the imag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er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re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virtu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nver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s located 10 in. from a thin converging lens whose focal length is 30 in. The image distance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-7.5 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+7.5 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5 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-15 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iverging meniscus lens has a focal length of -20 cm. If the lens is held 10 cm from the object, the magnification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-0.667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+0.667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-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+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6-ft-high image is projected on a screen located 40 ft from a converging lens. If the object size is 0.2 ft, the focal length must 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736 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.29 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.38 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.79 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1981080"/>
            <a:ext cx="289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ens that is thinner in the middle than it is at the edges will be a converging le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lano-concave lens has a virtual foc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surfaces of a converging meniscus lens should be reckoned as positive, according to conven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tual images are formed on the same side of the lens as the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verall magnification of a compound optical instrument is equal to the product of the magnifications of the component len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matic aberration is a lens defect in which the extreme rays are brought to a focus nearer the lens than those rays entering near the optical center of the le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convention, the object distance is reckoned as negative when it is measured to a virtual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images formed by diverging lenses are virtual, diminished, and er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1:28:24Z</dcterms:created>
  <dc:creator>User</dc:creator>
  <dc:description/>
  <dc:language>en-US</dc:language>
  <cp:lastModifiedBy>cynthia_ecklor</cp:lastModifiedBy>
  <dcterms:modified xsi:type="dcterms:W3CDTF">2005-12-14T21:15:23Z</dcterms:modified>
  <cp:revision>3</cp:revision>
  <dc:subject/>
  <dc:title>Tippens Physics 7th Edition   Chapter 36</dc:title>
</cp:coreProperties>
</file>