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A501-5348-4FEE-AE9A-2CAC9A0EA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9AE0-A298-4B7D-9F41-1E59B3AD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E959-DB16-4A4E-B2CF-609C79497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2400-9DF7-4061-9C8F-DDD7B7F4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D2DB-4D1C-485A-8CF8-108A919E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0BCF-D0DE-47F8-BA76-D3821E9E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C898-443C-41B2-8C8D-11E54ED4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77C1-8875-4CD9-993F-E76DF998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396E-A9C3-4A2D-8964-429E86E7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0DEC-808E-46BA-8817-3A6A9AC6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3BEA-07E7-4DED-9AAC-E49E1A51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AFD7-78E2-4F76-A562-8E3D1A3E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D18F-A31F-44BF-914E-C5884BA12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open-tube manometer is a device used to measure absolute pressu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ate of flow is defined as the speed with which a fluid passes a certain cross sec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a fluid is considered incompressible, and if we neglect internal friction, the rate of flow through a pipe remains constant, even when the cross-sectional area chang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reasing the diameter of a pipe by one-half will cause the velocity of a fluid through the pipe to be quadrupl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increase in fluid velocity results in an increased pressure at the constriction in a venturi met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rnoulli's equation applies for fluids at rest as well as for fluids in mo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several holes are cut in the side of a container filled with water, the discharge velocity increases with depth below the surface; however, the range is a maximum at the midpoi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we consider a fluid to be incompressible and neglect the effects of friction, the change in velocity as a fluid goes through the constriction in a horizontal venturi tube does not depend on the density of the flui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ither weight density or mass density might be used in Bernoulli's equ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rricelli's theorem might be thought of as a special case of the more general Bernoulli's equ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luid pressure at the bottom of a container depends on the area of the bottom as well as the height of the flui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independent of the density of a liquid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he total force at the bottom of the contain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The pressure at the surface of the liqui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The pressure at the bottom of the contain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The pressure at the sides of the contain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hydraulic press operates primarily 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Archimedes' princip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Pascal's law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Boyle's law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Newton's law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81480" y="1981080"/>
            <a:ext cx="2895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uid pressure is independent of the shape or size of the contain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a particular depth in a liquid, the fluid pressure is the same in all directions except the upward direc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cal's law states that the buoyant force will always be equal to the weight of the displaced flui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ce the weight of the overlying fluid in a container is proportional to its density, the pressure at any depth is also proportional to the density of the flui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buoyant force is equal to the resultant force acting on a submerged obje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buoyant force on a weather balloon does not depend directly on the density of the gas inside the ballo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maller the area of the input cylinder of a hydraulic press in comparison with the area of the output cylinder, the larger the mechanical advantag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8:59:43Z</dcterms:created>
  <dc:creator>User</dc:creator>
  <dc:description/>
  <dc:language>en-US</dc:language>
  <cp:lastModifiedBy>cynthia_ecklor</cp:lastModifiedBy>
  <dcterms:modified xsi:type="dcterms:W3CDTF">2005-12-14T19:23:25Z</dcterms:modified>
  <cp:revision>2</cp:revision>
  <dc:subject/>
  <dc:title>Tippens Physics 7th Edition   Chapter 15</dc:title>
</cp:coreProperties>
</file>