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AF7-A641-434B-81C6-003A3289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2F4-AE5F-4084-93E5-F108C2D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5BC-027C-46DC-9F7C-3315E74E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5E9-F3EF-409B-919C-E0D5A1D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D55-9441-4D24-B51E-D3657C4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ACD-55D1-44EF-9024-42CFAD4D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9A6-9FFA-43E2-9F4C-C0EED5D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F12-6B26-4076-9797-335E2E65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9C0-1B48-42E3-9166-6C95C27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D46-6069-42C6-BE43-7B89524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FC7-1287-4F6D-A518-7AB49CF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549-2643-4E76-825D-1877115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0D7-3887-47E1-96FD-7B4756596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ion of a projectile fired at an angle is an example of uniformly accelerated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ant force acting on a projectile is its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rojectile fired horizontally will strike the ground in the same time as one dropped vertically from the same position if we neglect the effect of air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rojectile launched into space at any angle will have a constant horizontal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rtical motion of a projectile is uniformly accelerated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nge of a projectile depends only on its initial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orizontally fired projectile will drop 32 ft during the first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apple drops from a tree at the same instant a projectile is fired toward it from the ground, they will still collide in the ai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falls freely from rest. Its position after 2 s is how far below the point of releas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2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4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96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48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lgebraic sign of acceleration depends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direction on the force of the accelerated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whether an object is speeding up or slowing dow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he sign of the final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he position of the obje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motion can have a constant velocity only if it moves in a straight pa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traveling initially at 24 ft/s slows to 12 ft/s in 3 s. Its acceleration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-4 ft/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4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-8 ft/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981080"/>
            <a:ext cx="2895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falling freely from rest near the surface of the earth falls a distance of 32 ft by the end of the first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vacuum, all bodies fall with the same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object's velocity is decreasing constantly, it will always have a negative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thrown downward in a gravitational field has the same acceleration as one dropped from re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ball thrown vertically upward, its upward motion with respect to position and velocity is just the reverse of its downward mo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elocity and position of a free-falling body after 2 s are numerically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absence of friction, all bodies, large or small, heavy or light, fall to the earth with the same acceler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9:02Z</dcterms:created>
  <dc:creator>User</dc:creator>
  <dc:description/>
  <dc:language>en-US</dc:language>
  <cp:lastModifiedBy>cynthia_ecklor</cp:lastModifiedBy>
  <dcterms:modified xsi:type="dcterms:W3CDTF">2005-12-14T19:15:27Z</dcterms:modified>
  <cp:revision>3</cp:revision>
  <dc:subject/>
  <dc:title>Tippens Physics 7th Edition   Chapter 6</dc:title>
</cp:coreProperties>
</file>