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278-0D5A-448A-8DFC-33AC7032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5D9E-1F0E-41F9-BC52-51C46106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0C2-D0E9-44BA-AD38-8B99594E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C0AA-4029-47A0-9407-488FCE90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C18-0FCC-4EA5-AEE9-527889B4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DCB-953E-4047-9832-A80741C8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5CE-C6BE-4E63-8C53-F78D76E8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0710-8CE8-4B25-830F-3E7E1259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036-B061-416D-8303-9C4D8FF1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DEF9-F0B8-4030-B8B1-E20605A2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03C-DD5D-492D-B4F9-128C3A80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24B-6DE5-417A-A766-701CE744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58E5-16EB-4316-9FCF-D7A870A1B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good background in mathematics, though desirable, is not really helpful in understanding basic concep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physics learning takes place in the classro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better to wait until the weekend to study physics than to study dai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rning most often comes from working problem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198108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sics is a field of science that is distinguished easily from other fields such as chemistry or biolo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hematics serves many purposes, but its main value is to provide a professional tool for the scientist or engine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quantities in physics should have specific, measurable definiti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s is a branch of physics devoted to the study of objects at rest or in motion with constant spe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problem or definition discussed by an instructor is also in the text, it is better to jot down a reference rather than to take detailed not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sics is a quantitative sci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some information in the text might be misunderstood, it is better to wait until after the lecture to read the materi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workable hypothesis fails only one time in many trials, it still may be incorporated into a scientific la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8:25:49Z</dcterms:created>
  <dc:creator>User</dc:creator>
  <dc:description/>
  <dc:language>en-US</dc:language>
  <cp:lastModifiedBy>User</cp:lastModifiedBy>
  <dcterms:modified xsi:type="dcterms:W3CDTF">2005-11-28T18:26:06Z</dcterms:modified>
  <cp:revision>1</cp:revision>
  <dc:subject/>
  <dc:title>Tippens Physics 7th Edition   Chapter 1</dc:title>
</cp:coreProperties>
</file>