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502B4-93F4-4945-BF99-AB73687F0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62124-63CB-446E-A014-7E2984CA4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36BDA-FD5A-45DF-ADDB-59CF80C02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4D2DD-A33B-46A7-8253-233849799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B8E80-7B06-4317-BC1B-B194645B2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9B59-C697-44AA-837A-62AC421D6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1EAA3-B2A7-483F-ADDF-7C86C3053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EC356-C8E4-45A0-97D1-6C9DC118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3FD49-C064-4228-83DF-BBC66D194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0B8E7-6BDA-4B27-80B4-3355334C6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DC6FD-82E8-44C1-8350-E71F25CDA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08EB9-07F9-4B10-B602-5B8110FD8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E80B-DCDB-41BE-BC05-359B1E6A3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ippens</a:t>
            </a:r>
            <a:br>
              <a:rPr sz="4800"/>
            </a:br>
            <a:r>
              <a:rPr b="0" lang="en-US" sz="2800" spc="-1" strike="noStrike">
                <a:solidFill>
                  <a:srgbClr val="000000"/>
                </a:solidFill>
                <a:latin typeface="Times New Roman"/>
                <a:ea typeface="Times New Roman"/>
              </a:rPr>
              <a:t>Physics</a:t>
            </a:r>
            <a:br>
              <a:rPr sz="2800"/>
            </a:br>
            <a:r>
              <a:rPr b="0" lang="en-US" sz="2800" spc="-1" strike="noStrike">
                <a:solidFill>
                  <a:srgbClr val="000000"/>
                </a:solidFill>
                <a:latin typeface="Times New Roman"/>
                <a:ea typeface="Times New Roman"/>
              </a:rPr>
              <a:t>7th Edition</a:t>
            </a:r>
            <a:br>
              <a:rPr sz="2800"/>
            </a:br>
            <a:r>
              <a:rPr b="0" lang="en-US" sz="2800" spc="-1" strike="noStrike">
                <a:solidFill>
                  <a:srgbClr val="000000"/>
                </a:solidFill>
                <a:latin typeface="Times New Roman"/>
                <a:ea typeface="Times New Roman"/>
              </a:rPr>
              <a:t> </a:t>
            </a:r>
            <a:br>
              <a:rPr sz="2800"/>
            </a:br>
            <a:r>
              <a:rPr b="0" lang="en-US" sz="2400" spc="-1" strike="noStrike">
                <a:solidFill>
                  <a:srgbClr val="000000"/>
                </a:solidFill>
                <a:latin typeface="Times New Roman"/>
                <a:ea typeface="Times New Roman"/>
              </a:rPr>
              <a:t>Chapter 35</a:t>
            </a:r>
            <a:endParaRPr b="0" lang="en-US" sz="2400" spc="-1" strike="noStrike">
              <a:solidFill>
                <a:srgbClr val="000000"/>
              </a:solidFill>
              <a:latin typeface="Times New Roman"/>
            </a:endParaRPr>
          </a:p>
        </p:txBody>
      </p:sp>
      <p:sp>
        <p:nvSpPr>
          <p:cNvPr id="42" name=""/>
          <p:cNvSpPr/>
          <p:nvPr/>
        </p:nvSpPr>
        <p:spPr>
          <a:xfrm>
            <a:off x="1828800" y="6527880"/>
            <a:ext cx="5656320" cy="255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rPr>
              <a:t>The McGraw-Hill Companies, Inc. Permission required for reproduction o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ndex of refraction for a substance i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onstan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constant for a given wavelength.</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variable with the speed of ligh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never constan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0</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ochromatic green light has a wavelength of 520 nm. The wavelength of this light inside glass of refractive index 1.5 is approximate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300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340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520 n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780 n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1</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fish is located 2 m from the surface of a small pond. The apparent depth i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1.0 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1.5 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2.0 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2.66 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Key</a:t>
            </a:r>
            <a:endParaRPr b="0" lang="en-US" sz="4000" spc="-1" strike="noStrike">
              <a:solidFill>
                <a:srgbClr val="000000"/>
              </a:solidFill>
              <a:latin typeface="Times New Roman"/>
            </a:endParaRPr>
          </a:p>
        </p:txBody>
      </p:sp>
      <p:sp>
        <p:nvSpPr>
          <p:cNvPr id="66" name=""/>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B</a:t>
            </a:r>
            <a:endParaRPr b="0" lang="en-US" sz="2800" spc="-1" strike="noStrike">
              <a:solidFill>
                <a:srgbClr val="000000"/>
              </a:solidFill>
              <a:latin typeface="Times New Roman"/>
            </a:endParaRPr>
          </a:p>
        </p:txBody>
      </p:sp>
      <p:sp>
        <p:nvSpPr>
          <p:cNvPr id="67" name=""/>
          <p:cNvSpPr/>
          <p:nvPr/>
        </p:nvSpPr>
        <p:spPr>
          <a:xfrm>
            <a:off x="5181480" y="1981080"/>
            <a:ext cx="289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light enters from a medium of lower refractive index into a medium of larger refractive index, the path of the light bends toward the normal.</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s of higher optical density have greater critical angl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white light is dispersed by a prism, the smaller-wavelength components are deviated the mos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otal internal reflection, the angle of incidence is equal to the angle of refle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an object in air is viewed from a position under water, the object appears to be farther away than it actually i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ever light enters a denser medium, both the velocity and frequency of the light are reduc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ever light passes through any number of parallel media and finally returns to the original medium, the angle of incidence in the original medium is equal to the angle of emergenc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aterial displacement of light as it passes through a pane of glass is greater when the optical density of the glass is larg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1:26:51Z</dcterms:created>
  <dc:creator>User</dc:creator>
  <dc:description/>
  <dc:language>en-US</dc:language>
  <cp:lastModifiedBy>cynthia_ecklor</cp:lastModifiedBy>
  <dcterms:modified xsi:type="dcterms:W3CDTF">2005-12-14T19:33:49Z</dcterms:modified>
  <cp:revision>2</cp:revision>
  <dc:subject/>
  <dc:title>Tippens Physics 7th Edition   Chapter 35</dc:title>
</cp:coreProperties>
</file>