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B54-8939-43CB-A2D5-6C60DE6B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A39-7DF0-4D21-BC20-F378C99C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169-665B-4EFA-B314-0E344A3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CF1-67FD-46BD-B455-35E95F5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2CA-3DC5-4CFD-A536-53ECC39B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A42-F02C-4745-A3D2-07718D35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B93-9894-4229-83F5-7CBDBFD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030-51C3-413F-838F-602D0ED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433-F8FC-43AE-B97B-1B14A48C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5A1-D467-4CE8-8D8C-1AAF512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D90-4A5F-4CDB-8D90-DD2A7AB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CCC-A0AF-49FE-AB29-4087DFD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95E9-88AA-43AA-8A60-F67336798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hermodynamic state of a gas refers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ts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ll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gine that operates with 100 percent effici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 Carnot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iolates the first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as an Otto cy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violates the second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heat engine absorbs heat at 600 K and rejects heat at 200 K, its effici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3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7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Carnot cycle, 1600 cal is absorbed at 600 K, and 400 cal is exhausted to a cold reservoir. The temperature of the cold reservoir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5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diabatic process is one in wh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emperatur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ressur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volume i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o heat enters or leaves the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adiabatic constant is 1.4 and the compression ratio is 6, a gasoline engine has an efficiency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5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1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6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64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typical refrigerator, heat is extracted from the interior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ompress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evapor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ondens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rottling val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heat engines are 100 percent effici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irst law of thermodynamics is satisfied, the second law will also be satisfi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very thermodynamic process, the heat absorbed by a system must equal the sum of the work done by the system and its change in intern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an isothermal expansion, all the absorbed thermal energy is converted to useful wo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Carnot engines are perfect engines and, therefore, operate at 100 percent effici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 the difference between the input and output temperatures of a steam engine, the greater the efficiency of the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igh compression ratio of an internal combustion engine means a higher operating effici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efficient of performance for a refrigerator is a measure of cooling efficiency and is expressed as a perce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48:06Z</dcterms:created>
  <dc:creator>User</dc:creator>
  <dc:description/>
  <dc:language>en-US</dc:language>
  <cp:lastModifiedBy>cynthia_ecklor</cp:lastModifiedBy>
  <dcterms:modified xsi:type="dcterms:W3CDTF">2005-12-14T19:26:16Z</dcterms:modified>
  <cp:revision>2</cp:revision>
  <dc:subject/>
  <dc:title>Tippens Physics 7th Edition   Chapter 20</dc:title>
</cp:coreProperties>
</file>