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B13E-32A3-4649-A874-06A014355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5104-8472-4AE9-80CD-F1CF8918D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FC80-4F68-40B6-9C99-99376388C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DCA2-59D1-45D7-A731-8DB5530DA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41C7-D9D1-46FD-AA1C-704D137E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4A9D-2266-42B3-8312-5FB16636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3E74-E0D1-412A-83D7-3460C1D6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AEDE-5D62-4E49-8B54-72A48D0C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C012-949C-482B-BAFF-8E8448E4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DCCA-0D37-4DE2-8BF4-5B7CBBDE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2596-E756-4560-9265-43BB4D66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4AEA-B5DD-49BA-B8A1-92F4B849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9647-7B85-49C2-8304-9353292B6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of the following is not a fundamental quantity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Lengt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or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Mas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Ti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esultant of 10 and 15 lb acting in opposite directions on an object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150 lb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25 lb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5 lb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20 lb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is a scalar quantity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Veloc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or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Spe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Displace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force of 3 N acts perpendicularly to a force of 4 N. Their resultant has a magnitude o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12 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7 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5 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1 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is a vector quantity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Volu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Ti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Dist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Displace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an walks 9 km east and then 12 km north. The magnitude of his resultant displacement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21 k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15 k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13 k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3 k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81480" y="1981080"/>
            <a:ext cx="2895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undamental unit for length is the mi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kilogram is equivalent to a mass of 1000 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vectors having the same dimensions may be add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difference between two vectors is obtained by adding one vector to the negative of the oth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order in which two or more vectors are added does not affect their resulta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graphical methods of vector addition are not as accurate as the mathematical metho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ctor addition can be performed only for concurrent vector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a boat travels upstream with a speed of 8 km/h in a current whose speed is 3 km/h, the boat's speed relative to the shore is 5 km/h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8:31:15Z</dcterms:created>
  <dc:creator>User</dc:creator>
  <dc:description/>
  <dc:language>en-US</dc:language>
  <cp:lastModifiedBy>cynthia_ecklor</cp:lastModifiedBy>
  <dcterms:modified xsi:type="dcterms:W3CDTF">2005-12-14T19:13:27Z</dcterms:modified>
  <cp:revision>2</cp:revision>
  <dc:subject/>
  <dc:title>Tippens Physics 7th Edition   Chapter 3</dc:title>
</cp:coreProperties>
</file>