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1053-B4D2-4F8A-B39D-F1D626B2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E7F5-604C-4814-899E-569ED228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4455-7212-412C-A5DB-623BC2F9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4971-AAA5-4F69-BE8A-6C8A277A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FC11-AB75-40C8-B49E-AF93DD62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3480-81D4-4A1F-A6A0-5A8B600C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08FA-7A27-46FC-949F-A2E19408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512D-FF95-48E1-B084-5280B4CF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979C-CA56-4591-90E6-A0132A39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94D2-A828-494A-9BE8-D2459184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F46-5B0F-4135-B19B-0DDF199F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E459-E3A4-4266-BF90-E6343959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7D6D-BB50-4C3C-96D0-78853928F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ording to convention, negative work means that the direction of the work is downward or to the lef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not necessary for work to be don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An applied for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A force component along the displace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A displace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A constant spe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not a unit of work or energy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Newton-me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Jou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Foot-pound per seco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Kilowatthou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argest unit of power is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kilowat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wat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foot-pound per secon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horsepow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orce of 20 N moves a 10-kg block through a distance of 400 cm. The work done by the 20-N force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8000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80,000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80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80 N * 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10-kg block is lifted 20 m above the ground in a gravitational field. The work done by the field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negativ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positiv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equal to the final potential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a vector quant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Question 15, the gravitational potential energy of the block after it has been lifted 20 m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196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1960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-1960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00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1-hp motor will lift a 200-lb block to what height in 2 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0.01 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0.727 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00 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5.5 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2-kg ball has a potential energy of 6400 J at a point A above the ground. What will its velocity be when it strikes the ground after being released from point A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80 m/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8.3 m/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6400 m/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800 m/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bullet whose initial kinetic energy is 400 J strikes a block where an 8000-N resistive force brings it to a stop. The depth of penetration into the wood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unknown for lack of inform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0.2 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0.5 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0.05 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absence of friction, air resistance, or other dissipative forces, the total kinetic energy remains const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1981080"/>
            <a:ext cx="2895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otal energy of a system of bodies in isolation may be defined as the sum of the individual kinetic and potential energi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moving bodies possess kinetic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ork of a resultant force on a body is equal to the change in kinetic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a body falls, its potential energy increases with its spe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1-hp engine will do work at a faster rate than a 1-kW engin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kilowatthour is a unit of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we consider friction, the potential energy at the top of an inclined plane is less than it would be in the absence of fric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8:44:53Z</dcterms:created>
  <dc:creator>User</dc:creator>
  <dc:description/>
  <dc:language>en-US</dc:language>
  <cp:lastModifiedBy>cynthia_ecklor</cp:lastModifiedBy>
  <dcterms:modified xsi:type="dcterms:W3CDTF">2005-12-14T19:16:13Z</dcterms:modified>
  <cp:revision>2</cp:revision>
  <dc:subject/>
  <dc:title>Tippens Physics 7th Edition   Chapter 8</dc:title>
</cp:coreProperties>
</file>