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E70-1576-4D5E-9845-2B92FADC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321-F46E-4C5E-83AC-74A75A5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384-3D46-4225-82D3-65E8CB2A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712-82DC-4C65-8230-7D4F4C87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8C4-A0EF-4227-9B06-E6DB0909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1E6-FF40-4123-A0C7-3B5AF6F4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C62-5BEF-4A19-AF2B-55988C7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B74-3A85-48DF-AE05-300D0342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00B-95FD-41EE-A87D-76D856E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880-8812-44D3-8C8D-8EB2899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98D-55FB-4BA5-8112-BBCE7E09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528-455E-43E2-A288-24C7714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DAB8-8725-48DA-B88E-8616131A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point twice as far away from a certain charge, the field intensity will be reduced by one-four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field intensity i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idway between two equal charges of like sig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midway between two charges of unlike sig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t any point equal distances from two identical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between two equal but oppositely charged pl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rection of the electric field intensit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way from all negative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oward all negative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same as the direction of an electric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pendent on the nature of a charge placed at the point in ques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acing of electric field lines between two identical point charges of opposite sig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ot dependent on the magnitude of the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n indication of the field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n indication of the field str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arge when the charges are l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Gauss's law, the number of electric field lines crossing any closed surfa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umerically equal to the enclosed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qual to the enclosed positive char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qual to the electric field inside the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qual to the charge density on the surf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mittivity of a medi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s a measure of its d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s equal to unity for air or a vacu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s dependent on the charge density of the med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termines the magnitude of an electric field that can be established by the med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8-degree C charge is 12 cm to the right of a -5-degree C charge. The magnitude of the electric field at a point 9 cm above the 8-degree C charg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.72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.4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7.85 MN/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98108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necessary that a charge be placed at a point to have an electric field at that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 field lines never inters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uss's law represents a statement of equality, but it will not withstand unit 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eld in the vicinity of a number of charges is equal to the algebraic sum of the fields due to the individual char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acing of electric field lines is such that they are close together when the field is strong and far apart when the field is wea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uss's law demonstrates that all the charge lies on the surface of a conduc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of the way in which an electric field is defined, the direction of the electric field and the force on a test positive charge will always b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ctric field intensity at the midpoint of a line joining identical charges will always be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59:18Z</dcterms:created>
  <dc:creator>User</dc:creator>
  <dc:description/>
  <dc:language>en-US</dc:language>
  <cp:lastModifiedBy>cynthia_ecklor</cp:lastModifiedBy>
  <dcterms:modified xsi:type="dcterms:W3CDTF">2005-12-14T19:28:23Z</dcterms:modified>
  <cp:revision>2</cp:revision>
  <dc:subject/>
  <dc:title>Tippens Physics 7th Edition   Chapter 24</dc:title>
</cp:coreProperties>
</file>