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C34-946C-45F0-A8F8-93FB9F9C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EAD-006F-4678-A034-317D896F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358-FC6F-4947-B702-B8E4C713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C12-4268-4A68-8FBB-1F26ABC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E49-B047-4354-BB45-9528EA9D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094-F48C-4986-8D8A-B7F096BE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C3E-AD6B-4685-9016-05D6CAF5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25A-20D0-4CFC-8F02-0D206B2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12F-649C-4276-BBCE-A30269E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719-FAE6-4567-95A1-899884C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32C-7B80-4E23-BA2F-10E86B4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EA8-2691-4F5A-8141-70B19F2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82BB-4623-4CE0-83F3-1F1D27EE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ing the angular speed of a rotating body will not cause an increase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rotational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ngul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momentum of inert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inear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ould not necessarily cause angular acceler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hange in frequ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hange in angular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hange in angular velo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hange in linear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int on the edge of a rotating disk of radius 8 m moves through an angle of 2 rad. The length of the arc described by the poi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2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6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frequency is 2 rev/s, the angular spe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lywheel increases its angular speed from 4 to 12 rad/s in 4 s. Its angular acceler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2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lar disk has a moment of inertia of 2 kg * m? and a rotational kinetic energy of 400 J. The angular speed must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rad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objects has the largest moment of inertia, assuming they all have the same mass and the same radiu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solid sp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olid dis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circular ho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solid cylin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rcular grinding disk of radius 0.5 ft has a moment of inertia of 16 slug * ft? and is rotating at 600 rpm. The frictional force applied to the edge of the disk, to stop the wheel in 10 s,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1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heel with angular momentum of 10 kg * m/s has a moment of inertia equal to 0.5 kg * m. Its angular velocit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5 rad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um of the external torques acting on a body or system of bodies is zero, the angular momentum is also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ular frequency and angular velocity are representations of the same physical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angular acceleration and tangential acceleration represent a rate of change in angular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tational kinetic energy of an object on a rotating platform decreases as the object moves toward the center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rque is the rotational analog of linear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sultant torque will produce an angular acceleration directly proportional to the applied torque and inversely proportional to the total mass of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gular impulse is equal to a change in rotational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rotating rigid body, the ratio of linear speed to angular speed is equal to the radius of revolu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50:43Z</dcterms:created>
  <dc:creator>User</dc:creator>
  <dc:description/>
  <dc:language>en-US</dc:language>
  <cp:lastModifiedBy>cynthia_ecklor</cp:lastModifiedBy>
  <dcterms:modified xsi:type="dcterms:W3CDTF">2005-12-14T19:20:53Z</dcterms:modified>
  <cp:revision>2</cp:revision>
  <dc:subject/>
  <dc:title>Tippens Physics 7th Edition   Chapter 11</dc:title>
</cp:coreProperties>
</file>