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C57-7620-48A1-9F79-2385E692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D37-A198-4F55-98F7-7B96BD49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809-ED82-4AAE-A6B5-778F981C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BA51-924E-443C-ACEC-A4DCBBE0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0DE-245A-49B6-AE49-12D8BD5C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F5F-A0FD-416A-940A-6D10B2CE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445-F2C7-45CF-9703-A18D57DA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1F9-9F24-46F8-A281-6DFCD0C6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864-4EE9-4648-AF37-ABDC66BE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C5A-E916-40CC-AA84-488DE6CF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19C-BC34-4253-A8E9-BF76308E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83B-29F6-48DB-B54C-2FB3FB5A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2566-C974-444B-8678-BA4429FDE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therford's work with the scattering of alpha particles resulted in a nuclear theory of mat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the modern theory of relativity, newtonian mechanics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otally incorr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pproximately correct for any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pproximately correct for speeds much less than the speed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correct for all velociti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the Bohr theory of an atom, an electron may circle the nucleus indefinitely without radiating energy 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radius of its orbit is an integral multiple of the nuclear radi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ts orbital path is an integral number of de Broglie 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ts orbit is an integral multiple of its angular moment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he coulomb force is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de Broglie wavelength of an electron when it is accelerated through a potential difference of 200 V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86.8 p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62.2 p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3.6 p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6.92 p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19810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nstein's second postulate tells us that the velocity of light is always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kinetic energy of a particle traveling at relativistic speeds is equal to the difference between its total energy and its rest mass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photoelectric effect, a surface with a large work function is likely to produce photoelectrons with higher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roglie wavelengths can be calculated only for charged particles such as protons and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avelengths from an emission spectrum of an element should not be expected to coincide with the wavelengths determined from an absorption spectrum of that el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almer spectral series in an emission spectrum results from electrons in higher energy levels dropping to the ground state for the hydroge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able electron orbits are those that contain an integral number of de Broglie 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nergy of an electron in the first excited states is 4 times its energy in the ground st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1:31:17Z</dcterms:created>
  <dc:creator>User</dc:creator>
  <dc:description/>
  <dc:language>en-US</dc:language>
  <cp:lastModifiedBy>cynthia_ecklor</cp:lastModifiedBy>
  <dcterms:modified xsi:type="dcterms:W3CDTF">2005-12-14T19:35:21Z</dcterms:modified>
  <cp:revision>3</cp:revision>
  <dc:subject/>
  <dc:title>Tippens Physics 7th Edition   Chapter 38</dc:title>
</cp:coreProperties>
</file>