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261-5CFA-4435-8E4C-60DCEE7A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959-2EED-46D0-82CC-2BF06F8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261-D18D-4B35-9789-7D573A03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54B-EBB1-4483-97A0-697113D6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6EA-F5BE-4108-869B-040C20D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0D2-C3B1-4574-B362-D23F545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E9C-6560-4C8B-A00B-4A40B19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F98-4208-428A-9089-987AEC26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8CB-5CB9-48DE-841B-221150B9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EA9-20A3-41BC-BC8A-7732B57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ACC-2C02-462D-A663-B8B3641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3FF-3246-48A6-9F5D-2E96B09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584-801C-43C3-A9D4-53E77F0A6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ing waves are the result of constructive inter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of a wave is doubled and other parameters remain the same, the energy of the wave per unit of length will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longitudinal wave, the individual particles of the medium mo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 circ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 elip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arallel to wave propag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pendicular to wave propag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vibrating string, the third overtone will be the same a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econ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ird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ur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fth harmon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particles along a wave train are in phase if they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ongitudinal wave traveling at 300 m/s has a wavelength of 2 m. Its frequ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67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120 waves strike a wall in 1 min and the distance between adjacent crests is 2 m, the speed of the wave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0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lexible cable 20 m long weighs 16 N and is stretched between two poles with a force of 450 N. The speed of a transverse wave through this mediu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3.7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7.3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74.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of the fundamental for a vibrating string is 200 Hz, the second overtone has a frequency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etal string of mass 250 g and length 25 cm is under a tension of 400 N. The fundamental frequency for this string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6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hysical medium is necessary for the transmission of all kind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io of the wavelength to the period is a measur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of a wave in a string is a function of the linear density of the string but is really independent of the actual length of the st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longitudinal wave, the wavelength is equal to the distance between adjacent condensations or between adjacent rarefac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frequency of a wave results in a decrease in its wavelength if other parameters are held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tanding wave, the distance between adjacent nodes or between adjacent antinodes is equal to the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perposition principle applies only for transverse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ird harmonic is equivalent to the second overtone when characteristic frequencies are described for a vibrating st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ve interference results in a wave of greater energy than the sum of the energies of its component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49:52Z</dcterms:created>
  <dc:creator>User</dc:creator>
  <dc:description/>
  <dc:language>en-US</dc:language>
  <cp:lastModifiedBy>cynthia_ecklor</cp:lastModifiedBy>
  <dcterms:modified xsi:type="dcterms:W3CDTF">2005-12-14T21:14:21Z</dcterms:modified>
  <cp:revision>2</cp:revision>
  <dc:subject/>
  <dc:title>Tippens Physics 7th Edition   Chapter 21</dc:title>
</cp:coreProperties>
</file>