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E46-AC73-4B40-804F-2D07038C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899-7D8D-4D95-ACBC-9B683264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55A-8A69-4235-8A8D-632671DA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D47-577E-47CA-A516-030188EB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54C-CEF8-4D74-BC35-FE37564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122-FA0F-48B1-9B79-B98BCE6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B30-7F1D-4614-B2A7-746A923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0F3-19D6-4C42-B663-12C4B7A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DC0-D423-4C9D-BD84-60CB97D0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A56-8A5F-4138-9B99-50AAC43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6F4-CD7C-40BA-8810-763B145C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2AE-A612-40ED-87D0-A8991DA6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DD93-560F-47E5-BDAF-C113325B9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locity of a harmonic oscillator depends on the frequency of vibration but is independent of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does not change in simple harmonic motion, the acceleration of a mass is directly proportional to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velocity at any instant is not a direct func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eri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requenc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radius of the reference circle corresponds most closely with the actu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splace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eri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iod of a pendulum is determined by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aximum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dy vibrating with simple harmonic motion experiences its maximum restoring force when it is at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equilibrium posi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greatest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owest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-kg steel ball is attached to the end of a flat strip of metal that is clamped at its base. If the spring constant is 8 N/m, the frequency of vibration will be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08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16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32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64 H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1981080"/>
            <a:ext cx="289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n object is vibrating with simple harmonic motion, its acceleration is a minimum when it passes through its equilibrium posi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harmonic motion is realized only in the absence of fri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velocity is greatest when the oscillating body reaches its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 the period of vibration, the greater the maximum acceleration of a body vibrating with simple harmonic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imple harmonic motion, the acceleration is quadrupled when the frequency is increased by a factor of 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 acceleration due to gravity is less at higher elevations, the length of a pendulum in a pendulum clock should be shorten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torsion pendulum, increasing the moment of inertia of the vibrating disk will increase the frequency of vib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celeration of a harmonic oscillator is a function of displacement but independent of ampl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8:12Z</dcterms:created>
  <dc:creator>User</dc:creator>
  <dc:description/>
  <dc:language>en-US</dc:language>
  <cp:lastModifiedBy>cynthia_ecklor</cp:lastModifiedBy>
  <dcterms:modified xsi:type="dcterms:W3CDTF">2005-12-14T19:23:10Z</dcterms:modified>
  <cp:revision>2</cp:revision>
  <dc:subject/>
  <dc:title>Tippens Physics 7th Edition   Chapter 14</dc:title>
</cp:coreProperties>
</file>