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1DD-6EB3-4F38-9345-8B3B489C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4AF-B551-4929-89FE-0B2E7EB3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DDC-74EA-440B-8E3F-5726515D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4AE-B9A5-4ACF-9EE2-02A0BD1C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CD1-A252-4048-B058-21B5F90D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F82-C584-429E-A0F0-2667DE37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A03-2BDE-4FA5-AA1C-D7E7D0C3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5EB-3D5C-4477-9845-1B43A42D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280-A5A3-4201-A38F-2EB0DFE3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937-B1E8-42A2-8DAC-A0F8161B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DB3-279F-4CBE-9EC8-10ABF82D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28A-413F-4236-AC43-4C5E00DA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8B6B-24CF-42FA-ACF1-F89608541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wer loss in a wire is quadrupled if the current is doubl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heostat is a meter that indicates the electric resistance in a circu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t of electromotive force is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jo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newt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vol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wat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one were to use a water analogy to study electric current, voltage would be most similar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press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rate of flo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ens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tential difference between the terminals of a small heater is 60 V. If the resistance of the heater is 30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 current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0.5 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 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800 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3 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120-V heater has a resistance of 600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The heat energy generated in 1 min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4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2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20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44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198108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lectromotive force is a force exerted on an electric charge to keep it mov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rection of conventional current for a conductor is opposite to the direction of electron flo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c current is also a measure of the average speed with which electrons move in a conduc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rding to Ohm's law, the electric current is inversely proportional to the applied vol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c resistance increases with an increase in the cross-sectional area of a conduc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sistivity of a wire is independent of the length of the wi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wire with a diameter of 0.002 in. has a cross-sectional area of 4 cmi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emperature coefficient of resistance is equal to the change in resistance per degree change in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09:31Z</dcterms:created>
  <dc:creator>User</dc:creator>
  <dc:description/>
  <dc:language>en-US</dc:language>
  <cp:lastModifiedBy>cynthia_ecklor</cp:lastModifiedBy>
  <dcterms:modified xsi:type="dcterms:W3CDTF">2005-12-14T19:29:46Z</dcterms:modified>
  <cp:revision>2</cp:revision>
  <dc:subject/>
  <dc:title>Tippens Physics 7th Edition   Chapter 27</dc:title>
</cp:coreProperties>
</file>