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580-772C-4480-B998-33979F45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9576-85F8-4BFA-BADE-408184B4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431-F5F2-4486-8118-D5208FCE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1DD-2D17-4E8E-829A-D409F2DA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59D-BB07-4956-8E9C-E822B7BE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267-2B89-42CD-AEE6-4E97F6BD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291-1A13-4DBD-9FA6-855A333D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011-4A45-4C05-8399-7F23206F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60E-57F8-47B5-AC7F-451F1146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2282-AE7E-43EE-9816-D7BE5BF2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1187-928E-42F4-A64D-B6BBF07C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2F1-1599-4A09-B04F-5D83B5B5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F47D-D4B6-4383-B242-BC439BF78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large hysteresis loop means a more efficient electromagnetic devi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netic materials having a high permeability will generally have a low retentiv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netic fields have no effect 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electric charges at res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electric charges in mo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permanent magnets at res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permanent magnets in mo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urrent through a wire is directed into the page. If a magnetic field is directed from right to left, the force on the wire will b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o the r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o the le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upwar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ownwar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olenoid has 60 turns of wire and a length of 16 cm and supports a current of 10 A. The relative permeability of the core is 1200. The magnetic induction at the center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.4 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.83 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5.65 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11 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198108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magnetic poles repel each other, whereas unlike magnetic poles attract each oth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netic flux lines are drawn in such a way that the direction at any point is the same as the direction of the force exerted on a unit south pole placed at that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eber is a unit of magnetic flux dens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lectron projected from right to left through a magnetic field directed into the page will be deflected downwar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rea of a hysteresis loop is a measure of flux dens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ight-hand rule can be used to determine the direction of a magnetic field surrounding a current-carrying conduc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current-carrying conductors placed near each other will experience a force of attraction if their currents are oppositely direc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gnetic field lines for a solenoid are the same shape as those for a bar magne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0:14:53Z</dcterms:created>
  <dc:creator>User</dc:creator>
  <dc:description/>
  <dc:language>en-US</dc:language>
  <cp:lastModifiedBy>cynthia_ecklor</cp:lastModifiedBy>
  <dcterms:modified xsi:type="dcterms:W3CDTF">2005-12-14T19:30:54Z</dcterms:modified>
  <cp:revision>2</cp:revision>
  <dc:subject/>
  <dc:title>Tippens Physics 7th Edition   Chapter 29</dc:title>
</cp:coreProperties>
</file>