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60E2-312A-4084-AEDF-688CA566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F62-4ADE-49A5-A18C-FE5BD4CC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CF2E-7847-46E3-8D70-59976572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0A34-3F32-48F1-B659-6D778949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0B52-C5AF-4424-A4F7-5E97EF3A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4316-52D2-4138-8323-1390D189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D7F4-C229-48E6-B390-75834463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CE6-F565-4B84-8180-85B9599C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22B-062C-406C-B8AB-0F27CB64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DCA-986C-4BB8-8474-A1680C23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4C29-00D7-4DE8-8EAE-6A11A2ED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DED-32D4-4A61-916A-0DA0728E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00F9-0636-46F6-979C-6DEA55052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screw jack, a larger pitch results in a smaller mechanical advanta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machines is not an application of the lever principl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Screw jac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Wheelbarro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Wheel and ax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Pli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80-hp motor has an efficiency of 60 percent. The output power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33 h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75 h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60 h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48 h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iron pipe 10 ft long is used to lift a 400-lb weight. If the fulcrum is placed 2 ft from the weight, the force that must be exerted at the end of the pipe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00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00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0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80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deal mechanical advantage of a belt drive is 4.0. If the angular speed of the input pulley is 8 rad/s, the angular speed of the output pulley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32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0.5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4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100-lb box is pushed up a 200-ft ramp to a height of 20 ft. The ideal mechanical advantage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0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5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0.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 a belt drive in which the diameter of the driving pulley is 8 cm and the diameter of the driven pulley is 24 cm. If the efficiency is 50 percent, what is the actual mechanical advantag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.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operation of a screw jack of pitch 0.1 in., the input force of 4 lb turns through a circle of radius 2 ft, lifting an 80-lb weight. The efficiency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8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4.4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20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1.3 perc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1981080"/>
            <a:ext cx="2895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fficiency of a machine is defined as the ratio of the work input to the work outpu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ctual mechanical advantage of a machine can never be less than un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heel and axle is an application of the principle of the lev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ingle fixed pulley offers no mechanical advantage; it changes only the direction of an input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pulley system with a speed ratio greater than 1, the output torque is less than the input torqu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machine using two gears in which the number of teeth on the input gear is greater than the number of teeth on the output gear, there will be a reduction in the output torqu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belt drive, maximum efficiency is obtained for minimum belt ten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n inclined plane, the actual mechanical advantage is the ratio of the slope distance to the height of the plan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52:23Z</dcterms:created>
  <dc:creator>User</dc:creator>
  <dc:description/>
  <dc:language>en-US</dc:language>
  <cp:lastModifiedBy>cynthia_ecklor</cp:lastModifiedBy>
  <dcterms:modified xsi:type="dcterms:W3CDTF">2005-12-14T19:21:43Z</dcterms:modified>
  <cp:revision>2</cp:revision>
  <dc:subject/>
  <dc:title>Tippens Physics 7th Edition   Chapter 12</dc:title>
</cp:coreProperties>
</file>