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0FF-4F71-4C81-B01B-D3D77FAA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68D-4F91-4309-B16A-104D99D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018-4674-499A-8DDC-8D34F8B6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BFE-8B22-4AF0-A836-CB85CBAF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9A6-4346-4206-93F0-858AC1CE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A13-FA23-4F3B-B060-1DBBB21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8D5-1555-44EB-9B22-CB67689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551-B9D8-493F-A776-0EF35620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49C-5BBF-4090-BF12-EBE10C60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258-E979-4C0B-9793-32597A8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8CA-D4CC-446F-8B0E-7E62777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BE0-94C7-4C4A-AE96-2D6A22E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BE6-CAE0-4DC2-AE4A-0C5328F9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ture of light is no different fundamentally from the nature of heat radi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lumen of red light does not represent the same luminous flux as one lumen of blue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person on the earth sees a quarter moon, that person must be within the penumbra of its shad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istance between a surface and a source of light is increased by a factor of 3, the illumination will be one-ninth of its original val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int source of light will produce only an umbra shad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one candela is equal to one lumen per steradian, the units of intensity and illumination ar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uminous intensity is not dependent on the angle a surface makes with incident flux from a source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sotropic source of 1 cd emits a luminous flux of 4pl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s of flux and luminous intensity have the same physical dimensions, even though they do not represent the same physical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uminous intensity does not change as a surface is moved farther and farther from a light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 earlier scientists believed light was transmitted by particles, it is now established that light is a wave phenomen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 most responsible for explaining the photoelectric effect w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inste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lan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uyg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xwel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adio frequency of 780 kHz has a wavelength of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8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8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0026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6 n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red rays are more energetic than visible or ultraviolet ray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of light waves is explained more easily on the basis of the wave theory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chelson-Morley experiment demonstrated that the velocity of light is a constant, independent of the motion of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anometer is 10 times as large as the angstr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ergy of light is directly proportional to the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successful terrestrial measurement of the speed of light was made by Fizea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hotoelectric effect occurs when light is emitted as a result of electron bombard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24:15Z</dcterms:created>
  <dc:creator>User</dc:creator>
  <dc:description/>
  <dc:language>en-US</dc:language>
  <cp:lastModifiedBy>cynthia_ecklor</cp:lastModifiedBy>
  <dcterms:modified xsi:type="dcterms:W3CDTF">2005-12-14T19:32:09Z</dcterms:modified>
  <cp:revision>2</cp:revision>
  <dc:subject/>
  <dc:title>Tippens Physics 7th Edition   Chapter 33</dc:title>
</cp:coreProperties>
</file>