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EBE-3954-4F12-ACD7-BD1E6D2D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829-67BF-471C-87B4-08232475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D63-1E15-441A-99AE-13BCB679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1A7-26D8-4AB8-AB74-8EAB0EB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C04-63B4-4BBF-9894-6F8762C0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11A-65F5-4BC6-AEE8-E26C8B1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CA8-F7D2-4428-ADFA-534F327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651-5477-4CBB-9DC4-1D238BD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E61-AD20-4E54-89B3-496ED31F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52D-5691-46F4-9399-3673375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12C-0EA4-41A2-B219-E541A09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211-7BCD-40D6-9F59-6F32CD9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E88-938B-42F7-947F-5C6D3DEB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er the coefficient of friction between two surfaces, the higher will be the angle of repose for those surfa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vertical ropes are used to support a 20-N weight, the tension in each rope must 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0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ope attached to a post in the ground is pulled horizontally with a force of 80 lb. The pole pulls back with a forc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4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8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0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6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cannot apply for a body in translational equilibrium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SFx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nstant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Increasing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SFy 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tension in the cable for the arrangement in Fig. 4-3. Neglect the weight of the bo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72.1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67.3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45.0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7.2 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easier to pull a sled at an angle than it is to push a sled at an angle because of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lower norm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lower we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igher normal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echanical advan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ving body cannot be in equilibri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quilibrium problems, the normal force will always equal the weight of a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rding to Newton's first law of motion, every action force has an equal but opposite reaction fo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and reaction forces do not neutralize each other because they act on different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a condition of equilibrium, any one of the forces acting on an object is the equilibrant of the vector sum of all the other for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 friction does not exist until motion is impe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ximum force of static friction is directly proportional to the weight of a bo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arallel force required to move an object over a surface at constant speed is equal to the magnitude of the force of kinetic fri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2:50Z</dcterms:created>
  <dc:creator>User</dc:creator>
  <dc:description/>
  <dc:language>en-US</dc:language>
  <cp:lastModifiedBy>cynthia_ecklor</cp:lastModifiedBy>
  <dcterms:modified xsi:type="dcterms:W3CDTF">2005-12-14T19:13:55Z</dcterms:modified>
  <cp:revision>2</cp:revision>
  <dc:subject/>
  <dc:title>Tippens Physics 7th Edition   Chapter 4</dc:title>
</cp:coreProperties>
</file>