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C690-5519-48F8-9257-D13723933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804F-D942-43F5-B634-190BFD1E9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7313-4D1C-48D3-97CA-28F01E65A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1107-AAA4-40F8-9520-3C682ED60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231D-57C5-4DF3-9B09-0D2499FA5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3F5B-6557-4A55-977A-611B40630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79E0-0497-4DD2-9675-432F60880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AF34-8942-442F-A494-894FA64F6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0B04-FAFB-4E8B-A8F9-B44FBF6D8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1E25-A6C4-4549-B212-7BFC2849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B594-3190-4E46-8558-BBAF51ED1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89D9-BBF3-4E4A-B8D9-DACFD01F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3CD73-EA5F-4EE8-9D1B-237389FA6B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ppens</a:t>
            </a:r>
            <a:br>
              <a:rPr sz="4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th Edi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pter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6527880"/>
            <a:ext cx="56563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McGraw-Hill Companies, Inc. Permission required for reproduction or displa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ich of the following must be a high-resistance instrument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Voltmet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Ammet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Moto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Galvanomet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inimum range of a given ammeter is determined by th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value of the shunt resistan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value of the multiplier resistan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load resistan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resistance and spring tension in the galvanometer eleme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range of a dc voltmeter can be increased b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increasing the circuit load resistan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increasing the multiplier resistan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decreasing the multiplier resistan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placing a shunt resistance across the voltmeter terminal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swer Ke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1981080"/>
            <a:ext cx="3657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81480" y="198108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sensitivity of a galvanometer is determined entirely by its electric resistan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horizontal current loop that is parallel with a magnetic field directed from right to left will experience a counterclockwise torque if the loop current is counterclockwise when viewed from the top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radial magnetic field for galvanometer helps to ensure that the pointer deflection will be directly proportional to the current in the coil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acing a low-resistance wire across the terminals of an ammeter will decrease the range of currents that can be measur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creasing the multiplier resistance for a voltmeter will increase the range of the voltmete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oltmeters must be connected in parallel because of the low multiplier resistance that would short-circuit the circuit if it were placed in seri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proper insertion of an ammeter or a voltmeter into a circuit will alter the current in that circuit slightly, introducing some erro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torque output by a simple dc motor is not unifor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20:17:18Z</dcterms:created>
  <dc:creator>User</dc:creator>
  <dc:description/>
  <dc:language>en-US</dc:language>
  <cp:lastModifiedBy>cynthia_ecklor</cp:lastModifiedBy>
  <dcterms:modified xsi:type="dcterms:W3CDTF">2005-12-14T19:31:17Z</dcterms:modified>
  <cp:revision>2</cp:revision>
  <dc:subject/>
  <dc:title>Tippens Physics 7th Edition   Chapter 30</dc:title>
</cp:coreProperties>
</file>