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A52-C8CC-4032-A6DD-9651C957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E98-C280-40BE-A0D9-0CC74B89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013-398E-4E1A-A839-6BE1B2A0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15C-F125-4B85-8EFD-7BE038C0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0D3-4CFD-4ABF-8A0F-69709626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067-2A83-4D72-A514-A9195943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3AD-3190-430C-A439-4F0E889B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320-194D-48E3-93D4-D4602DF8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5FE-9566-435A-ABA9-47B5916F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D25-7C9A-4E66-B3F4-AD33A9AD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038-B396-4ACA-BB3B-840EDB8F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EE4-5914-48C6-88A2-D2536F0B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70AC-AB81-47FB-A483-B54B677F0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ually the shearing strain can be approximated by the tangent of the shearing ang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's modulus applies for compressive stresses as well as tensile stres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hearing stress acting on a body changes i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shap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volu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re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t for strain is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nc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pound per square inc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newton per centime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radi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olume strain for a constant applied force increases directly with an increase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surface are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ompressibil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volu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bulk modul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ulus of rigidity is another name f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compressibil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bulk modul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shear modul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Young's modul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force of 20 N produces an elongation of 0.4 cm, the spring constant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5 N/c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50 N/c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8 N * c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02 cm/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ross-sectional area of a 20-in. copper wire is 0.001 in. A force of 400 lb causes a stress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 x 10^5 lb/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0.4 lb/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0 lb/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50 lb/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1981080"/>
            <a:ext cx="2895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terial having a large spring constant will experience a greater change in length for a given applied force than a material with a small spring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ss is the relative change in the dimensions or shape of a body as the result of an applied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ltimate strength of a material is the greatest stress it can withstand without ruptur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maller the bulk modulus of a material, the higher its compressibil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dian may be a unit of stra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ulus of elasticity has the same units as stre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's modulus is constant for a particular material but varies with the length and cross-sectional area of a wi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has a greater compressibility than stee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56:37Z</dcterms:created>
  <dc:creator>User</dc:creator>
  <dc:description/>
  <dc:language>en-US</dc:language>
  <cp:lastModifiedBy>cynthia_ecklor</cp:lastModifiedBy>
  <dcterms:modified xsi:type="dcterms:W3CDTF">2005-12-14T19:22:26Z</dcterms:modified>
  <cp:revision>2</cp:revision>
  <dc:subject/>
  <dc:title>Tippens Physics 7th Edition   Chapter 13</dc:title>
</cp:coreProperties>
</file>