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34D-5F2F-4637-9F75-0175686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F75-B01C-4FFB-AA9D-65BF087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CA2-E407-47A0-BD76-15E3E84A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A0E-F638-4B1A-9195-6725E60D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B97-112B-4335-A953-F513CA6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580-10CD-4CD7-A3C1-24DD4A34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5A8-B4A6-4E9C-BD40-5533FAD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C6D-08CE-45E7-9CA1-BEB524B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10C-387B-47A7-AB8F-013B698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C96-9738-4CA0-8817-F39F373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940-D42E-48B6-B48A-F1917C3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D4C-3268-474C-A008-17B6945A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E7F-D1C9-442F-8590-12D9C2524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rface of any conductor is an equipotential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negative charge is moved from a point of low potential to a point of high potential, its potential 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tays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creases and then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tential energy at a given point is independent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work required to bring a charge to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lectric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ath taken to reach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gnitude of a charge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vicinity of a negative charg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potential is always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otential energy is always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potential energy is always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otential is always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represents a unit of energ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/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J/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llikan oil-drop experiment was used primarily to determin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ass of an electr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rge of an electr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lectron charge to mass rat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nsity of o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potential energy is positive in the vicinity of a positive charge and negative in the vicinity of a negative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potential at a point is a property of the space, whereas electric potential energy cannot exist unless a charge is place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ever a negative charge is moved from a point of high potential to a point of low potential, its potential energy is increas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potential in the vicinity of a number of charges is equal to the algebraic sum of the potentials due to each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gative potential means that the electric field will hold on to positive charge, and work must be done by an external agent to remove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potential is zero at a point, the electric field also must be zero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between two oppositely charged plates is equal to the product of the voltage and the plate sepa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onvolt is a unit of potential dif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0:01:26Z</dcterms:created>
  <dc:creator>User</dc:creator>
  <dc:description/>
  <dc:language>en-US</dc:language>
  <cp:lastModifiedBy>cynthia_ecklor</cp:lastModifiedBy>
  <dcterms:modified xsi:type="dcterms:W3CDTF">2005-12-14T19:28:42Z</dcterms:modified>
  <cp:revision>2</cp:revision>
  <dc:subject/>
  <dc:title>Tippens Physics 7th Edition   Chapter 25</dc:title>
</cp:coreProperties>
</file>