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6E4-B15F-4601-852D-A302BF83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1CE-8892-4D56-8966-6F2C8692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8A8-C19D-42D3-814C-040C2164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9F6-506D-4400-B807-94F50405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041-DE79-47CB-A6AE-C1DCD085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5E5-3C86-4B14-A1C5-17040C9D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10C-561A-414D-9CBA-ACFFBD25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F59-D9C6-46F8-A940-0EF305F5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60A-E90D-4ED0-97F0-1C25B8D1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4F5-0230-4C58-93D9-7A89BAEE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0FA-D5A0-438A-B6F7-04492E0D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AA7-F02D-44F3-8AE0-F1ED601B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3E13-9C4C-4283-96A4-F55DF6181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ay parallel to the mirror axis passes through the center of curvature after reflection from a converging mirr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dius of curvature is equal to twice the focal length for both concave and convex mirro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cal point of a convex spherical mirror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wice the radi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n front of the mirr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virtu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re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ource of light 12 cm high is placed 50 cm from a concave mirror of focal length 100 cm. The image distanc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-100 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+100 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+50 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-50 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6-ft person stands 20 ft from a plane mirror. The shortest mirror required to view the entire imag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6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9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2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what distance must an object be placed to form an image on a screen 30 cm from the vertex of a mirror whose radius is 20 cm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0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5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0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5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gnification of a mirror is -1/3. What is the image distance when an object is placed 24 cm from this mirro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8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-8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-12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hould be the object distance for a concave shaving mirror of radius 3.2 m to form an erect image twice as large as the objec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80 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.6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.4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.2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981080"/>
            <a:ext cx="2895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gative magnification results whenever the image is virtu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virtual image cannot be formed on a scre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es formed by convex spherical mirrors are always virtual, erect, and enlarg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concave spherical mirrors, the magnification is always greater than 1 when the object is located between the center of curvature and the focal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lane mirror forms real ima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s moving closer and closer to the vertex of a convex mirror form smaller and smaller ima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concave shaving mirror, greater magnification is achieved when the object is closer to the focal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virtual images formed by spherical mirrors are erect and diminish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1:20:41Z</dcterms:created>
  <dc:creator>User</dc:creator>
  <dc:description/>
  <dc:language>en-US</dc:language>
  <cp:lastModifiedBy>cynthia_ecklor</cp:lastModifiedBy>
  <dcterms:modified xsi:type="dcterms:W3CDTF">2005-12-14T19:33:26Z</dcterms:modified>
  <cp:revision>2</cp:revision>
  <dc:subject/>
  <dc:title>Tippens Physics 7th Edition   Chapter 34</dc:title>
</cp:coreProperties>
</file>