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E9B-1AAB-48A3-B9D1-FAB15F26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717-8512-4ABE-8E84-E8BE4B0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436-A6C4-4C39-BA4E-C5FD4265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E98-7CDF-4A96-9C7A-3175ACB2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71F-D0D8-431F-AEFB-67C29F0C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FAE-9195-441C-A7A1-F7EA360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755-435C-47F1-AE76-4F8FC57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CD9-4D3D-45B8-A449-A18BCD6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37E-AE8B-4FC1-987C-751543E0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ED5-6420-421B-82C3-386B57B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559-C004-4D9C-AAFA-4DE33E8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78C-1BDF-47CB-9B4B-EF624C6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B4B4-2548-4EF6-8835-53DA7A706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rchhoff's laws apply only for current loops that contain at least one source of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wo identical resistors are connected in parallel, the voltage drop across each is one-half of the terminal potential difference at the source of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ariance of terminal potential difference, as compared with emf, is due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circuit lo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internal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Kirchhoff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urrent delive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using the Wheatstone bridge, the quantity that is balanc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m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ules for computing equivalent resistance are the same as those for computing equivalent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is the same in all parts of a parallel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ivalent resistance of two resistors in parallel is equal to their product divided by their s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mf is essentially equal to the open-circuit potential dif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supplied to an electric circuit is equal to the net emf divided by the total resistance of the circuit if we neglect internal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rchhoff's second law applies for each current loop in a complex circuit and not just for the total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Kirchhoff's laws, the tracing direction must be the same as the current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Wheatstone bridge is balanced, the voltage between the galvanometer and either terminal of the source of emf will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12:49Z</dcterms:created>
  <dc:creator>User</dc:creator>
  <dc:description/>
  <dc:language>en-US</dc:language>
  <cp:lastModifiedBy>cynthia_ecklor</cp:lastModifiedBy>
  <dcterms:modified xsi:type="dcterms:W3CDTF">2005-12-14T19:30:25Z</dcterms:modified>
  <cp:revision>2</cp:revision>
  <dc:subject/>
  <dc:title>Tippens Physics 7th Edition   Chapter 28</dc:title>
</cp:coreProperties>
</file>