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105FD-4325-4EC7-9B0C-4D02F1C91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3D306-B012-4A55-909B-BC4306608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6D21D-8745-4CD8-B271-1F87D207A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DD336-0719-4258-9B7E-F837317DE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DF546-3C71-4689-8C3F-2127935F6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CA4D5-2A7F-49B5-9F9E-4B2FA14B5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E3842-B43C-40AF-94F3-59DBD0D21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B1CD3-D4DC-4237-8688-F81889DE4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07A77-35BC-4CD6-B613-EBF43AF91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3053C-5F48-4577-8D58-2C81B9D65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E68CA-D108-4DB8-B4B4-3A1303C91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F784A-7B6D-4106-A27F-D26ADED80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3C0F-FC9A-4616-A855-06433CC799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53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Tippens</a:t>
            </a:r>
            <a:br>
              <a:rPr sz="4800"/>
            </a:br>
            <a:r>
              <a:rPr b="0" lang="en-US" sz="2800" spc="-1" strike="noStrike">
                <a:solidFill>
                  <a:srgbClr val="000000"/>
                </a:solidFill>
                <a:latin typeface="Times New Roman"/>
                <a:ea typeface="Times New Roman"/>
              </a:rPr>
              <a:t>Physics</a:t>
            </a:r>
            <a:br>
              <a:rPr sz="2800"/>
            </a:br>
            <a:r>
              <a:rPr b="0" lang="en-US" sz="2800" spc="-1" strike="noStrike">
                <a:solidFill>
                  <a:srgbClr val="000000"/>
                </a:solidFill>
                <a:latin typeface="Times New Roman"/>
                <a:ea typeface="Times New Roman"/>
              </a:rPr>
              <a:t>7th Edition</a:t>
            </a:r>
            <a:br>
              <a:rPr sz="2800"/>
            </a:br>
            <a:r>
              <a:rPr b="0" lang="en-US" sz="2800" spc="-1" strike="noStrike">
                <a:solidFill>
                  <a:srgbClr val="000000"/>
                </a:solidFill>
                <a:latin typeface="Times New Roman"/>
                <a:ea typeface="Times New Roman"/>
              </a:rPr>
              <a:t> </a:t>
            </a:r>
            <a:br>
              <a:rPr sz="2800"/>
            </a:br>
            <a:r>
              <a:rPr b="0" lang="en-US" sz="2400" spc="-1" strike="noStrike">
                <a:solidFill>
                  <a:srgbClr val="000000"/>
                </a:solidFill>
                <a:latin typeface="Times New Roman"/>
                <a:ea typeface="Times New Roman"/>
              </a:rPr>
              <a:t>Chapter 37</a:t>
            </a:r>
            <a:endParaRPr b="0" lang="en-US" sz="2400" spc="-1" strike="noStrike">
              <a:solidFill>
                <a:srgbClr val="000000"/>
              </a:solidFill>
              <a:latin typeface="Times New Roman"/>
            </a:endParaRPr>
          </a:p>
        </p:txBody>
      </p:sp>
      <p:sp>
        <p:nvSpPr>
          <p:cNvPr id="42" name=""/>
          <p:cNvSpPr/>
          <p:nvPr/>
        </p:nvSpPr>
        <p:spPr>
          <a:xfrm>
            <a:off x="1828800" y="6527880"/>
            <a:ext cx="5656320" cy="2556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624"/>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Copyright </a:t>
            </a:r>
            <a:r>
              <a:rPr b="0" lang="en-US" sz="1000" spc="-1" strike="noStrike">
                <a:solidFill>
                  <a:srgbClr val="000000"/>
                </a:solidFill>
                <a:latin typeface="Arial"/>
                <a:ea typeface="Times New Roman"/>
              </a:rPr>
              <a:t>© </a:t>
            </a:r>
            <a:r>
              <a:rPr b="0" lang="en-US" sz="1000" spc="-1" strike="noStrike">
                <a:solidFill>
                  <a:srgbClr val="000000"/>
                </a:solidFill>
                <a:latin typeface="Arial"/>
              </a:rPr>
              <a:t>The McGraw-Hill Companies, Inc. Permission required for reproduction or displa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9</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olarizer can be used as an analyzer in studying polarized ligh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0</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esolving power of an instrument is determined b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magnifica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ocal length of the objective len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diameter of the objective len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none of the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1</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ain advantage of a grating over Young's apparatus is th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sharpness of the bright line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bsence of dark fringe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absence of bright fringe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greater deviation of ligh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2</a:t>
            </a:r>
            <a:endParaRPr b="0" lang="en-US" sz="28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of the following demonstrates the transverse nature of light wave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Interferenc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Polariza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Diffrac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Refra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3</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Young's experiment, the slit separation in 0.02 mm, and the screen is 1 m away. If the slit is illuminated with light of wavelength 500 nm, the second bright fringe will be displaced from the central fringe by approximatel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3 c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4 c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5 c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6 cm.</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4</a:t>
            </a:r>
            <a:endParaRPr b="0" lang="en-US" sz="28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arallel beam of light illuminates a diffraction grating with 15,000 lines/in. The first-order image is located 16 cm from the central image of a screen 50 cm from the grating. The wavelength of the light is approximatel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515 n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571 n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541 n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592 nm.</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5</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30-in.-diameter optical telescope examines a large skylab orbiting 150 mi above the earth. The minimum separation of two points that can be resolved by the telescope, receiving light of average wavelength 500 nm, is approximatel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0.56 f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0.634 f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0.75 f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2.67 f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swer Key</a:t>
            </a:r>
            <a:endParaRPr b="0" lang="en-US" sz="4000" spc="-1" strike="noStrike">
              <a:solidFill>
                <a:srgbClr val="000000"/>
              </a:solidFill>
              <a:latin typeface="Times New Roman"/>
            </a:endParaRPr>
          </a:p>
        </p:txBody>
      </p:sp>
      <p:sp>
        <p:nvSpPr>
          <p:cNvPr id="74" name=""/>
          <p:cNvSpPr/>
          <p:nvPr/>
        </p:nvSpPr>
        <p:spPr>
          <a:xfrm>
            <a:off x="914400" y="1981080"/>
            <a:ext cx="3657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C</a:t>
            </a:r>
            <a:endParaRPr b="0" lang="en-US" sz="2800" spc="-1" strike="noStrike">
              <a:solidFill>
                <a:srgbClr val="000000"/>
              </a:solidFill>
              <a:latin typeface="Times New Roman"/>
            </a:endParaRPr>
          </a:p>
        </p:txBody>
      </p:sp>
      <p:sp>
        <p:nvSpPr>
          <p:cNvPr id="75" name=""/>
          <p:cNvSpPr/>
          <p:nvPr/>
        </p:nvSpPr>
        <p:spPr>
          <a:xfrm>
            <a:off x="5181480" y="1981080"/>
            <a:ext cx="28958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1.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2.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3. 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4.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5. 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a:t>
            </a:r>
            <a:endParaRPr b="0" lang="en-US" sz="2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an interference pattern, the bright lines are due to constructive interference, and the dark lines are caused by destructive interferenc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2</a:t>
            </a:r>
            <a:endParaRPr b="0" lang="en-US" sz="2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diffraction grating deviates red light more than blue ligh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3</a:t>
            </a:r>
            <a:endParaRPr b="0" lang="en-US" sz="2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Young's experiment, decreasing the separation of the two slits will also decrease the separation of the interference fringe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4</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esolving power of a telescope depends on the diameter of its objective lens and is not a function of the magnifica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5</a:t>
            </a:r>
            <a:endParaRPr b="0" lang="en-US" sz="2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st-order images are bright lines, and second-order images are dark line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6</a:t>
            </a:r>
            <a:endParaRPr b="0" lang="en-US" sz="2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imit of resolution for two objects occurs when the central maximum of the interference pattern of one object coincides with the first dark fringe of the interference pattern from the other objec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7</a:t>
            </a:r>
            <a:endParaRPr b="0" lang="en-US" sz="2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th transverse and longitudinal waves can be polarized by an appropriate choice of material for the polarizer.</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8</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reater the number of lines per inch on a diffraction grating, the greater the angle of deviation for the diffracted ligh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8T21:29:56Z</dcterms:created>
  <dc:creator>User</dc:creator>
  <dc:description/>
  <dc:language>en-US</dc:language>
  <cp:lastModifiedBy>cynthia_ecklor</cp:lastModifiedBy>
  <dcterms:modified xsi:type="dcterms:W3CDTF">2005-12-14T19:35:02Z</dcterms:modified>
  <cp:revision>2</cp:revision>
  <dc:subject/>
  <dc:title>Tippens Physics 7th Edition   Chapter 37</dc:title>
</cp:coreProperties>
</file>