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681-3A09-49A4-912A-B7A70C83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FB1-3F46-4BD4-BB8A-0FB84E9B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F55-2C33-4604-A771-F6F8F112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D31-19C2-497F-BB9E-2E6C5B7D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E71-7E65-4F0E-AB2F-FDF5BF78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32E-8AE0-42C3-A5F6-C6FB8E9C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543-CB7F-4102-B24D-ED4307C7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9F8-4022-47D2-B598-F23F0B33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622-154C-410B-B8EA-387D19FD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17D-34AE-44DB-8293-87D144EB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30A-9C62-41A3-B715-3723374D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78A-68E6-4E8C-B718-FD60E3C9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4E75-92FA-43B3-8DB2-76A08945C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ing the end of a closed pipe will double the frequency produc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eed of sound in gases is larger for the gases with higher molecular mas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eed of sound is greatest when the medium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 vacu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i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wa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et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a sensory effect rather than a measurable physical quantit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Frequ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Qua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ntens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Wavefor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closed pipe, the second overtone is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second harmon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ird harmon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fourth harmon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ifth harmon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hysical property that is most responsible for resonanc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wavefo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requenc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qual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intens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undamental frequency for a 20-cm closed pipe when the speed of sound is 340 m/s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.25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8.25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25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25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tuning forks of 340 and 343 Hz are sounded together. The resulting beats per second will 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1981080"/>
            <a:ext cx="2895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nd waves are longitudinal waves that require a medium for transmi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tree falls in a forest, there is no sound unless an ear can pick up the vibrati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nd waves travel faster in air than in metals because the air is less den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eed of sound is increased significantly with rising temperatur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quality of different sounds is demonstrated by the difference in tones when a C note is sounded on a flute, a violin, and a trumpe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ound of intensity level 40 dB is twice as intense as a sound of 20 d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nd that fluctuates in intensity because of the simultaneous output of two sources is a consequence primarily of the Doppler eff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pplying Doppler's equation, speeds are reckoned as positive for speeds of approach and negative for speeds of rec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9:54:51Z</dcterms:created>
  <dc:creator>User</dc:creator>
  <dc:description/>
  <dc:language>en-US</dc:language>
  <cp:lastModifiedBy>cynthia_ecklor</cp:lastModifiedBy>
  <dcterms:modified xsi:type="dcterms:W3CDTF">2005-12-14T21:14:43Z</dcterms:modified>
  <cp:revision>3</cp:revision>
  <dc:subject/>
  <dc:title>Tippens Physics 7th Edition   Chapter 22</dc:title>
</cp:coreProperties>
</file>