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59165-79D0-4A8D-AE33-5ADAD1D77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B990D-2AA2-4614-9338-FE0DBC4FD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BA5B2-6EC1-4D57-94DC-EFF04EA56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78BCF-EF8D-40F2-847C-3BCC67483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C3927-86F7-41AA-AA71-3DB098893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229ED-2611-4951-9DAE-0A9BFB6F2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0F608-CE99-4A84-96D5-779DAC987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ECD59-ECC2-48DF-A21B-FF1BAA55A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1B4B8-65E0-4EED-8541-4BDF18077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804D2-A965-46C8-8B0F-1FBFF0BE9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4AF30-675B-4797-AA33-B41A19CC4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2C6D5-930A-4FC0-9195-555DC15C0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86929-516F-4E08-9DA5-D4DF8225F3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ppens</a:t>
            </a:r>
            <a:br>
              <a:rPr sz="4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ysic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th Edit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pter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28800" y="6527880"/>
            <a:ext cx="565632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©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McGraw-Hill Companies, Inc. Permission required for reproduction or display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unit of torque in the metric system is the newton-meter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net torque will be the same if a force is doubled but moved to a point halfway to the axis of rotation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 apply the second condition for equilibrium, the axis of rotatio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must be at the center of the body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must be at one end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. may be chosen anywher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 must be at the center of gravity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 compute torque, one must know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he force magnitud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the moment arm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. both of thes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 neither of thes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rope is wrapped in a clockwise direction around a 12-in.-diameter axle. If a force of 20 lb is exerted on the rope, what is the resultant torque?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-20 lb* f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+20 lb* f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. -10 lb* f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 10 lb * f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60-lb boy sits on the left end of a 12-ft seesaw, and a 40-lb boy sits on the right end. The resultant torque about the center is approximatel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-120 lb* ft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+20 lb *ft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. +120 lb *ft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 240 lb * ft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ich of the following is not a unit of torque?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Pound-foo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Kilogram-newto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. Newton-mete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 Pound-inch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 the resultant of a set of concurrent forces is zero, the sum of the torqu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is also zero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may or may not be zero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. is not zero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 depends on the axis of rotation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20-lb uniform board is 16 ft long and is supported at a point 6 ft from the right end. The upward force that must be exerted at the left end to balance the system is approximatel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4 lb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2 lb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. 3.6 lb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 5 lb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rope is wrapped around a 16-in.-diameter drum in a counterclockwise direction. What force must be exerted on the rope to give a torque of 120 lb ft?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90 lb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75 lb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. 200 lb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 180 lb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en considering only concurrent forces, we do not need to calculate torque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girl and a boy carry a sack weighing 40 N on a pole between them. If the pole is 6 m long and the load is 2 m from the girl, what force does the boy exert?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13.3 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26.7 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. 40 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 80 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boom in Fig. 5-3 is 2 m long and weighs 100 N. If the 800-N load is suspended 50 cm from the end, the cable tension is approximatel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310 N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352 N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. 424 N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 512 N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swer Ke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914400" y="1981080"/>
            <a:ext cx="36576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181480" y="1981080"/>
            <a:ext cx="28958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.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.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.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.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.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.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.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. 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.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.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 an object is suspended from the ceiling by a rope attached to its center of gravity, the system will attain equilibrium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moment arm is the distance from the point of application of a force to the axis of rotation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en a force tends to cause clockwise rotation, it produces a positive torque by convention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 applying the second condition for equilibrium, the axis of rotation may be chosen for convenienc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center of gravity of a body is always at the geometrical center of the body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 applying the second condition for equilibrium, it is acceptable to equate the clockwise torques about any axis to the counterclockwise torques about the same axi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 computing the resultant torque, the axis of rotation may be chosen for convenienc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8T18:34:37Z</dcterms:created>
  <dc:creator>User</dc:creator>
  <dc:description/>
  <dc:language>en-US</dc:language>
  <cp:lastModifiedBy>cynthia_ecklor</cp:lastModifiedBy>
  <dcterms:modified xsi:type="dcterms:W3CDTF">2005-12-14T21:08:55Z</dcterms:modified>
  <cp:revision>3</cp:revision>
  <dc:subject/>
  <dc:title>Tippens Physics 7th Edition   Chapter 5</dc:title>
</cp:coreProperties>
</file>