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30950-0D77-4D5A-9B22-864C21209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77DAE-ED4E-4371-B0D5-1A103A461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6FC72-EBF4-402A-A18F-90ABABA14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FC079-B9A0-4D68-8A47-EEE493544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057DF-4FB8-4D8D-AE4A-04240F304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8D43E-3206-424B-BF2A-4B3531601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C4061-2305-4A55-98DF-A60CF222D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56E30-23D6-4E2B-BD24-AB1B81E82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AD17A-9EE9-484D-A9ED-BD4710BD9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9EC4-10C4-4C8D-B263-D00800453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41D62-D42B-4D9D-BC2D-B11775359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155B0-F1BE-4454-896B-03DE78453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4853-539D-4635-B8A7-E85116617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Tippens</a:t>
            </a:r>
            <a:br>
              <a:rPr sz="4800"/>
            </a:br>
            <a:r>
              <a:rPr b="0" lang="en-US" sz="2800" spc="-1" strike="noStrike">
                <a:solidFill>
                  <a:srgbClr val="000000"/>
                </a:solidFill>
                <a:latin typeface="Times New Roman"/>
                <a:ea typeface="Times New Roman"/>
              </a:rPr>
              <a:t>Physics</a:t>
            </a:r>
            <a:br>
              <a:rPr sz="2800"/>
            </a:br>
            <a:r>
              <a:rPr b="0" lang="en-US" sz="2800" spc="-1" strike="noStrike">
                <a:solidFill>
                  <a:srgbClr val="000000"/>
                </a:solidFill>
                <a:latin typeface="Times New Roman"/>
                <a:ea typeface="Times New Roman"/>
              </a:rPr>
              <a:t>7th Edition</a:t>
            </a:r>
            <a:br>
              <a:rPr sz="2800"/>
            </a:br>
            <a:r>
              <a:rPr b="0" lang="en-US" sz="2800" spc="-1" strike="noStrike">
                <a:solidFill>
                  <a:srgbClr val="000000"/>
                </a:solidFill>
                <a:latin typeface="Times New Roman"/>
                <a:ea typeface="Times New Roman"/>
              </a:rPr>
              <a:t> </a:t>
            </a:r>
            <a:br>
              <a:rPr sz="2800"/>
            </a:br>
            <a:r>
              <a:rPr b="0" lang="en-US" sz="2400" spc="-1" strike="noStrike">
                <a:solidFill>
                  <a:srgbClr val="000000"/>
                </a:solidFill>
                <a:latin typeface="Times New Roman"/>
                <a:ea typeface="Times New Roman"/>
              </a:rPr>
              <a:t>Chapter 23</a:t>
            </a:r>
            <a:endParaRPr b="0" lang="en-US" sz="2400" spc="-1" strike="noStrike">
              <a:solidFill>
                <a:srgbClr val="000000"/>
              </a:solidFill>
              <a:latin typeface="Times New Roman"/>
            </a:endParaRPr>
          </a:p>
        </p:txBody>
      </p:sp>
      <p:sp>
        <p:nvSpPr>
          <p:cNvPr id="42" name=""/>
          <p:cNvSpPr/>
          <p:nvPr/>
        </p:nvSpPr>
        <p:spPr>
          <a:xfrm>
            <a:off x="1828800" y="6527880"/>
            <a:ext cx="5656320" cy="255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a:t>
            </a:r>
            <a:r>
              <a:rPr b="0" lang="en-US" sz="1000" spc="-1" strike="noStrike">
                <a:solidFill>
                  <a:srgbClr val="000000"/>
                </a:solidFill>
                <a:latin typeface="Arial"/>
                <a:ea typeface="Times New Roman"/>
              </a:rPr>
              <a:t>© </a:t>
            </a:r>
            <a:r>
              <a:rPr b="0" lang="en-US" sz="1000" spc="-1" strike="noStrike">
                <a:solidFill>
                  <a:srgbClr val="000000"/>
                </a:solidFill>
                <a:latin typeface="Arial"/>
              </a:rPr>
              <a:t>The McGraw-Hill Companies, Inc. Permission required for reproduction or displa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9</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egatively charged bod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has a deficiency of electron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has an excess of electron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is produced on glass by rubbing with silk.</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repels a positively charged bod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0</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ging a single body by induction always leaves a residual charge that i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greater than that of the charging objec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the same sign as that of the charging bod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opposite in sign to that of the charging objec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n excess of electron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1</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wo suspended objects are seen to attract each other electricall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hey are both charge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one must be charge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either (a) or (b) is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neither (a) nor (b) is tru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2</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a positively charged rod is brought closer and closer to a positively charged electroscope, the gold leaf</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iverg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converge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is neutralize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is unaffect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swer Key</a:t>
            </a:r>
            <a:endParaRPr b="0" lang="en-US" sz="4000" spc="-1" strike="noStrike">
              <a:solidFill>
                <a:srgbClr val="000000"/>
              </a:solidFill>
              <a:latin typeface="Times New Roman"/>
            </a:endParaRPr>
          </a:p>
        </p:txBody>
      </p:sp>
      <p:sp>
        <p:nvSpPr>
          <p:cNvPr id="68" name=""/>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C</a:t>
            </a:r>
            <a:endParaRPr b="0" lang="en-US" sz="2800" spc="-1" strike="noStrike">
              <a:solidFill>
                <a:srgbClr val="000000"/>
              </a:solidFill>
              <a:latin typeface="Times New Roman"/>
            </a:endParaRPr>
          </a:p>
        </p:txBody>
      </p:sp>
      <p:sp>
        <p:nvSpPr>
          <p:cNvPr id="69" name=""/>
          <p:cNvSpPr/>
          <p:nvPr/>
        </p:nvSpPr>
        <p:spPr>
          <a:xfrm>
            <a:off x="5181480" y="1981080"/>
            <a:ext cx="2895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bbing a glass rod with a silk cloth leaves a negative charge on the cloth.</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2</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inging a negatively charged rod closer and closer to a positively charged electroscope causes the leaf to converg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3</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cess of charging an object by induction leaves a charge on the object that is opposite to that of the charging devic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4</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cause of its large size, the coulomb is not a practical unit for static electricit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5</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ording to Coulomb's law, the electric force will be doubled if they separation of two equal charges is cut in half.</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6</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wo or more charges are in the vicinity of another charge, the latter charge experiences an electric force equal to the algebraic sum of the forces due to each charg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7</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lus and minus signs used to identify charge have significance primarily for determining direction when they are applied to Coulomb's law.</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8</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coulomb is that quantity of charge that, when placed one meter away from an equal charge of the same sign, will experience a repulsive force of one newt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19:56:59Z</dcterms:created>
  <dc:creator>User</dc:creator>
  <dc:description/>
  <dc:language>en-US</dc:language>
  <cp:lastModifiedBy>cynthia_ecklor</cp:lastModifiedBy>
  <dcterms:modified xsi:type="dcterms:W3CDTF">2005-12-14T19:27:41Z</dcterms:modified>
  <cp:revision>2</cp:revision>
  <dc:subject/>
  <dc:title>Tippens Physics 7th Edition   Chapter 23</dc:title>
</cp:coreProperties>
</file>