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F5578-660D-428F-BB00-99401CED6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0DE71-871B-4085-8783-D7211DA2E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E39D2-01DB-4FF9-852A-829402238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80448-B571-4CA8-9727-3EF9CA6D1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E1E10-08C3-4958-9B8F-F8C7CA732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7A6C7-10CD-438E-BB91-7030B14EB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9887B-4DDB-431F-A7C9-3E732110C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56268-58D6-4CE0-A50A-AA605438B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930F9-549C-4227-9F8F-CAC12F9AF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DC827-4360-493E-8751-14D70A698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1FD21-8693-4D1C-8152-99AA2760F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F3A99-00F8-41B7-9A88-691EFCB26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499"/>
              </a:spcBef>
              <a:spcAft>
                <a:spcPts val="4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43DB-C64A-4D0F-AE99-2A2C72DE5C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53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Tippens</a:t>
            </a:r>
            <a:br>
              <a:rPr sz="4800"/>
            </a:br>
            <a:r>
              <a:rPr b="0" lang="en-US" sz="2800" spc="-1" strike="noStrike">
                <a:solidFill>
                  <a:srgbClr val="000000"/>
                </a:solidFill>
                <a:latin typeface="Times New Roman"/>
                <a:ea typeface="Times New Roman"/>
              </a:rPr>
              <a:t>Physics</a:t>
            </a:r>
            <a:br>
              <a:rPr sz="2800"/>
            </a:br>
            <a:r>
              <a:rPr b="0" lang="en-US" sz="2800" spc="-1" strike="noStrike">
                <a:solidFill>
                  <a:srgbClr val="000000"/>
                </a:solidFill>
                <a:latin typeface="Times New Roman"/>
                <a:ea typeface="Times New Roman"/>
              </a:rPr>
              <a:t>7th Edition</a:t>
            </a:r>
            <a:br>
              <a:rPr sz="2800"/>
            </a:br>
            <a:r>
              <a:rPr b="0" lang="en-US" sz="2800" spc="-1" strike="noStrike">
                <a:solidFill>
                  <a:srgbClr val="000000"/>
                </a:solidFill>
                <a:latin typeface="Times New Roman"/>
                <a:ea typeface="Times New Roman"/>
              </a:rPr>
              <a:t> </a:t>
            </a:r>
            <a:br>
              <a:rPr sz="2800"/>
            </a:br>
            <a:r>
              <a:rPr b="0" lang="en-US" sz="2400" spc="-1" strike="noStrike">
                <a:solidFill>
                  <a:srgbClr val="000000"/>
                </a:solidFill>
                <a:latin typeface="Times New Roman"/>
                <a:ea typeface="Times New Roman"/>
              </a:rPr>
              <a:t>Chapter 18</a:t>
            </a:r>
            <a:endParaRPr b="0" lang="en-US" sz="2400" spc="-1" strike="noStrike">
              <a:solidFill>
                <a:srgbClr val="000000"/>
              </a:solidFill>
              <a:latin typeface="Times New Roman"/>
            </a:endParaRPr>
          </a:p>
        </p:txBody>
      </p:sp>
      <p:sp>
        <p:nvSpPr>
          <p:cNvPr id="42" name=""/>
          <p:cNvSpPr/>
          <p:nvPr/>
        </p:nvSpPr>
        <p:spPr>
          <a:xfrm>
            <a:off x="1828800" y="6527880"/>
            <a:ext cx="5656320" cy="2556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624"/>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Copyright </a:t>
            </a:r>
            <a:r>
              <a:rPr b="0" lang="en-US" sz="1000" spc="-1" strike="noStrike">
                <a:solidFill>
                  <a:srgbClr val="000000"/>
                </a:solidFill>
                <a:latin typeface="Arial"/>
                <a:ea typeface="Times New Roman"/>
              </a:rPr>
              <a:t>© </a:t>
            </a:r>
            <a:r>
              <a:rPr b="0" lang="en-US" sz="1000" spc="-1" strike="noStrike">
                <a:solidFill>
                  <a:srgbClr val="000000"/>
                </a:solidFill>
                <a:latin typeface="Arial"/>
              </a:rPr>
              <a:t>The McGraw-Hill Companies, Inc. Permission required for reproduction or displa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9</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a composite wall of two or more different materials, the same number of calories is transferred per unit area per unit time through each material after time is allowed for steady flow to be established.</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0</a:t>
            </a:r>
            <a:endParaRPr b="0" lang="en-US" sz="2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ch of the following geometries will result in the largest convection coefficien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Vertical plat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Horizontal plate, facing upward</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Diagonal plat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Horizontal plate, facing downwar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1</a:t>
            </a:r>
            <a:endParaRPr b="0" lang="en-US" sz="28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he temperature of an object is doubled, its rate of radiation is increased by a factor of</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2.</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4.</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8.</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16.</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2</a:t>
            </a:r>
            <a:endParaRPr b="0" lang="en-US" sz="28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ead airspace between the walls of a calorimeter cup and its outside container minimizes heat loss due to</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conduction.</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convection.</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radiation.</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contamina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3</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irection of heat flow is always from</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high temperature to low temperatur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high pressure to low pressur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high density to low density.</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a point of higher emissivity.</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swer Key</a:t>
            </a:r>
            <a:endParaRPr b="0" lang="en-US" sz="4000" spc="-1" strike="noStrike">
              <a:solidFill>
                <a:srgbClr val="000000"/>
              </a:solidFill>
              <a:latin typeface="Times New Roman"/>
            </a:endParaRPr>
          </a:p>
        </p:txBody>
      </p:sp>
      <p:sp>
        <p:nvSpPr>
          <p:cNvPr id="70" name=""/>
          <p:cNvSpPr/>
          <p:nvPr/>
        </p:nvSpPr>
        <p:spPr>
          <a:xfrm>
            <a:off x="914400" y="1981080"/>
            <a:ext cx="36576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B</a:t>
            </a:r>
            <a:endParaRPr b="0" lang="en-US" sz="2800" spc="-1" strike="noStrike">
              <a:solidFill>
                <a:srgbClr val="000000"/>
              </a:solidFill>
              <a:latin typeface="Times New Roman"/>
            </a:endParaRPr>
          </a:p>
        </p:txBody>
      </p:sp>
      <p:sp>
        <p:nvSpPr>
          <p:cNvPr id="71" name=""/>
          <p:cNvSpPr/>
          <p:nvPr/>
        </p:nvSpPr>
        <p:spPr>
          <a:xfrm>
            <a:off x="5181480" y="1981080"/>
            <a:ext cx="2895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1. 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2.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3. 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1</a:t>
            </a:r>
            <a:endParaRPr b="0" lang="en-US" sz="2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elationships that predict heat transfer are based on empirical observations and depend on ideal condition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2</a:t>
            </a:r>
            <a:endParaRPr b="0" lang="en-US" sz="2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quantity of heat transferred through a slab of area 4 ft</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is greater than the quantity of heat conducted through an area of 8 ft</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assuming that all other parameters are constant.</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3</a:t>
            </a:r>
            <a:endParaRPr b="0" lang="en-US" sz="2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a radiator is used to heat a room, the principal method of heat transfer warming the room is convection.</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4</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ir-conditioning outlets in the ceiling are more efficient than those on the floor.</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5</a:t>
            </a:r>
            <a:endParaRPr b="0" lang="en-US" sz="2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objects emit electromagnetic radiation, regardless of their temperature or the temperature of their surrounding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6</a:t>
            </a:r>
            <a:endParaRPr b="0" lang="en-US" sz="2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object that absorbs a large percentage of incident radiation will be a poor emitter of radiation.</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7</a:t>
            </a:r>
            <a:endParaRPr b="0" lang="en-US" sz="28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cause of a similarity in the definition of heat units, the thermal conductivities are the same numerically in the engineering system and the metric system of units.</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 8</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body at the same temperature as its surroundings radiates and absorbs heat at the same rat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rue</a:t>
            </a:r>
            <a:endParaRPr b="1" lang="en-US" sz="24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Fal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8T19:16:36Z</dcterms:created>
  <dc:creator>User</dc:creator>
  <dc:description/>
  <dc:language>en-US</dc:language>
  <cp:lastModifiedBy>cynthia_ecklor</cp:lastModifiedBy>
  <dcterms:modified xsi:type="dcterms:W3CDTF">2005-12-14T21:13:24Z</dcterms:modified>
  <cp:revision>3</cp:revision>
  <dc:subject/>
  <dc:title>Tippens Physics 7th Edition   Chapter 18</dc:title>
</cp:coreProperties>
</file>