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1DB-9DDC-445D-B1B5-4A03F664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529-D753-47A3-A7F9-0613D2AE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A2D-78B5-4C37-BF6C-1D4622A1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BD0-9736-4E0E-8899-4D8DD6E9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F16-D95D-4C93-B10E-098B41E5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33F-700D-496B-96EA-881F4A94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0BB-C7AF-41F2-9C89-7B224EB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A08-A948-4643-AD1A-4C4CEC9D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759-79B6-4180-9E9A-0A12DB98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11D-918E-487D-AC04-354BEE7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817-D607-4B32-A087-8DC0FFD4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5D6-7B92-493D-AFC9-616E0DC3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566D-DB5F-4C40-A9B4-A694D82F3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rmula for computing the banking angle also applies for the angle that the cord makes with the vertical for a conical pendul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wo masses are separated by twice the distance, they will experience one-half the gravitational attra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all is tied to a string and swung in a horizontal circle. When the string breaks, the ball will follow a path tha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oward the cen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way from the cen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t a tangent to its circular pa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one of the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rce exerted on the ball in Question 11 is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centrifug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entripet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gravitation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ictitious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ody traveling in a circular path at constant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has an outward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has inward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as constant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s not accelera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makes one complete revolution in 0.5 s. Its frequency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 rev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 rev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5 rev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swings at the end of a string in uniform circular motion. Which of the following changes would not cause an increased centripetal forc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 longer st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shorter st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 greater linear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 larger m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entripetal acceleration of a 2-kg mass swinging in a 0.4-m radius with a linear speed of 4 m/s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8-kg ball is swung in a horizontal circle by a cord of length 2 m. If the period is 0.5 s, the tension in the cord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64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02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0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527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981080"/>
            <a:ext cx="289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rock is made to move in a circular path at the end of a string, an outward force is exerted on the ro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tring breaks in Question 1, centripetal acceleration will cause the rock to move inw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ipetal and centrifugal forces have the same magnitudes but are opposite in directions; they don't cancel because they act on different objec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car moves in a horizontal circle on a level road, the centripetal force is exerted by the tir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ximum speed with which a car can negotiate a curve does not depend on the weight of the c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eriod of revolution may be thought of as the number of complete revolutions per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 as a resultant force is needed to change the speed of a body, a resultant force is necessary to change its dir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orm circular motion is motion in which the linear speed changes at a constant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48:38Z</dcterms:created>
  <dc:creator>User</dc:creator>
  <dc:description/>
  <dc:language>en-US</dc:language>
  <cp:lastModifiedBy>cynthia_ecklor</cp:lastModifiedBy>
  <dcterms:modified xsi:type="dcterms:W3CDTF">2005-12-14T21:12:49Z</dcterms:modified>
  <cp:revision>3</cp:revision>
  <dc:subject/>
  <dc:title>Tippens Physics 7th Edition   Chapter 10</dc:title>
</cp:coreProperties>
</file>