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436-83C7-481B-9BDA-A810AE15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DF4-9442-44FF-9EE1-DF627CF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6C5-3F06-46B0-8CBA-E850F92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7F8-D133-45D3-86A6-01C62DE6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2C2-92BF-4C36-957F-804C78C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5AC-4E3D-4BCE-A7A1-3C51A007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7E3-6000-4729-8EEC-F6C3AFB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23D-5A0C-4BA8-AF02-D48E84B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E35-5877-4B94-8131-25610AD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97F-369E-40C5-824F-529D940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E6F-84BC-43F1-81A0-B8EC65F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24F-EFDB-4286-990D-199FB3A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885-85AB-4F02-A035-142E1941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adder base is 3 m away from a house, and the fully extended ladder is 7 m long when it leans against the house. How high does the ladder reach on the hous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58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4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bout 6.3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bout 7.6 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5 minutes after the hour, a minute arm forms a 30 degree angle. At 15 minutes, it forms a 90 degree angle, and at 20 minutes it forms a 120 degree angle. What angle will it form at 30 minut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3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18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0 deg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270 deg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multiplying two exponents with the same base, add the ex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multiplying two exponents with the same base, multiply the ex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multiply two numbers in scientific notation, you must subtract the second exponent from the first expon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de of a right triangle opposite the right angle can be equal to one of the other sid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know the length of one side of a right triangle and the size of the right angle, you can find the other two sides and two ang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variables increase in proportion to one another, they are said to have an inverse relationsh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sitive number multiplied by an even number of negative numbers will always result in which type of numb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osi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nega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expon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r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eed and distance of a certain train are directly related. This means that when the speed increases, the distance does wha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decr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emains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y increase or decr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29:37Z</dcterms:created>
  <dc:creator>User</dc:creator>
  <dc:description/>
  <dc:language>en-US</dc:language>
  <cp:lastModifiedBy>User</cp:lastModifiedBy>
  <dcterms:modified xsi:type="dcterms:W3CDTF">2005-11-28T18:29:40Z</dcterms:modified>
  <cp:revision>1</cp:revision>
  <dc:subject/>
  <dc:title>Tippens Physics 7th Edition   Chapter 2</dc:title>
</cp:coreProperties>
</file>