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C62-F3BB-4424-860D-EDC20804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AA3-4BB4-4D95-8102-1622B47C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B3A-9564-40FB-8D6D-01971AB0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F64-0CBC-4932-8ABD-3570684B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C12-421C-4E83-9C2A-AF29C40A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79B-C0C0-4EF7-94A7-07C6658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E82-9C3B-41F7-B22A-29BD684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C74-EB83-4488-9ED0-2781973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285-86DF-4898-81AC-FC47F2C6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97F-138B-454F-AC3B-B8A4DEB2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365-D25A-4A2B-B9CE-F3E5A15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C25-3F33-4505-8188-7A266442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C286-9027-4114-AA84-DCF9EED7F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bjects are in thermal equilibrium when they have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rm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otenti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efficient of linear expansion will vary only with a change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nitial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rm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teri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flame is held to the bulb of a mercury-in-glass thermometer, the mercury level wi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ri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ro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rop and then ri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ise and then dro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1981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bjects that have the same temperature also have the same therm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bjects are said to be in thermal equilibrium if and only if they are at the same temper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nty Celsius degrees represents the same temperature interval as twenty kelvi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temperature interval is converted from Rankine degrees to kelvins, the number of Rankine degrees should be multiplied by 5/9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specific temperature in degrees Fahrenheit is converted to the corresponding temperature in degrees Celsius, the number is multiplied by 9/5 and added to 3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given temperature interval, the same linear expansion coefficient may be used for the same material, regardless of the choice of units for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solid disk with a hole in its center, the diameter of the disk and the diameter of the hole will increase in length per unit length at a rate given by its linear expansion coeffici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olume expansion coefficient for a solid is approximately equal to 3 times the linear expansion coefficient, but this does not represent a true equa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9:01:30Z</dcterms:created>
  <dc:creator>User</dc:creator>
  <dc:description/>
  <dc:language>en-US</dc:language>
  <cp:lastModifiedBy>cynthia_ecklor</cp:lastModifiedBy>
  <dcterms:modified xsi:type="dcterms:W3CDTF">2005-12-14T19:23:52Z</dcterms:modified>
  <cp:revision>2</cp:revision>
  <dc:subject/>
  <dc:title>Tippens Physics 7th Edition   Chapter 16</dc:title>
</cp:coreProperties>
</file>