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E00-69AB-4398-8665-55199B74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001-5FF9-41DF-A2D3-59479D07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EE2-BC62-4E15-8753-A4BA023D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4C6-BA24-4463-9626-48A6A69E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3B6-1FE5-4CE8-84EC-F71D6E5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F01-0FC6-464C-A456-FF4CE53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A99-FBBA-42CB-9C52-91756F54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DE5-2C63-43FE-9088-7D924C33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E81-AB60-4AEF-921C-675CEA9D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8CD-273A-4316-89F0-61E5A7E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8C1-1B7C-4592-AC76-EDB04650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E69-926E-4F03-916F-1ED8679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4B96-1BB7-4944-BD3E-0DD2F29EE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Your Own Piz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c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the D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dough yourself.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ready-made dough at the 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the dough out evenly on the baking 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the oven to 45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To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vegetables (onions, peppers, broccoli, mushroo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ce meat (pepperoni, sausa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can of tomato sauce or chopped tomat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e cheese (mozzarella, Parmesan, cheddar) OR buy grated che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 the Piz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toppings on the piz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the topp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kle on seasonings, like oreg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kle a little olive oil on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ready to ba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 the Piz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the pizza carefully into the hot 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after 1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zza will be done in about 15 to 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zza is done when the cheese has melted and the crust is slightly b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take the pizza out of the 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 the Piz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pizza into s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to your family o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3:06:02Z</dcterms:created>
  <dc:creator>Glencoe/McGraw-Hill</dc:creator>
  <dc:description/>
  <dc:language>en-US</dc:language>
  <cp:lastModifiedBy>cynthia_baule</cp:lastModifiedBy>
  <dcterms:modified xsi:type="dcterms:W3CDTF">2004-09-23T04:06:58Z</dcterms:modified>
  <cp:revision>25</cp:revision>
  <dc:subject/>
  <dc:title>Make Your Own Pizza</dc:title>
</cp:coreProperties>
</file>