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A03-B563-427B-91F1-5836A777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C7D-7A83-44A2-88E8-CFD4A22E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F45-F987-4DE4-9BBF-242D608E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D8C-918F-4B16-ADE8-817FCB34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AE2-1171-4183-B730-5CBF04E1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C57-DFB8-43D3-A517-E88B431F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5CC-BAEF-4095-A44A-71E562EB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1EF-BB71-4A6B-8B68-37A2CCE2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74E-2A0A-4F0B-81CC-71A0488B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FFE-4CCA-488C-A197-CE9D66E1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4C1-CB6A-47B6-B580-B23B5146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567-8AC8-49CE-ADC0-F958DD4E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23C-8E70-4EED-AADA-E1ACD5F03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9:19:23Z</dcterms:created>
  <dc:creator>Glencoe/McGraw-Hill</dc:creator>
  <dc:description/>
  <dc:language>en-US</dc:language>
  <cp:lastModifiedBy>bostonpc03</cp:lastModifiedBy>
  <dcterms:modified xsi:type="dcterms:W3CDTF">2004-06-03T20:24:22Z</dcterms:modified>
  <cp:revision>3</cp:revision>
  <dc:subject/>
  <dc:title>Slide 1</dc:title>
</cp:coreProperties>
</file>