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842-54EF-4076-B4BD-B7DB1274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C2A-E01C-4123-ADD8-124486FA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274-C8AC-4D9E-8DDE-DCD02B2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5C9-B08F-4642-AAC5-171F1482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BFC-6472-4D47-B25D-01E8CA5A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031-91CD-4BA1-A29A-4479664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283-61D5-46F7-A5F7-6A8913D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65E-E3EB-4624-9FE7-C584088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034-57B0-49CD-8189-6C71BF5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0EF-2AAE-49D2-ADA0-B61F713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350-8887-4436-969C-53137C9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BF9-1C25-443E-9956-F5B4A4A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03A-CA73-4D37-A60A-FAEE258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F14-C23B-4683-86BF-4C5C92AE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or Creating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 Your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your audience, ask yourself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my audience? What are their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really want my audience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want my audience to do with the information I giv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nterests of my 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1. Who is my audie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speak to your teachers the same way you would speak to your pe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speak to your pe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speak to your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speak to an audience that contained both peers and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3:32:29Z</dcterms:created>
  <dc:creator>Glencoe/McGraw-Hill</dc:creator>
  <dc:description/>
  <dc:language>en-US</dc:language>
  <cp:lastModifiedBy>cynthia_baule</cp:lastModifiedBy>
  <dcterms:modified xsi:type="dcterms:W3CDTF">2004-09-22T20:38:25Z</dcterms:modified>
  <cp:revision>24</cp:revision>
  <dc:subject/>
  <dc:title>Creating Effective Presentations</dc:title>
</cp:coreProperties>
</file>