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46888" cy="9197975"/>
</p:presentation>
</file>

<file path=ppt/commentAuthors.xml><?xml version="1.0" encoding="utf-8"?>
<p:cmAuthorLst xmlns:p="http://schemas.openxmlformats.org/presentationml/2006/main">
  <p:cmAuthor id="0" name="Wanda Adams" initials="W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03T17:40:22.229000000" idx="1">
    <p:pos x="10" y="10"/>
    <p:text>Add a Summary slide to the end of the presentation.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E780-54A2-41ED-991E-B51350C75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7900-D16F-4CB4-BB37-C2DC3134E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BC58-B470-4EE9-B223-939092FE9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C62B-97B5-4D10-ACFA-2EDA090CD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7236-2BDE-40B3-BD63-4A9CC53D4E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9A90-4500-489A-B6F4-23E296BAD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150A-DDB1-4BA4-A2CE-91CD23F269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62C0-E2B7-4722-B626-C554B1EE26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724D-CB17-470B-BC3E-888A370F48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80C0-B7AC-497C-B976-9999A5A6AC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46FA-E17E-47CA-867D-AEA0F6A94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1643-D0D5-4B7C-AC44-793B33268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B9C68-7021-4147-9953-FCAE8CAACB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F82D-C879-4C9A-8920-3CEDFC629B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F4C4-C4A5-48FB-86F3-A4D01AF8BB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16BB-3869-40A4-986E-FB46574404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0BB6-38F3-412E-958C-09CDF56E7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DE59-9F28-42AB-9CF6-B219206DD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5956-2FCA-43A1-8A8A-E0A4F61C0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4F37-3AF2-4175-9835-13CB59A1D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1A1A-5960-4952-B75F-35CF1591F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76F4-D613-4C43-9A81-A9B3E19E7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1C1C-B387-4847-9779-00F95C062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3B7D-DC3B-49F4-A76F-5722D9669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2509-9D9F-4F8E-A32A-2920704D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EAEF-C911-4047-B18B-411B23F01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356000" y="2133720"/>
          <a:ext cx="226692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22669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4640" y="872640"/>
            <a:ext cx="56070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Movie Thea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ployee Ori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844640"/>
            <a:ext cx="1512720" cy="1549440"/>
          </a:xfrm>
          <a:prstGeom prst="star5">
            <a:avLst/>
          </a:prstGeom>
          <a:solidFill>
            <a:srgbClr val="00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1B83-FEFC-4C57-82B4-EB33382B82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Att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6360" y="162864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9765-D38A-4490-9980-4315C28A205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ater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pened in 19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 in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d in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vations started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pened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27640" y="3284640"/>
            <a:ext cx="3276720" cy="253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A384-EEC6-4460-82C3-0E5D8F4AFD23}" type="slidenum">
              <a:t>3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ekly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49520" y="1971720"/>
          <a:ext cx="609588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9520" y="1971720"/>
                    <a:ext cx="60958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C073-C4DC-41B8-89D5-F30E54E222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ct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1665360"/>
          <a:ext cx="6775200" cy="4160880"/>
        </p:xfrm>
        <a:graphic>
          <a:graphicData uri="http://schemas.openxmlformats.org/drawingml/2006/table">
            <a:tbl>
              <a:tblPr/>
              <a:tblGrid>
                <a:gridCol w="2258640"/>
                <a:gridCol w="2257560"/>
                <a:gridCol w="225900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nda Ad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6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ita Gonzal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stant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6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h Park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stant 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6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5017-15FF-483D-805A-4855729F8984}" type="slidenum">
              <a:t>5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ater Poli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eous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00720" y="2708280"/>
            <a:ext cx="272268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13A8-FC72-4142-A38E-518EE5EA0CCE}" type="slidenum">
              <a:t>6</a:t>
            </a:fld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/dent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tion/sick/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/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32360" y="4005360"/>
            <a:ext cx="189864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A968-0CE3-422A-A78D-29440F87FEBF}" type="slidenum">
              <a:t>7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coe/McGraw-Hill</dc:creator>
  <dc:description/>
  <dc:language>en-US</dc:language>
  <cp:lastModifiedBy>Wanda Adams</cp:lastModifiedBy>
  <dcterms:modified xsi:type="dcterms:W3CDTF">2004-08-04T00:40:3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