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my Lee" initials="A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<Relationship Id="rId8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6-11-21T10:33:44.035000000" idx="1">
    <p:pos x="10" y="10"/>
    <p:text>Add effect to WordAr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DBB-2B3E-48BB-B2E2-E1FAA4F1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6FC-A868-45A1-92D1-7F05445D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4CA-8B0A-471F-BC8F-C73100A4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E9B-63A6-4539-8C51-E7451A0F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44B8-A7C8-4669-8ABC-D50E432C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ED1F-DB9A-4038-AA89-630FBFF9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EA05-E7F4-45D7-92BB-567A9FC7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7869-5A6E-4842-8BEC-AA6E3A33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213B-B275-4040-B500-E1C14D60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F3D6-F284-4CCE-B54F-309D872B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4E8A-EFE6-4F0C-B358-C7134719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E04-0E48-4884-979D-AB3DA67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E081-8E70-427C-84CE-C61F2DEC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72EA-F682-447E-9F18-00BE23AD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9CEB-39C1-4C55-BB31-AB10DC58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A237-9125-4DE9-A822-A0666A99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6E7C-5718-4FC3-B18D-4FD3441B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CB9-5E4A-4597-AC38-7502D8C1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854-ACC8-4136-A246-9E2068C1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9CF-4162-461F-B426-FD9510EF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8EF-6D2B-42E7-931F-B9CFCC8A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D08-3E17-4EC7-B516-CCDE3040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41D-F04E-48B0-8DC2-10F1341F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F88-5237-449D-BD85-BB8FDC07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073A-940D-49A2-B22C-5EA1E8D73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A2B0-F7A7-4292-AC8D-B8DE61DA8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orporate Volunteer Opportuni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Garden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t Involved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New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About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un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038480"/>
            <a:ext cx="2438280" cy="2133720"/>
          </a:xfrm>
          <a:prstGeom prst="su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48520" y="3352680"/>
            <a:ext cx="1971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oluntee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Project Over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chase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t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ge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tain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ear path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8:24:55Z</dcterms:created>
  <dc:creator>Glencoe/McGraw-Hill</dc:creator>
  <dc:description/>
  <dc:language>en-US</dc:language>
  <cp:lastModifiedBy>Amy Lee</cp:lastModifiedBy>
  <dcterms:modified xsi:type="dcterms:W3CDTF">2006-11-21T18:34:24Z</dcterms:modified>
  <cp:revision>2</cp:revision>
  <dc:subject/>
  <dc:title>Corporate Volunteer Opportun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