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47F-53FC-43F0-9270-866C6CE7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68C-5EB8-477B-89CC-06A14B61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D4B-0D5E-4760-BF7F-3898CD35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E3A-8D05-4E7A-9663-0505BBE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3F1-BC1B-4B59-99F8-82CA40C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0CBD-67D2-4304-A413-D80CB568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19C8-2D48-4EAF-8F8C-F66F8E7A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9432-2844-4423-B7FA-E912A4F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B33A-AFD8-408B-B7C6-D70CAD52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047-BB28-488E-8A6C-7189F5A9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CD9C-3085-4D3D-8EC4-7128D3D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620-D996-461B-8962-2DD9DA53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453-280E-4FCC-894B-DD6A3EB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54E-89CF-4FED-9F96-8E5E8577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D552-CB8D-4908-A281-8629A8B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E862-1AE6-4153-9469-287D8F72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1660-CEF6-4177-8982-C224E199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7CA-008E-481B-A553-A2D9BF6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189-6687-4290-9FE9-4B7445B4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F65-D1B8-4BF0-B194-393A5658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328-48F4-4BD8-ABD6-4A509DC4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7C1-F950-46B7-AF51-125BA2AB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0F4-7552-4834-B47B-7028940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A01-46D3-4CB1-97F9-3A06B7FE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348-4C03-4E18-BE76-2A24069DDC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2792-EB32-48CC-8CF3-32B9E08C1F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uartrly Sales Mee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ighlights and Trend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rst Quarter Highl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908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Quarter Sales 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pward trend contin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w products performed above expecta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3581280"/>
          <a:ext cx="6586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81280"/>
                    <a:ext cx="6586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ond Quarter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2662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view curent sal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potential s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4720" y="3790800"/>
          <a:ext cx="5943600" cy="22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3790800"/>
                    <a:ext cx="594360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rd and Fouth Quarter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2428920"/>
          <a:ext cx="7693200" cy="2778120"/>
        </p:xfrm>
        <a:graphic>
          <a:graphicData uri="http://schemas.openxmlformats.org/drawingml/2006/table">
            <a:tbl>
              <a:tblPr/>
              <a:tblGrid>
                <a:gridCol w="3775320"/>
                <a:gridCol w="3917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rd Quart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urth Quart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 market survey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inalize prototyp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 product prototyp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unch new product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0640" y="2361960"/>
            <a:ext cx="313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Quarter sales 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curent s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potential s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new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49528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0:55:20Z</dcterms:created>
  <dc:creator>Glencoe/McGraw-Hill</dc:creator>
  <dc:description/>
  <dc:language>en-US</dc:language>
  <cp:lastModifiedBy>Dan DeCoursey</cp:lastModifiedBy>
  <dcterms:modified xsi:type="dcterms:W3CDTF">2004-12-20T17:51:24Z</dcterms:modified>
  <cp:revision>8</cp:revision>
  <dc:subject/>
  <dc:title>Slide 1</dc:title>
</cp:coreProperties>
</file>