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my Lee" initials="AL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<Relationship Id="rId8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06-11-21T10:33:44.035000000" idx="1">
    <p:pos x="10" y="10"/>
    <p:text>Add effect to WordAr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CC38-B276-4567-AFCD-9739F940E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E940-C9B3-451B-A647-522437A1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4689-5B3B-43DE-AADE-A221D4975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0CAF-741A-4F94-BBFE-2E4E5D7B1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4A05-C2D6-40D9-8606-3E3E8AEE1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0F16-57FC-441F-9B4B-8EAB12B8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7E5E-7A30-4A17-98B0-39B71E96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1687-6F85-46CA-98A4-9A361F22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3026-2F7A-46AC-8F7E-26D41F85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EE77-1C8B-4805-BD4B-F44C3E1C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FC91-7446-4C83-9105-A7788A4F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A811-A61A-4049-90F9-8343B72C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315D-82C6-4233-A3FB-CDAA514A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D366-6915-4680-992D-6A9BF14C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BFCA-673E-4699-9B87-2EE629B7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76F0-2650-431C-A7FB-30F9B4B37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C3C0-F59A-4CDC-8DDE-092632396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3B60-5324-4874-91E2-32B1A98E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F9C4-F2C8-443C-990B-34AF54EF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90BC-093D-4E32-970C-4CBADE31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D96C-5E6A-48B3-9E75-FF3E3A55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82C6-2296-4615-B01E-4706A11A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C37F-CFF5-4244-B207-AD9C36F6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5696-4949-4358-A362-F7434383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5123-E5D1-4E98-8D97-0DCE8EDF69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9071-8325-43D0-9665-BA402CDAE5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Corporate Volunteer Opportunitie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ty Garden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et Involved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et New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 the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 About N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Fun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038480"/>
            <a:ext cx="2438280" cy="2133720"/>
          </a:xfrm>
          <a:prstGeom prst="su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248520" y="3352680"/>
            <a:ext cx="1971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Volunteer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Garden Project Overview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rchase supp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ant gar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ow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get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intain gar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ean path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18:24:55Z</dcterms:created>
  <dc:creator>Glencoe/McGraw-Hill</dc:creator>
  <dc:description/>
  <dc:language>en-US</dc:language>
  <cp:lastModifiedBy>Ryan K.</cp:lastModifiedBy>
  <dcterms:modified xsi:type="dcterms:W3CDTF">2006-11-21T18:35:51Z</dcterms:modified>
  <cp:revision>3</cp:revision>
  <dc:subject/>
  <dc:title>Corporate Volunteer Opportunit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