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5F40-F12F-4EFB-93D1-CA47AD02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375C-D834-4709-946B-B6BD53E7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4802-21F7-49B2-A428-7AFDEFFA7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B183-6574-475C-A75B-59D0AC352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6E01-FAA9-4242-87CE-143B9BD5E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749A-09FB-49AA-9E61-BE0587AB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9D79-A91A-4CAE-813B-92772416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885F-1E0D-4882-9EA3-2EDB58A7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A86B-FEC0-41B6-A5D7-2F6064C7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310F-A6C7-4B53-AB95-F89F5E7C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1BFB-CB0C-480B-8C03-71132D99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85A1-ADE8-49C4-B27C-9E0193E4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355A-B307-418A-A03B-90926C27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74D5-39BA-4F11-9254-C355FEB1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99CA-521D-49DE-AD52-B3357FFF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4009-36DE-4366-9A13-2982205F7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44D1-2200-444D-9637-E6342D64C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A629-44C9-4128-ABD2-4734DAAB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F068-91BF-41BE-855B-06CD386C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828D-8766-40C9-9378-564616AE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2EAC-8BE0-4432-8ACD-FB11B395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52E8-01B2-4D3C-8002-788A544C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D46C-365B-4BB3-B4BA-3EDB4720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825D-B6B8-4DDF-B717-B1585137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1B44-A7DD-44D3-826D-E898E37C53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40D5-9F4C-4641-BF44-7F83028CAD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Student Council Fundraiser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90360" y="34286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 Fundraiser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181480" y="3429000"/>
            <a:ext cx="281952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undraiser Overview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0106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Services A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donated time and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unity members bid for these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y raised will go toward the High School’s Library Resoration 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27226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all Fundraiser Tea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ney Raise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80880" y="1374840"/>
          <a:ext cx="8229600" cy="548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4840"/>
                    <a:ext cx="8229600" cy="54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16:08:39Z</dcterms:created>
  <dc:creator>Glencoe/McGraw-Hill</dc:creator>
  <dc:description/>
  <dc:language>en-US</dc:language>
  <cp:lastModifiedBy>Wanda Adams</cp:lastModifiedBy>
  <dcterms:modified xsi:type="dcterms:W3CDTF">2004-08-04T00:59:00Z</dcterms:modified>
  <cp:revision>12</cp:revision>
  <dc:subject/>
  <dc:title>Student Council Fundrais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