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F95F-FFFA-413E-864F-2ADBA2EA8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1450-6697-4EF6-8B64-0C5BF69A0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C800-4292-4E01-A550-96E5F1D98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1D95-6195-4C82-8AB8-8A715B596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F14F8-ACAE-4A71-9089-E1E544C4B4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73EB-02A4-4B05-B1CC-D22C7BF6CA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074F-306F-4B37-A645-9DDE9375B1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4691-0409-445B-915A-CD4AAE2529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0AE9-36CC-4346-9360-45FC0D6B04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7201-383B-4560-AC32-B1222C5D37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DB0A-AD7A-42A3-A985-7EB4A4DFE8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C9E3-CEDC-47F4-9E0A-C94747D9E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B2A6F-C24C-4362-9AC1-DFA62831AA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59F39-54AC-4C06-9A72-C2DE335003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99EAD-F506-4C2D-888B-710B1C1EA1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4F819-BAD1-4EBC-915D-B5C43588ED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EB95-1401-4D7C-87F9-FD018B0273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8E01-FFB9-4773-8324-D30EF2DE4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0FB1-01DC-48F6-9274-E076FC6F1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A787-5F99-4252-9822-03508DF84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6C6D-70F1-448D-9CFA-55941632E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D89A-DDC1-465D-B40F-8C638BEE5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06F8-C24B-477F-99D2-41D6ECF53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B415-86E6-4A2C-8DBC-EC2F68FC6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88D1-18CB-4C4B-8BBC-A14148839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Num" idx="2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5B3A-F382-419F-AAED-A868DB687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356000" y="2133720"/>
          <a:ext cx="226692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133720"/>
                    <a:ext cx="226692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4640" y="872640"/>
            <a:ext cx="560700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 Movie Theat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mployee Ori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844640"/>
            <a:ext cx="1512720" cy="1549440"/>
          </a:xfrm>
          <a:prstGeom prst="star5">
            <a:avLst/>
          </a:prstGeom>
          <a:solidFill>
            <a:srgbClr val="00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936F3-E27F-4123-A500-9D001B9F1CD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ater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ly Att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ater Police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16DF-70DC-447B-96B7-E4147A8A958F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ater His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opened in 19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d in 19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d in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ovations started in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opened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27640" y="3284640"/>
            <a:ext cx="3276720" cy="253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8074-9A4A-4335-B6EB-F3C751EB027D}" type="slidenum">
              <a:t>3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50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ekly Attend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F694-E295-4FEC-B084-0CB86FFF16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ct 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8019-8B33-469A-B335-F693360F4A87}" type="slidenum">
              <a:t>5</a:t>
            </a:fld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50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ater Poli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eous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00720" y="2708280"/>
            <a:ext cx="2722680" cy="310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EF5B-285B-4B6B-9145-26BA394FF6B3}" type="slidenum">
              <a:t>6</a:t>
            </a:fld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50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fits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/dental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ation/sick/holi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/education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032360" y="4005360"/>
            <a:ext cx="189864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D1D9-CE2D-43F7-963D-F106B36071DF}" type="slidenum">
              <a:t>7</a:t>
            </a:fld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50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dur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lencoe/McGraw-Hill</dc:creator>
  <dc:description/>
  <dc:language>en-US</dc:language>
  <cp:lastModifiedBy>Wanda Adams</cp:lastModifiedBy>
  <dcterms:modified xsi:type="dcterms:W3CDTF">2004-08-04T00:53:5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