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117-3B98-4352-9ADA-D5979467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DE8-0223-4761-800A-F47175C8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EF2-B94E-482B-ADC7-3D366CB5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4D4-15C4-44BC-8355-90114105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B1A-209B-4A88-BE54-A26A1626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A82E-CE4A-4EE6-961C-55C7EF5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292-C86F-4461-8276-D95C50F5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C19-F885-4E41-A811-E5180D4C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8C17-C093-453D-B67E-1AF336D9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3676-FA0A-4310-B0BB-65E153E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6E2-F799-4BC0-91CA-4534E4D2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78E-647D-4919-B138-95390CD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E43-39C2-4E23-8FD2-1EBB26B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3990-7442-4D20-8A97-775C859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9738-3824-4AD1-A1AE-DE77E56B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5F59-6D95-4563-8FE2-6191BA52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82B9-3EAE-4681-83C9-C9B8D912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049-88F5-47FB-877D-4F646A0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E9A-4932-49D4-84C1-959FB542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011-6DBD-4447-BFBD-39B3EB2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F2-FD19-43CF-A02A-9D78AFF6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F31-A0BC-4CC8-84A5-255E830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8FE-186C-4C5A-96BD-3015BDA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71D-A37D-4BC5-90F2-6024C89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358F-5104-476A-BCE2-BB6D89F3A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C4B2-FD7A-4BAA-B3DF-87C6075F8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udent Council Fundrais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4286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Fundraise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28195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rvices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nated tim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members bid for thes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raised will go toward the High School’s Library Resoration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226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kills Dona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ning ga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wing la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king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y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5053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ll Fundraiser Tea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1600200"/>
            <a:ext cx="7924320" cy="4418280"/>
            <a:chOff x="609480" y="1600200"/>
            <a:chExt cx="7924320" cy="4418280"/>
          </a:xfrm>
        </p:grpSpPr>
        <p:cxnSp>
          <p:nvCxnSpPr>
            <p:cNvPr id="102" name="_s7374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516280" y="2421720"/>
              <a:ext cx="884160" cy="2774160"/>
            </a:xfrm>
            <a:prstGeom prst="bentConnector3">
              <a:avLst>
                <a:gd name="adj1" fmla="val 207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73739"/>
            <p:cNvCxnSpPr>
              <a:stCxn id="106" idx="0"/>
              <a:endCxn id="104" idx="2"/>
            </p:cNvCxnSpPr>
            <p:nvPr/>
          </p:nvCxnSpPr>
          <p:spPr>
            <a:xfrm flipV="1">
              <a:off x="4571640" y="3367080"/>
              <a:ext cx="2880" cy="88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73738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743200" y="2423520"/>
              <a:ext cx="884160" cy="2771280"/>
            </a:xfrm>
            <a:prstGeom prst="bentConnector3">
              <a:avLst>
                <a:gd name="adj1" fmla="val 207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73734"/>
            <p:cNvSpPr/>
            <p:nvPr/>
          </p:nvSpPr>
          <p:spPr>
            <a:xfrm>
              <a:off x="3382920" y="1600200"/>
              <a:ext cx="2377080" cy="1767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u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73735"/>
            <p:cNvSpPr/>
            <p:nvPr/>
          </p:nvSpPr>
          <p:spPr>
            <a:xfrm>
              <a:off x="609480" y="4251240"/>
              <a:ext cx="2377080" cy="1767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e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use T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73736"/>
            <p:cNvSpPr/>
            <p:nvPr/>
          </p:nvSpPr>
          <p:spPr>
            <a:xfrm>
              <a:off x="3382920" y="4251240"/>
              <a:ext cx="2377080" cy="1767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ard T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73737"/>
            <p:cNvSpPr/>
            <p:nvPr/>
          </p:nvSpPr>
          <p:spPr>
            <a:xfrm>
              <a:off x="6156720" y="4251240"/>
              <a:ext cx="2377080" cy="17672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bysitting T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Rais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1374840"/>
          <a:ext cx="822960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4840"/>
                    <a:ext cx="82296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draiser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1600" y="2133720"/>
            <a:ext cx="609588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tal Rais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$375.0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6:08:39Z</dcterms:created>
  <dc:creator>Glencoe/McGraw-Hill</dc:creator>
  <dc:description/>
  <dc:language>en-US</dc:language>
  <cp:lastModifiedBy>Sandy</cp:lastModifiedBy>
  <dcterms:modified xsi:type="dcterms:W3CDTF">2004-08-03T19:12:15Z</dcterms:modified>
  <cp:revision>15</cp:revision>
  <dc:subject/>
  <dc:title>Student Council Fundrais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