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ED7-D644-4CD5-AC00-65055138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621-1006-4D11-A72A-5D9AA5A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0E5-615D-4E0C-95D3-0B1E59D5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6DE-A323-4C7A-9C1E-C3CDFE57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A20-F4FD-4909-AEF8-52B43A0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3FC-276F-4681-9E63-76FF2AA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460-FBDE-4EB3-A6C1-D18E992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2E7-10EB-4F5D-A469-7EB051C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024-93FD-440A-A491-A7E7D1ED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DD4-05FB-43EC-9966-3BA3720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F8E-35B6-458D-95D4-093BAAB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DB-C1A8-4B74-9829-3A0D268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B19-02F8-4A1E-BCCF-C5AE6AC7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opyright Miscon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an original work does not say it is copyrighted, it is still copyrigh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iginal work published after March 1989 is copyrighted whether it says so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it on the Internet, so it is okay for me to cop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Copying information from the Internet is a violation of copyright and can result in prosec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kay to put copyrighted material on my Web site, because I do not charge people to look a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Any distribution of copyrighted material is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anged the material, so it is no longer copyrigh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Copyright law says that only the owner of the material can make changes to the work based on the existing mate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135252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16200000">
            <a:off x="6607800" y="1621080"/>
            <a:ext cx="1352520" cy="14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81080" y="502920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ttp://www.copyright.gov/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59" name=""/>
          <p:cNvCxnSpPr>
            <a:stCxn id="55" idx="3"/>
            <a:endCxn id="57" idx="1"/>
          </p:cNvCxnSpPr>
          <p:nvPr/>
        </p:nvCxnSpPr>
        <p:spPr>
          <a:xfrm>
            <a:off x="2419200" y="2711160"/>
            <a:ext cx="1315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6" idx="1"/>
            <a:endCxn id="57" idx="3"/>
          </p:cNvCxnSpPr>
          <p:nvPr/>
        </p:nvCxnSpPr>
        <p:spPr>
          <a:xfrm flipH="1">
            <a:off x="5298840" y="3030120"/>
            <a:ext cx="198504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8:34:42Z</dcterms:created>
  <dc:creator>Glencoe/McGraw-Hill</dc:creator>
  <dc:description/>
  <dc:language>en-US</dc:language>
  <cp:lastModifiedBy>Duane</cp:lastModifiedBy>
  <dcterms:modified xsi:type="dcterms:W3CDTF">2004-10-12T05:57:51Z</dcterms:modified>
  <cp:revision>10</cp:revision>
  <dc:subject/>
  <dc:title>True Or False?</dc:title>
</cp:coreProperties>
</file>