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57B-72A6-4CFF-ABD8-A3F16AF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46C-6EAF-4DCA-8B22-75416F06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49E-36F1-4BE6-9E33-06B52B8B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CEC-B1B6-479B-AA22-2B5A9A82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9003-CA85-47B6-AFE1-35DFC6F6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EF71-ADDD-47B0-AFCB-CC4E4ED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BEBE-D091-49BA-943D-38F3032F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DF65-5509-4E0D-97FF-1A04B674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175E-C3A6-48B2-BDB0-6B34E81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F962-B636-4A86-AB01-93A3947C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7C82-B125-4B5E-A17E-2FD80AA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DA7-32B7-46FD-A1D1-E2F627A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2C0-4075-4C3C-98C3-3952795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1FA7-FE38-46DD-B841-E101D92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35C4-68EE-4BC2-BBF0-2C51D8C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7F39-C7CF-410B-8594-C610B758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E0C1-A309-475C-9EF7-83532FFF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E7F-7C52-43F9-8DD6-B031C976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1B4-FE6E-43E5-84E2-BB326C1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145-EAB4-48CE-891D-DF35F8F2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846-F4C5-4890-99FE-47D269F2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2FD-A94D-474B-A768-69E81E21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BD4-60BC-487C-B20D-EA0C5EC0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8D3-A125-484A-8E2F-6A6E08B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F83-082C-4580-8F2B-13D8AF66B5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81AA-0B49-406C-9C2D-3338F0CF33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n Tune With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16984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ket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: past, present, and fu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ellite TV has become well established and offers music services and on-demand mov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rket niche for satellite radio and on-demand CD creation has yet to be fil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and will fill that nic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et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a handful of companies in the mar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On The Run has the advantage in that we have secured permissions for the future CDs on demand ser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sion Stat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On The Run plans to offer the best in satellite radio. Our customers will be able to take their music anywhere they 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22:06:42Z</dcterms:created>
  <dc:creator>Glencoe/McGraw-Hill</dc:creator>
  <dc:description/>
  <dc:language>en-US</dc:language>
  <cp:lastModifiedBy>Amy Lee</cp:lastModifiedBy>
  <dcterms:modified xsi:type="dcterms:W3CDTF">2005-01-13T22:14:14Z</dcterms:modified>
  <cp:revision>8</cp:revision>
  <dc:subject/>
  <dc:title>Slide 1</dc:title>
</cp:coreProperties>
</file>