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B93-6EA9-4CD3-8DD2-2E07E6B1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F23-7CC4-496E-BEF6-E0191F3D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5CF-F6C9-4F46-B274-17DA4808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119-EBC6-424B-97E8-5277ED45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621-3141-4EF0-9DBC-DC1FF99E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383-FF4E-406C-9ADA-72CAE233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546-E015-4BA0-84C4-1776B349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8D3-59F7-4A21-80FD-2600479B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6A7-14C6-40DE-A04C-73EF3AF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182-7EA0-4E8D-8C41-DA3058FA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22A-42AF-4906-B6BE-1DC35481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ECF-7CFC-4C1F-898E-B6A1104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5B07-A334-44F3-855C-653FE31F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31237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une With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1698480" cy="18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28800" y="1828800"/>
            <a:ext cx="4495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sic On The Run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Satellite Rad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 radio stations broadcast signals from space—more than 22,000 mile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18533400">
            <a:off x="578520" y="1707120"/>
            <a:ext cx="18144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4267080"/>
            <a:ext cx="2013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tellit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Radio 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20870400">
            <a:off x="3352320" y="1523520"/>
            <a:ext cx="2362320" cy="1446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609120" y="3962520"/>
            <a:ext cx="1714680" cy="175248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2"/>
          </p:cNvCxnSpPr>
          <p:nvPr/>
        </p:nvCxnSpPr>
        <p:spPr>
          <a:xfrm flipV="1">
            <a:off x="2522520" y="2952360"/>
            <a:ext cx="2162880" cy="1548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9" idx="2"/>
            <a:endCxn id="53" idx="1"/>
          </p:cNvCxnSpPr>
          <p:nvPr/>
        </p:nvCxnSpPr>
        <p:spPr>
          <a:xfrm>
            <a:off x="4684680" y="2952360"/>
            <a:ext cx="1869120" cy="19263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09480" y="5867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2286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5867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553080" y="3962520"/>
            <a:ext cx="1846440" cy="183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 Black"/>
              </a:rPr>
              <a:t>Company Mission Statemen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ic On The 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stomers will be able to take their music anywhere they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will be able to bur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 C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926400">
            <a:off x="4674960" y="1863720"/>
            <a:ext cx="364644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sic On The Run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60 streams of music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 commer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ly clear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is easily trans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ordable monthly subscription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18018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Protects</a:t>
            </a: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Black"/>
              </a:rPr>
              <a:t>No illegal download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Black"/>
              </a:rPr>
              <a:t>No copyright infringe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Black"/>
              </a:rPr>
              <a:t>No pirated music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ypes of Music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8" idx="3"/>
            <a:endCxn id="69" idx="1"/>
          </p:cNvCxnSpPr>
          <p:nvPr/>
        </p:nvCxnSpPr>
        <p:spPr>
          <a:xfrm>
            <a:off x="2149560" y="2285640"/>
            <a:ext cx="1203840" cy="73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5192280" y="3917880"/>
            <a:ext cx="131364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"/>
          <p:cNvCxnSpPr/>
          <p:nvPr/>
        </p:nvCxnSpPr>
        <p:spPr>
          <a:xfrm flipH="1">
            <a:off x="4190400" y="4952880"/>
            <a:ext cx="2362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4" name=""/>
          <p:cNvGrpSpPr/>
          <p:nvPr/>
        </p:nvGrpSpPr>
        <p:grpSpPr>
          <a:xfrm>
            <a:off x="685800" y="1523880"/>
            <a:ext cx="1463400" cy="1892520"/>
            <a:chOff x="685800" y="1523880"/>
            <a:chExt cx="1463400" cy="18925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685800" y="1523880"/>
              <a:ext cx="14634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006200" y="3048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352680" y="2362320"/>
            <a:ext cx="1839960" cy="1739880"/>
            <a:chOff x="3352680" y="2362320"/>
            <a:chExt cx="1839960" cy="17398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352680" y="2362320"/>
              <a:ext cx="18399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06840" y="3733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az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505560" y="3352680"/>
            <a:ext cx="1495440" cy="2273400"/>
            <a:chOff x="6505560" y="3352680"/>
            <a:chExt cx="1495440" cy="2273400"/>
          </a:xfrm>
        </p:grpSpPr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6505560" y="3352680"/>
              <a:ext cx="149544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705720" y="5257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as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 rot="16200000">
            <a:off x="2363760" y="4648320"/>
            <a:ext cx="1216080" cy="91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28800" y="6172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/Alter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1918800">
            <a:off x="2514600" y="1219320"/>
            <a:ext cx="4648320" cy="4165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0% Customer Satisfactio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800600"/>
            <a:ext cx="4952880" cy="990720"/>
          </a:xfrm>
          <a:custGeom>
            <a:avLst/>
            <a:gdLst>
              <a:gd name="textAreaLeft" fmla="*/ 1238040 w 4952880"/>
              <a:gd name="textAreaRight" fmla="*/ 3714840 w 4952880"/>
              <a:gd name="textAreaTop" fmla="*/ 247680 h 990720"/>
              <a:gd name="textAreaBottom" fmla="*/ 961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1846440" cy="183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 Tune With The Futu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endless variety, lack of commercials, and supreme adaptability, Music On The Run is the standout choice for satellite radi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enny Ch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ic On The Run 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70440" y="1676520"/>
            <a:ext cx="35463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21:52:07Z</dcterms:created>
  <dc:creator>Glencoe/McGraw-Hill</dc:creator>
  <dc:description/>
  <dc:language>en-US</dc:language>
  <cp:lastModifiedBy>Duane</cp:lastModifiedBy>
  <dcterms:modified xsi:type="dcterms:W3CDTF">2004-10-08T17:06:03Z</dcterms:modified>
  <cp:revision>36</cp:revision>
  <dc:subject/>
  <dc:title>Music On The Run</dc:title>
</cp:coreProperties>
</file>