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AB14-635C-42C0-8EE2-DDD48ED98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E4AF-8663-46A0-A877-197549AEB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2ABD-8BB5-41D1-BF73-2EA3616CE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EE34-604F-4569-A208-C2821EAC8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8234-4066-4C38-989B-0E742BDD3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7836-EBC9-460D-AE0F-657762A19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2156-24A1-412A-9F0A-F0DA78F72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D229-52D6-40B3-84D3-4DE965BC6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BA7F-2AF0-4ADA-8B11-1BC3CE48F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F96B-F729-4BAE-A7DD-4DA639A6E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BF2D-B11E-470A-A906-6E89A5733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4802-ECA9-4D7E-B1F5-CD1F30A1F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DFCC3-6767-4440-9FD6-4E628FA7B2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opyright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 And Ans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733920" y="5334120"/>
            <a:ext cx="990360" cy="99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Copyrigh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pyright protects someone who creates an original wor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original work can be a book, a play, or a Web site, among ot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al of copyrights is to prevent unauthorized copying of your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f I Want To Use Copyrighted 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must obtain permission from the copyright hol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get permission by writing a letter to an author, artist, publishing house, or Webma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Copyrights Expi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works created since January 1, 1978, the copyright lasts until 70 years after the creator’s de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works created before January 1, 1978, a copyright can last anywhere from 28 to 67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 I Copyright My 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create an original work, it is automatically protected by copyright la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register your work with the copyright office to obtain additional prote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.S. Copyright Offic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1 Independence Ave. S.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hington, D.C. 20559-600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02) 707-300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copyright.gov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733920" y="5181480"/>
            <a:ext cx="1523880" cy="1320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1T17:05:52Z</dcterms:created>
  <dc:creator>Glencoe/McGraw-Hill</dc:creator>
  <dc:description/>
  <dc:language>en-US</dc:language>
  <cp:lastModifiedBy>Lee</cp:lastModifiedBy>
  <dcterms:modified xsi:type="dcterms:W3CDTF">2004-12-18T00:59:36Z</dcterms:modified>
  <cp:revision>8</cp:revision>
  <dc:subject/>
  <dc:title>Copyrights </dc:title>
</cp:coreProperties>
</file>