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852-5FC7-46C7-9573-AFD458D3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4DD-E4C4-4196-B425-581257F9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220-A299-485C-A235-6C139E9F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1F3-AF89-4FEA-9615-FD703723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A6D4-4967-4963-A39C-B51AB3F4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5AAA-80C1-40AC-AE4D-D914A540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06C2-B836-4775-8DE0-D115887A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79F5-7CEA-483E-9787-EB6B88BD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C692-564F-423F-9C5D-6B796F4E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5E05-08BC-409E-8062-CDD6336E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1906-3C28-4548-AC31-3C355D30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A5D-CCD6-4CF4-9EAC-2529C544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F2C6-4430-4AE8-A80A-C9B81F5E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CDED-F8B3-4E5B-A1C2-7112CEC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FE21-6FFC-4C62-8F5D-0E8096E2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D6D3-41ED-43D7-8B52-9E928A84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7EED-D66F-4450-B50D-B30C7E03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29E7-AFAF-41FA-96E8-7CE838C9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E6D6-9EA4-48E8-8B09-49FFD0DF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04012-E7D2-4355-9E24-D8A997D6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7E968-306B-4A29-9450-D12154FD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70E4-9171-428F-837E-26D45084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6C1-879C-458B-9E3A-568032F1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AA21-6634-4A15-87B3-B585ED5E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5D44-92A1-49F9-BBC0-2767AD02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EF05-62EB-4443-8B28-9C261C86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E815-1260-4E4B-A02D-BE5B7AFC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2CDD-9739-453A-A855-0F8583CB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1764F-EC11-49F2-8D65-9AB0DA2B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2332-2EB8-4F80-9B53-C38E3942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30A-2A78-4CC7-99D9-37D39510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363-C30A-4EE3-A431-C1525CE1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6C9-1EB9-4928-AED9-DA7D181C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4AA-CCE5-43A4-8DCD-E37C8930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75C-87EB-4683-A645-F417A82C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4F3-6E5F-49F8-94F1-5866F317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FE62-97F2-4127-957B-A8B3F4614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35640" y="2744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2F25-0C44-45DF-B3D7-6A70EFEE0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2CE3-47A1-4971-8DF1-83B5F9756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2744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ff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On The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7640" y="4508640"/>
            <a:ext cx="149076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On The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nny Cha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 and C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20 years experience in radio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ed over $1 million at previous startup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d industry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43640" y="2889360"/>
            <a:ext cx="21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dy Ki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ef Technology Offi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years experience developing satellite radio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n track record in startup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 radio industry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ce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On The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n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ur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P-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en years experience in radio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in satellite radio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in startup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ris Sm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P-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eight years technology experi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 technology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 startup company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lencoe/McGraw-Hill</dc:creator>
  <dc:description/>
  <dc:language>en-US</dc:language>
  <cp:lastModifiedBy>Lee</cp:lastModifiedBy>
  <dcterms:modified xsi:type="dcterms:W3CDTF">2004-12-18T01:00:2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