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E90-879A-494B-AD1B-406BD4B2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9D8-B554-49E4-8E60-18C6D166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269-35E6-4770-B321-B29B94D3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2BE-FE18-4C84-A3B9-176FDEFE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C971-0D49-479D-A3A2-BECAC165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937-C168-4213-A59B-AA7155EA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6334-3005-4068-A91C-B43A7BD2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BF45-0C42-47E3-8E71-5890D7B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96D0-0102-4FEB-9383-D57FE293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9DBB-F3D1-45A6-9640-B49F73B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B42-3A6F-4E42-B740-395DFD92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BFA-5A55-4231-BCDD-ECE16B67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C11-5CBE-4FDF-B6DF-CC79332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FBE9-4423-4D5A-B750-1C7495E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295-9336-4B7F-B269-15077E0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B27-D777-46C2-A4EF-4EF828E3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028-A7A7-490E-A8EC-0FF567A6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0D0-4A8B-4892-B247-E7F518F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B88-8BE2-4B4F-A9B6-04947527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898-516F-4BAB-8D33-9242F3E3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ED2-3CFB-4383-9DA8-DAC34A4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826-0E82-468C-87A6-1DAB52E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27C-8529-47E5-8679-6679EA8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324-B6E7-4EA7-8934-1DC7C56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1d994"/>
                </a:gs>
                <a:gs pos="50000">
                  <a:srgbClr val="f0e89e"/>
                </a:gs>
                <a:gs pos="100000">
                  <a:srgbClr val="e1d99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ED78-5081-4A78-A1D8-19882390F1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1d994"/>
                </a:gs>
                <a:gs pos="50000">
                  <a:srgbClr val="f0e89e"/>
                </a:gs>
                <a:gs pos="100000">
                  <a:srgbClr val="e1d99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0e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FF52-5844-4A33-8FF5-C591AFBB11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Reading Reach</a:t>
            </a: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	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ublic Rel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Get The </a:t>
            </a:r>
            <a:r>
              <a:rPr b="1" i="1" lang="en-US" sz="4400" spc="-1" strike="noStrike">
                <a:solidFill>
                  <a:srgbClr val="bd9d69"/>
                </a:solidFill>
                <a:latin typeface="Garamond"/>
              </a:rPr>
              <a:t>Word 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Out!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ing Reach’s publicity efforts includ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nding press releases to local medi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ganizing yearly fundrais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cruiting volunteers and students through school assemblies and kiosks at local busines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viting public figures to be guest teache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Volunteer Opportunities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lunteers can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ach clas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oin our Media tea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oin our Events tea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ct as representatives at kios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The Future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ith our strong volunteer base and emerging media presence, Reading Reach hopes to expand to communities all over the United States and beyond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9:08:08Z</dcterms:created>
  <dc:creator>Glencoe/McGraw-Hill</dc:creator>
  <dc:description/>
  <dc:language>en-US</dc:language>
  <cp:lastModifiedBy>Duane</cp:lastModifiedBy>
  <dcterms:modified xsi:type="dcterms:W3CDTF">2004-10-26T06:14:01Z</dcterms:modified>
  <cp:revision>7</cp:revision>
  <dc:subject/>
  <dc:title>To The Letter </dc:title>
</cp:coreProperties>
</file>