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504-E0E1-43EC-894E-D0193F21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201-50FF-453C-9E86-FBF04509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095-D5B7-4D63-9252-CC3B01B1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76E-F1E5-4063-A915-4B05F6F8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768-70BD-4972-9497-1A9693A3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CE0-1E68-4337-B459-8FFE973F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B22-CD4D-4912-8D55-7B37878C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148E-4E4A-49BC-910A-889D8A77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544-3355-436F-9AF3-1BF023B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8080" y="158400"/>
            <a:ext cx="7391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607-36E9-48CE-8DE6-B445C56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87CB-2F7F-476E-9BFB-61F86C9B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D0F-CCA7-4063-9012-B0A51CF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90D2-E948-42CE-9ECC-2673E12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3D5F-7E42-449F-9258-6ED678E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745-08D1-4813-82D5-BBC4AE44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1BEC-EE1E-4CA0-8D76-12BB9E7F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0028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21FD-093B-4A58-A826-E96A1588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C84-7B6A-44EB-AEB8-346FB4BE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9C5-D0CF-4E2F-8D0B-11664A90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74B-AC18-49CF-9FBD-F4E538D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158400"/>
            <a:ext cx="7391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CAA-DB08-4130-9044-7AA3D05D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605-9903-4EAB-9729-996B839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028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487-4F32-4834-BB47-D8D8363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114-0F40-4515-99AC-E29EDE0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72f1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EDA-2750-44F2-81EE-DAC1A3C3D1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bb57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57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72f1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D38-4CAA-44F0-B0EB-B70426430B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72f13"/>
                </a:solidFill>
                <a:latin typeface="Arial"/>
              </a:rPr>
              <a:t>Healthy Habits</a:t>
            </a:r>
            <a:endParaRPr b="1" lang="en-US" sz="66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99840" y="3733920"/>
            <a:ext cx="6172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e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d Exercise Tip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Customize a Program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time for exercise activities that you enjo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ke healthful diet changes that work with your eating habi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ick with your change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Sample Diet Program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ating habits: I like to snack all d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rry healthful snacks with yo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at four to five small meals a d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oid “quick fix” junk food by not letting yourself get too hung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72f13"/>
                </a:solidFill>
                <a:latin typeface="Arial"/>
              </a:rPr>
              <a:t>Sample Exercise Program</a:t>
            </a: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 like: team spo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in a community softball or football tea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y a new sport you have not tried bef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ary your activities so you stay motivated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Goal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rease your strength and endur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se five poun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rease your energ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Motivators</a:t>
            </a:r>
            <a:r>
              <a:rPr b="1" lang="en-US" sz="4800" spc="-1" strike="noStrike">
                <a:solidFill>
                  <a:srgbClr val="272f13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ck in with a friend every month to monitor your prog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eep your kitchen full of healthful foo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ive yourself regular reward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8760"/>
            <a:ext cx="81532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Benefit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ular exercise is part of a healthy lifesty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ating well can help you feel and perform bet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8760"/>
            <a:ext cx="83059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Why Change?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veloping healthy habits early can help you live a long and healthy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58760"/>
            <a:ext cx="81532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Exercise Question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751040"/>
            <a:ext cx="73915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 you enjoy team spor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cc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8760"/>
            <a:ext cx="73152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Exercise Question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7391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 you enjoy “solo” activiti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un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nc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ki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8760"/>
            <a:ext cx="739152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Exercise Question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520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 not know what you enjo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y a little of everything, and see what is the most fu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158760"/>
            <a:ext cx="7315200" cy="13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Diet Question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are your eating habi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e big meals per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nacking all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ait to eat, then eat  a very large m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 every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Diet Questions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do you like to ea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ege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ui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at and F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ilk, Yogurt, and Chees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ead/Pas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w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little of every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b57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158400"/>
            <a:ext cx="7391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2f13"/>
                </a:solidFill>
                <a:latin typeface="Arial"/>
              </a:rPr>
              <a:t>Customize a Program</a:t>
            </a:r>
            <a:endParaRPr b="1" lang="en-US" sz="5400" spc="-1" strike="noStrike">
              <a:solidFill>
                <a:srgbClr val="272f1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alyze your lifesty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t realistic go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 accountable for your actions: do the program with a friend, or report back to some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22:51:02Z</dcterms:created>
  <dc:creator>Glencoe/McGraw-Hill</dc:creator>
  <dc:description/>
  <dc:language>en-US</dc:language>
  <cp:lastModifiedBy>Lee</cp:lastModifiedBy>
  <dcterms:modified xsi:type="dcterms:W3CDTF">2004-10-27T19:30:09Z</dcterms:modified>
  <cp:revision>12</cp:revision>
  <dc:subject/>
  <dc:title>Slide 1</dc:title>
</cp:coreProperties>
</file>