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575-372A-4B83-B71D-A1FA1CA1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030-8369-447D-B916-1181977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532-DD0A-4B03-8305-09AAD464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01A-241F-44E7-815D-FDD3853B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788-D2F8-46D7-8DE4-ECF0B25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766-3F85-464A-93CD-6923A96C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0DD-1D25-40AE-A3E0-B297F73D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D73-64F6-40F6-909C-3BD4E6E1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0CC-C0D8-4DDB-9FF8-0A35CFC7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C63-7EB0-458F-A128-D7A6E649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2B0-D267-4100-A7F9-8ADF9FCB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570-74DD-4287-85A1-8488C5B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05A2-675B-47CA-99DB-57506EFC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3152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ctivity L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58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eek In The Lif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2388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homework earlier in the weekend to prevent Sunday “crunch”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chedule social plans if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homework while babysitting, instead of watching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tail phone time if it interferes with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less TV, possibly learn new hob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3152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cer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4099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cer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811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3152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2146320"/>
            <a:ext cx="38480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315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27813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3152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cer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363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315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267080" y="2305080"/>
            <a:ext cx="38862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315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049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447920"/>
          <a:ext cx="8290080" cy="48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829008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7:11:11Z</dcterms:created>
  <dc:creator>Glencoe/McGraw-Hill</dc:creator>
  <dc:description/>
  <dc:language>en-US</dc:language>
  <cp:lastModifiedBy>Lee</cp:lastModifiedBy>
  <dcterms:modified xsi:type="dcterms:W3CDTF">2004-10-27T16:47:40Z</dcterms:modified>
  <cp:revision>11</cp:revision>
  <dc:subject/>
  <dc:title>Slide 1</dc:title>
</cp:coreProperties>
</file>