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220-0E64-4552-A9D4-457B3F6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A0F-5298-474E-B61F-548A7AE7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FF2-9513-479D-BF2C-55F627D3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09E-F8E7-4F81-B7F1-52E1680E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FB6-F56C-41BB-8244-1C3EEA67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01B-32E1-4252-8A28-88CFDD8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BB5-48D7-46F5-9E62-1A92005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ACE-877D-4627-9757-99D6683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272E-FDA7-4AFC-B74A-08FD31BA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26BF-8817-4FAC-8AEE-DBF8A7C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6A0-BE9D-41F5-8096-05D3872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E08-03D2-485A-A621-BDE9B06A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B8EC-E1F5-4296-A3A2-B3027F8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8B18-CC9D-4A6D-8A75-E362C52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004-0BC1-4B96-AEBE-836CA06D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FC0F-6860-41CF-B4C9-9142A4A4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17E5-1ECD-4E5A-BA12-B58B452B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D20-B844-494B-9BB4-75C1D12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2D6-A495-4E69-B1A6-F91EA681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8C3-5A33-4B16-A27D-7764FE3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850-375C-4FF5-8D9D-156C2C7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B42-4FC3-47CC-B077-BDE0278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0E0-47BC-4EBE-B812-E640E49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83C-BB1F-4E68-BAD9-BE7CBBF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E9A-F2D9-45AB-9590-8BC4E169CC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D2F-E603-460D-A9B6-0EC34B7A26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ading Rea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iteracy Progra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106704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Testimoni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I read to my parents, instead of them reading to me!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kee, age 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86240" y="2395440"/>
            <a:ext cx="248616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I Sign U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y stop by our booth after this presentation and fill out a form. One of our staff members will contact you in the next seven day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Re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nteer Toda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56080" y="3681360"/>
            <a:ext cx="210636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es It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nteers teach literacy classes at the library on weekday afternoons and even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contain between 8-12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take classes according to their age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ibrary provides the teaching materials and a private room for the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Reading Reach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Reach is an all-volunteer organization that partners with the local library to teach reading skills to kids, teenagers, and adul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r 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Reach’s mission is to give people of all ages the literacy tools they need for an independent, successful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Re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as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k About 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had trouble reading, you could no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58920" y="2922480"/>
            <a:ext cx="1193760" cy="119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22640" y="4643280"/>
            <a:ext cx="1135080" cy="117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221520" y="4660920"/>
            <a:ext cx="1079280" cy="1187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929200" y="2876400"/>
            <a:ext cx="1324080" cy="1216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9080" y="30956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rive a c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7920" y="491652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hop for grocer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10824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ay bil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902120"/>
            <a:ext cx="11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se a compu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609300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d so much mor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unteering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volunteers must commit to one afternoon or evening a we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volunteers go through a training session before they teach a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s are provided for the volunte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volunteers will undergo a background che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unteer Testimoni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makes me feel good to know that the skills I am teaching others will help them get better jobs.”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rik, age 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92720" y="2438280"/>
            <a:ext cx="248760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Testimoni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ading Reach helped me do better in school. Before, I hated books and reading. Now I’m an A student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ven, age 1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11800" y="2395440"/>
            <a:ext cx="2460600" cy="373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2:39:37Z</dcterms:created>
  <dc:creator>Glencoe/McGraw-Hill</dc:creator>
  <dc:description/>
  <dc:language>en-US</dc:language>
  <cp:lastModifiedBy>Lee</cp:lastModifiedBy>
  <dcterms:modified xsi:type="dcterms:W3CDTF">2004-10-26T18:02:48Z</dcterms:modified>
  <cp:revision>29</cp:revision>
  <dc:subject/>
  <dc:title>To The Letter</dc:title>
</cp:coreProperties>
</file>