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43A-33CB-495E-8F01-4628F34E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AF6-BF8C-4A4E-8989-32E9A7EF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448-3329-42A5-BDF9-45C79814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757-5E21-4F6F-98C0-2A3B6F07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902-D9A9-4A75-AFA8-117C0018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5415-06EF-4A01-B4EA-B280B5C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2F0B-667E-4B54-9775-CCB9D8C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9416-9EDC-4000-BEC6-0A87CB37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38D3-D528-4834-A9CB-985846A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62B6-D013-4CC4-AF4A-7F0D1516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0252-0712-49A5-B29A-232EAD4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669-5925-4CAA-9E51-85FFA7C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4336-B918-4A13-9B7C-B2F79BFC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5221-155C-44C6-A4C9-6953E68F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720D-8D4B-478B-8AF7-90E575C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9CBB-6F1A-49F9-9A41-9AF92129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3AE3-C525-449F-B325-F2631EF3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38F-F0A4-4B69-A36D-278EA1AE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2DF-F24F-40DF-9D5A-95E8E1B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527-E4A3-4A31-8A0A-81CDF4C5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188-53F8-49CC-8284-4F465A57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2DB-CAE0-449E-AD8F-97A2689B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1F5-1117-4FE2-B34A-F138C6B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258-0169-4918-B9C0-5E2244D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C5C2-CC08-4AA3-A2FA-516D8DDE0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B718-AAEF-4B8C-8864-7BF92073B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ow And G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wn Mowing Ser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175284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uld You Like To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n your t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great exerc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your own hou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n some ca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why not work for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w And Go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#1 lawn mowing service in Prairie H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76800" cy="33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rvi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w and Go offers the following 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n mowing with state-of-the-art m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ime, reliabl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s for returning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ging and disposal of yard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off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ompetitive r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s for returning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s for “groups” (two or more lawns on the same stre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ch cards-get your lawn mowed ten times, get one for fre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kil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taff learns to use the mowers before the season st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many returning staff members, every sum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ake pride in our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quir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ork with Mow And Go, you will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lid driver’s lic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with mowing or yar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daytime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attitu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w And G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fresh, green lawn all summer lo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20:50:09Z</dcterms:created>
  <dc:creator>Glencoe/McGraw-Hill</dc:creator>
  <dc:description/>
  <dc:language>en-US</dc:language>
  <cp:lastModifiedBy>Lee</cp:lastModifiedBy>
  <dcterms:modified xsi:type="dcterms:W3CDTF">2004-10-26T18:48:29Z</dcterms:modified>
  <cp:revision>12</cp:revision>
  <dc:subject/>
  <dc:title>Mow And Go</dc:title>
</cp:coreProperties>
</file>