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5F4F-B7EC-42CD-9827-D6C135DE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13C7-E85A-46E5-9177-DDB07A3E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0153-8733-45C2-A2B9-F98F5FC9C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FA31-0CCA-46EE-8709-934441463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0DC1-6646-4E76-B336-A34FB31C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ABB9-D310-428A-B937-0444610D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72CF-8CEA-47F0-A6D3-F84746B4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C8D8-DFFE-48A8-87C6-934D60EB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033F-A1AA-4374-9FBF-74A2A6AD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9E7D-AC2E-4AB3-B049-BED99477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BEE6-EA98-4902-B166-8324FAE4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FFC8-20BA-487A-8650-84C37975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9215-FEF5-4B91-AA78-737F448E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16D8-EB2E-448E-88A7-AFBDD1A9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8FE0-A51C-48C5-96A1-343707AD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586B-A115-412E-9AD5-4388A0C5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69FF-9D72-462B-9692-8016CAE27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8C9E-21A7-45DC-9A87-14D77E4E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47D7-FED4-4A74-8823-2E48960F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64D9-98A3-4702-BCC7-DF09E502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D32F-08EB-4FF0-A6A1-2DAC0FED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0FC6-5BD3-40AA-91F2-E95CFA75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7FEC-0F85-4AAB-8117-E6270057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44F0-387B-4FC3-9A1D-90DC691D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C56F-E337-44F0-B85D-ED1E9A43E7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6312-A32A-46B8-8237-3BAAC8874F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REENHAVEN PUBLIC LIBRA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lebrating 75 years of public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23:43:49Z</dcterms:created>
  <dc:creator>Glencoe/McGraw-Hill</dc:creator>
  <dc:description/>
  <dc:language>en-US</dc:language>
  <cp:lastModifiedBy>Duane</cp:lastModifiedBy>
  <dcterms:modified xsi:type="dcterms:W3CDTF">2004-11-14T06:43:43Z</dcterms:modified>
  <cp:revision>7</cp:revision>
  <dc:subject/>
  <dc:title>Slide 1</dc:title>
</cp:coreProperties>
</file>