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DFA-2AA2-4233-9E65-90AAF8C6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B7D-6CBA-4F7D-B54D-25FC2C4C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816-8F88-40A8-A2FE-6FE02D87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D67-96B0-4D6E-9CAC-92D5F15E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0AF-D437-4F93-B31A-DC5CAAEF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039-DC1E-44E3-B086-CCC35902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0A8-B0DC-4178-AC45-824EA994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8CB-CCE6-4D3D-81BC-5A12B86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81E-6D37-46D7-9D27-82CF06D4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C2B-120D-40EC-97EA-5F749DBA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7D9-1180-44C6-92E6-8D18AE9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3C3-E87D-4198-A2CD-D520839B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5FF2-6F99-4F38-8055-E94C2D708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 Holli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Re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4:49:58Z</dcterms:created>
  <dc:creator>Glencoe/McGraw-Hill</dc:creator>
  <dc:description/>
  <dc:language>en-US</dc:language>
  <cp:lastModifiedBy>amy_forstadt</cp:lastModifiedBy>
  <dcterms:modified xsi:type="dcterms:W3CDTF">2004-11-04T21:26:58Z</dcterms:modified>
  <cp:revision>5</cp:revision>
  <dc:subject/>
  <dc:title>Historic Holliston House</dc:title>
</cp:coreProperties>
</file>