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AA10-6781-4768-B180-1F2DB9825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number of returning customers has increased steadily over the last three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 need for valid driver’s lic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BB8-DDD9-4B55-84B1-04CBCD54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BF1-ABEF-4428-AE53-FA150C0F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BAD-55FD-4278-B88F-78209205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251-61FF-4BB9-98B2-AC0F2A1F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9082-126E-4B95-A49D-48E48FEA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800D-E39C-49D0-9DF4-A11CAF60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6E75-4D34-4D0E-BF91-8BCED02C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9CB4-B5E1-48E7-973D-880A143B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2925-AD8A-410D-BF90-9613A26B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877C-D4C2-4B11-928B-72DBC197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B2FE-4CCE-4580-B750-51669383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7682-6779-4F8C-B137-8538899C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709E-6885-4994-8CD0-2E7D24D7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F82A-0551-49FA-84B8-ACEA17DC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412A-8561-4D32-8C1C-D24403B6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D2EC-5CA8-4FBE-802F-4C6A8418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58A3-B436-4244-82F8-510B26A6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FEE-1ACC-433E-9A48-B687B603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200C-D469-4264-86BC-9B8C8C51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EC34-0618-485B-BEE5-9E7A9CE9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6E8-DBFB-4B1A-AB57-768101E8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40EF-19E6-468B-88D7-B4708613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84C2-0E58-42F0-BE68-EE27C510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07E1-BDD9-4EFF-80D2-CA1C65C0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A537-A60D-4852-9B0F-4E73A4070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FC24-549E-4E99-ADDB-62E8DFB0BD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ow And G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wn Mowing Serv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324480" y="4495680"/>
            <a:ext cx="1752840" cy="16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rvic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w and Go offers the following servi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n mowing with state-of-the-art mo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ime, reliabl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unts for returning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ging and disposal of yard wa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at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off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competitive r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unts for returning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unts for “groups” (two or more lawns on the same stre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nch cards-get your lawn mowed ten times, get one for fre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quirem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ork with Mow And Go, you will ne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alid driver’s lic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 with mowing or yard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lable daytime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eat attitud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w And G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fresh, green lawn all summer lo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20:50:09Z</dcterms:created>
  <dc:creator>Glencoe/McGraw-Hill</dc:creator>
  <dc:description/>
  <dc:language>en-US</dc:language>
  <cp:lastModifiedBy>Duane</cp:lastModifiedBy>
  <dcterms:modified xsi:type="dcterms:W3CDTF">2004-11-14T22:51:12Z</dcterms:modified>
  <cp:revision>15</cp:revision>
  <dc:subject/>
  <dc:title>Mow And Go</dc:title>
</cp:coreProperties>
</file>