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0DC3-7A0F-4B75-A972-ED43886F0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91440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705120"/>
            <a:ext cx="91440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C155-C6C7-4DD5-9413-1E38476F5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4647-7CC0-41C9-BB83-C86B15E00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25704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25704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70512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70512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70512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A9E7-A899-4239-B48D-CFA2277F7B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1971720" cy="11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67843-0B98-49CD-A341-99F5FFB023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576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3705120"/>
            <a:ext cx="91440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91440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0" y="3705120"/>
            <a:ext cx="91440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8576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1680" y="25704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83360" y="25704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0" y="370512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1680" y="370512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83360" y="370512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B9272-4D0C-4D68-8857-DC38D5113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FF11-0000-48DE-A85E-62AF865DF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DC8DE-6D24-4D8F-B306-70AEAB4E1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1971720" cy="11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E00C-C892-43ED-BC3F-F603F41DE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91F1-6BE5-4A95-9B5B-34DAFCBB9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C6E54-CA06-411B-8248-A1A4570A3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705120"/>
            <a:ext cx="91440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6624-992F-4C55-922E-E27EE77EE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1971720" cy="25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4320" y="662004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45BB-2C83-464F-864E-DB3B0E337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1971720" cy="25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0" y="6603840"/>
            <a:ext cx="9144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6320" y="2101680"/>
            <a:ext cx="35812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ages for 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6" descr="connectbrandinglogo"/>
          <p:cNvPicPr/>
          <p:nvPr/>
        </p:nvPicPr>
        <p:blipFill>
          <a:blip r:embed="rId1"/>
          <a:stretch/>
        </p:blipFill>
        <p:spPr>
          <a:xfrm>
            <a:off x="152280" y="82440"/>
            <a:ext cx="2286000" cy="1136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Shier11e12tlm_nm4"/>
          <p:cNvPicPr/>
          <p:nvPr/>
        </p:nvPicPr>
        <p:blipFill>
          <a:blip r:embed="rId2"/>
          <a:stretch/>
        </p:blipFill>
        <p:spPr>
          <a:xfrm>
            <a:off x="3922560" y="228600"/>
            <a:ext cx="4764240" cy="612612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able05.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shi78151_t05_01.jpg"/>
          <p:cNvPicPr/>
          <p:nvPr/>
        </p:nvPicPr>
        <p:blipFill>
          <a:blip r:embed="rId1"/>
          <a:stretch/>
        </p:blipFill>
        <p:spPr>
          <a:xfrm>
            <a:off x="457200" y="2119320"/>
            <a:ext cx="82296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05.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shi78151_05_09.jpg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able05.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shi78151_t05_02.jpg"/>
          <p:cNvPicPr/>
          <p:nvPr/>
        </p:nvPicPr>
        <p:blipFill>
          <a:blip r:embed="rId1"/>
          <a:stretch/>
        </p:blipFill>
        <p:spPr>
          <a:xfrm>
            <a:off x="457200" y="2478240"/>
            <a:ext cx="822960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able05.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shi78151_t05_03.jpg"/>
          <p:cNvPicPr/>
          <p:nvPr/>
        </p:nvPicPr>
        <p:blipFill>
          <a:blip r:embed="rId1"/>
          <a:stretch/>
        </p:blipFill>
        <p:spPr>
          <a:xfrm>
            <a:off x="457200" y="1573200"/>
            <a:ext cx="82296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able05.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shi78151_t05_04.jpg"/>
          <p:cNvPicPr/>
          <p:nvPr/>
        </p:nvPicPr>
        <p:blipFill>
          <a:blip r:embed="rId1"/>
          <a:stretch/>
        </p:blipFill>
        <p:spPr>
          <a:xfrm>
            <a:off x="457200" y="544680"/>
            <a:ext cx="8229600" cy="57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shi78151_05_A.jpg"/>
          <p:cNvPicPr/>
          <p:nvPr/>
        </p:nvPicPr>
        <p:blipFill>
          <a:blip r:embed="rId1"/>
          <a:stretch/>
        </p:blipFill>
        <p:spPr>
          <a:xfrm>
            <a:off x="587520" y="376200"/>
            <a:ext cx="7968960" cy="6105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05_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able05.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shi78151_t05_05.jpg"/>
          <p:cNvPicPr/>
          <p:nvPr/>
        </p:nvPicPr>
        <p:blipFill>
          <a:blip r:embed="rId1"/>
          <a:stretch/>
        </p:blipFill>
        <p:spPr>
          <a:xfrm>
            <a:off x="457200" y="1608120"/>
            <a:ext cx="822960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able05.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shi78151_t05_06.jpg"/>
          <p:cNvPicPr/>
          <p:nvPr/>
        </p:nvPicPr>
        <p:blipFill>
          <a:blip r:embed="rId1"/>
          <a:stretch/>
        </p:blipFill>
        <p:spPr>
          <a:xfrm>
            <a:off x="457200" y="635040"/>
            <a:ext cx="822960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5:12:30Z</dcterms:created>
  <dc:creator>Tammy - McGraw-Hill Higher Education</dc:creator>
  <dc:description/>
  <dc:language>en-US</dc:language>
  <cp:lastModifiedBy>anuj.garawal</cp:lastModifiedBy>
  <dcterms:modified xsi:type="dcterms:W3CDTF">2011-01-21T11:37:59Z</dcterms:modified>
  <cp:revision>85</cp:revision>
  <dc:subject/>
  <dc:title>PowerPoint Presentation</dc:title>
</cp:coreProperties>
</file>