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30AC-AD17-4A8D-AD45-60ACF59FB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E4721-088A-407F-8B5D-119158726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75F8E-8E04-4DA1-B5B4-57ED6B606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E272-DD0C-455D-9B26-DA81CC09D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5F578-694A-4EB1-85DD-434F10F5C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C7EF-F106-4E65-BB64-F0B51713E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7611-C3FD-4B94-AD3E-D91674533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052E-CEB6-495E-AD73-6BA5B7911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4B554-D055-447D-AEC3-4F4C6EF28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9D6F3-B1AF-49AE-BAFE-8CF804E3B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4AC23-925F-4774-8781-BAF1CF9D7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E3E1-07B8-498F-9937-131D7D926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6543720"/>
            <a:ext cx="9295920" cy="312840"/>
            <a:chOff x="228600" y="6543720"/>
            <a:chExt cx="9295920" cy="312840"/>
          </a:xfrm>
        </p:grpSpPr>
        <p:sp>
          <p:nvSpPr>
            <p:cNvPr id="1" name=""/>
            <p:cNvSpPr/>
            <p:nvPr/>
          </p:nvSpPr>
          <p:spPr>
            <a:xfrm>
              <a:off x="228600" y="6543720"/>
              <a:ext cx="2666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McGraw-Hill/Irwin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867200" y="6620040"/>
              <a:ext cx="46573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© 2005 The McGraw-Hill Companies, Inc., All Rights Reserved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52280" y="250920"/>
            <a:ext cx="8915400" cy="134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534160" y="-1522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-</a:t>
            </a:r>
            <a:fld id="{E166E667-4682-4D10-A51C-C28DD391AD8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752480"/>
            <a:ext cx="8686800" cy="48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1828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9ddf1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ddf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4020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2003 E-Mail Surve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031840" y="187488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87488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0603-64E7-4AED-9E6C-963E17DDFB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Violation of Company Polic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ynn is shocked by the action taken by HR and does not feel the violation of company policy warranted the punitive action that was taken.  In the long-term, what actions does the company need to take to prevent this situation from occurring in the future (see PPT 4-3 to 4-6)?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Lynn’s key concern should be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R Protocol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Workflow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Willy’s wrongdoing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BD167-CD4C-4DF9-A6FF-D9DC581416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Policy Do’s and Don’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031840" y="195120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95120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B952-5552-438D-9093-F3FA03D54F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031840" y="190512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90512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Policy Do’s and Don’ts (continued)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BEB6-2C28-460D-8FAA-0B3BA30C33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Policy Do’s and Don’ts (continued)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031840" y="187488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87488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A202-620D-4ED3-9EED-34EC6853D0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Violation of Company Polic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ePolicy Do’s and Don’ts suggest that some personal email and internet use may be tolerated by U.S. companies.  What are the pro’s and con’s of this approach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 concern over phone [and internet] use i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Budgetar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Performance relat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Misuse of property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1BE5-754C-454D-ADA8-8CE6BCC694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Violation of Company Polic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ow do the stipulations provided in the Electronic Communications Privacy Act of 1986 (see PPT 4-8) affect your view of personal email and internet use at work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3360" indent="-60336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mpanies create disciplinary processes to meet their business needs.  What is your reaction to the disciplinary process that occurred in this scenario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582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4.  What justifies Janet’s decision?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187360" indent="-376920"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Existence of policy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187360" indent="-376920"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Fair warning give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187360" indent="-376920"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Nothing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3BF00-E7D6-43F4-B78F-06CA4A02AC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The Electronic Communications Privacy Act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031840" y="187488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87488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C76D2-AC6B-49C0-9AFE-EB2AB39A63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ole of H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aluate the actions taken by the HR director in this scenario.  What was done well, poorl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59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Why does Janet bring up Lynn’s records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To warn Lyn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Enforce the polic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timidation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59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5. Lynn’s next step should be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Meet VP of H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instate Willy herself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Meet Janet again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ADF6-2681-4F44-BCE1-A85165ABF0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6:30:01Z</dcterms:created>
  <dc:creator>McGraw-Hill Higher Education</dc:creator>
  <dc:description/>
  <dc:language>en-US</dc:language>
  <cp:lastModifiedBy>Paige Wolf</cp:lastModifiedBy>
  <dcterms:modified xsi:type="dcterms:W3CDTF">2004-07-15T01:49:42Z</dcterms:modified>
  <cp:revision>72</cp:revision>
  <dc:subject/>
  <dc:title>PowerPoint Presentation</dc:title>
</cp:coreProperties>
</file>