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5DC7-92EA-46B7-A8D6-3825E5DE1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CCA3-7509-4D9F-97E8-839AE4CEA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BF60-1A5A-46AF-88D4-A759757A9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EA18-F7E4-4B85-B61B-0CEEE7CC9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4D56-3E46-422E-B44C-E162E6D42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E349-FA6E-4AF6-843D-40A271741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38E2-314B-4ADF-A79A-0814B1BE0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4B57-69A5-41A4-AA62-40EB4E7CE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D51E-BFF1-487A-846C-8E24491EC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F53E-E70C-48E3-A149-8558D896D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5D1-759E-4D6A-ABDB-EC915695B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B7C8-DE84-46AE-9A90-27280D803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-</a:t>
            </a:r>
            <a:fld id="{0507A107-85FF-4D7F-9C82-2E5F1A72EC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ecommuting Challeng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dvantages and disadvantages to telecommuting is Angela experiencing?  See PPT 12-3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.  How should Ralph respond [when Angela says “since I’ve been working from home, I’m out of sight”]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passionate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arify issu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ebate poin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33B0-D1F3-4D94-9998-36AECBB08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409840" y="2104920"/>
          <a:ext cx="46292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2104920"/>
                    <a:ext cx="46292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dvantages and Challenges for Employees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E85A-DBB7-4A0B-992E-B946BF177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ecommuting Challeng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dvantages and disadvantages to managing a telecommuter is Ralph experiencing?  See PPT 12-5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. What is Ralph’s strategy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mphasize strength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ide bias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nge topic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3.  How was this [initial] meet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ccessfu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failu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good star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E99D-F6ED-4729-9338-8A4C50BE4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dvantages and Challenges for Employer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09840" y="2104920"/>
          <a:ext cx="46292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2104920"/>
                    <a:ext cx="46292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6043-62C8-4930-971C-7049E73D1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Telecommut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should Angela have done to prepare herself for telework? Refer to PPT 12-7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. Angela is dejected. Ralph should focus o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r valu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r poor performanc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is mistak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5FB7-86F5-4FEF-A498-BD91B9EA3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ework Assessment Tool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84480" y="1905120"/>
          <a:ext cx="5079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4480" y="1905120"/>
                    <a:ext cx="5079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BB77-DC6F-47ED-B6F1-7199E16A4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Telecommut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should Ralph have done to prevent this problem from occurring?  Refer to PPT 12-8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. What should Ralph do [when Angela says she want to resign]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ccept resign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ry new approac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End meet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. What’s Ralph’s next step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nd replac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munication ofte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assign work loa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916A-113E-426F-9EE2-FBF454F23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upervisor Checklist for Telecommuters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84480" y="1905120"/>
          <a:ext cx="5079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4480" y="1905120"/>
                    <a:ext cx="5079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B8B6-1447-4634-9729-09E06D8D9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8T18:53:07Z</dcterms:modified>
  <cp:revision>95</cp:revision>
  <dc:subject/>
  <dc:title>PowerPoint Presentation</dc:title>
</cp:coreProperties>
</file>