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2203-99ED-46E3-84F2-FEE479DAF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6FA5-066E-48EB-99CA-095E5B97F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DEF4-BA46-4272-AF02-8B5EFFDF4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9FE4-F6A1-41E7-9EC7-A9536ADFC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0E2D-D714-474E-AF87-FB65B714D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16DC-4AB2-4CE5-80AF-18EF090F7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970D-9D6B-4864-BFDF-433DC1E587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B05C-ED38-41C3-9469-DD6C68F9B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529C-4829-412A-BA3C-27BC89C78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A38F-1C14-4C0B-B8CC-9B99A3B62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E03D-DCA8-4703-B6CA-22E5DF586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1D53-3BAF-4AD2-8757-586E9ED3A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6543720"/>
            <a:ext cx="9295920" cy="312840"/>
            <a:chOff x="228600" y="6543720"/>
            <a:chExt cx="9295920" cy="312840"/>
          </a:xfrm>
        </p:grpSpPr>
        <p:sp>
          <p:nvSpPr>
            <p:cNvPr id="1" name=""/>
            <p:cNvSpPr/>
            <p:nvPr/>
          </p:nvSpPr>
          <p:spPr>
            <a:xfrm>
              <a:off x="228600" y="6543720"/>
              <a:ext cx="2666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McGraw-Hill/Irwin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867200" y="6620040"/>
              <a:ext cx="46573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© 2005 The McGraw-Hill Companies, Inc., All Rights Reserved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52280" y="250920"/>
            <a:ext cx="8915400" cy="134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381520" y="-1522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3-</a:t>
            </a:r>
            <a:fld id="{2CE40B25-7DB2-4D28-B3FA-E0F992F47DA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752480"/>
            <a:ext cx="8686800" cy="48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1828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9ddf1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ddf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4020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munication Network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031840" y="187488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87488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6B52-3F0F-4D00-A1D3-F10440E4DA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munication Proc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uring their initial meeting, what “noise” was present that hindered Miguel and Pilar’s ability to communicate successfully?  Refer to PPT 13-3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1.  Miguel’s response [to </a:t>
            </a: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Jezebel’s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concern about the budget] i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ppropria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issing the poin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Disrespectful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2.  The trouble spot is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iguel’s distracted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ilar’s too passiv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 misunderstanding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F336-D711-4FF1-A3B9-64161C18DF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Communication Proces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57560" y="2075040"/>
          <a:ext cx="4628880" cy="41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7560" y="2075040"/>
                    <a:ext cx="462888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8BD3-57FB-4B4B-943D-B17E944E33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ctive Listen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components of active listening did Miguel demonstrate (or fail to)?  Refer to PPT 13-5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se the Information Processing slide (PPT 13-6) to explain Miguel’s behavior in the first meet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could Pilar have done to get Miguel’s full attention in the initial meeting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D432-2ABF-4D4C-A854-9D8C77F7A5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ponents of Active Listen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257560" y="2075040"/>
          <a:ext cx="4628880" cy="41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7560" y="2075040"/>
                    <a:ext cx="462888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4B56-6FF0-48A9-BC9A-A45FD45B1E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formation Processing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57560" y="2075040"/>
          <a:ext cx="4628880" cy="41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7560" y="2075040"/>
                    <a:ext cx="462888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CA82-8AFE-4836-A211-C9A49DE9D2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ctive Listen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.  Miguel is not cooperating.  Pilar should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e forcefu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iterate proble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ire him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4. The [initial] meeting has been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 succes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 failu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 bit productiv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42D4-5C10-4F12-85B0-A2083FCB42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ctive Listen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ow did Miguel’s behavior change in the second meeting?  What indicators were there that he was listening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5. Why is this [second] meeting different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ilar’s aggressiv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iguel’s afraid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Better communication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6. Miguel’s behavior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emains po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Improved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Is motivated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DBAD-D7BC-4E36-BB4F-558F5254E6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ctive Listen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communication network (PPT 13-10) was present in this scenario?  Use examples from the scenario to support your answ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9B977-862D-41E2-98B0-2BC018A24E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6:30:01Z</dcterms:created>
  <dc:creator>McGraw-Hill Higher Education</dc:creator>
  <dc:description/>
  <dc:language>en-US</dc:language>
  <cp:lastModifiedBy>Paige Wolf</cp:lastModifiedBy>
  <dcterms:modified xsi:type="dcterms:W3CDTF">2004-07-20T19:01:48Z</dcterms:modified>
  <cp:revision>96</cp:revision>
  <dc:subject/>
  <dc:title>PowerPoint Presentation</dc:title>
</cp:coreProperties>
</file>