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4272C-DB1D-46CF-B97E-FE72ED6E78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A4D7B-9EE4-4C57-B0C8-8D16D07FAC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39307-D2D1-445A-8049-D593C4D488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E660C-AC30-460D-900F-76C61C9FF2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ddf1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9ddf1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ddf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AF535-2741-4794-88E0-017CB5D9B3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F2045-EBFF-482B-80FB-EFF7EE024E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7D187-7906-4CB8-8A8E-42C98C59F4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5E2DF-32F3-4D7C-89CD-F267A9E81C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9ddf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8B41F-D380-442A-985B-CBEE3BE408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2DE0A-FA7E-43C9-8B4E-D11877B183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996EF-CE1C-4137-AE47-98211599F5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D71AE-E2F4-428C-987A-A38E539968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6543720"/>
            <a:ext cx="9295920" cy="312840"/>
            <a:chOff x="228600" y="6543720"/>
            <a:chExt cx="9295920" cy="312840"/>
          </a:xfrm>
        </p:grpSpPr>
        <p:sp>
          <p:nvSpPr>
            <p:cNvPr id="1" name=""/>
            <p:cNvSpPr/>
            <p:nvPr/>
          </p:nvSpPr>
          <p:spPr>
            <a:xfrm>
              <a:off x="228600" y="6543720"/>
              <a:ext cx="26668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Times New Roman"/>
                </a:rPr>
                <a:t>McGraw-Hill/Irwin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867200" y="6620040"/>
              <a:ext cx="46573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640" rIns="71640" tIns="36000" bIns="360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Times New Roman"/>
                </a:rPr>
                <a:t>© 2005 The McGraw-Hill Companies, Inc., All Rights Reserved.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152280" y="250920"/>
            <a:ext cx="8915400" cy="134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24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sldNum" idx="1"/>
          </p:nvPr>
        </p:nvSpPr>
        <p:spPr>
          <a:xfrm>
            <a:off x="8534160" y="-15228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3-</a:t>
            </a:r>
            <a:fld id="{B58324F0-40E5-4870-BCA4-76155898878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1752480"/>
            <a:ext cx="8686800" cy="480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8024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3520" y="18284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9ddf1"/>
                </a:solidFill>
                <a:latin typeface="Times New Roman"/>
              </a:rPr>
              <a:t>Click to edit the title text format</a:t>
            </a:r>
            <a:endParaRPr b="0" lang="en-US" sz="6000" spc="-1" strike="noStrike">
              <a:solidFill>
                <a:srgbClr val="c9ddf1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ddf1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9ddf1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590920" y="990720"/>
            <a:ext cx="40208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Labor-Management Negotiation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Katherine discussed a potential solution (bonus sharing) that had not previously been discussed before.  Is this an example of “unlawful circumvention” according to labor laws?  Why or why not?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Assume Katherine refused to make a concession to Alisa’s request.  According to the National Labor Code, could Alisa organize a strike?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Refer to the “Key Negotiator Behaviors” (PPT 3-11).  Assume you are representing management (like Katherine in this scenario).  What exactly would you do in this situation?  Indicate a specific example for each of the key negotiator behaviors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AEC9F-980D-4B48-9843-09F674EE4EA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Key Negotiator Behaviors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031840" y="1874880"/>
          <a:ext cx="508032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1840" y="1874880"/>
                    <a:ext cx="5080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93FCC-E8A6-47E3-8A73-43BBB331A78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Labor-Management Negotiation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598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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1.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Katherine is accused of lying.  She should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Demand apology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End negotiation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Refute accusation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2" marL="1598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1598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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6.  In this negotiation…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JBL gave too much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JBL gave too littl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Nothing was resolved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57AC9-AE7A-4435-BF6E-3F645C85E52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Negotiation Planning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The “Bargaining Zone for Negotiation” (PPT 3-3) shows where the potential area of agreement may be.  However, without planning and determining your initial offer, target point, and resistance point, you will be at a disadvantage during the negotiation.  What evidence of planning was demonstrated by Alisa and Katherine?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For both Alisa and Katherine, describe how planning impacted their ability to successfully negotiat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F2C81-F74D-483B-B463-E5F4199406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Bargaining Zone for Negotia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031840" y="1874880"/>
          <a:ext cx="508032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1840" y="1874880"/>
                    <a:ext cx="5080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C1CD7-B0C0-4020-970C-060B1824584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Negotiation Strategies and Behaviors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hat aspects of the distributive and integrative bargaining approaches (see PPT 3-5 &amp; 3-6) did Katherine demonstrate during the negotiation?  Justify your answer with examples from the scenario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104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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1.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What strategy should Katherine take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Continue to clarify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pologize for omission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Change subject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67A09-763F-4131-959F-B676FE0DC3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oncepts in Negotiating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031840" y="1874880"/>
          <a:ext cx="508032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1840" y="1874880"/>
                    <a:ext cx="5080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E914B-7254-4B27-B3D4-6D8DFB53E4D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Integrative Bargaining Strateg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031840" y="1874880"/>
          <a:ext cx="508032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1840" y="1874880"/>
                    <a:ext cx="5080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FB83F-F76E-4C11-B89B-A810E46105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Negotiation Strategies and Behaviors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04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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2.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Why does Katherine offer to show her pay stub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Proof of salary freez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Exert power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Change subject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104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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5. Why didn’t Katherine offer this [bonus distributions] earlier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Just thought of it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Just persuaded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Was stonewalling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A4831-E8F4-462A-B045-A885F50C1D0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Negotiation Strategies and Behaviors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hat aspects of the distributive and integrative bargaining approaches (see PPT 3-5 &amp; 3-6)) did Alisa demonstrate during the negotiation?  Justify your answer with examples from the scenario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104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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4.  What should Alisa argue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To split bonus money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Union will strik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Get better benefits plan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DFE5C-78B7-4B64-B9BA-BC2AD2403CC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Negotiation Strategies and Behaviors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hat is the superordinate goal (see PPT 3-5) in this situation?  How would a discussion of this goal aid the negotiation process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270E5-C735-423A-BA90-B74B96AB4D9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16:30:01Z</dcterms:created>
  <dc:creator>McGraw-Hill Higher Education</dc:creator>
  <dc:description/>
  <dc:language>en-US</dc:language>
  <cp:lastModifiedBy>Paige Wolf</cp:lastModifiedBy>
  <dcterms:modified xsi:type="dcterms:W3CDTF">2004-07-15T01:22:09Z</dcterms:modified>
  <cp:revision>71</cp:revision>
  <dc:subject/>
  <dc:title>PowerPoint Presentation</dc:title>
</cp:coreProperties>
</file>