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6FC8-BD87-4D10-BE64-ED72CD593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023B-1FFC-43F0-950F-D1F53A977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BD78-560C-4BFD-86B6-7E2C209A5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3272-3E10-4EE8-B7C0-A8CCEE024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2EEA-58F4-4227-9AA0-C55C678AC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EA87-9D03-4A1A-8041-672A9F948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A3E2-B30A-4CD5-8EAB-26429E32A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31B8-4573-4760-BEE0-7D4DE94CD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7453-C1C9-4849-A43B-E6CE7D566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5D4E-A89D-4ABA-B7CB-E504740B3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CE2F-7E1B-4148-BC76-5C86DF4E8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9C29-81E3-4C5D-9EDF-C1718A7B0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6543720"/>
            <a:ext cx="9295920" cy="312840"/>
            <a:chOff x="228600" y="6543720"/>
            <a:chExt cx="9295920" cy="312840"/>
          </a:xfrm>
        </p:grpSpPr>
        <p:sp>
          <p:nvSpPr>
            <p:cNvPr id="1" name=""/>
            <p:cNvSpPr/>
            <p:nvPr/>
          </p:nvSpPr>
          <p:spPr>
            <a:xfrm>
              <a:off x="228600" y="6543720"/>
              <a:ext cx="2666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McGraw-Hill/Irwi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67200" y="6620040"/>
              <a:ext cx="46573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© 2005 The McGraw-Hill Companies, Inc., All Rights Reserved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2280" y="250920"/>
            <a:ext cx="8915400" cy="13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381520" y="-1522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4-</a:t>
            </a:r>
            <a:fld id="{E9E7651D-54BA-4F5C-9E6F-86919A145C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752480"/>
            <a:ext cx="868680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828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9ddf1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d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020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itle VII Record of Charges 2002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57560" y="2075040"/>
          <a:ext cx="4628880" cy="41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2075040"/>
                    <a:ext cx="462888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1DF6-5E3F-4DBF-AEF2-E2E3E2103F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itle VII:  Definitio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31840" y="187488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87488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CA34-B822-4EB3-AA4D-A35776234F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viewing Bias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rrors in evaluation are often made because of common biases that influence one’s decision making (e.g., halo, horn, contrast, similar-to-me)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at evaluation biases seemed to be taking place in this scenario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3A6D-7C8E-4CE8-812A-E08A13A3E0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viewing Bias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1.  Robert is suggesting Paul has [when he says he leans towards Sonya]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165400" indent="-372960">
              <a:spcBef>
                <a:spcPts val="60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 bi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165400" indent="-372960">
              <a:spcBef>
                <a:spcPts val="60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fferent tas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165400" indent="-372960">
              <a:spcBef>
                <a:spcPts val="60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oor judgm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8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2.  Paul’s point is [when he says Sonya would be a better fit]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165400" indent="-372960">
              <a:spcBef>
                <a:spcPts val="60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kewe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165400" indent="-372960">
              <a:spcBef>
                <a:spcPts val="60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165400" indent="-372960">
              <a:spcBef>
                <a:spcPts val="60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rreleva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5F91-83FA-4577-922F-28A47C581B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viewing Bias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901"/>
              </a:spcBef>
              <a:buClr>
                <a:srgbClr val="a50021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What advantages and disadvantages are there when using panel interview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6. Robert’s decisio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isregards Pau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s prematur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s wi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8C56-F491-49C7-83DD-A690A04748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ring Deci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901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What valid reasons did Robert provide to persuade Paul to choose Jacqueline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  The key argument is about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Qualification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Ethnic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Personal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7D55-8164-42BE-BC97-1913D9ACCB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ring Deci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0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5. Robert’s argument [that Sonya was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too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enthusiastic] i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levan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odging issu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accura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aspects of the Women-of-Color survey are relevant to this scenario (PPT 14-7)?  How could Robert use this to support his posit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E45F-3EF2-49AF-B652-3C0E78B58F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omen-of-Color Managers Survey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31840" y="187488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87488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1CCA-BC9A-4931-88F6-86F768A2E3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gal Issues in Hir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f Robert made the decision to hire Jacqueline because she was married, would Sonya have a case against Beck ‘n Call under Title VII? (see PPT 14-9 to 14-11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s Robert’s decision to hire Jacqueline legal?  Why or why no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4. Hiring based on quotas i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lleg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Leg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ometimes legal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6DFC-2C7C-42E5-A75F-DF5274EA67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itle VII Civil Rights Act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031840" y="187488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87488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25F7-624C-4A21-B818-FC0C734D59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6:30:01Z</dcterms:created>
  <dc:creator>McGraw-Hill Higher Education</dc:creator>
  <dc:description/>
  <dc:language>en-US</dc:language>
  <cp:lastModifiedBy>Paige Wolf</cp:lastModifiedBy>
  <dcterms:modified xsi:type="dcterms:W3CDTF">2004-07-20T19:10:27Z</dcterms:modified>
  <cp:revision>98</cp:revision>
  <dc:subject/>
  <dc:title>PowerPoint Presentation</dc:title>
</cp:coreProperties>
</file>