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FC3E-61D0-407F-A1D2-43B77F64C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DC8A-C2B4-4614-BB07-6172291D1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0439-F176-4C30-A6C8-3D4B61C0E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D89E-2164-49CE-AC48-6744424D2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976D-8809-4A71-A252-AB450C9A2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1B37-DF9C-46BC-B6AC-4B5EDB1BB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BD95-9F98-48F0-8C50-B574D008E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BF96-9477-40BA-8DA9-50E6CBC41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4B65-ACAE-42A4-939D-1AF82C7E2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38EF-73D7-45E3-A343-6ABC73620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5EE6-7D0C-49D8-9748-13D8F6B94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C73B-CB29-41B4-B811-9B523107A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1520" y="-1522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-</a:t>
            </a:r>
            <a:fld id="{8215DC4E-3BCF-4939-A808-19459AAB6E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orkplace Divers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Dimensions of Workplace Diversity are provided in PPT 10-3.  List all of the dimensions of diversity you observed in this scenari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nagerial roles shown on PPT 10-4 did Syl demonstrat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w effective was Syl in performing the roles you cited in #2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A552-84CE-4ACB-8F81-919CE6347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Dimensions of Workplace Diversity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22AD-A01F-4867-987F-6142C252C8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erial Roles and Diversity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4BEA-428D-4826-910C-474F10220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ing Divers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ovide examples from the scenario in which Syl either effectively or ineffectively promoted diversity.  Use the information in PPT 10-6 to support your answer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1.  What is Syl’s objective [when suggesting to delegate certain portions of Bob’s work to Ralph and Jennifer]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void conflict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omplete projec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end tea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2. Daniel’s perception [that Syl is letting Bob’s personal opinion affect a working relationship] is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oude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ccurat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iase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697C-2B9F-405A-BDE9-99946DE8C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Promoting Effective Management of Diversity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BC79-A8FB-4820-9FC0-8AD1B577C2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ing Divers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3.How should Syl respond [to personal attacks in the meeting]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edia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hange topic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End meeting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3" marL="186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4. What is the main issue [when Syl states there is not going to be a discussion of anybody’s personal life]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onfidentialit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ompleting projec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Upholding moral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5. Why does Syl propose this [having Daniel come up with an alternative solution]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hirk responsibilit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ediation tactic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Empower Danie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703F-C28E-4880-AEE8-978A75CAF4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qual Employ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cording to Title VII of the Civil Rights Act of 1964, is Daniel being unlawfully discriminated against (see PPT 10-9)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cording to EarthFirst’s Harassment policy, is Daniel being discriminated agains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re the long-term implications of allowing Bob to refuse to work with Danie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ctions should Daniel take next if he is separated from other employe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B3B9-746F-4CE2-98E4-11F27CE31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jor Equal Employment Law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D9B1-4228-455A-A93B-0343CBECE9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8T15:09:11Z</dcterms:modified>
  <cp:revision>88</cp:revision>
  <dc:subject/>
  <dc:title>PowerPoint Presentation</dc:title>
</cp:coreProperties>
</file>