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104E-46A3-48CA-BA73-3EEBCD188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4559-FC3F-4060-BC22-5AE46112E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46F4-BE75-4625-A282-B6E0023C3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7793-2FBF-4774-A6DD-7DFB88133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307F-064B-47FE-8CCE-5F2E16559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D107-D670-4319-A3D2-DD4A49EE7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42EF-1045-4E39-99FB-EBAA52BF2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9A7B-EB67-4BB3-950C-234E073C5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E46D-4406-4B28-8050-6E627EDDD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07C2-BCFE-4E9A-B5FC-61730B072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9CC0-5AF2-40E7-AAE2-7CE4878A3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B894-D191-4D9F-9780-A98CB3ED7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534160" y="-15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0FDE9E09-8E61-43D1-84F6-A5C602C881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pplying Principles of Ethical Decision Making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view the “Approaches to Social Responsibility”.  Which approach is most closely aligned with Gina’s behavior?  Which approach most closely matches Jason’s?  Explain your choice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should Jason do next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. Let Gina make de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. Call Jack himsel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. Look for a new job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68EA-76B8-4566-B4DC-22D83C4C72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pproaches to Social Responsibility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31840" y="195120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8FF2-CDD1-4F21-9E73-0CA7C6A66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Ethical Dilemm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the source of this conflict and what role has the organization played to contribute to this dilemma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 algn="just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y is Jason skeptical?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. Client isn’t reliab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. Gina isn’t reliab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. Deal seems fishy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“Concepts in Ethical Behavior” are relevant to this scenario?  Wh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73D3-A378-4918-A65A-AD69B443F6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epts in Ethical Behavi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31840" y="195120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BC5B-F916-4E1A-9F74-A13F946160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Ethical Dilemm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ganizations can effectively help their employees to behave and act ethically by creating and communicating a code of ethics. What factors in this scenario should be considered if you were to develop the code of ethics for Smith/Blackwell? See “Sources for Codes of Ethics”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C7F1-24D8-42B8-A6DB-185AA58AD8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urces for Codes of Eth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31840" y="187488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E165-610E-4474-BDED-D49B6709B6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fluence Strateg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scribe Gina’s initial approach with Jason.  What influence tactic does she use initially?  Was it successful?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Jason’s behavior demonstrates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. cau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B distrus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.  nit-picking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How does Gina handle Jason’s hesitation to move forward on the deal?  How does her reaction affect Jason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Gina’s over-excited.  Jason should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. Calm G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B. Acknowledge her poi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. Request written proposal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010C-8E65-46EC-9ABC-4142B9DDF5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fluence Strateg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pon realizing the Jason will not easily sign-off on the deal, Gina attempts a variety of different influence techniques.  Describe them and evaluate how effective and appropriate they were given the situation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82520" indent="-52236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w should Jason respond to a threat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. Ignore i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. Reprimand Gin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. Get to Ralph firs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B5CA-CB0A-42F5-A921-FAF8F3D60F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pplying Principles of Ethical Decision Making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sider each of the principles to guide ethical conduct.  Analyze this situation from both Gina’s and Jason’s perspectives using these principles.  Which model did Gina rely on most heavily?  Jason?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are the risk factor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. Losing de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. Misleading shareholder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. Making illegal dea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5091-B8CF-4997-BF7E-18FE2C2088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Three Principles to Guide Ethical Conduc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31840" y="1905120"/>
            <a:ext cx="5080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EB59-DFEF-45A0-A546-4D43F720A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6-25T20:20:45Z</dcterms:modified>
  <cp:revision>67</cp:revision>
  <dc:subject/>
  <dc:title>PowerPoint Presentation</dc:title>
</cp:coreProperties>
</file>