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E840-4AF3-4804-A8B1-B7BFF16CC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25A8-B99F-4CB2-AF01-BBF5CB72E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2648-4298-40B0-A365-080379D3A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CD5B-1600-4FF0-BE2F-BD0AC5F9D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4B40-A002-4F44-A2C8-BB9142D39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467F-11D9-46BE-8851-3B1D1A12E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4D45-4C89-4A75-9857-6FF30E184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9ED3-F04F-4EF4-BCDB-2C202E953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639F-6147-4F05-A88A-D5118A2FF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FB01-AF87-4FC9-B3C8-82C140546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E6BF-F669-4746-B550-99577D089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7DE5-9806-47E2-AE2A-9B3C552C7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534160" y="-1522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-</a:t>
            </a:r>
            <a:fld id="{A85E5799-7B13-484A-8AF8-7C04F0DC73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Minimizing Dysfunctional Conflic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5. Confidence is low. Patrick should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ght bac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ccept hel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arify posi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6. How should Patrick respon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fuse off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nge approac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ccept off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91F3-A1E9-4E55-A92B-10DEC90D18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onflict Process and Sour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901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What sources of conflict were present in this scenario?  Refer to PPT 9-3 to construct your answer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 PPT 9-4, The Conflict Process, overt behaviors are depicted as indicators of manifest conflict.  What overt behaviors did you identify during this scenari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7C06-75BE-4DD2-8319-7BD2CACF34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Sources of Conflic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31840" y="179856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FAF2-0B2A-4D70-92C0-0C3378DD0A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onflict 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31840" y="198108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DC3C-9692-48D8-B20A-518B63CC4C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onflict Process and Sour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.  Patrick’s strategy should be to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Emphasize progres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efend himself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mpress superio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2.  What does Sam Adelson insinuate about</a:t>
            </a:r>
            <a:br>
              <a:rPr sz="2000"/>
            </a:b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Patrick [when he calls him a hot- shot]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e’s arroga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e’s incompet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34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e’s inexperienced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3.  How was this [first] meeting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succes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failur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good start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B5BC-D06E-4178-9DB7-1A2AE0D737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flict Management Styl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arious conflict management styles are depicted on PPT 9-7.  For each of the participants in the scenario, describe which style(s) they used and cite examples to support your answ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4. How should Patrick respond [when Lucinda says “Frank says you will need an additional 3 weeks’]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efame Fran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rovide fact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mit faul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A94A-F3D3-4B63-B953-78804691E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flict Management Styl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31840" y="187488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44FE-DE00-4A9B-A246-1F63EA0031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Minimizing Dysfunctional Conflic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view the Structural Approaches to Conflict Management (PPT 9-9).  Several approaches to minimizing dysfunctional conflict are provided.  Identify at least two specific actions taken by members of the group to minimize dysfunctional conflict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hoose two approaches (on PPT 9-9) and provide specific examples of what </a:t>
            </a: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have been done in this scenario to reduce dysfunctional conflic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AB4E-35BD-4B5A-B0B6-8218226573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Structural Approaches to Conflict Managem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08160" y="1905120"/>
            <a:ext cx="50799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1DAA-FF57-4D14-AA8B-E98E12B71D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16T19:24:22Z</dcterms:modified>
  <cp:revision>84</cp:revision>
  <dc:subject/>
  <dc:title>PowerPoint Presentation</dc:title>
</cp:coreProperties>
</file>