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F1C3-E8D2-4597-B3D3-B3434519B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E8DC-34E5-4F4A-9E03-1796D50B7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AB5C-6D3E-493A-BA30-4BB316666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0E5D-30C1-4901-B2B4-030F5E6A5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790E-4264-4342-A616-3F9C1CA32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C2E0-C1CA-4121-A0F7-EDA35D252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7829-BD96-462B-9A97-26DF83F71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5789-4EB7-4963-AC20-0BE19DE9D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C7E4-D604-4C2E-9145-60DEB0279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AE24-7E2F-47F2-8185-A4FC7DD7C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F776-9E09-4AE9-9021-5672E4514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38C4-9063-40B5-908D-EC43E6E53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6543720"/>
            <a:ext cx="9295920" cy="312840"/>
            <a:chOff x="228600" y="6543720"/>
            <a:chExt cx="9295920" cy="312840"/>
          </a:xfrm>
        </p:grpSpPr>
        <p:sp>
          <p:nvSpPr>
            <p:cNvPr id="1" name=""/>
            <p:cNvSpPr/>
            <p:nvPr/>
          </p:nvSpPr>
          <p:spPr>
            <a:xfrm>
              <a:off x="228600" y="6543720"/>
              <a:ext cx="2666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McGraw-Hill/Irwi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67200" y="6620040"/>
              <a:ext cx="46573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7480"/>
                  <a:tab algn="l" pos="1434960"/>
                  <a:tab algn="l" pos="2152800"/>
                  <a:tab algn="l" pos="2870280"/>
                  <a:tab algn="l" pos="3587760"/>
                  <a:tab algn="l" pos="4305240"/>
                  <a:tab algn="l" pos="5022720"/>
                  <a:tab algn="l" pos="5740560"/>
                  <a:tab algn="l" pos="6458040"/>
                  <a:tab algn="l" pos="7175520"/>
                  <a:tab algn="l" pos="7893000"/>
                  <a:tab algn="l" pos="8610480"/>
                  <a:tab algn="l" pos="9328320"/>
                  <a:tab algn="l" pos="10045800"/>
                  <a:tab algn="l" pos="107632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© 2005 The McGraw-Hill Companies, Inc., All Rights Reserved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250920"/>
            <a:ext cx="8915400" cy="13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1520" y="-1522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1-</a:t>
            </a:r>
            <a:fld id="{91FD4021-99CF-4D1F-BB8E-BEB86C1477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24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9ddf1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9dd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dd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ddf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020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ganizational Downsiz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5. Janeen’s argument [that she is being discriminated against] i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Vali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ver-emotion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f targe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6. Is there a discrimination cas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bsolutel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efinitely no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ossibly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4DA7-525A-4D89-9E74-842EA1374E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lf-Disclos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view the Components of Self-Disclosure (PPT 11-3).  Based on Janeen’s behavior in the scenario, what basic steps and tips did she exemplify or violat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benefits of self-disclosure (see PPT 11-4) did Janeen realize?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were the disadvantages of her self-disclosur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1512-60CC-4762-A63C-61EF3B9A70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onents of Self-Disclosure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31840" y="182880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82880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DEFA-7B3A-4BCA-8B2C-C4465C1A49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enefits of Self-Disclosure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31840" y="1905120"/>
          <a:ext cx="5080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905120"/>
                    <a:ext cx="5080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0B32-1193-4A9C-8AB5-D8F1443F24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lf-Disclos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.  What is Kathleen’s strategy [in the initial meeting]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y problem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reaten Janee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e compassiona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Janeen’s disclosure [about her relapse] i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appropria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ppropria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rrelevan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0B1F-9627-46F0-9BB1-CD7F6311C3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iend/Manager Rol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at tips for building trust did Kathleen employ in this scenario?  Provide examples from the scenario to support your answer.  (see PPT 11-7 and PPT 11-8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w did the friendship with Janeen affect Kathleen when the company decided to downsiz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3.  Kathleen’s response [that she will have to write Janeen up and tell human resources if she doesn’t improve] i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oo stric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oo gentl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rresponsibl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D326-4DBD-439F-80D2-D989D5D1CE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lements of Trus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057400" y="1905120"/>
          <a:ext cx="50799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5079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6C51-D4D4-4956-AF5F-A375FA86DB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ips for Developing Trust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057400" y="1828800"/>
          <a:ext cx="50799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079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910A-BEAD-464C-B200-27365D7BA2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3d7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ganizational Downsiz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fter reviewing the “Company-wide Notice on Layoffs”, do you believe Kathleen made the right decision in laying off Janeen?  Why or why not?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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. Kathleen’s delivery [regarding Janeen’s layoff] i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mpassiona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l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b0ae6a"/>
              </a:buClr>
              <a:buSzPct val="55000"/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rofession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A232-A656-4351-8BC2-0074BF5A47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6:30:01Z</dcterms:created>
  <dc:creator>McGraw-Hill Higher Education</dc:creator>
  <dc:description/>
  <dc:language>en-US</dc:language>
  <cp:lastModifiedBy>Paige Wolf</cp:lastModifiedBy>
  <dcterms:modified xsi:type="dcterms:W3CDTF">2004-07-18T17:06:41Z</dcterms:modified>
  <cp:revision>92</cp:revision>
  <dc:subject/>
  <dc:title>PowerPoint Presentation</dc:title>
</cp:coreProperties>
</file>