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28DDE-6537-462F-B82E-C657519C4B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746F7-4DAF-451A-B58A-F91008F89D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457A6-501B-4753-AC3E-ED078E0515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AF8DD-6EA9-4D31-B6DB-25BC164D6B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E3418-2D96-4466-BE42-B5C30DE1EE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A62F0-4C4A-4D1B-AEC8-3DFEF7D148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019B5-05C7-4390-BEAA-1E991044D8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27B8A-9888-4E55-8D11-626DD8DA4A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7D3AF-7526-48C2-BFEA-47A065C455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1F47E-9F20-4BD3-AA03-DF3C0A6346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37D16-1CD5-4350-8B3B-43EA1200A0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56E13-B414-4B7F-80DE-F56BE431E5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6543720"/>
            <a:ext cx="9295920" cy="312840"/>
            <a:chOff x="228600" y="6543720"/>
            <a:chExt cx="9295920" cy="312840"/>
          </a:xfrm>
        </p:grpSpPr>
        <p:sp>
          <p:nvSpPr>
            <p:cNvPr id="1" name=""/>
            <p:cNvSpPr/>
            <p:nvPr/>
          </p:nvSpPr>
          <p:spPr>
            <a:xfrm>
              <a:off x="228600" y="6543720"/>
              <a:ext cx="26668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</a:rPr>
                <a:t>McGraw-Hill/Irwin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867200" y="6620040"/>
              <a:ext cx="46573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640" rIns="71640" tIns="36000" bIns="360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</a:rPr>
                <a:t>© 2005 The McGraw-Hill Companies, Inc., All Rights Reserved.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152280" y="250920"/>
            <a:ext cx="8915400" cy="134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24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8534160" y="-1522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-</a:t>
            </a:r>
            <a:fld id="{6812A473-79E3-45F4-8822-40ADC66B364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1752480"/>
            <a:ext cx="8686800" cy="480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24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520" y="18284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9ddf1"/>
                </a:solidFill>
                <a:latin typeface="Times New Roman"/>
              </a:rPr>
              <a:t>Click to edit the title text format</a:t>
            </a:r>
            <a:endParaRPr b="0" lang="en-US" sz="6000" spc="-1" strike="noStrike">
              <a:solidFill>
                <a:srgbClr val="c9ddf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ddf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90920" y="990720"/>
            <a:ext cx="40208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mmunication Process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53400" indent="-6534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bbe and Randall chose to communicate about their personal relationship via email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137960" indent="-57168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hat are the disadvantages of using this communication medium for this purpose?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137960" indent="-57168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hat would have been a more effective way for Abbe and Randall to communicate?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137960" indent="-57168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hat is the concern about email use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19040" indent="-408600">
              <a:lnSpc>
                <a:spcPct val="90000"/>
              </a:lnSpc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.  It’s not secure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19040" indent="-408600">
              <a:lnSpc>
                <a:spcPct val="90000"/>
              </a:lnSpc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B.  It’s not efficient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19040" indent="-408600">
              <a:lnSpc>
                <a:spcPct val="90000"/>
              </a:lnSpc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.  Easy to misinterpre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40457-2189-4DAB-9C2C-936BDF45E1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nter-Office Romance Issu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at guidance is HR likely to provide to Bill?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149480" indent="-5778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hat future actions are Bill’s responsibilities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149480" indent="-5778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hat actions should HR take?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bbe and Randall were co-leading a team.  Does this situation pose the potential for a lawsuit based on quid pro quo or hostile work environment sexual harassment?  Why?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60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7AD45-C8E6-4409-BBEF-8E86D1DC57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nter-Office Romance Issu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hould the fact Abby and Randall were involved in a relationship be reflected on their performance evaluation?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ho should be held accountable for the lower productivity of their team?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E209C-40FE-49E6-B81E-6A3A03CCFC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Applying the Decision Making Model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ould this situation be an example of programmed or non-programmed decision making (see “Concepts in Decision Making”)?  Why?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hat would be an example of a satisficing decision in this scenario?  What consequences/benefits would this approach have?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What is Bill’s greatest concern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51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A. Productivity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51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B. Liability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51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C. Morale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756E2-C3A4-4B72-BD49-95795EFBA7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ncepts in Decision Makin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031840" y="1874880"/>
          <a:ext cx="50803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1840" y="1874880"/>
                    <a:ext cx="5080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8F9CF-C7B0-4BEC-977E-13DFAC81B2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Applying the Decision Making Model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Assume you are Bill and you decide to use an analytical (or rational) decision making strategy to handle this situation.  (see “Six Steps in Decision Making”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escribe in detail the specific actions you would take for each step.  Be sure to address the following questions in your answer: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Who would you talk to?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Where would you go for more information?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What relevant policies, procedures, laws are relevant here?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E4A5D-9846-4D3C-B634-DF507DD3E2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Six Steps in Decision Making Proces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031840" y="1951200"/>
          <a:ext cx="50803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1840" y="1951200"/>
                    <a:ext cx="5080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F1F3D-41BF-44C3-AC3A-BFC2F2F1F1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Applying the Decision Making Model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04840" indent="-53316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Bill’s first step should be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51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A. Call Abbe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51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B. Call HR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51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C. Document Meeting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Randall wants to hear Abbe’s side. Bill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hould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51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A. Tell him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51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B. Be confidential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51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C.  Meet as group.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Bill is discussing possible outcomes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51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A.  It’s too early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51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B.  It’s appropria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51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C.  It’s HR’s job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16412-9769-4AF5-8639-447EB290A7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mmunication Process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valuate Bill and Randall’s active listening skills and communication skills (see “Components of Active Listening” &amp; “The Communication Process”).  What did each do effectively?  How could they have improved?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Randall’s agitated. What should Bill do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51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A.  Stop Meeting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51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B.  Hear him out.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51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C.  Call Abbe in.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8994F-966C-4B61-BD2F-5047D58D57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mponents of Active Listenin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031840" y="1874880"/>
          <a:ext cx="50803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1840" y="1874880"/>
                    <a:ext cx="5080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F8A45-E7DA-41E9-8910-5BA4582A8E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Communication Proces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031840" y="1905120"/>
          <a:ext cx="50803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1840" y="1905120"/>
                    <a:ext cx="5080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F93A6-7A64-4E9B-BDD2-B4E2946D92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6:30:01Z</dcterms:created>
  <dc:creator>McGraw-Hill Higher Education</dc:creator>
  <dc:description/>
  <dc:language>en-US</dc:language>
  <cp:lastModifiedBy>Paige Wolf</cp:lastModifiedBy>
  <dcterms:modified xsi:type="dcterms:W3CDTF">2004-06-25T20:29:37Z</dcterms:modified>
  <cp:revision>74</cp:revision>
  <dc:subject/>
  <dc:title>PowerPoint Presentation</dc:title>
</cp:coreProperties>
</file>