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F2BA-604F-4894-9BE5-F6DD5A741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F1E1-2123-4D28-B7A9-E4AD8FD11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BDC1-7537-4F92-A008-37A5CE4F8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E14F-5190-4B95-A87D-2264A3EA3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FE99-5C13-4DBA-9EEF-F41B0DC92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3A65-B5E8-444D-9023-729B07EC6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DE5D-6F12-4150-A62B-86311C882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AFDE-0CC0-4C5A-BB4D-D5B9F2F44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1694-838D-4983-87EB-E0B9325F5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F6D9-96C8-434E-BEDB-BDF65BC8A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462E-60C9-4C20-902D-2ED938166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D58A-FECC-4D0E-96F2-B964A72B5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6543720"/>
            <a:ext cx="9295920" cy="312840"/>
            <a:chOff x="228600" y="6543720"/>
            <a:chExt cx="9295920" cy="312840"/>
          </a:xfrm>
        </p:grpSpPr>
        <p:sp>
          <p:nvSpPr>
            <p:cNvPr id="1" name=""/>
            <p:cNvSpPr/>
            <p:nvPr/>
          </p:nvSpPr>
          <p:spPr>
            <a:xfrm>
              <a:off x="228600" y="6543720"/>
              <a:ext cx="2666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McGraw-Hill/Irwi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67200" y="6620040"/>
              <a:ext cx="46573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© 2005 The McGraw-Hill Companies, Inc., All Rights Reserved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2280" y="250920"/>
            <a:ext cx="8915400" cy="13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534160" y="-1522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-</a:t>
            </a:r>
            <a:fld id="{ACE79FEF-9C25-4A5F-97B5-7141C756BAD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752480"/>
            <a:ext cx="868680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828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9ddf1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d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020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Johari Windo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31840" y="195120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6AEC-B1F2-40F0-AE3E-469779F6F5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Johari Window:  Definitio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31840" y="195120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7B14-FC44-4D9B-932F-A3B42C9014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ltural Values Impact on Busin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ow did the differences between Japan’s and the United States’ national cultural values affect the interaction between Norio and Michael?  Use the information on PPT 8-3 and 8-4 to support your answ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ofstede’s research on national cultural values has practical implications for business people.  Assume you are Michael and you have to conduct a similar meeting with another client from Russia.  How will you modify your behavior to effectively conduct business with this individual?  Use the information on PPT 8-3 and 8-4 to support your answ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136B-57E4-49D1-8272-C799436426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ational Cultural Valu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31840" y="179856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F4B6-D472-4F41-BE24-EA56394501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Hofstede’s Model:  Definition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31840" y="187488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DAC5-9DD1-4FCC-9A37-4D0F9AD42F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ltural Values Impact on Busin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 What is Michael’s strateg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nd proble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Pressure Nori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how patience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  How was this [initial] meeting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uccessfu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 failur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 good start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EE33-CCAE-4E87-AC43-E01559CF4A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valuation of Cross-Cultural Business Meeting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information should Michael have possessed before his meeting with Tokunaka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y is Norio acting somewhat evasive with his respons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could Michael have done better in the second meeting to continue the business relationship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C1F5-5070-4A58-8074-0409B7E6EE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valuation of Cross-Cultural Business Meeting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4. Norio is indicating [when he says he’s been meeting with other people]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There’s competi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e enjoyed tr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eal is of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5. Michael’s concern [that they are having a communication problem] i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ccura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f target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sult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9E18-4236-4CB1-9D65-B4C11C8D40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valuation of Cross-Cultural Business Meeting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oth individuals in this scenario were acting in alignment with their cultural norms and values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o should have the primary responsibility for changing their interaction style?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en is it “too much”, as Michael suggests in the </a:t>
            </a: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Afterthoughts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, and necessary to refuse to change one’s business style?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40F5-C264-452F-BAEE-18480415AD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Johari Windo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pply the concepts of the Johari Window to this scenario.  How do these concepts help explain what happened in this scenari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6. Michael should [when Norio says “I’m sure we’ll have a good relationship in the future”]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Be angr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Be graciou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Keep trying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2ABD-728B-41BD-94EE-D72FD6A58F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6:30:01Z</dcterms:created>
  <dc:creator>McGraw-Hill Higher Education</dc:creator>
  <dc:description/>
  <dc:language>en-US</dc:language>
  <cp:lastModifiedBy>Paige Wolf</cp:lastModifiedBy>
  <dcterms:modified xsi:type="dcterms:W3CDTF">2004-07-20T17:36:05Z</dcterms:modified>
  <cp:revision>82</cp:revision>
  <dc:subject/>
  <dc:title>PowerPoint Presentation</dc:title>
</cp:coreProperties>
</file>