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DF07-1168-462C-812B-5D0F54260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291D-8F83-46A7-A035-96E848FDF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4AC7-02F2-4D0D-A01C-218F4B2AF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CE87-5ED6-4689-B60C-02B2F45D1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750E-69BC-48CA-BD6E-11DF6028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DE14-68D5-4269-9AC1-C63A77601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EE5D-EC74-4F18-BA3D-03852B247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D0FB-9B2E-48D0-94DD-81356421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A0B6-D34F-4AF6-9A03-7B522F0BF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8160-7BE9-4A36-85F6-581B1BFCA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5053-D274-4F64-9DBA-326B76E4F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7645-570C-4BE7-809D-61ADCCF93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B0E9B25B-E29E-48B0-8A4B-BF6A0A548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hallenges with Change Manag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er to “Concepts in Change” (PPT 6-3).  What stage of change is this organization in?  How do you know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strategy would be the most effective in merging these company’s organizational cultures (see PPT 6-4)?  Provide justification for your answer based on information from the scenari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8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hy does Rita mention feeling alone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ssert contro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Win sympath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primand him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82A-F101-4436-ADFA-67632EDC8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epts in Ch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4E6C-EAC4-40B6-B464-BB2B9AD05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Merging Organizational Cultur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36880" y="1874880"/>
          <a:ext cx="5068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6880" y="1874880"/>
                    <a:ext cx="5068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73C8-6CAC-4F20-B8AA-17BD5B972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creasing Resistance to Ch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fer to “Forces Resisting Change” (PPT 6-6).  Which of these factors are most strongly affecting Rita and Juan?  Support your answer with examples from the scenari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.  Why does Carlos share his perspective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reate camaraderi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ersuade the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ssert powe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AC34-7D3A-49CF-9085-D9F150F27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orces Resisting Ch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431E-7B22-4ABA-937A-53BC7D231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nge Leadership Behavi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w effective is Carlos in decreasing Juan and Rita’s resistance to change? (see PPT 6-8)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at is Carlos’ goal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alm them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Get clarific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direct responsibility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8CED-4A7A-4F07-85B2-5286742CF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ducing Resistan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91EC-EFF8-42E6-A764-880CE26F5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nge Leadership Behavi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los’ response demonstrate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placen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mpath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tempt to intimidat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. How should Carlos respond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 them bac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re the other tw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ay goodby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. Carlos’ response to their proposal i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ppropri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hort sight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d88100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ematur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6894-CF28-49C8-91E7-30D9E0BBC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6T13:28:30Z</dcterms:modified>
  <cp:revision>75</cp:revision>
  <dc:subject/>
  <dc:title>PowerPoint Presentation</dc:title>
</cp:coreProperties>
</file>