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4DB6-5172-4BFB-9EA4-BF0A38C9F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A189-08A2-47EA-891F-8F0813991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F8A9-DDF4-417F-BA02-7E900574C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6E80-26F8-4F7E-8B0B-2E425688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E1F-5FF1-44D1-9456-81FC0E519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6C0A-8EDE-44C3-A9CB-88DD61B5F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0DF4-775E-4D18-8BE3-0456353CF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8E1B-5249-4B56-A26B-93C7A79FC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9ECD-CD06-47E6-AD7C-15336E853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3A67-259E-44AF-91CE-5E38C67B6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F67D-72D4-4DC4-B4D1-A3C704578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69F6-2803-4CBA-8051-68A822DBF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-</a:t>
            </a:r>
            <a:fld id="{2BB57BCB-86E8-4B6B-A056-C7E38FD215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urces of Organizational Confli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Jonas and Rande are facing a difficult situation.  What sources of conflict contributed to the problems they are having?  See PPT 7-3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is the key problem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ime manag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verlapping task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.  Jonas’ behavior indicate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isinteres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urn-ou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istrac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434A-0171-481F-8554-6A7811972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ources of Conflict in Organiza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0640" y="1801800"/>
            <a:ext cx="499104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0662-F694-4C9B-BEAC-F6CE441EC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pproaches to Confli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64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</a:rPr>
              <a:t>Which type of conflict is depicted in this scenario?  (see PPT 7-5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 algn="just">
              <a:spcBef>
                <a:spcPts val="64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</a:rPr>
              <a:t>Evaluate Rande’s approach to resolving this conflict.  What conflict management style did she use:  avoiding, accommodating, forcing, compromising, or collaborating?  Support your answer with examples from the scene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93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5b5249"/>
                </a:solidFill>
                <a:latin typeface="Times New Roman"/>
              </a:rPr>
              <a:t>3.  How was this meeting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succes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good star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failur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237B-A982-40F5-B5C4-12A96B2DE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Types of Conflict in Organiza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513E-458B-4103-9577-C187C3FED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usiness Partnershi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unique challenges did Rande and Jonas face when entering into this partnership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mpact did their friendship seem to have on this partnership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partner duties did Jonas fail to perform?  See PPT 7-7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should happen to ensure that a nonwrongful dissociation of the partnership occurs? See PPT 7-8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5F99-CED3-42D7-BAD5-96643172E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ner’s Dut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D556-AF5F-4756-8600-EA592DF24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onwrongful Dissociations of Partnership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36E7-B55D-49E2-BFC3-A85F43F87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usiness Partnershi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. How should Rande respond [to Jonas’ suggestion that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e find a buyer]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ccept off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fuse off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egotiat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. What are Rande’s rights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hoose partn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uy out Jon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on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.  What is the best solution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nd partnershi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olve proble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distribute wor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EA3D-9F26-4799-AD2A-8C71876FF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6T15:25:40Z</dcterms:modified>
  <cp:revision>76</cp:revision>
  <dc:subject/>
  <dc:title>PowerPoint Presentation</dc:title>
</cp:coreProperties>
</file>