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7001-70F3-4B98-9781-15BDBC4C6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2DDA-655A-41F3-A9BF-58FD0437B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323F-A109-4D24-AE99-C73B25C86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8515-E1D4-43F9-83B9-7B35EEF6A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81D6-1EDB-47F4-98A4-0FFBC0A7A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8096-0694-46DA-AE89-3859DC636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163A-BDD8-49D0-9D57-A9348A0CC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31A6-F95E-4EDA-BFA2-B28BEECE2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827C-A545-4668-BF53-795801FEC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ACEC-DA70-4DE6-82D6-88097F38F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70D3-35D0-49BC-A115-5ED11F0B2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0687-B106-4E67-8B5D-A333AEFF1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1520" y="-1522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-</a:t>
            </a:r>
            <a:fld id="{A31AC3C9-617A-4BB3-B75D-F6897BC5F3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am Develop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What type of team is this team?  How do you know? See PPT 15-3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stage of group development is this team in? See PPT 15-4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.  Cheng is off subject.  What should Joe d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terrup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r him ou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et Cheng lea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F77D-8C3D-4E7E-A9F1-7C9BB56C3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ypes of Groups and Tea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31840" y="190512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0512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E2BD-0BE5-4D02-AEEF-8C7D795E14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ages of Group Development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31840" y="190512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0512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769D-050A-438F-A123-E0E210679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am Develop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oe is frustrated.  He should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ol dow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focus grou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ancel meet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should Joe have done before, during, and after the meeting to ensure the commencement of the project is successfu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4CDA-6E0B-4816-992C-249FAB3AB4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roving Group Cohes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factors of group cohesiveness were present in this team? See PPT 15-7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 Joe dismisses Rosa. He acted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ppropriatel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udel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 hum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.  The team is not proactive. Joe should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sist they foc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ssign task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tinue as i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5069-0501-4929-BC8B-F92493E492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cess for Group Cohes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31840" y="190512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0512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E4F6-FAD4-45E4-A1D0-480F03A99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roving Group Cohes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should Joe do now to ensure the team’s effectiveness and ultimate success?  Use the Model of Team Effectiveness (PPT 15-9) to support your answ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5. Simon feels the project is futile. Joe shoul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Find out wh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ebate Sim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gnore hi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. Simon is leaving. Joe shoul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top hi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Email him task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ay goodby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3265-1879-4231-A920-F156E5DEF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del of Team Effect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57560" y="2104920"/>
          <a:ext cx="462888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2104920"/>
                    <a:ext cx="462888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B53B-CFA6-442F-935D-8102D8C06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9T18:23:19Z</dcterms:modified>
  <cp:revision>97</cp:revision>
  <dc:subject/>
  <dc:title>PowerPoint Presentation</dc:title>
</cp:coreProperties>
</file>